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FEE-C6C3-4572-A4C6-100D91F5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C28-38AB-479C-BA76-6525F9F4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BE1-1A24-4C75-B37F-21A68E29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668-ABD7-4CF3-96CE-3896AD48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3D5-B864-4505-AA51-DA38EDEE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944-DADF-4FD0-8AC8-256BD34E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1EC-794A-4DE7-958A-8D93A951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87C-3ED8-483E-85E8-1B4C71FF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715-2BC7-4C1D-BABA-A169DE7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57E-C2B7-4C8F-8CA2-64C3BAD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018-628A-4D09-80DB-62ED0900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5B3-E6DB-4016-821C-715BD8F6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1C96-7DE3-4509-88A7-D0937CDD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5480" y="8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 af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wo slides are my picture of ae requirements - these may need some r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lide is my interpretation of KSP implementation of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iscovery with and without preshare C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slides talk about af requirements an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for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posal for “device” 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e Conditions (and a security propo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EAP and RADIUS are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eant to be a discussion support, not a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cussion  might be best broken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initialization  - slide 1- 13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AS/backend issues slide 10-16 (overlap  provides a seg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very- KS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assumptions  for KSP style  KaY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SP simplifies gener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Kay Periodically announces presence using CAK to protect / provide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KaY hears announcement from another KaY knowing the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hecks the Key Number and updates SAK if necess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KSP document for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KaY attempts to join a CA but does not know the CA,  the proper procedure does not yet seem define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approach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unce its presence to all KaYs currently joined to 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connected CAs responds and authorizes the supplicant K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cant and respondent have authorization di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espondent is satisfied it gives the Supplicant the CAK and KG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f seems to be functionally very similar to key exchange for 11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11i,  af does not define protocol for getting the common key that lets stations know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 needs CAK and KGK, 11i needs Mast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describes a specific authorization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i does define use of 1.X and EAP as protocol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X defines controlled/uncontrolled port as way of controlling data while in authoriza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tocol that allows a KaY to authenticate and get CAK and KG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needed if CAK/KGK is hand configured in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 conversation that does not have a C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bility for DOS attacks during anu unprotected part of this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aY attempting to join a CA announces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nouncement is on a Connectivity Association which allows stations to 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includes a System and port id (? I think this is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(may?) include a CA 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the CA it wants to 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is open to DOS since no SA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initiates Authorization Dialog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initialization propos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imit the DOS possibilities of sending unknown Announcements it is proposed to *allow* KaY to use asymetric key to “sign” Annou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r sends public key with announcement signed by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verifies the signature using the included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reates symmetric key for authorization 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s reply (including symmetric key) with public ke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etric key is not used to protect Authorization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voids DOS attacks that disrupt the 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 is of a KaY known to have received the symetric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uthorization dialog succeeds CAK/KGK can be sent to the prop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ization (and Authentication) dialog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KaYs attempting to create a SA between themselves will have an “authorization” dialog between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cluded the initialization dialog is part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ation dialog will be done using some protocol between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P has been used in 1.X but seems to have some problem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tion may use a backend Authorization Server to support all or part of the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Dialog will often include authentication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dialog race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 may be set to support a single authentication or require dialog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the CA may want to authenticate and authorize the applicant and the applicant may want to authenticate and authorize the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single dialog is required to do mutual authentication, and it is possible that two KaY simultaneously initiate an applicant dialog, one will send a special response that indicates that it is terminating the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KaY will then act as the “applicant” and the other as the “CA” in further di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ent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42900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342900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81952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2743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30481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095880" y="29714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6440" y="1981080"/>
            <a:ext cx="35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Assoc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Eth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2666880"/>
            <a:ext cx="952560" cy="762120"/>
          </a:xfrm>
          <a:custGeom>
            <a:avLst/>
            <a:gdLst/>
            <a:ahLst/>
            <a:rect l="l" t="t" r="r" b="b"/>
            <a:pathLst>
              <a:path w="600" h="480">
                <a:moveTo>
                  <a:pt x="432" y="0"/>
                </a:moveTo>
                <a:cubicBezTo>
                  <a:pt x="516" y="4"/>
                  <a:pt x="600" y="8"/>
                  <a:pt x="576" y="48"/>
                </a:cubicBezTo>
                <a:cubicBezTo>
                  <a:pt x="552" y="88"/>
                  <a:pt x="384" y="168"/>
                  <a:pt x="288" y="240"/>
                </a:cubicBezTo>
                <a:cubicBezTo>
                  <a:pt x="192" y="312"/>
                  <a:pt x="48" y="440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419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3429000"/>
            <a:ext cx="381240" cy="1092240"/>
          </a:xfrm>
          <a:custGeom>
            <a:avLst/>
            <a:gdLst/>
            <a:ahLst/>
            <a:rect l="l" t="t" r="r" b="b"/>
            <a:pathLst>
              <a:path w="240" h="688">
                <a:moveTo>
                  <a:pt x="0" y="672"/>
                </a:moveTo>
                <a:cubicBezTo>
                  <a:pt x="120" y="680"/>
                  <a:pt x="240" y="688"/>
                  <a:pt x="240" y="576"/>
                </a:cubicBezTo>
                <a:cubicBezTo>
                  <a:pt x="240" y="464"/>
                  <a:pt x="120" y="2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429000"/>
            <a:ext cx="533520" cy="1244520"/>
          </a:xfrm>
          <a:custGeom>
            <a:avLst/>
            <a:gdLst/>
            <a:ahLst/>
            <a:rect l="l" t="t" r="r" b="b"/>
            <a:pathLst>
              <a:path w="240" h="688">
                <a:moveTo>
                  <a:pt x="0" y="672"/>
                </a:moveTo>
                <a:cubicBezTo>
                  <a:pt x="120" y="680"/>
                  <a:pt x="240" y="688"/>
                  <a:pt x="240" y="576"/>
                </a:cubicBezTo>
                <a:cubicBezTo>
                  <a:pt x="240" y="464"/>
                  <a:pt x="120" y="2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uthorization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17524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17524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981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143000"/>
            <a:ext cx="83808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066680"/>
            <a:ext cx="83844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3716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172200" y="1294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92468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-KaY -  create “provisional” SA using assigned or created 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pSA to have initial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or both  KaYs may decide to use a backend AS to get information requested by the other K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or both KaYs may request a backend to have a conversation with the other KaY (or its back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KaY will (presumably) control whether conversation is done by KaY or by a particular 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- is an AS acting for KaY (AS is “helper” for the KaY)    --or is KaY controlling dialog and using one or more AS (note that in this example it does have an initial KaY-KaY cpmversatopm before anything else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Dialog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22096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22096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600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52388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8288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172200" y="17521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3505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523880" y="4724280"/>
            <a:ext cx="58676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 to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o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105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 between KaYs may include initial (device) authentication and creation of authorization dialo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5943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P Dialog between ASs  is typically an EAP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67080" y="3886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9128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1280" y="5486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3886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3352680"/>
            <a:ext cx="182880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240" y="419112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00240" y="3886200"/>
            <a:ext cx="1219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800240" y="434340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419112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388620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4038480"/>
            <a:ext cx="1219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4343400"/>
            <a:ext cx="1219320" cy="0"/>
          </a:xfrm>
          <a:prstGeom prst="line">
            <a:avLst/>
          </a:prstGeom>
          <a:ln w="38160">
            <a:solidFill>
              <a:srgbClr val="852d5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2670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47040" y="4265640"/>
            <a:ext cx="0" cy="1219320"/>
          </a:xfrm>
          <a:prstGeom prst="line">
            <a:avLst/>
          </a:prstGeom>
          <a:ln w="38160">
            <a:solidFill>
              <a:srgbClr val="523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94400" y="4265640"/>
            <a:ext cx="0" cy="121932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4265640"/>
            <a:ext cx="0" cy="121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172200" y="2817720"/>
            <a:ext cx="474480" cy="1220400"/>
            <a:chOff x="6172200" y="2817720"/>
            <a:chExt cx="474480" cy="1220400"/>
          </a:xfrm>
        </p:grpSpPr>
        <p:sp>
          <p:nvSpPr>
            <p:cNvPr id="62" name=""/>
            <p:cNvSpPr/>
            <p:nvPr/>
          </p:nvSpPr>
          <p:spPr>
            <a:xfrm flipV="1">
              <a:off x="6342120" y="2817720"/>
              <a:ext cx="0" cy="1218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646680" y="2817720"/>
              <a:ext cx="0" cy="121896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494400" y="281772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172200" y="2818800"/>
              <a:ext cx="0" cy="121932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26708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80880" y="4648320"/>
            <a:ext cx="2133360" cy="510120"/>
            <a:chOff x="380880" y="4648320"/>
            <a:chExt cx="2133360" cy="510120"/>
          </a:xfrm>
        </p:grpSpPr>
        <p:sp>
          <p:nvSpPr>
            <p:cNvPr id="68" name=""/>
            <p:cNvSpPr/>
            <p:nvPr/>
          </p:nvSpPr>
          <p:spPr>
            <a:xfrm flipH="1">
              <a:off x="1294920" y="4876920"/>
              <a:ext cx="12193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464832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0880" y="5130720"/>
            <a:ext cx="2133360" cy="510120"/>
            <a:chOff x="380880" y="5130720"/>
            <a:chExt cx="2133360" cy="510120"/>
          </a:xfrm>
        </p:grpSpPr>
        <p:sp>
          <p:nvSpPr>
            <p:cNvPr id="71" name=""/>
            <p:cNvSpPr/>
            <p:nvPr/>
          </p:nvSpPr>
          <p:spPr>
            <a:xfrm flipH="1">
              <a:off x="1294920" y="535932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513072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533520"/>
            <a:ext cx="67816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= Secure Connect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en-US" sz="18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ecure Channel from Station (I) to all stations on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ecurity Association Station (i) to Station (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K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ecure Association Key instance (i) for Station (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679840"/>
            <a:ext cx="685800" cy="749160"/>
          </a:xfrm>
          <a:custGeom>
            <a:avLst/>
            <a:gdLst/>
            <a:ahLst/>
            <a:rect l="l" t="t" r="r" b="b"/>
            <a:pathLst>
              <a:path w="432" h="472">
                <a:moveTo>
                  <a:pt x="0" y="40"/>
                </a:moveTo>
                <a:cubicBezTo>
                  <a:pt x="136" y="20"/>
                  <a:pt x="272" y="0"/>
                  <a:pt x="288" y="40"/>
                </a:cubicBezTo>
                <a:cubicBezTo>
                  <a:pt x="304" y="80"/>
                  <a:pt x="72" y="208"/>
                  <a:pt x="96" y="280"/>
                </a:cubicBezTo>
                <a:cubicBezTo>
                  <a:pt x="120" y="352"/>
                  <a:pt x="276" y="412"/>
                  <a:pt x="432" y="4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880" y="5613480"/>
            <a:ext cx="2133360" cy="510120"/>
            <a:chOff x="380880" y="5613480"/>
            <a:chExt cx="2133360" cy="510120"/>
          </a:xfrm>
        </p:grpSpPr>
        <p:sp>
          <p:nvSpPr>
            <p:cNvPr id="76" name=""/>
            <p:cNvSpPr/>
            <p:nvPr/>
          </p:nvSpPr>
          <p:spPr>
            <a:xfrm flipH="1">
              <a:off x="1294920" y="5842080"/>
              <a:ext cx="1219320" cy="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0880" y="56134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0880" y="6095880"/>
            <a:ext cx="2133360" cy="510120"/>
            <a:chOff x="380880" y="6095880"/>
            <a:chExt cx="2133360" cy="510120"/>
          </a:xfrm>
        </p:grpSpPr>
        <p:sp>
          <p:nvSpPr>
            <p:cNvPr id="79" name=""/>
            <p:cNvSpPr/>
            <p:nvPr/>
          </p:nvSpPr>
          <p:spPr>
            <a:xfrm flipH="1">
              <a:off x="1294920" y="632448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60958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RADIUS and EAP  as KaY/AS 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1240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31240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3352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25146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2438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7432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248520" y="2666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218960" y="4648320"/>
            <a:ext cx="1981080" cy="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276720" y="4648320"/>
            <a:ext cx="2590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867280" y="4648320"/>
            <a:ext cx="1981440" cy="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886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8769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Resp     EAP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P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48769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Req EAP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58672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n-standard and is not possible with exist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4360" y="5562720"/>
            <a:ext cx="3670200" cy="533160"/>
          </a:xfrm>
          <a:custGeom>
            <a:avLst/>
            <a:gdLst/>
            <a:ahLst/>
            <a:rect l="l" t="t" r="r" b="b"/>
            <a:pathLst>
              <a:path w="2312" h="336">
                <a:moveTo>
                  <a:pt x="1904" y="336"/>
                </a:moveTo>
                <a:cubicBezTo>
                  <a:pt x="2108" y="304"/>
                  <a:pt x="2312" y="272"/>
                  <a:pt x="2048" y="240"/>
                </a:cubicBezTo>
                <a:cubicBezTo>
                  <a:pt x="1784" y="208"/>
                  <a:pt x="640" y="184"/>
                  <a:pt x="320" y="144"/>
                </a:cubicBezTo>
                <a:cubicBezTo>
                  <a:pt x="0" y="104"/>
                  <a:pt x="64" y="52"/>
                  <a:pt x="1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1828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ing th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adius/EAP Issues in dual A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typically carries assertions from AS to NAS, based on results of EA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ld work with KaYs in dual AS mode, allowing each AS to send assertions to its KaY as a result of EAP 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Mode EAP methods may use “TLV”s within EAP method to signal from an AS to “peer” talking to 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 to peer would go to remote AS and information in TLV sent via RADIUS Response to the K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/ EAP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EAP method request from KaYi to a KaYj would be translated at Kay</a:t>
            </a:r>
            <a:r>
              <a:rPr b="0" lang="en-US" sz="28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ADIUS Request carrying an EAP Requ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possible now, but is a plausible possibility.  It is not clear if this is a good idea for RAD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P method for “peer” KaY would need to work on AS.  This includes EAP checking for proper authentication as well as returning appropriate attributes to the “peer”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ems a lot of work in EAP - not clear how possible this migh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he CAK/KG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s use initial key to support a “provisional” SA to protect data during the Initialization/Authorization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trolled port on KaY routes to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is used on uncontrolled ports to talk betwen KaYs and let KaYs forward to AS if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KaYs may routes to a  different A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nd KaY have a preestablished Security Assoc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 might use WS protool or EAP/IP (PAN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ms plausible alternative to RADIUS/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0"/>
            <a:ext cx="8458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Key Agreement Entity - one or more at each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Y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ecurity Entity - one (or more?) at each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ment = Procedure by which KaY announces its presence and desire to join a 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= Procedure by which KaY discovers other KaYs participating in  or attempting to join a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9880" y="2819520"/>
            <a:ext cx="4572000" cy="3657600"/>
            <a:chOff x="3809880" y="2819520"/>
            <a:chExt cx="4572000" cy="3657600"/>
          </a:xfrm>
        </p:grpSpPr>
        <p:sp>
          <p:nvSpPr>
            <p:cNvPr id="83" name=""/>
            <p:cNvSpPr/>
            <p:nvPr/>
          </p:nvSpPr>
          <p:spPr>
            <a:xfrm>
              <a:off x="3809880" y="44197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34080" y="28195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34080" y="60199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4680" y="44197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520" y="3886560"/>
              <a:ext cx="1752480" cy="167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343040" y="472464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343040" y="4419720"/>
              <a:ext cx="1219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343040" y="4572360"/>
              <a:ext cx="1219320" cy="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343040" y="4876920"/>
              <a:ext cx="12193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4724640"/>
              <a:ext cx="12193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41972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572360"/>
              <a:ext cx="1219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24480" y="4876920"/>
              <a:ext cx="1219320" cy="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7280" y="4800960"/>
              <a:ext cx="0" cy="1218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89840" y="4799160"/>
              <a:ext cx="0" cy="121932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37200" y="4799160"/>
              <a:ext cx="0" cy="121932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32640" y="4799160"/>
              <a:ext cx="0" cy="1219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15000" y="3353040"/>
              <a:ext cx="474480" cy="1220400"/>
              <a:chOff x="5715000" y="3353040"/>
              <a:chExt cx="474480" cy="12204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5884920" y="3353040"/>
                <a:ext cx="0" cy="12189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6189480" y="3353040"/>
                <a:ext cx="0" cy="1218960"/>
              </a:xfrm>
              <a:prstGeom prst="line">
                <a:avLst/>
              </a:prstGeom>
              <a:ln w="38160">
                <a:solidFill>
                  <a:srgbClr val="852d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6037200" y="3353040"/>
                <a:ext cx="0" cy="121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715000" y="3354120"/>
                <a:ext cx="0" cy="1219320"/>
              </a:xfrm>
              <a:prstGeom prst="line">
                <a:avLst/>
              </a:prstGeom>
              <a:ln w="38160">
                <a:solidFill>
                  <a:srgbClr val="5234d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38480" y="350532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ab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9200" y="3708720"/>
              <a:ext cx="38088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16"/>
                  </a:moveTo>
                  <a:cubicBezTo>
                    <a:pt x="88" y="8"/>
                    <a:pt x="176" y="0"/>
                    <a:pt x="192" y="16"/>
                  </a:cubicBezTo>
                  <a:cubicBezTo>
                    <a:pt x="208" y="32"/>
                    <a:pt x="88" y="88"/>
                    <a:pt x="96" y="112"/>
                  </a:cubicBezTo>
                  <a:cubicBezTo>
                    <a:pt x="104" y="136"/>
                    <a:pt x="172" y="148"/>
                    <a:pt x="240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85800" y="3048120"/>
            <a:ext cx="265752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66680" y="3581280"/>
            <a:ext cx="2895480" cy="2242080"/>
            <a:chOff x="1066680" y="3581280"/>
            <a:chExt cx="2895480" cy="2242080"/>
          </a:xfrm>
        </p:grpSpPr>
        <p:sp>
          <p:nvSpPr>
            <p:cNvPr id="109" name=""/>
            <p:cNvSpPr/>
            <p:nvPr/>
          </p:nvSpPr>
          <p:spPr>
            <a:xfrm>
              <a:off x="1066680" y="3581280"/>
              <a:ext cx="2895480" cy="21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4190760"/>
              <a:ext cx="2133360" cy="163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AB -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 [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 [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 [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3581280"/>
              <a:ext cx="15238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43360" y="14479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3360" y="4648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514600"/>
            <a:ext cx="175248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040" y="320040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2336760"/>
            <a:ext cx="381240" cy="25416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0" cy="106668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365760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638320" y="327672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80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SP implementation of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9907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defined by (has) comm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Key - CAK  and                 Key Generating Key -  KG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648320"/>
            <a:ext cx="2514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tations generate the same SAK  from the common KGK (and other info descrubed in Mick’s dicument) to protect transmit by all stations connected to the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26708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676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67600" y="44956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5820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362320"/>
            <a:ext cx="175284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723920" y="304812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2184480"/>
            <a:ext cx="380880" cy="25380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1752480"/>
            <a:ext cx="0" cy="106704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350532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162920" y="3124080"/>
            <a:ext cx="121896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514600"/>
            <a:ext cx="2743200" cy="1015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2720" y="1219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3505320"/>
            <a:ext cx="1752480" cy="1632600"/>
          </a:xfrm>
          <a:prstGeom prst="rect">
            <a:avLst/>
          </a:prstGeom>
          <a:noFill/>
          <a:ln w="93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K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676520"/>
            <a:ext cx="2743200" cy="304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487840"/>
            <a:ext cx="6096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to CA requires s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K and KGK  -- could be hand configured or done with some initializ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203040" y="3048120"/>
            <a:ext cx="6756120" cy="3047760"/>
          </a:xfrm>
          <a:custGeom>
            <a:avLst/>
            <a:gdLst/>
            <a:ahLst/>
            <a:rect l="l" t="t" r="r" b="b"/>
            <a:pathLst>
              <a:path w="4256" h="1920">
                <a:moveTo>
                  <a:pt x="4256" y="1920"/>
                </a:moveTo>
                <a:cubicBezTo>
                  <a:pt x="4100" y="1760"/>
                  <a:pt x="3944" y="1600"/>
                  <a:pt x="3296" y="1488"/>
                </a:cubicBezTo>
                <a:cubicBezTo>
                  <a:pt x="2648" y="1376"/>
                  <a:pt x="736" y="1496"/>
                  <a:pt x="368" y="1248"/>
                </a:cubicBezTo>
                <a:cubicBezTo>
                  <a:pt x="0" y="1000"/>
                  <a:pt x="968" y="208"/>
                  <a:pt x="10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6708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676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67600" y="44956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5820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362320"/>
            <a:ext cx="175284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2184480"/>
            <a:ext cx="380880" cy="25380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752480"/>
            <a:ext cx="0" cy="106704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350532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162920" y="3124080"/>
            <a:ext cx="121896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2133720"/>
            <a:ext cx="2743200" cy="785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K=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GK=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4280" y="15969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048120"/>
            <a:ext cx="1371600" cy="0"/>
          </a:xfrm>
          <a:prstGeom prst="line">
            <a:avLst/>
          </a:prstGeom>
          <a:ln w="57240">
            <a:solidFill>
              <a:srgbClr val="ff37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2004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request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to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565360"/>
            <a:ext cx="2641680" cy="2158920"/>
          </a:xfrm>
          <a:custGeom>
            <a:avLst/>
            <a:gdLst/>
            <a:ahLst/>
            <a:rect l="l" t="t" r="r" b="b"/>
            <a:pathLst>
              <a:path w="1664" h="1360">
                <a:moveTo>
                  <a:pt x="1200" y="1360"/>
                </a:moveTo>
                <a:cubicBezTo>
                  <a:pt x="1400" y="1200"/>
                  <a:pt x="1600" y="1040"/>
                  <a:pt x="1632" y="832"/>
                </a:cubicBezTo>
                <a:cubicBezTo>
                  <a:pt x="1664" y="624"/>
                  <a:pt x="1584" y="224"/>
                  <a:pt x="1392" y="112"/>
                </a:cubicBezTo>
                <a:cubicBezTo>
                  <a:pt x="1200" y="0"/>
                  <a:pt x="712" y="144"/>
                  <a:pt x="480" y="160"/>
                </a:cubicBezTo>
                <a:cubicBezTo>
                  <a:pt x="248" y="176"/>
                  <a:pt x="80" y="200"/>
                  <a:pt x="0" y="208"/>
                </a:cubicBezTo>
              </a:path>
            </a:pathLst>
          </a:custGeom>
          <a:noFill/>
          <a:ln w="38160">
            <a:solidFill>
              <a:srgbClr val="ff374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876920"/>
            <a:ext cx="3048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Respond to request on behalf of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establish dialog with KaY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4864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CAK, KGK for station attempting to join 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19112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676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4343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438280"/>
            <a:ext cx="175248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2184480"/>
            <a:ext cx="380880" cy="25380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752480"/>
            <a:ext cx="0" cy="106704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50532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162920" y="3124080"/>
            <a:ext cx="121896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565360"/>
            <a:ext cx="2641680" cy="2158920"/>
          </a:xfrm>
          <a:custGeom>
            <a:avLst/>
            <a:gdLst/>
            <a:ahLst/>
            <a:rect l="l" t="t" r="r" b="b"/>
            <a:pathLst>
              <a:path w="1664" h="1360">
                <a:moveTo>
                  <a:pt x="1200" y="1360"/>
                </a:moveTo>
                <a:cubicBezTo>
                  <a:pt x="1400" y="1200"/>
                  <a:pt x="1600" y="1040"/>
                  <a:pt x="1632" y="832"/>
                </a:cubicBezTo>
                <a:cubicBezTo>
                  <a:pt x="1664" y="624"/>
                  <a:pt x="1584" y="224"/>
                  <a:pt x="1392" y="112"/>
                </a:cubicBezTo>
                <a:cubicBezTo>
                  <a:pt x="1200" y="0"/>
                  <a:pt x="712" y="144"/>
                  <a:pt x="480" y="160"/>
                </a:cubicBezTo>
                <a:cubicBezTo>
                  <a:pt x="248" y="176"/>
                  <a:pt x="80" y="200"/>
                  <a:pt x="0" y="208"/>
                </a:cubicBezTo>
              </a:path>
            </a:pathLst>
          </a:custGeom>
          <a:noFill/>
          <a:ln w="38160">
            <a:solidFill>
              <a:srgbClr val="ff374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33520"/>
            <a:ext cx="4724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dialog between A, asking for CAK and KGK for C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which is already in CA and  which can give the  CAK and KGK to A if it is satisfied with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55627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D is acting “for” CA.  If it authoriizes A then A is authorized to jo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312408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38862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?- what protection supports the connection between A and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191120" y="3352320"/>
            <a:ext cx="761760" cy="838440"/>
          </a:xfrm>
          <a:prstGeom prst="line">
            <a:avLst/>
          </a:prstGeom>
          <a:ln cap="rnd" w="9360">
            <a:solidFill>
              <a:srgbClr val="009999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for a K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other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nnecting - Authorize with CA through other K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A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(each?) K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KSP protoocl document only one SA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/Generate CAK and KG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AK for itself and share with each authorized KaY using the SA for that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SAK</a:t>
            </a:r>
            <a:r>
              <a:rPr b="0" lang="en-US" sz="2800" spc="-1" strike="noStrike" baseline="-1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xisting SAK to select the next (see KSP d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very- Gene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ssumptions  for “generic” Ka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SP simplifies these as shown on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Kay Periodically announces 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KaY hears announcement it determines if it knows the announcing 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sees a new KaY (to it) then it establishes an authorization dialog with it and attempts to create a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KaY attempts to join a CA it announces its presence and all existing KaYs attempt to create and SA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KaYs attempt to joint a CA each announces its presence.  If a KaY attempting to join sees an announcement it attempts to authorize the annou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hat two (or more) KaYs may try to authorize each other.  The authorization dialog must be able to detect and manag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21:16:13Z</dcterms:created>
  <dc:creator>John Vollbrecht</dc:creator>
  <dc:description/>
  <dc:language>en-US</dc:language>
  <cp:lastModifiedBy>Dolors Sala</cp:lastModifiedBy>
  <dcterms:modified xsi:type="dcterms:W3CDTF">2004-07-12T18:19:25Z</dcterms:modified>
  <cp:revision>14</cp:revision>
  <dc:subject/>
  <dc:title>PowerPoint Presentation</dc:title>
</cp:coreProperties>
</file>