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6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7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6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7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80880" y="254160"/>
            <a:ext cx="7623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6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7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5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6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7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254160"/>
            <a:ext cx="7623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8000"/>
          </a:bodyPr>
          <a:p>
            <a:pPr marL="225360" indent="-22536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88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5276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274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517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517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517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019070D4-E8C1-48D2-A608-E41252B3C850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rcRect l="0" t="15346" r="0" b="81118"/>
          <a:stretch/>
        </p:blipFill>
        <p:spPr>
          <a:xfrm>
            <a:off x="0" y="1052640"/>
            <a:ext cx="9144000" cy="242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2A6F60FC-26E8-468B-B620-229F36E3A58F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0960" y="6629400"/>
            <a:ext cx="17622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Connectivity Fault Management Draft 0.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785760" y="6629400"/>
            <a:ext cx="15044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IEEE 802.1 interim, October, 200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67800" y="3581280"/>
            <a:ext cx="7799400" cy="1114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0" b="53339"/>
          <a:stretch/>
        </p:blipFill>
        <p:spPr>
          <a:xfrm>
            <a:off x="0" y="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0960" y="6629400"/>
            <a:ext cx="17622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Connectivity Fault Management Draft 0.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85760" y="6629400"/>
            <a:ext cx="15044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IEEE 802.1 interim, October, 200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593886A-7FA6-4113-89F5-6CDC57E821EA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1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65160" algn="ctr">
              <a:lnSpc>
                <a:spcPct val="9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17600" algn="ctr">
              <a:lnSpc>
                <a:spcPct val="9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3581280"/>
            <a:ext cx="8305920" cy="1114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nectivity Fault Managemen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raft 0.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066680" y="4800240"/>
            <a:ext cx="7027920" cy="1569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man Fin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sco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r M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90680" y="1623960"/>
            <a:ext cx="7824600" cy="462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stomer M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3160" y="1508040"/>
            <a:ext cx="8564400" cy="488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Customers’ ME Lev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87200" y="1471680"/>
            <a:ext cx="8583840" cy="502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224920" cy="457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aintenance Entity Level: (ME Level) One of 8 levels of concurrent CFM operation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aintenance End Point: (MEP) Active component.  Faces other MEPs.  0 or 1 per bridge port, VLAN, ME Level, and direction (into or out of bridge)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aintenance Intermediate Point: (MIP) Responsive component.  Ephemeral.  Is at some ME Level. 0 or 1 per bridge port and VLAN.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80880" y="25416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295280"/>
            <a:ext cx="8458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99"/>
                </a:solidFill>
                <a:latin typeface="Arial"/>
              </a:rPr>
              <a:t>Connectivity Faul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224920" cy="457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aintenance Entity: (ME) A point-to-point relationship between two MEPs, with 0 or more MIPs in between. Is at some ME Level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Each MEP is associated with a VLAN, but VLAN and/or encapsulation mappings may associate cause VLANs to be different for MEPs and/or MIPs in the same ME.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E Group: (MEG) A full mesh of MEs among two or more MEPs, along with their current sets of MIP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380880" y="25416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295280"/>
            <a:ext cx="8458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99"/>
                </a:solidFill>
                <a:latin typeface="Arial"/>
              </a:rPr>
              <a:t>Connectivity Faul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224920" cy="457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ervice Instance: (SI) The union of ME Groups whose MEPs and MIPs, at some bridge port, can be distinguished only by their ME Levels (and not by VLAN)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aintenance Domain: A collection of ME Groups, all at the same ME Level, but from different Service Instances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380880" y="25416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295280"/>
            <a:ext cx="8458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99"/>
                </a:solidFill>
                <a:latin typeface="Arial"/>
              </a:rPr>
              <a:t>Connectivity Faul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ing CFM in a Bridge: 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7651800" cy="52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ing CFM in a Bridge: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302080" cy="51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ght ME Lev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280" y="2184480"/>
            <a:ext cx="8458200" cy="177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le UN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6837120" cy="21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224920" cy="457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99000"/>
          </a:bodyPr>
          <a:p>
            <a:pPr marL="285840" indent="-28584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lause 3: Defini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lause 4: Abbrevi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lause 18: Principles of CF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lause 19: CFM Protocol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nnex I: CFM Protocol Desig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nnex J: Alternatives to Spanning Tree Protocol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nnex Z: Running Commentar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380880" y="25416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uses so f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1295280"/>
            <a:ext cx="8458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99"/>
                </a:solidFill>
                <a:latin typeface="Arial"/>
              </a:rPr>
              <a:t>Connectivity Faul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ice through Simple UN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38320" y="1371600"/>
            <a:ext cx="6481800" cy="51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x UN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7989840" cy="32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ice through “B2” in 18-1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416640" cy="516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ice through integrated UN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014880" cy="41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-View of integrated UN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440480" cy="46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224920" cy="457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ntinuity Check Message (CCM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oopback Message (LBM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oopback Reply (LBR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inktrace Message (LTM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inktrace Reply (LTR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larm Indication Signal (AIS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380880" y="25416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ssage Typ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295280"/>
            <a:ext cx="8458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99"/>
                </a:solidFill>
                <a:latin typeface="Arial"/>
              </a:rPr>
              <a:t>Connectivity Faul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224920" cy="457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EP sends periodically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ulticast to all MEPs at sender’s ME Level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arries MEG Name (globally unique) and MIP ID (a small integer) to ensure proper connectivity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arries its state and bridge port’s state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new) Carries list of MEPs at the next-higher ME Level that are “behind” sender’s MEP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380880" y="25416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inuity Check Mess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1295280"/>
            <a:ext cx="8458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99"/>
                </a:solidFill>
                <a:latin typeface="Arial"/>
              </a:rPr>
              <a:t>Connectivity Faul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224920" cy="457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EP sends by command from MIB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Unicast to a MEP or MIP in same ME Group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esponse is a Loopback Reply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f ME Group ID not correct, no response should be generated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eply can/should be done in hardware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380880" y="25416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pback Message and Loopback Rep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1295280"/>
            <a:ext cx="8458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99"/>
                </a:solidFill>
                <a:latin typeface="Arial"/>
              </a:rPr>
              <a:t>Connectivity Faul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224920" cy="457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EP initiates a Linktrace Message with a MEP (or other?) MAC address as the target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Bridges (MIPs?) along the path respond with Linktrace Replies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nitiating MEP can assemble Linktrace Replies into an ordered sequence of MIPs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380880" y="25416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ktrace Message and Linktrace Rep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1295280"/>
            <a:ext cx="8458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99"/>
                </a:solidFill>
                <a:latin typeface="Arial"/>
              </a:rPr>
              <a:t>Connectivity Faul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224920" cy="457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EP sends AIS “backward” (opposite to CCM direction) to indicate a failure to the higher ME Levels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IS includes a list of MEPs at higher ME Level that may be affected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EP’s MIP promotes AIS to its own ME Level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EPs receiving AISs suppress fault alarms for MEPs listed in AIS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380880" y="25416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arm Indication Sign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1295280"/>
            <a:ext cx="8458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99"/>
                </a:solidFill>
                <a:latin typeface="Arial"/>
              </a:rPr>
              <a:t>Connectivity Faul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224920" cy="457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lause structure is insufficiently matched to 802.1D, 802.1Q, P802.1ad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5000"/>
              </a:lnSpc>
              <a:spcBef>
                <a:spcPts val="1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Even the distinction between Clauses 18 and 19 has not been clearly maintained.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nnex J is mislabeled as a second Annex I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 multicast “Connectivity Check Trigger” was suggested at the Q.3/13 meeting but has not been incorporated, yet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380880" y="25416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n inadequacies of Draft 0.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295280"/>
            <a:ext cx="8458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99"/>
                </a:solidFill>
                <a:latin typeface="Arial"/>
              </a:rPr>
              <a:t>Connectivity Faul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224920" cy="457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ulticast CCM Trigger: MEP sends trigger to cause other MEPs to send CCMs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eturn Defect Indication: (RDI) Sent in opposite direction to AIS to ensure that the other end(s) of the failed Maintenance Entities agree that the ME has failed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380880" y="25416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Message Typ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1295280"/>
            <a:ext cx="8458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99"/>
                </a:solidFill>
                <a:latin typeface="Arial"/>
              </a:rPr>
              <a:t>Connectivity Faul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inuity Check Mess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794376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arm Indication Sign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943760" cy="51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S Cess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7778880" cy="31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idge Brain” vs. Port Mod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788240" cy="36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idge Brain” vs. Port Mod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7934040" cy="334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Message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25480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of Destination MAC Addre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905120" y="1317600"/>
            <a:ext cx="5173560" cy="515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TLV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78000" y="2971800"/>
            <a:ext cx="8308800" cy="149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 Group Identifier TLV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8254800" cy="24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gin of AIS/RDI Signa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7715160" cy="35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sibilities for ME Group Nam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6883560" cy="33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-Specific TLV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2971800"/>
            <a:ext cx="8126280" cy="16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P List (needed for AI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299440" cy="35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224920" cy="457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IP collects MEP list from both direction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eft” list given to highest “right” MEP under MIP for transmission in CCMs, right list given to highest left MEP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When MEP A detects loss of MEPs B and C, it passes list of MEP B’s and MEP C’s higher MEPs up to its MIP, which is at the same ME Level as the lis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us, MIP issuing AISs can pass list of lost MEPs at its own ME Level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380880" y="25416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M/AIS Information Flo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1295280"/>
            <a:ext cx="8458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99"/>
                </a:solidFill>
                <a:latin typeface="Arial"/>
              </a:rPr>
              <a:t>Connectivity Faul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224920" cy="457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is same information makes Linktrace work (when looking for MEPs, anyway) without use of MAC filtering database!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b92b38"/>
                </a:solidFill>
                <a:latin typeface="Arial"/>
                <a:ea typeface="Arial"/>
              </a:rPr>
              <a:t>One big question: Is the proper functioning of AIS and Linktrace worth the cost of collecting, tracking, and timing out the CCM information at every node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380880" y="25416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M/AIS Information Flo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1295280"/>
            <a:ext cx="8458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99"/>
                </a:solidFill>
                <a:latin typeface="Arial"/>
              </a:rPr>
              <a:t>Connectivity Faul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12E498B-846E-4D0D-836A-974399086717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0960" y="6629400"/>
            <a:ext cx="17622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Connectivity Fault Management Draft 0.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85760" y="6629400"/>
            <a:ext cx="15044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IEEE 802.1 interim, October, 200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381880" cy="50785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erence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lice through Reference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5867280" cy="535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View” of Figure 18-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221240" cy="48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ps in ME Lev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888320" cy="5102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9560" y="3657600"/>
            <a:ext cx="29419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no ME Level 3 anywhe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or M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620720"/>
            <a:ext cx="7997760" cy="4627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03T23:58:20Z</dcterms:created>
  <dc:creator>Norman Finn</dc:creator>
  <dc:description/>
  <dc:language>en-US</dc:language>
  <cp:lastModifiedBy>Cisco</cp:lastModifiedBy>
  <cp:lastPrinted>1999-01-27T00:54:54Z</cp:lastPrinted>
  <dcterms:modified xsi:type="dcterms:W3CDTF">2004-10-04T14:54:25Z</dcterms:modified>
  <cp:revision>0</cp:revision>
  <dc:subject>A walk-through of Draft 0.1 of P802.1ag Connectivity Fault Management</dc:subject>
  <dc:title>Connectivity Fault Management Draft 0.1</dc:title>
</cp:coreProperties>
</file>