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46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838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514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arris/Lucent TGb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romise  CCK (11Mbps)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68840" y="852480"/>
            <a:ext cx="160668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mission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LANs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54400" y="4114800"/>
            <a:ext cx="276552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Webster and Carl Andr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Boer and Richard van N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/Q MULTIPATH CORRU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27160" y="1736640"/>
            <a:ext cx="49053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’S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Quadra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B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’S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Quadra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C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UPTED BY MULTIPA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HASE R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3886200"/>
            <a:ext cx="2133360" cy="914400"/>
            <a:chOff x="1219320" y="3886200"/>
            <a:chExt cx="2133360" cy="914400"/>
          </a:xfrm>
        </p:grpSpPr>
        <p:sp>
          <p:nvSpPr>
            <p:cNvPr id="120" name=""/>
            <p:cNvSpPr/>
            <p:nvPr/>
          </p:nvSpPr>
          <p:spPr>
            <a:xfrm flipV="1">
              <a:off x="1219320" y="4343400"/>
              <a:ext cx="0" cy="45720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219320" y="3886200"/>
              <a:ext cx="2133360" cy="45720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352680" y="3886200"/>
              <a:ext cx="0" cy="45720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219320" y="4343400"/>
              <a:ext cx="2133360" cy="45720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143000" y="5029200"/>
            <a:ext cx="2514600" cy="609480"/>
            <a:chOff x="1143000" y="5029200"/>
            <a:chExt cx="2514600" cy="609480"/>
          </a:xfrm>
        </p:grpSpPr>
        <p:sp>
          <p:nvSpPr>
            <p:cNvPr id="125" name=""/>
            <p:cNvSpPr/>
            <p:nvPr/>
          </p:nvSpPr>
          <p:spPr>
            <a:xfrm>
              <a:off x="1143000" y="5486400"/>
              <a:ext cx="380880" cy="15228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523880" y="5181480"/>
              <a:ext cx="2133720" cy="45720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6720" y="5029200"/>
              <a:ext cx="380880" cy="15228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143000" y="5029200"/>
              <a:ext cx="2133720" cy="45720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57800" y="3962520"/>
            <a:ext cx="2133720" cy="914400"/>
            <a:chOff x="5257800" y="3962520"/>
            <a:chExt cx="2133720" cy="914400"/>
          </a:xfrm>
        </p:grpSpPr>
        <p:sp>
          <p:nvSpPr>
            <p:cNvPr id="130" name=""/>
            <p:cNvSpPr/>
            <p:nvPr/>
          </p:nvSpPr>
          <p:spPr>
            <a:xfrm flipV="1">
              <a:off x="5257800" y="4419720"/>
              <a:ext cx="0" cy="45720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257800" y="3962520"/>
              <a:ext cx="2133720" cy="45720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391520" y="3962520"/>
              <a:ext cx="0" cy="45720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257800" y="4419720"/>
              <a:ext cx="2133720" cy="45720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257800" y="4419720"/>
            <a:ext cx="2514600" cy="609480"/>
            <a:chOff x="5257800" y="4419720"/>
            <a:chExt cx="2514600" cy="609480"/>
          </a:xfrm>
        </p:grpSpPr>
        <p:sp>
          <p:nvSpPr>
            <p:cNvPr id="135" name=""/>
            <p:cNvSpPr/>
            <p:nvPr/>
          </p:nvSpPr>
          <p:spPr>
            <a:xfrm>
              <a:off x="5257800" y="4876920"/>
              <a:ext cx="380880" cy="15228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638680" y="4572000"/>
              <a:ext cx="2133720" cy="45720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91520" y="4419720"/>
              <a:ext cx="380880" cy="15228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257800" y="4419720"/>
              <a:ext cx="2133720" cy="45720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1050840" y="5745240"/>
            <a:ext cx="2478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Channel Code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50840" y="3535200"/>
            <a:ext cx="25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-Channel Code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65640" y="3611520"/>
            <a:ext cx="2633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ture Sign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191120"/>
            <a:ext cx="914760" cy="914760"/>
          </a:xfrm>
          <a:custGeom>
            <a:avLst/>
            <a:gdLst/>
            <a:ahLst/>
            <a:rect l="0" t="0" r="r" b="b"/>
            <a:pathLst>
              <a:path fill="none" w="2541" h="2541">
                <a:moveTo>
                  <a:pt x="0" y="845"/>
                </a:moveTo>
                <a:lnTo>
                  <a:pt x="0" y="1692"/>
                </a:lnTo>
                <a:lnTo>
                  <a:pt x="1778" y="1692"/>
                </a:lnTo>
                <a:lnTo>
                  <a:pt x="1778" y="2541"/>
                </a:lnTo>
                <a:lnTo>
                  <a:pt x="2541" y="1271"/>
                </a:lnTo>
                <a:lnTo>
                  <a:pt x="1778" y="0"/>
                </a:lnTo>
                <a:lnTo>
                  <a:pt x="1778" y="845"/>
                </a:lnTo>
                <a:lnTo>
                  <a:pt x="0" y="84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6680" y="44038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08440" y="5470560"/>
            <a:ext cx="3909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OLU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erially-Encode QPSK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DE DIMENS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79440" y="1919160"/>
            <a:ext cx="622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BPSK CHIPS:   2^8 = 256 Code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79440" y="4129200"/>
            <a:ext cx="6620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QPSK CHIPS:   4^8 = 65536 Code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057400" y="2666880"/>
            <a:ext cx="4495680" cy="1067040"/>
            <a:chOff x="2057400" y="2666880"/>
            <a:chExt cx="4495680" cy="1067040"/>
          </a:xfrm>
        </p:grpSpPr>
        <p:sp>
          <p:nvSpPr>
            <p:cNvPr id="149" name=""/>
            <p:cNvSpPr/>
            <p:nvPr/>
          </p:nvSpPr>
          <p:spPr>
            <a:xfrm flipV="1">
              <a:off x="236232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2320" y="26668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27672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26668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67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39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373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11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1120" y="373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73392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9112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3920" y="26668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373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32004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373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10552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56272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05520" y="26668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7400" y="3200400"/>
              <a:ext cx="44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590920" y="4724280"/>
            <a:ext cx="3657600" cy="1600200"/>
            <a:chOff x="2590920" y="4724280"/>
            <a:chExt cx="3657600" cy="1600200"/>
          </a:xfrm>
        </p:grpSpPr>
        <p:grpSp>
          <p:nvGrpSpPr>
            <p:cNvPr id="171" name=""/>
            <p:cNvGrpSpPr/>
            <p:nvPr/>
          </p:nvGrpSpPr>
          <p:grpSpPr>
            <a:xfrm>
              <a:off x="4419720" y="5410080"/>
              <a:ext cx="457200" cy="609840"/>
              <a:chOff x="4419720" y="5410080"/>
              <a:chExt cx="457200" cy="609840"/>
            </a:xfrm>
          </p:grpSpPr>
          <p:sp>
            <p:nvSpPr>
              <p:cNvPr id="172" name=""/>
              <p:cNvSpPr/>
              <p:nvPr/>
            </p:nvSpPr>
            <p:spPr>
              <a:xfrm>
                <a:off x="4419720" y="5562720"/>
                <a:ext cx="0" cy="457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76920" y="5410080"/>
                <a:ext cx="0" cy="457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419720" y="5867280"/>
                <a:ext cx="457200" cy="15264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590920" y="5638680"/>
              <a:ext cx="457200" cy="609840"/>
              <a:chOff x="2590920" y="5638680"/>
              <a:chExt cx="457200" cy="609840"/>
            </a:xfrm>
          </p:grpSpPr>
          <p:sp>
            <p:nvSpPr>
              <p:cNvPr id="176" name=""/>
              <p:cNvSpPr/>
              <p:nvPr/>
            </p:nvSpPr>
            <p:spPr>
              <a:xfrm>
                <a:off x="2590920" y="579132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8120" y="563868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2590920" y="5638680"/>
                <a:ext cx="45720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048120" y="5943600"/>
              <a:ext cx="838080" cy="380880"/>
              <a:chOff x="3048120" y="5943600"/>
              <a:chExt cx="838080" cy="380880"/>
            </a:xfrm>
          </p:grpSpPr>
          <p:sp>
            <p:nvSpPr>
              <p:cNvPr id="180" name=""/>
              <p:cNvSpPr/>
              <p:nvPr/>
            </p:nvSpPr>
            <p:spPr>
              <a:xfrm>
                <a:off x="3048120" y="6095880"/>
                <a:ext cx="380880" cy="228600"/>
              </a:xfrm>
              <a:prstGeom prst="line">
                <a:avLst/>
              </a:prstGeom>
              <a:ln w="38160">
                <a:solidFill>
                  <a:srgbClr val="ff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05320" y="5943600"/>
                <a:ext cx="380880" cy="228600"/>
              </a:xfrm>
              <a:prstGeom prst="line">
                <a:avLst/>
              </a:prstGeom>
              <a:ln w="38160">
                <a:solidFill>
                  <a:srgbClr val="ff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3429000" y="6172200"/>
                <a:ext cx="457200" cy="152280"/>
              </a:xfrm>
              <a:prstGeom prst="line">
                <a:avLst/>
              </a:prstGeom>
              <a:ln w="38160">
                <a:solidFill>
                  <a:srgbClr val="ff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124080" y="5562720"/>
              <a:ext cx="838440" cy="380880"/>
              <a:chOff x="3124080" y="5562720"/>
              <a:chExt cx="838440" cy="380880"/>
            </a:xfrm>
          </p:grpSpPr>
          <p:sp>
            <p:nvSpPr>
              <p:cNvPr id="184" name=""/>
              <p:cNvSpPr/>
              <p:nvPr/>
            </p:nvSpPr>
            <p:spPr>
              <a:xfrm>
                <a:off x="3124080" y="5715000"/>
                <a:ext cx="381240" cy="228600"/>
              </a:xfrm>
              <a:prstGeom prst="line">
                <a:avLst/>
              </a:prstGeom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81280" y="5562720"/>
                <a:ext cx="381240" cy="228600"/>
              </a:xfrm>
              <a:prstGeom prst="line">
                <a:avLst/>
              </a:prstGeom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124080" y="5562720"/>
                <a:ext cx="457200" cy="152280"/>
              </a:xfrm>
              <a:prstGeom prst="line">
                <a:avLst/>
              </a:prstGeom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962520" y="5181480"/>
              <a:ext cx="457200" cy="609840"/>
              <a:chOff x="3962520" y="5181480"/>
              <a:chExt cx="457200" cy="609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962520" y="533412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19720" y="5181480"/>
                <a:ext cx="0" cy="45720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962520" y="5181480"/>
                <a:ext cx="457200" cy="152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334120" y="5105520"/>
              <a:ext cx="457200" cy="609480"/>
              <a:chOff x="5334120" y="5105520"/>
              <a:chExt cx="457200" cy="609480"/>
            </a:xfrm>
          </p:grpSpPr>
          <p:sp>
            <p:nvSpPr>
              <p:cNvPr id="192" name=""/>
              <p:cNvSpPr/>
              <p:nvPr/>
            </p:nvSpPr>
            <p:spPr>
              <a:xfrm>
                <a:off x="5334120" y="5257800"/>
                <a:ext cx="0" cy="457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91320" y="5105520"/>
                <a:ext cx="0" cy="45720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334120" y="5562720"/>
                <a:ext cx="457200" cy="152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876920" y="5257800"/>
              <a:ext cx="838080" cy="380880"/>
              <a:chOff x="4876920" y="5257800"/>
              <a:chExt cx="838080" cy="380880"/>
            </a:xfrm>
          </p:grpSpPr>
          <p:sp>
            <p:nvSpPr>
              <p:cNvPr id="196" name=""/>
              <p:cNvSpPr/>
              <p:nvPr/>
            </p:nvSpPr>
            <p:spPr>
              <a:xfrm>
                <a:off x="4876920" y="5410080"/>
                <a:ext cx="380880" cy="228600"/>
              </a:xfrm>
              <a:prstGeom prst="line">
                <a:avLst/>
              </a:prstGeom>
              <a:ln w="38160">
                <a:solidFill>
                  <a:srgbClr val="ff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34120" y="5257800"/>
                <a:ext cx="380880" cy="228600"/>
              </a:xfrm>
              <a:prstGeom prst="line">
                <a:avLst/>
              </a:prstGeom>
              <a:ln w="38160">
                <a:solidFill>
                  <a:srgbClr val="ff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5257800" y="5486400"/>
                <a:ext cx="457200" cy="152280"/>
              </a:xfrm>
              <a:prstGeom prst="line">
                <a:avLst/>
              </a:prstGeom>
              <a:ln w="38160">
                <a:solidFill>
                  <a:srgbClr val="ff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5410080" y="4724280"/>
              <a:ext cx="838440" cy="381240"/>
              <a:chOff x="5410080" y="4724280"/>
              <a:chExt cx="838440" cy="381240"/>
            </a:xfrm>
          </p:grpSpPr>
          <p:sp>
            <p:nvSpPr>
              <p:cNvPr id="200" name=""/>
              <p:cNvSpPr/>
              <p:nvPr/>
            </p:nvSpPr>
            <p:spPr>
              <a:xfrm>
                <a:off x="5410080" y="4876920"/>
                <a:ext cx="381240" cy="228600"/>
              </a:xfrm>
              <a:prstGeom prst="line">
                <a:avLst/>
              </a:prstGeom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7280" y="4724280"/>
                <a:ext cx="381240" cy="228600"/>
              </a:xfrm>
              <a:prstGeom prst="line">
                <a:avLst/>
              </a:prstGeom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10080" y="4724280"/>
                <a:ext cx="457200" cy="152640"/>
              </a:xfrm>
              <a:prstGeom prst="line">
                <a:avLst/>
              </a:prstGeom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770120" y="2411280"/>
            <a:ext cx="5735520" cy="1084680"/>
            <a:chOff x="1770120" y="2411280"/>
            <a:chExt cx="5735520" cy="1084680"/>
          </a:xfrm>
        </p:grpSpPr>
        <p:sp>
          <p:nvSpPr>
            <p:cNvPr id="204" name=""/>
            <p:cNvSpPr txBox="1"/>
            <p:nvPr/>
          </p:nvSpPr>
          <p:spPr>
            <a:xfrm>
              <a:off x="1770120" y="2567160"/>
              <a:ext cx="285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2182680" y="2567160"/>
              <a:ext cx="285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889440" y="2567160"/>
              <a:ext cx="285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5245200" y="2567160"/>
              <a:ext cx="285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211480" y="3129120"/>
              <a:ext cx="285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3235320" y="3129120"/>
              <a:ext cx="285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4591080" y="3129120"/>
              <a:ext cx="285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5772240" y="3129120"/>
              <a:ext cx="285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6791400" y="3129120"/>
              <a:ext cx="285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2330280" y="2411280"/>
              <a:ext cx="247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33800" y="2411280"/>
              <a:ext cx="247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5392800" y="2416320"/>
              <a:ext cx="247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2359080" y="2978280"/>
              <a:ext cx="247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382920" y="2971800"/>
              <a:ext cx="247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4738680" y="2971800"/>
              <a:ext cx="247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5916600" y="2978280"/>
              <a:ext cx="247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6937200" y="2978280"/>
              <a:ext cx="247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1930320" y="256716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079720" y="312912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607000" y="312912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2666880" y="241128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013200" y="241128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3349800" y="241128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371840" y="241128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4705200" y="241128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5729400" y="241632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6075360" y="241632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695680" y="297828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3718080" y="297180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4064040" y="297180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5075280" y="297180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253200" y="2978280"/>
              <a:ext cx="309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2095560" y="2567160"/>
              <a:ext cx="293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3782880" y="256716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5138640" y="256716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6508800" y="256716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129120" y="312912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4486320" y="312912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5495760" y="312912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6684840" y="312912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7211880" y="3129120"/>
              <a:ext cx="293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2392200" y="241128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3695760" y="241128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095720" y="241128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5051520" y="241128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5454720" y="241632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6421320" y="241632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421000" y="297828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041640" y="297828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3444840" y="297180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397400" y="297180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799160" y="297180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5408640" y="297180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5978520" y="297828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595920" y="2978280"/>
              <a:ext cx="260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449440" y="2411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2765520" y="2411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111480" y="2411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446640" y="2411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154400" y="2411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4470480" y="2411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807080" y="2411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5511960" y="241632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5829480" y="241632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175440" y="241632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478240" y="2978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2795760" y="2978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3500280" y="297180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819600" y="297180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4162320" y="297180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4857840" y="297180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5173560" y="297180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035760" y="2978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6353280" y="2978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989760" y="2978280"/>
              <a:ext cx="322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2563920" y="24955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2894040" y="24955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238560" y="24955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578400" y="24955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4268880" y="24955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4597560" y="24955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4938840" y="24955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5624640" y="250020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5956200" y="250020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6307200" y="250020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2592360" y="30607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2927520" y="30607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3614760" y="30560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3944880" y="30560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289400" y="30560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971960" y="30560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299200" y="30560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149880" y="30607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6483240" y="30607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7102440" y="30607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1644480" y="960480"/>
            <a:ext cx="55688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Y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577880" y="1614600"/>
            <a:ext cx="2336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8 Chip/4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08040" y="3672000"/>
            <a:ext cx="63025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 encodes complex (QPSK)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f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iphase rotates whole code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codewords before quadri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codewords after quadriphase (8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bit sign, 6 bits codeword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-Walsh-transform lik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435640" y="1614600"/>
            <a:ext cx="2673360" cy="6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0033"/>
                </a:solidFill>
                <a:latin typeface="Symbol"/>
                <a:ea typeface="Symbol"/>
              </a:rPr>
              <a:t>f:  0, p/2, p, 3p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ME CHANGE UNAVOI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MBOK:  Quadrature M-ary Bi-Orthogonal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MBOK does not make sense for new 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quadrature, not orthogonal  (only nearly orthogonal), not bi-orthog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8 c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K -- Complementary Code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FFERENTIAL-PHASE MODULATE CODE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5486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029200" y="4267080"/>
            <a:ext cx="342900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29200" y="4952880"/>
            <a:ext cx="342900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58200" y="42670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51055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2118" y="0"/>
                </a:moveTo>
                <a:lnTo>
                  <a:pt x="2118" y="0"/>
                </a:lnTo>
                <a:cubicBezTo>
                  <a:pt x="1746" y="0"/>
                  <a:pt x="1381" y="88"/>
                  <a:pt x="1059" y="255"/>
                </a:cubicBezTo>
                <a:cubicBezTo>
                  <a:pt x="737" y="423"/>
                  <a:pt x="470" y="663"/>
                  <a:pt x="284" y="953"/>
                </a:cubicBezTo>
                <a:cubicBezTo>
                  <a:pt x="98" y="1243"/>
                  <a:pt x="0" y="1571"/>
                  <a:pt x="0" y="1906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93640" y="1706400"/>
            <a:ext cx="1312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93640" y="3002040"/>
            <a:ext cx="1523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438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498760" y="2041560"/>
            <a:ext cx="2046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981080"/>
            <a:ext cx="220968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2438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784760" y="1935000"/>
            <a:ext cx="1312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46680" y="5775480"/>
            <a:ext cx="96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851440" y="516564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de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8760" y="3413160"/>
            <a:ext cx="1200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352680"/>
            <a:ext cx="220968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886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784760" y="33066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i-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66688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66880" y="46483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812960" y="4678200"/>
            <a:ext cx="183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-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69960" y="5241960"/>
            <a:ext cx="2881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ike 1 and 2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Noncoherent Rcvr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KE DESIG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650960" y="244476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138720" y="2359080"/>
            <a:ext cx="1962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I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54080" y="2246400"/>
            <a:ext cx="7099200" cy="907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290600" y="3316320"/>
            <a:ext cx="19447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Greater 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16400" y="2343240"/>
            <a:ext cx="2462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HIGH-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DOOR 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68280" y="4610160"/>
            <a:ext cx="182088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Impul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570120" y="3419640"/>
            <a:ext cx="18543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nsec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5 - 0.5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622680" y="4740120"/>
            <a:ext cx="1600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6 chip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small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265800" y="3516480"/>
            <a:ext cx="1314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 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272280" y="4721400"/>
            <a:ext cx="16192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. Sel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 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54080" y="3154320"/>
            <a:ext cx="7081920" cy="137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54080" y="4538520"/>
            <a:ext cx="7081920" cy="137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54080" y="2247840"/>
            <a:ext cx="2209680" cy="367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63760" y="2247840"/>
            <a:ext cx="2679840" cy="367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OMMENDED RAKE RCVR EX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 rcvr alone works great for 1 and 2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high data rates, multipath impairments limit the performance of a R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/LUCENT recommend extensions which enable high-performance at 11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MULTIPATH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03320" y="1776240"/>
            <a:ext cx="5016600" cy="3432240"/>
            <a:chOff x="1003320" y="1776240"/>
            <a:chExt cx="5016600" cy="3432240"/>
          </a:xfrm>
        </p:grpSpPr>
        <p:sp>
          <p:nvSpPr>
            <p:cNvPr id="349" name=""/>
            <p:cNvSpPr/>
            <p:nvPr/>
          </p:nvSpPr>
          <p:spPr>
            <a:xfrm>
              <a:off x="1603440" y="1874880"/>
              <a:ext cx="4416480" cy="32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73320" y="2109960"/>
              <a:ext cx="3400560" cy="2624400"/>
            </a:xfrm>
            <a:custGeom>
              <a:avLst/>
              <a:gdLst/>
              <a:ahLst/>
              <a:rect l="0" t="0" r="r" b="b"/>
              <a:pathLst>
                <a:path w="9446" h="7290">
                  <a:moveTo>
                    <a:pt x="0" y="7290"/>
                  </a:moveTo>
                  <a:lnTo>
                    <a:pt x="0" y="0"/>
                  </a:lnTo>
                  <a:lnTo>
                    <a:pt x="9446" y="0"/>
                  </a:lnTo>
                  <a:lnTo>
                    <a:pt x="9446" y="7290"/>
                  </a:lnTo>
                  <a:lnTo>
                    <a:pt x="0" y="72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73320" y="2109960"/>
              <a:ext cx="3400560" cy="2624400"/>
            </a:xfrm>
            <a:custGeom>
              <a:avLst/>
              <a:gdLst/>
              <a:ahLst/>
              <a:rect l="0" t="0" r="r" b="b"/>
              <a:pathLst>
                <a:path fill="none" w="9446" h="7290">
                  <a:moveTo>
                    <a:pt x="0" y="7290"/>
                  </a:moveTo>
                  <a:lnTo>
                    <a:pt x="0" y="0"/>
                  </a:lnTo>
                  <a:lnTo>
                    <a:pt x="9446" y="0"/>
                  </a:lnTo>
                  <a:lnTo>
                    <a:pt x="9446" y="7290"/>
                  </a:lnTo>
                  <a:lnTo>
                    <a:pt x="0" y="72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7188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65284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14316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62592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1624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59900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09112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57208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73320" y="47340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73320" y="420696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73320" y="36846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73320" y="31590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73320" y="26370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73320" y="21114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73320" y="47340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73320" y="21114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17188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57208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73320" y="47340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17188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171880" y="4702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71880" y="2111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1973160" y="4699080"/>
              <a:ext cx="3808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652840" y="4702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52840" y="2111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2389320" y="469908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143160" y="4702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43160" y="2111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2882880" y="469908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625920" y="4702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25920" y="2111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360600" y="469908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4116240" y="4702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6240" y="2111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854520" y="469908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599000" y="4702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99000" y="2111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4398840" y="4699080"/>
              <a:ext cx="3808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091120" y="4702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91120" y="2111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4827600" y="469908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572080" y="4702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2111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5305320" y="469908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71880" y="47340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537160" y="47340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1886040" y="4579920"/>
              <a:ext cx="3808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71880" y="42069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537160" y="42069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1768320" y="405612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71880" y="36846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5537160" y="36846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1768320" y="353232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71880" y="31590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537160" y="31590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768320" y="300672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71880" y="26370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537160" y="26370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1768320" y="248436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1880" y="21114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537160" y="2111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1768320" y="1960560"/>
              <a:ext cx="5191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73320" y="47340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3320" y="2111400"/>
              <a:ext cx="340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17188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572080" y="210996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71520" y="2309760"/>
              <a:ext cx="3335760" cy="2411640"/>
            </a:xfrm>
            <a:custGeom>
              <a:avLst/>
              <a:gdLst/>
              <a:ahLst/>
              <a:rect l="0" t="0" r="r" b="b"/>
              <a:pathLst>
                <a:path fill="none" w="9266" h="6699">
                  <a:moveTo>
                    <a:pt x="0" y="4117"/>
                  </a:moveTo>
                  <a:lnTo>
                    <a:pt x="833" y="0"/>
                  </a:lnTo>
                  <a:lnTo>
                    <a:pt x="1694" y="4066"/>
                  </a:lnTo>
                  <a:lnTo>
                    <a:pt x="2522" y="6535"/>
                  </a:lnTo>
                  <a:lnTo>
                    <a:pt x="3383" y="5026"/>
                  </a:lnTo>
                  <a:lnTo>
                    <a:pt x="4216" y="5190"/>
                  </a:lnTo>
                  <a:lnTo>
                    <a:pt x="5050" y="5739"/>
                  </a:lnTo>
                  <a:lnTo>
                    <a:pt x="5911" y="6206"/>
                  </a:lnTo>
                  <a:lnTo>
                    <a:pt x="6744" y="6478"/>
                  </a:lnTo>
                  <a:lnTo>
                    <a:pt x="7607" y="6617"/>
                  </a:lnTo>
                  <a:lnTo>
                    <a:pt x="8433" y="6699"/>
                  </a:lnTo>
                  <a:lnTo>
                    <a:pt x="9266" y="6617"/>
                  </a:lnTo>
                </a:path>
              </a:pathLst>
            </a:custGeom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1003320" y="3411360"/>
              <a:ext cx="139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R Magnitu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3159000" y="4867200"/>
              <a:ext cx="1536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*symbolR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225520" y="1776240"/>
              <a:ext cx="3314880" cy="38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  <a:ea typeface="Arial"/>
                </a:rPr>
                <a:t>IMPULSE RESPONSE PRO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13372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803680" y="5310360"/>
            <a:ext cx="1428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556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133720" y="5562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04080" y="2604960"/>
            <a:ext cx="19321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00 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MS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MULTIPATH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0968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279440" y="5767560"/>
            <a:ext cx="1428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5486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209680" y="5486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004080" y="2604960"/>
            <a:ext cx="19321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300 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MS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39840" y="2092320"/>
            <a:ext cx="5146560" cy="3165480"/>
            <a:chOff x="339840" y="2092320"/>
            <a:chExt cx="5146560" cy="3165480"/>
          </a:xfrm>
        </p:grpSpPr>
        <p:sp>
          <p:nvSpPr>
            <p:cNvPr id="436" name=""/>
            <p:cNvSpPr/>
            <p:nvPr/>
          </p:nvSpPr>
          <p:spPr>
            <a:xfrm>
              <a:off x="905040" y="2092320"/>
              <a:ext cx="4581360" cy="316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88960" y="2328840"/>
              <a:ext cx="3545280" cy="2565720"/>
            </a:xfrm>
            <a:custGeom>
              <a:avLst/>
              <a:gdLst/>
              <a:ahLst/>
              <a:rect l="0" t="0" r="r" b="b"/>
              <a:pathLst>
                <a:path w="9848" h="7127">
                  <a:moveTo>
                    <a:pt x="0" y="7127"/>
                  </a:moveTo>
                  <a:lnTo>
                    <a:pt x="0" y="0"/>
                  </a:lnTo>
                  <a:lnTo>
                    <a:pt x="9848" y="0"/>
                  </a:lnTo>
                  <a:lnTo>
                    <a:pt x="9848" y="7127"/>
                  </a:lnTo>
                  <a:lnTo>
                    <a:pt x="0" y="7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488960" y="2328840"/>
              <a:ext cx="3545280" cy="2565720"/>
            </a:xfrm>
            <a:custGeom>
              <a:avLst/>
              <a:gdLst/>
              <a:ahLst/>
              <a:rect l="0" t="0" r="r" b="b"/>
              <a:pathLst>
                <a:path fill="none" w="9848" h="7127">
                  <a:moveTo>
                    <a:pt x="0" y="7127"/>
                  </a:moveTo>
                  <a:lnTo>
                    <a:pt x="0" y="0"/>
                  </a:lnTo>
                  <a:lnTo>
                    <a:pt x="9848" y="0"/>
                  </a:lnTo>
                  <a:lnTo>
                    <a:pt x="9848" y="7127"/>
                  </a:lnTo>
                  <a:lnTo>
                    <a:pt x="0" y="712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49076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20032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90664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61476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32432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03388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88960" y="489276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88960" y="457524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88960" y="424800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88960" y="393228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88960" y="361476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88960" y="328932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88960" y="297180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88960" y="264636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88960" y="232740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88960" y="489276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88960" y="232740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149076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03388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88960" y="489276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49076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490760" y="485928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90760" y="23256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1290600" y="4795920"/>
              <a:ext cx="33012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200320" y="485928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0320" y="23256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2000160" y="4842000"/>
              <a:ext cx="3016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906640" y="485928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06640" y="23256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2706840" y="4842000"/>
              <a:ext cx="3016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614760" y="485928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14760" y="23256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3414600" y="4842000"/>
              <a:ext cx="3016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324320" y="485928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24320" y="23256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4124160" y="4842000"/>
              <a:ext cx="3016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033880" y="485928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3880" y="23256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4830840" y="4842000"/>
              <a:ext cx="3016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90760" y="4892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994280" y="489276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1214280" y="4697280"/>
              <a:ext cx="33012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90760" y="4575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994280" y="457524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1042920" y="4424400"/>
              <a:ext cx="47952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90760" y="4248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4994280" y="424800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1109520" y="4098960"/>
              <a:ext cx="4078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90760" y="3932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994280" y="393228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1042920" y="3781440"/>
              <a:ext cx="47952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90760" y="3614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994280" y="361476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1109520" y="3465360"/>
              <a:ext cx="4078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90760" y="3289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994280" y="328932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1042920" y="3139920"/>
              <a:ext cx="47952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90760" y="2971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4994280" y="297180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1109520" y="2822400"/>
              <a:ext cx="4078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90760" y="2646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4994280" y="264636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1042920" y="2496960"/>
              <a:ext cx="47952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90760" y="2327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994280" y="232740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1109520" y="2179800"/>
              <a:ext cx="4078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88960" y="489276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88960" y="2327400"/>
              <a:ext cx="35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49076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033880" y="2328840"/>
              <a:ext cx="0" cy="256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94000" y="2411280"/>
              <a:ext cx="2916720" cy="2473560"/>
            </a:xfrm>
            <a:custGeom>
              <a:avLst/>
              <a:gdLst/>
              <a:ahLst/>
              <a:rect l="0" t="0" r="r" b="b"/>
              <a:pathLst>
                <a:path fill="none" w="8102" h="6871">
                  <a:moveTo>
                    <a:pt x="0" y="1990"/>
                  </a:moveTo>
                  <a:lnTo>
                    <a:pt x="232" y="1653"/>
                  </a:lnTo>
                  <a:lnTo>
                    <a:pt x="494" y="2191"/>
                  </a:lnTo>
                  <a:lnTo>
                    <a:pt x="733" y="6625"/>
                  </a:lnTo>
                  <a:lnTo>
                    <a:pt x="995" y="1020"/>
                  </a:lnTo>
                  <a:lnTo>
                    <a:pt x="1227" y="0"/>
                  </a:lnTo>
                  <a:lnTo>
                    <a:pt x="1467" y="3186"/>
                  </a:lnTo>
                  <a:lnTo>
                    <a:pt x="1729" y="2125"/>
                  </a:lnTo>
                  <a:lnTo>
                    <a:pt x="1968" y="6082"/>
                  </a:lnTo>
                  <a:lnTo>
                    <a:pt x="2202" y="6328"/>
                  </a:lnTo>
                  <a:lnTo>
                    <a:pt x="2463" y="4363"/>
                  </a:lnTo>
                  <a:lnTo>
                    <a:pt x="2703" y="6082"/>
                  </a:lnTo>
                  <a:lnTo>
                    <a:pt x="2965" y="5675"/>
                  </a:lnTo>
                  <a:lnTo>
                    <a:pt x="3197" y="5152"/>
                  </a:lnTo>
                  <a:lnTo>
                    <a:pt x="3437" y="6373"/>
                  </a:lnTo>
                  <a:lnTo>
                    <a:pt x="3698" y="6127"/>
                  </a:lnTo>
                  <a:lnTo>
                    <a:pt x="3931" y="6192"/>
                  </a:lnTo>
                  <a:lnTo>
                    <a:pt x="4171" y="6464"/>
                  </a:lnTo>
                  <a:lnTo>
                    <a:pt x="4432" y="5695"/>
                  </a:lnTo>
                  <a:lnTo>
                    <a:pt x="4665" y="6579"/>
                  </a:lnTo>
                  <a:lnTo>
                    <a:pt x="4934" y="6509"/>
                  </a:lnTo>
                  <a:lnTo>
                    <a:pt x="5166" y="6690"/>
                  </a:lnTo>
                  <a:lnTo>
                    <a:pt x="5399" y="6534"/>
                  </a:lnTo>
                  <a:lnTo>
                    <a:pt x="5667" y="6780"/>
                  </a:lnTo>
                  <a:lnTo>
                    <a:pt x="5900" y="6735"/>
                  </a:lnTo>
                  <a:lnTo>
                    <a:pt x="6141" y="6625"/>
                  </a:lnTo>
                  <a:lnTo>
                    <a:pt x="6402" y="6826"/>
                  </a:lnTo>
                  <a:lnTo>
                    <a:pt x="6635" y="6670"/>
                  </a:lnTo>
                  <a:lnTo>
                    <a:pt x="6896" y="6806"/>
                  </a:lnTo>
                  <a:lnTo>
                    <a:pt x="7136" y="6690"/>
                  </a:lnTo>
                  <a:lnTo>
                    <a:pt x="7368" y="6760"/>
                  </a:lnTo>
                  <a:lnTo>
                    <a:pt x="7630" y="6871"/>
                  </a:lnTo>
                  <a:lnTo>
                    <a:pt x="7870" y="6851"/>
                  </a:lnTo>
                  <a:lnTo>
                    <a:pt x="8102" y="6826"/>
                  </a:lnTo>
                </a:path>
              </a:pathLst>
            </a:custGeom>
            <a:ln w="38160">
              <a:solidFill>
                <a:srgbClr val="0000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339840" y="3592440"/>
              <a:ext cx="1247760" cy="29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R Magnitu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2611440" y="4979880"/>
              <a:ext cx="119232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*symbol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 txBox="1"/>
          <p:nvPr/>
        </p:nvSpPr>
        <p:spPr>
          <a:xfrm>
            <a:off x="1636560" y="1928880"/>
            <a:ext cx="33148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IMPULSE RESPONS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5927760" y="4297320"/>
            <a:ext cx="2160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RCIA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25780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ULTIPATH:  ISI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190520" y="1692360"/>
            <a:ext cx="61149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ymbol Interference (I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s Smear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Symbol:  Post-Cursor 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ing Symbol:  Pre-Cursor 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RAKE Failure Mechanism for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1460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14600" y="5257800"/>
            <a:ext cx="3352680" cy="3808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2900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3392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3848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62720" y="5257800"/>
            <a:ext cx="304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67280" y="52578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63868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47920" y="52578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563868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080040" y="5713560"/>
            <a:ext cx="939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718080" y="5713560"/>
            <a:ext cx="895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55760" y="5713560"/>
            <a:ext cx="1042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114800" y="4267080"/>
            <a:ext cx="2438640" cy="838440"/>
            <a:chOff x="4114800" y="4267080"/>
            <a:chExt cx="2438640" cy="838440"/>
          </a:xfrm>
        </p:grpSpPr>
        <p:sp>
          <p:nvSpPr>
            <p:cNvPr id="536" name=""/>
            <p:cNvSpPr/>
            <p:nvPr/>
          </p:nvSpPr>
          <p:spPr>
            <a:xfrm>
              <a:off x="6095880" y="4267080"/>
              <a:ext cx="457560" cy="838440"/>
            </a:xfrm>
            <a:custGeom>
              <a:avLst/>
              <a:gdLst/>
              <a:ahLst/>
              <a:rect l="0" t="0" r="r" b="b"/>
              <a:pathLst>
                <a:path fill="none" w="1271" h="2329">
                  <a:moveTo>
                    <a:pt x="1271" y="2329"/>
                  </a:moveTo>
                  <a:lnTo>
                    <a:pt x="1271" y="2329"/>
                  </a:lnTo>
                  <a:lnTo>
                    <a:pt x="1271" y="2329"/>
                  </a:lnTo>
                  <a:cubicBezTo>
                    <a:pt x="1271" y="1920"/>
                    <a:pt x="1212" y="1519"/>
                    <a:pt x="1101" y="1164"/>
                  </a:cubicBezTo>
                  <a:cubicBezTo>
                    <a:pt x="989" y="810"/>
                    <a:pt x="829" y="516"/>
                    <a:pt x="635" y="312"/>
                  </a:cubicBezTo>
                  <a:cubicBezTo>
                    <a:pt x="442" y="108"/>
                    <a:pt x="223" y="0"/>
                    <a:pt x="0" y="0"/>
                  </a:cubicBezTo>
                </a:path>
              </a:pathLst>
            </a:custGeom>
            <a:ln w="38160">
              <a:solidFill>
                <a:srgbClr val="3333cc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67080" y="4267080"/>
              <a:ext cx="1829160" cy="686160"/>
            </a:xfrm>
            <a:custGeom>
              <a:avLst/>
              <a:gdLst/>
              <a:ahLst/>
              <a:rect l="0" t="0" r="r" b="b"/>
              <a:pathLst>
                <a:path fill="none" w="5081" h="1906">
                  <a:moveTo>
                    <a:pt x="0" y="1906"/>
                  </a:moveTo>
                  <a:lnTo>
                    <a:pt x="0" y="1906"/>
                  </a:lnTo>
                  <a:cubicBezTo>
                    <a:pt x="892" y="1906"/>
                    <a:pt x="1768" y="1818"/>
                    <a:pt x="2541" y="1651"/>
                  </a:cubicBezTo>
                  <a:cubicBezTo>
                    <a:pt x="3313" y="1483"/>
                    <a:pt x="3954" y="1243"/>
                    <a:pt x="4400" y="953"/>
                  </a:cubicBezTo>
                  <a:cubicBezTo>
                    <a:pt x="4846" y="663"/>
                    <a:pt x="5081" y="335"/>
                    <a:pt x="5081" y="0"/>
                  </a:cubicBezTo>
                </a:path>
              </a:pathLst>
            </a:custGeom>
            <a:ln w="38160">
              <a:solidFill>
                <a:srgbClr val="3333cc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1480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38160">
              <a:solidFill>
                <a:srgbClr val="3333cc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09480" y="4267080"/>
            <a:ext cx="2439000" cy="838440"/>
            <a:chOff x="609480" y="4267080"/>
            <a:chExt cx="2439000" cy="838440"/>
          </a:xfrm>
        </p:grpSpPr>
        <p:sp>
          <p:nvSpPr>
            <p:cNvPr id="540" name=""/>
            <p:cNvSpPr/>
            <p:nvPr/>
          </p:nvSpPr>
          <p:spPr>
            <a:xfrm>
              <a:off x="2590920" y="4267080"/>
              <a:ext cx="457560" cy="838440"/>
            </a:xfrm>
            <a:custGeom>
              <a:avLst/>
              <a:gdLst/>
              <a:ahLst/>
              <a:rect l="0" t="0" r="r" b="b"/>
              <a:pathLst>
                <a:path fill="none" w="1271" h="2329">
                  <a:moveTo>
                    <a:pt x="1271" y="2329"/>
                  </a:moveTo>
                  <a:lnTo>
                    <a:pt x="1271" y="2329"/>
                  </a:lnTo>
                  <a:lnTo>
                    <a:pt x="1271" y="2329"/>
                  </a:lnTo>
                  <a:cubicBezTo>
                    <a:pt x="1271" y="1920"/>
                    <a:pt x="1212" y="1519"/>
                    <a:pt x="1101" y="1164"/>
                  </a:cubicBezTo>
                  <a:cubicBezTo>
                    <a:pt x="989" y="810"/>
                    <a:pt x="829" y="516"/>
                    <a:pt x="635" y="312"/>
                  </a:cubicBezTo>
                  <a:cubicBezTo>
                    <a:pt x="442" y="108"/>
                    <a:pt x="223" y="0"/>
                    <a:pt x="0" y="0"/>
                  </a:cubicBezTo>
                </a:path>
              </a:pathLst>
            </a:custGeom>
            <a:ln w="38160">
              <a:solidFill>
                <a:srgbClr val="3333cc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2120" y="4267080"/>
              <a:ext cx="1829160" cy="686160"/>
            </a:xfrm>
            <a:custGeom>
              <a:avLst/>
              <a:gdLst/>
              <a:ahLst/>
              <a:rect l="0" t="0" r="r" b="b"/>
              <a:pathLst>
                <a:path fill="none" w="5081" h="1906">
                  <a:moveTo>
                    <a:pt x="0" y="1906"/>
                  </a:moveTo>
                  <a:lnTo>
                    <a:pt x="0" y="1906"/>
                  </a:lnTo>
                  <a:cubicBezTo>
                    <a:pt x="892" y="1906"/>
                    <a:pt x="1768" y="1818"/>
                    <a:pt x="2541" y="1651"/>
                  </a:cubicBezTo>
                  <a:cubicBezTo>
                    <a:pt x="3313" y="1483"/>
                    <a:pt x="3954" y="1243"/>
                    <a:pt x="4400" y="953"/>
                  </a:cubicBezTo>
                  <a:cubicBezTo>
                    <a:pt x="4846" y="663"/>
                    <a:pt x="5081" y="335"/>
                    <a:pt x="5081" y="0"/>
                  </a:cubicBezTo>
                </a:path>
              </a:pathLst>
            </a:custGeom>
            <a:ln w="38160">
              <a:solidFill>
                <a:srgbClr val="3333cc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9480" y="495288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424" y="0"/>
                  </a:moveTo>
                  <a:lnTo>
                    <a:pt x="424" y="0"/>
                  </a:lnTo>
                  <a:cubicBezTo>
                    <a:pt x="350" y="0"/>
                    <a:pt x="276" y="20"/>
                    <a:pt x="212" y="57"/>
                  </a:cubicBezTo>
                  <a:cubicBezTo>
                    <a:pt x="148" y="94"/>
                    <a:pt x="94" y="148"/>
                    <a:pt x="57" y="212"/>
                  </a:cubicBezTo>
                  <a:cubicBezTo>
                    <a:pt x="20" y="276"/>
                    <a:pt x="0" y="350"/>
                    <a:pt x="0" y="424"/>
                  </a:cubicBezTo>
                </a:path>
              </a:pathLst>
            </a:custGeom>
            <a:ln w="38160">
              <a:solidFill>
                <a:srgbClr val="3333cc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 txBox="1"/>
          <p:nvPr/>
        </p:nvSpPr>
        <p:spPr>
          <a:xfrm>
            <a:off x="6537240" y="4189320"/>
            <a:ext cx="12574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46483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175280" y="4265640"/>
            <a:ext cx="1244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ost-Cur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974880" y="4265640"/>
            <a:ext cx="1177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re-Cur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464832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71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879640" y="3718080"/>
            <a:ext cx="1876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into rc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4320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and 5.5 Mbps data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tanding high-multipath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tanding low-SN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mless interoperability with existing DS and F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, extensible receiver architectures 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QPSK chips at 11 MHz chip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3 frequency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and MKK regulations 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ULTIPATH:  ICI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2252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2744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3200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3692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4184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4640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132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5624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96080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6572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570640" y="4965840"/>
            <a:ext cx="303120" cy="37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173240" y="1876320"/>
            <a:ext cx="64198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hip (sub-symbol) Interference (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s Smear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Chip:  Post-Cursor 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ing Chip:  Pre-Cusor 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 Orthogonality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 Equal-Energy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RAKE Failure Mechanism for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96960" y="5614920"/>
            <a:ext cx="3367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473200" y="5761080"/>
            <a:ext cx="3282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ymbol’s Chips Sm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I/ICI MITIGATION IN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E-JULY PROPO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93640" y="2117880"/>
            <a:ext cx="145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L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2346480" y="2117880"/>
            <a:ext cx="1370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175280" y="2117880"/>
            <a:ext cx="170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LA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537240" y="211788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MIC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593640" y="2468520"/>
            <a:ext cx="14652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E/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346480" y="2468520"/>
            <a:ext cx="16351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D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SE/D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175280" y="2468520"/>
            <a:ext cx="2030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1/2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SE/D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" y="1981080"/>
            <a:ext cx="182880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86000" y="1981080"/>
            <a:ext cx="175248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038480" y="1981080"/>
            <a:ext cx="236232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514920" y="2468520"/>
            <a:ext cx="1465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00800" y="1981080"/>
            <a:ext cx="198108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523880" y="4038480"/>
            <a:ext cx="1600560" cy="381240"/>
          </a:xfrm>
          <a:custGeom>
            <a:avLst/>
            <a:gdLst/>
            <a:ahLst/>
            <a:rect l="0" t="0" r="r" b="b"/>
            <a:pathLst>
              <a:path fill="none" w="4446" h="1059">
                <a:moveTo>
                  <a:pt x="0" y="211"/>
                </a:moveTo>
                <a:lnTo>
                  <a:pt x="0" y="847"/>
                </a:lnTo>
                <a:lnTo>
                  <a:pt x="3112" y="847"/>
                </a:lnTo>
                <a:lnTo>
                  <a:pt x="3112" y="1059"/>
                </a:lnTo>
                <a:lnTo>
                  <a:pt x="4446" y="530"/>
                </a:lnTo>
                <a:lnTo>
                  <a:pt x="3112" y="0"/>
                </a:lnTo>
                <a:lnTo>
                  <a:pt x="3112" y="211"/>
                </a:lnTo>
                <a:lnTo>
                  <a:pt x="0" y="211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127160" y="4708440"/>
            <a:ext cx="272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HARRIS/L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050840" y="5059440"/>
            <a:ext cx="3589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 with ISI/ICI Equa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457200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708440" y="4861080"/>
            <a:ext cx="1843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JULY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NONICAL ARCHITE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630520" y="235728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51280" y="2354400"/>
            <a:ext cx="1065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V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251320" y="2104920"/>
            <a:ext cx="1184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 E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607080" y="2112840"/>
            <a:ext cx="17254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/ICI E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665360" y="423864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682640" y="325116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87440" y="3487680"/>
            <a:ext cx="12286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643040" y="58230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60680" y="483552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84200" y="519912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362320" y="3360600"/>
            <a:ext cx="5867280" cy="1306800"/>
            <a:chOff x="2362320" y="3360600"/>
            <a:chExt cx="5867280" cy="1306800"/>
          </a:xfrm>
        </p:grpSpPr>
        <p:sp>
          <p:nvSpPr>
            <p:cNvPr id="595" name=""/>
            <p:cNvSpPr/>
            <p:nvPr/>
          </p:nvSpPr>
          <p:spPr>
            <a:xfrm>
              <a:off x="6921360" y="33606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2240" y="33606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62320" y="3362400"/>
              <a:ext cx="5867280" cy="33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62320" y="3686040"/>
              <a:ext cx="5867280" cy="33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62320" y="4010040"/>
              <a:ext cx="5867280" cy="33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62320" y="4334040"/>
              <a:ext cx="5867280" cy="33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67600" y="33606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13480" y="33606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59360" y="33606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05240" y="33606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57600" y="33606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09960" y="33606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362320" y="33606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370240" y="4869000"/>
            <a:ext cx="5867280" cy="1306440"/>
            <a:chOff x="2370240" y="4869000"/>
            <a:chExt cx="5867280" cy="1306440"/>
          </a:xfrm>
        </p:grpSpPr>
        <p:sp>
          <p:nvSpPr>
            <p:cNvPr id="609" name=""/>
            <p:cNvSpPr/>
            <p:nvPr/>
          </p:nvSpPr>
          <p:spPr>
            <a:xfrm>
              <a:off x="6929280" y="48690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80160" y="48690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70240" y="4870440"/>
              <a:ext cx="5867280" cy="33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70240" y="5194440"/>
              <a:ext cx="5867280" cy="33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70240" y="5518080"/>
              <a:ext cx="5867280" cy="33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70240" y="5842080"/>
              <a:ext cx="5867280" cy="333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75520" y="48690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21400" y="48690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67280" y="48690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13160" y="48690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65520" y="48690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17880" y="48690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70240" y="4869000"/>
              <a:ext cx="657360" cy="13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 txBox="1"/>
          <p:nvPr/>
        </p:nvSpPr>
        <p:spPr>
          <a:xfrm>
            <a:off x="2955960" y="1660680"/>
            <a:ext cx="4299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2                3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71800" y="5334120"/>
            <a:ext cx="1371600" cy="45720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43400" y="5334120"/>
            <a:ext cx="2971800" cy="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48120" y="3886200"/>
            <a:ext cx="1295280" cy="45720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4343400" y="3886200"/>
            <a:ext cx="1295280" cy="45720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638680" y="3505320"/>
            <a:ext cx="1447920" cy="38088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IP EQUAL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685880" y="4218120"/>
            <a:ext cx="4977000" cy="1782720"/>
            <a:chOff x="1685880" y="4218120"/>
            <a:chExt cx="4977000" cy="1782720"/>
          </a:xfrm>
        </p:grpSpPr>
        <p:sp>
          <p:nvSpPr>
            <p:cNvPr id="630" name=""/>
            <p:cNvSpPr txBox="1"/>
            <p:nvPr/>
          </p:nvSpPr>
          <p:spPr>
            <a:xfrm>
              <a:off x="4124160" y="5056200"/>
              <a:ext cx="92088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P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40360" y="5010120"/>
              <a:ext cx="9144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54560" y="523872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97360" y="5315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83160" y="5315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3530520" y="54673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133800" y="536112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3591000" y="551340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3057480" y="475128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t-I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n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>
              <a:off x="5419800" y="5056200"/>
              <a:ext cx="124308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GHT P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C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35640" y="5010120"/>
              <a:ext cx="121932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54760" y="53150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30520" y="600084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892840" y="56959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835440" y="455292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35440" y="45529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2371680" y="513252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87520" y="5010120"/>
              <a:ext cx="6094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30320" y="5315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4200480" y="4294080"/>
              <a:ext cx="1225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 WALS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16320" y="4248000"/>
              <a:ext cx="121932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35640" y="45529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5495760" y="4218120"/>
              <a:ext cx="819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1685880" y="482760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cv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 txBox="1"/>
          <p:nvPr/>
        </p:nvSpPr>
        <p:spPr>
          <a:xfrm>
            <a:off x="930240" y="1739880"/>
            <a:ext cx="724068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FF Taps (multiplies) and 10 FB Taps (ad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ing DFE algorithm minimizes FF T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st-complex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226 ns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ath-spread testpoint at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20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R testpoint at 11 Mbps  (64 by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KE RECE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30240" y="1879560"/>
            <a:ext cx="703404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ap Channel Matched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-lowest-complex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90 ns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ath spread testpoint at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5.5 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R testpoint at 11 Mbps  (64 by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582560" y="4265640"/>
            <a:ext cx="5789880" cy="1600200"/>
            <a:chOff x="1582560" y="4265640"/>
            <a:chExt cx="5789880" cy="1600200"/>
          </a:xfrm>
        </p:grpSpPr>
        <p:sp>
          <p:nvSpPr>
            <p:cNvPr id="658" name=""/>
            <p:cNvSpPr txBox="1"/>
            <p:nvPr/>
          </p:nvSpPr>
          <p:spPr>
            <a:xfrm>
              <a:off x="2421000" y="5027760"/>
              <a:ext cx="94608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36840" y="4981680"/>
              <a:ext cx="9144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>
              <a:off x="3639960" y="5027760"/>
              <a:ext cx="13017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W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56160" y="4981680"/>
              <a:ext cx="121932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03320" y="52862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51240" y="5286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75120" y="5286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1582560" y="4799160"/>
              <a:ext cx="853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5240160" y="5027760"/>
              <a:ext cx="9381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56360" y="4981680"/>
              <a:ext cx="9144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170760" y="52862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6230880" y="5408640"/>
              <a:ext cx="1141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-Mapp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17920" y="475308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17920" y="4753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5773680" y="4265640"/>
              <a:ext cx="1555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word-Mapp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KE WITH ISI EQU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930240" y="1879560"/>
            <a:ext cx="72118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ap Channel Matched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-lowest-complex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44 ns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ath spread testpoint at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5 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R testpoint at 11 Mbps  (64 by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300320" y="4191120"/>
            <a:ext cx="6289560" cy="1600200"/>
            <a:chOff x="1300320" y="4191120"/>
            <a:chExt cx="6289560" cy="1600200"/>
          </a:xfrm>
        </p:grpSpPr>
        <p:sp>
          <p:nvSpPr>
            <p:cNvPr id="676" name=""/>
            <p:cNvSpPr txBox="1"/>
            <p:nvPr/>
          </p:nvSpPr>
          <p:spPr>
            <a:xfrm>
              <a:off x="2900520" y="4694400"/>
              <a:ext cx="94608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16360" y="4648320"/>
              <a:ext cx="9144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4119480" y="4618080"/>
              <a:ext cx="13446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W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LAT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35320" y="4572000"/>
              <a:ext cx="12952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30760" y="49528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>
              <a:off x="1300320" y="4998960"/>
              <a:ext cx="853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2840" y="487692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25640" y="4952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11440" y="4952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2459160" y="5105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2062080" y="499896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2519280" y="515160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1986120" y="438948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t-I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n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5796000" y="4694400"/>
              <a:ext cx="124308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GHT P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C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11840" y="4648320"/>
              <a:ext cx="121932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30960" y="495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6269040" y="5334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506920" y="4419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06920" y="4419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6176880" y="4237200"/>
              <a:ext cx="1413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bol 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59160" y="57913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63720" y="4191120"/>
              <a:ext cx="2895480" cy="137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2824200" y="4237200"/>
              <a:ext cx="1225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ke Rece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KE WITH ISI/ICI EQU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30240" y="1803240"/>
            <a:ext cx="72118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ap Channel Matched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st-complex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333 ns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ath spread testpoint at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5.5 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NR testpoint at 11 Mbps  (64 by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211400" y="4118040"/>
            <a:ext cx="6526080" cy="1941480"/>
            <a:chOff x="1211400" y="4118040"/>
            <a:chExt cx="6526080" cy="1941480"/>
          </a:xfrm>
        </p:grpSpPr>
        <p:sp>
          <p:nvSpPr>
            <p:cNvPr id="702" name=""/>
            <p:cNvSpPr txBox="1"/>
            <p:nvPr/>
          </p:nvSpPr>
          <p:spPr>
            <a:xfrm>
              <a:off x="2960640" y="449748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2960640" y="4680000"/>
              <a:ext cx="717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2960640" y="4861080"/>
              <a:ext cx="430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89440" y="4465800"/>
              <a:ext cx="915840" cy="684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4178160" y="442116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W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4178160" y="4603680"/>
              <a:ext cx="1258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4178160" y="4784760"/>
              <a:ext cx="1487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EMBED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4178160" y="4967280"/>
              <a:ext cx="1301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CI EQUAL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06960" y="4389480"/>
              <a:ext cx="1447920" cy="836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610000" y="48448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97200" y="4784760"/>
              <a:ext cx="192600" cy="120960"/>
            </a:xfrm>
            <a:custGeom>
              <a:avLst/>
              <a:gdLst/>
              <a:ahLst/>
              <a:rect l="0" t="0" r="r" b="b"/>
              <a:pathLst>
                <a:path w="535" h="336">
                  <a:moveTo>
                    <a:pt x="0" y="336"/>
                  </a:moveTo>
                  <a:lnTo>
                    <a:pt x="66" y="167"/>
                  </a:lnTo>
                  <a:lnTo>
                    <a:pt x="0" y="0"/>
                  </a:lnTo>
                  <a:lnTo>
                    <a:pt x="535" y="167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03840" y="4844880"/>
              <a:ext cx="16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13280" y="4784760"/>
              <a:ext cx="194040" cy="120960"/>
            </a:xfrm>
            <a:custGeom>
              <a:avLst/>
              <a:gdLst/>
              <a:ahLst/>
              <a:rect l="0" t="0" r="r" b="b"/>
              <a:pathLst>
                <a:path w="539" h="336">
                  <a:moveTo>
                    <a:pt x="0" y="336"/>
                  </a:moveTo>
                  <a:lnTo>
                    <a:pt x="66" y="167"/>
                  </a:lnTo>
                  <a:lnTo>
                    <a:pt x="0" y="0"/>
                  </a:lnTo>
                  <a:lnTo>
                    <a:pt x="539" y="167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53080" y="484488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64320" y="4784760"/>
              <a:ext cx="194040" cy="120960"/>
            </a:xfrm>
            <a:custGeom>
              <a:avLst/>
              <a:gdLst/>
              <a:ahLst/>
              <a:rect l="0" t="0" r="r" b="b"/>
              <a:pathLst>
                <a:path w="539" h="336">
                  <a:moveTo>
                    <a:pt x="0" y="336"/>
                  </a:moveTo>
                  <a:lnTo>
                    <a:pt x="66" y="167"/>
                  </a:lnTo>
                  <a:lnTo>
                    <a:pt x="0" y="0"/>
                  </a:lnTo>
                  <a:lnTo>
                    <a:pt x="539" y="167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5929200" y="4573440"/>
              <a:ext cx="78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 txBox="1"/>
            <p:nvPr/>
          </p:nvSpPr>
          <p:spPr>
            <a:xfrm>
              <a:off x="5929200" y="4754520"/>
              <a:ext cx="912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RG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58000" y="4465800"/>
              <a:ext cx="838080" cy="684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94640" y="4768920"/>
              <a:ext cx="39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34120" y="4708440"/>
              <a:ext cx="192600" cy="120960"/>
            </a:xfrm>
            <a:custGeom>
              <a:avLst/>
              <a:gdLst/>
              <a:ahLst/>
              <a:rect l="0" t="0" r="r" b="b"/>
              <a:pathLst>
                <a:path w="535" h="336">
                  <a:moveTo>
                    <a:pt x="0" y="336"/>
                  </a:moveTo>
                  <a:lnTo>
                    <a:pt x="66" y="167"/>
                  </a:lnTo>
                  <a:lnTo>
                    <a:pt x="0" y="0"/>
                  </a:lnTo>
                  <a:lnTo>
                    <a:pt x="535" y="167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6918480" y="4194000"/>
              <a:ext cx="819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38600" y="41752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72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72" y="14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38600" y="4276800"/>
              <a:ext cx="25920" cy="49680"/>
            </a:xfrm>
            <a:custGeom>
              <a:avLst/>
              <a:gdLst/>
              <a:ahLst/>
              <a:rect l="0" t="0" r="r" b="b"/>
              <a:pathLst>
                <a:path w="72" h="138">
                  <a:moveTo>
                    <a:pt x="72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72" y="13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838600" y="43768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72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72" y="14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38600" y="447840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72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72" y="14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38600" y="4579920"/>
              <a:ext cx="25920" cy="49680"/>
            </a:xfrm>
            <a:custGeom>
              <a:avLst/>
              <a:gdLst/>
              <a:ahLst/>
              <a:rect l="0" t="0" r="r" b="b"/>
              <a:pathLst>
                <a:path w="72" h="138">
                  <a:moveTo>
                    <a:pt x="72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72" y="13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38600" y="468000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72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72" y="14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38600" y="478152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72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72" y="14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38600" y="488304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72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72" y="14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38600" y="498312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72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72" y="14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38600" y="508464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72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72" y="14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38600" y="518652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72" y="0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72" y="14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38600" y="5286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51200" y="52880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0"/>
                  </a:moveTo>
                  <a:lnTo>
                    <a:pt x="0" y="72"/>
                  </a:lnTo>
                  <a:lnTo>
                    <a:pt x="133" y="72"/>
                  </a:lnTo>
                  <a:lnTo>
                    <a:pt x="1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9494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5100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1528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5440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35592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5744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5932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66084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6236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638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396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654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16736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688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7040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7192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7344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7532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7684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7836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798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7996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1814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8336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848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8640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58792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8944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9284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9436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95880" y="52880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0"/>
                  </a:moveTo>
                  <a:lnTo>
                    <a:pt x="0" y="72"/>
                  </a:lnTo>
                  <a:lnTo>
                    <a:pt x="138" y="72"/>
                  </a:lnTo>
                  <a:lnTo>
                    <a:pt x="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9596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974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39936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0088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0240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0392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805440" y="528804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0" y="0"/>
                  </a:moveTo>
                  <a:lnTo>
                    <a:pt x="0" y="72"/>
                  </a:lnTo>
                  <a:lnTo>
                    <a:pt x="142" y="72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59440" y="519120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0" y="142"/>
                  </a:moveTo>
                  <a:lnTo>
                    <a:pt x="72" y="14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59440" y="50896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0" y="142"/>
                  </a:moveTo>
                  <a:lnTo>
                    <a:pt x="72" y="14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59440" y="498780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0" y="142"/>
                  </a:moveTo>
                  <a:lnTo>
                    <a:pt x="72" y="14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59440" y="4888080"/>
              <a:ext cx="25920" cy="49680"/>
            </a:xfrm>
            <a:custGeom>
              <a:avLst/>
              <a:gdLst/>
              <a:ahLst/>
              <a:rect l="0" t="0" r="r" b="b"/>
              <a:pathLst>
                <a:path w="72" h="138">
                  <a:moveTo>
                    <a:pt x="0" y="138"/>
                  </a:moveTo>
                  <a:lnTo>
                    <a:pt x="72" y="138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59440" y="478620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0" y="142"/>
                  </a:moveTo>
                  <a:lnTo>
                    <a:pt x="72" y="14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59440" y="46846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0" y="142"/>
                  </a:moveTo>
                  <a:lnTo>
                    <a:pt x="72" y="14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59440" y="4584600"/>
              <a:ext cx="25920" cy="49680"/>
            </a:xfrm>
            <a:custGeom>
              <a:avLst/>
              <a:gdLst/>
              <a:ahLst/>
              <a:rect l="0" t="0" r="r" b="b"/>
              <a:pathLst>
                <a:path w="72" h="138">
                  <a:moveTo>
                    <a:pt x="0" y="138"/>
                  </a:moveTo>
                  <a:lnTo>
                    <a:pt x="72" y="138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59440" y="448308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0" y="142"/>
                  </a:moveTo>
                  <a:lnTo>
                    <a:pt x="72" y="14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59440" y="438156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0" y="142"/>
                  </a:moveTo>
                  <a:lnTo>
                    <a:pt x="72" y="14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59440" y="4281480"/>
              <a:ext cx="25920" cy="49680"/>
            </a:xfrm>
            <a:custGeom>
              <a:avLst/>
              <a:gdLst/>
              <a:ahLst/>
              <a:rect l="0" t="0" r="r" b="b"/>
              <a:pathLst>
                <a:path w="72" h="138">
                  <a:moveTo>
                    <a:pt x="0" y="138"/>
                  </a:moveTo>
                  <a:lnTo>
                    <a:pt x="72" y="138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59440" y="4179960"/>
              <a:ext cx="25920" cy="51120"/>
            </a:xfrm>
            <a:custGeom>
              <a:avLst/>
              <a:gdLst/>
              <a:ahLst/>
              <a:rect l="0" t="0" r="r" b="b"/>
              <a:pathLst>
                <a:path w="72" h="142">
                  <a:moveTo>
                    <a:pt x="0" y="142"/>
                  </a:moveTo>
                  <a:lnTo>
                    <a:pt x="72" y="142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6260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6108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956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580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5652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46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5312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530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5152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5000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848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4660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4508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4356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420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4016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386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3712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370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3552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3400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63248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3060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42908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2756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2260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2416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226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22560" y="41623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138" y="72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3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210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1952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1800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1648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41460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1308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1156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100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0816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06640" y="416232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42" y="7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51200" y="4162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 txBox="1"/>
            <p:nvPr/>
          </p:nvSpPr>
          <p:spPr>
            <a:xfrm>
              <a:off x="4102200" y="4118040"/>
              <a:ext cx="1436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9900"/>
                  </a:solidFill>
                  <a:latin typeface="Arial"/>
                  <a:ea typeface="Arial"/>
                </a:rPr>
                <a:t>RAKE RECE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4178160" y="5407200"/>
              <a:ext cx="1243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GHT P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4178160" y="5589720"/>
              <a:ext cx="1022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4178160" y="5770440"/>
              <a:ext cx="878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C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06960" y="5375160"/>
              <a:ext cx="1219320" cy="684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81400" y="4768920"/>
              <a:ext cx="23004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47880" y="4844880"/>
              <a:ext cx="392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187720" y="4784760"/>
              <a:ext cx="194040" cy="120960"/>
            </a:xfrm>
            <a:custGeom>
              <a:avLst/>
              <a:gdLst/>
              <a:ahLst/>
              <a:rect l="0" t="0" r="r" b="b"/>
              <a:pathLst>
                <a:path w="539" h="336">
                  <a:moveTo>
                    <a:pt x="0" y="336"/>
                  </a:moveTo>
                  <a:lnTo>
                    <a:pt x="66" y="167"/>
                  </a:lnTo>
                  <a:lnTo>
                    <a:pt x="0" y="0"/>
                  </a:lnTo>
                  <a:lnTo>
                    <a:pt x="539" y="167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2457360" y="5140440"/>
              <a:ext cx="0" cy="54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97240" y="4995720"/>
              <a:ext cx="120960" cy="194040"/>
            </a:xfrm>
            <a:custGeom>
              <a:avLst/>
              <a:gdLst/>
              <a:ahLst/>
              <a:rect l="0" t="0" r="r" b="b"/>
              <a:pathLst>
                <a:path w="336" h="539">
                  <a:moveTo>
                    <a:pt x="336" y="539"/>
                  </a:moveTo>
                  <a:lnTo>
                    <a:pt x="167" y="473"/>
                  </a:lnTo>
                  <a:lnTo>
                    <a:pt x="0" y="539"/>
                  </a:lnTo>
                  <a:lnTo>
                    <a:pt x="167" y="0"/>
                  </a:lnTo>
                  <a:lnTo>
                    <a:pt x="336" y="5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2048040" y="487692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2505240" y="502920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1971720" y="4270320"/>
              <a:ext cx="743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t-I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1971720" y="4451400"/>
              <a:ext cx="684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n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1211400" y="4573440"/>
              <a:ext cx="853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1211400" y="4754520"/>
              <a:ext cx="641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2457360" y="567864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23240" y="4768920"/>
              <a:ext cx="0" cy="9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424480" y="5678640"/>
              <a:ext cx="160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KE WITH ISI/ICI EQUAL. </a:t>
            </a:r>
            <a:br>
              <a:rPr sz="4000"/>
            </a:br>
            <a:r>
              <a:rPr b="1" lang="en-US" sz="4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RRELATOR DETAI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1317600" y="2335320"/>
            <a:ext cx="6475320" cy="3773520"/>
            <a:chOff x="1317600" y="2335320"/>
            <a:chExt cx="6475320" cy="3773520"/>
          </a:xfrm>
        </p:grpSpPr>
        <p:sp>
          <p:nvSpPr>
            <p:cNvPr id="847" name=""/>
            <p:cNvSpPr txBox="1"/>
            <p:nvPr/>
          </p:nvSpPr>
          <p:spPr>
            <a:xfrm>
              <a:off x="3699000" y="2525760"/>
              <a:ext cx="43956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19520" y="24685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4365720" y="2525760"/>
              <a:ext cx="43956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386240" y="24685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38640" y="26589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00400" y="2658960"/>
              <a:ext cx="28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95800" y="2658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195800" y="2658960"/>
              <a:ext cx="0" cy="57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67120" y="2658960"/>
              <a:ext cx="28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2520" y="2658960"/>
              <a:ext cx="0" cy="85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2520" y="2658960"/>
              <a:ext cx="0" cy="57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5032440" y="2525760"/>
              <a:ext cx="43956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52960" y="2468520"/>
              <a:ext cx="38088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33840" y="265896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29240" y="2658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29240" y="2658960"/>
              <a:ext cx="0" cy="57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3699000" y="3002040"/>
              <a:ext cx="45396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4365720" y="3002040"/>
              <a:ext cx="45396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 txBox="1"/>
            <p:nvPr/>
          </p:nvSpPr>
          <p:spPr>
            <a:xfrm>
              <a:off x="5032440" y="3002040"/>
              <a:ext cx="45396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67120" y="3516480"/>
              <a:ext cx="285840" cy="28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052960" y="3421080"/>
              <a:ext cx="476280" cy="19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800" y="3421080"/>
              <a:ext cx="571320" cy="19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2174760" y="2335320"/>
              <a:ext cx="148104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  <a:ea typeface="Arial"/>
                </a:rPr>
                <a:t>Codeword # 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3603600" y="4430880"/>
              <a:ext cx="148104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lator f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  <a:ea typeface="Arial"/>
                </a:rPr>
                <a:t>Codeword # 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29080" y="4468680"/>
              <a:ext cx="171468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43400" y="47545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5222880" y="3763800"/>
              <a:ext cx="1481040" cy="80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stic f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  <a:ea typeface="Arial"/>
                </a:rPr>
                <a:t>Codeword # 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62360" y="4564080"/>
              <a:ext cx="285840" cy="28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7840" y="4754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7400" y="3706920"/>
              <a:ext cx="0" cy="85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57400" y="3706920"/>
              <a:ext cx="1809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81120" y="4754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 txBox="1"/>
            <p:nvPr/>
          </p:nvSpPr>
          <p:spPr>
            <a:xfrm>
              <a:off x="1317600" y="4430880"/>
              <a:ext cx="106848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3032280" y="4145040"/>
              <a:ext cx="29520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2556000" y="433548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4746600" y="347832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 txBox="1"/>
            <p:nvPr/>
          </p:nvSpPr>
          <p:spPr>
            <a:xfrm>
              <a:off x="1508040" y="5289480"/>
              <a:ext cx="275112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500" spc="-1" strike="noStrike">
                  <a:solidFill>
                    <a:srgbClr val="ff0033"/>
                  </a:solidFill>
                  <a:latin typeface="Arial"/>
                  <a:ea typeface="Arial"/>
                </a:rPr>
                <a:t>SIMILAR STRUCTURE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500" spc="-1" strike="noStrike">
                  <a:solidFill>
                    <a:srgbClr val="ff0033"/>
                  </a:solidFill>
                  <a:latin typeface="Arial"/>
                  <a:ea typeface="Arial"/>
                </a:rPr>
                <a:t>ALL OTHER CODEWORD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73480" y="5765760"/>
              <a:ext cx="2318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 txBox="1"/>
            <p:nvPr/>
          </p:nvSpPr>
          <p:spPr>
            <a:xfrm>
              <a:off x="5413320" y="4908600"/>
              <a:ext cx="2379600" cy="80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500" spc="-1" strike="noStrike">
                  <a:solidFill>
                    <a:srgbClr val="009900"/>
                  </a:solidFill>
                  <a:latin typeface="Arial"/>
                  <a:ea typeface="Arial"/>
                </a:rPr>
                <a:t>MAKE HARD-DECIS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500" spc="-1" strike="noStrike">
                  <a:solidFill>
                    <a:srgbClr val="009900"/>
                  </a:solidFill>
                  <a:latin typeface="Arial"/>
                  <a:ea typeface="Arial"/>
                </a:rPr>
                <a:t>FOR CODEWORD WIT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500" spc="-1" strike="noStrike">
                  <a:solidFill>
                    <a:srgbClr val="009900"/>
                  </a:solidFill>
                  <a:latin typeface="Arial"/>
                  <a:ea typeface="Arial"/>
                </a:rPr>
                <a:t>BEST STATIST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1119240" y="1573200"/>
            <a:ext cx="6583320" cy="445464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ER FOR MULTIPATH AND NO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3048120"/>
            <a:ext cx="1905120" cy="1905120"/>
          </a:xfrm>
          <a:prstGeom prst="ellipse">
            <a:avLst/>
          </a:prstGeom>
          <a:noFill/>
          <a:ln w="38160">
            <a:solidFill>
              <a:srgbClr val="ff00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438280"/>
            <a:ext cx="1905120" cy="190512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200400"/>
            <a:ext cx="838440" cy="1295640"/>
          </a:xfrm>
          <a:custGeom>
            <a:avLst/>
            <a:gdLst/>
            <a:ahLst/>
            <a:rect l="0" t="0" r="r" b="b"/>
            <a:pathLst>
              <a:path fill="none" w="2329" h="3599">
                <a:moveTo>
                  <a:pt x="0" y="719"/>
                </a:moveTo>
                <a:lnTo>
                  <a:pt x="0" y="2879"/>
                </a:lnTo>
                <a:lnTo>
                  <a:pt x="1630" y="2879"/>
                </a:lnTo>
                <a:lnTo>
                  <a:pt x="1630" y="3599"/>
                </a:lnTo>
                <a:lnTo>
                  <a:pt x="2329" y="1800"/>
                </a:lnTo>
                <a:lnTo>
                  <a:pt x="1630" y="0"/>
                </a:lnTo>
                <a:lnTo>
                  <a:pt x="1630" y="719"/>
                </a:lnTo>
                <a:lnTo>
                  <a:pt x="0" y="71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819520"/>
            <a:ext cx="1905120" cy="1905120"/>
          </a:xfrm>
          <a:prstGeom prst="ellipse">
            <a:avLst/>
          </a:prstGeom>
          <a:noFill/>
          <a:ln w="38160">
            <a:solidFill>
              <a:srgbClr val="990099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36640" y="2651040"/>
            <a:ext cx="1370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60680" y="4327560"/>
            <a:ext cx="1454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L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61080" y="1660680"/>
            <a:ext cx="34225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AR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 chang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d QMB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51040" y="82224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61080" y="4708440"/>
            <a:ext cx="37195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LUC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position mod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94040" y="2803680"/>
            <a:ext cx="96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58880" y="716040"/>
            <a:ext cx="3924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R 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622840" y="3382920"/>
            <a:ext cx="1243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HARRI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LU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ROMISE ADVANTAGES RELATIVE TO LUCENT’S MAY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28800" y="1981080"/>
            <a:ext cx="6248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dB less PA Back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 receiver foundation main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 married to HARRIS’s Equalizer simplifies design over BCPM TSE/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Mbps 1K byte packet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:  130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:   226 nsec at lower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32480" y="201132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775480" y="2011320"/>
            <a:ext cx="911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93640" y="1706400"/>
            <a:ext cx="34941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MULTIPATH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 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byte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3640" y="3382920"/>
            <a:ext cx="271764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NOISE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/N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r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Equal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K byte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60880" y="2392200"/>
            <a:ext cx="372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5.5 Mbps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26 nsec     450 n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60880" y="2773440"/>
            <a:ext cx="3727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1 Mbps: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186 nsec     330 n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60880" y="3916440"/>
            <a:ext cx="354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5.5 Mbps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5.2 dB      17.7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60880" y="4297320"/>
            <a:ext cx="354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1 Mbps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4.7 dB      17.7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451640" y="2193840"/>
            <a:ext cx="99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133720"/>
            <a:ext cx="1371600" cy="9144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51640" y="3794040"/>
            <a:ext cx="1039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8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733920"/>
            <a:ext cx="1371600" cy="9144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93640" y="5059440"/>
            <a:ext cx="22590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79640" y="5364000"/>
            <a:ext cx="1335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, 2 Mb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32480" y="5364000"/>
            <a:ext cx="917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32480" y="5745240"/>
            <a:ext cx="952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F/F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79640" y="5745240"/>
            <a:ext cx="1652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5.5, 11 Mb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75480" y="5386320"/>
            <a:ext cx="1270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RAK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Equal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Integ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32480" y="353520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75480" y="3535200"/>
            <a:ext cx="911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32480" y="498312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75480" y="4983120"/>
            <a:ext cx="911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451640" y="5318280"/>
            <a:ext cx="121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5257800"/>
            <a:ext cx="1371600" cy="9144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86400" y="1467000"/>
            <a:ext cx="1060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24360" y="1492200"/>
            <a:ext cx="1049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ROMISE ADVANTAGES RELATIVE TO HARRIS’S MAY PROPO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5760" y="760320"/>
            <a:ext cx="8273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PROMISE OR NEW PROPOS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3640" y="1461960"/>
            <a:ext cx="81691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LEARLY A COMPROMISE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SK or QPSK chips are used (Har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and-2 MBps DSSS-like signal (Lucent &amp; Har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-modulated code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Mcps rate maintained (Harris &amp; Lu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 (bandwidth)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Generation-QMBOK (Harris) codewor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alled CCK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mless interoperability maintained with DS and F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d architecture:  RAKE (Lucent) wi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qualizer (Har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ERFORMANCE: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AVEFORM Versus RECE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812960" y="3413160"/>
            <a:ext cx="18273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18280" y="3565440"/>
            <a:ext cx="1793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276720"/>
            <a:ext cx="2133720" cy="1447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3276720"/>
            <a:ext cx="2057400" cy="1447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55760" y="4937040"/>
            <a:ext cx="272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861080" y="4937040"/>
            <a:ext cx="2813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choic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it fully explo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x signal feat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60680" y="2179800"/>
            <a:ext cx="55022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ERFORMANCE ENAB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819520" y="274320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743200"/>
            <a:ext cx="83844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GN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03680" y="3687840"/>
            <a:ext cx="14749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84960" y="3794040"/>
            <a:ext cx="1098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50840" y="1965240"/>
            <a:ext cx="32828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EST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5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8 CHIP CODE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60880" y="501336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61080" y="5013360"/>
            <a:ext cx="6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13560" y="5013360"/>
            <a:ext cx="6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03480" y="4708440"/>
            <a:ext cx="14032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581280"/>
            <a:ext cx="1676520" cy="2286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581280"/>
            <a:ext cx="1676520" cy="2286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581280"/>
            <a:ext cx="1676520" cy="2286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724280"/>
            <a:ext cx="66294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61080" y="2033640"/>
            <a:ext cx="3720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Finger RAKE RC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amples/chip CIR Decimated 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6160" y="3687840"/>
            <a:ext cx="14749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82760" y="731880"/>
            <a:ext cx="41464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WORD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oi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formed comprehensive codewor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ed 8, 11 and 16 chip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ed WALSH and cover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ed real-chip (MBOK) versus complex-chip (CCK)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d matched-filter-bound to examine fundamental distance properties in mult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ly-examined against receiver archit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K gave best overall performance an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