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BB3DF5F-E2B0-41A3-9026-EB82A8B08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76600" y="396720"/>
            <a:ext cx="398160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45-r1</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0098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WG agenda, July 1998</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49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9810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July 6-10,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La Jolla, California</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Jul 6,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intenance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4-18 - Waltham, MA, tentative, Interim (Raythe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TBD - Orlando are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sp>
        <p:nvSpPr>
          <p:cNvPr id="105"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ue the consensus process for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any outstanding Sponsor ballot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rther work in the S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ang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moved TG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dded complaint, recogni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3"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14"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Logistics (Copying)</a:t>
            </a:r>
            <a:endParaRPr b="0" lang="en-US" sz="4000" spc="-1" strike="noStrike">
              <a:solidFill>
                <a:srgbClr val="000000"/>
              </a:solidFill>
              <a:latin typeface="Arial"/>
            </a:endParaRPr>
          </a:p>
        </p:txBody>
      </p:sp>
      <p:sp>
        <p:nvSpPr>
          <p:cNvPr id="11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25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2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4"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2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7" name=""/>
          <p:cNvSpPr txBox="1"/>
          <p:nvPr/>
        </p:nvSpPr>
        <p:spPr>
          <a:xfrm>
            <a:off x="609480" y="4040280"/>
            <a:ext cx="7772400" cy="2360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ocument distribution via Pigeonholes mastered by Stua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umber points to DA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3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How to pick your papers</a:t>
            </a:r>
            <a:endParaRPr b="0" lang="en-US" sz="4000" spc="-1" strike="noStrike">
              <a:solidFill>
                <a:srgbClr val="000000"/>
              </a:solidFill>
              <a:latin typeface="Arial"/>
            </a:endParaRPr>
          </a:p>
        </p:txBody>
      </p:sp>
      <p:sp>
        <p:nvSpPr>
          <p:cNvPr id="13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6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6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7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7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0"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8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a!SG |   !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TGa!11r!SG | TGa!11r!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11r!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   !   !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   !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 . . . . .|. . . . .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2"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88"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7"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4:30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802 plenary</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cogni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trecht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223, alias 112</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Monday ExCom meetin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245-r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802.11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802.11rev</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5 Study Group WPA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c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rev</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