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0280" y="1084320"/>
            <a:ext cx="759924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for 5 GH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1544760"/>
            <a:ext cx="73152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in process of resolving issues to get 75%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technical issues resolved at the May meeting, detailed description of questions and answers in the 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technical issues: Plots of quantization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 OFDM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4120" y="1197000"/>
            <a:ext cx="5487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Quan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13360" y="388476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4240" y="388476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70560" y="35035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70560" y="2665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84360" y="5927760"/>
            <a:ext cx="588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No quantization, b) 6 bits, c) 5 bits, d) 4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08040" y="3122640"/>
            <a:ext cx="10875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98960" y="5484960"/>
            <a:ext cx="1074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d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01880" y="1697040"/>
            <a:ext cx="745632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iperLAN-II standard most likely OFDM; 6 out of 8 proposals are OFDM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OFDM standard provides opportunity for dual-mod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OFDM parameters may influence BRAN to choose similar parameters (e.g. most proposals already mention 48 subcarriers like in IE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Approval for OFD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01880" y="1697040"/>
            <a:ext cx="745632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and Lucent made certain tradeoffs in choosing the OFDM parameters, but are open to changes from other 802.11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choices and tradeoffs are bit rate versus number of channels, type of coding, training, etcetera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75% approval now for OFDM as the basic modulation type, so technical discussion on parameter set can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