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119640" y="396720"/>
            <a:ext cx="233856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: IEEE 802.11-98/2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9040" y="609480"/>
            <a:ext cx="7769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85800" y="6475320"/>
            <a:ext cx="711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9040" y="6477120"/>
            <a:ext cx="784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927920" y="636120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118040" y="1219320"/>
            <a:ext cx="43401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>
            <a:off x="563400" y="981000"/>
            <a:ext cx="1722600" cy="2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pport Services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 txBox="1"/>
          <p:nvPr/>
        </p:nvSpPr>
        <p:spPr>
          <a:xfrm>
            <a:off x="563400" y="1133640"/>
            <a:ext cx="321156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pplied Research &amp;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866960" y="3254400"/>
            <a:ext cx="5716440" cy="2257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224000" y="1498680"/>
            <a:ext cx="701352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ATM and IEEE 5.??Ghz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ommon PM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438280" y="1523880"/>
            <a:ext cx="2209680" cy="40384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102520" cy="43099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380880" y="45720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EEE 802.11  5.15GHz Radio Propos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143000" y="5715000"/>
            <a:ext cx="7184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grouper.ieee.org/groups/802/11/Reports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191120" y="533520"/>
            <a:ext cx="41148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y Collabora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447920" y="1752480"/>
            <a:ext cx="6507000" cy="39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rkets for wir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ertical - multinationals, nationals, regionals, loc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orizontal - multinationals, nationals, regionals, loc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EEE 802.1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S, EC, and Asian compan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EEE philosophy of common MAC to support multiple PM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EEE philosophy of supporting US FCC frequency distribu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TU 8802.11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RAN philosophy of supporting CEPT frequency dis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umber of Produ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ould vendors sell more products with their own PM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ould vendors sell more products with a common PM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4680" y="-4680"/>
            <a:ext cx="9153360" cy="6867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04920" y="1905120"/>
            <a:ext cx="847404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bined PMD has too much merit to be drop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laboration with the WRC to make 5.??GHz inter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laboration Supported by Multi-national Corporation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ose - study group of BRAN-WATM and IEE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02.11-BRAN-WATM liaisons (Boer, Phipps, Bautz, Pain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ssarella, others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343400" y="533520"/>
            <a:ext cx="44197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4680" y="-4680"/>
            <a:ext cx="9153360" cy="6867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114800" y="533520"/>
            <a:ext cx="41911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514600" y="1828800"/>
            <a:ext cx="3932280" cy="33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tuation-Target-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ndon Me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equencies and 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labo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4680" y="-4680"/>
            <a:ext cx="9153360" cy="6867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085760" y="1370160"/>
            <a:ext cx="1963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it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143000" y="18288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1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tential Worldwide frequency at 5.??GH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1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AN committed to BRAN PMD (leaning toward OF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1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EEE 802.11 committed to 802.11 PMD (selected OF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1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urrent PMDs at 5.?? GHz not 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143000" y="3886200"/>
            <a:ext cx="737388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orldwide common radio environment at 5.??G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d user devices with a single radio PMD IF (software radio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ndard P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11280" y="516564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143000" y="5562720"/>
            <a:ext cx="80010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PMD (neither HiperLAN nor 802.11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apid scan radio concept using available unlicensed frequ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079640" y="3351240"/>
            <a:ext cx="1504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r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066680" y="5027760"/>
            <a:ext cx="1989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po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562720" y="685800"/>
            <a:ext cx="10731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T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4680" y="-4680"/>
            <a:ext cx="9153360" cy="6867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114800" y="533520"/>
            <a:ext cx="42670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ondon Me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14400" y="1600200"/>
            <a:ext cx="738648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bined meeting of IEEE 802.11 and B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oeing Not pres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RAN impression - 802.11 ramming interference PMD down their thro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802.11 impression - BRAN inflexi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eaders (Hayes and Kruys) still optimistic of some potential collab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4680" y="-4680"/>
            <a:ext cx="9153360" cy="6867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590920" y="685800"/>
            <a:ext cx="61246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requencies for a Common P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24040" y="2041560"/>
            <a:ext cx="322092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-N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15 to 5.25 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25 to 5.35 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75 to 5.85 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24040" y="4251240"/>
            <a:ext cx="48308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15 to 5.25 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osed 150MHz ex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67200" y="2593800"/>
            <a:ext cx="530280" cy="378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043520" y="2975040"/>
            <a:ext cx="453960" cy="301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33920" y="2651040"/>
            <a:ext cx="2081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00MHz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548320" y="4632480"/>
            <a:ext cx="21654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00MHz To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dd 150MH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4680" y="-4680"/>
            <a:ext cx="9153360" cy="6867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276720" y="762120"/>
            <a:ext cx="55818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-NII Rules/HIPERLAN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30200" y="1676520"/>
            <a:ext cx="84042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CC unlicensed National Information Infrastructure (U-NII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15GHz  &lt;100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25GHz  1-3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75GHz  &lt;5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30200" y="3886200"/>
            <a:ext cx="540720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EPT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15GHz  Dedicated to Hiper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osed 150MHz extension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4680" y="-4680"/>
            <a:ext cx="9153360" cy="6867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09680" y="5029200"/>
            <a:ext cx="37339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5613480" cy="41083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543120" y="609480"/>
            <a:ext cx="5600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802.11 St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09480" y="1295280"/>
            <a:ext cx="7772400" cy="4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802.11 Protocol E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36520" y="2279520"/>
            <a:ext cx="914400" cy="3898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19320" y="1752480"/>
            <a:ext cx="556272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89760" y="2279520"/>
            <a:ext cx="2286000" cy="3898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117880" y="1660680"/>
            <a:ext cx="760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46240" y="3429000"/>
            <a:ext cx="911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120680" y="2370240"/>
            <a:ext cx="9936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197000" y="4275000"/>
            <a:ext cx="8953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302520" y="3254400"/>
            <a:ext cx="17748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2209680"/>
            <a:ext cx="685800" cy="15228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3352680"/>
            <a:ext cx="685800" cy="15228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5029200"/>
            <a:ext cx="685800" cy="15228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2514600"/>
            <a:ext cx="30492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867280" y="4114800"/>
            <a:ext cx="30492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517840" y="6175440"/>
            <a:ext cx="834840" cy="30168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6400800"/>
            <a:ext cx="2182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on PM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4680" y="-4680"/>
            <a:ext cx="9153360" cy="6867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543120" y="533520"/>
            <a:ext cx="5600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RAN St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05000" y="5024520"/>
            <a:ext cx="3743280" cy="1152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36520" y="2279520"/>
            <a:ext cx="914400" cy="3898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89760" y="2279520"/>
            <a:ext cx="2286000" cy="3898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6240" y="3429000"/>
            <a:ext cx="911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120680" y="2370240"/>
            <a:ext cx="9936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97000" y="4275000"/>
            <a:ext cx="8953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302520" y="3254400"/>
            <a:ext cx="17748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1752480"/>
            <a:ext cx="556272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117880" y="1660680"/>
            <a:ext cx="1596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L LL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4680" y="-4680"/>
            <a:ext cx="9153360" cy="6867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93840" y="5070600"/>
            <a:ext cx="2004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D Sub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205000" y="2281320"/>
            <a:ext cx="3743280" cy="27525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lbertus Extra Bold"/>
                <a:ea typeface="Albertus Extra Bold"/>
              </a:rPr>
              <a:t>??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0720" y="1447920"/>
            <a:ext cx="130824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86600" y="144792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91320" y="144792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5680" y="144792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0400" y="144792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144792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4114800"/>
            <a:ext cx="2286000" cy="8380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48320" y="4114800"/>
            <a:ext cx="2286000" cy="8380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3962520"/>
            <a:ext cx="3808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38680" y="3962520"/>
            <a:ext cx="3808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0" y="5181480"/>
            <a:ext cx="304920" cy="3049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57400" y="4267080"/>
            <a:ext cx="687600" cy="916200"/>
          </a:xfrm>
          <a:custGeom>
            <a:avLst/>
            <a:gdLst/>
            <a:ahLst/>
            <a:rect l="0" t="0" r="r" b="b"/>
            <a:pathLst>
              <a:path fill="none" w="1910" h="2545">
                <a:moveTo>
                  <a:pt x="1061" y="2545"/>
                </a:moveTo>
                <a:lnTo>
                  <a:pt x="1008" y="2333"/>
                </a:lnTo>
                <a:lnTo>
                  <a:pt x="1008" y="2174"/>
                </a:lnTo>
                <a:lnTo>
                  <a:pt x="795" y="2068"/>
                </a:lnTo>
                <a:lnTo>
                  <a:pt x="583" y="2015"/>
                </a:lnTo>
                <a:lnTo>
                  <a:pt x="424" y="2015"/>
                </a:lnTo>
                <a:lnTo>
                  <a:pt x="106" y="1803"/>
                </a:lnTo>
                <a:lnTo>
                  <a:pt x="0" y="1644"/>
                </a:lnTo>
                <a:lnTo>
                  <a:pt x="0" y="1485"/>
                </a:lnTo>
                <a:lnTo>
                  <a:pt x="159" y="1379"/>
                </a:lnTo>
                <a:lnTo>
                  <a:pt x="318" y="1326"/>
                </a:lnTo>
                <a:lnTo>
                  <a:pt x="477" y="1060"/>
                </a:lnTo>
                <a:lnTo>
                  <a:pt x="636" y="954"/>
                </a:lnTo>
                <a:lnTo>
                  <a:pt x="742" y="742"/>
                </a:lnTo>
                <a:lnTo>
                  <a:pt x="954" y="636"/>
                </a:lnTo>
                <a:lnTo>
                  <a:pt x="1114" y="530"/>
                </a:lnTo>
                <a:lnTo>
                  <a:pt x="1273" y="477"/>
                </a:lnTo>
                <a:lnTo>
                  <a:pt x="1433" y="424"/>
                </a:lnTo>
                <a:lnTo>
                  <a:pt x="1592" y="371"/>
                </a:lnTo>
                <a:lnTo>
                  <a:pt x="1698" y="212"/>
                </a:lnTo>
                <a:lnTo>
                  <a:pt x="1804" y="53"/>
                </a:lnTo>
                <a:lnTo>
                  <a:pt x="191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46240" y="1984320"/>
            <a:ext cx="1596960" cy="1978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41520" y="1984320"/>
            <a:ext cx="301680" cy="1978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820960" y="1982880"/>
            <a:ext cx="911160" cy="1977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973240" y="1982880"/>
            <a:ext cx="2054520" cy="1977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973240" y="1982880"/>
            <a:ext cx="3349800" cy="2054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3240" y="1982880"/>
            <a:ext cx="4721400" cy="2130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74840" y="1984320"/>
            <a:ext cx="4263840" cy="2054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93800" y="1984320"/>
            <a:ext cx="3044880" cy="1978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89440" y="1984320"/>
            <a:ext cx="1901880" cy="1978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08400" y="1984320"/>
            <a:ext cx="758880" cy="1978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946840" y="1984320"/>
            <a:ext cx="530280" cy="1978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6022800" y="1984320"/>
            <a:ext cx="1901880" cy="1978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41320" y="3124080"/>
            <a:ext cx="6931080" cy="0"/>
          </a:xfrm>
          <a:prstGeom prst="line">
            <a:avLst/>
          </a:prstGeom>
          <a:ln w="76320">
            <a:solidFill>
              <a:srgbClr val="000000"/>
            </a:solidFill>
            <a:custDash>
              <a:ds d="399528" sp="399528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0880" y="1447920"/>
            <a:ext cx="1446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ellular GSM/P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nd 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828800" y="1447920"/>
            <a:ext cx="129060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MTS-WA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rd 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427560" y="1447920"/>
            <a:ext cx="7873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I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32480" y="1469880"/>
            <a:ext cx="7873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ra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I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927760" y="146988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N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223040" y="1469880"/>
            <a:ext cx="7761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-IS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270160" y="5203800"/>
            <a:ext cx="44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575080" y="3984480"/>
            <a:ext cx="49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622840" y="3984480"/>
            <a:ext cx="49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241960" y="4327560"/>
            <a:ext cx="111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A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117880" y="4327560"/>
            <a:ext cx="111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A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8120" y="3808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Gregor’s 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-4680" y="-4680"/>
            <a:ext cx="9153360" cy="6867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pplied Research &amp; Technology</dc:creator>
  <dc:description/>
  <dc:language>en-US</dc:language>
  <cp:lastModifiedBy>Applied Research &amp; Technology</cp:lastModifiedBy>
  <cp:revision>0</cp:revision>
  <dc:subject/>
  <dc:title>No Slide Title</dc:title>
</cp:coreProperties>
</file>