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Area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Study Grou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July 6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ng Compa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381312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o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e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Access Systems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erfly Communications, I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 Mel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ed Technology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5080" y="1981080"/>
            <a:ext cx="381312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c/Nor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Donnel Doug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 Media 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th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t Dis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t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, Mailing List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ftp.flexipc.com/wearablesgrou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ds-802-wpan@majordomo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3880" y="1752480"/>
            <a:ext cx="65530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Annou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PAR and 5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57400"/>
            <a:ext cx="7467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ffort was initiated about a year ago to encourage the development of “Wearables” standards, and to solicit support from the IEEE to develop the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asing adoption of wearable and handheld computing and communicating devices, and the proliferation of peripheral devices for them, has made clear the need to provide wireless conne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applications include Collaborative Maintenance, Mobile Worker, Medical Sensing, Data Synchronization, etc.  Examples of devices, which can be networked, include Computers, PDA/HPCs, printers, microphones, speakers, bar code readers, sensors, displays, Pagers, and Cellular &amp; PCS Ph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reless capability will provide functionality, efficiency, productivity and, in some cases, safety of highly mobile workers using computing and communicating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WPAN/WLA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 Need fo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warranted, draft a PAR and 5 Criteria for submittal to 802/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ek appropriate Sponsorship within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, 1997. Cleveland, OH, Request to PA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6, 1997. Nashua, NH IEEE PASC Plenar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2, 1997. Cleveland, OH Wearables Ad Hoc Committe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4-15, 1998. Memphis, TN, Wearables Ad Hoc Committe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22, 1998 Lynnwood, WA IEEE 802.11 Interi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9-13, 1998 Irvine, CA IEEE 802 Plenar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8-9, 1998 Cambridge, MA IEEE 802.11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WPAN S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4-8, 1998 Utrecht, NL IEEE 802.11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WPAN S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-21, 1998 Irving, TX IEEE 802.11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WPAN S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6-10, 1998 LaJolla, CA 802 Plenar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ed the WPAN/WLAN requir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roduced submission ref: -98/160. The WPAN will require an a new MAC &amp; PHY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d there was a need for a standard and therefore a PAR and 5 Criteria were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mitted the WPAN PAR and Five Criteria to our Sponsor ref: -98/162r6 and -98/161r3 respectively on June 3rd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that it will take two (2) years [3/98 to 3/00] to get a MAC &amp; PHY Standard, via IEEE 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WG is focused on higher bit rate PHYs than required by W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Annou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Presen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- Tim Blaney, Comm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- Simon Ellis. 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 - Rich D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ExComm and 802 Plenary on SG work since last Plenary (PAR,5 Cri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, at the opening 802.11 Plenary, that the WPAN PAR be submitted to 802 for formal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the relationship of HomeRF and Bluetooth to the work of thi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 approved, establish Appropriate Typ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ck Braley</dc:creator>
  <dc:description>Dick Braley, FedEx</dc:description>
  <dc:language>en-US</dc:language>
  <cp:lastModifiedBy>Ian C. Gifford</cp:lastModifiedBy>
  <cp:revision>0</cp:revision>
  <dc:subject>doc.: IEEE 802.11-98/248</dc:subject>
  <dc:title>IEEE 802.11 WPAN SG Report</dc:title>
</cp:coreProperties>
</file>