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4F12F8-33CF-4693-8FE5-06642AB7C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s: office, home, restaurant, theatre, hotel, airport, shopping 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 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 - thin serv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9810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taneous Proximity Networking with Piano-enabled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D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ystem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6658@email.sps.m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Distribution for Discovere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service-specific user interfaces for multiple services without pre-configuring a client for each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a service-specific user interface for newly encounter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may be downloaded on demand from the internet/intranet, from the server offering the service, or may be pre-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orola Piano team has focused on the “things you come near” aspect of short-range wireless networking (I.e., Personal Operating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 Goal: work within Bluetooth and the IEEE to standardize the Egalitarian, ad hoc networking protocols and Application Programming Inte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Pia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 code name for short-range spontaneous wirel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hort-range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are transient, formed as needed when devices come into prox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without a designated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but does not require a connection to the internet/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orola Vision for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ture in which many electronic devices (enabled with Piano)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other nearby Piano-enabl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capabilit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o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v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ano-enabl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ex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sic information about fundamental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temporary wireless networks, as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-Enable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 /Location-specific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osks - printing, information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 reduction - hotel, theater,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User Interface - thin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mak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 Features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range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devi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servi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oriented servic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oriented servic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distribution for discover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authentication/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range Wireless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ni-direc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ermits hidden, automatic operation (I.e., briefcase comp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ermits small size, portabl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ran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frequency sharing through spacial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enables ubi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 equivalent priva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rotection from eavesdropping and sp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Devic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device can detect and communicate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arby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operate as peers without the use of a central contro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can begin communicating without device-specific configuration or human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associations are tempo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Servic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users to see availabl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enough information for user to decide if further interaction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devices to automatically utilize recogniz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information on service protocols and connec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 to establish a session with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naming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iscovery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naming separate from device 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grouping and categ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notification when a requested service enters prox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support for caching of servic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discovery based on authentication/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 Ditch</dc:creator>
  <dc:description>Rich Ditch, Motorola</dc:description>
  <dc:language>en-US</dc:language>
  <cp:lastModifiedBy>Rich Ditch</cp:lastModifiedBy>
  <cp:revision>0</cp:revision>
  <dc:subject>doc.: IEEE 802.11-98/252</dc:subject>
  <dc:title>Motorola PIANO Update</dc:title>
</cp:coreProperties>
</file>