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FE7-0685-4EDA-AA7D-EAB2567C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726-4092-421F-ACC5-8EF61DFE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5FC-F743-4489-A53E-FEB5B585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813-B71A-4E5D-9CFA-2AF4A2B9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8FA-97B7-40FA-AB7F-4C89D847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BDE-9D52-481A-99B9-8415D538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348-9A72-4E49-A67A-7D21B139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797-B63E-41C5-98D5-5C9EED89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842-88C6-43C5-BD42-755C29AF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223-519C-4088-9741-5436CE4C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032-7CBC-4312-B392-F2C6F7C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8D0-D110-4FD9-809E-26588FA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C2E1EB-D5C8-4952-946B-7F7773C14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8/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MA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panese Standard 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ahiro Morik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, 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938-5069-4707-97D9-2A19008F26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4572000"/>
            <a:ext cx="190476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SI B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572000"/>
            <a:ext cx="190512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802.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9880"/>
            <a:ext cx="1905120" cy="83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251460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Hz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51460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Hz Ethe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67652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Hz/60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1394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523880"/>
            <a:ext cx="5257800" cy="213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295280"/>
            <a:ext cx="9903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3280" y="12952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1600200"/>
            <a:ext cx="2666880" cy="243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0" y="2057400"/>
            <a:ext cx="685800" cy="457200"/>
            <a:chOff x="6858000" y="2057400"/>
            <a:chExt cx="685800" cy="457200"/>
          </a:xfrm>
        </p:grpSpPr>
        <p:sp>
          <p:nvSpPr>
            <p:cNvPr id="58" name=""/>
            <p:cNvSpPr/>
            <p:nvPr/>
          </p:nvSpPr>
          <p:spPr>
            <a:xfrm>
              <a:off x="6858000" y="2057400"/>
              <a:ext cx="6858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4800" y="217008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96080" y="2057400"/>
            <a:ext cx="685800" cy="390600"/>
            <a:chOff x="7696080" y="2057400"/>
            <a:chExt cx="685800" cy="390600"/>
          </a:xfrm>
        </p:grpSpPr>
        <p:sp>
          <p:nvSpPr>
            <p:cNvPr id="61" name=""/>
            <p:cNvSpPr/>
            <p:nvPr/>
          </p:nvSpPr>
          <p:spPr>
            <a:xfrm>
              <a:off x="7696080" y="2057400"/>
              <a:ext cx="685800" cy="390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33240" y="21430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400800" y="2666880"/>
            <a:ext cx="990720" cy="457200"/>
            <a:chOff x="6400800" y="2666880"/>
            <a:chExt cx="990720" cy="457200"/>
          </a:xfrm>
        </p:grpSpPr>
        <p:sp>
          <p:nvSpPr>
            <p:cNvPr id="64" name=""/>
            <p:cNvSpPr/>
            <p:nvPr/>
          </p:nvSpPr>
          <p:spPr>
            <a:xfrm>
              <a:off x="6400800" y="2666880"/>
              <a:ext cx="99072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39400" y="2779560"/>
              <a:ext cx="76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T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934320" y="3429000"/>
            <a:ext cx="1371600" cy="459000"/>
            <a:chOff x="6934320" y="3429000"/>
            <a:chExt cx="1371600" cy="459000"/>
          </a:xfrm>
        </p:grpSpPr>
        <p:sp>
          <p:nvSpPr>
            <p:cNvPr id="67" name=""/>
            <p:cNvSpPr/>
            <p:nvPr/>
          </p:nvSpPr>
          <p:spPr>
            <a:xfrm>
              <a:off x="6934320" y="3429000"/>
              <a:ext cx="13716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1120" y="3429000"/>
              <a:ext cx="10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4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reless 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086600" y="1447920"/>
            <a:ext cx="9907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41040" y="14479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05120" y="312408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3276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20120" y="2666880"/>
            <a:ext cx="1063080" cy="459000"/>
            <a:chOff x="7620120" y="2666880"/>
            <a:chExt cx="1063080" cy="459000"/>
          </a:xfrm>
        </p:grpSpPr>
        <p:sp>
          <p:nvSpPr>
            <p:cNvPr id="76" name=""/>
            <p:cNvSpPr/>
            <p:nvPr/>
          </p:nvSpPr>
          <p:spPr>
            <a:xfrm>
              <a:off x="7620120" y="2666880"/>
              <a:ext cx="99036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99320" y="2666880"/>
              <a:ext cx="98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git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roadca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85800" y="182880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High Sp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LAN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0-60G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514600"/>
            <a:ext cx="129564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Acces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5G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123720" y="228600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2860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66A-0F27-4D4A-A9A5-878A30FDC0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9T12:16:10Z</dcterms:created>
  <dc:creator>morikura</dc:creator>
  <dc:description/>
  <dc:language>en-US</dc:language>
  <cp:lastModifiedBy>morikura</cp:lastModifiedBy>
  <cp:lastPrinted>1998-02-10T13:28:06Z</cp:lastPrinted>
  <dcterms:modified xsi:type="dcterms:W3CDTF">1998-07-09T16:54:02Z</dcterms:modified>
  <cp:revision>6</cp:revision>
  <dc:subject/>
  <dc:title>ｽﾗｲﾄﾞ ﾀｲﾄﾙなし</dc:title>
</cp:coreProperties>
</file>