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77F1-63F2-4D9B-B20C-7C80AB52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C87-D476-40C8-A904-235FC8EC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32DF-931E-40CE-B10A-4F5DFEED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14B0-9FB3-43E2-939D-53896CC5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C9C9-7363-480D-BFA3-C1ADC189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347B-9681-47A4-A6B0-2DF97287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32AD-3575-491C-B957-C28CA01F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32A3-B61A-427F-B6EC-D7642D4A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24B7-CDFD-4D6E-88CF-194A89F4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B6F8-3B77-4F33-8143-EF0EC185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C898-566C-4B88-9229-946CE45B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137F-A59F-4ACF-AC73-483A69F8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8FD0CA1-AC71-457A-A760-D98706743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98/2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Outline of Draft Standard for 5 GH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37339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itoshi Takanashi, Masahiro Morikura, Richard van N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Lucent + N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DD98-1255-4E37-8756-C084F722D1F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Cyclic Ex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aised cosine window to reduce out band power (roll off factor : 0.02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52280" y="3657600"/>
            <a:ext cx="8610840" cy="1889280"/>
            <a:chOff x="152280" y="3657600"/>
            <a:chExt cx="8610840" cy="1889280"/>
          </a:xfrm>
        </p:grpSpPr>
        <p:sp>
          <p:nvSpPr>
            <p:cNvPr id="77" name=""/>
            <p:cNvSpPr/>
            <p:nvPr/>
          </p:nvSpPr>
          <p:spPr>
            <a:xfrm>
              <a:off x="192960" y="5088600"/>
              <a:ext cx="8509680" cy="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00240" y="4314240"/>
              <a:ext cx="1519920" cy="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02920" y="3657600"/>
              <a:ext cx="738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T</a:t>
              </a:r>
              <a:r>
                <a:rPr b="0" i="1" lang="en-US" sz="1400" spc="-1" strike="noStrike" baseline="-25000">
                  <a:solidFill>
                    <a:srgbClr val="000000"/>
                  </a:solidFill>
                  <a:latin typeface="Century"/>
                  <a:ea typeface="ＭＳ 明朝"/>
                </a:rPr>
                <a:t>s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=T+T</a:t>
              </a:r>
              <a:r>
                <a:rPr b="0" i="1" lang="en-US" sz="1400" spc="-1" strike="noStrike" baseline="-25000">
                  <a:solidFill>
                    <a:srgbClr val="000000"/>
                  </a:solidFill>
                  <a:latin typeface="Century"/>
                  <a:ea typeface="ＭＳ 明朝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87200" y="5189760"/>
              <a:ext cx="506880" cy="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88360" y="5299200"/>
              <a:ext cx="3402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4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 </a:t>
              </a:r>
              <a:r>
                <a:rPr b="0" i="1" lang="ja-JP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i="1" lang="ja-JP" sz="14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 </a:t>
              </a:r>
              <a:r>
                <a:rPr b="0" i="1" lang="ja-JP" sz="14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" y="4533120"/>
              <a:ext cx="3242160" cy="558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3"/>
                  </a:moveTo>
                  <a:lnTo>
                    <a:pt x="234" y="19810"/>
                  </a:lnTo>
                  <a:lnTo>
                    <a:pt x="434" y="19238"/>
                  </a:lnTo>
                  <a:lnTo>
                    <a:pt x="625" y="18259"/>
                  </a:lnTo>
                  <a:lnTo>
                    <a:pt x="864" y="17061"/>
                  </a:lnTo>
                  <a:lnTo>
                    <a:pt x="1059" y="15537"/>
                  </a:lnTo>
                  <a:lnTo>
                    <a:pt x="1250" y="13823"/>
                  </a:lnTo>
                  <a:lnTo>
                    <a:pt x="1493" y="11973"/>
                  </a:lnTo>
                  <a:lnTo>
                    <a:pt x="1679" y="10014"/>
                  </a:lnTo>
                  <a:lnTo>
                    <a:pt x="1875" y="8027"/>
                  </a:lnTo>
                  <a:lnTo>
                    <a:pt x="2113" y="6177"/>
                  </a:lnTo>
                  <a:lnTo>
                    <a:pt x="2309" y="4463"/>
                  </a:lnTo>
                  <a:lnTo>
                    <a:pt x="2495" y="2939"/>
                  </a:lnTo>
                  <a:lnTo>
                    <a:pt x="2738" y="1714"/>
                  </a:lnTo>
                  <a:lnTo>
                    <a:pt x="2929" y="762"/>
                  </a:lnTo>
                  <a:lnTo>
                    <a:pt x="3124" y="190"/>
                  </a:lnTo>
                  <a:lnTo>
                    <a:pt x="3363" y="0"/>
                  </a:lnTo>
                  <a:lnTo>
                    <a:pt x="3554" y="0"/>
                  </a:lnTo>
                  <a:lnTo>
                    <a:pt x="3745" y="0"/>
                  </a:lnTo>
                  <a:lnTo>
                    <a:pt x="3988" y="0"/>
                  </a:lnTo>
                  <a:lnTo>
                    <a:pt x="4179" y="0"/>
                  </a:lnTo>
                  <a:lnTo>
                    <a:pt x="4374" y="0"/>
                  </a:lnTo>
                  <a:lnTo>
                    <a:pt x="4617" y="0"/>
                  </a:lnTo>
                  <a:lnTo>
                    <a:pt x="4804" y="0"/>
                  </a:lnTo>
                  <a:lnTo>
                    <a:pt x="4995" y="0"/>
                  </a:lnTo>
                  <a:lnTo>
                    <a:pt x="5238" y="0"/>
                  </a:lnTo>
                  <a:lnTo>
                    <a:pt x="5424" y="0"/>
                  </a:lnTo>
                  <a:lnTo>
                    <a:pt x="5624" y="0"/>
                  </a:lnTo>
                  <a:lnTo>
                    <a:pt x="5867" y="0"/>
                  </a:lnTo>
                  <a:lnTo>
                    <a:pt x="6053" y="0"/>
                  </a:lnTo>
                  <a:lnTo>
                    <a:pt x="6244" y="0"/>
                  </a:lnTo>
                  <a:lnTo>
                    <a:pt x="6483" y="0"/>
                  </a:lnTo>
                  <a:lnTo>
                    <a:pt x="6683" y="0"/>
                  </a:lnTo>
                  <a:lnTo>
                    <a:pt x="6874" y="0"/>
                  </a:lnTo>
                  <a:lnTo>
                    <a:pt x="7117" y="0"/>
                  </a:lnTo>
                  <a:lnTo>
                    <a:pt x="7299" y="0"/>
                  </a:lnTo>
                  <a:lnTo>
                    <a:pt x="7490" y="0"/>
                  </a:lnTo>
                  <a:lnTo>
                    <a:pt x="7733" y="0"/>
                  </a:lnTo>
                  <a:lnTo>
                    <a:pt x="7932" y="0"/>
                  </a:lnTo>
                  <a:lnTo>
                    <a:pt x="8123" y="0"/>
                  </a:lnTo>
                  <a:lnTo>
                    <a:pt x="8362" y="0"/>
                  </a:lnTo>
                  <a:lnTo>
                    <a:pt x="8548" y="0"/>
                  </a:lnTo>
                  <a:lnTo>
                    <a:pt x="8748" y="0"/>
                  </a:lnTo>
                  <a:lnTo>
                    <a:pt x="8982" y="0"/>
                  </a:lnTo>
                  <a:lnTo>
                    <a:pt x="9178" y="0"/>
                  </a:lnTo>
                  <a:lnTo>
                    <a:pt x="9369" y="0"/>
                  </a:lnTo>
                  <a:lnTo>
                    <a:pt x="9612" y="0"/>
                  </a:lnTo>
                  <a:lnTo>
                    <a:pt x="9798" y="0"/>
                  </a:lnTo>
                  <a:lnTo>
                    <a:pt x="10002" y="0"/>
                  </a:lnTo>
                  <a:lnTo>
                    <a:pt x="10236" y="0"/>
                  </a:lnTo>
                  <a:lnTo>
                    <a:pt x="10432" y="0"/>
                  </a:lnTo>
                  <a:lnTo>
                    <a:pt x="10623" y="0"/>
                  </a:lnTo>
                  <a:lnTo>
                    <a:pt x="10818" y="0"/>
                  </a:lnTo>
                  <a:lnTo>
                    <a:pt x="11052" y="0"/>
                  </a:lnTo>
                  <a:lnTo>
                    <a:pt x="11248" y="0"/>
                  </a:lnTo>
                  <a:lnTo>
                    <a:pt x="11438" y="0"/>
                  </a:lnTo>
                  <a:lnTo>
                    <a:pt x="11681" y="0"/>
                  </a:lnTo>
                  <a:lnTo>
                    <a:pt x="11872" y="0"/>
                  </a:lnTo>
                  <a:lnTo>
                    <a:pt x="12063" y="0"/>
                  </a:lnTo>
                  <a:lnTo>
                    <a:pt x="12298" y="0"/>
                  </a:lnTo>
                  <a:lnTo>
                    <a:pt x="12497" y="0"/>
                  </a:lnTo>
                  <a:lnTo>
                    <a:pt x="12697" y="0"/>
                  </a:lnTo>
                  <a:lnTo>
                    <a:pt x="12931" y="0"/>
                  </a:lnTo>
                  <a:lnTo>
                    <a:pt x="13118" y="0"/>
                  </a:lnTo>
                  <a:lnTo>
                    <a:pt x="13313" y="0"/>
                  </a:lnTo>
                  <a:lnTo>
                    <a:pt x="13547" y="0"/>
                  </a:lnTo>
                  <a:lnTo>
                    <a:pt x="13747" y="0"/>
                  </a:lnTo>
                  <a:lnTo>
                    <a:pt x="13942" y="0"/>
                  </a:lnTo>
                  <a:lnTo>
                    <a:pt x="14177" y="0"/>
                  </a:lnTo>
                  <a:lnTo>
                    <a:pt x="14368" y="0"/>
                  </a:lnTo>
                  <a:lnTo>
                    <a:pt x="14563" y="0"/>
                  </a:lnTo>
                  <a:lnTo>
                    <a:pt x="14806" y="0"/>
                  </a:lnTo>
                  <a:lnTo>
                    <a:pt x="14992" y="0"/>
                  </a:lnTo>
                  <a:lnTo>
                    <a:pt x="15192" y="0"/>
                  </a:lnTo>
                  <a:lnTo>
                    <a:pt x="15426" y="0"/>
                  </a:lnTo>
                  <a:lnTo>
                    <a:pt x="15626" y="0"/>
                  </a:lnTo>
                  <a:lnTo>
                    <a:pt x="15808" y="0"/>
                  </a:lnTo>
                  <a:lnTo>
                    <a:pt x="16051" y="0"/>
                  </a:lnTo>
                  <a:lnTo>
                    <a:pt x="16242" y="0"/>
                  </a:lnTo>
                  <a:lnTo>
                    <a:pt x="16442" y="0"/>
                  </a:lnTo>
                  <a:lnTo>
                    <a:pt x="16676" y="0"/>
                  </a:lnTo>
                  <a:lnTo>
                    <a:pt x="16871" y="190"/>
                  </a:lnTo>
                  <a:lnTo>
                    <a:pt x="17058" y="762"/>
                  </a:lnTo>
                  <a:lnTo>
                    <a:pt x="17301" y="1714"/>
                  </a:lnTo>
                  <a:lnTo>
                    <a:pt x="17492" y="2939"/>
                  </a:lnTo>
                  <a:lnTo>
                    <a:pt x="17687" y="4463"/>
                  </a:lnTo>
                  <a:lnTo>
                    <a:pt x="17921" y="6177"/>
                  </a:lnTo>
                  <a:lnTo>
                    <a:pt x="18121" y="8027"/>
                  </a:lnTo>
                  <a:lnTo>
                    <a:pt x="18308" y="10014"/>
                  </a:lnTo>
                  <a:lnTo>
                    <a:pt x="18551" y="11973"/>
                  </a:lnTo>
                  <a:lnTo>
                    <a:pt x="18746" y="13823"/>
                  </a:lnTo>
                  <a:lnTo>
                    <a:pt x="18937" y="15537"/>
                  </a:lnTo>
                  <a:lnTo>
                    <a:pt x="19171" y="17061"/>
                  </a:lnTo>
                  <a:lnTo>
                    <a:pt x="19371" y="18259"/>
                  </a:lnTo>
                  <a:lnTo>
                    <a:pt x="19557" y="19238"/>
                  </a:lnTo>
                  <a:lnTo>
                    <a:pt x="19796" y="19810"/>
                  </a:lnTo>
                  <a:lnTo>
                    <a:pt x="19996" y="19973"/>
                  </a:lnTo>
                </a:path>
              </a:pathLst>
            </a:custGeom>
            <a:noFill/>
            <a:ln w="10080">
              <a:solidFill>
                <a:srgbClr val="0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28160" y="4533120"/>
              <a:ext cx="3242160" cy="558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3"/>
                  </a:moveTo>
                  <a:lnTo>
                    <a:pt x="234" y="19810"/>
                  </a:lnTo>
                  <a:lnTo>
                    <a:pt x="434" y="19238"/>
                  </a:lnTo>
                  <a:lnTo>
                    <a:pt x="625" y="18259"/>
                  </a:lnTo>
                  <a:lnTo>
                    <a:pt x="864" y="17061"/>
                  </a:lnTo>
                  <a:lnTo>
                    <a:pt x="1059" y="15537"/>
                  </a:lnTo>
                  <a:lnTo>
                    <a:pt x="1250" y="13823"/>
                  </a:lnTo>
                  <a:lnTo>
                    <a:pt x="1493" y="11973"/>
                  </a:lnTo>
                  <a:lnTo>
                    <a:pt x="1679" y="10014"/>
                  </a:lnTo>
                  <a:lnTo>
                    <a:pt x="1875" y="8027"/>
                  </a:lnTo>
                  <a:lnTo>
                    <a:pt x="2113" y="6177"/>
                  </a:lnTo>
                  <a:lnTo>
                    <a:pt x="2309" y="4463"/>
                  </a:lnTo>
                  <a:lnTo>
                    <a:pt x="2495" y="2939"/>
                  </a:lnTo>
                  <a:lnTo>
                    <a:pt x="2738" y="1714"/>
                  </a:lnTo>
                  <a:lnTo>
                    <a:pt x="2929" y="762"/>
                  </a:lnTo>
                  <a:lnTo>
                    <a:pt x="3124" y="190"/>
                  </a:lnTo>
                  <a:lnTo>
                    <a:pt x="3363" y="0"/>
                  </a:lnTo>
                  <a:lnTo>
                    <a:pt x="3554" y="0"/>
                  </a:lnTo>
                  <a:lnTo>
                    <a:pt x="3745" y="0"/>
                  </a:lnTo>
                  <a:lnTo>
                    <a:pt x="3988" y="0"/>
                  </a:lnTo>
                  <a:lnTo>
                    <a:pt x="4179" y="0"/>
                  </a:lnTo>
                  <a:lnTo>
                    <a:pt x="4374" y="0"/>
                  </a:lnTo>
                  <a:lnTo>
                    <a:pt x="4617" y="0"/>
                  </a:lnTo>
                  <a:lnTo>
                    <a:pt x="4804" y="0"/>
                  </a:lnTo>
                  <a:lnTo>
                    <a:pt x="4995" y="0"/>
                  </a:lnTo>
                  <a:lnTo>
                    <a:pt x="5238" y="0"/>
                  </a:lnTo>
                  <a:lnTo>
                    <a:pt x="5424" y="0"/>
                  </a:lnTo>
                  <a:lnTo>
                    <a:pt x="5624" y="0"/>
                  </a:lnTo>
                  <a:lnTo>
                    <a:pt x="5867" y="0"/>
                  </a:lnTo>
                  <a:lnTo>
                    <a:pt x="6053" y="0"/>
                  </a:lnTo>
                  <a:lnTo>
                    <a:pt x="6244" y="0"/>
                  </a:lnTo>
                  <a:lnTo>
                    <a:pt x="6483" y="0"/>
                  </a:lnTo>
                  <a:lnTo>
                    <a:pt x="6683" y="0"/>
                  </a:lnTo>
                  <a:lnTo>
                    <a:pt x="6874" y="0"/>
                  </a:lnTo>
                  <a:lnTo>
                    <a:pt x="7117" y="0"/>
                  </a:lnTo>
                  <a:lnTo>
                    <a:pt x="7299" y="0"/>
                  </a:lnTo>
                  <a:lnTo>
                    <a:pt x="7490" y="0"/>
                  </a:lnTo>
                  <a:lnTo>
                    <a:pt x="7733" y="0"/>
                  </a:lnTo>
                  <a:lnTo>
                    <a:pt x="7932" y="0"/>
                  </a:lnTo>
                  <a:lnTo>
                    <a:pt x="8123" y="0"/>
                  </a:lnTo>
                  <a:lnTo>
                    <a:pt x="8362" y="0"/>
                  </a:lnTo>
                  <a:lnTo>
                    <a:pt x="8548" y="0"/>
                  </a:lnTo>
                  <a:lnTo>
                    <a:pt x="8748" y="0"/>
                  </a:lnTo>
                  <a:lnTo>
                    <a:pt x="8982" y="0"/>
                  </a:lnTo>
                  <a:lnTo>
                    <a:pt x="9178" y="0"/>
                  </a:lnTo>
                  <a:lnTo>
                    <a:pt x="9369" y="0"/>
                  </a:lnTo>
                  <a:lnTo>
                    <a:pt x="9612" y="0"/>
                  </a:lnTo>
                  <a:lnTo>
                    <a:pt x="9798" y="0"/>
                  </a:lnTo>
                  <a:lnTo>
                    <a:pt x="10002" y="0"/>
                  </a:lnTo>
                  <a:lnTo>
                    <a:pt x="10236" y="0"/>
                  </a:lnTo>
                  <a:lnTo>
                    <a:pt x="10432" y="0"/>
                  </a:lnTo>
                  <a:lnTo>
                    <a:pt x="10623" y="0"/>
                  </a:lnTo>
                  <a:lnTo>
                    <a:pt x="10818" y="0"/>
                  </a:lnTo>
                  <a:lnTo>
                    <a:pt x="11052" y="0"/>
                  </a:lnTo>
                  <a:lnTo>
                    <a:pt x="11248" y="0"/>
                  </a:lnTo>
                  <a:lnTo>
                    <a:pt x="11438" y="0"/>
                  </a:lnTo>
                  <a:lnTo>
                    <a:pt x="11681" y="0"/>
                  </a:lnTo>
                  <a:lnTo>
                    <a:pt x="11872" y="0"/>
                  </a:lnTo>
                  <a:lnTo>
                    <a:pt x="12063" y="0"/>
                  </a:lnTo>
                  <a:lnTo>
                    <a:pt x="12298" y="0"/>
                  </a:lnTo>
                  <a:lnTo>
                    <a:pt x="12497" y="0"/>
                  </a:lnTo>
                  <a:lnTo>
                    <a:pt x="12697" y="0"/>
                  </a:lnTo>
                  <a:lnTo>
                    <a:pt x="12931" y="0"/>
                  </a:lnTo>
                  <a:lnTo>
                    <a:pt x="13118" y="0"/>
                  </a:lnTo>
                  <a:lnTo>
                    <a:pt x="13313" y="0"/>
                  </a:lnTo>
                  <a:lnTo>
                    <a:pt x="13547" y="0"/>
                  </a:lnTo>
                  <a:lnTo>
                    <a:pt x="13747" y="0"/>
                  </a:lnTo>
                  <a:lnTo>
                    <a:pt x="13942" y="0"/>
                  </a:lnTo>
                  <a:lnTo>
                    <a:pt x="14177" y="0"/>
                  </a:lnTo>
                  <a:lnTo>
                    <a:pt x="14368" y="0"/>
                  </a:lnTo>
                  <a:lnTo>
                    <a:pt x="14563" y="0"/>
                  </a:lnTo>
                  <a:lnTo>
                    <a:pt x="14806" y="0"/>
                  </a:lnTo>
                  <a:lnTo>
                    <a:pt x="14992" y="0"/>
                  </a:lnTo>
                  <a:lnTo>
                    <a:pt x="15192" y="0"/>
                  </a:lnTo>
                  <a:lnTo>
                    <a:pt x="15426" y="0"/>
                  </a:lnTo>
                  <a:lnTo>
                    <a:pt x="15626" y="0"/>
                  </a:lnTo>
                  <a:lnTo>
                    <a:pt x="15808" y="0"/>
                  </a:lnTo>
                  <a:lnTo>
                    <a:pt x="16051" y="0"/>
                  </a:lnTo>
                  <a:lnTo>
                    <a:pt x="16242" y="0"/>
                  </a:lnTo>
                  <a:lnTo>
                    <a:pt x="16442" y="0"/>
                  </a:lnTo>
                  <a:lnTo>
                    <a:pt x="16676" y="0"/>
                  </a:lnTo>
                  <a:lnTo>
                    <a:pt x="16871" y="190"/>
                  </a:lnTo>
                  <a:lnTo>
                    <a:pt x="17058" y="762"/>
                  </a:lnTo>
                  <a:lnTo>
                    <a:pt x="17301" y="1714"/>
                  </a:lnTo>
                  <a:lnTo>
                    <a:pt x="17492" y="2939"/>
                  </a:lnTo>
                  <a:lnTo>
                    <a:pt x="17687" y="4463"/>
                  </a:lnTo>
                  <a:lnTo>
                    <a:pt x="17921" y="6177"/>
                  </a:lnTo>
                  <a:lnTo>
                    <a:pt x="18121" y="8027"/>
                  </a:lnTo>
                  <a:lnTo>
                    <a:pt x="18308" y="10014"/>
                  </a:lnTo>
                  <a:lnTo>
                    <a:pt x="18551" y="11973"/>
                  </a:lnTo>
                  <a:lnTo>
                    <a:pt x="18746" y="13823"/>
                  </a:lnTo>
                  <a:lnTo>
                    <a:pt x="18937" y="15537"/>
                  </a:lnTo>
                  <a:lnTo>
                    <a:pt x="19171" y="17061"/>
                  </a:lnTo>
                  <a:lnTo>
                    <a:pt x="19371" y="18259"/>
                  </a:lnTo>
                  <a:lnTo>
                    <a:pt x="19557" y="19238"/>
                  </a:lnTo>
                  <a:lnTo>
                    <a:pt x="19796" y="19810"/>
                  </a:lnTo>
                  <a:lnTo>
                    <a:pt x="19996" y="19973"/>
                  </a:lnTo>
                </a:path>
              </a:pathLst>
            </a:custGeom>
            <a:noFill/>
            <a:ln w="10080">
              <a:solidFill>
                <a:srgbClr val="0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20960" y="4533120"/>
              <a:ext cx="3242160" cy="558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3"/>
                  </a:moveTo>
                  <a:lnTo>
                    <a:pt x="234" y="19810"/>
                  </a:lnTo>
                  <a:lnTo>
                    <a:pt x="434" y="19238"/>
                  </a:lnTo>
                  <a:lnTo>
                    <a:pt x="625" y="18259"/>
                  </a:lnTo>
                  <a:lnTo>
                    <a:pt x="864" y="17061"/>
                  </a:lnTo>
                  <a:lnTo>
                    <a:pt x="1059" y="15537"/>
                  </a:lnTo>
                  <a:lnTo>
                    <a:pt x="1250" y="13823"/>
                  </a:lnTo>
                  <a:lnTo>
                    <a:pt x="1493" y="11973"/>
                  </a:lnTo>
                  <a:lnTo>
                    <a:pt x="1679" y="10014"/>
                  </a:lnTo>
                  <a:lnTo>
                    <a:pt x="1875" y="8027"/>
                  </a:lnTo>
                  <a:lnTo>
                    <a:pt x="2113" y="6177"/>
                  </a:lnTo>
                  <a:lnTo>
                    <a:pt x="2309" y="4463"/>
                  </a:lnTo>
                  <a:lnTo>
                    <a:pt x="2495" y="2939"/>
                  </a:lnTo>
                  <a:lnTo>
                    <a:pt x="2738" y="1714"/>
                  </a:lnTo>
                  <a:lnTo>
                    <a:pt x="2929" y="762"/>
                  </a:lnTo>
                  <a:lnTo>
                    <a:pt x="3124" y="190"/>
                  </a:lnTo>
                  <a:lnTo>
                    <a:pt x="3363" y="0"/>
                  </a:lnTo>
                  <a:lnTo>
                    <a:pt x="3554" y="0"/>
                  </a:lnTo>
                  <a:lnTo>
                    <a:pt x="3745" y="0"/>
                  </a:lnTo>
                  <a:lnTo>
                    <a:pt x="3988" y="0"/>
                  </a:lnTo>
                  <a:lnTo>
                    <a:pt x="4179" y="0"/>
                  </a:lnTo>
                  <a:lnTo>
                    <a:pt x="4374" y="0"/>
                  </a:lnTo>
                  <a:lnTo>
                    <a:pt x="4617" y="0"/>
                  </a:lnTo>
                  <a:lnTo>
                    <a:pt x="4804" y="0"/>
                  </a:lnTo>
                  <a:lnTo>
                    <a:pt x="4995" y="0"/>
                  </a:lnTo>
                  <a:lnTo>
                    <a:pt x="5238" y="0"/>
                  </a:lnTo>
                  <a:lnTo>
                    <a:pt x="5424" y="0"/>
                  </a:lnTo>
                  <a:lnTo>
                    <a:pt x="5624" y="0"/>
                  </a:lnTo>
                  <a:lnTo>
                    <a:pt x="5867" y="0"/>
                  </a:lnTo>
                  <a:lnTo>
                    <a:pt x="6053" y="0"/>
                  </a:lnTo>
                  <a:lnTo>
                    <a:pt x="6244" y="0"/>
                  </a:lnTo>
                  <a:lnTo>
                    <a:pt x="6483" y="0"/>
                  </a:lnTo>
                  <a:lnTo>
                    <a:pt x="6683" y="0"/>
                  </a:lnTo>
                  <a:lnTo>
                    <a:pt x="6874" y="0"/>
                  </a:lnTo>
                  <a:lnTo>
                    <a:pt x="7117" y="0"/>
                  </a:lnTo>
                  <a:lnTo>
                    <a:pt x="7299" y="0"/>
                  </a:lnTo>
                  <a:lnTo>
                    <a:pt x="7490" y="0"/>
                  </a:lnTo>
                  <a:lnTo>
                    <a:pt x="7733" y="0"/>
                  </a:lnTo>
                  <a:lnTo>
                    <a:pt x="7932" y="0"/>
                  </a:lnTo>
                  <a:lnTo>
                    <a:pt x="8123" y="0"/>
                  </a:lnTo>
                  <a:lnTo>
                    <a:pt x="8362" y="0"/>
                  </a:lnTo>
                  <a:lnTo>
                    <a:pt x="8548" y="0"/>
                  </a:lnTo>
                  <a:lnTo>
                    <a:pt x="8748" y="0"/>
                  </a:lnTo>
                  <a:lnTo>
                    <a:pt x="8982" y="0"/>
                  </a:lnTo>
                  <a:lnTo>
                    <a:pt x="9178" y="0"/>
                  </a:lnTo>
                  <a:lnTo>
                    <a:pt x="9369" y="0"/>
                  </a:lnTo>
                  <a:lnTo>
                    <a:pt x="9612" y="0"/>
                  </a:lnTo>
                  <a:lnTo>
                    <a:pt x="9798" y="0"/>
                  </a:lnTo>
                  <a:lnTo>
                    <a:pt x="10002" y="0"/>
                  </a:lnTo>
                  <a:lnTo>
                    <a:pt x="10236" y="0"/>
                  </a:lnTo>
                  <a:lnTo>
                    <a:pt x="10432" y="0"/>
                  </a:lnTo>
                  <a:lnTo>
                    <a:pt x="10623" y="0"/>
                  </a:lnTo>
                  <a:lnTo>
                    <a:pt x="10818" y="0"/>
                  </a:lnTo>
                  <a:lnTo>
                    <a:pt x="11052" y="0"/>
                  </a:lnTo>
                  <a:lnTo>
                    <a:pt x="11248" y="0"/>
                  </a:lnTo>
                  <a:lnTo>
                    <a:pt x="11438" y="0"/>
                  </a:lnTo>
                  <a:lnTo>
                    <a:pt x="11681" y="0"/>
                  </a:lnTo>
                  <a:lnTo>
                    <a:pt x="11872" y="0"/>
                  </a:lnTo>
                  <a:lnTo>
                    <a:pt x="12063" y="0"/>
                  </a:lnTo>
                  <a:lnTo>
                    <a:pt x="12298" y="0"/>
                  </a:lnTo>
                  <a:lnTo>
                    <a:pt x="12497" y="0"/>
                  </a:lnTo>
                  <a:lnTo>
                    <a:pt x="12697" y="0"/>
                  </a:lnTo>
                  <a:lnTo>
                    <a:pt x="12931" y="0"/>
                  </a:lnTo>
                  <a:lnTo>
                    <a:pt x="13118" y="0"/>
                  </a:lnTo>
                  <a:lnTo>
                    <a:pt x="13313" y="0"/>
                  </a:lnTo>
                  <a:lnTo>
                    <a:pt x="13547" y="0"/>
                  </a:lnTo>
                  <a:lnTo>
                    <a:pt x="13747" y="0"/>
                  </a:lnTo>
                  <a:lnTo>
                    <a:pt x="13942" y="0"/>
                  </a:lnTo>
                  <a:lnTo>
                    <a:pt x="14177" y="0"/>
                  </a:lnTo>
                  <a:lnTo>
                    <a:pt x="14368" y="0"/>
                  </a:lnTo>
                  <a:lnTo>
                    <a:pt x="14563" y="0"/>
                  </a:lnTo>
                  <a:lnTo>
                    <a:pt x="14806" y="0"/>
                  </a:lnTo>
                  <a:lnTo>
                    <a:pt x="14992" y="0"/>
                  </a:lnTo>
                  <a:lnTo>
                    <a:pt x="15192" y="0"/>
                  </a:lnTo>
                  <a:lnTo>
                    <a:pt x="15426" y="0"/>
                  </a:lnTo>
                  <a:lnTo>
                    <a:pt x="15626" y="0"/>
                  </a:lnTo>
                  <a:lnTo>
                    <a:pt x="15808" y="0"/>
                  </a:lnTo>
                  <a:lnTo>
                    <a:pt x="16051" y="0"/>
                  </a:lnTo>
                  <a:lnTo>
                    <a:pt x="16242" y="0"/>
                  </a:lnTo>
                  <a:lnTo>
                    <a:pt x="16442" y="0"/>
                  </a:lnTo>
                  <a:lnTo>
                    <a:pt x="16676" y="0"/>
                  </a:lnTo>
                  <a:lnTo>
                    <a:pt x="16871" y="190"/>
                  </a:lnTo>
                  <a:lnTo>
                    <a:pt x="17058" y="762"/>
                  </a:lnTo>
                  <a:lnTo>
                    <a:pt x="17301" y="1714"/>
                  </a:lnTo>
                  <a:lnTo>
                    <a:pt x="17492" y="2939"/>
                  </a:lnTo>
                  <a:lnTo>
                    <a:pt x="17687" y="4463"/>
                  </a:lnTo>
                  <a:lnTo>
                    <a:pt x="17921" y="6177"/>
                  </a:lnTo>
                  <a:lnTo>
                    <a:pt x="18121" y="8027"/>
                  </a:lnTo>
                  <a:lnTo>
                    <a:pt x="18308" y="10014"/>
                  </a:lnTo>
                  <a:lnTo>
                    <a:pt x="18551" y="11973"/>
                  </a:lnTo>
                  <a:lnTo>
                    <a:pt x="18746" y="13823"/>
                  </a:lnTo>
                  <a:lnTo>
                    <a:pt x="18937" y="15537"/>
                  </a:lnTo>
                  <a:lnTo>
                    <a:pt x="19171" y="17061"/>
                  </a:lnTo>
                  <a:lnTo>
                    <a:pt x="19371" y="18259"/>
                  </a:lnTo>
                  <a:lnTo>
                    <a:pt x="19557" y="19238"/>
                  </a:lnTo>
                  <a:lnTo>
                    <a:pt x="19796" y="19810"/>
                  </a:lnTo>
                  <a:lnTo>
                    <a:pt x="19996" y="19973"/>
                  </a:lnTo>
                </a:path>
              </a:pathLst>
            </a:custGeom>
            <a:noFill/>
            <a:ln w="10080">
              <a:solidFill>
                <a:srgbClr val="0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96920" y="4314240"/>
              <a:ext cx="1003680" cy="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19800" y="4314240"/>
              <a:ext cx="614520" cy="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20280" y="4058640"/>
              <a:ext cx="389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20960" y="4058640"/>
              <a:ext cx="506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4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T</a:t>
              </a:r>
              <a:r>
                <a:rPr b="0" i="1" lang="ja-JP" sz="1400" spc="-1" strike="noStrike" baseline="-25000">
                  <a:solidFill>
                    <a:srgbClr val="000000"/>
                  </a:solidFill>
                  <a:latin typeface="Century"/>
                  <a:ea typeface="ＭＳ 明朝"/>
                </a:rPr>
                <a:t>postfi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89880" y="4058640"/>
              <a:ext cx="506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4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T</a:t>
              </a:r>
              <a:r>
                <a:rPr b="0" i="1" lang="ja-JP" sz="1400" spc="-1" strike="noStrike" baseline="-25000">
                  <a:solidFill>
                    <a:srgbClr val="000000"/>
                  </a:solidFill>
                  <a:latin typeface="Century"/>
                  <a:ea typeface="ＭＳ 明朝"/>
                </a:rPr>
                <a:t>prefi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89880" y="3876480"/>
              <a:ext cx="2735640" cy="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DDAF-EF84-4826-B84C-0155DB38898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ning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and Long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2680" y="3505320"/>
          <a:ext cx="9031320" cy="258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3505320"/>
                    <a:ext cx="9031320" cy="25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D586-CF63-4607-A0CA-2B8C9726BF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64 states convolutional enco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ate : 1/2 - 3/4 (punctur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981080" y="3276720"/>
          <a:ext cx="4572000" cy="25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276720"/>
                    <a:ext cx="457200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E891-C907-4C53-B4B5-000E7EC15AA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 stealing/inse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09680" y="2133720"/>
          <a:ext cx="5335560" cy="39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5335560" cy="39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981B-3CC8-4748-BE98-74D2030298C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 Referenc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used in the current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Primitive parameters are def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905120" y="3352680"/>
          <a:ext cx="5559480" cy="301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352680"/>
                    <a:ext cx="5559480" cy="30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E721-1931-4442-88F7-90F79666257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CP Fram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2743200"/>
          <a:ext cx="8001000" cy="28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743200"/>
                    <a:ext cx="8001000" cy="28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2D94-26DF-416F-98A1-9C61891D649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it stuff to make the MPDU length multiples of an OFDM symb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Tail bits to set the convolutional encoder to a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Scrambler to minimize the data DC off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leave to enhance error correction function (within an OFDM symb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0E80-A679-48F1-9B07-26BF1705E39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OFD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obust against delay sp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No feed back loop : 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ny modulation schemes can be applied to the base band modulation. Same spectrum shape is f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Fall back function is supp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Same PHY as BRAN’s would be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AE3-EE75-447D-A615-A00A87C45D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0" y="1981080"/>
            <a:ext cx="1752480" cy="457200"/>
          </a:xfrm>
          <a:prstGeom prst="wedgeRectCallout">
            <a:avLst>
              <a:gd name="adj1" fmla="val -33060"/>
              <a:gd name="adj2" fmla="val 9652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iguration of 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2057400"/>
          <a:ext cx="8381880" cy="355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57400"/>
                    <a:ext cx="8381880" cy="35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297520" y="2049480"/>
            <a:ext cx="1853640" cy="298080"/>
          </a:xfrm>
          <a:prstGeom prst="wedgeRoundRectCallout">
            <a:avLst>
              <a:gd name="adj1" fmla="val -31129"/>
              <a:gd name="adj2" fmla="val 16447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ation in Base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E9FE-6ADC-40F1-AE86-09100FD1A33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DM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48 sub-carriers in 12.5 MHz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Center carrier is not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64 points of FFT/IF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ase band modulation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DPSK, DQPSK and 16Q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5 carriers in 100 MHz (15 MHz sepa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910A-CFE9-413B-83D5-35DF797E99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-carrier Al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29200" y="4114800"/>
            <a:ext cx="2921040" cy="1727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17440" y="2108160"/>
            <a:ext cx="2006640" cy="3530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24280" y="22096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enter carrier interfered by the DC offset is not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06B8-57BE-4AD1-8CE0-7256459CC09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 band Mod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DBPSK and DQP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Differential coding for differential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DBPSK, r=1/2 : 5 Mbit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DQPSK, r=1/2 : 10 Mbit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DQPSK, r=3/4 : 15 Mbit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Pilot carriers (#3, 26 and 4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Pilot carriers (#3, 26 and 4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r=1/2 : 20 Mbit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r=3/4 : 30 Mbit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D4C-B3C3-4255-A51F-E60A6A38F3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Channelization in L &amp; M b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10 carriers in 200 MHz b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Guard band : 13.875 MHz to the band 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15 MHz s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80880" y="3870360"/>
          <a:ext cx="8382240" cy="222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70360"/>
                    <a:ext cx="8382240" cy="22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3FB-A687-43B7-B0CB-1F38A8A77C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Channelization in Upper b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lower / middle b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209680" y="3429000"/>
          <a:ext cx="441972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29000"/>
                    <a:ext cx="44197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127-DCC5-4B0F-8131-51765D5ECD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der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Guard Interval is secu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90720" y="3429000"/>
          <a:ext cx="7284960" cy="59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429000"/>
                    <a:ext cx="728496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210B-F6D4-4586-A97A-26EDE1A38D3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Hitoshi</cp:lastModifiedBy>
  <cp:lastPrinted>1998-02-10T13:28:06Z</cp:lastPrinted>
  <dcterms:modified xsi:type="dcterms:W3CDTF">1998-07-09T17:43:22Z</dcterms:modified>
  <cp:revision>14</cp:revision>
  <dc:subject/>
  <dc:title>No Slide Title</dc:title>
</cp:coreProperties>
</file>