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78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62120" y="31240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 from TG r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r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5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ed all comments received in latest letter bal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comments resolved (see 82837W Comment Resolution for 802.11revD5.do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revD6.1.doc available on FLASH and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 the changes made were edi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 corrections in the M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ction of spelling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ew changes were techn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rev Technical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fication group added to MIB conformance section for new notifications added to draft 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recation of dot11StationID requires that the OBJECT-GROUP to which it belongs be deprecated also and a new group defined for the objects remaining with CURRE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rev Technical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map Control field ambiguity corr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tions corrected in DS 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94 corr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 Minute Fix-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sed one dangling link when fixing the deprecated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S item PC15 et seq must reference Annex D and remove references to 11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hange will be made in 802.11revD6.2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available later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r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behalf of TG rev, I move that document 802.11revD6.2.doc be forwarded to the sponsor for a ten day, default reconfirmation ball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b O'Hara</dc:creator>
  <dc:description/>
  <dc:language>en-US</dc:language>
  <cp:lastModifiedBy>Bob O'Hara</cp:lastModifiedBy>
  <cp:revision>0</cp:revision>
  <dc:subject/>
  <dc:title>Report of TG rev</dc:title>
</cp:coreProperties>
</file>