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4495680" y="2286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828800" algn="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c.: IEEE 802.11-98/255r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698400" y="609480"/>
            <a:ext cx="77598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 txBox="1"/>
          <p:nvPr/>
        </p:nvSpPr>
        <p:spPr>
          <a:xfrm>
            <a:off x="593640" y="6446880"/>
            <a:ext cx="895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698400" y="6477120"/>
            <a:ext cx="7836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685800" y="152388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03280" indent="-503280" algn="ctr">
              <a:lnSpc>
                <a:spcPct val="90000"/>
              </a:lnSpc>
              <a:spcBef>
                <a:spcPts val="720"/>
              </a:spcBef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reless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sonal Area Network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roved Age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03280" indent="-503280" algn="ctr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ject to changes by committ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3280" indent="-50328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ly 6-10, 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3280" indent="-50328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Jolla, CA U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3280" indent="-50328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tudy group session starts on Tuesday, July 7, at 8:30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dnesday, July 8th, 199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 Develop Action 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 Review Future Meetings/Lo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g 1998 Interim Meeting WPAN S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p 14-18, 1998 Westford, MA USA Interim Meeting 802.11 W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ct 1998 Interim Meeting WPAN S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v 8-13, 1998 Plenary Meeting 8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 Other Bus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 Adjourn (meet again on thurs if requir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NewRoman"/>
                <a:ea typeface="TimesNewRoman"/>
              </a:rPr>
              <a:t>1 Opening (detail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NewRoman"/>
                <a:ea typeface="TimesNewRoman"/>
              </a:rPr>
              <a:t>1.0 Secretary Ian Giff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NewRoman"/>
                <a:ea typeface="TimesNewRoman"/>
              </a:rPr>
              <a:t>1.1 Roll c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28840" indent="-22860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NewRoman"/>
                <a:ea typeface="TimesNew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NewRoman"/>
                <a:ea typeface="TimesNewRoman"/>
              </a:rPr>
              <a:t>Mention your name, and the place where yo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428840" indent="-22860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NewRoman"/>
                <a:ea typeface="TimesNew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NewRoman"/>
                <a:ea typeface="TimesNewRoman"/>
              </a:rPr>
              <a:t>normally workYou may mention the name 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428840" indent="-22860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NewRoman"/>
                <a:ea typeface="TimesNew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NewRoman"/>
                <a:ea typeface="TimesNewRoman"/>
              </a:rPr>
              <a:t>your companyAnd other important things yo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428840" indent="-22860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NewRoman"/>
                <a:ea typeface="TimesNew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NewRoman"/>
                <a:ea typeface="TimesNewRoman"/>
              </a:rPr>
              <a:t>always wanted tosay but did not dare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2 Voting righ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ticipation in the debates, moving and seconding is only permitted by voting members, in all 802.11 meetings (at all level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irs may permit observers to participate in debate [In study groups all attendees have voting rights]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ting rights can be earned by participation in 2 plenary meetings within 4 consecutive plenary meetings one interim may be substituted for a plenary participation is to be present in at least 75 % of all meetings in a s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NewRoman"/>
                <a:ea typeface="TimesNewRoman"/>
              </a:rPr>
              <a:t>1.2 Voting righ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NewRoman"/>
                <a:ea typeface="TimesNewRoman"/>
              </a:rPr>
              <a:t>Voting rights can be maintained by participation in 2 plenary meetings within 4 consecutive plenary meet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NewRoman"/>
                <a:ea typeface="TimesNewRoman"/>
              </a:rPr>
              <a:t>one interim may be substituted for a plen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NewRoman"/>
                <a:ea typeface="TimesNewRoman"/>
              </a:rPr>
              <a:t>Voting members will get a token to be used at voting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NewRoman"/>
                <a:ea typeface="TimesNewRoman"/>
              </a:rPr>
              <a:t>Voting rights may be lo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NewRoman"/>
                <a:ea typeface="TimesNewRoman"/>
              </a:rPr>
              <a:t>after failing to pay the conference f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NewRoman"/>
                <a:ea typeface="TimesNewRoman"/>
              </a:rPr>
              <a:t>after missing two out of three consecutive letter ball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NewRoman"/>
                <a:ea typeface="TimesNewRoman"/>
              </a:rPr>
              <a:t>1.3 Attendance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NewRoman"/>
                <a:ea typeface="TimesNewRoman"/>
              </a:rPr>
              <a:t>Only sign when you attend at least 90 % of the meeting for which you sign; i.e. AM or PM or Evening part of the s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NewRoman"/>
                <a:ea typeface="TimesNewRoman"/>
              </a:rPr>
              <a:t>Sign with your initials (no cross etc). Do not underline. Circle the  letter corresponding to the meeting you attended when signing (F=full 802.11, P=PHY group, M=MAC grou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NewRoman"/>
                <a:ea typeface="TimesNewRoman"/>
              </a:rPr>
              <a:t>Only sign in the box designated with the applicable day and part of the day, AM/PM/Eve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NewRoman"/>
                <a:ea typeface="TimesNewRoman"/>
              </a:rPr>
              <a:t>Never sign ah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NewRoman"/>
                <a:ea typeface="TimesNewRoman"/>
              </a:rPr>
              <a:t>1.3 Attendance list (continu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NewRoman"/>
                <a:ea typeface="TimesNewRoman"/>
              </a:rPr>
              <a:t>Check e-mail address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NewRoman"/>
                <a:ea typeface="TimesNewRoman"/>
              </a:rPr>
              <a:t>some addresses have been struck, or have a $-sign added to the right if there have been complaints from    the reflector---please strike your e-mail address if you do not use 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NewRoman"/>
                <a:ea typeface="TimesNewRoman"/>
              </a:rPr>
              <a:t>if you use an e-mail address, please let us kn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NewRoman"/>
                <a:ea typeface="TimesNewRoman"/>
              </a:rPr>
              <a:t>if you do not mind receiving very long files, mark bulk e-mail with y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NewRoman"/>
                <a:ea typeface="TimesNewRoman"/>
              </a:rPr>
              <a:t>Failure to pay causes loss of credit for voting rights and letters to be writ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NewRoman"/>
                <a:ea typeface="TimesNewRoman"/>
              </a:rPr>
              <a:t>1.4 Logistics (breaks, lunch, copying, document distribu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NewRoman"/>
                <a:ea typeface="TimesNewRoman"/>
              </a:rPr>
              <a:t>Breaks will be the same as the Plenary 10a &amp; 3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NewRoman"/>
                <a:ea typeface="TimesNewRoman"/>
              </a:rPr>
              <a:t>Lunch will be the same as the Plenary 12p-1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NewRoman"/>
                <a:ea typeface="TimesNewRoman"/>
              </a:rPr>
              <a:t>Copying, document distrib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NewRoman"/>
                <a:ea typeface="TimesNewRoman"/>
              </a:rPr>
              <a:t>Copying &amp; Hardcopy, as required, see Secret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NewRoman"/>
                <a:ea typeface="TimesNewRoman"/>
              </a:rPr>
              <a:t>Softcopy will be via WPAN SG Flash Card and via the 802.11 methods to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NewRoman"/>
                <a:ea typeface="TimesNewRoman"/>
              </a:rPr>
              <a:t>All Submissions will be via WPAN SG Flash Card and via the 802.11 methods to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xt Meetin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1828800"/>
            <a:ext cx="9217080" cy="40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ives for this Se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view Output of Past WPAN SG Meet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view PAR Submi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mit PAR for 802.11/ExCom Action-Revise as Requi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inue Proposal Reviews for Potential MACs/PH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derstand HomeRF and Bluetoo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 Statement of Direction for Study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Monda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July 6, 1998 ExCom &amp; 802.11 WG -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uesda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July 7, 1998 8:30p to 5:00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Wednesda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July 8, 1998 8:30a to 12:00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t plenary to 5:00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hursda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July 9, 1998 8:30a to 12:00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Frida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July 10, 1998 TB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572000" y="2666880"/>
            <a:ext cx="4334040" cy="25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uesday, July 7th, 199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NewRoman"/>
                <a:ea typeface="TimesNewRoman"/>
              </a:rPr>
              <a:t>1 Opening of session (see below) 8:30 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NewRoman"/>
                <a:ea typeface="TimesNewRoman"/>
              </a:rPr>
              <a:t>1.0 Secret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NewRoman"/>
                <a:ea typeface="TimesNewRoman"/>
              </a:rPr>
              <a:t>1.1 Roll c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NewRoman"/>
                <a:ea typeface="TimesNewRoman"/>
              </a:rPr>
              <a:t>1.2 Voting righ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NewRoman"/>
                <a:ea typeface="TimesNewRoman"/>
              </a:rPr>
              <a:t>1.3 Attendance list, Regist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NewRoman"/>
                <a:ea typeface="TimesNewRoman"/>
              </a:rPr>
              <a:t>1.4 Logistics (breaks, lunch, copying, document distribu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NewRoman"/>
                <a:ea typeface="TimesNewRoman"/>
              </a:rPr>
              <a:t>1.5 Other announc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uesday, July 7th, 199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NewRoman"/>
                <a:ea typeface="TimesNewRoman"/>
              </a:rPr>
              <a:t>2 Approval of the minutes of previous mee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1 Irving Meeting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2 Matters arising from the min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G/D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NewRoman"/>
                <a:ea typeface="TimesNewRoman"/>
              </a:rPr>
              <a:t>3 Rep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1 Review of study group meeting activities since last M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2 Review PAR/5 Criteria Submi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3 Review ExCom Meeting Monday, July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4 Liaison Acti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uesday, July 7th, 199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Review Objectives of the LaJolla Mee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NewRoman"/>
                <a:ea typeface="TimesNewRoman"/>
              </a:rPr>
              <a:t>5 Review of contrib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 Adoption of the agenda 11-98/25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NewRoman"/>
                <a:ea typeface="TimesNewRoman"/>
              </a:rPr>
              <a:t>7 Unfinished Bus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NewRoman"/>
                <a:ea typeface="TimesNewRoman"/>
              </a:rPr>
              <a:t>-98/160r2 Technical Requirements - Dick 9:15-9: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NewRoman"/>
                <a:ea typeface="TimesNewRoman"/>
              </a:rPr>
              <a:t>-98/241 Is P802.11 the answer? - Bruce/Rich 9:45-10: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NewRoman"/>
                <a:ea typeface="TimesNewRoman"/>
              </a:rPr>
              <a:t>-98/161r3 WPAN Five Criteria - Ian 10:15-10: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NewRoman"/>
                <a:ea typeface="TimesNewRoman"/>
              </a:rPr>
              <a:t>-98/162r6 WPAN PAR - Rich 10:30-10: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uesday, July 7th, 199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NewRoman"/>
                <a:ea typeface="TimesNewRoman"/>
              </a:rPr>
              <a:t>8 New Bus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NewRoman"/>
                <a:ea typeface="TimesNewRoman"/>
              </a:rPr>
              <a:t>8.1 P802.11 MAC Discuss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NewRoman"/>
                <a:ea typeface="TimesNewRoman"/>
              </a:rPr>
              <a:t>8.2 Discuss/Revise PAR and 5 Criteria based on ExCom and 802.11 com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NewRoman"/>
                <a:ea typeface="TimesNewRoman"/>
              </a:rPr>
              <a:t>9 Lun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NewRoman"/>
                <a:ea typeface="TimesNewRoman"/>
              </a:rPr>
              <a:t>10 Review of  WPAN  MAC/PHY Proposals and Liaison Upd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NewRoman"/>
                <a:ea typeface="TimesNewRoman"/>
              </a:rPr>
              <a:t>10.1 Motoro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NewRoman"/>
                <a:ea typeface="TimesNewRoman"/>
              </a:rPr>
              <a:t>10.2 HomeRF Working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NewRoman"/>
                <a:ea typeface="TimesNewRoman"/>
              </a:rPr>
              <a:t>10.3 Bluetooth Special Interest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NewRoman"/>
                <a:ea typeface="TimesNewRoman"/>
              </a:rPr>
              <a:t>11 Adjourn the meeting at 4:30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dnesday, July 8th, 199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Call the SG Meeting to order at 8:30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 Review of HomeRF and Bluetoo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 Discussion of MAC/PHY Proposals including HomeRF and Bluetoo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on continued the MAC discussion of the previous da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 Discuss Impact of External Activities on the Direction of the WPAN Study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uce’s Matrix Summary -98/24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dnesday, July 8th, 199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 Complete Discussion WPAN Study Group Dir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 Develop a Recommendation for Continuing Standards Acitivity on WP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 Review Nex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aft a Motion for aft. 802.11 Plenary Mee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Bob Heile</dc:creator>
  <dc:description>Bob Heile, GTE</dc:description>
  <dc:language>en-US</dc:language>
  <cp:lastModifiedBy>Ian C. Gifford</cp:lastModifiedBy>
  <cp:revision>0</cp:revision>
  <dc:subject>doc.: IEEE 802.11-98/255r1</dc:subject>
  <dc:title>WPAN SG Agenda LaJolla Jul 98</dc:title>
</cp:coreProperties>
</file>