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WPAN Propos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TDMA-based MAC Lay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243240"/>
            <a:ext cx="6400800" cy="271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TE Internetworking - BB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33 Concord Avenu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mbridge, MA 021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ick LaR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17-873-219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rlarowe@bbn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2155680" cy="96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03880" y="5342040"/>
            <a:ext cx="1928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I N T E R N E T W O R K I 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000066"/>
                </a:solidFill>
                <a:latin typeface="Arial"/>
                <a:ea typeface="Arial"/>
              </a:rPr>
              <a:t>POWERED BY BB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2040" y="5370480"/>
            <a:ext cx="2892600" cy="0"/>
          </a:xfrm>
          <a:prstGeom prst="line">
            <a:avLst/>
          </a:prstGeom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desiring to join an existing network can listen for beacons, establish synchr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can proceed via Slotted Aloha embedded within the same TDMA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 can dictate how much bandwidth allocated to the support of attach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ing devices do not interfere with operational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rted mechanisms can be used to direct attachment to the desired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LAN base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igital (MAC Layer): 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ew gates, clocked very slow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ransceiver:  1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.7mA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4m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se-level current, stand-by, transmit/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LAN, full data rate Hub: 5.4mA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LAN, half data rate device: 2.8mA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ying attached without sleeping: 7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/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ot a proposal for a specific solu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rather a general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approach is backed up by a POC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forthcoming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s to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/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ing requiremen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mall devices (including peripherals, senso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ntegration into devices (minimal 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, no line-of-sight limitation,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network interference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ing characteristic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requirement is relatively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very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ransceive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-cycling is key to reducing aver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consumes as much as transmi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roximately) in the PA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MAC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 lends itself to small finite-state machines, running at slow clock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gates, clocked slowly, yields targe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A meet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vision Multipl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KNOW when to receive and when to transmit AND when they can turn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for higher-order timing overlay, as in 802.11, to accomplish this primary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MA structure defines an operational sequence easily implemented as a finite state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-oriented TDMA structure lends itself to a slow-clocking MAC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DMA Falla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llac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TDMA, which requires a Hub, cannot support ad hoc, peer-to-peer network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u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long as any device can operate as Hub, and devices can determine when to become a Hub, this is not an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alla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“TDMA is inefficient in its usage of bandwidth, due to slots unused by assign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u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namic allocation can be used for highly efficient assignment of band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TDM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structure includes five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sliding window, bandwidth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1688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Network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Based Sp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sts can be spaced according to code patterns as in a CDMA system, but not for the same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Orthogonal Coding used in Body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Ag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maps well to TDM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can also be applied to a TDMA-based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Low-Level TD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tolerance, FEC, powe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57880" y="4302000"/>
            <a:ext cx="71280" cy="27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89400" y="3110040"/>
            <a:ext cx="263520" cy="277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8480" y="3244680"/>
            <a:ext cx="7088040" cy="0"/>
          </a:xfrm>
          <a:prstGeom prst="line">
            <a:avLst/>
          </a:prstGeom>
          <a:ln w="1260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044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2252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840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1608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7492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3700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8432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912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7688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3860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484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252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8940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9736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504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7688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3252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956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3724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83120" y="31114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3268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296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740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8508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4520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548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172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99400" y="3098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28600" y="3125880"/>
            <a:ext cx="0" cy="27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43200" y="2736720"/>
            <a:ext cx="3584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1 Second = approximately 66 TDMA 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058760" y="3413160"/>
            <a:ext cx="2317680" cy="70956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65520" y="3413160"/>
            <a:ext cx="4314960" cy="792000"/>
          </a:xfrm>
          <a:prstGeom prst="line">
            <a:avLst/>
          </a:prstGeom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52760" y="3913200"/>
            <a:ext cx="298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1 TDMA Frame = 73 OOC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30560" y="5451480"/>
            <a:ext cx="739800" cy="46368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0" y="5451480"/>
            <a:ext cx="630360" cy="46368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1320" y="6141960"/>
            <a:ext cx="1343160" cy="0"/>
          </a:xfrm>
          <a:prstGeom prst="line">
            <a:avLst/>
          </a:prstGeom>
          <a:ln w="1260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2960" y="59529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7240" y="595944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4240" y="595800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67400" y="5932440"/>
            <a:ext cx="2406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1 Event Slot = 8 Symbol S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0800" y="595800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5959440"/>
            <a:ext cx="0" cy="36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63920" y="595944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03440" y="595944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2400" y="4616280"/>
            <a:ext cx="298440" cy="46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38160" y="4606920"/>
            <a:ext cx="227160" cy="45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70040" y="5033880"/>
            <a:ext cx="113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First 2 O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5249880"/>
            <a:ext cx="1285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Windows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19000" y="5464080"/>
            <a:ext cx="1009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for Bea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6920" y="4433760"/>
            <a:ext cx="6892920" cy="0"/>
          </a:xfrm>
          <a:prstGeom prst="line">
            <a:avLst/>
          </a:prstGeom>
          <a:ln w="1260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776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27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75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92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95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2576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34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1796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004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277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36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337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940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416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61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1796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36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44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288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056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68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5736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36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5128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04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57880" y="430704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052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156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5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54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004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604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225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684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1608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49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370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843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91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768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386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484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894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11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9736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504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768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64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667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1296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6064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1948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8120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888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75120" y="4317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10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316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904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3360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956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4192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24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21080" y="43038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951440" y="4289400"/>
            <a:ext cx="2933640" cy="285840"/>
            <a:chOff x="4951440" y="4289400"/>
            <a:chExt cx="2933640" cy="285840"/>
          </a:xfrm>
        </p:grpSpPr>
        <p:sp>
          <p:nvSpPr>
            <p:cNvPr id="184" name=""/>
            <p:cNvSpPr/>
            <p:nvPr/>
          </p:nvSpPr>
          <p:spPr>
            <a:xfrm>
              <a:off x="77770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3568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8156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2924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5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40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835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279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895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469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60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404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144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144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135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084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0708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534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36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95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72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73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94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738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230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325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325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956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3724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831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326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29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374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850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52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54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17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994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767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672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700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8468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27680" y="430524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72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375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834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3108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8976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04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9592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43600" y="428940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3471840" y="4287960"/>
            <a:ext cx="0" cy="269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09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29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242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74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25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468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196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895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767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92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291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037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956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956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782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86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896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703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20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34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020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845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562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276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95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195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006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719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433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134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41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673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72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44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083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768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14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813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813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3380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051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752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63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277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008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894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056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4192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13280" y="510840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68600" y="5241960"/>
            <a:ext cx="2316240" cy="0"/>
          </a:xfrm>
          <a:prstGeom prst="line">
            <a:avLst/>
          </a:prstGeom>
          <a:ln w="1260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487680" y="4589640"/>
            <a:ext cx="957240" cy="490320"/>
          </a:xfrm>
          <a:prstGeom prst="line">
            <a:avLst/>
          </a:prstGeom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29160" y="4589640"/>
            <a:ext cx="1260360" cy="475920"/>
          </a:xfrm>
          <a:prstGeom prst="line">
            <a:avLst/>
          </a:prstGeom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89520" y="4913280"/>
            <a:ext cx="2674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1 OOC Window = 13 Event S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789520" y="5126040"/>
            <a:ext cx="283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3 bursts per window, one data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97360" y="5097600"/>
            <a:ext cx="55440" cy="2728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13240" y="5102280"/>
            <a:ext cx="54000" cy="2728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3520" y="5100480"/>
            <a:ext cx="55440" cy="2746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LaRowe</dc:creator>
  <dc:description>Rick LaRowe, GTE</dc:description>
  <dc:language>en-US</dc:language>
  <cp:lastModifiedBy>Ian Christopher Gifford</cp:lastModifiedBy>
  <cp:revision>0</cp:revision>
  <dc:subject/>
  <dc:title>WPAN Proposal  TDMA-based MAC Layer </dc:title>
</cp:coreProperties>
</file>