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2280" y="60948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2280" y="6477120"/>
            <a:ext cx="784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590920"/>
            <a:ext cx="77724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99"/>
                </a:solidFill>
                <a:latin typeface="Arial Black"/>
                <a:ea typeface="Arial Black"/>
              </a:rPr>
              <a:t>WPAN Study Group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 Black"/>
                <a:ea typeface="Arial Black"/>
              </a:rPr>
              <a:t>Is 802.11 the Answer?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99"/>
                </a:solidFill>
                <a:latin typeface="Arial Black"/>
                <a:ea typeface="Arial Black"/>
              </a:rPr>
              <a:t>Topics for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58128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ick LaR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TE Internetworking - BBN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17-873-2193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rlarowe@bbn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nion to Start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could certainly be used to satisfy the base technical requirements for WPAN identified at 4/8-9/98 Cambridge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will drive down power, size, c--- of 802.11 products. 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simpler approaches can be applied to the specific WPAN requirements to directly attack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will drive down the power, size, c--- of those solutions as well, to even lower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Com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fact that I can build a calculator with a Pentium and Windows 95 doesn’t mean that I shou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en if the power consumption of Pentiums is coming down every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/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 of perceived WPA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requirements clearly / easily satisfied by the 802.11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802.11 capabilities simply not required by the WPA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of the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basic 802.11 MAC/PHY appropriate for WP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re parts that should be exploited? Avoi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pril 8-9, 1998 Cambridge, MA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: 0-10 mph (no handoff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at MAC SAP: 19.2 - 100 k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Coexistence: 20 within 400 square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with other wireless systems (e.g., 802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minimum 16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or Gateway connectivity to oth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requirements we know we must satis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w power solutions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small solutions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--- solutions feasibl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an I use the “c” wor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 with minimal interfaces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hardware and software interface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ary to interface to the simplest peripherals and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infrastructure-bas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and Technical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n 802.11 satisfy the 4/8-9/98 guidelines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: 0-10 mph (no handoff required)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at MAC SAP: 19.2 - 100 kbps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Coexistence: 20 within 400 square feet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?????</a:t>
            </a:r>
            <a:br>
              <a:rPr sz="1800"/>
            </a:b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HY dependent, FHSS more likely, with minimal transmit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with other wireless systems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minimum 16 devices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or Gateway connectivity to other networks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and Additional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n 802.11 satisfy our additional guideli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w power solutions feasible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P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small solutions feasible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P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--- solutions feasible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P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 with minimal interfaces feasible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OT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infrastructure-based networks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P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ems that are the issue.  Today solutions don’t satisfy what many want, ultimately the could.  But of course, simpler solutions would be even better by t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” 802.11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eets requirements WPANs do no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 (Wired Equivalent Privacy) hook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be 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-level fragmentation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be nice, but as a requirement could be un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and W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were to use 802.11 for a WPAN, we’d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node mechanisms, since CSMA based MAC makes this critical for basic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ation mechanisms (TSF Timers, beac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 (TIM, DTIM, sleep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BSS support for distributed power management, since WPAN has no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/ Scanning mechanisms for IBSS (network) forma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trol is absolutely critical to W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does power control via beacons, coordinated sleep, and TIM/DTIM messages layered on top of base CSMA/CA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DMA on top of CS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fact, time-bounded services (CFS) and many of the performance optimizations in the standard are based on the use of TDMA-like structures layered on top of the CSMA foun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s TDMA-on-CSMA is one of the reasons 802.11 is considered complex by 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k LaRowe</dc:creator>
  <dc:description>Rick LaRowe, GTE</dc:description>
  <dc:language>en-US</dc:language>
  <cp:lastModifiedBy>Ian Christopher Gifford</cp:lastModifiedBy>
  <cp:revision>0</cp:revision>
  <dc:subject>802.11 vs. WPAN</dc:subject>
  <dc:title>WPAN Study Group Is 802.11 the Answer? Topics for Discussion</dc:title>
</cp:coreProperties>
</file>