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60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2280" y="609480"/>
            <a:ext cx="776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2280" y="6477120"/>
            <a:ext cx="784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 WPAN S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Personal Area Network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ridge, MA 4/9/9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Guidelines Techn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: 0-10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: 0-10mph (hand-off not required to another P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Data Rate at the MAC SAP: (19.2 - 100) kbit/s (actual 1 device to 1 dev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low coexistence of multiple Wireless PAN’s in the same area (20 within 400 square fe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low coexistence of multiple Wireless Systems i.e. P802.11 in the sam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support for a minimum of 16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or Gateway connectivity to other dat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WPAN Guidelines Sorted ABC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s will seek worldwide spectrum allocations for unlicensed bands e.g., 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: i.e., relative to target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 e.g., ~.5 cubic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des antenna &amp; 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Management: Very Low current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20mW @ 10/90 or 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low coexistence of multiple Wireless PAN’s in the same area (20 within 400 square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low coexistence of multiple Wireless Systems i.e. P802.11 in the sam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Network 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WPAN Guidelines Sorted ABC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ed Data Throughput at the MAC SAP: (19.2 - 100) kbit/s (actual 1 device to 1 de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evices within a WPAN must be able to communicate with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support for a minimum of 16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: 0-1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: within one (1) second, once within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or Gateway connectivity to other data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WPAN Guidelines Sorted ABC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ingle element of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ing: hand-off to another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Density: 1 WPAN in 2 square meters, average density at acceptable [TBD] performanc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sumption: Each WPAN Device will consume &lt;20 mW long term average [TBD] given a 10% TxRx load in the W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2, 1997 Cleveland,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5, 1998 Memphis, T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10, 1998 Irvine,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il 9, 1998 Cambridge, 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6, 1998 Utrecht, 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” - May 19, 1998 Irving, T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lides are a compilation of the Wearables Ad Hoc Committee and IEEE 802.11 WPAN Study Group discussing the Functional Requirements for WP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ocument is a work in process and as such refer to the slides marked “Current” to determine the latest Guide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veland, OH 12/2/9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76200" y="2506680"/>
            <a:ext cx="847260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phis, TN 1/15/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Management: Low current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: 0-1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: 19.2 - 100Kbps (act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 e.g., ~.5 cubic inches no ant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: i.e., relative to targe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low overlap of multiple networks in the sam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support for a minimum of sixteen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vine, CA 3/9/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: 0-10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Management: Very Low current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: 0-10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: 19.2 - 100Kbps (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 e.g., ~.5 cubic inches no ant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: i.e., relative to target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low overlap of multiple networks in the sam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support for a minimum of sixtee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vine, CA 3/10/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Management: Very Low current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20mW @ 10/90 or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 e.g., ~.5 cubic inches w/o ant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: i.e., relative to targe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vine, CA 3/10/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 W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: 0-10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: 0-10mph (no roaming to another P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Data Rate at the MAC SAP: (19.2 - 100) kbit/s (actual 1 device to 1 dev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low coexistence of multiple Wireless PAN’s in the same area (20 within 400 square fe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low coexistence of multiple Wireless Systems i.e. P802.11 in the sam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support for a minimum of 16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or Gateway connectivity to other dat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11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ridge, MA 4/9/9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Guidelines Environ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Management: Very Low current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20mW @ 10/90 or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 e.g., ~.5 cubic i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des antenna &amp; 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: i.e., relative to targe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