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Proposed OF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, Hitoshi Takanashi and Masahiro Morik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58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201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201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00" y="633240"/>
            <a:ext cx="75182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720" y="674640"/>
            <a:ext cx="7785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684360"/>
            <a:ext cx="765828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6880" y="668160"/>
            <a:ext cx="774684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8720" y="641520"/>
            <a:ext cx="78613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5360" y="622440"/>
            <a:ext cx="7696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6120" y="663480"/>
            <a:ext cx="77216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201080" cy="58212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066680" y="1219320"/>
            <a:ext cx="609480" cy="519120"/>
            <a:chOff x="1066680" y="1219320"/>
            <a:chExt cx="609480" cy="519120"/>
          </a:xfrm>
        </p:grpSpPr>
        <p:sp>
          <p:nvSpPr>
            <p:cNvPr id="47" name=""/>
            <p:cNvSpPr txBox="1"/>
            <p:nvPr/>
          </p:nvSpPr>
          <p:spPr>
            <a:xfrm>
              <a:off x="1295280" y="12193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066680" y="13716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80" y="655560"/>
            <a:ext cx="7759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8720" y="685800"/>
            <a:ext cx="7785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7800" y="682560"/>
            <a:ext cx="776124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1680" y="6984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6080" y="679320"/>
            <a:ext cx="740412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679320"/>
            <a:ext cx="74296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27000" y="674640"/>
            <a:ext cx="71121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5693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1360" y="723960"/>
            <a:ext cx="8039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330120"/>
            <a:ext cx="7493040" cy="60577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371600" y="990720"/>
            <a:ext cx="609480" cy="519120"/>
            <a:chOff x="1371600" y="990720"/>
            <a:chExt cx="609480" cy="519120"/>
          </a:xfrm>
        </p:grpSpPr>
        <p:sp>
          <p:nvSpPr>
            <p:cNvPr id="51" name=""/>
            <p:cNvSpPr txBox="1"/>
            <p:nvPr/>
          </p:nvSpPr>
          <p:spPr>
            <a:xfrm>
              <a:off x="1600200" y="9907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371600" y="11430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6560" y="635040"/>
            <a:ext cx="76071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5828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960" y="668160"/>
            <a:ext cx="76201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201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3200" y="650880"/>
            <a:ext cx="759456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660240"/>
            <a:ext cx="76071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