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4327C10-2C0E-44F2-8882-C11E70497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228600"/>
            <a:ext cx="8915400" cy="63244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685800" y="228600"/>
            <a:ext cx="792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627960"/>
            <a:ext cx="31240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May 98</a:t>
            </a:r>
            <a:endParaRPr b="0" lang="en-US" sz="1200" spc="-1" strike="noStrike">
              <a:solidFill>
                <a:srgbClr val="000000"/>
              </a:solidFill>
              <a:latin typeface="Arial"/>
            </a:endParaRPr>
          </a:p>
        </p:txBody>
      </p:sp>
      <p:sp>
        <p:nvSpPr>
          <p:cNvPr id="4" name=""/>
          <p:cNvSpPr txBox="1"/>
          <p:nvPr/>
        </p:nvSpPr>
        <p:spPr>
          <a:xfrm>
            <a:off x="4629240" y="1584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53-r1</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3"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 2</a:t>
            </a:r>
            <a:endParaRPr b="0" lang="en-US" sz="4400" spc="-1" strike="noStrike">
              <a:solidFill>
                <a:srgbClr val="000000"/>
              </a:solidFill>
              <a:latin typeface="Arial"/>
            </a:endParaRPr>
          </a:p>
        </p:txBody>
      </p:sp>
      <p:sp>
        <p:nvSpPr>
          <p:cNvPr id="8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8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9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9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19-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96"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9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10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10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10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10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8"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y</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Changes in this version: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folded TGa agenda in,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Monday evening from TGb to 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Tueday evening from TGa to social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G meeting date from 20-21 of May to 19-21</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pare meeting time for Sponsor material on Thursda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stablish teller committee” on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1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1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1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2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TGb! SG !T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c?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TGa! SG !T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Social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Establish teller committee for this sess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1</a:t>
            </a:r>
            <a:endParaRPr b="0" lang="en-US" sz="4400" spc="-1" strike="noStrike">
              <a:solidFill>
                <a:srgbClr val="000000"/>
              </a:solidFill>
              <a:latin typeface="Arial"/>
            </a:endParaRPr>
          </a:p>
        </p:txBody>
      </p:sp>
      <p:sp>
        <p:nvSpPr>
          <p:cNvPr id="74" name=""/>
          <p:cNvSpPr txBox="1"/>
          <p:nvPr/>
        </p:nvSpPr>
        <p:spPr>
          <a:xfrm>
            <a:off x="685800" y="1219320"/>
            <a:ext cx="7772400" cy="524340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Mo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30-14: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genda, docs, presentation and approval of selection proc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4:30-15: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non-proposers material considered critical for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45-16: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00-16: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45-17: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30-18: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3</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8:15-19: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Discussion, resolution of matrix issue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2</a:t>
            </a:r>
            <a:endParaRPr b="0" lang="en-US" sz="4400" spc="-1" strike="noStrike">
              <a:solidFill>
                <a:srgbClr val="000000"/>
              </a:solidFill>
              <a:latin typeface="Arial"/>
            </a:endParaRPr>
          </a:p>
        </p:txBody>
      </p:sp>
      <p:sp>
        <p:nvSpPr>
          <p:cNvPr id="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Tue</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00-15: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Comparison Matrix, Q&amp;A to a pan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00-15: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15-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5 minute summary of each proposal, discussion, vote and count, result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cial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3</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W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plenary -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the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00 - Discussions, text modifica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hu</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me</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rida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finalized text, preparations for Ballot</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Of course if we do not end up with a 75% supported modulation type, the agenda will be modified a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