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739430-53A8-41FB-AE3F-61FF0290F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ng the roposals re: data rate - no appreciabl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 to note what was not that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 is not an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ing the General Purpose Wireless LAN Mar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71600" y="3809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ff Abramowi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Com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38088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LAN success to date has been primarily in vertical market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2.4 GHz High Speed could be the enabling technology for the general purpos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 perspective must be considered in choosing the H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market research projects conducted with decision makers in corp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LAN access for workers with portable computers in office environment identified as key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market research results and customer preferences presente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85800"/>
            <a:ext cx="7772400" cy="11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 Perspective -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Key Barriers to Broader Ado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us price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d to wired LAN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us Ethernet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d is more of concern than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le Packet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my users compl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happens with interfer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85800"/>
            <a:ext cx="7772400" cy="11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Perspectives -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2.4 GHz HS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ward compatibility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ration message resonates with network decision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 alternative” customers with significant capacity requirements will migrate to 5 GHz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 for 2.4 GHz  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backward compatibility as an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selection must prioritize key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