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2.4-GHz PH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260960" cy="3165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6324480" y="1981080"/>
            <a:ext cx="1733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800600" y="5105520"/>
            <a:ext cx="3898800" cy="1460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52440" y="1523880"/>
            <a:ext cx="4232160" cy="320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752480" y="1981080"/>
            <a:ext cx="1698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42880" y="5105520"/>
            <a:ext cx="3889440" cy="1460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0" y="502920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67080" y="502920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380880"/>
            <a:ext cx="7772400" cy="113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Same-Frequency BSAs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As/BSA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47680" y="1504800"/>
            <a:ext cx="4336920" cy="3156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066680" y="1981080"/>
            <a:ext cx="1698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61800" y="5029200"/>
            <a:ext cx="4299120" cy="1498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4781520" y="4572000"/>
            <a:ext cx="4222800" cy="2060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410080" y="1981080"/>
            <a:ext cx="1733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4213080" cy="3222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Same-Frequency BSAs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As/BSA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= 2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67080" y="510552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IN MULTIPATH &amp;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RATES: 10- &amp; 18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FOR HIGH SYSTEM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H="1">
            <a:off x="3887640" y="2516040"/>
            <a:ext cx="303480" cy="159876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8000" y="2752560"/>
            <a:ext cx="0" cy="3102120"/>
          </a:xfrm>
          <a:prstGeom prst="line">
            <a:avLst/>
          </a:prstGeom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1060560" cy="83196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-Mchip/s Transmissio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5120" y="4419720"/>
            <a:ext cx="1752480" cy="1929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E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52480" y="2209680"/>
            <a:ext cx="762120" cy="609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43200" y="2666880"/>
            <a:ext cx="129528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657600"/>
            <a:ext cx="1066680" cy="9144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ary DB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-4x4DBO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19720" y="37339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Mbps Data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2438280"/>
            <a:ext cx="129528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N Cod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19720" y="24382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 Multi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19720" y="57913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19720" y="26668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 Multi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1520" y="2514600"/>
            <a:ext cx="198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5960" y="2836800"/>
            <a:ext cx="63036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836800"/>
            <a:ext cx="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1520" y="44956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40280" y="2514600"/>
            <a:ext cx="35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40280" y="2743200"/>
            <a:ext cx="35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5105520"/>
            <a:ext cx="1066680" cy="60948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Sp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11240" y="51055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55627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Confin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1520" y="518148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1520" y="56386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19720" y="55627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.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5240" y="4513320"/>
            <a:ext cx="731520" cy="35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673440" y="5019840"/>
            <a:ext cx="731880" cy="17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75240" y="563868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6520" y="1488960"/>
            <a:ext cx="1019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ena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25880" y="1488960"/>
            <a:ext cx="561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87600" y="1488960"/>
            <a:ext cx="803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135920" y="1488960"/>
            <a:ext cx="841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4191120"/>
            <a:ext cx="1746360" cy="1695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Acquisi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19112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eamble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1520" y="4267080"/>
            <a:ext cx="338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32240" y="2514600"/>
            <a:ext cx="18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75240" y="426708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1520" y="3809880"/>
            <a:ext cx="2852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81680" y="1981080"/>
            <a:ext cx="1905120" cy="15177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781680" y="5334120"/>
            <a:ext cx="1905120" cy="1066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Isolation; Coexistence &amp;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781680" y="3733920"/>
            <a:ext cx="1905120" cy="8380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      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19720" y="22096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dB Processing 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32240" y="2286000"/>
            <a:ext cx="1874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781680" y="4800600"/>
            <a:ext cx="190512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attery D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2120" y="49528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42120" y="38098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42120" y="42670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42120" y="27432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42120" y="22860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42120" y="25146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25840" y="197820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1520" y="2057400"/>
            <a:ext cx="2852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42120" y="20574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42120" y="56386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5480" y="190512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42120" y="58672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5867280"/>
            <a:ext cx="1054080" cy="4446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ignal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1520" y="6095880"/>
            <a:ext cx="5214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19720" y="44197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lo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19720" y="28954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atched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19720" y="31240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42120" y="29718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2120" y="32004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720" y="39625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-Mbps Data R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2120" y="40384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1520" y="4038480"/>
            <a:ext cx="2852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19720" y="3352680"/>
            <a:ext cx="190512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,13)  F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42120" y="3429000"/>
            <a:ext cx="414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4876920"/>
            <a:ext cx="1898640" cy="169560"/>
          </a:xfrm>
          <a:prstGeom prst="rect">
            <a:avLst/>
          </a:prstGeom>
          <a:solidFill>
            <a:srgbClr val="a2ffa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5640" y="586728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32240" y="2743200"/>
            <a:ext cx="18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5240" y="4284720"/>
            <a:ext cx="731520" cy="198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4360" y="4116240"/>
            <a:ext cx="231840" cy="68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6280" y="449568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36520" y="243216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36520" y="273672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6520" y="304164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36520" y="334656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36520" y="365112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er Back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75360" y="24321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3760" y="24321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546960" y="24321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3760" y="27367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46960" y="27367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75360" y="27367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3760" y="304164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75360" y="304164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546960" y="304164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3760" y="33465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K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75360" y="33465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K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546960" y="33465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K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3760" y="36511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175360" y="36511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546960" y="36511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91120" y="205740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562720" y="2057400"/>
            <a:ext cx="628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0" y="2057400"/>
            <a:ext cx="8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36520" y="395604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/Code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546960" y="395604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3760" y="395604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75360" y="395604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36520" y="426096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te (good cha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3760" y="42609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75360" y="42609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46960" y="426096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19320" y="5029200"/>
            <a:ext cx="548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theon same as Harris excep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 Amplifier Back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36520" y="4565520"/>
            <a:ext cx="267984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te Legacy DS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3760" y="45655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75360" y="45655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546960" y="4565520"/>
            <a:ext cx="1384200" cy="3175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43000" y="6095880"/>
            <a:ext cx="439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ust choose between high throughput or backward 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965840" cy="3973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038480" y="1523880"/>
            <a:ext cx="14763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opera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43200" y="1523880"/>
            <a:ext cx="14256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K opera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Amplifier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ems mundane, but does not improve with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5105520"/>
            <a:ext cx="6553080" cy="13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allows operation to power-amp 1-dB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efficiency greatly impr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1-97/11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low-cost MSK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-Mode transceiver (re-using circui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ate  and Legacy DSSS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peration with common 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 via RTS/CTS ex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HY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for alternate PHY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sacrifice high-rat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Channel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14480" y="2971800"/>
            <a:ext cx="3286800" cy="1295640"/>
            <a:chOff x="2814480" y="2971800"/>
            <a:chExt cx="3286800" cy="1295640"/>
          </a:xfrm>
        </p:grpSpPr>
        <p:sp>
          <p:nvSpPr>
            <p:cNvPr id="166" name=""/>
            <p:cNvSpPr/>
            <p:nvPr/>
          </p:nvSpPr>
          <p:spPr>
            <a:xfrm>
              <a:off x="2814480" y="2971800"/>
              <a:ext cx="1641600" cy="1295640"/>
            </a:xfrm>
            <a:custGeom>
              <a:avLst/>
              <a:gdLst/>
              <a:ahLst/>
              <a:rect l="0" t="0" r="r" b="b"/>
              <a:pathLst>
                <a:path fill="none" w="4560" h="3599">
                  <a:moveTo>
                    <a:pt x="4560" y="0"/>
                  </a:moveTo>
                  <a:lnTo>
                    <a:pt x="4560" y="0"/>
                  </a:lnTo>
                  <a:cubicBezTo>
                    <a:pt x="3760" y="1"/>
                    <a:pt x="2975" y="167"/>
                    <a:pt x="2283" y="482"/>
                  </a:cubicBezTo>
                  <a:cubicBezTo>
                    <a:pt x="1589" y="798"/>
                    <a:pt x="1012" y="1252"/>
                    <a:pt x="612" y="1799"/>
                  </a:cubicBezTo>
                  <a:cubicBezTo>
                    <a:pt x="211" y="2347"/>
                    <a:pt x="0" y="2967"/>
                    <a:pt x="0" y="3599"/>
                  </a:cubicBezTo>
                  <a:lnTo>
                    <a:pt x="0" y="3599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59680" y="2971800"/>
              <a:ext cx="1641600" cy="1295640"/>
            </a:xfrm>
            <a:custGeom>
              <a:avLst/>
              <a:gdLst/>
              <a:ahLst/>
              <a:rect l="0" t="0" r="r" b="b"/>
              <a:pathLst>
                <a:path fill="none" w="4560" h="3599">
                  <a:moveTo>
                    <a:pt x="4560" y="3599"/>
                  </a:moveTo>
                  <a:lnTo>
                    <a:pt x="4560" y="3599"/>
                  </a:lnTo>
                  <a:lnTo>
                    <a:pt x="4560" y="3599"/>
                  </a:lnTo>
                  <a:cubicBezTo>
                    <a:pt x="4560" y="2967"/>
                    <a:pt x="4349" y="2347"/>
                    <a:pt x="3948" y="1799"/>
                  </a:cubicBezTo>
                  <a:cubicBezTo>
                    <a:pt x="3548" y="1252"/>
                    <a:pt x="2971" y="798"/>
                    <a:pt x="2277" y="482"/>
                  </a:cubicBezTo>
                  <a:cubicBezTo>
                    <a:pt x="1585" y="167"/>
                    <a:pt x="800" y="1"/>
                    <a:pt x="0" y="0"/>
                  </a:cubicBez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0520" y="2971800"/>
            <a:ext cx="1315080" cy="1295640"/>
            <a:chOff x="3800520" y="2971800"/>
            <a:chExt cx="1315080" cy="1295640"/>
          </a:xfrm>
        </p:grpSpPr>
        <p:sp>
          <p:nvSpPr>
            <p:cNvPr id="169" name=""/>
            <p:cNvSpPr/>
            <p:nvPr/>
          </p:nvSpPr>
          <p:spPr>
            <a:xfrm>
              <a:off x="3800520" y="2971800"/>
              <a:ext cx="642600" cy="1295640"/>
            </a:xfrm>
            <a:custGeom>
              <a:avLst/>
              <a:gdLst/>
              <a:ahLst/>
              <a:rect l="0" t="0" r="r" b="b"/>
              <a:pathLst>
                <a:path fill="none" w="1785" h="3599">
                  <a:moveTo>
                    <a:pt x="1785" y="0"/>
                  </a:moveTo>
                  <a:lnTo>
                    <a:pt x="1785" y="0"/>
                  </a:lnTo>
                  <a:cubicBezTo>
                    <a:pt x="1472" y="1"/>
                    <a:pt x="1165" y="167"/>
                    <a:pt x="894" y="482"/>
                  </a:cubicBezTo>
                  <a:cubicBezTo>
                    <a:pt x="622" y="798"/>
                    <a:pt x="396" y="1252"/>
                    <a:pt x="239" y="1799"/>
                  </a:cubicBezTo>
                  <a:cubicBezTo>
                    <a:pt x="83" y="2347"/>
                    <a:pt x="0" y="2967"/>
                    <a:pt x="0" y="3599"/>
                  </a:cubicBezTo>
                  <a:lnTo>
                    <a:pt x="0" y="3599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58600" y="2971800"/>
              <a:ext cx="657000" cy="1295640"/>
            </a:xfrm>
            <a:custGeom>
              <a:avLst/>
              <a:gdLst/>
              <a:ahLst/>
              <a:rect l="0" t="0" r="r" b="b"/>
              <a:pathLst>
                <a:path fill="none" w="1825" h="3599">
                  <a:moveTo>
                    <a:pt x="1825" y="3599"/>
                  </a:moveTo>
                  <a:lnTo>
                    <a:pt x="1825" y="3599"/>
                  </a:lnTo>
                  <a:lnTo>
                    <a:pt x="1825" y="3599"/>
                  </a:lnTo>
                  <a:cubicBezTo>
                    <a:pt x="1825" y="2967"/>
                    <a:pt x="1741" y="2347"/>
                    <a:pt x="1580" y="1799"/>
                  </a:cubicBezTo>
                  <a:cubicBezTo>
                    <a:pt x="1420" y="1252"/>
                    <a:pt x="1189" y="798"/>
                    <a:pt x="911" y="482"/>
                  </a:cubicBezTo>
                  <a:cubicBezTo>
                    <a:pt x="634" y="167"/>
                    <a:pt x="320" y="1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72240" y="2971800"/>
            <a:ext cx="1314720" cy="1295640"/>
            <a:chOff x="5772240" y="2971800"/>
            <a:chExt cx="1314720" cy="1295640"/>
          </a:xfrm>
        </p:grpSpPr>
        <p:sp>
          <p:nvSpPr>
            <p:cNvPr id="172" name=""/>
            <p:cNvSpPr/>
            <p:nvPr/>
          </p:nvSpPr>
          <p:spPr>
            <a:xfrm>
              <a:off x="5772240" y="2971800"/>
              <a:ext cx="642600" cy="1295640"/>
            </a:xfrm>
            <a:custGeom>
              <a:avLst/>
              <a:gdLst/>
              <a:ahLst/>
              <a:rect l="0" t="0" r="r" b="b"/>
              <a:pathLst>
                <a:path fill="none" w="1785" h="3599">
                  <a:moveTo>
                    <a:pt x="1785" y="0"/>
                  </a:moveTo>
                  <a:lnTo>
                    <a:pt x="1785" y="0"/>
                  </a:lnTo>
                  <a:cubicBezTo>
                    <a:pt x="1472" y="1"/>
                    <a:pt x="1165" y="167"/>
                    <a:pt x="894" y="482"/>
                  </a:cubicBezTo>
                  <a:cubicBezTo>
                    <a:pt x="622" y="798"/>
                    <a:pt x="396" y="1252"/>
                    <a:pt x="239" y="1799"/>
                  </a:cubicBezTo>
                  <a:cubicBezTo>
                    <a:pt x="83" y="2347"/>
                    <a:pt x="0" y="2967"/>
                    <a:pt x="0" y="3599"/>
                  </a:cubicBezTo>
                  <a:lnTo>
                    <a:pt x="0" y="3599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29960" y="2971800"/>
              <a:ext cx="657000" cy="1295640"/>
            </a:xfrm>
            <a:custGeom>
              <a:avLst/>
              <a:gdLst/>
              <a:ahLst/>
              <a:rect l="0" t="0" r="r" b="b"/>
              <a:pathLst>
                <a:path fill="none" w="1825" h="3599">
                  <a:moveTo>
                    <a:pt x="1825" y="3599"/>
                  </a:moveTo>
                  <a:lnTo>
                    <a:pt x="1825" y="3599"/>
                  </a:lnTo>
                  <a:lnTo>
                    <a:pt x="1825" y="3599"/>
                  </a:lnTo>
                  <a:cubicBezTo>
                    <a:pt x="1825" y="2967"/>
                    <a:pt x="1741" y="2347"/>
                    <a:pt x="1580" y="1799"/>
                  </a:cubicBezTo>
                  <a:cubicBezTo>
                    <a:pt x="1420" y="1252"/>
                    <a:pt x="1189" y="798"/>
                    <a:pt x="911" y="482"/>
                  </a:cubicBezTo>
                  <a:cubicBezTo>
                    <a:pt x="634" y="167"/>
                    <a:pt x="320" y="1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28800" y="2971800"/>
            <a:ext cx="1315080" cy="1295640"/>
            <a:chOff x="1828800" y="2971800"/>
            <a:chExt cx="1315080" cy="1295640"/>
          </a:xfrm>
        </p:grpSpPr>
        <p:sp>
          <p:nvSpPr>
            <p:cNvPr id="175" name=""/>
            <p:cNvSpPr/>
            <p:nvPr/>
          </p:nvSpPr>
          <p:spPr>
            <a:xfrm>
              <a:off x="1828800" y="2971800"/>
              <a:ext cx="642600" cy="1295640"/>
            </a:xfrm>
            <a:custGeom>
              <a:avLst/>
              <a:gdLst/>
              <a:ahLst/>
              <a:rect l="0" t="0" r="r" b="b"/>
              <a:pathLst>
                <a:path fill="none" w="1785" h="3599">
                  <a:moveTo>
                    <a:pt x="1785" y="0"/>
                  </a:moveTo>
                  <a:lnTo>
                    <a:pt x="1785" y="0"/>
                  </a:lnTo>
                  <a:cubicBezTo>
                    <a:pt x="1472" y="1"/>
                    <a:pt x="1165" y="167"/>
                    <a:pt x="894" y="482"/>
                  </a:cubicBezTo>
                  <a:cubicBezTo>
                    <a:pt x="622" y="798"/>
                    <a:pt x="396" y="1252"/>
                    <a:pt x="239" y="1799"/>
                  </a:cubicBezTo>
                  <a:cubicBezTo>
                    <a:pt x="83" y="2347"/>
                    <a:pt x="0" y="2967"/>
                    <a:pt x="0" y="3599"/>
                  </a:cubicBezTo>
                  <a:lnTo>
                    <a:pt x="0" y="3599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6880" y="2971800"/>
              <a:ext cx="657000" cy="1295640"/>
            </a:xfrm>
            <a:custGeom>
              <a:avLst/>
              <a:gdLst/>
              <a:ahLst/>
              <a:rect l="0" t="0" r="r" b="b"/>
              <a:pathLst>
                <a:path fill="none" w="1825" h="3599">
                  <a:moveTo>
                    <a:pt x="1825" y="3599"/>
                  </a:moveTo>
                  <a:lnTo>
                    <a:pt x="1825" y="3599"/>
                  </a:lnTo>
                  <a:lnTo>
                    <a:pt x="1825" y="3599"/>
                  </a:lnTo>
                  <a:cubicBezTo>
                    <a:pt x="1825" y="2967"/>
                    <a:pt x="1741" y="2347"/>
                    <a:pt x="1580" y="1799"/>
                  </a:cubicBezTo>
                  <a:cubicBezTo>
                    <a:pt x="1420" y="1252"/>
                    <a:pt x="1189" y="798"/>
                    <a:pt x="911" y="482"/>
                  </a:cubicBezTo>
                  <a:cubicBezTo>
                    <a:pt x="634" y="167"/>
                    <a:pt x="320" y="1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2971800" y="5334120"/>
            <a:ext cx="321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Existing legacy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668680" y="4497480"/>
            <a:ext cx="379440" cy="8366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95680" y="4497480"/>
            <a:ext cx="0" cy="912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173640" y="4497480"/>
            <a:ext cx="303480" cy="9126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81280" y="2133720"/>
            <a:ext cx="4162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igh-rate channel interop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87840" y="2516040"/>
            <a:ext cx="227160" cy="5320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2286000"/>
            <a:ext cx="1770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 &gt; 3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Pos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205740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with 3 Legacy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troduce High-Rate Channel; Interoperate with Mid. Legacy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Move Legacy Units from  High-Rat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eep Three-Channel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igh-Speed/Legacy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Eventually Two High-Speed Chann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29400" y="1905120"/>
            <a:ext cx="1219680" cy="533880"/>
            <a:chOff x="6629400" y="1905120"/>
            <a:chExt cx="1219680" cy="533880"/>
          </a:xfrm>
        </p:grpSpPr>
        <p:grpSp>
          <p:nvGrpSpPr>
            <p:cNvPr id="187" name=""/>
            <p:cNvGrpSpPr/>
            <p:nvPr/>
          </p:nvGrpSpPr>
          <p:grpSpPr>
            <a:xfrm>
              <a:off x="7086600" y="1905120"/>
              <a:ext cx="305280" cy="533880"/>
              <a:chOff x="7086600" y="1905120"/>
              <a:chExt cx="305280" cy="533880"/>
            </a:xfrm>
          </p:grpSpPr>
          <p:sp>
            <p:nvSpPr>
              <p:cNvPr id="188" name=""/>
              <p:cNvSpPr/>
              <p:nvPr/>
            </p:nvSpPr>
            <p:spPr>
              <a:xfrm>
                <a:off x="7086600" y="19051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39240" y="19051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543800" y="1905120"/>
              <a:ext cx="305280" cy="533880"/>
              <a:chOff x="7543800" y="1905120"/>
              <a:chExt cx="305280" cy="533880"/>
            </a:xfrm>
          </p:grpSpPr>
          <p:sp>
            <p:nvSpPr>
              <p:cNvPr id="191" name=""/>
              <p:cNvSpPr/>
              <p:nvPr/>
            </p:nvSpPr>
            <p:spPr>
              <a:xfrm>
                <a:off x="7543800" y="19051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96440" y="19051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629400" y="1905120"/>
              <a:ext cx="305280" cy="533880"/>
              <a:chOff x="6629400" y="1905120"/>
              <a:chExt cx="305280" cy="533880"/>
            </a:xfrm>
          </p:grpSpPr>
          <p:sp>
            <p:nvSpPr>
              <p:cNvPr id="194" name=""/>
              <p:cNvSpPr/>
              <p:nvPr/>
            </p:nvSpPr>
            <p:spPr>
              <a:xfrm>
                <a:off x="6629400" y="19051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82040" y="19051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6629400" y="2590920"/>
            <a:ext cx="1219680" cy="533880"/>
            <a:chOff x="6629400" y="2590920"/>
            <a:chExt cx="1219680" cy="533880"/>
          </a:xfrm>
        </p:grpSpPr>
        <p:grpSp>
          <p:nvGrpSpPr>
            <p:cNvPr id="197" name=""/>
            <p:cNvGrpSpPr/>
            <p:nvPr/>
          </p:nvGrpSpPr>
          <p:grpSpPr>
            <a:xfrm>
              <a:off x="6858000" y="2590920"/>
              <a:ext cx="762120" cy="533880"/>
              <a:chOff x="6858000" y="2590920"/>
              <a:chExt cx="762120" cy="533880"/>
            </a:xfrm>
          </p:grpSpPr>
          <p:sp>
            <p:nvSpPr>
              <p:cNvPr id="198" name=""/>
              <p:cNvSpPr/>
              <p:nvPr/>
            </p:nvSpPr>
            <p:spPr>
              <a:xfrm>
                <a:off x="6858000" y="2590920"/>
                <a:ext cx="380880" cy="533880"/>
              </a:xfrm>
              <a:custGeom>
                <a:avLst/>
                <a:gdLst/>
                <a:ahLst/>
                <a:rect l="0" t="0" r="r" b="b"/>
                <a:pathLst>
                  <a:path fill="none" w="1058" h="1483"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872" y="0"/>
                      <a:pt x="690" y="69"/>
                      <a:pt x="530" y="199"/>
                    </a:cubicBezTo>
                    <a:cubicBezTo>
                      <a:pt x="369" y="329"/>
                      <a:pt x="235" y="516"/>
                      <a:pt x="142" y="741"/>
                    </a:cubicBezTo>
                    <a:cubicBezTo>
                      <a:pt x="49" y="967"/>
                      <a:pt x="0" y="1223"/>
                      <a:pt x="0" y="1483"/>
                    </a:cubicBezTo>
                    <a:lnTo>
                      <a:pt x="0" y="1483"/>
                    </a:lnTo>
                  </a:path>
                </a:pathLst>
              </a:custGeom>
              <a:ln w="12600">
                <a:solidFill>
                  <a:srgbClr val="fc012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39240" y="2590920"/>
                <a:ext cx="380880" cy="533880"/>
              </a:xfrm>
              <a:custGeom>
                <a:avLst/>
                <a:gdLst/>
                <a:ahLst/>
                <a:rect l="0" t="0" r="r" b="b"/>
                <a:pathLst>
                  <a:path fill="none" w="1058" h="1483">
                    <a:moveTo>
                      <a:pt x="1058" y="1483"/>
                    </a:moveTo>
                    <a:lnTo>
                      <a:pt x="1058" y="1483"/>
                    </a:lnTo>
                    <a:lnTo>
                      <a:pt x="1058" y="1483"/>
                    </a:lnTo>
                    <a:cubicBezTo>
                      <a:pt x="1058" y="1223"/>
                      <a:pt x="1009" y="967"/>
                      <a:pt x="916" y="741"/>
                    </a:cubicBezTo>
                    <a:cubicBezTo>
                      <a:pt x="823" y="516"/>
                      <a:pt x="689" y="329"/>
                      <a:pt x="528" y="199"/>
                    </a:cubicBezTo>
                    <a:cubicBezTo>
                      <a:pt x="368" y="69"/>
                      <a:pt x="186" y="0"/>
                      <a:pt x="0" y="0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086600" y="2590920"/>
              <a:ext cx="305280" cy="533880"/>
              <a:chOff x="7086600" y="2590920"/>
              <a:chExt cx="305280" cy="533880"/>
            </a:xfrm>
          </p:grpSpPr>
          <p:sp>
            <p:nvSpPr>
              <p:cNvPr id="201" name=""/>
              <p:cNvSpPr/>
              <p:nvPr/>
            </p:nvSpPr>
            <p:spPr>
              <a:xfrm>
                <a:off x="7086600" y="25909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39240" y="25909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543800" y="2590920"/>
              <a:ext cx="305280" cy="533880"/>
              <a:chOff x="7543800" y="2590920"/>
              <a:chExt cx="305280" cy="533880"/>
            </a:xfrm>
          </p:grpSpPr>
          <p:sp>
            <p:nvSpPr>
              <p:cNvPr id="204" name=""/>
              <p:cNvSpPr/>
              <p:nvPr/>
            </p:nvSpPr>
            <p:spPr>
              <a:xfrm>
                <a:off x="7543800" y="25909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96440" y="25909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6629400" y="2590920"/>
              <a:ext cx="305280" cy="533880"/>
              <a:chOff x="6629400" y="2590920"/>
              <a:chExt cx="305280" cy="533880"/>
            </a:xfrm>
          </p:grpSpPr>
          <p:sp>
            <p:nvSpPr>
              <p:cNvPr id="207" name=""/>
              <p:cNvSpPr/>
              <p:nvPr/>
            </p:nvSpPr>
            <p:spPr>
              <a:xfrm>
                <a:off x="6629400" y="25909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82040" y="25909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6858000" y="4114800"/>
            <a:ext cx="762120" cy="533880"/>
            <a:chOff x="6858000" y="4114800"/>
            <a:chExt cx="762120" cy="533880"/>
          </a:xfrm>
        </p:grpSpPr>
        <p:sp>
          <p:nvSpPr>
            <p:cNvPr id="210" name=""/>
            <p:cNvSpPr/>
            <p:nvPr/>
          </p:nvSpPr>
          <p:spPr>
            <a:xfrm>
              <a:off x="6858000" y="41148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0"/>
                  </a:moveTo>
                  <a:lnTo>
                    <a:pt x="1058" y="0"/>
                  </a:lnTo>
                  <a:cubicBezTo>
                    <a:pt x="872" y="0"/>
                    <a:pt x="690" y="69"/>
                    <a:pt x="530" y="199"/>
                  </a:cubicBezTo>
                  <a:cubicBezTo>
                    <a:pt x="369" y="329"/>
                    <a:pt x="235" y="516"/>
                    <a:pt x="142" y="741"/>
                  </a:cubicBezTo>
                  <a:cubicBezTo>
                    <a:pt x="49" y="967"/>
                    <a:pt x="0" y="1223"/>
                    <a:pt x="0" y="1483"/>
                  </a:cubicBezTo>
                  <a:lnTo>
                    <a:pt x="0" y="1483"/>
                  </a:lnTo>
                </a:path>
              </a:pathLst>
            </a:custGeom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9240" y="41148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1483"/>
                  </a:moveTo>
                  <a:lnTo>
                    <a:pt x="1058" y="1483"/>
                  </a:lnTo>
                  <a:lnTo>
                    <a:pt x="1058" y="1483"/>
                  </a:lnTo>
                  <a:cubicBezTo>
                    <a:pt x="1058" y="1223"/>
                    <a:pt x="1009" y="967"/>
                    <a:pt x="916" y="741"/>
                  </a:cubicBezTo>
                  <a:cubicBezTo>
                    <a:pt x="823" y="516"/>
                    <a:pt x="689" y="329"/>
                    <a:pt x="528" y="199"/>
                  </a:cubicBezTo>
                  <a:cubicBezTo>
                    <a:pt x="368" y="69"/>
                    <a:pt x="186" y="0"/>
                    <a:pt x="0" y="0"/>
                  </a:cubicBezTo>
                </a:path>
              </a:pathLst>
            </a:custGeom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543800" y="4114800"/>
            <a:ext cx="305280" cy="533880"/>
            <a:chOff x="7543800" y="4114800"/>
            <a:chExt cx="305280" cy="533880"/>
          </a:xfrm>
        </p:grpSpPr>
        <p:sp>
          <p:nvSpPr>
            <p:cNvPr id="213" name=""/>
            <p:cNvSpPr/>
            <p:nvPr/>
          </p:nvSpPr>
          <p:spPr>
            <a:xfrm>
              <a:off x="7543800" y="4114800"/>
              <a:ext cx="149400" cy="533880"/>
            </a:xfrm>
            <a:custGeom>
              <a:avLst/>
              <a:gdLst/>
              <a:ahLst/>
              <a:rect l="0" t="0" r="r" b="b"/>
              <a:pathLst>
                <a:path fill="none" w="415" h="1483">
                  <a:moveTo>
                    <a:pt x="415" y="0"/>
                  </a:moveTo>
                  <a:lnTo>
                    <a:pt x="415" y="0"/>
                  </a:lnTo>
                  <a:cubicBezTo>
                    <a:pt x="342" y="0"/>
                    <a:pt x="271" y="69"/>
                    <a:pt x="207" y="199"/>
                  </a:cubicBezTo>
                  <a:cubicBezTo>
                    <a:pt x="144" y="329"/>
                    <a:pt x="92" y="516"/>
                    <a:pt x="56" y="742"/>
                  </a:cubicBezTo>
                  <a:cubicBezTo>
                    <a:pt x="19" y="967"/>
                    <a:pt x="0" y="1223"/>
                    <a:pt x="0" y="1483"/>
                  </a:cubicBezTo>
                </a:path>
              </a:pathLst>
            </a:custGeom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96440" y="4114800"/>
              <a:ext cx="152640" cy="533880"/>
            </a:xfrm>
            <a:custGeom>
              <a:avLst/>
              <a:gdLst/>
              <a:ahLst/>
              <a:rect l="0" t="0" r="r" b="b"/>
              <a:pathLst>
                <a:path fill="none" w="424" h="1483">
                  <a:moveTo>
                    <a:pt x="424" y="1483"/>
                  </a:moveTo>
                  <a:lnTo>
                    <a:pt x="424" y="1483"/>
                  </a:lnTo>
                  <a:lnTo>
                    <a:pt x="424" y="1483"/>
                  </a:lnTo>
                  <a:cubicBezTo>
                    <a:pt x="424" y="1223"/>
                    <a:pt x="404" y="967"/>
                    <a:pt x="367" y="741"/>
                  </a:cubicBezTo>
                  <a:cubicBezTo>
                    <a:pt x="330" y="516"/>
                    <a:pt x="276" y="329"/>
                    <a:pt x="211" y="199"/>
                  </a:cubicBezTo>
                  <a:cubicBezTo>
                    <a:pt x="147" y="69"/>
                    <a:pt x="74" y="1"/>
                    <a:pt x="0" y="0"/>
                  </a:cubicBezTo>
                </a:path>
              </a:pathLst>
            </a:custGeom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629400" y="4114800"/>
            <a:ext cx="305280" cy="533880"/>
            <a:chOff x="6629400" y="4114800"/>
            <a:chExt cx="305280" cy="533880"/>
          </a:xfrm>
        </p:grpSpPr>
        <p:sp>
          <p:nvSpPr>
            <p:cNvPr id="216" name=""/>
            <p:cNvSpPr/>
            <p:nvPr/>
          </p:nvSpPr>
          <p:spPr>
            <a:xfrm>
              <a:off x="6629400" y="4114800"/>
              <a:ext cx="149400" cy="533880"/>
            </a:xfrm>
            <a:custGeom>
              <a:avLst/>
              <a:gdLst/>
              <a:ahLst/>
              <a:rect l="0" t="0" r="r" b="b"/>
              <a:pathLst>
                <a:path fill="none" w="415" h="1483">
                  <a:moveTo>
                    <a:pt x="415" y="0"/>
                  </a:moveTo>
                  <a:lnTo>
                    <a:pt x="415" y="0"/>
                  </a:lnTo>
                  <a:cubicBezTo>
                    <a:pt x="342" y="0"/>
                    <a:pt x="271" y="69"/>
                    <a:pt x="207" y="199"/>
                  </a:cubicBezTo>
                  <a:cubicBezTo>
                    <a:pt x="144" y="329"/>
                    <a:pt x="92" y="516"/>
                    <a:pt x="56" y="742"/>
                  </a:cubicBezTo>
                  <a:cubicBezTo>
                    <a:pt x="19" y="967"/>
                    <a:pt x="0" y="1223"/>
                    <a:pt x="0" y="1483"/>
                  </a:cubicBezTo>
                </a:path>
              </a:pathLst>
            </a:custGeom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2040" y="4114800"/>
              <a:ext cx="152640" cy="533880"/>
            </a:xfrm>
            <a:custGeom>
              <a:avLst/>
              <a:gdLst/>
              <a:ahLst/>
              <a:rect l="0" t="0" r="r" b="b"/>
              <a:pathLst>
                <a:path fill="none" w="424" h="1483">
                  <a:moveTo>
                    <a:pt x="424" y="1483"/>
                  </a:moveTo>
                  <a:lnTo>
                    <a:pt x="424" y="1483"/>
                  </a:lnTo>
                  <a:lnTo>
                    <a:pt x="424" y="1483"/>
                  </a:lnTo>
                  <a:cubicBezTo>
                    <a:pt x="424" y="1223"/>
                    <a:pt x="404" y="967"/>
                    <a:pt x="367" y="741"/>
                  </a:cubicBezTo>
                  <a:cubicBezTo>
                    <a:pt x="330" y="516"/>
                    <a:pt x="276" y="329"/>
                    <a:pt x="211" y="199"/>
                  </a:cubicBezTo>
                  <a:cubicBezTo>
                    <a:pt x="147" y="69"/>
                    <a:pt x="74" y="1"/>
                    <a:pt x="0" y="0"/>
                  </a:cubicBezTo>
                </a:path>
              </a:pathLst>
            </a:custGeom>
            <a:ln w="12600">
              <a:solidFill>
                <a:srgbClr val="0000c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629400" y="3276720"/>
            <a:ext cx="1219680" cy="762480"/>
            <a:chOff x="6629400" y="3276720"/>
            <a:chExt cx="1219680" cy="762480"/>
          </a:xfrm>
        </p:grpSpPr>
        <p:grpSp>
          <p:nvGrpSpPr>
            <p:cNvPr id="219" name=""/>
            <p:cNvGrpSpPr/>
            <p:nvPr/>
          </p:nvGrpSpPr>
          <p:grpSpPr>
            <a:xfrm>
              <a:off x="6858000" y="3505320"/>
              <a:ext cx="762120" cy="533880"/>
              <a:chOff x="6858000" y="3505320"/>
              <a:chExt cx="762120" cy="533880"/>
            </a:xfrm>
          </p:grpSpPr>
          <p:sp>
            <p:nvSpPr>
              <p:cNvPr id="220" name=""/>
              <p:cNvSpPr/>
              <p:nvPr/>
            </p:nvSpPr>
            <p:spPr>
              <a:xfrm>
                <a:off x="6858000" y="3505320"/>
                <a:ext cx="380880" cy="533880"/>
              </a:xfrm>
              <a:custGeom>
                <a:avLst/>
                <a:gdLst/>
                <a:ahLst/>
                <a:rect l="0" t="0" r="r" b="b"/>
                <a:pathLst>
                  <a:path fill="none" w="1058" h="1483">
                    <a:moveTo>
                      <a:pt x="1058" y="0"/>
                    </a:moveTo>
                    <a:lnTo>
                      <a:pt x="1058" y="0"/>
                    </a:lnTo>
                    <a:cubicBezTo>
                      <a:pt x="872" y="0"/>
                      <a:pt x="690" y="69"/>
                      <a:pt x="530" y="199"/>
                    </a:cubicBezTo>
                    <a:cubicBezTo>
                      <a:pt x="369" y="329"/>
                      <a:pt x="235" y="516"/>
                      <a:pt x="142" y="741"/>
                    </a:cubicBezTo>
                    <a:cubicBezTo>
                      <a:pt x="49" y="967"/>
                      <a:pt x="0" y="1223"/>
                      <a:pt x="0" y="1483"/>
                    </a:cubicBezTo>
                    <a:lnTo>
                      <a:pt x="0" y="148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239240" y="3505320"/>
                <a:ext cx="380880" cy="533880"/>
              </a:xfrm>
              <a:custGeom>
                <a:avLst/>
                <a:gdLst/>
                <a:ahLst/>
                <a:rect l="0" t="0" r="r" b="b"/>
                <a:pathLst>
                  <a:path fill="none" w="1058" h="1483">
                    <a:moveTo>
                      <a:pt x="1058" y="1483"/>
                    </a:moveTo>
                    <a:lnTo>
                      <a:pt x="1058" y="1483"/>
                    </a:lnTo>
                    <a:lnTo>
                      <a:pt x="1058" y="1483"/>
                    </a:lnTo>
                    <a:cubicBezTo>
                      <a:pt x="1058" y="1223"/>
                      <a:pt x="1009" y="967"/>
                      <a:pt x="916" y="741"/>
                    </a:cubicBezTo>
                    <a:cubicBezTo>
                      <a:pt x="823" y="516"/>
                      <a:pt x="689" y="329"/>
                      <a:pt x="528" y="199"/>
                    </a:cubicBezTo>
                    <a:cubicBezTo>
                      <a:pt x="368" y="69"/>
                      <a:pt x="186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086600" y="3505320"/>
              <a:ext cx="305280" cy="533880"/>
              <a:chOff x="7086600" y="3505320"/>
              <a:chExt cx="305280" cy="533880"/>
            </a:xfrm>
          </p:grpSpPr>
          <p:sp>
            <p:nvSpPr>
              <p:cNvPr id="223" name=""/>
              <p:cNvSpPr/>
              <p:nvPr/>
            </p:nvSpPr>
            <p:spPr>
              <a:xfrm>
                <a:off x="7086600" y="35053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919191"/>
                </a:solidFill>
                <a:custDash>
                  <a:ds d="202857" sp="2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39240" y="35053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919191"/>
                </a:solidFill>
                <a:custDash>
                  <a:ds d="202857" sp="2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543800" y="3505320"/>
              <a:ext cx="305280" cy="533880"/>
              <a:chOff x="7543800" y="3505320"/>
              <a:chExt cx="305280" cy="533880"/>
            </a:xfrm>
          </p:grpSpPr>
          <p:sp>
            <p:nvSpPr>
              <p:cNvPr id="226" name=""/>
              <p:cNvSpPr/>
              <p:nvPr/>
            </p:nvSpPr>
            <p:spPr>
              <a:xfrm>
                <a:off x="7543800" y="35053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96440" y="35053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629400" y="3505320"/>
              <a:ext cx="305280" cy="533880"/>
              <a:chOff x="6629400" y="3505320"/>
              <a:chExt cx="305280" cy="533880"/>
            </a:xfrm>
          </p:grpSpPr>
          <p:sp>
            <p:nvSpPr>
              <p:cNvPr id="229" name=""/>
              <p:cNvSpPr/>
              <p:nvPr/>
            </p:nvSpPr>
            <p:spPr>
              <a:xfrm>
                <a:off x="6629400" y="3505320"/>
                <a:ext cx="149400" cy="533880"/>
              </a:xfrm>
              <a:custGeom>
                <a:avLst/>
                <a:gdLst/>
                <a:ahLst/>
                <a:rect l="0" t="0" r="r" b="b"/>
                <a:pathLst>
                  <a:path fill="none" w="415" h="1483">
                    <a:moveTo>
                      <a:pt x="415" y="0"/>
                    </a:moveTo>
                    <a:lnTo>
                      <a:pt x="415" y="0"/>
                    </a:lnTo>
                    <a:cubicBezTo>
                      <a:pt x="342" y="0"/>
                      <a:pt x="271" y="69"/>
                      <a:pt x="207" y="199"/>
                    </a:cubicBezTo>
                    <a:cubicBezTo>
                      <a:pt x="144" y="329"/>
                      <a:pt x="92" y="516"/>
                      <a:pt x="56" y="742"/>
                    </a:cubicBezTo>
                    <a:cubicBezTo>
                      <a:pt x="19" y="967"/>
                      <a:pt x="0" y="1223"/>
                      <a:pt x="0" y="148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82040" y="3505320"/>
                <a:ext cx="152640" cy="533880"/>
              </a:xfrm>
              <a:custGeom>
                <a:avLst/>
                <a:gdLst/>
                <a:ahLst/>
                <a:rect l="0" t="0" r="r" b="b"/>
                <a:pathLst>
                  <a:path fill="none" w="424" h="1483">
                    <a:moveTo>
                      <a:pt x="424" y="1483"/>
                    </a:moveTo>
                    <a:lnTo>
                      <a:pt x="424" y="1483"/>
                    </a:lnTo>
                    <a:lnTo>
                      <a:pt x="424" y="1483"/>
                    </a:lnTo>
                    <a:cubicBezTo>
                      <a:pt x="424" y="1223"/>
                      <a:pt x="404" y="967"/>
                      <a:pt x="367" y="741"/>
                    </a:cubicBezTo>
                    <a:cubicBezTo>
                      <a:pt x="330" y="516"/>
                      <a:pt x="276" y="329"/>
                      <a:pt x="211" y="199"/>
                    </a:cubicBezTo>
                    <a:cubicBezTo>
                      <a:pt x="147" y="69"/>
                      <a:pt x="74" y="1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7391880" y="3276720"/>
              <a:ext cx="304920" cy="152640"/>
            </a:xfrm>
            <a:custGeom>
              <a:avLst/>
              <a:gdLst/>
              <a:ahLst/>
              <a:rect l="0" t="0" r="r" b="b"/>
              <a:pathLst>
                <a:path fill="none" w="847" h="424">
                  <a:moveTo>
                    <a:pt x="847" y="424"/>
                  </a:moveTo>
                  <a:lnTo>
                    <a:pt x="847" y="424"/>
                  </a:lnTo>
                  <a:lnTo>
                    <a:pt x="847" y="424"/>
                  </a:lnTo>
                  <a:cubicBezTo>
                    <a:pt x="847" y="350"/>
                    <a:pt x="808" y="276"/>
                    <a:pt x="733" y="212"/>
                  </a:cubicBezTo>
                  <a:cubicBezTo>
                    <a:pt x="659" y="148"/>
                    <a:pt x="552" y="94"/>
                    <a:pt x="423" y="57"/>
                  </a:cubicBezTo>
                  <a:cubicBezTo>
                    <a:pt x="294" y="20"/>
                    <a:pt x="149" y="0"/>
                    <a:pt x="0" y="0"/>
                  </a:cubicBezTo>
                </a:path>
              </a:pathLst>
            </a:custGeom>
            <a:ln w="12600">
              <a:solidFill>
                <a:srgbClr val="919191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3276720"/>
              <a:ext cx="304920" cy="152640"/>
            </a:xfrm>
            <a:custGeom>
              <a:avLst/>
              <a:gdLst/>
              <a:ahLst/>
              <a:rect l="0" t="0" r="r" b="b"/>
              <a:pathLst>
                <a:path fill="none" w="847" h="424">
                  <a:moveTo>
                    <a:pt x="847" y="0"/>
                  </a:moveTo>
                  <a:lnTo>
                    <a:pt x="847" y="0"/>
                  </a:lnTo>
                  <a:cubicBezTo>
                    <a:pt x="698" y="0"/>
                    <a:pt x="553" y="20"/>
                    <a:pt x="424" y="57"/>
                  </a:cubicBezTo>
                  <a:cubicBezTo>
                    <a:pt x="295" y="94"/>
                    <a:pt x="188" y="148"/>
                    <a:pt x="114" y="212"/>
                  </a:cubicBezTo>
                  <a:cubicBezTo>
                    <a:pt x="39" y="276"/>
                    <a:pt x="0" y="350"/>
                    <a:pt x="0" y="424"/>
                  </a:cubicBezTo>
                  <a:lnTo>
                    <a:pt x="0" y="424"/>
                  </a:lnTo>
                </a:path>
              </a:pathLst>
            </a:custGeom>
            <a:ln w="12600">
              <a:solidFill>
                <a:srgbClr val="919191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629400" y="4800600"/>
            <a:ext cx="762120" cy="533880"/>
            <a:chOff x="6629400" y="4800600"/>
            <a:chExt cx="762120" cy="533880"/>
          </a:xfrm>
        </p:grpSpPr>
        <p:sp>
          <p:nvSpPr>
            <p:cNvPr id="234" name=""/>
            <p:cNvSpPr/>
            <p:nvPr/>
          </p:nvSpPr>
          <p:spPr>
            <a:xfrm>
              <a:off x="6629400" y="48006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0"/>
                  </a:moveTo>
                  <a:lnTo>
                    <a:pt x="1058" y="0"/>
                  </a:lnTo>
                  <a:cubicBezTo>
                    <a:pt x="872" y="0"/>
                    <a:pt x="690" y="69"/>
                    <a:pt x="530" y="199"/>
                  </a:cubicBezTo>
                  <a:cubicBezTo>
                    <a:pt x="369" y="329"/>
                    <a:pt x="235" y="516"/>
                    <a:pt x="142" y="741"/>
                  </a:cubicBezTo>
                  <a:cubicBezTo>
                    <a:pt x="49" y="967"/>
                    <a:pt x="0" y="1223"/>
                    <a:pt x="0" y="1483"/>
                  </a:cubicBezTo>
                  <a:lnTo>
                    <a:pt x="0" y="14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0640" y="48006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1483"/>
                  </a:moveTo>
                  <a:lnTo>
                    <a:pt x="1058" y="1483"/>
                  </a:lnTo>
                  <a:lnTo>
                    <a:pt x="1058" y="1483"/>
                  </a:lnTo>
                  <a:cubicBezTo>
                    <a:pt x="1058" y="1223"/>
                    <a:pt x="1009" y="967"/>
                    <a:pt x="916" y="741"/>
                  </a:cubicBezTo>
                  <a:cubicBezTo>
                    <a:pt x="823" y="516"/>
                    <a:pt x="689" y="329"/>
                    <a:pt x="528" y="199"/>
                  </a:cubicBezTo>
                  <a:cubicBezTo>
                    <a:pt x="368" y="69"/>
                    <a:pt x="186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315200" y="4800600"/>
            <a:ext cx="305280" cy="533880"/>
            <a:chOff x="7315200" y="4800600"/>
            <a:chExt cx="305280" cy="533880"/>
          </a:xfrm>
        </p:grpSpPr>
        <p:sp>
          <p:nvSpPr>
            <p:cNvPr id="237" name=""/>
            <p:cNvSpPr/>
            <p:nvPr/>
          </p:nvSpPr>
          <p:spPr>
            <a:xfrm>
              <a:off x="7315200" y="4800600"/>
              <a:ext cx="149400" cy="533880"/>
            </a:xfrm>
            <a:custGeom>
              <a:avLst/>
              <a:gdLst/>
              <a:ahLst/>
              <a:rect l="0" t="0" r="r" b="b"/>
              <a:pathLst>
                <a:path fill="none" w="415" h="1483">
                  <a:moveTo>
                    <a:pt x="415" y="0"/>
                  </a:moveTo>
                  <a:lnTo>
                    <a:pt x="415" y="0"/>
                  </a:lnTo>
                  <a:cubicBezTo>
                    <a:pt x="342" y="0"/>
                    <a:pt x="271" y="69"/>
                    <a:pt x="207" y="199"/>
                  </a:cubicBezTo>
                  <a:cubicBezTo>
                    <a:pt x="144" y="329"/>
                    <a:pt x="92" y="516"/>
                    <a:pt x="56" y="742"/>
                  </a:cubicBezTo>
                  <a:cubicBezTo>
                    <a:pt x="19" y="967"/>
                    <a:pt x="0" y="1223"/>
                    <a:pt x="0" y="1483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840" y="4800600"/>
              <a:ext cx="152640" cy="533880"/>
            </a:xfrm>
            <a:custGeom>
              <a:avLst/>
              <a:gdLst/>
              <a:ahLst/>
              <a:rect l="0" t="0" r="r" b="b"/>
              <a:pathLst>
                <a:path fill="none" w="424" h="1483">
                  <a:moveTo>
                    <a:pt x="424" y="1483"/>
                  </a:moveTo>
                  <a:lnTo>
                    <a:pt x="424" y="1483"/>
                  </a:lnTo>
                  <a:lnTo>
                    <a:pt x="424" y="1483"/>
                  </a:lnTo>
                  <a:cubicBezTo>
                    <a:pt x="424" y="1223"/>
                    <a:pt x="404" y="967"/>
                    <a:pt x="367" y="741"/>
                  </a:cubicBezTo>
                  <a:cubicBezTo>
                    <a:pt x="330" y="516"/>
                    <a:pt x="276" y="329"/>
                    <a:pt x="211" y="199"/>
                  </a:cubicBezTo>
                  <a:cubicBezTo>
                    <a:pt x="147" y="69"/>
                    <a:pt x="74" y="1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858000" y="4800600"/>
            <a:ext cx="305280" cy="533880"/>
            <a:chOff x="6858000" y="4800600"/>
            <a:chExt cx="305280" cy="533880"/>
          </a:xfrm>
        </p:grpSpPr>
        <p:sp>
          <p:nvSpPr>
            <p:cNvPr id="240" name=""/>
            <p:cNvSpPr/>
            <p:nvPr/>
          </p:nvSpPr>
          <p:spPr>
            <a:xfrm>
              <a:off x="6858000" y="4800600"/>
              <a:ext cx="149400" cy="533880"/>
            </a:xfrm>
            <a:custGeom>
              <a:avLst/>
              <a:gdLst/>
              <a:ahLst/>
              <a:rect l="0" t="0" r="r" b="b"/>
              <a:pathLst>
                <a:path fill="none" w="415" h="1483">
                  <a:moveTo>
                    <a:pt x="415" y="0"/>
                  </a:moveTo>
                  <a:lnTo>
                    <a:pt x="415" y="0"/>
                  </a:lnTo>
                  <a:cubicBezTo>
                    <a:pt x="342" y="0"/>
                    <a:pt x="271" y="69"/>
                    <a:pt x="207" y="199"/>
                  </a:cubicBezTo>
                  <a:cubicBezTo>
                    <a:pt x="144" y="329"/>
                    <a:pt x="92" y="516"/>
                    <a:pt x="56" y="742"/>
                  </a:cubicBezTo>
                  <a:cubicBezTo>
                    <a:pt x="19" y="967"/>
                    <a:pt x="0" y="1223"/>
                    <a:pt x="0" y="1483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10640" y="4800600"/>
              <a:ext cx="152640" cy="533880"/>
            </a:xfrm>
            <a:custGeom>
              <a:avLst/>
              <a:gdLst/>
              <a:ahLst/>
              <a:rect l="0" t="0" r="r" b="b"/>
              <a:pathLst>
                <a:path fill="none" w="424" h="1483">
                  <a:moveTo>
                    <a:pt x="424" y="1483"/>
                  </a:moveTo>
                  <a:lnTo>
                    <a:pt x="424" y="1483"/>
                  </a:lnTo>
                  <a:lnTo>
                    <a:pt x="424" y="1483"/>
                  </a:lnTo>
                  <a:cubicBezTo>
                    <a:pt x="424" y="1223"/>
                    <a:pt x="404" y="967"/>
                    <a:pt x="367" y="741"/>
                  </a:cubicBezTo>
                  <a:cubicBezTo>
                    <a:pt x="330" y="516"/>
                    <a:pt x="276" y="329"/>
                    <a:pt x="211" y="199"/>
                  </a:cubicBezTo>
                  <a:cubicBezTo>
                    <a:pt x="147" y="69"/>
                    <a:pt x="74" y="1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629400" y="5486400"/>
            <a:ext cx="762120" cy="533880"/>
            <a:chOff x="6629400" y="5486400"/>
            <a:chExt cx="762120" cy="533880"/>
          </a:xfrm>
        </p:grpSpPr>
        <p:sp>
          <p:nvSpPr>
            <p:cNvPr id="243" name=""/>
            <p:cNvSpPr/>
            <p:nvPr/>
          </p:nvSpPr>
          <p:spPr>
            <a:xfrm>
              <a:off x="6629400" y="54864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0"/>
                  </a:moveTo>
                  <a:lnTo>
                    <a:pt x="1058" y="0"/>
                  </a:lnTo>
                  <a:cubicBezTo>
                    <a:pt x="872" y="0"/>
                    <a:pt x="690" y="69"/>
                    <a:pt x="530" y="199"/>
                  </a:cubicBezTo>
                  <a:cubicBezTo>
                    <a:pt x="369" y="329"/>
                    <a:pt x="235" y="516"/>
                    <a:pt x="142" y="741"/>
                  </a:cubicBezTo>
                  <a:cubicBezTo>
                    <a:pt x="49" y="967"/>
                    <a:pt x="0" y="1223"/>
                    <a:pt x="0" y="1483"/>
                  </a:cubicBezTo>
                  <a:lnTo>
                    <a:pt x="0" y="1483"/>
                  </a:ln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10640" y="54864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1483"/>
                  </a:moveTo>
                  <a:lnTo>
                    <a:pt x="1058" y="1483"/>
                  </a:lnTo>
                  <a:lnTo>
                    <a:pt x="1058" y="1483"/>
                  </a:lnTo>
                  <a:cubicBezTo>
                    <a:pt x="1058" y="1223"/>
                    <a:pt x="1009" y="967"/>
                    <a:pt x="916" y="741"/>
                  </a:cubicBezTo>
                  <a:cubicBezTo>
                    <a:pt x="823" y="516"/>
                    <a:pt x="689" y="329"/>
                    <a:pt x="528" y="199"/>
                  </a:cubicBezTo>
                  <a:cubicBezTo>
                    <a:pt x="368" y="69"/>
                    <a:pt x="186" y="0"/>
                    <a:pt x="0" y="0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086600" y="5486400"/>
            <a:ext cx="762120" cy="533880"/>
            <a:chOff x="7086600" y="5486400"/>
            <a:chExt cx="762120" cy="533880"/>
          </a:xfrm>
        </p:grpSpPr>
        <p:sp>
          <p:nvSpPr>
            <p:cNvPr id="246" name=""/>
            <p:cNvSpPr/>
            <p:nvPr/>
          </p:nvSpPr>
          <p:spPr>
            <a:xfrm>
              <a:off x="7086600" y="54864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0"/>
                  </a:moveTo>
                  <a:lnTo>
                    <a:pt x="1058" y="0"/>
                  </a:lnTo>
                  <a:cubicBezTo>
                    <a:pt x="872" y="0"/>
                    <a:pt x="690" y="69"/>
                    <a:pt x="530" y="199"/>
                  </a:cubicBezTo>
                  <a:cubicBezTo>
                    <a:pt x="369" y="329"/>
                    <a:pt x="235" y="516"/>
                    <a:pt x="142" y="741"/>
                  </a:cubicBezTo>
                  <a:cubicBezTo>
                    <a:pt x="49" y="967"/>
                    <a:pt x="0" y="1223"/>
                    <a:pt x="0" y="1483"/>
                  </a:cubicBezTo>
                  <a:lnTo>
                    <a:pt x="0" y="1483"/>
                  </a:ln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67840" y="54864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1483"/>
                  </a:moveTo>
                  <a:lnTo>
                    <a:pt x="1058" y="1483"/>
                  </a:lnTo>
                  <a:lnTo>
                    <a:pt x="1058" y="1483"/>
                  </a:lnTo>
                  <a:cubicBezTo>
                    <a:pt x="1058" y="1223"/>
                    <a:pt x="1009" y="967"/>
                    <a:pt x="916" y="741"/>
                  </a:cubicBezTo>
                  <a:cubicBezTo>
                    <a:pt x="823" y="516"/>
                    <a:pt x="689" y="329"/>
                    <a:pt x="528" y="199"/>
                  </a:cubicBezTo>
                  <a:cubicBezTo>
                    <a:pt x="368" y="69"/>
                    <a:pt x="186" y="0"/>
                    <a:pt x="0" y="0"/>
                  </a:cubicBezTo>
                </a:path>
              </a:pathLst>
            </a:custGeom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086600" y="4800600"/>
            <a:ext cx="762120" cy="533880"/>
            <a:chOff x="7086600" y="4800600"/>
            <a:chExt cx="762120" cy="533880"/>
          </a:xfrm>
        </p:grpSpPr>
        <p:sp>
          <p:nvSpPr>
            <p:cNvPr id="249" name=""/>
            <p:cNvSpPr/>
            <p:nvPr/>
          </p:nvSpPr>
          <p:spPr>
            <a:xfrm>
              <a:off x="7086600" y="48006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0"/>
                  </a:moveTo>
                  <a:lnTo>
                    <a:pt x="1058" y="0"/>
                  </a:lnTo>
                  <a:cubicBezTo>
                    <a:pt x="872" y="0"/>
                    <a:pt x="690" y="69"/>
                    <a:pt x="530" y="199"/>
                  </a:cubicBezTo>
                  <a:cubicBezTo>
                    <a:pt x="369" y="329"/>
                    <a:pt x="235" y="516"/>
                    <a:pt x="142" y="741"/>
                  </a:cubicBezTo>
                  <a:cubicBezTo>
                    <a:pt x="49" y="967"/>
                    <a:pt x="0" y="1223"/>
                    <a:pt x="0" y="1483"/>
                  </a:cubicBezTo>
                  <a:lnTo>
                    <a:pt x="0" y="14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7840" y="4800600"/>
              <a:ext cx="380880" cy="533880"/>
            </a:xfrm>
            <a:custGeom>
              <a:avLst/>
              <a:gdLst/>
              <a:ahLst/>
              <a:rect l="0" t="0" r="r" b="b"/>
              <a:pathLst>
                <a:path fill="none" w="1058" h="1483">
                  <a:moveTo>
                    <a:pt x="1058" y="1483"/>
                  </a:moveTo>
                  <a:lnTo>
                    <a:pt x="1058" y="1483"/>
                  </a:lnTo>
                  <a:lnTo>
                    <a:pt x="1058" y="1483"/>
                  </a:lnTo>
                  <a:cubicBezTo>
                    <a:pt x="1058" y="1223"/>
                    <a:pt x="1009" y="967"/>
                    <a:pt x="916" y="741"/>
                  </a:cubicBezTo>
                  <a:cubicBezTo>
                    <a:pt x="823" y="516"/>
                    <a:pt x="689" y="329"/>
                    <a:pt x="528" y="199"/>
                  </a:cubicBezTo>
                  <a:cubicBezTo>
                    <a:pt x="368" y="69"/>
                    <a:pt x="186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352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N Code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ially for BSA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10-/18-Mbps Frequency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Half-Bandwidth Channels if Des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09480" y="228600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Frequency/One-Code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use of frequencies demands shar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Frequency/Many-Code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use of frequencies can be shared or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 Isolation Critical for High Syste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 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