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2BC75F-ABD5-4E6D-86E3-C04323DDB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86320" y="396720"/>
            <a:ext cx="39718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198b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s of a Successful Stand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17720" y="2438280"/>
            <a:ext cx="321624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57800" y="4038480"/>
            <a:ext cx="1147680" cy="477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638680" y="2666880"/>
            <a:ext cx="63972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rger of known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79520" y="4489560"/>
            <a:ext cx="4508640" cy="482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92480" y="4502160"/>
            <a:ext cx="4483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ker Code Position Mod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98440" y="1746360"/>
            <a:ext cx="3392640" cy="955800"/>
            <a:chOff x="298440" y="1746360"/>
            <a:chExt cx="3392640" cy="955800"/>
          </a:xfrm>
        </p:grpSpPr>
        <p:sp>
          <p:nvSpPr>
            <p:cNvPr id="58" name=""/>
            <p:cNvSpPr txBox="1"/>
            <p:nvPr/>
          </p:nvSpPr>
          <p:spPr>
            <a:xfrm>
              <a:off x="298440" y="1746360"/>
              <a:ext cx="3392640" cy="482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lse position modu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762120" y="2184480"/>
              <a:ext cx="215424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adar Systems since WW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rse Code telegrap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5479920" y="1746360"/>
            <a:ext cx="3359520" cy="1269720"/>
            <a:chOff x="5479920" y="1746360"/>
            <a:chExt cx="3359520" cy="1269720"/>
          </a:xfrm>
        </p:grpSpPr>
        <p:sp>
          <p:nvSpPr>
            <p:cNvPr id="61" name=""/>
            <p:cNvSpPr txBox="1"/>
            <p:nvPr/>
          </p:nvSpPr>
          <p:spPr>
            <a:xfrm>
              <a:off x="5479920" y="1746360"/>
              <a:ext cx="3137040" cy="482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EEE 802.11 DS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5791320" y="2286000"/>
              <a:ext cx="304812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rect Sequence spread spectrum well know  technique. Already part of the IEEE 2Mbps standard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 txBox="1"/>
          <p:nvPr/>
        </p:nvSpPr>
        <p:spPr>
          <a:xfrm>
            <a:off x="1295280" y="5334120"/>
            <a:ext cx="6245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ield proven mixture of technologies that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895480" y="2209680"/>
            <a:ext cx="313704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-6480" y="1676520"/>
            <a:ext cx="548280" cy="521640"/>
            <a:chOff x="-6480" y="1676520"/>
            <a:chExt cx="548280" cy="521640"/>
          </a:xfrm>
        </p:grpSpPr>
        <p:grpSp>
          <p:nvGrpSpPr>
            <p:cNvPr id="66" name=""/>
            <p:cNvGrpSpPr/>
            <p:nvPr/>
          </p:nvGrpSpPr>
          <p:grpSpPr>
            <a:xfrm>
              <a:off x="193680" y="1771560"/>
              <a:ext cx="190440" cy="262080"/>
              <a:chOff x="193680" y="1771560"/>
              <a:chExt cx="190440" cy="262080"/>
            </a:xfrm>
          </p:grpSpPr>
          <p:sp>
            <p:nvSpPr>
              <p:cNvPr id="67" name=""/>
              <p:cNvSpPr/>
              <p:nvPr/>
            </p:nvSpPr>
            <p:spPr>
              <a:xfrm flipH="1">
                <a:off x="193680" y="203364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324000" y="177336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>
                <a:off x="270000" y="1771560"/>
                <a:ext cx="10476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flipV="1">
                <a:off x="279360" y="1771560"/>
                <a:ext cx="10476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"/>
            <p:cNvSpPr txBox="1"/>
            <p:nvPr/>
          </p:nvSpPr>
          <p:spPr>
            <a:xfrm>
              <a:off x="-6480" y="1762200"/>
              <a:ext cx="193680" cy="4359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969696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Swis721 Cn BT"/>
                  <a:ea typeface="Swis721 Cn BT"/>
                </a:rPr>
                <a:t>T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2280" y="1676520"/>
              <a:ext cx="119520" cy="68760"/>
            </a:xfrm>
            <a:custGeom>
              <a:avLst/>
              <a:gdLst/>
              <a:ahLst/>
              <a:rect l="0" t="0" r="r" b="b"/>
              <a:pathLst>
                <a:path fill="none" w="332" h="191">
                  <a:moveTo>
                    <a:pt x="0" y="191"/>
                  </a:moveTo>
                  <a:lnTo>
                    <a:pt x="150" y="191"/>
                  </a:lnTo>
                  <a:lnTo>
                    <a:pt x="128" y="0"/>
                  </a:lnTo>
                  <a:lnTo>
                    <a:pt x="332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8229600" y="1676520"/>
            <a:ext cx="512640" cy="521640"/>
            <a:chOff x="8229600" y="1676520"/>
            <a:chExt cx="512640" cy="521640"/>
          </a:xfrm>
        </p:grpSpPr>
        <p:grpSp>
          <p:nvGrpSpPr>
            <p:cNvPr id="74" name=""/>
            <p:cNvGrpSpPr/>
            <p:nvPr/>
          </p:nvGrpSpPr>
          <p:grpSpPr>
            <a:xfrm>
              <a:off x="8354880" y="1771560"/>
              <a:ext cx="190800" cy="262080"/>
              <a:chOff x="8354880" y="1771560"/>
              <a:chExt cx="190800" cy="262080"/>
            </a:xfrm>
          </p:grpSpPr>
          <p:sp>
            <p:nvSpPr>
              <p:cNvPr id="75" name=""/>
              <p:cNvSpPr/>
              <p:nvPr/>
            </p:nvSpPr>
            <p:spPr>
              <a:xfrm>
                <a:off x="8416800" y="2033640"/>
                <a:ext cx="12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8413920" y="177336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366040" y="1771560"/>
                <a:ext cx="10476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8354880" y="1771560"/>
                <a:ext cx="10332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"/>
            <p:cNvSpPr txBox="1"/>
            <p:nvPr/>
          </p:nvSpPr>
          <p:spPr>
            <a:xfrm>
              <a:off x="8548560" y="1762200"/>
              <a:ext cx="193680" cy="4359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969696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Swis721 Cn BT"/>
                  <a:ea typeface="Swis721 Cn BT"/>
                </a:rPr>
                <a:t>R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229600" y="1676520"/>
              <a:ext cx="120960" cy="68760"/>
            </a:xfrm>
            <a:custGeom>
              <a:avLst/>
              <a:gdLst/>
              <a:ahLst/>
              <a:rect l="0" t="0" r="r" b="b"/>
              <a:pathLst>
                <a:path fill="none" w="336" h="191">
                  <a:moveTo>
                    <a:pt x="0" y="191"/>
                  </a:moveTo>
                  <a:lnTo>
                    <a:pt x="149" y="191"/>
                  </a:lnTo>
                  <a:lnTo>
                    <a:pt x="127" y="0"/>
                  </a:lnTo>
                  <a:lnTo>
                    <a:pt x="33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7689960" y="1898640"/>
            <a:ext cx="633240" cy="22392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50000">
                <a:srgbClr val="00175e"/>
              </a:gs>
              <a:gs pos="100000">
                <a:srgbClr val="0033cc"/>
              </a:gs>
            </a:gsLst>
            <a:lin ang="5400000"/>
          </a:gradFill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794720" y="1957320"/>
            <a:ext cx="423720" cy="1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89960" y="1898640"/>
            <a:ext cx="633240" cy="22392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50000">
                <a:srgbClr val="00175e"/>
              </a:gs>
              <a:gs pos="100000">
                <a:srgbClr val="0033cc"/>
              </a:gs>
            </a:gsLst>
            <a:lin ang="5400000"/>
          </a:gradFill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794720" y="1957320"/>
            <a:ext cx="423720" cy="1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89960" y="1898640"/>
            <a:ext cx="633240" cy="22392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50000">
                <a:srgbClr val="00175e"/>
              </a:gs>
              <a:gs pos="100000">
                <a:srgbClr val="0033cc"/>
              </a:gs>
            </a:gsLst>
            <a:lin ang="5400000"/>
          </a:gradFill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94720" y="1957320"/>
            <a:ext cx="423720" cy="1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es Issues From the 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38080" y="1828800"/>
            <a:ext cx="7772400" cy="60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mplexity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decoding techniques provides “excellent performance vs gate cou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K gate, 40K gate, 60K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Power Consu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mA @ 3Volts PC-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Design meeting 10Mpbs thres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llent Payback for Fall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le approach without the need to band-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172200" y="1523880"/>
            <a:ext cx="1703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those packets ov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772400" y="5410080"/>
            <a:ext cx="87012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38280" y="-380880"/>
            <a:ext cx="4894200" cy="6718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0" y="1905120"/>
            <a:ext cx="26668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f down the right performance curv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918480" y="853920"/>
            <a:ext cx="284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097680" y="961920"/>
            <a:ext cx="1774800" cy="1171800"/>
            <a:chOff x="6097680" y="961920"/>
            <a:chExt cx="1774800" cy="1171800"/>
          </a:xfrm>
        </p:grpSpPr>
        <p:sp>
          <p:nvSpPr>
            <p:cNvPr id="95" name=""/>
            <p:cNvSpPr/>
            <p:nvPr/>
          </p:nvSpPr>
          <p:spPr>
            <a:xfrm>
              <a:off x="6097680" y="1898640"/>
              <a:ext cx="1739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13080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4060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4824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804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6748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67692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8492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9436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00236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1216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1980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2960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3760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54704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5504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6448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7655040" y="1900080"/>
              <a:ext cx="10800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7765920" y="1900080"/>
              <a:ext cx="10656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7002360" y="1900080"/>
              <a:ext cx="10800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7113600" y="1900080"/>
              <a:ext cx="10620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6784920" y="1900080"/>
              <a:ext cx="10800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6896160" y="1900080"/>
              <a:ext cx="10620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6678720" y="1900080"/>
              <a:ext cx="10620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6348240" y="1900080"/>
              <a:ext cx="10800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6130800" y="1900080"/>
              <a:ext cx="10800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6242040" y="1900080"/>
              <a:ext cx="10620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7548480" y="1900080"/>
              <a:ext cx="10656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7219800" y="1900080"/>
              <a:ext cx="10800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7437600" y="963720"/>
              <a:ext cx="107640" cy="9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7331040" y="963720"/>
              <a:ext cx="106560" cy="9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6567480" y="963720"/>
              <a:ext cx="108000" cy="9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6458040" y="963720"/>
              <a:ext cx="108000" cy="9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59480" y="1900080"/>
              <a:ext cx="108000" cy="139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6568920" y="1900080"/>
              <a:ext cx="108000" cy="139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31040" y="1900080"/>
              <a:ext cx="106560" cy="139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7439040" y="1900080"/>
              <a:ext cx="108000" cy="139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05640" y="961920"/>
              <a:ext cx="323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7075440" y="961920"/>
              <a:ext cx="325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56480" y="1666800"/>
              <a:ext cx="108000" cy="231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7548480" y="1666800"/>
              <a:ext cx="106560" cy="231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535880" y="528480"/>
            <a:ext cx="1434960" cy="1057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895480" y="3124080"/>
            <a:ext cx="6332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migration from existing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channel scheme of  IEEE 802.11 DS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operate with IEEE 802.11 F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able Collocated Access Point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C for system flex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lation across geogra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design conforms to all international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2908440" cy="1689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934320" y="457200"/>
            <a:ext cx="3137040" cy="2374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8381880" y="5715000"/>
            <a:ext cx="774720" cy="7682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304920" y="5715000"/>
            <a:ext cx="766800" cy="774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6095880" y="4952880"/>
            <a:ext cx="139716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e of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y at all levels support the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band IC’s (DSP and MAC) will be available on the market from Lucent Microelectro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 separate Business Group within Lu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P technology for own implem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ize your time-to-market with implementation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technology now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772400" y="4800600"/>
            <a:ext cx="112068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969920" y="1984320"/>
            <a:ext cx="0" cy="327348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98720" y="1984320"/>
            <a:ext cx="0" cy="327348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600" y="2057400"/>
            <a:ext cx="1981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Base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362320" y="2209680"/>
            <a:ext cx="1492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1906560"/>
            <a:ext cx="0" cy="449280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343400" y="2209680"/>
            <a:ext cx="1490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/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212840" y="2432160"/>
            <a:ext cx="733320" cy="2755800"/>
            <a:chOff x="1212840" y="2432160"/>
            <a:chExt cx="733320" cy="2755800"/>
          </a:xfrm>
        </p:grpSpPr>
        <p:sp>
          <p:nvSpPr>
            <p:cNvPr id="155" name=""/>
            <p:cNvSpPr/>
            <p:nvPr/>
          </p:nvSpPr>
          <p:spPr>
            <a:xfrm>
              <a:off x="1212840" y="2432160"/>
              <a:ext cx="703440" cy="275580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1417680" y="319716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o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1417680" y="37036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o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1557360" y="4238640"/>
              <a:ext cx="3668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1487520" y="4699080"/>
              <a:ext cx="436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1236600" y="2738520"/>
              <a:ext cx="709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S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se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92120" y="2438280"/>
            <a:ext cx="703440" cy="2743200"/>
          </a:xfrm>
          <a:prstGeom prst="rect">
            <a:avLst/>
          </a:prstGeom>
          <a:solidFill>
            <a:srgbClr val="c1ce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96880" y="2496960"/>
            <a:ext cx="493560" cy="26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0" y="2362320"/>
            <a:ext cx="1560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37120" y="3422520"/>
            <a:ext cx="581400" cy="457560"/>
          </a:xfrm>
          <a:custGeom>
            <a:avLst/>
            <a:gdLst/>
            <a:ahLst/>
            <a:rect l="0" t="0" r="r" b="b"/>
            <a:pathLst>
              <a:path w="1615" h="1271">
                <a:moveTo>
                  <a:pt x="0" y="1271"/>
                </a:moveTo>
                <a:lnTo>
                  <a:pt x="1615" y="1271"/>
                </a:lnTo>
                <a:lnTo>
                  <a:pt x="807" y="0"/>
                </a:lnTo>
                <a:lnTo>
                  <a:pt x="0" y="1271"/>
                </a:lnTo>
                <a:close/>
              </a:path>
            </a:pathLst>
          </a:cu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072120" y="3587760"/>
            <a:ext cx="1540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09480" y="6094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of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660760" y="2813040"/>
            <a:ext cx="1125360" cy="2438280"/>
            <a:chOff x="2660760" y="2813040"/>
            <a:chExt cx="1125360" cy="2438280"/>
          </a:xfrm>
        </p:grpSpPr>
        <p:sp>
          <p:nvSpPr>
            <p:cNvPr id="168" name=""/>
            <p:cNvSpPr/>
            <p:nvPr/>
          </p:nvSpPr>
          <p:spPr>
            <a:xfrm>
              <a:off x="2660760" y="2813040"/>
              <a:ext cx="1125360" cy="2438280"/>
            </a:xfrm>
            <a:prstGeom prst="rect">
              <a:avLst/>
            </a:prstGeom>
            <a:solidFill>
              <a:srgbClr val="ffc5c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65520" y="2871720"/>
              <a:ext cx="915840" cy="232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673360" y="3200400"/>
              <a:ext cx="42228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43200" y="3276720"/>
              <a:ext cx="28116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16280" y="3355920"/>
              <a:ext cx="137880" cy="149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816280" y="3355920"/>
              <a:ext cx="137880" cy="149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43200" y="3733920"/>
              <a:ext cx="28116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16280" y="3813120"/>
              <a:ext cx="137880" cy="149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2820960" y="3811680"/>
              <a:ext cx="138240" cy="149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2673360" y="2819520"/>
              <a:ext cx="4222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54160" y="4118040"/>
              <a:ext cx="0" cy="7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13040" y="4118040"/>
              <a:ext cx="0" cy="7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3235320" y="4343400"/>
              <a:ext cx="4222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G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73360" y="4191120"/>
              <a:ext cx="42228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43200" y="4267080"/>
              <a:ext cx="28116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6280" y="4346640"/>
              <a:ext cx="137880" cy="149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2816280" y="4346640"/>
              <a:ext cx="137880" cy="149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43200" y="4724280"/>
              <a:ext cx="28116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16280" y="4803840"/>
              <a:ext cx="137880" cy="149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2816280" y="4803840"/>
              <a:ext cx="137880" cy="149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3098880" y="4800600"/>
              <a:ext cx="3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3235320" y="2819520"/>
              <a:ext cx="4222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54160" y="3127320"/>
              <a:ext cx="0" cy="7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3040" y="3127320"/>
              <a:ext cx="0" cy="7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98880" y="2971800"/>
              <a:ext cx="136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3098880" y="4495680"/>
              <a:ext cx="3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3200400" y="3938760"/>
              <a:ext cx="488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502160" y="3352680"/>
            <a:ext cx="2109960" cy="1600200"/>
            <a:chOff x="4502160" y="3352680"/>
            <a:chExt cx="2109960" cy="1600200"/>
          </a:xfrm>
        </p:grpSpPr>
        <p:grpSp>
          <p:nvGrpSpPr>
            <p:cNvPr id="196" name=""/>
            <p:cNvGrpSpPr/>
            <p:nvPr/>
          </p:nvGrpSpPr>
          <p:grpSpPr>
            <a:xfrm>
              <a:off x="4502160" y="3352680"/>
              <a:ext cx="847800" cy="1600200"/>
              <a:chOff x="4502160" y="3352680"/>
              <a:chExt cx="847800" cy="1600200"/>
            </a:xfrm>
          </p:grpSpPr>
          <p:sp>
            <p:nvSpPr>
              <p:cNvPr id="197" name=""/>
              <p:cNvSpPr/>
              <p:nvPr/>
            </p:nvSpPr>
            <p:spPr>
              <a:xfrm>
                <a:off x="4502160" y="3352680"/>
                <a:ext cx="773280" cy="1600200"/>
              </a:xfrm>
              <a:prstGeom prst="rect">
                <a:avLst/>
              </a:prstGeom>
              <a:solidFill>
                <a:srgbClr val="fde3b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572000" y="4419720"/>
                <a:ext cx="42228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4645080" y="4498920"/>
                <a:ext cx="279360" cy="30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645080" y="4498920"/>
                <a:ext cx="279360" cy="30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572000" y="3429000"/>
                <a:ext cx="42228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4645080" y="3508200"/>
                <a:ext cx="279360" cy="30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45080" y="3508200"/>
                <a:ext cx="279360" cy="30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782960" y="3889440"/>
                <a:ext cx="0" cy="53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997520" y="365760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997520" y="46483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064120" y="3660840"/>
                <a:ext cx="0" cy="45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5064120" y="4268880"/>
                <a:ext cx="0" cy="37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5065560" y="4192560"/>
                <a:ext cx="13824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213520" y="4191120"/>
                <a:ext cx="136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5214960" y="4489560"/>
              <a:ext cx="1397160" cy="463320"/>
              <a:chOff x="5214960" y="4489560"/>
              <a:chExt cx="1397160" cy="463320"/>
            </a:xfrm>
          </p:grpSpPr>
          <p:sp>
            <p:nvSpPr>
              <p:cNvPr id="212" name=""/>
              <p:cNvSpPr/>
              <p:nvPr/>
            </p:nvSpPr>
            <p:spPr>
              <a:xfrm>
                <a:off x="5275440" y="4495680"/>
                <a:ext cx="1336680" cy="457200"/>
              </a:xfrm>
              <a:prstGeom prst="rect">
                <a:avLst/>
              </a:prstGeom>
              <a:solidFill>
                <a:srgbClr val="fde3b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013440" y="4489560"/>
                <a:ext cx="470160" cy="457560"/>
              </a:xfrm>
              <a:custGeom>
                <a:avLst/>
                <a:gdLst/>
                <a:ahLst/>
                <a:rect l="0" t="0" r="r" b="b"/>
                <a:pathLst>
                  <a:path fill="none" w="1306" h="1271">
                    <a:moveTo>
                      <a:pt x="1306" y="1271"/>
                    </a:moveTo>
                    <a:lnTo>
                      <a:pt x="0" y="1271"/>
                    </a:lnTo>
                    <a:lnTo>
                      <a:pt x="652" y="0"/>
                    </a:lnTo>
                    <a:lnTo>
                      <a:pt x="1306" y="1271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981760" y="472428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73880" y="4724280"/>
                <a:ext cx="68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214960" y="4618080"/>
                <a:ext cx="68436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 txBox="1"/>
              <p:nvPr/>
            </p:nvSpPr>
            <p:spPr>
              <a:xfrm>
                <a:off x="6095880" y="4572000"/>
                <a:ext cx="47304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M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 txBox="1"/>
              <p:nvPr/>
            </p:nvSpPr>
            <p:spPr>
              <a:xfrm>
                <a:off x="5410080" y="4624560"/>
                <a:ext cx="48888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4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"/>
          <p:cNvSpPr txBox="1"/>
          <p:nvPr/>
        </p:nvSpPr>
        <p:spPr>
          <a:xfrm>
            <a:off x="5562720" y="533520"/>
            <a:ext cx="3346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y for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809880" y="3429000"/>
            <a:ext cx="971640" cy="1798560"/>
            <a:chOff x="3809880" y="3429000"/>
            <a:chExt cx="971640" cy="1798560"/>
          </a:xfrm>
        </p:grpSpPr>
        <p:grpSp>
          <p:nvGrpSpPr>
            <p:cNvPr id="221" name=""/>
            <p:cNvGrpSpPr/>
            <p:nvPr/>
          </p:nvGrpSpPr>
          <p:grpSpPr>
            <a:xfrm>
              <a:off x="3938760" y="3429000"/>
              <a:ext cx="422280" cy="1447920"/>
              <a:chOff x="3938760" y="3429000"/>
              <a:chExt cx="422280" cy="144792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3938760" y="4419720"/>
                <a:ext cx="422280" cy="457200"/>
                <a:chOff x="3938760" y="4419720"/>
                <a:chExt cx="422280" cy="45720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3938760" y="4419720"/>
                  <a:ext cx="422280" cy="457200"/>
                </a:xfrm>
                <a:prstGeom prst="rect">
                  <a:avLst/>
                </a:prstGeom>
                <a:solidFill>
                  <a:srgbClr val="c8fec8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083120" y="4572000"/>
                  <a:ext cx="136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>
                  <a:off x="4013280" y="4575240"/>
                  <a:ext cx="66600" cy="22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222800" y="4575240"/>
                  <a:ext cx="68040" cy="22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3938760" y="3429000"/>
                <a:ext cx="422280" cy="457200"/>
                <a:chOff x="3938760" y="3429000"/>
                <a:chExt cx="422280" cy="4572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3938760" y="3429000"/>
                  <a:ext cx="422280" cy="457200"/>
                </a:xfrm>
                <a:prstGeom prst="rect">
                  <a:avLst/>
                </a:prstGeom>
                <a:solidFill>
                  <a:srgbClr val="c8fec8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083120" y="3581280"/>
                  <a:ext cx="136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>
                  <a:off x="4013280" y="3584520"/>
                  <a:ext cx="66600" cy="22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222800" y="3584520"/>
                  <a:ext cx="68040" cy="22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2" name=""/>
            <p:cNvSpPr txBox="1"/>
            <p:nvPr/>
          </p:nvSpPr>
          <p:spPr>
            <a:xfrm>
              <a:off x="3809880" y="4952880"/>
              <a:ext cx="971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52 MHz I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28600" y="5403960"/>
            <a:ext cx="7931160" cy="1057320"/>
            <a:chOff x="228600" y="5403960"/>
            <a:chExt cx="7931160" cy="1057320"/>
          </a:xfrm>
        </p:grpSpPr>
        <p:sp>
          <p:nvSpPr>
            <p:cNvPr id="234" name=""/>
            <p:cNvSpPr txBox="1"/>
            <p:nvPr/>
          </p:nvSpPr>
          <p:spPr>
            <a:xfrm>
              <a:off x="5708520" y="5403960"/>
              <a:ext cx="11970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CRE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3193920" y="5708520"/>
              <a:ext cx="1195560" cy="22860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6962760" y="6019920"/>
              <a:ext cx="11970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RIPL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4489560" y="5708520"/>
              <a:ext cx="1143000" cy="2286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ipolar Discret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1974960" y="5556240"/>
              <a:ext cx="1195560" cy="22860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BIC 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1905120" y="5861160"/>
              <a:ext cx="1370160" cy="463680"/>
              <a:chOff x="1905120" y="5861160"/>
              <a:chExt cx="1370160" cy="463680"/>
            </a:xfrm>
          </p:grpSpPr>
          <p:sp>
            <p:nvSpPr>
              <p:cNvPr id="240" name=""/>
              <p:cNvSpPr txBox="1"/>
              <p:nvPr/>
            </p:nvSpPr>
            <p:spPr>
              <a:xfrm>
                <a:off x="1974960" y="5861160"/>
                <a:ext cx="1195560" cy="228600"/>
              </a:xfrm>
              <a:prstGeom prst="rect">
                <a:avLst/>
              </a:prstGeom>
              <a:solidFill>
                <a:srgbClr val="ffc5c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QUBIC 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 txBox="1"/>
              <p:nvPr/>
            </p:nvSpPr>
            <p:spPr>
              <a:xfrm>
                <a:off x="1905120" y="6019920"/>
                <a:ext cx="13701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hilips Bipolar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228600" y="5632560"/>
              <a:ext cx="1749600" cy="539640"/>
              <a:chOff x="228600" y="5632560"/>
              <a:chExt cx="1749600" cy="539640"/>
            </a:xfrm>
          </p:grpSpPr>
          <p:sp>
            <p:nvSpPr>
              <p:cNvPr id="243" name=""/>
              <p:cNvSpPr txBox="1"/>
              <p:nvPr/>
            </p:nvSpPr>
            <p:spPr>
              <a:xfrm>
                <a:off x="527040" y="5632560"/>
                <a:ext cx="1195560" cy="228600"/>
              </a:xfrm>
              <a:prstGeom prst="rect">
                <a:avLst/>
              </a:pr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MO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 txBox="1"/>
              <p:nvPr/>
            </p:nvSpPr>
            <p:spPr>
              <a:xfrm>
                <a:off x="228600" y="5867280"/>
                <a:ext cx="17496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Lucent Technologi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 txBox="1"/>
            <p:nvPr/>
          </p:nvSpPr>
          <p:spPr>
            <a:xfrm>
              <a:off x="3276720" y="5943600"/>
              <a:ext cx="1365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emens L545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>
              <a:off x="4648320" y="5943600"/>
              <a:ext cx="152244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em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FP 450 BFP 4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5708520" y="5708520"/>
              <a:ext cx="11970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ERAM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1906560" y="1984320"/>
            <a:ext cx="5297400" cy="3273480"/>
            <a:chOff x="1906560" y="1984320"/>
            <a:chExt cx="5297400" cy="3273480"/>
          </a:xfrm>
        </p:grpSpPr>
        <p:sp>
          <p:nvSpPr>
            <p:cNvPr id="249" name=""/>
            <p:cNvSpPr/>
            <p:nvPr/>
          </p:nvSpPr>
          <p:spPr>
            <a:xfrm>
              <a:off x="3660840" y="4572000"/>
              <a:ext cx="277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45280" y="3962520"/>
              <a:ext cx="42228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89640" y="411480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5419800" y="4118040"/>
              <a:ext cx="66600" cy="22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30760" y="4118040"/>
              <a:ext cx="66600" cy="22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37280" y="3657600"/>
              <a:ext cx="66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37280" y="4724280"/>
              <a:ext cx="66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7034040" y="4268880"/>
              <a:ext cx="0" cy="453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7066080" y="3354480"/>
              <a:ext cx="137880" cy="303120"/>
              <a:chOff x="7066080" y="3354480"/>
              <a:chExt cx="137880" cy="303120"/>
            </a:xfrm>
          </p:grpSpPr>
          <p:sp>
            <p:nvSpPr>
              <p:cNvPr id="258" name=""/>
              <p:cNvSpPr/>
              <p:nvPr/>
            </p:nvSpPr>
            <p:spPr>
              <a:xfrm>
                <a:off x="7066080" y="3657600"/>
                <a:ext cx="137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7203960" y="3354480"/>
                <a:ext cx="0" cy="301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7066080" y="4724280"/>
              <a:ext cx="137880" cy="303480"/>
              <a:chOff x="7066080" y="4724280"/>
              <a:chExt cx="137880" cy="303480"/>
            </a:xfrm>
          </p:grpSpPr>
          <p:sp>
            <p:nvSpPr>
              <p:cNvPr id="261" name=""/>
              <p:cNvSpPr/>
              <p:nvPr/>
            </p:nvSpPr>
            <p:spPr>
              <a:xfrm>
                <a:off x="7066080" y="4724280"/>
                <a:ext cx="137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7203960" y="4726080"/>
                <a:ext cx="0" cy="301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1969920" y="1984320"/>
              <a:ext cx="0" cy="32734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98720" y="1984320"/>
              <a:ext cx="0" cy="32734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33760" y="4191120"/>
              <a:ext cx="349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70440" y="4191120"/>
              <a:ext cx="68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96160" y="4194000"/>
              <a:ext cx="137880" cy="7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7034040" y="3659040"/>
              <a:ext cx="0" cy="45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905440" y="3657600"/>
              <a:ext cx="66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1911240" y="3429000"/>
              <a:ext cx="766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1911240" y="3886200"/>
              <a:ext cx="766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1906560" y="4419720"/>
              <a:ext cx="7603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1906560" y="4876920"/>
              <a:ext cx="7653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132000" y="3809880"/>
              <a:ext cx="8398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1906560" y="2590920"/>
              <a:ext cx="4287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2120760" y="2819520"/>
              <a:ext cx="41580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68960" y="4572000"/>
              <a:ext cx="207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40160" y="2971800"/>
              <a:ext cx="1378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48040" y="2666880"/>
              <a:ext cx="14032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4506840" y="2819520"/>
              <a:ext cx="422280" cy="304920"/>
            </a:xfrm>
            <a:prstGeom prst="rect">
              <a:avLst/>
            </a:prstGeom>
            <a:solidFill>
              <a:srgbClr val="ffc5c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3949560" y="2819520"/>
              <a:ext cx="415800" cy="3049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368960" y="3581280"/>
              <a:ext cx="207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210280" y="2593800"/>
              <a:ext cx="0" cy="758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35560" y="2975040"/>
              <a:ext cx="0" cy="121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873600" y="2744640"/>
              <a:ext cx="0" cy="22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76840" y="2743200"/>
              <a:ext cx="841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2044800" y="2668680"/>
              <a:ext cx="0" cy="30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03560" y="3581280"/>
              <a:ext cx="8398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3665520" y="4724280"/>
              <a:ext cx="277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368960" y="4724280"/>
              <a:ext cx="207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51320" y="3809880"/>
              <a:ext cx="20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5983200" y="4268880"/>
              <a:ext cx="0" cy="453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46760" y="4194000"/>
              <a:ext cx="136440" cy="7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5907240" y="3659040"/>
              <a:ext cx="0" cy="45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94520" y="2593800"/>
              <a:ext cx="0" cy="911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46960" y="3660840"/>
              <a:ext cx="0" cy="453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6546960" y="4268880"/>
              <a:ext cx="0" cy="453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6548400" y="4192560"/>
              <a:ext cx="136440" cy="7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89880" y="4191120"/>
              <a:ext cx="207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71920" y="4541760"/>
              <a:ext cx="6843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58840" y="2971800"/>
              <a:ext cx="74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429000" y="266868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87640" y="2971800"/>
              <a:ext cx="74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24280" y="2744640"/>
              <a:ext cx="0" cy="74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44840" y="297180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33920" y="2592360"/>
              <a:ext cx="0" cy="2271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5791320" y="1906560"/>
            <a:ext cx="0" cy="175104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62120" y="1447920"/>
            <a:ext cx="77724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-Card Form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graphical Tran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C, ETSI, MPT (No “specials” in Japa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Ra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only for a small cube in an offi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s upon our IEEE 802.11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ded by field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istic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CAPC flexibili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technology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7620120" y="3809880"/>
            <a:ext cx="461880" cy="6746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3429000" y="2743200"/>
            <a:ext cx="461880" cy="674640"/>
          </a:xfrm>
          <a:prstGeom prst="rect">
            <a:avLst/>
          </a:prstGeom>
          <a:ln w="0">
            <a:noFill/>
          </a:ln>
        </p:spPr>
      </p:pic>
      <p:grpSp>
        <p:nvGrpSpPr>
          <p:cNvPr id="312" name=""/>
          <p:cNvGrpSpPr/>
          <p:nvPr/>
        </p:nvGrpSpPr>
        <p:grpSpPr>
          <a:xfrm>
            <a:off x="5334120" y="1905120"/>
            <a:ext cx="565200" cy="674640"/>
            <a:chOff x="5334120" y="1905120"/>
            <a:chExt cx="565200" cy="674640"/>
          </a:xfrm>
        </p:grpSpPr>
        <p:pic>
          <p:nvPicPr>
            <p:cNvPr id="313" name="" descr=""/>
            <p:cNvPicPr/>
            <p:nvPr/>
          </p:nvPicPr>
          <p:blipFill>
            <a:blip r:embed="rId3"/>
            <a:stretch/>
          </p:blipFill>
          <p:spPr>
            <a:xfrm>
              <a:off x="5334120" y="1905120"/>
              <a:ext cx="461880" cy="6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5715000" y="213372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257800" y="1295280"/>
            <a:ext cx="3493800" cy="674640"/>
            <a:chOff x="5257800" y="1295280"/>
            <a:chExt cx="3493800" cy="674640"/>
          </a:xfrm>
        </p:grpSpPr>
        <p:sp>
          <p:nvSpPr>
            <p:cNvPr id="316" name=""/>
            <p:cNvSpPr txBox="1"/>
            <p:nvPr/>
          </p:nvSpPr>
          <p:spPr>
            <a:xfrm>
              <a:off x="5638680" y="1523880"/>
              <a:ext cx="31129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grated unit &lt;300mA @3.3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7" name="" descr=""/>
            <p:cNvPicPr/>
            <p:nvPr/>
          </p:nvPicPr>
          <p:blipFill>
            <a:blip r:embed="rId4"/>
            <a:stretch/>
          </p:blipFill>
          <p:spPr>
            <a:xfrm>
              <a:off x="5257800" y="1295280"/>
              <a:ext cx="461880" cy="67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8" name="" descr=""/>
          <p:cNvPicPr/>
          <p:nvPr/>
        </p:nvPicPr>
        <p:blipFill>
          <a:blip r:embed="rId5"/>
          <a:stretch/>
        </p:blipFill>
        <p:spPr>
          <a:xfrm>
            <a:off x="5029200" y="5791320"/>
            <a:ext cx="461880" cy="6746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6"/>
          <a:stretch/>
        </p:blipFill>
        <p:spPr>
          <a:xfrm>
            <a:off x="6553080" y="2362320"/>
            <a:ext cx="97776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 Technology withou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s of a Successful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6629400" y="685800"/>
            <a:ext cx="190008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No Slide Title</dc:title>
</cp:coreProperties>
</file>