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8288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2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90480" y="609480"/>
            <a:ext cx="7767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593640" y="6446880"/>
            <a:ext cx="895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90480" y="6477120"/>
            <a:ext cx="784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22860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less Personal Area Network Study Gr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umm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PAN Application Summ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bile Wo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ier: Communications between Printer, Scanner, Computer, Gateway to WAN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ad Warrior: Communications between Laptops, HPCs, Pagers, Cellular Phones, Scanners, Gateway to WAN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ological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ient: Communications between Body Sensors, Personal Data Collection Device, Gateway to WAN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rts: Communications between Shoe Sensors, Body Sensors, Personal Data Collection Device, Gateway to WAN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t Kinney</dc:creator>
  <dc:description>Pat Kinney, Intermec</dc:description>
  <dc:language>en-US</dc:language>
  <cp:lastModifiedBy>Ian Christopher Gifford</cp:lastModifiedBy>
  <cp:revision>0</cp:revision>
  <dc:subject>WPAN SG Application Summaries</dc:subject>
  <dc:title>doc.: III 802.11-98/216</dc:title>
</cp:coreProperties>
</file>