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76600" y="396720"/>
            <a:ext cx="398160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69-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52388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rsonal Area Networ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Agen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19-21,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rving, Texas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Tuesday, May 19, at 1:3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for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in the WPAN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 19, 199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30pm to 5:00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 20, 199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00am to 5:00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 21, 199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00am to 2:00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 May 19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l to Order 1:30pm Dick Bra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d Business Ian Gif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e/Modify Agenda Dick Bra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proval/Modifications of April Minutes Dick Bra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of Action Items from April Meeting Ian Gif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ives of meeting Bob H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 May 19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Business Dick Bra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ll for Proposals on WPAN PHY and MAC Dick Bra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eting schedule/activities Ian Gif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aison Activities Bob H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/Discussions of Functional Requirements Rich D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journ 5:00pm Dick Bra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 May 20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ll to Order 8:00am Dick Bra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/Discuss WPAN PAR Draft Rich D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bate WPAN PAR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ting Rights Bob He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te on WPAN PAR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FP : WPAN PHY and MAC Layer Proposals Contribu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ion of PHY and MAC Proposals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5:00pm Dick Bra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 May 21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l to Order 8:00am Dick Bra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ete Discussion of PHY and MAC Proposals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xt Steps Bob H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Jolla Meeting Ian Gif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on Items Ian Gif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xt Meeting Date/Location Dick Bra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journ 2:00pm Dick Bra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3600" y="1828800"/>
            <a:ext cx="908856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