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1352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 TGa ball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er’s report TGa ballo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1 held May 5, 1998,  3.45 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voters at s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non-voters leaving the ro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ballots ca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lid ballo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 ballo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vo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er’s report TGa ballo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4440" y="1731960"/>
            <a:ext cx="81532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er’s report TGa ballo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1 held May 5, 1998,  4.45 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voters at s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non-voters leaving the ro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ballots ca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lid ballo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 ballo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vo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er’s report TGa ballo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4440" y="1714680"/>
            <a:ext cx="77533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hip of 802.11 May 98 Tel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art K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Petr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