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ACCD4-B7B2-4169-950D-2D14D5E74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32448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4-7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recht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4, 10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.11 Full W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3600" y="1828800"/>
            <a:ext cx="9063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the WPAN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817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ing 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or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val of minutes from Cambridg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option of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bjectives o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functional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requirements for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PAR process/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draft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k into working groups for the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May 6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orts by PAR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SG report for afternoo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May 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 work on draft of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/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. Gifford</dc:creator>
  <dc:description>Ian Gifford, M/A-COM</dc:description>
  <dc:language>en-US</dc:language>
  <cp:lastModifiedBy>I. Gifford</cp:lastModifiedBy>
  <cp:revision>0</cp:revision>
  <dc:subject>Draft Agenda WPAN SG Utrecht, NL 5/4-8/98</dc:subject>
  <dc:title>doc.: IEEE 802.11-98/169</dc:title>
</cp:coreProperties>
</file>