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FFABE4-DF4B-44EB-A65B-10FD21AB7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45</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49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uly 6-10,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 Jolla, Californi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ul 6,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intenance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altham,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1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4"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7"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How to pick your papers</a:t>
            </a:r>
            <a:endParaRPr b="0" lang="en-US" sz="40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8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TGa!11c!SG | TGa!11r!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11r!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   !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8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trecht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4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66</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802.11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5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c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rev</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