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338720" y="6624720"/>
            <a:ext cx="7714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55CC4583-C851-4745-9ADD-970A10B7AB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8680" y="6629400"/>
            <a:ext cx="8491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533520"/>
            <a:ext cx="849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08080" y="200160"/>
            <a:ext cx="1387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46760" y="200160"/>
            <a:ext cx="3065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:IEEE P802.11-98/71a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08080" y="6624720"/>
            <a:ext cx="981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632560" y="6610320"/>
            <a:ext cx="32306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van Nee, Lucent and Masahiro Morikura, N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 and Hitoshi Takana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Wireless 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anasi@pcs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8720" y="7635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064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98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7840" y="83196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22200" y="67320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9240" y="71280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167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1/2 (10 Mbit/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38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42840" y="768240"/>
            <a:ext cx="76629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22200" y="762120"/>
            <a:ext cx="66978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d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5280" y="1870200"/>
            <a:ext cx="77216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ormer proposals by Lucent Tech. and NTT is merged into one proposal that describes in a draft of full document (98/72r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valuations of 16-QAM are reported by Lucent Tech, evaluations of DQPSK and DBPSK are reported by N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4560" y="79848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04920" y="76356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89160" y="8478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4360" y="809640"/>
            <a:ext cx="83264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04920" y="744480"/>
            <a:ext cx="66978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5760" y="73008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BPSK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1/2 (5 Mbit/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720720"/>
            <a:ext cx="76262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11240" y="73836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86000" y="739800"/>
            <a:ext cx="651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03560" y="63504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240" y="1155600"/>
            <a:ext cx="70866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8720" y="8301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82680" y="82080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82680" y="76824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82080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82680" y="749160"/>
            <a:ext cx="65768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03400" y="79704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87360" y="117360"/>
            <a:ext cx="709452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05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3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2971800"/>
            <a:ext cx="6400800" cy="24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nee@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0240" y="969840"/>
            <a:ext cx="7308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03560" y="635040"/>
            <a:ext cx="3198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3800" y="1542960"/>
            <a:ext cx="7564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17600" y="243684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19640" y="5200560"/>
            <a:ext cx="13273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4280" y="5726160"/>
            <a:ext cx="717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, a) 20 Mbps, 64 bytes, b) 30 Mbps, 64 by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20 Mbps, 1000 bytes, d) 30 Mbps, 10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7500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304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863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338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879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4376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195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8272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7500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856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304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940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863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4988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338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974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79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1656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4376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7204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69924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788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0680" y="4944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673680" y="4944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36800" y="4944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6400" y="494496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78240" y="47847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03520" y="473400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30680" y="4538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36800" y="4538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0680" y="4300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36800" y="4300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0680" y="4132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36800" y="4132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0680" y="4000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36800" y="40006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30680" y="3894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36800" y="38941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30680" y="3797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36800" y="37972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30680" y="3714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36800" y="37148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30680" y="36543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6800" y="36543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30680" y="3583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6800" y="35830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78240" y="34225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03520" y="33717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30680" y="3176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6800" y="3176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30680" y="293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36800" y="29368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30680" y="2770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36800" y="27702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30680" y="2638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36800" y="2638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30680" y="2530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36800" y="2530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30680" y="2435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36800" y="24354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30680" y="2363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36800" y="2363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30680" y="2292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36800" y="22924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0680" y="2232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36800" y="223200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78240" y="20718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03520" y="20210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30680" y="1812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6800" y="1812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0680" y="157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36800" y="1574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0680" y="1406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6800" y="1406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30680" y="1274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6800" y="1274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30680" y="11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36800" y="1168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30680" y="1084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36800" y="1084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0680" y="1000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36800" y="1000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30680" y="928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36800" y="9288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30680" y="868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36800" y="86832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78240" y="7081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03520" y="65880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892080"/>
            <a:ext cx="3324600" cy="4053240"/>
          </a:xfrm>
          <a:custGeom>
            <a:avLst/>
            <a:gdLst/>
            <a:ahLst/>
            <a:rect l="0" t="0" r="r" b="b"/>
            <a:pathLst>
              <a:path fill="none" w="9235" h="11259">
                <a:moveTo>
                  <a:pt x="0" y="0"/>
                </a:moveTo>
                <a:lnTo>
                  <a:pt x="1543" y="732"/>
                </a:lnTo>
                <a:lnTo>
                  <a:pt x="3087" y="1993"/>
                </a:lnTo>
                <a:lnTo>
                  <a:pt x="4631" y="3920"/>
                </a:lnTo>
                <a:lnTo>
                  <a:pt x="6152" y="5945"/>
                </a:lnTo>
                <a:lnTo>
                  <a:pt x="7692" y="8701"/>
                </a:lnTo>
                <a:lnTo>
                  <a:pt x="9235" y="11259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868320"/>
            <a:ext cx="3880080" cy="2846880"/>
          </a:xfrm>
          <a:custGeom>
            <a:avLst/>
            <a:gdLst/>
            <a:ahLst/>
            <a:rect l="0" t="0" r="r" b="b"/>
            <a:pathLst>
              <a:path fill="none" w="10778" h="7908">
                <a:moveTo>
                  <a:pt x="0" y="0"/>
                </a:moveTo>
                <a:lnTo>
                  <a:pt x="1543" y="0"/>
                </a:lnTo>
                <a:lnTo>
                  <a:pt x="3086" y="101"/>
                </a:lnTo>
                <a:lnTo>
                  <a:pt x="4630" y="732"/>
                </a:lnTo>
                <a:lnTo>
                  <a:pt x="6152" y="1896"/>
                </a:lnTo>
                <a:lnTo>
                  <a:pt x="7691" y="3458"/>
                </a:lnTo>
                <a:lnTo>
                  <a:pt x="9234" y="5548"/>
                </a:lnTo>
                <a:lnTo>
                  <a:pt x="10778" y="7908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868320"/>
            <a:ext cx="3880080" cy="3108600"/>
          </a:xfrm>
          <a:custGeom>
            <a:avLst/>
            <a:gdLst/>
            <a:ahLst/>
            <a:rect l="0" t="0" r="r" b="b"/>
            <a:pathLst>
              <a:path fill="none" w="10778" h="8635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233"/>
                </a:lnTo>
                <a:lnTo>
                  <a:pt x="6152" y="1464"/>
                </a:lnTo>
                <a:lnTo>
                  <a:pt x="7691" y="3421"/>
                </a:lnTo>
                <a:lnTo>
                  <a:pt x="9234" y="5782"/>
                </a:lnTo>
                <a:lnTo>
                  <a:pt x="10778" y="86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868320"/>
            <a:ext cx="3880080" cy="1316520"/>
          </a:xfrm>
          <a:custGeom>
            <a:avLst/>
            <a:gdLst/>
            <a:ahLst/>
            <a:rect l="0" t="0" r="r" b="b"/>
            <a:pathLst>
              <a:path fill="none" w="10778" h="3657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0"/>
                </a:lnTo>
                <a:lnTo>
                  <a:pt x="6152" y="0"/>
                </a:lnTo>
                <a:lnTo>
                  <a:pt x="7691" y="335"/>
                </a:lnTo>
                <a:lnTo>
                  <a:pt x="9234" y="1495"/>
                </a:lnTo>
                <a:lnTo>
                  <a:pt x="10778" y="3657"/>
                </a:lnTo>
              </a:path>
            </a:pathLst>
          </a:custGeom>
          <a:ln w="12600">
            <a:solidFill>
              <a:srgbClr val="00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38760" y="190512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3864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86320" y="1523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348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7500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304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863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38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79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376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9924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73680" y="4538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673680" y="4300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73680" y="4132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73680" y="4000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73680" y="3894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673680" y="3797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673680" y="3714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673680" y="36543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73680" y="3583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56400" y="358308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73680" y="3176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673680" y="293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673680" y="2770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673680" y="2638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73680" y="2530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673680" y="2435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73680" y="2363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673680" y="2292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673680" y="2232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56400" y="22320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673680" y="1812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673680" y="157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73680" y="1406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673680" y="1274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673680" y="11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73680" y="1084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673680" y="1000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673680" y="92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673680" y="868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656400" y="86832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401920" y="571680"/>
            <a:ext cx="4437000" cy="4525560"/>
            <a:chOff x="2401920" y="571680"/>
            <a:chExt cx="4437000" cy="4525560"/>
          </a:xfrm>
        </p:grpSpPr>
        <p:sp>
          <p:nvSpPr>
            <p:cNvPr id="25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129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5226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2940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0734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45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843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238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606760" y="484020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129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9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5740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226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226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324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0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710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2940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0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0942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489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734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34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8736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5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259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843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3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45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238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03900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424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29120" y="781200"/>
              <a:ext cx="3494520" cy="3229560"/>
            </a:xfrm>
            <a:custGeom>
              <a:avLst/>
              <a:gdLst/>
              <a:ahLst/>
              <a:rect l="0" t="0" r="r" b="b"/>
              <a:pathLst>
                <a:path fill="none" w="9707" h="8971">
                  <a:moveTo>
                    <a:pt x="0" y="8971"/>
                  </a:moveTo>
                  <a:lnTo>
                    <a:pt x="546" y="6575"/>
                  </a:lnTo>
                  <a:lnTo>
                    <a:pt x="1093" y="5482"/>
                  </a:lnTo>
                  <a:lnTo>
                    <a:pt x="2165" y="3489"/>
                  </a:lnTo>
                  <a:lnTo>
                    <a:pt x="3237" y="1627"/>
                  </a:lnTo>
                  <a:lnTo>
                    <a:pt x="4331" y="467"/>
                  </a:lnTo>
                  <a:lnTo>
                    <a:pt x="5402" y="202"/>
                  </a:lnTo>
                  <a:lnTo>
                    <a:pt x="6474" y="0"/>
                  </a:lnTo>
                  <a:lnTo>
                    <a:pt x="7542" y="0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29120" y="804960"/>
              <a:ext cx="3494520" cy="4053240"/>
            </a:xfrm>
            <a:custGeom>
              <a:avLst/>
              <a:gdLst/>
              <a:ahLst/>
              <a:rect l="0" t="0" r="r" b="b"/>
              <a:pathLst>
                <a:path fill="none" w="9707" h="11259">
                  <a:moveTo>
                    <a:pt x="0" y="11259"/>
                  </a:moveTo>
                  <a:lnTo>
                    <a:pt x="546" y="9102"/>
                  </a:lnTo>
                  <a:lnTo>
                    <a:pt x="1093" y="7973"/>
                  </a:lnTo>
                  <a:lnTo>
                    <a:pt x="2165" y="6179"/>
                  </a:lnTo>
                  <a:lnTo>
                    <a:pt x="3237" y="4718"/>
                  </a:lnTo>
                  <a:lnTo>
                    <a:pt x="4331" y="2958"/>
                  </a:lnTo>
                  <a:lnTo>
                    <a:pt x="5402" y="1763"/>
                  </a:lnTo>
                  <a:lnTo>
                    <a:pt x="6474" y="864"/>
                  </a:lnTo>
                  <a:lnTo>
                    <a:pt x="7542" y="299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1472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64500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386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1000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85680" y="55576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64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01920" y="506520"/>
            <a:ext cx="4437000" cy="4525560"/>
            <a:chOff x="2401920" y="506520"/>
            <a:chExt cx="4437000" cy="4525560"/>
          </a:xfrm>
        </p:grpSpPr>
        <p:sp>
          <p:nvSpPr>
            <p:cNvPr id="419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129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5226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90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2940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0734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45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843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238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2606760" y="477504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129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29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295740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5226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226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324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90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0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710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2940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40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40942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489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0734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34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48736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45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5259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43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43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645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238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38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603900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6424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4360" y="4481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597720" y="448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60840" y="4481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4360" y="4303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597720" y="4303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60840" y="4303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54360" y="418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597720" y="418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60840" y="418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4360" y="407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97720" y="4075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60840" y="4075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54360" y="400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597720" y="400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0840" y="4003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4360" y="3932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597720" y="3932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0840" y="3932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4360" y="3871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597720" y="3871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0840" y="3871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54360" y="3824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597720" y="3824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60840" y="3824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54360" y="3776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597720" y="3776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60840" y="377676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80080" y="377676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2401920" y="3616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527200" y="3565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54360" y="3465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597720" y="3465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0840" y="3465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54360" y="3286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597720" y="328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60840" y="3286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54360" y="3156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597720" y="3156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60840" y="31561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54360" y="3059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97720" y="3059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0840" y="3059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4360" y="2976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97720" y="297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60840" y="2976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4360" y="2916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597720" y="2916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60840" y="2916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4360" y="2855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597720" y="2855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60840" y="2855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54360" y="2797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597720" y="2797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60840" y="2797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54360" y="2760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597720" y="2760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60840" y="2760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80080" y="2760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401920" y="2600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527200" y="2549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54360" y="2449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597720" y="2449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60840" y="2449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54360" y="227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97720" y="227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60840" y="227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54360" y="2043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597720" y="2043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0840" y="2043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54360" y="1960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97720" y="1960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0840" y="1960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54360" y="1887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597720" y="1887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60840" y="1887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54360" y="1839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597720" y="1839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0840" y="1839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54360" y="1781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597720" y="178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60840" y="1781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54360" y="1733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97720" y="1733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60840" y="17334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80080" y="17334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2401920" y="15717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2527200" y="1522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54360" y="1433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597720" y="143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60840" y="1433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54360" y="1027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597720" y="102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60840" y="1027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54360" y="944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597720" y="944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60840" y="944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54360" y="871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597720" y="87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60840" y="871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54360" y="812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59772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60840" y="812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54360" y="76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597720" y="76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60840" y="76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29120" y="716040"/>
              <a:ext cx="3494520" cy="2976840"/>
            </a:xfrm>
            <a:custGeom>
              <a:avLst/>
              <a:gdLst/>
              <a:ahLst/>
              <a:rect l="0" t="0" r="r" b="b"/>
              <a:pathLst>
                <a:path fill="none" w="9707" h="8269">
                  <a:moveTo>
                    <a:pt x="0" y="8269"/>
                  </a:moveTo>
                  <a:lnTo>
                    <a:pt x="546" y="7307"/>
                  </a:lnTo>
                  <a:lnTo>
                    <a:pt x="1093" y="5447"/>
                  </a:lnTo>
                  <a:lnTo>
                    <a:pt x="2165" y="3787"/>
                  </a:lnTo>
                  <a:lnTo>
                    <a:pt x="3237" y="2226"/>
                  </a:lnTo>
                  <a:lnTo>
                    <a:pt x="4331" y="1128"/>
                  </a:lnTo>
                  <a:lnTo>
                    <a:pt x="5402" y="467"/>
                  </a:lnTo>
                  <a:lnTo>
                    <a:pt x="6474" y="136"/>
                  </a:lnTo>
                  <a:lnTo>
                    <a:pt x="7542" y="35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5680" y="789120"/>
              <a:ext cx="3297600" cy="3418200"/>
            </a:xfrm>
            <a:custGeom>
              <a:avLst/>
              <a:gdLst/>
              <a:ahLst/>
              <a:rect l="0" t="0" r="r" b="b"/>
              <a:pathLst>
                <a:path fill="none" w="9160" h="9495">
                  <a:moveTo>
                    <a:pt x="0" y="9495"/>
                  </a:moveTo>
                  <a:lnTo>
                    <a:pt x="546" y="7801"/>
                  </a:lnTo>
                  <a:lnTo>
                    <a:pt x="1618" y="6937"/>
                  </a:lnTo>
                  <a:lnTo>
                    <a:pt x="2690" y="5244"/>
                  </a:lnTo>
                  <a:lnTo>
                    <a:pt x="3784" y="3915"/>
                  </a:lnTo>
                  <a:lnTo>
                    <a:pt x="4856" y="2623"/>
                  </a:lnTo>
                  <a:lnTo>
                    <a:pt x="5927" y="1424"/>
                  </a:lnTo>
                  <a:lnTo>
                    <a:pt x="6995" y="793"/>
                  </a:lnTo>
                  <a:lnTo>
                    <a:pt x="8093" y="330"/>
                  </a:lnTo>
                  <a:lnTo>
                    <a:pt x="9160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0147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49560" y="14400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15000" y="1511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1147680" y="530280"/>
            <a:ext cx="5688000" cy="4975200"/>
            <a:chOff x="1147680" y="530280"/>
            <a:chExt cx="5688000" cy="4975200"/>
          </a:xfrm>
        </p:grpSpPr>
        <p:grpSp>
          <p:nvGrpSpPr>
            <p:cNvPr id="618" name=""/>
            <p:cNvGrpSpPr/>
            <p:nvPr/>
          </p:nvGrpSpPr>
          <p:grpSpPr>
            <a:xfrm>
              <a:off x="2284560" y="530280"/>
              <a:ext cx="4551120" cy="4717800"/>
              <a:chOff x="2284560" y="530280"/>
              <a:chExt cx="4551120" cy="4717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  <a:lnTo>
                      <a:pt x="0" y="118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fill="none"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0322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4434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8448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42465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46576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0594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4608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8626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372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26337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337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>
                <a:off x="24987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30322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322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>
                <a:off x="29019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4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434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32734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8448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448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36752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2465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465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40766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6576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576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44877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0594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594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488952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4608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608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52912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8626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26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56926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27372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7372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610380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6722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722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5055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43120" y="4995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647040" y="49957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9600" y="499572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6629400" y="49957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 txBox="1"/>
              <p:nvPr/>
            </p:nvSpPr>
            <p:spPr>
              <a:xfrm>
                <a:off x="2284560" y="483876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2416320" y="477828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43120" y="4573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647040" y="45734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2840" y="45734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43120" y="4322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647040" y="4322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52840" y="4322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43120" y="4151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647040" y="4151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52840" y="4151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43120" y="4013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47040" y="40132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52840" y="40132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647040" y="390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52840" y="390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43120" y="3803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647040" y="38037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52840" y="38037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43120" y="3713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647040" y="37130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52840" y="37130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43120" y="365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647040" y="365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52840" y="365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43120" y="3576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647040" y="3576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49600" y="35766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629400" y="357660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284560" y="341784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2416320" y="335916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43120" y="3154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647040" y="31543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52840" y="31543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43120" y="290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647040" y="290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52840" y="290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3120" y="273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647040" y="273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52840" y="273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43120" y="259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647040" y="25938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52840" y="25938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643120" y="248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6647040" y="248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2840" y="248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43120" y="23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647040" y="23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52840" y="23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43120" y="230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647040" y="2305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2840" y="2305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43120" y="223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647040" y="223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52840" y="223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43120" y="2168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647040" y="21686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649600" y="216864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629400" y="21686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2284560" y="200988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2416320" y="195120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643120" y="173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647040" y="173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52840" y="173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43120" y="14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647040" y="14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2840" y="14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643120" y="131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47040" y="131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652840" y="131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43120" y="1173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647040" y="11732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52840" y="11732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43120" y="106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647040" y="106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652840" y="106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43120" y="97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647040" y="974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52840" y="974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643120" y="885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647040" y="8859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52840" y="8859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43120" y="811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647040" y="811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652840" y="811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43120" y="749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647040" y="749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649600" y="7491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629400" y="749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284560" y="5904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2416320" y="530280"/>
                <a:ext cx="23184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635200" y="971640"/>
                <a:ext cx="4038840" cy="2880000"/>
              </a:xfrm>
              <a:custGeom>
                <a:avLst/>
                <a:gdLst/>
                <a:ahLst/>
                <a:rect l="0" t="0" r="r" b="b"/>
                <a:pathLst>
                  <a:path fill="none" w="11219" h="8000">
                    <a:moveTo>
                      <a:pt x="0" y="0"/>
                    </a:moveTo>
                    <a:lnTo>
                      <a:pt x="2248" y="793"/>
                    </a:lnTo>
                    <a:lnTo>
                      <a:pt x="4480" y="1763"/>
                    </a:lnTo>
                    <a:lnTo>
                      <a:pt x="6734" y="3461"/>
                    </a:lnTo>
                    <a:lnTo>
                      <a:pt x="8965" y="5574"/>
                    </a:lnTo>
                    <a:lnTo>
                      <a:pt x="11219" y="8000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35200" y="900000"/>
                <a:ext cx="4038840" cy="4096080"/>
              </a:xfrm>
              <a:custGeom>
                <a:avLst/>
                <a:gdLst/>
                <a:ahLst/>
                <a:rect l="0" t="0" r="r" b="b"/>
                <a:pathLst>
                  <a:path fill="none" w="11219" h="11378">
                    <a:moveTo>
                      <a:pt x="0" y="0"/>
                    </a:moveTo>
                    <a:lnTo>
                      <a:pt x="2248" y="859"/>
                    </a:lnTo>
                    <a:lnTo>
                      <a:pt x="4480" y="2381"/>
                    </a:lnTo>
                    <a:lnTo>
                      <a:pt x="6734" y="4422"/>
                    </a:lnTo>
                    <a:lnTo>
                      <a:pt x="8965" y="7638"/>
                    </a:lnTo>
                    <a:lnTo>
                      <a:pt x="11219" y="11378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35200" y="806400"/>
                <a:ext cx="4038840" cy="3991320"/>
              </a:xfrm>
              <a:custGeom>
                <a:avLst/>
                <a:gdLst/>
                <a:ahLst/>
                <a:rect l="0" t="0" r="r" b="b"/>
                <a:pathLst>
                  <a:path fill="none" w="11219" h="11087">
                    <a:moveTo>
                      <a:pt x="0" y="0"/>
                    </a:moveTo>
                    <a:lnTo>
                      <a:pt x="2248" y="1036"/>
                    </a:lnTo>
                    <a:lnTo>
                      <a:pt x="4480" y="3289"/>
                    </a:lnTo>
                    <a:lnTo>
                      <a:pt x="6734" y="6342"/>
                    </a:lnTo>
                    <a:lnTo>
                      <a:pt x="8965" y="8935"/>
                    </a:lnTo>
                    <a:lnTo>
                      <a:pt x="11219" y="11087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35200" y="808200"/>
                <a:ext cx="4038840" cy="3391200"/>
              </a:xfrm>
              <a:custGeom>
                <a:avLst/>
                <a:gdLst/>
                <a:ahLst/>
                <a:rect l="0" t="0" r="r" b="b"/>
                <a:pathLst>
                  <a:path fill="none" w="11219" h="9420">
                    <a:moveTo>
                      <a:pt x="0" y="0"/>
                    </a:moveTo>
                    <a:lnTo>
                      <a:pt x="2248" y="864"/>
                    </a:lnTo>
                    <a:lnTo>
                      <a:pt x="4480" y="3219"/>
                    </a:lnTo>
                    <a:lnTo>
                      <a:pt x="6734" y="6231"/>
                    </a:lnTo>
                    <a:lnTo>
                      <a:pt x="8965" y="8450"/>
                    </a:lnTo>
                    <a:lnTo>
                      <a:pt x="11219" y="942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35200" y="746280"/>
                <a:ext cx="4038840" cy="1956240"/>
              </a:xfrm>
              <a:custGeom>
                <a:avLst/>
                <a:gdLst/>
                <a:ahLst/>
                <a:rect l="0" t="0" r="r" b="b"/>
                <a:pathLst>
                  <a:path fill="none" w="11219" h="5434">
                    <a:moveTo>
                      <a:pt x="0" y="0"/>
                    </a:moveTo>
                    <a:lnTo>
                      <a:pt x="2248" y="621"/>
                    </a:lnTo>
                    <a:lnTo>
                      <a:pt x="4480" y="2351"/>
                    </a:lnTo>
                    <a:lnTo>
                      <a:pt x="6734" y="3877"/>
                    </a:lnTo>
                    <a:lnTo>
                      <a:pt x="8965" y="5051"/>
                    </a:lnTo>
                    <a:lnTo>
                      <a:pt x="11219" y="5434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1147680" y="236700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416480" y="520704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302520" y="3206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5673600" y="31496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504504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44500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416640" y="2635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793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794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03372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3846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4657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460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2722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03372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3372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292104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846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846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 txBox="1"/>
              <p:nvPr/>
            </p:nvSpPr>
            <p:spPr>
              <a:xfrm>
                <a:off x="3695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657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657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450864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460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60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53103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2722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722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612288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1960" y="785880"/>
                <a:ext cx="4042080" cy="2381760"/>
              </a:xfrm>
              <a:custGeom>
                <a:avLst/>
                <a:gdLst/>
                <a:ahLst/>
                <a:rect l="0" t="0" r="r" b="b"/>
                <a:pathLst>
                  <a:path fill="none" w="11228" h="6616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486"/>
                    </a:lnTo>
                    <a:lnTo>
                      <a:pt x="6739" y="3048"/>
                    </a:lnTo>
                    <a:lnTo>
                      <a:pt x="8970" y="4604"/>
                    </a:lnTo>
                    <a:lnTo>
                      <a:pt x="11228" y="6616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631960" y="723960"/>
                <a:ext cx="4042080" cy="2978640"/>
              </a:xfrm>
              <a:custGeom>
                <a:avLst/>
                <a:gdLst/>
                <a:ahLst/>
                <a:rect l="0" t="0" r="r" b="b"/>
                <a:pathLst>
                  <a:path fill="none" w="11228" h="8274">
                    <a:moveTo>
                      <a:pt x="0" y="0"/>
                    </a:moveTo>
                    <a:lnTo>
                      <a:pt x="2253" y="410"/>
                    </a:lnTo>
                    <a:lnTo>
                      <a:pt x="4484" y="1349"/>
                    </a:lnTo>
                    <a:lnTo>
                      <a:pt x="6739" y="3078"/>
                    </a:lnTo>
                    <a:lnTo>
                      <a:pt x="8970" y="5641"/>
                    </a:lnTo>
                    <a:lnTo>
                      <a:pt x="11228" y="8274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631960" y="725400"/>
                <a:ext cx="4042080" cy="2802240"/>
              </a:xfrm>
              <a:custGeom>
                <a:avLst/>
                <a:gdLst/>
                <a:ahLst/>
                <a:rect l="0" t="0" r="r" b="b"/>
                <a:pathLst>
                  <a:path fill="none" w="11228" h="7784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728"/>
                    </a:lnTo>
                    <a:lnTo>
                      <a:pt x="6739" y="3836"/>
                    </a:lnTo>
                    <a:lnTo>
                      <a:pt x="8970" y="6293"/>
                    </a:lnTo>
                    <a:lnTo>
                      <a:pt x="11228" y="7784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31960" y="725400"/>
                <a:ext cx="4042080" cy="2254680"/>
              </a:xfrm>
              <a:custGeom>
                <a:avLst/>
                <a:gdLst/>
                <a:ahLst/>
                <a:rect l="0" t="0" r="r" b="b"/>
                <a:pathLst>
                  <a:path fill="none" w="11228" h="6263">
                    <a:moveTo>
                      <a:pt x="0" y="0"/>
                    </a:moveTo>
                    <a:lnTo>
                      <a:pt x="2253" y="171"/>
                    </a:lnTo>
                    <a:lnTo>
                      <a:pt x="4484" y="1486"/>
                    </a:lnTo>
                    <a:lnTo>
                      <a:pt x="6739" y="3802"/>
                    </a:lnTo>
                    <a:lnTo>
                      <a:pt x="8970" y="5430"/>
                    </a:lnTo>
                    <a:lnTo>
                      <a:pt x="11228" y="6263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31960" y="712800"/>
                <a:ext cx="4042080" cy="1146600"/>
              </a:xfrm>
              <a:custGeom>
                <a:avLst/>
                <a:gdLst/>
                <a:ahLst/>
                <a:rect l="0" t="0" r="r" b="b"/>
                <a:pathLst>
                  <a:path fill="none" w="11228" h="3185">
                    <a:moveTo>
                      <a:pt x="0" y="0"/>
                    </a:moveTo>
                    <a:lnTo>
                      <a:pt x="2253" y="207"/>
                    </a:lnTo>
                    <a:lnTo>
                      <a:pt x="4484" y="723"/>
                    </a:lnTo>
                    <a:lnTo>
                      <a:pt x="6739" y="1764"/>
                    </a:lnTo>
                    <a:lnTo>
                      <a:pt x="8970" y="2630"/>
                    </a:lnTo>
                    <a:lnTo>
                      <a:pt x="11228" y="3185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6483240" y="3071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6072120" y="28386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5958000" y="31240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467400" y="26510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6415200" y="1752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 txBox="1"/>
          <p:nvPr/>
        </p:nvSpPr>
        <p:spPr>
          <a:xfrm>
            <a:off x="985680" y="57862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968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969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90720" y="787320"/>
                <a:ext cx="3883320" cy="3226320"/>
              </a:xfrm>
              <a:custGeom>
                <a:avLst/>
                <a:gdLst/>
                <a:ahLst/>
                <a:rect l="0" t="0" r="r" b="b"/>
                <a:pathLst>
                  <a:path fill="none" w="10787" h="8962">
                    <a:moveTo>
                      <a:pt x="0" y="0"/>
                    </a:moveTo>
                    <a:lnTo>
                      <a:pt x="1812" y="829"/>
                    </a:lnTo>
                    <a:lnTo>
                      <a:pt x="3602" y="1693"/>
                    </a:lnTo>
                    <a:lnTo>
                      <a:pt x="5394" y="2907"/>
                    </a:lnTo>
                    <a:lnTo>
                      <a:pt x="7184" y="4600"/>
                    </a:lnTo>
                    <a:lnTo>
                      <a:pt x="8996" y="6748"/>
                    </a:lnTo>
                    <a:lnTo>
                      <a:pt x="10787" y="8962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90720" y="787320"/>
                <a:ext cx="3883320" cy="3449880"/>
              </a:xfrm>
              <a:custGeom>
                <a:avLst/>
                <a:gdLst/>
                <a:ahLst/>
                <a:rect l="0" t="0" r="r" b="b"/>
                <a:pathLst>
                  <a:path fill="none" w="10787" h="9583">
                    <a:moveTo>
                      <a:pt x="0" y="0"/>
                    </a:moveTo>
                    <a:lnTo>
                      <a:pt x="1812" y="480"/>
                    </a:lnTo>
                    <a:lnTo>
                      <a:pt x="3602" y="1728"/>
                    </a:lnTo>
                    <a:lnTo>
                      <a:pt x="5394" y="3179"/>
                    </a:lnTo>
                    <a:lnTo>
                      <a:pt x="7184" y="5327"/>
                    </a:lnTo>
                    <a:lnTo>
                      <a:pt x="8996" y="7748"/>
                    </a:lnTo>
                    <a:lnTo>
                      <a:pt x="10787" y="9583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90720" y="725400"/>
                <a:ext cx="3883320" cy="2627640"/>
              </a:xfrm>
              <a:custGeom>
                <a:avLst/>
                <a:gdLst/>
                <a:ahLst/>
                <a:rect l="0" t="0" r="r" b="b"/>
                <a:pathLst>
                  <a:path fill="none" w="10787" h="7299">
                    <a:moveTo>
                      <a:pt x="0" y="0"/>
                    </a:moveTo>
                    <a:lnTo>
                      <a:pt x="1812" y="445"/>
                    </a:lnTo>
                    <a:lnTo>
                      <a:pt x="3602" y="1728"/>
                    </a:lnTo>
                    <a:lnTo>
                      <a:pt x="5394" y="3766"/>
                    </a:lnTo>
                    <a:lnTo>
                      <a:pt x="7184" y="5671"/>
                    </a:lnTo>
                    <a:lnTo>
                      <a:pt x="8996" y="7021"/>
                    </a:lnTo>
                    <a:lnTo>
                      <a:pt x="10787" y="7299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790720" y="712800"/>
                <a:ext cx="3883320" cy="1943640"/>
              </a:xfrm>
              <a:custGeom>
                <a:avLst/>
                <a:gdLst/>
                <a:ahLst/>
                <a:rect l="0" t="0" r="r" b="b"/>
                <a:pathLst>
                  <a:path fill="none" w="10787" h="5399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349"/>
                    </a:lnTo>
                    <a:lnTo>
                      <a:pt x="5394" y="2937"/>
                    </a:lnTo>
                    <a:lnTo>
                      <a:pt x="7184" y="4671"/>
                    </a:lnTo>
                    <a:lnTo>
                      <a:pt x="8996" y="5086"/>
                    </a:lnTo>
                    <a:lnTo>
                      <a:pt x="10787" y="5399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790720" y="711360"/>
                <a:ext cx="3883320" cy="586080"/>
              </a:xfrm>
              <a:custGeom>
                <a:avLst/>
                <a:gdLst/>
                <a:ahLst/>
                <a:rect l="0" t="0" r="r" b="b"/>
                <a:pathLst>
                  <a:path fill="none" w="10787" h="1628">
                    <a:moveTo>
                      <a:pt x="0" y="0"/>
                    </a:moveTo>
                    <a:lnTo>
                      <a:pt x="1812" y="136"/>
                    </a:lnTo>
                    <a:lnTo>
                      <a:pt x="3602" y="621"/>
                    </a:lnTo>
                    <a:lnTo>
                      <a:pt x="5394" y="1107"/>
                    </a:lnTo>
                    <a:lnTo>
                      <a:pt x="7184" y="1456"/>
                    </a:lnTo>
                    <a:lnTo>
                      <a:pt x="8996" y="1628"/>
                    </a:lnTo>
                    <a:lnTo>
                      <a:pt x="10787" y="1557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6254640" y="330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6300720" y="4038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6415200" y="3067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6410160" y="2593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6415200" y="11811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1146240" y="452520"/>
            <a:ext cx="5672160" cy="4976640"/>
            <a:chOff x="1146240" y="452520"/>
            <a:chExt cx="5672160" cy="4976640"/>
          </a:xfrm>
        </p:grpSpPr>
        <p:grpSp>
          <p:nvGrpSpPr>
            <p:cNvPr id="1123" name=""/>
            <p:cNvGrpSpPr/>
            <p:nvPr/>
          </p:nvGrpSpPr>
          <p:grpSpPr>
            <a:xfrm>
              <a:off x="2305080" y="452520"/>
              <a:ext cx="4513320" cy="4697280"/>
              <a:chOff x="2305080" y="452520"/>
              <a:chExt cx="4513320" cy="4697280"/>
            </a:xfrm>
          </p:grpSpPr>
          <p:sp>
            <p:nvSpPr>
              <p:cNvPr id="1124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34448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480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0594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58626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63376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63376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2519280" y="491184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34448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4448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32940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42480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2480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40971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50594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594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49086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58626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26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57117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67368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67368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65232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643120" y="4908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6648480" y="4908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51040" y="49086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6629400" y="49086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2305080" y="47610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 txBox="1"/>
              <p:nvPr/>
            </p:nvSpPr>
            <p:spPr>
              <a:xfrm>
                <a:off x="2435400" y="470052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43120" y="4275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6648480" y="4275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649600" y="4275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648480" y="3900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649600" y="3900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643120" y="3625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648480" y="3625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49600" y="3625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43120" y="3425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648480" y="3425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49600" y="3425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43120" y="3252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648480" y="3252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49600" y="3252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43120" y="299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648480" y="2990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49600" y="2990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43120" y="28782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6648480" y="28782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49600" y="287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43120" y="2792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648480" y="2792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651040" y="2792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629400" y="27925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2305080" y="26431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2435400" y="25830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43120" y="214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648480" y="2144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649600" y="2144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643120" y="1770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648480" y="1770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49600" y="1770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43120" y="1509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648480" y="1509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649600" y="1509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643120" y="1297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6648480" y="1297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649600" y="1297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43120" y="113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6648480" y="1135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649600" y="1135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43120" y="985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6648480" y="98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649600" y="985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643120" y="873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6648480" y="873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49600" y="873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43120" y="762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6648480" y="762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49600" y="762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43120" y="662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6648480" y="662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651040" y="6620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6629400" y="6620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2305080" y="5144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2435400" y="45252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790720" y="700200"/>
                <a:ext cx="3883320" cy="3511800"/>
              </a:xfrm>
              <a:custGeom>
                <a:avLst/>
                <a:gdLst/>
                <a:ahLst/>
                <a:rect l="0" t="0" r="r" b="b"/>
                <a:pathLst>
                  <a:path fill="none" w="10787" h="9755">
                    <a:moveTo>
                      <a:pt x="0" y="0"/>
                    </a:moveTo>
                    <a:lnTo>
                      <a:pt x="1812" y="621"/>
                    </a:lnTo>
                    <a:lnTo>
                      <a:pt x="3602" y="1830"/>
                    </a:lnTo>
                    <a:lnTo>
                      <a:pt x="5394" y="3492"/>
                    </a:lnTo>
                    <a:lnTo>
                      <a:pt x="7184" y="5222"/>
                    </a:lnTo>
                    <a:lnTo>
                      <a:pt x="8996" y="7501"/>
                    </a:lnTo>
                    <a:lnTo>
                      <a:pt x="10787" y="9755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790720" y="662040"/>
                <a:ext cx="3883320" cy="4023000"/>
              </a:xfrm>
              <a:custGeom>
                <a:avLst/>
                <a:gdLst/>
                <a:ahLst/>
                <a:rect l="0" t="0" r="r" b="b"/>
                <a:pathLst>
                  <a:path fill="none" w="10787" h="11175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278"/>
                    </a:lnTo>
                    <a:lnTo>
                      <a:pt x="5394" y="2936"/>
                    </a:lnTo>
                    <a:lnTo>
                      <a:pt x="7184" y="5463"/>
                    </a:lnTo>
                    <a:lnTo>
                      <a:pt x="8996" y="8577"/>
                    </a:lnTo>
                    <a:lnTo>
                      <a:pt x="10787" y="11175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790720" y="674640"/>
                <a:ext cx="3883320" cy="2927880"/>
              </a:xfrm>
              <a:custGeom>
                <a:avLst/>
                <a:gdLst/>
                <a:ahLst/>
                <a:rect l="0" t="0" r="r" b="b"/>
                <a:pathLst>
                  <a:path fill="none" w="10787" h="8133">
                    <a:moveTo>
                      <a:pt x="0" y="0"/>
                    </a:moveTo>
                    <a:lnTo>
                      <a:pt x="1812" y="66"/>
                    </a:lnTo>
                    <a:lnTo>
                      <a:pt x="3602" y="758"/>
                    </a:lnTo>
                    <a:lnTo>
                      <a:pt x="5394" y="2832"/>
                    </a:lnTo>
                    <a:lnTo>
                      <a:pt x="7184" y="5120"/>
                    </a:lnTo>
                    <a:lnTo>
                      <a:pt x="8996" y="7057"/>
                    </a:lnTo>
                    <a:lnTo>
                      <a:pt x="10787" y="8133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790720" y="660240"/>
                <a:ext cx="3883320" cy="2005200"/>
              </a:xfrm>
              <a:custGeom>
                <a:avLst/>
                <a:gdLst/>
                <a:ahLst/>
                <a:rect l="0" t="0" r="r" b="b"/>
                <a:pathLst>
                  <a:path fill="none" w="10787" h="5570">
                    <a:moveTo>
                      <a:pt x="0" y="0"/>
                    </a:moveTo>
                    <a:lnTo>
                      <a:pt x="1812" y="35"/>
                    </a:lnTo>
                    <a:lnTo>
                      <a:pt x="3602" y="621"/>
                    </a:lnTo>
                    <a:lnTo>
                      <a:pt x="5394" y="1971"/>
                    </a:lnTo>
                    <a:lnTo>
                      <a:pt x="7184" y="3700"/>
                    </a:lnTo>
                    <a:lnTo>
                      <a:pt x="8996" y="5120"/>
                    </a:lnTo>
                    <a:lnTo>
                      <a:pt x="10787" y="557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790720" y="660240"/>
                <a:ext cx="3883320" cy="262440"/>
              </a:xfrm>
              <a:custGeom>
                <a:avLst/>
                <a:gdLst/>
                <a:ahLst/>
                <a:rect l="0" t="0" r="r" b="b"/>
                <a:pathLst>
                  <a:path fill="none" w="10787" h="729">
                    <a:moveTo>
                      <a:pt x="0" y="0"/>
                    </a:moveTo>
                    <a:lnTo>
                      <a:pt x="1812" y="0"/>
                    </a:lnTo>
                    <a:lnTo>
                      <a:pt x="3602" y="66"/>
                    </a:lnTo>
                    <a:lnTo>
                      <a:pt x="5394" y="239"/>
                    </a:lnTo>
                    <a:lnTo>
                      <a:pt x="7184" y="516"/>
                    </a:lnTo>
                    <a:lnTo>
                      <a:pt x="8996" y="689"/>
                    </a:lnTo>
                    <a:lnTo>
                      <a:pt x="10787" y="729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"/>
            <p:cNvSpPr txBox="1"/>
            <p:nvPr/>
          </p:nvSpPr>
          <p:spPr>
            <a:xfrm>
              <a:off x="1146240" y="229068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>
              <a:off x="4357800" y="513072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6369120" y="3592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5958000" y="393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6300720" y="3187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6238800" y="2314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6357960" y="901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"/>
          <p:cNvGrpSpPr/>
          <p:nvPr/>
        </p:nvGrpSpPr>
        <p:grpSpPr>
          <a:xfrm>
            <a:off x="2305080" y="554040"/>
            <a:ext cx="4513320" cy="4697280"/>
            <a:chOff x="2305080" y="554040"/>
            <a:chExt cx="4513320" cy="4697280"/>
          </a:xfrm>
        </p:grpSpPr>
        <p:sp>
          <p:nvSpPr>
            <p:cNvPr id="1246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  <a:lnTo>
                    <a:pt x="0" y="117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fill="none"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08124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5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9765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44244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8816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53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57783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2262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6337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337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25192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308124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8124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296712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35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341640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39765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765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38638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4244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244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42750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8816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816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4732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3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3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18004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57783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783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562752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2262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262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607536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6736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36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6523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43120" y="5010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648480" y="5010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51040" y="5010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629400" y="501012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 txBox="1"/>
            <p:nvPr/>
          </p:nvSpPr>
          <p:spPr>
            <a:xfrm>
              <a:off x="2305080" y="48625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2435400" y="480204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43120" y="46864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648480" y="468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49600" y="46864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3120" y="4500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648480" y="4500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49600" y="4500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643120" y="4376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6648480" y="4376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49600" y="4376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643120" y="42642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648480" y="4264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49600" y="42642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643120" y="41893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6648480" y="4189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649600" y="41893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43120" y="4114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648480" y="4114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49600" y="4114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643120" y="405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6648480" y="405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49600" y="405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43120" y="4002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648480" y="4002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49600" y="4002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643120" y="3952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648480" y="3952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51040" y="3952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629400" y="395280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2305080" y="38037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2435400" y="374328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643120" y="3627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64848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649600" y="36273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643120" y="34416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648480" y="3441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49600" y="34416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43120" y="3303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648480" y="3303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49600" y="3303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3120" y="320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6648480" y="320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600" y="320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43120" y="31179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648480" y="3117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49600" y="31179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43120" y="3056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648480" y="305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49600" y="3056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643120" y="2994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648480" y="299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49600" y="2994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43120" y="2930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648480" y="2930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49600" y="2930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43120" y="2894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648480" y="2894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51040" y="28940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629400" y="28940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 txBox="1"/>
            <p:nvPr/>
          </p:nvSpPr>
          <p:spPr>
            <a:xfrm>
              <a:off x="2305080" y="274464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2435400" y="268452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43120" y="2570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648480" y="2570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49600" y="2570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43120" y="2382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648480" y="2382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649600" y="2382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643120" y="2246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648480" y="2246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49600" y="2246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3120" y="2144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64848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49600" y="2144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43120" y="2058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648480" y="2058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49600" y="2058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643120" y="198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648480" y="198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49600" y="198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43120" y="19350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648480" y="193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49600" y="19350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43120" y="1871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648480" y="187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49600" y="1871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3120" y="1820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648480" y="1820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51040" y="1820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629400" y="18208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2305080" y="16747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2435400" y="161280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43120" y="1511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648480" y="151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49600" y="1511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43120" y="1324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648480" y="1324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49600" y="1324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43120" y="1187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64848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49600" y="1187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43120" y="1087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648480" y="1087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49600" y="1087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3120" y="1000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648480" y="1000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49600" y="1000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43120" y="925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6648480" y="925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0" y="925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643120" y="86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648480" y="86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49600" y="86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43120" y="81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4848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49600" y="81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643120" y="763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648480" y="76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51040" y="7635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629400" y="7635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2305080" y="6159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2435400" y="554040"/>
              <a:ext cx="19692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31960" y="849240"/>
              <a:ext cx="4042080" cy="3340440"/>
            </a:xfrm>
            <a:custGeom>
              <a:avLst/>
              <a:gdLst/>
              <a:ahLst/>
              <a:rect l="0" t="0" r="r" b="b"/>
              <a:pathLst>
                <a:path fill="none" w="11228" h="9279">
                  <a:moveTo>
                    <a:pt x="0" y="0"/>
                  </a:moveTo>
                  <a:lnTo>
                    <a:pt x="1243" y="105"/>
                  </a:lnTo>
                  <a:lnTo>
                    <a:pt x="2487" y="414"/>
                  </a:lnTo>
                  <a:lnTo>
                    <a:pt x="3730" y="1071"/>
                  </a:lnTo>
                  <a:lnTo>
                    <a:pt x="4974" y="2112"/>
                  </a:lnTo>
                  <a:lnTo>
                    <a:pt x="6249" y="3391"/>
                  </a:lnTo>
                  <a:lnTo>
                    <a:pt x="7493" y="5261"/>
                  </a:lnTo>
                  <a:lnTo>
                    <a:pt x="8736" y="6298"/>
                  </a:lnTo>
                  <a:lnTo>
                    <a:pt x="9980" y="8617"/>
                  </a:lnTo>
                  <a:lnTo>
                    <a:pt x="11228" y="9279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31960" y="947880"/>
              <a:ext cx="4042080" cy="1446480"/>
            </a:xfrm>
            <a:custGeom>
              <a:avLst/>
              <a:gdLst/>
              <a:ahLst/>
              <a:rect l="0" t="0" r="r" b="b"/>
              <a:pathLst>
                <a:path fill="none" w="11228" h="4018">
                  <a:moveTo>
                    <a:pt x="0" y="0"/>
                  </a:moveTo>
                  <a:lnTo>
                    <a:pt x="1243" y="136"/>
                  </a:lnTo>
                  <a:lnTo>
                    <a:pt x="2487" y="207"/>
                  </a:lnTo>
                  <a:lnTo>
                    <a:pt x="3730" y="238"/>
                  </a:lnTo>
                  <a:lnTo>
                    <a:pt x="4974" y="343"/>
                  </a:lnTo>
                  <a:lnTo>
                    <a:pt x="6249" y="485"/>
                  </a:lnTo>
                  <a:lnTo>
                    <a:pt x="7493" y="899"/>
                  </a:lnTo>
                  <a:lnTo>
                    <a:pt x="8736" y="1587"/>
                  </a:lnTo>
                  <a:lnTo>
                    <a:pt x="9980" y="2664"/>
                  </a:lnTo>
                  <a:lnTo>
                    <a:pt x="11228" y="4018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"/>
          <p:cNvSpPr txBox="1"/>
          <p:nvPr/>
        </p:nvSpPr>
        <p:spPr>
          <a:xfrm>
            <a:off x="114624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5575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397480" y="24303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958000" y="12826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-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1291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5226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08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42940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4687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0734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4594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843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62388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7432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7432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351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1291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1291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29210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35226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5226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3148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908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08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7004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2940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940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0863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4687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687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4798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0734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734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8657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4594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4594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52513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843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843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56358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2388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2388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0310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622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2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4152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754360" y="4919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6597720" y="4919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760840" y="491976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6580080" y="491976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2401920" y="47592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527200" y="47084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754360" y="4513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6597720" y="4513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760840" y="4513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754360" y="4275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6597720" y="4275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275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754360" y="410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6597720" y="410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760840" y="4106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754360" y="3975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6597720" y="3975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760840" y="3975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754360" y="38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597720" y="38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760840" y="386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754360" y="3772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6597720" y="3772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60840" y="3772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54360" y="3689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6597720" y="3689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60840" y="36892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754360" y="36291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6597720" y="3629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760840" y="36291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54360" y="3557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6597720" y="3557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760840" y="35575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6580080" y="35575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401920" y="33973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527200" y="33465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54360" y="3151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597720" y="3151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60840" y="3151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54360" y="2911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6597720" y="2911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760840" y="2911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754360" y="274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6597720" y="274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760840" y="27446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754360" y="2612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6597720" y="2612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760840" y="2612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54360" y="2505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6597720" y="2505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760840" y="2505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754360" y="2409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6597720" y="2409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760840" y="24098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754360" y="233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6597720" y="233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60840" y="233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754360" y="22669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6597720" y="22669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760840" y="22669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54360" y="2206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597720" y="2206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760840" y="220680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6580080" y="220680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401920" y="204624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527200" y="199548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754360" y="1787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597720" y="1787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60840" y="17874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754360" y="1549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597720" y="1549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60840" y="15494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754360" y="1380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597720" y="1380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760840" y="13809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54360" y="1249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597720" y="1249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60840" y="12492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754360" y="1143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597720" y="1143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60840" y="1143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754360" y="1058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6597720" y="1058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60840" y="1058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754360" y="974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597720" y="974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760840" y="974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754360" y="903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6597720" y="903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760840" y="903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754360" y="843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6597720" y="843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760840" y="8431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580080" y="8431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401920" y="6825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2527200" y="63324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743200" y="1346040"/>
            <a:ext cx="1551240" cy="2198880"/>
          </a:xfrm>
          <a:custGeom>
            <a:avLst/>
            <a:gdLst/>
            <a:ahLst/>
            <a:rect l="0" t="0" r="r" b="b"/>
            <a:pathLst>
              <a:path fill="none" w="4309" h="6108">
                <a:moveTo>
                  <a:pt x="0" y="0"/>
                </a:moveTo>
                <a:lnTo>
                  <a:pt x="2166" y="1825"/>
                </a:lnTo>
                <a:lnTo>
                  <a:pt x="4309" y="6108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743200" y="1225440"/>
            <a:ext cx="3880080" cy="3456360"/>
          </a:xfrm>
          <a:custGeom>
            <a:avLst/>
            <a:gdLst/>
            <a:ahLst/>
            <a:rect l="0" t="0" r="r" b="b"/>
            <a:pathLst>
              <a:path fill="none" w="10778" h="9601">
                <a:moveTo>
                  <a:pt x="0" y="0"/>
                </a:moveTo>
                <a:lnTo>
                  <a:pt x="2165" y="498"/>
                </a:lnTo>
                <a:lnTo>
                  <a:pt x="4308" y="1230"/>
                </a:lnTo>
                <a:lnTo>
                  <a:pt x="6474" y="2924"/>
                </a:lnTo>
                <a:lnTo>
                  <a:pt x="8613" y="5513"/>
                </a:lnTo>
                <a:lnTo>
                  <a:pt x="10778" y="9601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1222200" y="241776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568680" y="1871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815000" y="1790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3405240" y="518148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Adjacent 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ntinuous Wave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2401920" y="571680"/>
            <a:ext cx="4386240" cy="4525560"/>
            <a:chOff x="2401920" y="571680"/>
            <a:chExt cx="4386240" cy="4525560"/>
          </a:xfrm>
        </p:grpSpPr>
        <p:sp>
          <p:nvSpPr>
            <p:cNvPr id="161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338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033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5334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597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25718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38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38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 txBox="1"/>
            <p:nvPr/>
          </p:nvSpPr>
          <p:spPr>
            <a:xfrm>
              <a:off x="32162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4033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33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38624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4516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334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34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51609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597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58053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6451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43200" y="1152360"/>
              <a:ext cx="1945080" cy="2892960"/>
            </a:xfrm>
            <a:custGeom>
              <a:avLst/>
              <a:gdLst/>
              <a:ahLst/>
              <a:rect l="0" t="0" r="r" b="b"/>
              <a:pathLst>
                <a:path fill="none" w="5403" h="8036">
                  <a:moveTo>
                    <a:pt x="0" y="0"/>
                  </a:moveTo>
                  <a:lnTo>
                    <a:pt x="1795" y="1296"/>
                  </a:lnTo>
                  <a:lnTo>
                    <a:pt x="3586" y="4415"/>
                  </a:lnTo>
                  <a:lnTo>
                    <a:pt x="5403" y="8036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43200" y="781200"/>
              <a:ext cx="3880080" cy="3264120"/>
            </a:xfrm>
            <a:custGeom>
              <a:avLst/>
              <a:gdLst/>
              <a:ahLst/>
              <a:rect l="0" t="0" r="r" b="b"/>
              <a:pathLst>
                <a:path fill="none" w="10778" h="9067">
                  <a:moveTo>
                    <a:pt x="0" y="0"/>
                  </a:moveTo>
                  <a:lnTo>
                    <a:pt x="1794" y="35"/>
                  </a:lnTo>
                  <a:lnTo>
                    <a:pt x="3585" y="299"/>
                  </a:lnTo>
                  <a:lnTo>
                    <a:pt x="5402" y="1428"/>
                  </a:lnTo>
                  <a:lnTo>
                    <a:pt x="7197" y="3122"/>
                  </a:lnTo>
                  <a:lnTo>
                    <a:pt x="8988" y="6179"/>
                  </a:lnTo>
                  <a:lnTo>
                    <a:pt x="10778" y="9067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 txBox="1"/>
          <p:nvPr/>
        </p:nvSpPr>
        <p:spPr>
          <a:xfrm>
            <a:off x="122220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645000" y="1592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49672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40524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3/4 (15 Mbit/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Narrowband Gaussian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2401920" y="506520"/>
            <a:ext cx="4386240" cy="4525560"/>
            <a:chOff x="2401920" y="506520"/>
            <a:chExt cx="4386240" cy="4525560"/>
          </a:xfrm>
        </p:grpSpPr>
        <p:sp>
          <p:nvSpPr>
            <p:cNvPr id="1762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338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033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5334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97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 txBox="1"/>
            <p:nvPr/>
          </p:nvSpPr>
          <p:spPr>
            <a:xfrm>
              <a:off x="25718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338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8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32162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033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33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38624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4516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5334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4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51609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597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97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58053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6451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54360" y="4386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597720" y="438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60840" y="4386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754360" y="4148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597720" y="4148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760840" y="4148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54360" y="3979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597720" y="3979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60840" y="3979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54360" y="3848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6597720" y="3848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760840" y="3848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754360" y="3741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597720" y="3741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60840" y="3741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54360" y="364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6597720" y="364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60840" y="364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754360" y="3562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597720" y="3562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60840" y="3562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54360" y="3502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597720" y="350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760840" y="3502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54360" y="3430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597720" y="3430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760840" y="34304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6580080" y="34304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 txBox="1"/>
            <p:nvPr/>
          </p:nvSpPr>
          <p:spPr>
            <a:xfrm>
              <a:off x="2401920" y="32702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2527200" y="321948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54360" y="3024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6597720" y="3024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760840" y="3024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754360" y="2784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6597720" y="2784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760840" y="2784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754360" y="261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6597720" y="261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760840" y="261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54360" y="248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6597720" y="248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60840" y="248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754360" y="2378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597720" y="2378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60840" y="2378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754360" y="2282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6597720" y="2282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0840" y="2282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54360" y="2211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6597720" y="2211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60840" y="2211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754360" y="2079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597720" y="20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760840" y="207972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580080" y="207972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2401920" y="19191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2527200" y="186840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754360" y="1660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597720" y="1660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60840" y="1660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754360" y="142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6597720" y="1422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760840" y="1422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754360" y="1015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597720" y="1015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760840" y="1015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54360" y="932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6597720" y="932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760840" y="932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754360" y="847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6597720" y="847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60840" y="847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754360" y="77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6597720" y="77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760840" y="77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743200" y="907920"/>
              <a:ext cx="1945080" cy="2833920"/>
            </a:xfrm>
            <a:custGeom>
              <a:avLst/>
              <a:gdLst/>
              <a:ahLst/>
              <a:rect l="0" t="0" r="r" b="b"/>
              <a:pathLst>
                <a:path fill="none" w="5403" h="7872">
                  <a:moveTo>
                    <a:pt x="0" y="0"/>
                  </a:moveTo>
                  <a:lnTo>
                    <a:pt x="1795" y="1393"/>
                  </a:lnTo>
                  <a:lnTo>
                    <a:pt x="3586" y="4150"/>
                  </a:lnTo>
                  <a:lnTo>
                    <a:pt x="5403" y="7872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43200" y="716040"/>
              <a:ext cx="3880080" cy="3132360"/>
            </a:xfrm>
            <a:custGeom>
              <a:avLst/>
              <a:gdLst/>
              <a:ahLst/>
              <a:rect l="0" t="0" r="r" b="b"/>
              <a:pathLst>
                <a:path fill="none" w="10778" h="8701">
                  <a:moveTo>
                    <a:pt x="0" y="0"/>
                  </a:moveTo>
                  <a:lnTo>
                    <a:pt x="1794" y="66"/>
                  </a:lnTo>
                  <a:lnTo>
                    <a:pt x="3585" y="533"/>
                  </a:lnTo>
                  <a:lnTo>
                    <a:pt x="5402" y="1662"/>
                  </a:lnTo>
                  <a:lnTo>
                    <a:pt x="7197" y="3421"/>
                  </a:lnTo>
                  <a:lnTo>
                    <a:pt x="8988" y="5914"/>
                  </a:lnTo>
                  <a:lnTo>
                    <a:pt x="10778" y="8701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72096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890960" y="1739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33289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9000" y="711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8160" y="75240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9920" y="77328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0600" y="754200"/>
            <a:ext cx="66978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. Hayes</cp:lastModifiedBy>
  <cp:revision>0</cp:revision>
  <dc:subject/>
  <dc:title>Evaluation Results -1</dc:title>
</cp:coreProperties>
</file>