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58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5160" y="609480"/>
            <a:ext cx="776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5160" y="6477120"/>
            <a:ext cx="783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29a4"/>
                </a:solidFill>
                <a:latin typeface="Times New Roman"/>
                <a:ea typeface="Times New Roman"/>
              </a:rPr>
              <a:t>WPAN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29a4"/>
                </a:solidFill>
                <a:latin typeface="Times New Roman"/>
                <a:ea typeface="Times New Roman"/>
              </a:rPr>
              <a:t>WPAN Study Group Status #2</a:t>
            </a:r>
            <a:br>
              <a:rPr sz="1800"/>
            </a:br>
            <a:br>
              <a:rPr sz="1800"/>
            </a:br>
            <a:r>
              <a:rPr b="1" i="1" lang="en-US" sz="3200" spc="-1" strike="noStrike">
                <a:solidFill>
                  <a:srgbClr val="0029a4"/>
                </a:solidFill>
                <a:latin typeface="Times New Roman"/>
                <a:ea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29a4"/>
                </a:solidFill>
                <a:latin typeface="Times New Roman"/>
                <a:ea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29a4"/>
                </a:solidFill>
                <a:latin typeface="Times New Roman"/>
                <a:ea typeface="Times New Roman"/>
              </a:rPr>
              <a:t>November 10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EE WPAN Study Group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the Study Group timeframe will be extended this time from 11/98 to 3/99 [Albuquerque to Austi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from 802.11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A for Westford, MA meeting in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AR based on an 802.11 deriv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on WPAN Task/Working Group to be made at March 1999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discussions with Bluetooth and Hom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 guidance from our Sponsor &amp; ExCom on Bluetooth &amp; HomeRF Liais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PAN Study Group Vis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2.11 MAC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1600" y="3757680"/>
            <a:ext cx="162864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3728880"/>
            <a:ext cx="1725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5800" y="3757680"/>
            <a:ext cx="168768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41400" y="3728880"/>
            <a:ext cx="1712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4760" y="3757680"/>
            <a:ext cx="78912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60760" y="4137120"/>
            <a:ext cx="880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8480" y="3497400"/>
            <a:ext cx="5072040" cy="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97520" y="3519360"/>
            <a:ext cx="0" cy="2224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40040" y="3340080"/>
            <a:ext cx="0" cy="16200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6160" y="3511440"/>
            <a:ext cx="0" cy="25236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22680" y="3519360"/>
            <a:ext cx="0" cy="25272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" y="5234040"/>
            <a:ext cx="8492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95160" y="5251320"/>
            <a:ext cx="771480" cy="4762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08320" y="5234040"/>
            <a:ext cx="8510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346480" y="5251320"/>
            <a:ext cx="771480" cy="47628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14760" y="5234040"/>
            <a:ext cx="78912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632040" y="5256360"/>
            <a:ext cx="75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4880" y="5877000"/>
            <a:ext cx="2652840" cy="29376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9800" y="3519360"/>
            <a:ext cx="0" cy="26064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5840" y="3519360"/>
            <a:ext cx="0" cy="2224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76600" y="3757680"/>
            <a:ext cx="108756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05560" y="3757680"/>
            <a:ext cx="114948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9920" y="5234040"/>
            <a:ext cx="903240" cy="58428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0440" y="5234040"/>
            <a:ext cx="849240" cy="82692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42260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4192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45000" y="5245200"/>
            <a:ext cx="853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3000" y="5262480"/>
            <a:ext cx="7920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19120" y="2409840"/>
            <a:ext cx="577224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75440" y="2104920"/>
            <a:ext cx="2997000" cy="3909960"/>
            <a:chOff x="6175440" y="2104920"/>
            <a:chExt cx="2997000" cy="3909960"/>
          </a:xfrm>
        </p:grpSpPr>
        <p:grpSp>
          <p:nvGrpSpPr>
            <p:cNvPr id="79" name=""/>
            <p:cNvGrpSpPr/>
            <p:nvPr/>
          </p:nvGrpSpPr>
          <p:grpSpPr>
            <a:xfrm>
              <a:off x="7137360" y="3711600"/>
              <a:ext cx="1175040" cy="2303280"/>
              <a:chOff x="7137360" y="3711600"/>
              <a:chExt cx="1175040" cy="2303280"/>
            </a:xfrm>
          </p:grpSpPr>
          <p:sp>
            <p:nvSpPr>
              <p:cNvPr id="80" name=""/>
              <p:cNvSpPr/>
              <p:nvPr/>
            </p:nvSpPr>
            <p:spPr>
              <a:xfrm>
                <a:off x="7137360" y="3711600"/>
                <a:ext cx="1149480" cy="14493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48520" y="5187960"/>
                <a:ext cx="1117440" cy="8269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7174080" y="3733920"/>
                <a:ext cx="1138320" cy="11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wer data rate extension in 2.4 G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2.11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7250040" y="5216400"/>
                <a:ext cx="990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1Mbit/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175440" y="2104920"/>
              <a:ext cx="2997000" cy="1625760"/>
              <a:chOff x="6175440" y="2104920"/>
              <a:chExt cx="2997000" cy="16257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6219720" y="2104920"/>
                <a:ext cx="2952720" cy="1400400"/>
                <a:chOff x="6219720" y="2104920"/>
                <a:chExt cx="2952720" cy="14004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696080" y="3051000"/>
                  <a:ext cx="0" cy="4543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 txBox="1"/>
                <p:nvPr/>
              </p:nvSpPr>
              <p:spPr>
                <a:xfrm>
                  <a:off x="6219720" y="2104920"/>
                  <a:ext cx="2952720" cy="971640"/>
                </a:xfrm>
                <a:prstGeom prst="rect">
                  <a:avLst/>
                </a:prstGeom>
                <a:noFill/>
                <a:ln w="38160">
                  <a:solidFill>
                    <a:srgbClr val="3333cc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MAC </a:t>
                  </a: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Lit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6175440" y="3505320"/>
                <a:ext cx="15206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96080" y="3508200"/>
                <a:ext cx="0" cy="222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Com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ponsor and the IEEE 802 Leadership should review the SG documentation from the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geon Holed November 10, 1998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G will host a Liaison Meeting with Bluetooth, HomeRF, etc. during the 802.11 Orlando  Interim Meeting; a Report will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PAN SG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om was given 11/10/98 am the following doc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8/298r1 SG CFA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8/358r1 SG ExComm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G will submit a recommendation to our Sponsor to form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oing work per SG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Braley</dc:creator>
  <dc:description>Dick Braley, FedEx</dc:description>
  <dc:language>en-US</dc:language>
  <cp:lastModifiedBy>Applied Research &amp; Technology</cp:lastModifiedBy>
  <cp:revision>0</cp:revision>
  <dc:subject>doc.: III 802.11-98/358r2</dc:subject>
  <dc:title>WPAN SG Report to ExCom</dc:title>
</cp:coreProperties>
</file>