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7C3E-F7CA-4807-8990-6A8DD113C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40708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A1BD-4C80-4DBA-8C6A-5D0C7B9F6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92160" y="15235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40708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92160" y="40708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E5FB-971E-4129-AA14-DD4D134E9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7480" y="15235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865120" y="15235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40708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7480" y="40708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865120" y="40708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59C1-ED34-48D6-B101-43D3D1E54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FF88-3FAB-4331-AE22-913FA79AF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4C75-E5D0-45EC-8871-61CE53CFF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92160" y="15235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EA75-2461-461E-B0B4-9E4C6CF4A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C5C5-128E-4DE2-8E99-303E72405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F40B-927D-4EEA-ABA7-E2D5E4DA1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2160" y="15235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40708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EA46-813F-40C2-A465-591DF00BC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2160" y="15235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92160" y="40708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A001-3702-47E6-8E5D-23F5493F0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92160" y="15235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40708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1D7D-F200-44B2-9874-42A59897E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8269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28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FDEDC8AB-532F-43D1-A225-1B07B47C20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334040" y="380160"/>
            <a:ext cx="4088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98/396a-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7240" y="609480"/>
            <a:ext cx="7770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9400" y="6477120"/>
            <a:ext cx="2286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n Meeting Update, November 19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6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EEE 802.11 WG Interim Meeting Updat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441936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 Petrick, Harris Cor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 Petrick, Harri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ogist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763120" cy="221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45000"/>
          </a:bodyPr>
          <a:p>
            <a:pPr marL="154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JOINT 802.11 --ETSI-BRAN--</a:t>
            </a: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N-WEST?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154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eeting Date: January 11-15, 199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54080" indent="-154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otel: Grosvenor Res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4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alt Disney World Vill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4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ake Buena Vista, Florida 3283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4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07-828-444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4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07-827 6314 (fa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54080" indent="-154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st per night US$115, double/single occupa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54080" indent="-154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st per attendee for the week is approx US$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418440" y="2200320"/>
            <a:ext cx="2433600" cy="14698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994440" y="3322800"/>
            <a:ext cx="9712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EEE 802.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 Petrick, Harri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ww.grosvenorresort.co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06360" y="1638360"/>
            <a:ext cx="1930320" cy="19558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410080" y="1452600"/>
            <a:ext cx="3089520" cy="3443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160200" y="4343400"/>
            <a:ext cx="2347920" cy="13842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2685960" y="4681440"/>
            <a:ext cx="2403720" cy="161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 Petrick, Harris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ogistics…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160" y="1676160"/>
            <a:ext cx="792468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-291600">
              <a:lnSpc>
                <a:spcPct val="14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tinental Breakfast: Monday thru Frid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14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reaks/Snacks: Monday thur Friday 10am and 2PM (except on frida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14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unch: Cash sandwich and refreshment ba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14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arris Semiconductor is planning a social event Wednesday evening……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805280" y="5186520"/>
            <a:ext cx="389160" cy="388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 Petrick, Harri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ogistics…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15364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2000"/>
          </a:bodyPr>
          <a:p>
            <a:pPr marL="246960" indent="-246960">
              <a:spcBef>
                <a:spcPts val="178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Meet  room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534960" indent="-205560">
              <a:spcBef>
                <a:spcPts val="16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02.11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3 rooms:   1 for 60 peop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34960" indent="-205560">
              <a:spcBef>
                <a:spcPts val="16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 for 30 people ---- 1 for 20 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34960" indent="-205560">
              <a:spcBef>
                <a:spcPts val="16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TSI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3 rooms:  1 for 60 peop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34960" indent="-205560">
              <a:spcBef>
                <a:spcPts val="16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 for 40 people ---- 1 for 15 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34960" indent="-205560">
              <a:spcBef>
                <a:spcPts val="16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-WEST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1 rooms:  1 for 30 peop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3496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Need to confirm with hotel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The meeting rooms will have 115VAC power available for  PC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All Rooms are included for the week….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 Petrick, Harri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ogistics…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rlando international Air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lternative airpo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2200" indent="-21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ubs….Atlanta, NYC, Chica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2200" indent="-21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..Tampa Int’l…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2200" indent="-21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ytona Int’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2200" indent="-21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West Palm Beach Int’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ntal Cars…(Hotel ~ 20min. to Hote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rlando: Onsite: Avis, Budget, Nat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ffsite 2 miles: Hertz … Ala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imo service at Air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 Petrick, Harri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ogistics…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381880" cy="312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0000"/>
          </a:bodyPr>
          <a:p>
            <a:pPr marL="274320" indent="-2743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doc.:IEEE802.11-98/32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Fax form to Barbara Smith at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407-724-3724 or email:bsmith06@harris.co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spcBef>
                <a:spcPts val="649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Times New Roman"/>
              </a:rPr>
              <a:t>Registration deadline: Friday November 20, 1998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spcBef>
                <a:spcPts val="649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Times New Roman"/>
              </a:rPr>
              <a:t>Currently: 802.11 (26 confirmed)…ETSI (6 confirmed)</a:t>
            </a:r>
            <a:r>
              <a:rPr b="1" lang="en-US" sz="2600" spc="-1" strike="noStrike" u="sng">
                <a:solidFill>
                  <a:srgbClr val="ff0066"/>
                </a:solidFill>
                <a:uFillTx/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eminder on the reflector today…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Other activiti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Golf (scramble….WDR course the weekend before/after….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 Petrick, Harri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0T13:07:52Z</dcterms:created>
  <dc:creator>Al Petrick, Harris </dc:creator>
  <dc:description/>
  <dc:language>en-US</dc:language>
  <cp:lastModifiedBy>The Boeing Company</cp:lastModifiedBy>
  <cp:lastPrinted>1998-06-03T14:56:04Z</cp:lastPrinted>
  <dcterms:modified xsi:type="dcterms:W3CDTF">1998-11-13T06:12:22Z</dcterms:modified>
  <cp:revision>37</cp:revision>
  <dc:subject/>
  <dc:title>No Slide Title</dc:title>
</cp:coreProperties>
</file>