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93A-5F34-435A-AA42-ECAD07B7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9FA-5EEB-484F-80EF-8952DD81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D33-8EDA-41EB-9B7C-0CFCF53C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FDA7-9650-497B-B28A-20778169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C3E-A5D7-4AF5-BA99-17F4BB7F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9F8-ABAB-469D-9C1C-4827D08F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98B-590F-41E5-B6EC-B9F8C372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33C-CB2F-4345-A991-DD8D2265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3BF-38E0-4247-82A2-FAEF98B4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CF3-DE1D-4537-8C0F-BABBA1EC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273-72FB-4E35-9BEC-E504959D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6B9-8015-48F1-A7DA-5C5B9567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18160" indent="-218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77960" indent="-111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9360" indent="-108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17880" indent="-105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17880" indent="-105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17880" indent="-105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4A4A85-1C05-4D60-BCA4-EA4B2F5BB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orking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1359000" cy="108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3CB-E377-4705-8B85-1C1D53D8F45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ite’s Mission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286000"/>
            <a:ext cx="6934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ring about the existence of a broad range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operable consumer de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establishing open industry specifications for unlicensed, untether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pheral, control and entertainment de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iring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st cost and lowest power consum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unications between compliant devic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where in and around the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865-A601-4B03-967C-B1CCFD8845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ite MRD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13840" indent="-21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Mission Statement by Subcommitte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on of Mission Statement for review by Steering Committee by 10/12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Mission Statement by Steering Committee by 10/19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Pass of MRD expected to be ready for distribution by 11/9 (Rev 0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P-Lite Subcommittee meeting to review MRD at Com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800" indent="-217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 is 11/19 at the Flamingo Hilton Ho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E92-1001-46DE-982D-2BB1273B2C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D Timelin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0680" indent="-220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Pass of MRD expected to be ready for distribution by 12/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23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95 Technical meeting in early 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MRD by HomeRF-Lite subcommittee prior to Full WG meeting expected to occur in February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23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ssion to HomeRF reflector 2 weeks prior to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to HomeRF WG for review in February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Technical Specification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1E47-00DB-49C6-B4B6-261A103EC4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is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able the existence of a broad range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operable consumer dev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establishing 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industry specif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unlicensed RF digital communications for PCs and consumer devic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where, in and around the h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6C0-CBC8-4A41-91FC-DF434F4405C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bership Ro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anced Micro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ronet Wireless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ps Electric Co.,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adcom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terfly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io Computer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sco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q Computer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icsson Enterpris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jitsu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ris Semi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siden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l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nsai Electric Co.,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G Electronic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sushita Electric Industrial Co. (Panason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9720" y="1413000"/>
            <a:ext cx="401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pdated November 11, 199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65C-BD32-4BD8-B0F0-3541123570D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ber Roster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tsubishi Electric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tor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ional Semicondu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C Corp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ki Electric Industry Co.,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ilips Consumer Communications (P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max Electronics,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x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 Monolithic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ckwell Semiconductor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sung Electronic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eWave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p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em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licon Wave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i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ol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as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G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F09-45EB-41D8-8A37-9FF1A9A4B566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er America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og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rkeley Concept Research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rus Logic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amond Multi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son Research &amp; Development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 Converging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eywell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ustrial Technology &amp; Research Institute (IT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val Research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-O Data Device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eady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nda Tsushin Kogyo Co.,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vel One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DC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itis Software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ytheon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 Micro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wtek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.Megga Telecommunications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ilog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0000" y="1413000"/>
            <a:ext cx="369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1 NEW Members Added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5DB-E2FE-434B-AF88-4F4CCF36FC85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51040" y="3970440"/>
            <a:ext cx="7823160" cy="372960"/>
            <a:chOff x="851040" y="3970440"/>
            <a:chExt cx="7823160" cy="372960"/>
          </a:xfrm>
        </p:grpSpPr>
        <p:sp>
          <p:nvSpPr>
            <p:cNvPr id="63" name=""/>
            <p:cNvSpPr/>
            <p:nvPr/>
          </p:nvSpPr>
          <p:spPr>
            <a:xfrm>
              <a:off x="851040" y="3975120"/>
              <a:ext cx="782316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397044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8000" y="397044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397044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28600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8772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3000000">
            <a:off x="2039400" y="4930200"/>
            <a:ext cx="144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unch  3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44240" y="1391760"/>
            <a:ext cx="8229960" cy="2036160"/>
            <a:chOff x="444240" y="1391760"/>
            <a:chExt cx="8229960" cy="2036160"/>
          </a:xfrm>
        </p:grpSpPr>
        <p:sp>
          <p:nvSpPr>
            <p:cNvPr id="73" name=""/>
            <p:cNvSpPr/>
            <p:nvPr/>
          </p:nvSpPr>
          <p:spPr>
            <a:xfrm>
              <a:off x="469800" y="3022560"/>
              <a:ext cx="820440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00600" y="3017880"/>
              <a:ext cx="144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0" y="3017880"/>
              <a:ext cx="144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3017880"/>
              <a:ext cx="144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55600" y="2973240"/>
              <a:ext cx="1117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0400" y="2973240"/>
              <a:ext cx="1117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13000" y="2973240"/>
              <a:ext cx="1117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75520" y="2973240"/>
              <a:ext cx="111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9080000">
              <a:off x="1455480" y="237456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48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3412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0040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080" y="301788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9080000">
              <a:off x="380880" y="21333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st Me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9080000">
              <a:off x="2309400" y="1976040"/>
              <a:ext cx="1870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WAP Selec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9080000">
              <a:off x="3067920" y="2334960"/>
              <a:ext cx="995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9080000">
              <a:off x="5073120" y="2004480"/>
              <a:ext cx="1972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Arial"/>
                </a:rPr>
                <a:t>1st 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080000">
              <a:off x="6365520" y="2165040"/>
              <a:ext cx="1565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Arial"/>
                </a:rPr>
                <a:t>1st Produ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9080000">
              <a:off x="4576320" y="2111400"/>
              <a:ext cx="141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WAP R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5308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 flipH="1">
            <a:off x="846000" y="3398760"/>
            <a:ext cx="1897200" cy="5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9960" y="3398760"/>
            <a:ext cx="3876840" cy="5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5320" y="39668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03080" y="39668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27160" y="39668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32280" y="39668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3000000">
            <a:off x="2382480" y="4830120"/>
            <a:ext cx="123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.1  3/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3000000">
            <a:off x="3446280" y="5236200"/>
            <a:ext cx="2351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. Seminars  6/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3000000">
            <a:off x="4312800" y="4794840"/>
            <a:ext cx="117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.5 6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3000000">
            <a:off x="7153200" y="4837680"/>
            <a:ext cx="136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.9  10/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344840"/>
            <a:ext cx="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6764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4363920"/>
            <a:ext cx="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3000000">
            <a:off x="6128640" y="4874400"/>
            <a:ext cx="123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.7  9/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3000000">
            <a:off x="6306840" y="5258520"/>
            <a:ext cx="228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. Seminars 9/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3000000">
            <a:off x="8231400" y="4537080"/>
            <a:ext cx="879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B5A-411B-4182-BF60-DC565C8E459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sponse to W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00520" indent="-200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omeRF WG recently granted to a select number of individuals of the IEEE 802.11 WPAN SG the ability to review in full technical detail revision 0.9 of the SWAP-CA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0520" indent="-200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, there has been a request to inform the SG of the activities of the emerging HomeRF Lite sub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8320" indent="-203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is November 20, 1998 at the Flamingo Hilton Hotel in Las Ve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5A7-D251-4EEE-9C2D-127F8CC88D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’s Review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18160" indent="-218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WPAN SG members have volunteered to review the SWAP-CA rev. 0.9 specification for applicability to W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ce Kraemer - Harris Semicond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n Gifford - 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ve Shellhammer - Symbol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O’Hara - Informed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Blaney - Commcepts (liai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9DC-E77A-4335-9E68-68708936FD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05200" indent="-205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omeRF WG is interested in continuing the open dialogue with the WPAN SG, in particular with the emerging HomeRF Lite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5200" indent="-205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G is open to investigating the possibility of the WPAN SG “standardizing” a version of their SWAP-CA implementation, or the emerging HomeRF Lite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5200" indent="-205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 from the SG’s review of the specification will be presented to the WG at their next steering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00E-8993-4468-9E5A-255D0AFAD7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1T01:32:44Z</dcterms:created>
  <dc:creator>Tim Blaney</dc:creator>
  <dc:description>Tim Blaney, Commcepts</dc:description>
  <cp:keywords>November 1998</cp:keywords>
  <dc:language>en-US</dc:language>
  <cp:lastModifiedBy>The Boeing Company</cp:lastModifiedBy>
  <cp:lastPrinted>1998-09-11T18:06:47Z</cp:lastPrinted>
  <dcterms:modified xsi:type="dcterms:W3CDTF">1998-11-13T07:23:54Z</dcterms:modified>
  <cp:revision>55</cp:revision>
  <dc:subject>Submission</dc:subject>
  <dc:title>doc.: IEEE 802.11-98/360</dc:title>
</cp:coreProperties>
</file>