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bmp" ContentType="image/bmp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8.bmp" ContentType="image/bmp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73920" y="396720"/>
            <a:ext cx="2384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0480" y="609480"/>
            <a:ext cx="776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477120"/>
            <a:ext cx="784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bmp"/><Relationship Id="rId2" Type="http://schemas.openxmlformats.org/officeDocument/2006/relationships/image" Target="../media/image8.bmp"/><Relationship Id="rId3" Type="http://schemas.openxmlformats.org/officeDocument/2006/relationships/image" Target="../media/image8.bmp"/><Relationship Id="rId4" Type="http://schemas.openxmlformats.org/officeDocument/2006/relationships/image" Target="../media/image8.bmp"/><Relationship Id="rId5" Type="http://schemas.openxmlformats.org/officeDocument/2006/relationships/image" Target="../media/image8.bmp"/><Relationship Id="rId6" Type="http://schemas.openxmlformats.org/officeDocument/2006/relationships/image" Target="../media/image8.bmp"/><Relationship Id="rId7" Type="http://schemas.openxmlformats.org/officeDocument/2006/relationships/image" Target="../media/image8.bmp"/><Relationship Id="rId8" Type="http://schemas.openxmlformats.org/officeDocument/2006/relationships/image" Target="../media/image8.bmp"/><Relationship Id="rId9" Type="http://schemas.openxmlformats.org/officeDocument/2006/relationships/image" Target="../media/image8.bmp"/><Relationship Id="rId10" Type="http://schemas.openxmlformats.org/officeDocument/2006/relationships/image" Target="../media/image8.bmp"/><Relationship Id="rId11" Type="http://schemas.openxmlformats.org/officeDocument/2006/relationships/image" Target="../media/image8.bmp"/><Relationship Id="rId12" Type="http://schemas.openxmlformats.org/officeDocument/2006/relationships/image" Target="../media/image8.bmp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bmp"/><Relationship Id="rId2" Type="http://schemas.openxmlformats.org/officeDocument/2006/relationships/image" Target="../media/image8.bmp"/><Relationship Id="rId3" Type="http://schemas.openxmlformats.org/officeDocument/2006/relationships/image" Target="../media/image8.bmp"/><Relationship Id="rId4" Type="http://schemas.openxmlformats.org/officeDocument/2006/relationships/image" Target="../media/image8.bmp"/><Relationship Id="rId5" Type="http://schemas.openxmlformats.org/officeDocument/2006/relationships/image" Target="../media/image8.bmp"/><Relationship Id="rId6" Type="http://schemas.openxmlformats.org/officeDocument/2006/relationships/image" Target="../media/image8.bmp"/><Relationship Id="rId7" Type="http://schemas.openxmlformats.org/officeDocument/2006/relationships/image" Target="../media/image8.bmp"/><Relationship Id="rId8" Type="http://schemas.openxmlformats.org/officeDocument/2006/relationships/image" Target="../media/image8.bmp"/><Relationship Id="rId9" Type="http://schemas.openxmlformats.org/officeDocument/2006/relationships/image" Target="../media/image8.bmp"/><Relationship Id="rId10" Type="http://schemas.openxmlformats.org/officeDocument/2006/relationships/image" Target="../media/image8.bmp"/><Relationship Id="rId11" Type="http://schemas.openxmlformats.org/officeDocument/2006/relationships/image" Target="../media/image8.bmp"/><Relationship Id="rId12" Type="http://schemas.openxmlformats.org/officeDocument/2006/relationships/image" Target="../media/image8.bmp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image" Target="../media/image1.bmp"/><Relationship Id="rId4" Type="http://schemas.openxmlformats.org/officeDocument/2006/relationships/image" Target="../media/image1.bmp"/><Relationship Id="rId5" Type="http://schemas.openxmlformats.org/officeDocument/2006/relationships/image" Target="../media/image1.bmp"/><Relationship Id="rId6" Type="http://schemas.openxmlformats.org/officeDocument/2006/relationships/image" Target="../media/image1.bmp"/><Relationship Id="rId7" Type="http://schemas.openxmlformats.org/officeDocument/2006/relationships/image" Target="../media/image1.bmp"/><Relationship Id="rId8" Type="http://schemas.openxmlformats.org/officeDocument/2006/relationships/image" Target="../media/image1.bmp"/><Relationship Id="rId9" Type="http://schemas.openxmlformats.org/officeDocument/2006/relationships/image" Target="../media/image1.bmp"/><Relationship Id="rId10" Type="http://schemas.openxmlformats.org/officeDocument/2006/relationships/image" Target="../media/image1.bmp"/><Relationship Id="rId11" Type="http://schemas.openxmlformats.org/officeDocument/2006/relationships/image" Target="../media/image1.bmp"/><Relationship Id="rId12" Type="http://schemas.openxmlformats.org/officeDocument/2006/relationships/image" Target="../media/image1.bmp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38080" y="10666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Constell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hiro Morik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Wireless Systems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ikura@mhosun.wslab.ntt.co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977760" y="939960"/>
            <a:ext cx="6757920" cy="6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and vector error by HPA non-line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66680" y="1433520"/>
            <a:ext cx="6486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6QAM-OFDM Information data rate = 24 Mbit/s, Coding rate = 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090440" y="5651640"/>
            <a:ext cx="2851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versus Output backo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5338800" y="5651640"/>
            <a:ext cx="2543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versus Output backo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768240" y="3298680"/>
            <a:ext cx="29415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[at PER = 0.1]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928880" y="5246640"/>
            <a:ext cx="1450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put backoff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332000" y="2244600"/>
            <a:ext cx="2181240" cy="793080"/>
            <a:chOff x="1332000" y="2244600"/>
            <a:chExt cx="2181240" cy="793080"/>
          </a:xfrm>
        </p:grpSpPr>
        <p:sp>
          <p:nvSpPr>
            <p:cNvPr id="508" name=""/>
            <p:cNvSpPr txBox="1"/>
            <p:nvPr/>
          </p:nvSpPr>
          <p:spPr>
            <a:xfrm>
              <a:off x="1344600" y="2459160"/>
              <a:ext cx="21686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length = 1000 by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1332000" y="2687760"/>
              <a:ext cx="177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1433520" y="2700360"/>
              <a:ext cx="17784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1484280" y="2687760"/>
              <a:ext cx="13190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 soft dec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32000" y="22446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 txBox="1"/>
          <p:nvPr/>
        </p:nvSpPr>
        <p:spPr>
          <a:xfrm>
            <a:off x="4087800" y="3286080"/>
            <a:ext cx="13701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948280" y="5246640"/>
            <a:ext cx="1450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put backoff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090440" y="5018040"/>
            <a:ext cx="3246840" cy="241200"/>
            <a:chOff x="1090440" y="5018040"/>
            <a:chExt cx="3246840" cy="241200"/>
          </a:xfrm>
        </p:grpSpPr>
        <p:sp>
          <p:nvSpPr>
            <p:cNvPr id="516" name=""/>
            <p:cNvSpPr txBox="1"/>
            <p:nvPr/>
          </p:nvSpPr>
          <p:spPr>
            <a:xfrm>
              <a:off x="4172040" y="501804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3398760" y="501804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2638440" y="501804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1865160" y="501804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1090440" y="501804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116000" y="2079720"/>
            <a:ext cx="3083040" cy="2852640"/>
            <a:chOff x="1116000" y="2079720"/>
            <a:chExt cx="3083040" cy="2852640"/>
          </a:xfrm>
        </p:grpSpPr>
        <p:sp>
          <p:nvSpPr>
            <p:cNvPr id="522" name=""/>
            <p:cNvSpPr/>
            <p:nvPr/>
          </p:nvSpPr>
          <p:spPr>
            <a:xfrm>
              <a:off x="111600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11160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9072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189072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6400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26640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2432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42432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9724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419724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16000" y="2079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20680" y="2079720"/>
              <a:ext cx="30765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20680" y="4930920"/>
              <a:ext cx="30765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863640" y="2016000"/>
            <a:ext cx="304920" cy="3090960"/>
            <a:chOff x="863640" y="2016000"/>
            <a:chExt cx="304920" cy="3090960"/>
          </a:xfrm>
        </p:grpSpPr>
        <p:sp>
          <p:nvSpPr>
            <p:cNvPr id="536" name=""/>
            <p:cNvSpPr txBox="1"/>
            <p:nvPr/>
          </p:nvSpPr>
          <p:spPr>
            <a:xfrm>
              <a:off x="863640" y="486576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863640" y="451152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863640" y="415764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 txBox="1"/>
            <p:nvPr/>
          </p:nvSpPr>
          <p:spPr>
            <a:xfrm>
              <a:off x="863640" y="380196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863640" y="344808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 txBox="1"/>
            <p:nvPr/>
          </p:nvSpPr>
          <p:spPr>
            <a:xfrm>
              <a:off x="863640" y="307980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 txBox="1"/>
            <p:nvPr/>
          </p:nvSpPr>
          <p:spPr>
            <a:xfrm>
              <a:off x="863640" y="272556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863640" y="237024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863640" y="201600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116000" y="2079720"/>
            <a:ext cx="3081240" cy="2852640"/>
            <a:chOff x="1116000" y="2079720"/>
            <a:chExt cx="3081240" cy="2852640"/>
          </a:xfrm>
        </p:grpSpPr>
        <p:sp>
          <p:nvSpPr>
            <p:cNvPr id="546" name=""/>
            <p:cNvSpPr/>
            <p:nvPr/>
          </p:nvSpPr>
          <p:spPr>
            <a:xfrm>
              <a:off x="1120680" y="493092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4151160" y="493092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20680" y="457524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4151160" y="457524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20680" y="422100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4151160" y="422100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20680" y="386568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4151160" y="386568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0680" y="351144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4151160" y="351144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20680" y="314316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4151160" y="314316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0680" y="278928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4151160" y="278928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20680" y="243540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151160" y="243540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20680" y="207972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4151160" y="207972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1116000" y="2082960"/>
              <a:ext cx="0" cy="28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116000" y="2079720"/>
            <a:ext cx="3094200" cy="28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95400" y="3287880"/>
            <a:ext cx="527040" cy="66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52560" y="32446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27120" y="3959280"/>
            <a:ext cx="617760" cy="36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384280" y="39164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049560" y="4327560"/>
            <a:ext cx="692280" cy="336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06720" y="4284720"/>
            <a:ext cx="8748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03680" y="46260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5122800" y="5018040"/>
            <a:ext cx="3246480" cy="241200"/>
            <a:chOff x="5122800" y="5018040"/>
            <a:chExt cx="3246480" cy="241200"/>
          </a:xfrm>
        </p:grpSpPr>
        <p:sp>
          <p:nvSpPr>
            <p:cNvPr id="574" name=""/>
            <p:cNvSpPr txBox="1"/>
            <p:nvPr/>
          </p:nvSpPr>
          <p:spPr>
            <a:xfrm>
              <a:off x="8204040" y="501804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7431120" y="501804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6670800" y="501804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 txBox="1"/>
            <p:nvPr/>
          </p:nvSpPr>
          <p:spPr>
            <a:xfrm>
              <a:off x="5897520" y="501804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5122800" y="501804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148360" y="2079720"/>
            <a:ext cx="3082680" cy="2852640"/>
            <a:chOff x="5148360" y="2079720"/>
            <a:chExt cx="3082680" cy="2852640"/>
          </a:xfrm>
        </p:grpSpPr>
        <p:sp>
          <p:nvSpPr>
            <p:cNvPr id="580" name=""/>
            <p:cNvSpPr/>
            <p:nvPr/>
          </p:nvSpPr>
          <p:spPr>
            <a:xfrm>
              <a:off x="514836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1483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230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9230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9600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66960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5632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45632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2960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82296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48360" y="2079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53040" y="2079720"/>
              <a:ext cx="30765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53040" y="4930920"/>
              <a:ext cx="30765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933800" y="2016000"/>
            <a:ext cx="254160" cy="3090960"/>
            <a:chOff x="4933800" y="2016000"/>
            <a:chExt cx="254160" cy="3090960"/>
          </a:xfrm>
        </p:grpSpPr>
        <p:sp>
          <p:nvSpPr>
            <p:cNvPr id="594" name=""/>
            <p:cNvSpPr txBox="1"/>
            <p:nvPr/>
          </p:nvSpPr>
          <p:spPr>
            <a:xfrm>
              <a:off x="5022720" y="486576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5022720" y="446076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5022720" y="405612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5022720" y="364968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5022720" y="323208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4933800" y="2827440"/>
              <a:ext cx="2541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4933800" y="2421000"/>
              <a:ext cx="2541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4933800" y="2016000"/>
              <a:ext cx="2541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148360" y="2079720"/>
            <a:ext cx="3081240" cy="2852640"/>
            <a:chOff x="5148360" y="2079720"/>
            <a:chExt cx="3081240" cy="2852640"/>
          </a:xfrm>
        </p:grpSpPr>
        <p:sp>
          <p:nvSpPr>
            <p:cNvPr id="603" name=""/>
            <p:cNvSpPr/>
            <p:nvPr/>
          </p:nvSpPr>
          <p:spPr>
            <a:xfrm>
              <a:off x="5153040" y="493092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8183520" y="493092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53040" y="452448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8183520" y="452448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53040" y="411948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8183520" y="411948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53040" y="371484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8183520" y="371484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53040" y="329580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8183520" y="329580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53040" y="289080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8183520" y="289080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53040" y="248616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8183520" y="248616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53040" y="207972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8183520" y="207972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148360" y="2082960"/>
              <a:ext cx="0" cy="28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5148360" y="2079720"/>
            <a:ext cx="3094200" cy="28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927760" y="2705040"/>
            <a:ext cx="527040" cy="45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884920" y="26622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459480" y="3160800"/>
            <a:ext cx="615960" cy="38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416640" y="3117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80120" y="3554280"/>
            <a:ext cx="693720" cy="336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39080" y="3511440"/>
            <a:ext cx="8748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736040" y="38527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905120" y="1079640"/>
            <a:ext cx="53593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6737400" y="4311720"/>
            <a:ext cx="1092240" cy="7113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78280" y="4781520"/>
            <a:ext cx="1384200" cy="241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876240" y="939960"/>
            <a:ext cx="7373880" cy="6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and vector error by IFFT quantiza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503360" y="1433520"/>
            <a:ext cx="6486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6QAM-OFDM Information data rate = 24 Mbit/s, Coding rate = 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179280" y="3424320"/>
            <a:ext cx="26924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[at PER = 0.1]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601640" y="5297400"/>
            <a:ext cx="27622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bit at IFFT calculation (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362320" y="2244600"/>
            <a:ext cx="1995480" cy="843120"/>
            <a:chOff x="2362320" y="2244600"/>
            <a:chExt cx="1995480" cy="843120"/>
          </a:xfrm>
        </p:grpSpPr>
        <p:sp>
          <p:nvSpPr>
            <p:cNvPr id="636" name=""/>
            <p:cNvSpPr txBox="1"/>
            <p:nvPr/>
          </p:nvSpPr>
          <p:spPr>
            <a:xfrm>
              <a:off x="2373480" y="2459160"/>
              <a:ext cx="198432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length = 1000 by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2373480" y="2687760"/>
              <a:ext cx="1620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>
              <a:off x="2454120" y="2700360"/>
              <a:ext cx="16200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 txBox="1"/>
            <p:nvPr/>
          </p:nvSpPr>
          <p:spPr>
            <a:xfrm>
              <a:off x="2502000" y="2687760"/>
              <a:ext cx="1206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 soft dec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2362320" y="2244600"/>
              <a:ext cx="11955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ar amplif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 txBox="1"/>
          <p:nvPr/>
        </p:nvSpPr>
        <p:spPr>
          <a:xfrm>
            <a:off x="4265640" y="3344760"/>
            <a:ext cx="12542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525680" y="5018040"/>
            <a:ext cx="3006720" cy="241200"/>
            <a:chOff x="1525680" y="5018040"/>
            <a:chExt cx="3006720" cy="241200"/>
          </a:xfrm>
        </p:grpSpPr>
        <p:sp>
          <p:nvSpPr>
            <p:cNvPr id="643" name=""/>
            <p:cNvSpPr txBox="1"/>
            <p:nvPr/>
          </p:nvSpPr>
          <p:spPr>
            <a:xfrm>
              <a:off x="4300560" y="5018040"/>
              <a:ext cx="231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3894120" y="5018040"/>
              <a:ext cx="231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3546360" y="501804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 txBox="1"/>
            <p:nvPr/>
          </p:nvSpPr>
          <p:spPr>
            <a:xfrm>
              <a:off x="3139920" y="501804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2733840" y="501804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2327400" y="501804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1932120" y="501804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1525680" y="501804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1549440" y="2079720"/>
            <a:ext cx="2822400" cy="2852640"/>
            <a:chOff x="1549440" y="2079720"/>
            <a:chExt cx="2822400" cy="2852640"/>
          </a:xfrm>
        </p:grpSpPr>
        <p:sp>
          <p:nvSpPr>
            <p:cNvPr id="652" name=""/>
            <p:cNvSpPr/>
            <p:nvPr/>
          </p:nvSpPr>
          <p:spPr>
            <a:xfrm>
              <a:off x="154944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54944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558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19558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5116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23511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5760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7576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6224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16224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686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5686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6396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9639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7040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3704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49440" y="2079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54120" y="2079720"/>
              <a:ext cx="2816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54120" y="4930920"/>
              <a:ext cx="2816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317600" y="2016000"/>
            <a:ext cx="277920" cy="3090960"/>
            <a:chOff x="1317600" y="2016000"/>
            <a:chExt cx="277920" cy="3090960"/>
          </a:xfrm>
        </p:grpSpPr>
        <p:sp>
          <p:nvSpPr>
            <p:cNvPr id="672" name=""/>
            <p:cNvSpPr txBox="1"/>
            <p:nvPr/>
          </p:nvSpPr>
          <p:spPr>
            <a:xfrm>
              <a:off x="1317600" y="4865760"/>
              <a:ext cx="277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>
              <a:off x="1317600" y="4511520"/>
              <a:ext cx="277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1317600" y="4157640"/>
              <a:ext cx="277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1317600" y="3801960"/>
              <a:ext cx="277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 txBox="1"/>
            <p:nvPr/>
          </p:nvSpPr>
          <p:spPr>
            <a:xfrm>
              <a:off x="1317600" y="3448080"/>
              <a:ext cx="277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1317600" y="3079800"/>
              <a:ext cx="277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1317600" y="2725560"/>
              <a:ext cx="277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 txBox="1"/>
            <p:nvPr/>
          </p:nvSpPr>
          <p:spPr>
            <a:xfrm>
              <a:off x="1317600" y="2370240"/>
              <a:ext cx="277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1317600" y="2016000"/>
              <a:ext cx="277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549440" y="2079720"/>
            <a:ext cx="2820960" cy="2852640"/>
            <a:chOff x="1549440" y="2079720"/>
            <a:chExt cx="2820960" cy="2852640"/>
          </a:xfrm>
        </p:grpSpPr>
        <p:sp>
          <p:nvSpPr>
            <p:cNvPr id="682" name=""/>
            <p:cNvSpPr/>
            <p:nvPr/>
          </p:nvSpPr>
          <p:spPr>
            <a:xfrm>
              <a:off x="1554120" y="49309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329000" y="49309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54120" y="457524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4329000" y="457524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54120" y="42210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4329000" y="42210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54120" y="38656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329000" y="38656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554120" y="351144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4329000" y="351144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54120" y="314316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4329000" y="314316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54120" y="27892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4329000" y="27892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54120" y="243540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4329000" y="243540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54120" y="207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4329000" y="207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1549440" y="2082960"/>
              <a:ext cx="0" cy="28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1549440" y="2079720"/>
            <a:ext cx="2832120" cy="28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60560" y="2971800"/>
            <a:ext cx="797040" cy="176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920960" y="2928960"/>
            <a:ext cx="810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762280" y="4745160"/>
            <a:ext cx="399960" cy="13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22680" y="4702320"/>
            <a:ext cx="810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166920" y="4884840"/>
            <a:ext cx="797040" cy="4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27320" y="4842000"/>
            <a:ext cx="8244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29040" y="4892760"/>
            <a:ext cx="8100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218200" y="5018040"/>
            <a:ext cx="3005280" cy="241200"/>
            <a:chOff x="5218200" y="5018040"/>
            <a:chExt cx="3005280" cy="241200"/>
          </a:xfrm>
        </p:grpSpPr>
        <p:sp>
          <p:nvSpPr>
            <p:cNvPr id="710" name=""/>
            <p:cNvSpPr txBox="1"/>
            <p:nvPr/>
          </p:nvSpPr>
          <p:spPr>
            <a:xfrm>
              <a:off x="7991640" y="5018040"/>
              <a:ext cx="231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7585200" y="5018040"/>
              <a:ext cx="231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7237440" y="501804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>
              <a:off x="6831000" y="501804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6424560" y="501804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6018120" y="501804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5624640" y="501804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5218200" y="501804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240160" y="2079720"/>
            <a:ext cx="2822760" cy="2852640"/>
            <a:chOff x="5240160" y="2079720"/>
            <a:chExt cx="2822760" cy="2852640"/>
          </a:xfrm>
        </p:grpSpPr>
        <p:sp>
          <p:nvSpPr>
            <p:cNvPr id="719" name=""/>
            <p:cNvSpPr/>
            <p:nvPr/>
          </p:nvSpPr>
          <p:spPr>
            <a:xfrm>
              <a:off x="524016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2401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4660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56466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4188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0418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4832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44832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85476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68547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6120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2612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5504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65504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614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80614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40160" y="2079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45200" y="2079720"/>
              <a:ext cx="2816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45200" y="4930920"/>
              <a:ext cx="2816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5043600" y="2016000"/>
            <a:ext cx="231840" cy="3090960"/>
            <a:chOff x="5043600" y="2016000"/>
            <a:chExt cx="231840" cy="3090960"/>
          </a:xfrm>
        </p:grpSpPr>
        <p:sp>
          <p:nvSpPr>
            <p:cNvPr id="739" name=""/>
            <p:cNvSpPr txBox="1"/>
            <p:nvPr/>
          </p:nvSpPr>
          <p:spPr>
            <a:xfrm>
              <a:off x="5124600" y="486576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5124600" y="446076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5124600" y="405612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5124600" y="364968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5124600" y="3232080"/>
              <a:ext cx="150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5043600" y="2827440"/>
              <a:ext cx="231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5043600" y="2421000"/>
              <a:ext cx="231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5043600" y="2016000"/>
              <a:ext cx="231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5240160" y="2079720"/>
            <a:ext cx="2821320" cy="2852640"/>
            <a:chOff x="5240160" y="2079720"/>
            <a:chExt cx="2821320" cy="2852640"/>
          </a:xfrm>
        </p:grpSpPr>
        <p:sp>
          <p:nvSpPr>
            <p:cNvPr id="748" name=""/>
            <p:cNvSpPr/>
            <p:nvPr/>
          </p:nvSpPr>
          <p:spPr>
            <a:xfrm>
              <a:off x="5245200" y="493092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8020080" y="49309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45200" y="452448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8020080" y="45244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45200" y="4119480"/>
              <a:ext cx="410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8020080" y="411948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45200" y="371484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8020080" y="371484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45200" y="329580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8020080" y="329580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45200" y="2890800"/>
              <a:ext cx="410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8020080" y="28908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45200" y="248616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8020080" y="248616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45200" y="207972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8020080" y="207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5240160" y="2082960"/>
              <a:ext cx="0" cy="28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5240160" y="2079720"/>
            <a:ext cx="2832120" cy="28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651640" y="2465280"/>
            <a:ext cx="390240" cy="114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611680" y="2422440"/>
            <a:ext cx="8100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046920" y="3618000"/>
            <a:ext cx="401400" cy="53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06960" y="3575160"/>
            <a:ext cx="810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453360" y="4162320"/>
            <a:ext cx="401400" cy="38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413400" y="4119480"/>
            <a:ext cx="810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9440" y="4554360"/>
            <a:ext cx="795600" cy="26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819840" y="4511520"/>
            <a:ext cx="810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620120" y="4778280"/>
            <a:ext cx="810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5254560" y="5297400"/>
            <a:ext cx="27622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bit at IFFT calculation (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2651040" y="5626080"/>
            <a:ext cx="20289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nois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1509840" y="2257560"/>
            <a:ext cx="78120" cy="2442960"/>
            <a:chOff x="1509840" y="2257560"/>
            <a:chExt cx="78120" cy="2442960"/>
          </a:xfrm>
        </p:grpSpPr>
        <p:sp>
          <p:nvSpPr>
            <p:cNvPr id="778" name=""/>
            <p:cNvSpPr/>
            <p:nvPr/>
          </p:nvSpPr>
          <p:spPr>
            <a:xfrm>
              <a:off x="1509840" y="2257560"/>
              <a:ext cx="78120" cy="154440"/>
            </a:xfrm>
            <a:custGeom>
              <a:avLst/>
              <a:gdLst/>
              <a:ahLst/>
              <a:rect l="0" t="0" r="r" b="b"/>
              <a:pathLst>
                <a:path w="217" h="429">
                  <a:moveTo>
                    <a:pt x="108" y="0"/>
                  </a:moveTo>
                  <a:lnTo>
                    <a:pt x="217" y="429"/>
                  </a:lnTo>
                  <a:lnTo>
                    <a:pt x="108" y="286"/>
                  </a:lnTo>
                  <a:lnTo>
                    <a:pt x="0" y="42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1547640" y="2349360"/>
              <a:ext cx="0" cy="235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1552680" y="4651200"/>
            <a:ext cx="2621160" cy="78120"/>
            <a:chOff x="1552680" y="4651200"/>
            <a:chExt cx="2621160" cy="78120"/>
          </a:xfrm>
        </p:grpSpPr>
        <p:sp>
          <p:nvSpPr>
            <p:cNvPr id="781" name=""/>
            <p:cNvSpPr/>
            <p:nvPr/>
          </p:nvSpPr>
          <p:spPr>
            <a:xfrm>
              <a:off x="4021200" y="4651200"/>
              <a:ext cx="152640" cy="78120"/>
            </a:xfrm>
            <a:custGeom>
              <a:avLst/>
              <a:gdLst/>
              <a:ahLst/>
              <a:rect l="0" t="0" r="r" b="b"/>
              <a:pathLst>
                <a:path w="424" h="217">
                  <a:moveTo>
                    <a:pt x="424" y="108"/>
                  </a:moveTo>
                  <a:lnTo>
                    <a:pt x="0" y="217"/>
                  </a:lnTo>
                  <a:lnTo>
                    <a:pt x="178" y="108"/>
                  </a:lnTo>
                  <a:lnTo>
                    <a:pt x="0" y="0"/>
                  </a:lnTo>
                  <a:lnTo>
                    <a:pt x="424" y="1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52680" y="4689360"/>
              <a:ext cx="2531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638440" y="3414600"/>
            <a:ext cx="1440" cy="1185840"/>
            <a:chOff x="2638440" y="3414600"/>
            <a:chExt cx="1440" cy="1185840"/>
          </a:xfrm>
        </p:grpSpPr>
        <p:sp>
          <p:nvSpPr>
            <p:cNvPr id="784" name=""/>
            <p:cNvSpPr/>
            <p:nvPr/>
          </p:nvSpPr>
          <p:spPr>
            <a:xfrm>
              <a:off x="2638440" y="34146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38440" y="35416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38440" y="366876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638440" y="37940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38440" y="39211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38440" y="4048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38440" y="4175280"/>
              <a:ext cx="144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38440" y="43020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38440" y="44276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38440" y="455436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573200" y="3422520"/>
            <a:ext cx="1941840" cy="546480"/>
          </a:xfrm>
          <a:custGeom>
            <a:avLst/>
            <a:gdLst/>
            <a:ahLst/>
            <a:rect l="0" t="0" r="r" b="b"/>
            <a:pathLst>
              <a:path fill="none" w="5394" h="1518">
                <a:moveTo>
                  <a:pt x="0" y="0"/>
                </a:moveTo>
                <a:lnTo>
                  <a:pt x="2962" y="0"/>
                </a:lnTo>
                <a:lnTo>
                  <a:pt x="5394" y="15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015920" y="2232000"/>
            <a:ext cx="531720" cy="2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498760" y="4803840"/>
            <a:ext cx="620640" cy="2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50 kH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38080" y="2459160"/>
            <a:ext cx="614520" cy="4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(dBc/Hz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286160" y="4664160"/>
            <a:ext cx="177840" cy="2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210200" y="4878360"/>
            <a:ext cx="444600" cy="2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(Hz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170080" y="4992840"/>
            <a:ext cx="1685880" cy="2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(corner frequenc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5010120" y="1974960"/>
            <a:ext cx="2268720" cy="1947960"/>
            <a:chOff x="5010120" y="1974960"/>
            <a:chExt cx="2268720" cy="1947960"/>
          </a:xfrm>
        </p:grpSpPr>
        <p:sp>
          <p:nvSpPr>
            <p:cNvPr id="802" name=""/>
            <p:cNvSpPr txBox="1"/>
            <p:nvPr/>
          </p:nvSpPr>
          <p:spPr>
            <a:xfrm>
              <a:off x="5010120" y="295416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5122800" y="3054240"/>
              <a:ext cx="127080" cy="15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900" spc="-1" strike="noStrike">
                  <a:solidFill>
                    <a:srgbClr val="000000"/>
                  </a:solidFill>
                  <a:latin typeface="?? ??"/>
                  <a:ea typeface="?? ??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 txBox="1"/>
            <p:nvPr/>
          </p:nvSpPr>
          <p:spPr>
            <a:xfrm>
              <a:off x="5249880" y="295416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=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5389560" y="295416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 txBox="1"/>
            <p:nvPr/>
          </p:nvSpPr>
          <p:spPr>
            <a:xfrm>
              <a:off x="5554800" y="2954160"/>
              <a:ext cx="53172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(0,1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 txBox="1"/>
            <p:nvPr/>
          </p:nvSpPr>
          <p:spPr>
            <a:xfrm>
              <a:off x="5022720" y="2143080"/>
              <a:ext cx="237960" cy="44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ex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5389560" y="214308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j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 txBox="1"/>
            <p:nvPr/>
          </p:nvSpPr>
          <p:spPr>
            <a:xfrm>
              <a:off x="5478480" y="2092320"/>
              <a:ext cx="177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j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 txBox="1"/>
            <p:nvPr/>
          </p:nvSpPr>
          <p:spPr>
            <a:xfrm>
              <a:off x="5580000" y="2219400"/>
              <a:ext cx="127080" cy="15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900" spc="-1" strike="noStrike">
                  <a:solidFill>
                    <a:srgbClr val="000000"/>
                  </a:solidFill>
                  <a:latin typeface="?? ??"/>
                  <a:ea typeface="?? ??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310360" y="2089080"/>
              <a:ext cx="51120" cy="108360"/>
            </a:xfrm>
            <a:custGeom>
              <a:avLst/>
              <a:gdLst/>
              <a:ahLst/>
              <a:rect l="0" t="0" r="r" b="b"/>
              <a:pathLst>
                <a:path w="142" h="301">
                  <a:moveTo>
                    <a:pt x="142" y="301"/>
                  </a:move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cubicBezTo>
                    <a:pt x="117" y="0"/>
                    <a:pt x="93" y="14"/>
                    <a:pt x="71" y="40"/>
                  </a:cubicBezTo>
                  <a:cubicBezTo>
                    <a:pt x="49" y="67"/>
                    <a:pt x="31" y="105"/>
                    <a:pt x="19" y="150"/>
                  </a:cubicBezTo>
                  <a:cubicBezTo>
                    <a:pt x="7" y="194"/>
                    <a:pt x="1" y="242"/>
                    <a:pt x="0" y="292"/>
                  </a:cubicBezTo>
                  <a:lnTo>
                    <a:pt x="142" y="3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10360" y="2193840"/>
              <a:ext cx="51120" cy="108360"/>
            </a:xfrm>
            <a:custGeom>
              <a:avLst/>
              <a:gdLst/>
              <a:ahLst/>
              <a:rect l="0" t="0" r="r" b="b"/>
              <a:pathLst>
                <a:path w="142" h="301">
                  <a:moveTo>
                    <a:pt x="142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53"/>
                    <a:pt x="7" y="105"/>
                    <a:pt x="19" y="151"/>
                  </a:cubicBezTo>
                  <a:cubicBezTo>
                    <a:pt x="31" y="196"/>
                    <a:pt x="49" y="234"/>
                    <a:pt x="71" y="261"/>
                  </a:cubicBezTo>
                  <a:cubicBezTo>
                    <a:pt x="93" y="287"/>
                    <a:pt x="117" y="301"/>
                    <a:pt x="142" y="301"/>
                  </a:cubicBezTo>
                  <a:lnTo>
                    <a:pt x="14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78640" y="2089080"/>
              <a:ext cx="51120" cy="108360"/>
            </a:xfrm>
            <a:custGeom>
              <a:avLst/>
              <a:gdLst/>
              <a:ahLst/>
              <a:rect l="0" t="0" r="r" b="b"/>
              <a:pathLst>
                <a:path w="142" h="301">
                  <a:moveTo>
                    <a:pt x="4" y="301"/>
                  </a:moveTo>
                  <a:lnTo>
                    <a:pt x="142" y="301"/>
                  </a:lnTo>
                  <a:lnTo>
                    <a:pt x="142" y="301"/>
                  </a:lnTo>
                  <a:lnTo>
                    <a:pt x="142" y="301"/>
                  </a:lnTo>
                  <a:cubicBezTo>
                    <a:pt x="142" y="248"/>
                    <a:pt x="136" y="196"/>
                    <a:pt x="124" y="150"/>
                  </a:cubicBezTo>
                  <a:cubicBezTo>
                    <a:pt x="112" y="105"/>
                    <a:pt x="94" y="67"/>
                    <a:pt x="74" y="40"/>
                  </a:cubicBezTo>
                  <a:cubicBezTo>
                    <a:pt x="53" y="14"/>
                    <a:pt x="29" y="0"/>
                    <a:pt x="5" y="0"/>
                  </a:cubicBezTo>
                  <a:cubicBezTo>
                    <a:pt x="3" y="0"/>
                    <a:pt x="2" y="0"/>
                    <a:pt x="0" y="0"/>
                  </a:cubicBezTo>
                  <a:lnTo>
                    <a:pt x="4" y="3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75400" y="2193840"/>
              <a:ext cx="52920" cy="108720"/>
            </a:xfrm>
            <a:custGeom>
              <a:avLst/>
              <a:gdLst/>
              <a:ahLst/>
              <a:rect l="0" t="0" r="r" b="b"/>
              <a:pathLst>
                <a:path w="147" h="302">
                  <a:moveTo>
                    <a:pt x="8" y="0"/>
                  </a:moveTo>
                  <a:lnTo>
                    <a:pt x="0" y="301"/>
                  </a:lnTo>
                  <a:lnTo>
                    <a:pt x="0" y="301"/>
                  </a:lnTo>
                  <a:cubicBezTo>
                    <a:pt x="3" y="301"/>
                    <a:pt x="6" y="302"/>
                    <a:pt x="9" y="302"/>
                  </a:cubicBezTo>
                  <a:cubicBezTo>
                    <a:pt x="33" y="302"/>
                    <a:pt x="57" y="288"/>
                    <a:pt x="78" y="261"/>
                  </a:cubicBezTo>
                  <a:cubicBezTo>
                    <a:pt x="99" y="235"/>
                    <a:pt x="116" y="197"/>
                    <a:pt x="129" y="151"/>
                  </a:cubicBezTo>
                  <a:cubicBezTo>
                    <a:pt x="141" y="105"/>
                    <a:pt x="147" y="53"/>
                    <a:pt x="147" y="1"/>
                  </a:cubicBezTo>
                  <a:cubicBezTo>
                    <a:pt x="147" y="0"/>
                    <a:pt x="147" y="0"/>
                    <a:pt x="147" y="0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 txBox="1"/>
            <p:nvPr/>
          </p:nvSpPr>
          <p:spPr>
            <a:xfrm>
              <a:off x="5808600" y="214308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=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 txBox="1"/>
            <p:nvPr/>
          </p:nvSpPr>
          <p:spPr>
            <a:xfrm>
              <a:off x="5897520" y="2143080"/>
              <a:ext cx="237960" cy="44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ex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 txBox="1"/>
            <p:nvPr/>
          </p:nvSpPr>
          <p:spPr>
            <a:xfrm>
              <a:off x="6289560" y="214308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j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>
              <a:off x="6378480" y="2092320"/>
              <a:ext cx="177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j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>
              <a:off x="6480000" y="2219400"/>
              <a:ext cx="254160" cy="15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900" spc="-1" strike="noStrike">
                  <a:solidFill>
                    <a:srgbClr val="000000"/>
                  </a:solidFill>
                  <a:latin typeface="?? ??"/>
                  <a:ea typeface="?? ??"/>
                </a:rPr>
                <a:t>R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6746760" y="214308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6861240" y="2244600"/>
              <a:ext cx="127080" cy="15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900" spc="-1" strike="noStrike">
                  <a:solidFill>
                    <a:srgbClr val="000000"/>
                  </a:solidFill>
                  <a:latin typeface="?? ??"/>
                  <a:ea typeface="?? ??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84800" y="1974960"/>
              <a:ext cx="70200" cy="222480"/>
            </a:xfrm>
            <a:custGeom>
              <a:avLst/>
              <a:gdLst/>
              <a:ahLst/>
              <a:rect l="0" t="0" r="r" b="b"/>
              <a:pathLst>
                <a:path w="195" h="618">
                  <a:moveTo>
                    <a:pt x="195" y="618"/>
                  </a:move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cubicBezTo>
                    <a:pt x="161" y="0"/>
                    <a:pt x="127" y="29"/>
                    <a:pt x="97" y="83"/>
                  </a:cubicBezTo>
                  <a:cubicBezTo>
                    <a:pt x="68" y="137"/>
                    <a:pt x="43" y="215"/>
                    <a:pt x="26" y="309"/>
                  </a:cubicBezTo>
                  <a:cubicBezTo>
                    <a:pt x="10" y="400"/>
                    <a:pt x="1" y="503"/>
                    <a:pt x="0" y="608"/>
                  </a:cubicBezTo>
                  <a:lnTo>
                    <a:pt x="195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184800" y="2193840"/>
              <a:ext cx="70200" cy="222480"/>
            </a:xfrm>
            <a:custGeom>
              <a:avLst/>
              <a:gdLst/>
              <a:ahLst/>
              <a:rect l="0" t="0" r="r" b="b"/>
              <a:pathLst>
                <a:path w="195" h="618">
                  <a:moveTo>
                    <a:pt x="195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8"/>
                    <a:pt x="9" y="215"/>
                    <a:pt x="26" y="309"/>
                  </a:cubicBezTo>
                  <a:cubicBezTo>
                    <a:pt x="43" y="403"/>
                    <a:pt x="68" y="481"/>
                    <a:pt x="98" y="535"/>
                  </a:cubicBezTo>
                  <a:cubicBezTo>
                    <a:pt x="127" y="589"/>
                    <a:pt x="161" y="618"/>
                    <a:pt x="195" y="618"/>
                  </a:cubicBez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50160" y="1974960"/>
              <a:ext cx="70200" cy="222480"/>
            </a:xfrm>
            <a:custGeom>
              <a:avLst/>
              <a:gdLst/>
              <a:ahLst/>
              <a:rect l="0" t="0" r="r" b="b"/>
              <a:pathLst>
                <a:path w="195" h="618">
                  <a:moveTo>
                    <a:pt x="0" y="618"/>
                  </a:moveTo>
                  <a:lnTo>
                    <a:pt x="195" y="618"/>
                  </a:lnTo>
                  <a:lnTo>
                    <a:pt x="195" y="618"/>
                  </a:lnTo>
                  <a:lnTo>
                    <a:pt x="195" y="618"/>
                  </a:lnTo>
                  <a:cubicBezTo>
                    <a:pt x="195" y="510"/>
                    <a:pt x="186" y="403"/>
                    <a:pt x="169" y="309"/>
                  </a:cubicBezTo>
                  <a:cubicBezTo>
                    <a:pt x="152" y="215"/>
                    <a:pt x="127" y="137"/>
                    <a:pt x="97" y="83"/>
                  </a:cubicBezTo>
                  <a:cubicBezTo>
                    <a:pt x="68" y="29"/>
                    <a:pt x="34" y="0"/>
                    <a:pt x="0" y="0"/>
                  </a:cubicBezTo>
                  <a:lnTo>
                    <a:pt x="0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50160" y="2193840"/>
              <a:ext cx="70200" cy="222480"/>
            </a:xfrm>
            <a:custGeom>
              <a:avLst/>
              <a:gdLst/>
              <a:ahLst/>
              <a:rect l="0" t="0" r="r" b="b"/>
              <a:pathLst>
                <a:path w="195" h="618">
                  <a:moveTo>
                    <a:pt x="0" y="0"/>
                  </a:moveTo>
                  <a:lnTo>
                    <a:pt x="0" y="618"/>
                  </a:lnTo>
                  <a:lnTo>
                    <a:pt x="0" y="618"/>
                  </a:lnTo>
                  <a:cubicBezTo>
                    <a:pt x="34" y="618"/>
                    <a:pt x="68" y="589"/>
                    <a:pt x="98" y="535"/>
                  </a:cubicBezTo>
                  <a:cubicBezTo>
                    <a:pt x="127" y="481"/>
                    <a:pt x="152" y="403"/>
                    <a:pt x="169" y="309"/>
                  </a:cubicBezTo>
                  <a:cubicBezTo>
                    <a:pt x="186" y="215"/>
                    <a:pt x="195" y="108"/>
                    <a:pt x="19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 txBox="1"/>
            <p:nvPr/>
          </p:nvSpPr>
          <p:spPr>
            <a:xfrm>
              <a:off x="5010120" y="26114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 txBox="1"/>
            <p:nvPr/>
          </p:nvSpPr>
          <p:spPr>
            <a:xfrm>
              <a:off x="5122800" y="2712960"/>
              <a:ext cx="127080" cy="15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900" spc="-1" strike="noStrike">
                  <a:solidFill>
                    <a:srgbClr val="000000"/>
                  </a:solidFill>
                  <a:latin typeface="?? ??"/>
                  <a:ea typeface="?? ??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>
              <a:off x="5237280" y="2712960"/>
              <a:ext cx="127080" cy="15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?? ??"/>
                  <a:ea typeface="?? ??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 txBox="1"/>
            <p:nvPr/>
          </p:nvSpPr>
          <p:spPr>
            <a:xfrm>
              <a:off x="5313240" y="2712960"/>
              <a:ext cx="127080" cy="15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?? ??"/>
                  <a:ea typeface="?? ??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 txBox="1"/>
            <p:nvPr/>
          </p:nvSpPr>
          <p:spPr>
            <a:xfrm>
              <a:off x="5402160" y="26114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=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 txBox="1"/>
            <p:nvPr/>
          </p:nvSpPr>
          <p:spPr>
            <a:xfrm>
              <a:off x="5541840" y="26114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 txBox="1"/>
            <p:nvPr/>
          </p:nvSpPr>
          <p:spPr>
            <a:xfrm>
              <a:off x="5656320" y="2712960"/>
              <a:ext cx="127080" cy="15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900" spc="-1" strike="noStrike">
                  <a:solidFill>
                    <a:srgbClr val="000000"/>
                  </a:solidFill>
                  <a:latin typeface="?? ??"/>
                  <a:ea typeface="?? ??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5783400" y="26114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5923080" y="2573280"/>
              <a:ext cx="177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 txBox="1"/>
            <p:nvPr/>
          </p:nvSpPr>
          <p:spPr>
            <a:xfrm>
              <a:off x="6073920" y="26114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6111720" y="257328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6213600" y="26114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6378480" y="2611440"/>
              <a:ext cx="35568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(0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6581880" y="2611440"/>
              <a:ext cx="26676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1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6759720" y="2548080"/>
              <a:ext cx="24120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System"/>
                  <a:ea typeface="System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6897600" y="26114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7012080" y="2712960"/>
              <a:ext cx="127080" cy="15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900" spc="-1" strike="noStrike">
                  <a:solidFill>
                    <a:srgbClr val="000000"/>
                  </a:solidFill>
                  <a:latin typeface="?? ??"/>
                  <a:ea typeface="?? ??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7101000" y="26114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 txBox="1"/>
            <p:nvPr/>
          </p:nvSpPr>
          <p:spPr>
            <a:xfrm>
              <a:off x="5010120" y="3257640"/>
              <a:ext cx="177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 txBox="1"/>
            <p:nvPr/>
          </p:nvSpPr>
          <p:spPr>
            <a:xfrm>
              <a:off x="5160960" y="329580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=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 txBox="1"/>
            <p:nvPr/>
          </p:nvSpPr>
          <p:spPr>
            <a:xfrm>
              <a:off x="5288040" y="329580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 txBox="1"/>
            <p:nvPr/>
          </p:nvSpPr>
          <p:spPr>
            <a:xfrm>
              <a:off x="5364000" y="3257640"/>
              <a:ext cx="177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 txBox="1"/>
            <p:nvPr/>
          </p:nvSpPr>
          <p:spPr>
            <a:xfrm>
              <a:off x="5465880" y="329580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 txBox="1"/>
            <p:nvPr/>
          </p:nvSpPr>
          <p:spPr>
            <a:xfrm>
              <a:off x="5618160" y="3397320"/>
              <a:ext cx="127080" cy="15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900" spc="-1" strike="noStrike">
                  <a:solidFill>
                    <a:srgbClr val="000000"/>
                  </a:solidFill>
                  <a:latin typeface="?? ??"/>
                  <a:ea typeface="?? ??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5694480" y="329580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5846760" y="3397320"/>
              <a:ext cx="127080" cy="15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900" spc="-1" strike="noStrike">
                  <a:solidFill>
                    <a:srgbClr val="000000"/>
                  </a:solidFill>
                  <a:latin typeface="?? ??"/>
                  <a:ea typeface="?? ??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5010120" y="363708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5097600" y="3625920"/>
              <a:ext cx="127080" cy="15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?? ??"/>
                  <a:ea typeface="?? ??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5199120" y="36752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=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 txBox="1"/>
            <p:nvPr/>
          </p:nvSpPr>
          <p:spPr>
            <a:xfrm>
              <a:off x="5326200" y="36752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>
              <a:off x="5364000" y="36752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5478480" y="36752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5554800" y="3637080"/>
              <a:ext cx="1778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 txBox="1"/>
            <p:nvPr/>
          </p:nvSpPr>
          <p:spPr>
            <a:xfrm>
              <a:off x="5668920" y="36752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 txBox="1"/>
            <p:nvPr/>
          </p:nvSpPr>
          <p:spPr>
            <a:xfrm>
              <a:off x="5745240" y="3611520"/>
              <a:ext cx="24120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System"/>
                  <a:ea typeface="System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 txBox="1"/>
            <p:nvPr/>
          </p:nvSpPr>
          <p:spPr>
            <a:xfrm>
              <a:off x="5884920" y="3675240"/>
              <a:ext cx="1778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"/>
          <p:cNvSpPr txBox="1"/>
          <p:nvPr/>
        </p:nvSpPr>
        <p:spPr>
          <a:xfrm>
            <a:off x="5048280" y="4956120"/>
            <a:ext cx="1495440" cy="4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Fc : Corner frequenc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5022720" y="4727520"/>
            <a:ext cx="1733400" cy="2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Ts : Sampling perio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5022720" y="5297400"/>
            <a:ext cx="1000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j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5237280" y="5361120"/>
            <a:ext cx="190440" cy="3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?? ??"/>
                <a:ea typeface="?? ??"/>
              </a:rPr>
              <a:t>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5516640" y="5335560"/>
            <a:ext cx="1403280" cy="2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: Phase var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010120" y="4384800"/>
            <a:ext cx="3802320" cy="224280"/>
            <a:chOff x="5010120" y="4384800"/>
            <a:chExt cx="3802320" cy="224280"/>
          </a:xfrm>
        </p:grpSpPr>
        <p:sp>
          <p:nvSpPr>
            <p:cNvPr id="868" name=""/>
            <p:cNvSpPr txBox="1"/>
            <p:nvPr/>
          </p:nvSpPr>
          <p:spPr>
            <a:xfrm>
              <a:off x="5465880" y="4384800"/>
              <a:ext cx="334656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Noise (mean value = 0variance =1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 txBox="1"/>
            <p:nvPr/>
          </p:nvSpPr>
          <p:spPr>
            <a:xfrm>
              <a:off x="5010120" y="4384800"/>
              <a:ext cx="620640" cy="2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?? ??"/>
                  <a:ea typeface="?? ??"/>
                </a:rPr>
                <a:t>N(0,1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 txBox="1"/>
          <p:nvPr/>
        </p:nvSpPr>
        <p:spPr>
          <a:xfrm>
            <a:off x="5022720" y="4094280"/>
            <a:ext cx="237960" cy="4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5389560" y="4094280"/>
            <a:ext cx="82440" cy="2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j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5478480" y="4056120"/>
            <a:ext cx="1000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j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580000" y="4183200"/>
            <a:ext cx="57240" cy="1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?? ??"/>
                <a:ea typeface="?? ??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284800" y="4014720"/>
            <a:ext cx="51120" cy="108360"/>
          </a:xfrm>
          <a:custGeom>
            <a:avLst/>
            <a:gdLst/>
            <a:ahLst/>
            <a:rect l="0" t="0" r="r" b="b"/>
            <a:pathLst>
              <a:path w="142" h="301">
                <a:moveTo>
                  <a:pt x="142" y="301"/>
                </a:moveTo>
                <a:lnTo>
                  <a:pt x="142" y="0"/>
                </a:lnTo>
                <a:lnTo>
                  <a:pt x="142" y="0"/>
                </a:lnTo>
                <a:lnTo>
                  <a:pt x="142" y="0"/>
                </a:lnTo>
                <a:cubicBezTo>
                  <a:pt x="117" y="0"/>
                  <a:pt x="93" y="14"/>
                  <a:pt x="71" y="40"/>
                </a:cubicBezTo>
                <a:cubicBezTo>
                  <a:pt x="49" y="67"/>
                  <a:pt x="31" y="105"/>
                  <a:pt x="19" y="150"/>
                </a:cubicBezTo>
                <a:cubicBezTo>
                  <a:pt x="7" y="194"/>
                  <a:pt x="1" y="242"/>
                  <a:pt x="0" y="292"/>
                </a:cubicBezTo>
                <a:lnTo>
                  <a:pt x="142" y="30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284800" y="4119480"/>
            <a:ext cx="51120" cy="108360"/>
          </a:xfrm>
          <a:custGeom>
            <a:avLst/>
            <a:gdLst/>
            <a:ahLst/>
            <a:rect l="0" t="0" r="r" b="b"/>
            <a:pathLst>
              <a:path w="142" h="301">
                <a:moveTo>
                  <a:pt x="142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53"/>
                  <a:pt x="7" y="105"/>
                  <a:pt x="19" y="151"/>
                </a:cubicBezTo>
                <a:cubicBezTo>
                  <a:pt x="31" y="196"/>
                  <a:pt x="49" y="234"/>
                  <a:pt x="71" y="261"/>
                </a:cubicBezTo>
                <a:cubicBezTo>
                  <a:pt x="93" y="287"/>
                  <a:pt x="117" y="301"/>
                  <a:pt x="142" y="301"/>
                </a:cubicBezTo>
                <a:lnTo>
                  <a:pt x="14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665680" y="4014720"/>
            <a:ext cx="51120" cy="108360"/>
          </a:xfrm>
          <a:custGeom>
            <a:avLst/>
            <a:gdLst/>
            <a:ahLst/>
            <a:rect l="0" t="0" r="r" b="b"/>
            <a:pathLst>
              <a:path w="142" h="301">
                <a:moveTo>
                  <a:pt x="4" y="301"/>
                </a:moveTo>
                <a:lnTo>
                  <a:pt x="142" y="301"/>
                </a:lnTo>
                <a:lnTo>
                  <a:pt x="142" y="301"/>
                </a:lnTo>
                <a:lnTo>
                  <a:pt x="142" y="301"/>
                </a:lnTo>
                <a:cubicBezTo>
                  <a:pt x="142" y="248"/>
                  <a:pt x="136" y="196"/>
                  <a:pt x="124" y="150"/>
                </a:cubicBezTo>
                <a:cubicBezTo>
                  <a:pt x="112" y="105"/>
                  <a:pt x="94" y="67"/>
                  <a:pt x="74" y="40"/>
                </a:cubicBezTo>
                <a:cubicBezTo>
                  <a:pt x="53" y="14"/>
                  <a:pt x="29" y="0"/>
                  <a:pt x="5" y="0"/>
                </a:cubicBezTo>
                <a:cubicBezTo>
                  <a:pt x="3" y="0"/>
                  <a:pt x="2" y="0"/>
                  <a:pt x="0" y="0"/>
                </a:cubicBezTo>
                <a:lnTo>
                  <a:pt x="4" y="30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662440" y="4119480"/>
            <a:ext cx="52920" cy="108720"/>
          </a:xfrm>
          <a:custGeom>
            <a:avLst/>
            <a:gdLst/>
            <a:ahLst/>
            <a:rect l="0" t="0" r="r" b="b"/>
            <a:pathLst>
              <a:path w="147" h="302">
                <a:moveTo>
                  <a:pt x="8" y="0"/>
                </a:moveTo>
                <a:lnTo>
                  <a:pt x="0" y="301"/>
                </a:lnTo>
                <a:lnTo>
                  <a:pt x="0" y="301"/>
                </a:lnTo>
                <a:cubicBezTo>
                  <a:pt x="3" y="301"/>
                  <a:pt x="6" y="302"/>
                  <a:pt x="9" y="302"/>
                </a:cubicBezTo>
                <a:cubicBezTo>
                  <a:pt x="33" y="302"/>
                  <a:pt x="57" y="288"/>
                  <a:pt x="78" y="261"/>
                </a:cubicBezTo>
                <a:cubicBezTo>
                  <a:pt x="99" y="235"/>
                  <a:pt x="116" y="197"/>
                  <a:pt x="129" y="151"/>
                </a:cubicBezTo>
                <a:cubicBezTo>
                  <a:pt x="141" y="105"/>
                  <a:pt x="147" y="53"/>
                  <a:pt x="147" y="1"/>
                </a:cubicBezTo>
                <a:cubicBezTo>
                  <a:pt x="147" y="0"/>
                  <a:pt x="147" y="0"/>
                  <a:pt x="147" y="0"/>
                </a:cubicBez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5846760" y="4081320"/>
            <a:ext cx="168120" cy="2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5959440" y="4081320"/>
            <a:ext cx="907920" cy="4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?? ??"/>
                <a:ea typeface="?? ??"/>
              </a:rPr>
              <a:t>Phase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2244600" y="901800"/>
            <a:ext cx="3106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gradation factor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803240" y="3422520"/>
            <a:ext cx="687600" cy="444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809720" y="3403440"/>
            <a:ext cx="0" cy="12448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536840" y="476100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k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1365120" y="939960"/>
            <a:ext cx="5911920" cy="6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and vector error by phas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328760" y="1433520"/>
            <a:ext cx="64864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6QAM-OFDM Information data rate = 24 Mbit/s, Coding rate = 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ner Frequency=50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1438200" y="5651640"/>
            <a:ext cx="28987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versus Phase n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5537160" y="5651640"/>
            <a:ext cx="25686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versus Phase n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442800" y="3351240"/>
            <a:ext cx="28386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[at PER = 0.1]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46400" y="5246640"/>
            <a:ext cx="14065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ase noise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1585800" y="2244600"/>
            <a:ext cx="2103480" cy="793080"/>
            <a:chOff x="1585800" y="2244600"/>
            <a:chExt cx="2103480" cy="793080"/>
          </a:xfrm>
        </p:grpSpPr>
        <p:sp>
          <p:nvSpPr>
            <p:cNvPr id="891" name=""/>
            <p:cNvSpPr txBox="1"/>
            <p:nvPr/>
          </p:nvSpPr>
          <p:spPr>
            <a:xfrm>
              <a:off x="1596960" y="2459160"/>
              <a:ext cx="20923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length = 1000 by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 txBox="1"/>
            <p:nvPr/>
          </p:nvSpPr>
          <p:spPr>
            <a:xfrm>
              <a:off x="1585800" y="2687760"/>
              <a:ext cx="171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1682640" y="2700360"/>
              <a:ext cx="17136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1731960" y="2687760"/>
              <a:ext cx="1271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 soft dec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1585800" y="2244600"/>
              <a:ext cx="1260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ar amplif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 txBox="1"/>
          <p:nvPr/>
        </p:nvSpPr>
        <p:spPr>
          <a:xfrm>
            <a:off x="4243320" y="3311640"/>
            <a:ext cx="13208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6124680" y="5246640"/>
            <a:ext cx="14065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ase noise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1279440" y="5018040"/>
            <a:ext cx="3279960" cy="241200"/>
            <a:chOff x="1279440" y="5018040"/>
            <a:chExt cx="3279960" cy="241200"/>
          </a:xfrm>
        </p:grpSpPr>
        <p:sp>
          <p:nvSpPr>
            <p:cNvPr id="899" name=""/>
            <p:cNvSpPr txBox="1"/>
            <p:nvPr/>
          </p:nvSpPr>
          <p:spPr>
            <a:xfrm>
              <a:off x="4253040" y="5018040"/>
              <a:ext cx="306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3824280" y="5018040"/>
              <a:ext cx="306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 txBox="1"/>
            <p:nvPr/>
          </p:nvSpPr>
          <p:spPr>
            <a:xfrm>
              <a:off x="3408480" y="5018040"/>
              <a:ext cx="306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2979720" y="5018040"/>
              <a:ext cx="306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 txBox="1"/>
            <p:nvPr/>
          </p:nvSpPr>
          <p:spPr>
            <a:xfrm>
              <a:off x="2552760" y="5018040"/>
              <a:ext cx="306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 txBox="1"/>
            <p:nvPr/>
          </p:nvSpPr>
          <p:spPr>
            <a:xfrm>
              <a:off x="2124000" y="5018040"/>
              <a:ext cx="306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1708200" y="5018040"/>
              <a:ext cx="306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1279440" y="5018040"/>
              <a:ext cx="306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1378080" y="2079720"/>
            <a:ext cx="2973240" cy="2852640"/>
            <a:chOff x="1378080" y="2079720"/>
            <a:chExt cx="2973240" cy="2852640"/>
          </a:xfrm>
        </p:grpSpPr>
        <p:sp>
          <p:nvSpPr>
            <p:cNvPr id="908" name=""/>
            <p:cNvSpPr/>
            <p:nvPr/>
          </p:nvSpPr>
          <p:spPr>
            <a:xfrm>
              <a:off x="13780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3780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0504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180504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22084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222084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64960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6496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7800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30780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50676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35067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2256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39225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498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43498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78080" y="2079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382760" y="2079720"/>
              <a:ext cx="2967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82760" y="4930920"/>
              <a:ext cx="29671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1133640" y="2016000"/>
            <a:ext cx="293760" cy="3090960"/>
            <a:chOff x="1133640" y="2016000"/>
            <a:chExt cx="293760" cy="3090960"/>
          </a:xfrm>
        </p:grpSpPr>
        <p:sp>
          <p:nvSpPr>
            <p:cNvPr id="928" name=""/>
            <p:cNvSpPr txBox="1"/>
            <p:nvPr/>
          </p:nvSpPr>
          <p:spPr>
            <a:xfrm>
              <a:off x="1133640" y="4865760"/>
              <a:ext cx="2937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 txBox="1"/>
            <p:nvPr/>
          </p:nvSpPr>
          <p:spPr>
            <a:xfrm>
              <a:off x="1133640" y="4511520"/>
              <a:ext cx="2937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 txBox="1"/>
            <p:nvPr/>
          </p:nvSpPr>
          <p:spPr>
            <a:xfrm>
              <a:off x="1133640" y="4157640"/>
              <a:ext cx="2937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>
              <a:off x="1133640" y="3801960"/>
              <a:ext cx="2937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1133640" y="3448080"/>
              <a:ext cx="2937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 txBox="1"/>
            <p:nvPr/>
          </p:nvSpPr>
          <p:spPr>
            <a:xfrm>
              <a:off x="1133640" y="3079800"/>
              <a:ext cx="2937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>
              <a:off x="1133640" y="2725560"/>
              <a:ext cx="2937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1133640" y="2370240"/>
              <a:ext cx="2937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 txBox="1"/>
            <p:nvPr/>
          </p:nvSpPr>
          <p:spPr>
            <a:xfrm>
              <a:off x="1133640" y="2016000"/>
              <a:ext cx="2937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1378080" y="2079720"/>
            <a:ext cx="2971800" cy="2852640"/>
            <a:chOff x="1378080" y="2079720"/>
            <a:chExt cx="2971800" cy="2852640"/>
          </a:xfrm>
        </p:grpSpPr>
        <p:sp>
          <p:nvSpPr>
            <p:cNvPr id="938" name=""/>
            <p:cNvSpPr/>
            <p:nvPr/>
          </p:nvSpPr>
          <p:spPr>
            <a:xfrm>
              <a:off x="1382760" y="493092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4307040" y="49309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382760" y="457524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4307040" y="457524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82760" y="422100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4307040" y="422100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82760" y="386568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4307040" y="38656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382760" y="351144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307040" y="351144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382760" y="314316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4307040" y="314316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382760" y="278928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4307040" y="27892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382760" y="243540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307040" y="243540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382760" y="207972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4307040" y="20797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1378080" y="2082960"/>
              <a:ext cx="0" cy="28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1378080" y="2079720"/>
            <a:ext cx="2984400" cy="28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1808280" y="3841920"/>
            <a:ext cx="839520" cy="50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768320" y="4309920"/>
            <a:ext cx="8568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2652840" y="3449520"/>
            <a:ext cx="423720" cy="38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12880" y="3801960"/>
            <a:ext cx="8568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3081240" y="2930400"/>
            <a:ext cx="424080" cy="51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041640" y="3409920"/>
            <a:ext cx="8568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3510000" y="2170080"/>
            <a:ext cx="411120" cy="75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68600" y="2890800"/>
            <a:ext cx="8568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86200" y="2130480"/>
            <a:ext cx="8424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5170320" y="5018040"/>
            <a:ext cx="3208320" cy="393480"/>
            <a:chOff x="5170320" y="5018040"/>
            <a:chExt cx="3208320" cy="393480"/>
          </a:xfrm>
        </p:grpSpPr>
        <p:sp>
          <p:nvSpPr>
            <p:cNvPr id="968" name=""/>
            <p:cNvSpPr txBox="1"/>
            <p:nvPr/>
          </p:nvSpPr>
          <p:spPr>
            <a:xfrm>
              <a:off x="8142120" y="5018040"/>
              <a:ext cx="23652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 txBox="1"/>
            <p:nvPr/>
          </p:nvSpPr>
          <p:spPr>
            <a:xfrm>
              <a:off x="7715160" y="5018040"/>
              <a:ext cx="23652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7299360" y="5018040"/>
              <a:ext cx="23652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6870600" y="5018040"/>
              <a:ext cx="23652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6442200" y="5018040"/>
              <a:ext cx="23652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6013440" y="5018040"/>
              <a:ext cx="23652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5597640" y="5018040"/>
              <a:ext cx="23652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 txBox="1"/>
            <p:nvPr/>
          </p:nvSpPr>
          <p:spPr>
            <a:xfrm>
              <a:off x="5170320" y="5018040"/>
              <a:ext cx="23652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5267160" y="2079720"/>
            <a:ext cx="2975040" cy="2852640"/>
            <a:chOff x="5267160" y="2079720"/>
            <a:chExt cx="2975040" cy="2852640"/>
          </a:xfrm>
        </p:grpSpPr>
        <p:sp>
          <p:nvSpPr>
            <p:cNvPr id="977" name=""/>
            <p:cNvSpPr/>
            <p:nvPr/>
          </p:nvSpPr>
          <p:spPr>
            <a:xfrm>
              <a:off x="526716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52671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69592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569592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11172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611172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5404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5404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6924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96924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9620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73962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81200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78120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24076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2407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267160" y="2079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272200" y="2079720"/>
              <a:ext cx="29685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272200" y="4930920"/>
              <a:ext cx="29685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5059440" y="2016000"/>
            <a:ext cx="177840" cy="3062520"/>
            <a:chOff x="5059440" y="2016000"/>
            <a:chExt cx="177840" cy="3062520"/>
          </a:xfrm>
        </p:grpSpPr>
        <p:sp>
          <p:nvSpPr>
            <p:cNvPr id="997" name=""/>
            <p:cNvSpPr txBox="1"/>
            <p:nvPr/>
          </p:nvSpPr>
          <p:spPr>
            <a:xfrm>
              <a:off x="5145120" y="4865760"/>
              <a:ext cx="889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 txBox="1"/>
            <p:nvPr/>
          </p:nvSpPr>
          <p:spPr>
            <a:xfrm>
              <a:off x="5145120" y="4460760"/>
              <a:ext cx="889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 txBox="1"/>
            <p:nvPr/>
          </p:nvSpPr>
          <p:spPr>
            <a:xfrm>
              <a:off x="5145120" y="4056120"/>
              <a:ext cx="889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 txBox="1"/>
            <p:nvPr/>
          </p:nvSpPr>
          <p:spPr>
            <a:xfrm>
              <a:off x="5145120" y="3649680"/>
              <a:ext cx="889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 txBox="1"/>
            <p:nvPr/>
          </p:nvSpPr>
          <p:spPr>
            <a:xfrm>
              <a:off x="5145120" y="3232080"/>
              <a:ext cx="889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 txBox="1"/>
            <p:nvPr/>
          </p:nvSpPr>
          <p:spPr>
            <a:xfrm>
              <a:off x="5059440" y="2827440"/>
              <a:ext cx="17784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 txBox="1"/>
            <p:nvPr/>
          </p:nvSpPr>
          <p:spPr>
            <a:xfrm>
              <a:off x="5059440" y="2421000"/>
              <a:ext cx="17784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 txBox="1"/>
            <p:nvPr/>
          </p:nvSpPr>
          <p:spPr>
            <a:xfrm>
              <a:off x="5059440" y="2016000"/>
              <a:ext cx="17784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5267160" y="2079720"/>
            <a:ext cx="2973600" cy="2852640"/>
            <a:chOff x="5267160" y="2079720"/>
            <a:chExt cx="2973600" cy="2852640"/>
          </a:xfrm>
        </p:grpSpPr>
        <p:sp>
          <p:nvSpPr>
            <p:cNvPr id="1006" name=""/>
            <p:cNvSpPr/>
            <p:nvPr/>
          </p:nvSpPr>
          <p:spPr>
            <a:xfrm>
              <a:off x="5272200" y="493092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8196120" y="493092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272200" y="452448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8196120" y="452448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72200" y="411948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8196120" y="4119480"/>
              <a:ext cx="446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72200" y="371484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8196120" y="371484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72200" y="329580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8196120" y="329580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272200" y="289080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8196120" y="2890800"/>
              <a:ext cx="446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272200" y="248616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8196120" y="248616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272200" y="207972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8196120" y="207972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267160" y="2082960"/>
              <a:ext cx="0" cy="28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5267160" y="2079720"/>
            <a:ext cx="2986200" cy="28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5699160" y="3855960"/>
            <a:ext cx="83988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659560" y="4043520"/>
            <a:ext cx="8568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543720" y="3703680"/>
            <a:ext cx="423720" cy="146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4120" y="3814920"/>
            <a:ext cx="8568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6970680" y="3578400"/>
            <a:ext cx="422280" cy="122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931080" y="3664080"/>
            <a:ext cx="8568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7399440" y="3425760"/>
            <a:ext cx="411120" cy="14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359480" y="3537000"/>
            <a:ext cx="8568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775640" y="3384720"/>
            <a:ext cx="8568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"/>
          <p:cNvGrpSpPr/>
          <p:nvPr/>
        </p:nvGrpSpPr>
        <p:grpSpPr>
          <a:xfrm>
            <a:off x="1066680" y="5068800"/>
            <a:ext cx="3397320" cy="241200"/>
            <a:chOff x="1066680" y="5068800"/>
            <a:chExt cx="3397320" cy="241200"/>
          </a:xfrm>
        </p:grpSpPr>
        <p:sp>
          <p:nvSpPr>
            <p:cNvPr id="1034" name=""/>
            <p:cNvSpPr txBox="1"/>
            <p:nvPr/>
          </p:nvSpPr>
          <p:spPr>
            <a:xfrm>
              <a:off x="4146480" y="5068800"/>
              <a:ext cx="317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 txBox="1"/>
            <p:nvPr/>
          </p:nvSpPr>
          <p:spPr>
            <a:xfrm>
              <a:off x="3373560" y="5068800"/>
              <a:ext cx="317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 txBox="1"/>
            <p:nvPr/>
          </p:nvSpPr>
          <p:spPr>
            <a:xfrm>
              <a:off x="2612880" y="5068800"/>
              <a:ext cx="317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1839960" y="5068800"/>
              <a:ext cx="317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 txBox="1"/>
            <p:nvPr/>
          </p:nvSpPr>
          <p:spPr>
            <a:xfrm>
              <a:off x="1066680" y="5068800"/>
              <a:ext cx="317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1166760" y="2130480"/>
            <a:ext cx="3083040" cy="2851200"/>
            <a:chOff x="1166760" y="2130480"/>
            <a:chExt cx="3083040" cy="2851200"/>
          </a:xfrm>
        </p:grpSpPr>
        <p:sp>
          <p:nvSpPr>
            <p:cNvPr id="1040" name=""/>
            <p:cNvSpPr/>
            <p:nvPr/>
          </p:nvSpPr>
          <p:spPr>
            <a:xfrm>
              <a:off x="1166760" y="49338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1166760" y="2131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941480" y="49338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1941480" y="2131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14760" y="49338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2714760" y="2131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475080" y="49338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475080" y="2131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48000" y="49338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4248000" y="2131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166760" y="2130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170000" y="2130480"/>
              <a:ext cx="30780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170000" y="4979880"/>
              <a:ext cx="30780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914400" y="2066760"/>
            <a:ext cx="304920" cy="3090960"/>
            <a:chOff x="914400" y="2066760"/>
            <a:chExt cx="304920" cy="3090960"/>
          </a:xfrm>
        </p:grpSpPr>
        <p:sp>
          <p:nvSpPr>
            <p:cNvPr id="1054" name=""/>
            <p:cNvSpPr txBox="1"/>
            <p:nvPr/>
          </p:nvSpPr>
          <p:spPr>
            <a:xfrm>
              <a:off x="914400" y="491652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 txBox="1"/>
            <p:nvPr/>
          </p:nvSpPr>
          <p:spPr>
            <a:xfrm>
              <a:off x="914400" y="456264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 txBox="1"/>
            <p:nvPr/>
          </p:nvSpPr>
          <p:spPr>
            <a:xfrm>
              <a:off x="914400" y="420696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 txBox="1"/>
            <p:nvPr/>
          </p:nvSpPr>
          <p:spPr>
            <a:xfrm>
              <a:off x="914400" y="385272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 txBox="1"/>
            <p:nvPr/>
          </p:nvSpPr>
          <p:spPr>
            <a:xfrm>
              <a:off x="914400" y="349884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 txBox="1"/>
            <p:nvPr/>
          </p:nvSpPr>
          <p:spPr>
            <a:xfrm>
              <a:off x="914400" y="313056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 txBox="1"/>
            <p:nvPr/>
          </p:nvSpPr>
          <p:spPr>
            <a:xfrm>
              <a:off x="914400" y="277668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 txBox="1"/>
            <p:nvPr/>
          </p:nvSpPr>
          <p:spPr>
            <a:xfrm>
              <a:off x="914400" y="242100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>
              <a:off x="914400" y="2066760"/>
              <a:ext cx="304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1166760" y="2130480"/>
            <a:ext cx="3081240" cy="2851200"/>
            <a:chOff x="1166760" y="2130480"/>
            <a:chExt cx="3081240" cy="2851200"/>
          </a:xfrm>
        </p:grpSpPr>
        <p:sp>
          <p:nvSpPr>
            <p:cNvPr id="1064" name=""/>
            <p:cNvSpPr/>
            <p:nvPr/>
          </p:nvSpPr>
          <p:spPr>
            <a:xfrm>
              <a:off x="1170000" y="497988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200480" y="497988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170000" y="462600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4200480" y="462600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170000" y="427212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4200480" y="427212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70000" y="391644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4200480" y="391644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170000" y="356220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4200480" y="356220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170000" y="319392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4200480" y="319392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170000" y="284004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4200480" y="284004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170000" y="248436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4200480" y="248436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70000" y="213048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4200480" y="213048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1166760" y="2131920"/>
              <a:ext cx="0" cy="2846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1166760" y="2130480"/>
            <a:ext cx="3094200" cy="286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1943280" y="4919760"/>
            <a:ext cx="769680" cy="58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903320" y="4943520"/>
            <a:ext cx="8892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2716200" y="4830840"/>
            <a:ext cx="75708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676600" y="4879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436920" y="47912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1103400" y="888840"/>
            <a:ext cx="69739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and vector error with phas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1066680" y="1357200"/>
            <a:ext cx="64864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6QAM-OFDM Information data rate = 24 Mbit/s, Coding rate = 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ner Frequency=5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1054080" y="5702400"/>
            <a:ext cx="32590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versus Phase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5300640" y="5702400"/>
            <a:ext cx="2916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versus Phase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-768240" y="3349800"/>
            <a:ext cx="29415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[at PER = 0.1]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1890720" y="5297400"/>
            <a:ext cx="17114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ase variance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087800" y="3336840"/>
            <a:ext cx="13701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5910120" y="5297400"/>
            <a:ext cx="17114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ase variance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5072040" y="5068800"/>
            <a:ext cx="3398760" cy="241200"/>
            <a:chOff x="5072040" y="5068800"/>
            <a:chExt cx="3398760" cy="241200"/>
          </a:xfrm>
        </p:grpSpPr>
        <p:sp>
          <p:nvSpPr>
            <p:cNvPr id="1098" name=""/>
            <p:cNvSpPr txBox="1"/>
            <p:nvPr/>
          </p:nvSpPr>
          <p:spPr>
            <a:xfrm>
              <a:off x="8153280" y="5068800"/>
              <a:ext cx="317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>
              <a:off x="7380360" y="5068800"/>
              <a:ext cx="317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 txBox="1"/>
            <p:nvPr/>
          </p:nvSpPr>
          <p:spPr>
            <a:xfrm>
              <a:off x="6620040" y="5068800"/>
              <a:ext cx="317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>
              <a:off x="5846760" y="5068800"/>
              <a:ext cx="317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 txBox="1"/>
            <p:nvPr/>
          </p:nvSpPr>
          <p:spPr>
            <a:xfrm>
              <a:off x="5072040" y="5068800"/>
              <a:ext cx="317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5173560" y="2130480"/>
            <a:ext cx="3083040" cy="2851200"/>
            <a:chOff x="5173560" y="2130480"/>
            <a:chExt cx="3083040" cy="2851200"/>
          </a:xfrm>
        </p:grpSpPr>
        <p:sp>
          <p:nvSpPr>
            <p:cNvPr id="1104" name=""/>
            <p:cNvSpPr/>
            <p:nvPr/>
          </p:nvSpPr>
          <p:spPr>
            <a:xfrm>
              <a:off x="5173560" y="49338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5173560" y="2131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8280" y="49338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5948280" y="2131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721560" y="49338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721560" y="2131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81880" y="49338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481880" y="2131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255160" y="49338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8255160" y="2131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173560" y="2130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76800" y="2130480"/>
              <a:ext cx="3078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76800" y="4979880"/>
              <a:ext cx="30783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959360" y="2066760"/>
            <a:ext cx="254160" cy="3090960"/>
            <a:chOff x="4959360" y="2066760"/>
            <a:chExt cx="254160" cy="3090960"/>
          </a:xfrm>
        </p:grpSpPr>
        <p:sp>
          <p:nvSpPr>
            <p:cNvPr id="1118" name=""/>
            <p:cNvSpPr txBox="1"/>
            <p:nvPr/>
          </p:nvSpPr>
          <p:spPr>
            <a:xfrm>
              <a:off x="5048280" y="491652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5048280" y="451152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 txBox="1"/>
            <p:nvPr/>
          </p:nvSpPr>
          <p:spPr>
            <a:xfrm>
              <a:off x="5048280" y="410688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 txBox="1"/>
            <p:nvPr/>
          </p:nvSpPr>
          <p:spPr>
            <a:xfrm>
              <a:off x="5048280" y="370044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 txBox="1"/>
            <p:nvPr/>
          </p:nvSpPr>
          <p:spPr>
            <a:xfrm>
              <a:off x="5048280" y="3282840"/>
              <a:ext cx="1652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 txBox="1"/>
            <p:nvPr/>
          </p:nvSpPr>
          <p:spPr>
            <a:xfrm>
              <a:off x="4959360" y="2878200"/>
              <a:ext cx="2541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 txBox="1"/>
            <p:nvPr/>
          </p:nvSpPr>
          <p:spPr>
            <a:xfrm>
              <a:off x="4959360" y="2471760"/>
              <a:ext cx="2541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 txBox="1"/>
            <p:nvPr/>
          </p:nvSpPr>
          <p:spPr>
            <a:xfrm>
              <a:off x="4959360" y="2066760"/>
              <a:ext cx="2541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5173560" y="2130480"/>
            <a:ext cx="3081600" cy="2851200"/>
            <a:chOff x="5173560" y="2130480"/>
            <a:chExt cx="3081600" cy="2851200"/>
          </a:xfrm>
        </p:grpSpPr>
        <p:sp>
          <p:nvSpPr>
            <p:cNvPr id="1127" name=""/>
            <p:cNvSpPr/>
            <p:nvPr/>
          </p:nvSpPr>
          <p:spPr>
            <a:xfrm>
              <a:off x="5176800" y="497988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8207280" y="4979880"/>
              <a:ext cx="47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176800" y="457524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8207280" y="4575240"/>
              <a:ext cx="47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176800" y="417024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8207280" y="4170240"/>
              <a:ext cx="47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176800" y="376380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8207280" y="3763800"/>
              <a:ext cx="47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176800" y="334656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8207280" y="3346560"/>
              <a:ext cx="47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176800" y="294156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8207280" y="2941560"/>
              <a:ext cx="47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76800" y="253512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8207280" y="2535120"/>
              <a:ext cx="47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176800" y="213048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8207280" y="2130480"/>
              <a:ext cx="47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5173560" y="2131920"/>
              <a:ext cx="0" cy="2846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5173560" y="2130480"/>
            <a:ext cx="3094200" cy="286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950080" y="4767120"/>
            <a:ext cx="769680" cy="98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7520" bIns="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910120" y="48290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6723000" y="4602240"/>
            <a:ext cx="757440" cy="16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683400" y="47275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7443720" y="45626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1332000" y="2244600"/>
            <a:ext cx="2168640" cy="455760"/>
            <a:chOff x="1332000" y="2244600"/>
            <a:chExt cx="2168640" cy="455760"/>
          </a:xfrm>
        </p:grpSpPr>
        <p:sp>
          <p:nvSpPr>
            <p:cNvPr id="1151" name=""/>
            <p:cNvSpPr/>
            <p:nvPr/>
          </p:nvSpPr>
          <p:spPr>
            <a:xfrm>
              <a:off x="1332000" y="2257560"/>
              <a:ext cx="2155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>
              <a:off x="1332000" y="2244600"/>
              <a:ext cx="21686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length = 1000 by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332000" y="2473200"/>
              <a:ext cx="14335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 txBox="1"/>
            <p:nvPr/>
          </p:nvSpPr>
          <p:spPr>
            <a:xfrm>
              <a:off x="1332000" y="2459160"/>
              <a:ext cx="1484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-bit soft dec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" descr=""/>
          <p:cNvPicPr/>
          <p:nvPr/>
        </p:nvPicPr>
        <p:blipFill>
          <a:blip r:embed="rId1"/>
          <a:stretch/>
        </p:blipFill>
        <p:spPr>
          <a:xfrm>
            <a:off x="2895480" y="2044800"/>
            <a:ext cx="33782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6889680" y="4527720"/>
            <a:ext cx="609480" cy="3938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321000" y="4692600"/>
            <a:ext cx="533520" cy="3938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1049400" y="939960"/>
            <a:ext cx="7272360" cy="6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and vector error by D/A quantiza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1332000" y="1433520"/>
            <a:ext cx="6486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6QAM-OFDM Information data rate = 24 Mbit/s, Coding rate = 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444680" y="5651640"/>
            <a:ext cx="3043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versus number of D/A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5238720" y="5651640"/>
            <a:ext cx="27352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versus number of D/A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11040" y="3456000"/>
            <a:ext cx="26272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[at PER = 0.1]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2203560" y="5246640"/>
            <a:ext cx="1357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D/A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1569960" y="2244600"/>
            <a:ext cx="1947960" cy="843120"/>
            <a:chOff x="1569960" y="2244600"/>
            <a:chExt cx="1947960" cy="843120"/>
          </a:xfrm>
        </p:grpSpPr>
        <p:sp>
          <p:nvSpPr>
            <p:cNvPr id="1165" name=""/>
            <p:cNvSpPr txBox="1"/>
            <p:nvPr/>
          </p:nvSpPr>
          <p:spPr>
            <a:xfrm>
              <a:off x="1581120" y="2459160"/>
              <a:ext cx="193680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length = 1000 by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 txBox="1"/>
            <p:nvPr/>
          </p:nvSpPr>
          <p:spPr>
            <a:xfrm>
              <a:off x="1569960" y="2687760"/>
              <a:ext cx="1587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 txBox="1"/>
            <p:nvPr/>
          </p:nvSpPr>
          <p:spPr>
            <a:xfrm>
              <a:off x="1660680" y="2700360"/>
              <a:ext cx="15876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1704960" y="2687760"/>
              <a:ext cx="117792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 soft dec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 txBox="1"/>
            <p:nvPr/>
          </p:nvSpPr>
          <p:spPr>
            <a:xfrm>
              <a:off x="1569960" y="2244600"/>
              <a:ext cx="11667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ar amplif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0" name=""/>
          <p:cNvSpPr txBox="1"/>
          <p:nvPr/>
        </p:nvSpPr>
        <p:spPr>
          <a:xfrm>
            <a:off x="4025880" y="3360600"/>
            <a:ext cx="1222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5792760" y="5246640"/>
            <a:ext cx="1357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D/A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4954680" y="5018040"/>
            <a:ext cx="2900160" cy="241200"/>
            <a:chOff x="4954680" y="5018040"/>
            <a:chExt cx="2900160" cy="241200"/>
          </a:xfrm>
        </p:grpSpPr>
        <p:sp>
          <p:nvSpPr>
            <p:cNvPr id="1173" name=""/>
            <p:cNvSpPr txBox="1"/>
            <p:nvPr/>
          </p:nvSpPr>
          <p:spPr>
            <a:xfrm>
              <a:off x="7707240" y="501804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 txBox="1"/>
            <p:nvPr/>
          </p:nvSpPr>
          <p:spPr>
            <a:xfrm>
              <a:off x="7151760" y="501804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 txBox="1"/>
            <p:nvPr/>
          </p:nvSpPr>
          <p:spPr>
            <a:xfrm>
              <a:off x="6608880" y="501804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 txBox="1"/>
            <p:nvPr/>
          </p:nvSpPr>
          <p:spPr>
            <a:xfrm>
              <a:off x="6053040" y="501804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5510160" y="501804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 txBox="1"/>
            <p:nvPr/>
          </p:nvSpPr>
          <p:spPr>
            <a:xfrm>
              <a:off x="4954680" y="501804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78440" y="2079720"/>
            <a:ext cx="2752560" cy="2852640"/>
            <a:chOff x="4978440" y="2079720"/>
            <a:chExt cx="2752560" cy="2852640"/>
          </a:xfrm>
        </p:grpSpPr>
        <p:sp>
          <p:nvSpPr>
            <p:cNvPr id="1180" name=""/>
            <p:cNvSpPr/>
            <p:nvPr/>
          </p:nvSpPr>
          <p:spPr>
            <a:xfrm>
              <a:off x="497844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497844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5324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55324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7536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0753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3084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63084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740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71740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2956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77295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78440" y="2079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83120" y="2079720"/>
              <a:ext cx="2746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83120" y="4930920"/>
              <a:ext cx="2746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4784760" y="2016000"/>
            <a:ext cx="227160" cy="3090960"/>
            <a:chOff x="4784760" y="2016000"/>
            <a:chExt cx="227160" cy="3090960"/>
          </a:xfrm>
        </p:grpSpPr>
        <p:sp>
          <p:nvSpPr>
            <p:cNvPr id="1196" name=""/>
            <p:cNvSpPr txBox="1"/>
            <p:nvPr/>
          </p:nvSpPr>
          <p:spPr>
            <a:xfrm>
              <a:off x="4863960" y="486576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 txBox="1"/>
            <p:nvPr/>
          </p:nvSpPr>
          <p:spPr>
            <a:xfrm>
              <a:off x="4863960" y="446076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 txBox="1"/>
            <p:nvPr/>
          </p:nvSpPr>
          <p:spPr>
            <a:xfrm>
              <a:off x="4863960" y="405612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 txBox="1"/>
            <p:nvPr/>
          </p:nvSpPr>
          <p:spPr>
            <a:xfrm>
              <a:off x="4863960" y="364968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 txBox="1"/>
            <p:nvPr/>
          </p:nvSpPr>
          <p:spPr>
            <a:xfrm>
              <a:off x="4863960" y="323208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 txBox="1"/>
            <p:nvPr/>
          </p:nvSpPr>
          <p:spPr>
            <a:xfrm>
              <a:off x="4784760" y="2827440"/>
              <a:ext cx="2271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 txBox="1"/>
            <p:nvPr/>
          </p:nvSpPr>
          <p:spPr>
            <a:xfrm>
              <a:off x="4784760" y="2421000"/>
              <a:ext cx="2271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 txBox="1"/>
            <p:nvPr/>
          </p:nvSpPr>
          <p:spPr>
            <a:xfrm>
              <a:off x="4784760" y="2016000"/>
              <a:ext cx="2271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978440" y="2079720"/>
            <a:ext cx="2751120" cy="2852640"/>
            <a:chOff x="4978440" y="2079720"/>
            <a:chExt cx="2751120" cy="2852640"/>
          </a:xfrm>
        </p:grpSpPr>
        <p:sp>
          <p:nvSpPr>
            <p:cNvPr id="1205" name=""/>
            <p:cNvSpPr/>
            <p:nvPr/>
          </p:nvSpPr>
          <p:spPr>
            <a:xfrm>
              <a:off x="4983120" y="49309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7688160" y="49309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983120" y="45244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7688160" y="45244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83120" y="411948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7688160" y="411948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83120" y="37148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7688160" y="371484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83120" y="329580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7688160" y="329580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983120" y="289080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688160" y="28908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983120" y="248616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7688160" y="248616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983120" y="20797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7688160" y="207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4978440" y="2082960"/>
              <a:ext cx="0" cy="28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4978440" y="2079720"/>
            <a:ext cx="2762280" cy="28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537160" y="3490920"/>
            <a:ext cx="538200" cy="70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499000" y="3448080"/>
            <a:ext cx="792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080040" y="4200480"/>
            <a:ext cx="550800" cy="362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041880" y="4157640"/>
            <a:ext cx="792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635880" y="4567320"/>
            <a:ext cx="538200" cy="172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597720" y="4524480"/>
            <a:ext cx="792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140600" y="4702320"/>
            <a:ext cx="792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1353960" y="5018040"/>
            <a:ext cx="2899080" cy="241200"/>
            <a:chOff x="1353960" y="5018040"/>
            <a:chExt cx="2899080" cy="241200"/>
          </a:xfrm>
        </p:grpSpPr>
        <p:sp>
          <p:nvSpPr>
            <p:cNvPr id="1231" name=""/>
            <p:cNvSpPr txBox="1"/>
            <p:nvPr/>
          </p:nvSpPr>
          <p:spPr>
            <a:xfrm>
              <a:off x="4105440" y="501804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 txBox="1"/>
            <p:nvPr/>
          </p:nvSpPr>
          <p:spPr>
            <a:xfrm>
              <a:off x="3551400" y="501804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 txBox="1"/>
            <p:nvPr/>
          </p:nvSpPr>
          <p:spPr>
            <a:xfrm>
              <a:off x="3008160" y="501804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 txBox="1"/>
            <p:nvPr/>
          </p:nvSpPr>
          <p:spPr>
            <a:xfrm>
              <a:off x="2452680" y="501804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 txBox="1"/>
            <p:nvPr/>
          </p:nvSpPr>
          <p:spPr>
            <a:xfrm>
              <a:off x="1909800" y="501804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 txBox="1"/>
            <p:nvPr/>
          </p:nvSpPr>
          <p:spPr>
            <a:xfrm>
              <a:off x="1353960" y="5018040"/>
              <a:ext cx="1476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1378080" y="2079720"/>
            <a:ext cx="2752560" cy="2852640"/>
            <a:chOff x="1378080" y="2079720"/>
            <a:chExt cx="2752560" cy="2852640"/>
          </a:xfrm>
        </p:grpSpPr>
        <p:sp>
          <p:nvSpPr>
            <p:cNvPr id="1238" name=""/>
            <p:cNvSpPr/>
            <p:nvPr/>
          </p:nvSpPr>
          <p:spPr>
            <a:xfrm>
              <a:off x="13780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13780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93212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193212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7500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24750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03048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30304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57336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35733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12920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41292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378080" y="2079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382760" y="2079720"/>
              <a:ext cx="2746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382760" y="4930920"/>
              <a:ext cx="2746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1150920" y="2016000"/>
            <a:ext cx="271440" cy="3090960"/>
            <a:chOff x="1150920" y="2016000"/>
            <a:chExt cx="271440" cy="3090960"/>
          </a:xfrm>
        </p:grpSpPr>
        <p:sp>
          <p:nvSpPr>
            <p:cNvPr id="1254" name=""/>
            <p:cNvSpPr txBox="1"/>
            <p:nvPr/>
          </p:nvSpPr>
          <p:spPr>
            <a:xfrm>
              <a:off x="1150920" y="4865760"/>
              <a:ext cx="271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 txBox="1"/>
            <p:nvPr/>
          </p:nvSpPr>
          <p:spPr>
            <a:xfrm>
              <a:off x="1150920" y="4511520"/>
              <a:ext cx="271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 txBox="1"/>
            <p:nvPr/>
          </p:nvSpPr>
          <p:spPr>
            <a:xfrm>
              <a:off x="1150920" y="4157640"/>
              <a:ext cx="271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 txBox="1"/>
            <p:nvPr/>
          </p:nvSpPr>
          <p:spPr>
            <a:xfrm>
              <a:off x="1150920" y="3801960"/>
              <a:ext cx="271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 txBox="1"/>
            <p:nvPr/>
          </p:nvSpPr>
          <p:spPr>
            <a:xfrm>
              <a:off x="1150920" y="3448080"/>
              <a:ext cx="271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 txBox="1"/>
            <p:nvPr/>
          </p:nvSpPr>
          <p:spPr>
            <a:xfrm>
              <a:off x="1150920" y="3079800"/>
              <a:ext cx="271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 txBox="1"/>
            <p:nvPr/>
          </p:nvSpPr>
          <p:spPr>
            <a:xfrm>
              <a:off x="1150920" y="2725560"/>
              <a:ext cx="271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 txBox="1"/>
            <p:nvPr/>
          </p:nvSpPr>
          <p:spPr>
            <a:xfrm>
              <a:off x="1150920" y="2370240"/>
              <a:ext cx="271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 txBox="1"/>
            <p:nvPr/>
          </p:nvSpPr>
          <p:spPr>
            <a:xfrm>
              <a:off x="1150920" y="2016000"/>
              <a:ext cx="271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1378080" y="2079720"/>
            <a:ext cx="2751120" cy="2852640"/>
            <a:chOff x="1378080" y="2079720"/>
            <a:chExt cx="2751120" cy="2852640"/>
          </a:xfrm>
        </p:grpSpPr>
        <p:sp>
          <p:nvSpPr>
            <p:cNvPr id="1264" name=""/>
            <p:cNvSpPr/>
            <p:nvPr/>
          </p:nvSpPr>
          <p:spPr>
            <a:xfrm>
              <a:off x="1382760" y="49309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4087800" y="49309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382760" y="45752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4087800" y="457524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382760" y="422100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4087800" y="42210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382760" y="38656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087800" y="38656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382760" y="351144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4087800" y="351144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82760" y="31431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4087800" y="314316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382760" y="27892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4087800" y="27892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382760" y="243540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4087800" y="243540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382760" y="20797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4087800" y="207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1378080" y="2082960"/>
              <a:ext cx="0" cy="28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1378080" y="2079720"/>
            <a:ext cx="2762280" cy="28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936800" y="4465800"/>
            <a:ext cx="538200" cy="37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898640" y="4422600"/>
            <a:ext cx="792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479680" y="4846680"/>
            <a:ext cx="550800" cy="8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441520" y="4803840"/>
            <a:ext cx="792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035160" y="4930920"/>
            <a:ext cx="5382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995560" y="4892760"/>
            <a:ext cx="7920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540240" y="4892760"/>
            <a:ext cx="7920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 txBox="1"/>
          <p:nvPr/>
        </p:nvSpPr>
        <p:spPr>
          <a:xfrm>
            <a:off x="1487520" y="803160"/>
            <a:ext cx="64166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with transmitter degradation fa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487520" y="1176480"/>
            <a:ext cx="6122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(16QAM-OFDM Information data rate = 24 Mbit/s, Coding rate = 1/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5692680" y="1805040"/>
            <a:ext cx="2722680" cy="1471320"/>
            <a:chOff x="5692680" y="1805040"/>
            <a:chExt cx="2722680" cy="1471320"/>
          </a:xfrm>
        </p:grpSpPr>
        <p:sp>
          <p:nvSpPr>
            <p:cNvPr id="1294" name=""/>
            <p:cNvSpPr txBox="1"/>
            <p:nvPr/>
          </p:nvSpPr>
          <p:spPr>
            <a:xfrm>
              <a:off x="5932440" y="1805040"/>
              <a:ext cx="15224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drature phase err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 txBox="1"/>
            <p:nvPr/>
          </p:nvSpPr>
          <p:spPr>
            <a:xfrm>
              <a:off x="5932440" y="2062080"/>
              <a:ext cx="21542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drature amplitude unbal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 txBox="1"/>
            <p:nvPr/>
          </p:nvSpPr>
          <p:spPr>
            <a:xfrm>
              <a:off x="5932440" y="2306520"/>
              <a:ext cx="2411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-linear amplifier (Rapp's model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 txBox="1"/>
            <p:nvPr/>
          </p:nvSpPr>
          <p:spPr>
            <a:xfrm>
              <a:off x="5932440" y="2563920"/>
              <a:ext cx="12621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mber of D/A bi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 txBox="1"/>
            <p:nvPr/>
          </p:nvSpPr>
          <p:spPr>
            <a:xfrm>
              <a:off x="5932440" y="2832120"/>
              <a:ext cx="23194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FT internal bit number (Radix 4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 txBox="1"/>
            <p:nvPr/>
          </p:nvSpPr>
          <p:spPr>
            <a:xfrm>
              <a:off x="5932440" y="3078000"/>
              <a:ext cx="24829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ase noise (corner freq. = 50 kHz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5692680" y="1841400"/>
              <a:ext cx="105120" cy="1365480"/>
              <a:chOff x="5692680" y="1841400"/>
              <a:chExt cx="105120" cy="13654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692680" y="1841400"/>
                <a:ext cx="103320" cy="104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703840" y="2097000"/>
                <a:ext cx="93960" cy="95760"/>
              </a:xfrm>
              <a:custGeom>
                <a:avLst/>
                <a:gdLst/>
                <a:ahLst/>
                <a:rect l="0" t="0" r="r" b="b"/>
                <a:pathLst>
                  <a:path w="261" h="266">
                    <a:moveTo>
                      <a:pt x="131" y="0"/>
                    </a:moveTo>
                    <a:lnTo>
                      <a:pt x="261" y="266"/>
                    </a:lnTo>
                    <a:lnTo>
                      <a:pt x="0" y="266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692680" y="2343240"/>
                <a:ext cx="103320" cy="104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4" name=""/>
              <p:cNvGrpSpPr/>
              <p:nvPr/>
            </p:nvGrpSpPr>
            <p:grpSpPr>
              <a:xfrm>
                <a:off x="5703840" y="2635200"/>
                <a:ext cx="79560" cy="81000"/>
                <a:chOff x="5703840" y="2635200"/>
                <a:chExt cx="79560" cy="8100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5703840" y="2635200"/>
                  <a:ext cx="79200" cy="81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5715000" y="2635200"/>
                  <a:ext cx="68400" cy="69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5692680" y="2879640"/>
                <a:ext cx="90360" cy="93600"/>
                <a:chOff x="5692680" y="2879640"/>
                <a:chExt cx="90360" cy="9360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5703840" y="2890800"/>
                  <a:ext cx="79200" cy="8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5695920" y="2914560"/>
                  <a:ext cx="651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320" bIns="-49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5726160" y="2882880"/>
                  <a:ext cx="1440" cy="5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5692680" y="2879640"/>
                  <a:ext cx="68400" cy="69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5695920" y="3116160"/>
                <a:ext cx="76320" cy="90720"/>
                <a:chOff x="5695920" y="3116160"/>
                <a:chExt cx="76320" cy="9072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5695920" y="3116160"/>
                  <a:ext cx="7632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H="1">
                  <a:off x="5695920" y="3116160"/>
                  <a:ext cx="7632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695920" y="3160800"/>
                  <a:ext cx="763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16" name=""/>
          <p:cNvSpPr/>
          <p:nvPr/>
        </p:nvSpPr>
        <p:spPr>
          <a:xfrm>
            <a:off x="5668920" y="3836880"/>
            <a:ext cx="114480" cy="117360"/>
          </a:xfrm>
          <a:prstGeom prst="ellipse">
            <a:avLst/>
          </a:prstGeom>
          <a:solidFill>
            <a:srgbClr val="dd080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657760" y="4118040"/>
            <a:ext cx="114480" cy="11592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680080" y="4373640"/>
            <a:ext cx="105120" cy="106560"/>
          </a:xfrm>
          <a:custGeom>
            <a:avLst/>
            <a:gdLst/>
            <a:ahLst/>
            <a:rect l="0" t="0" r="r" b="b"/>
            <a:pathLst>
              <a:path w="292" h="296">
                <a:moveTo>
                  <a:pt x="129" y="0"/>
                </a:moveTo>
                <a:lnTo>
                  <a:pt x="292" y="296"/>
                </a:lnTo>
                <a:lnTo>
                  <a:pt x="0" y="296"/>
                </a:lnTo>
                <a:lnTo>
                  <a:pt x="129" y="0"/>
                </a:lnTo>
                <a:close/>
              </a:path>
            </a:pathLst>
          </a:custGeom>
          <a:solidFill>
            <a:srgbClr val="00801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657760" y="4619520"/>
            <a:ext cx="114480" cy="115920"/>
          </a:xfrm>
          <a:prstGeom prst="ellipse">
            <a:avLst/>
          </a:prstGeom>
          <a:solidFill>
            <a:srgbClr val="fcf30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5967360" y="3813120"/>
            <a:ext cx="108900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 = 5.7 dB 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6472080" y="4081320"/>
            <a:ext cx="27468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6472080" y="4349880"/>
            <a:ext cx="27468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6472080" y="4606920"/>
            <a:ext cx="27468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7089840" y="3813120"/>
            <a:ext cx="144468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noise = -20 d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5945040" y="4987800"/>
            <a:ext cx="2641680" cy="900000"/>
            <a:chOff x="5945040" y="4987800"/>
            <a:chExt cx="2641680" cy="900000"/>
          </a:xfrm>
        </p:grpSpPr>
        <p:sp>
          <p:nvSpPr>
            <p:cNvPr id="1326" name=""/>
            <p:cNvSpPr txBox="1"/>
            <p:nvPr/>
          </p:nvSpPr>
          <p:spPr>
            <a:xfrm>
              <a:off x="6311880" y="5000760"/>
              <a:ext cx="5716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PE = 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 txBox="1"/>
            <p:nvPr/>
          </p:nvSpPr>
          <p:spPr>
            <a:xfrm>
              <a:off x="6861240" y="49896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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 txBox="1"/>
            <p:nvPr/>
          </p:nvSpPr>
          <p:spPr>
            <a:xfrm>
              <a:off x="6931080" y="5000760"/>
              <a:ext cx="10177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V.E. = 2.7 %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 txBox="1"/>
            <p:nvPr/>
          </p:nvSpPr>
          <p:spPr>
            <a:xfrm>
              <a:off x="6311880" y="5689440"/>
              <a:ext cx="21160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FT bit number = 8 bit (0.9 %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 txBox="1"/>
            <p:nvPr/>
          </p:nvSpPr>
          <p:spPr>
            <a:xfrm>
              <a:off x="6311880" y="5234040"/>
              <a:ext cx="1511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AU = 0.4 dB (2.8 %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 txBox="1"/>
            <p:nvPr/>
          </p:nvSpPr>
          <p:spPr>
            <a:xfrm>
              <a:off x="6311880" y="5456160"/>
              <a:ext cx="22748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mber of D/A bit = 8 bit (1.9 %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 txBox="1"/>
            <p:nvPr/>
          </p:nvSpPr>
          <p:spPr>
            <a:xfrm>
              <a:off x="5945040" y="4987800"/>
              <a:ext cx="2937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t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5440320" y="3592440"/>
            <a:ext cx="3197160" cy="241632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635800" y="3486240"/>
            <a:ext cx="2851200" cy="2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5587920" y="3494160"/>
            <a:ext cx="298620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 of total degrad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8007480" y="4081320"/>
            <a:ext cx="28584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8007480" y="4349880"/>
            <a:ext cx="28584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8007480" y="4606920"/>
            <a:ext cx="28584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6480" y="1676520"/>
            <a:ext cx="5100480" cy="4921920"/>
            <a:chOff x="6480" y="1676520"/>
            <a:chExt cx="5100480" cy="4921920"/>
          </a:xfrm>
        </p:grpSpPr>
        <p:grpSp>
          <p:nvGrpSpPr>
            <p:cNvPr id="1340" name=""/>
            <p:cNvGrpSpPr/>
            <p:nvPr/>
          </p:nvGrpSpPr>
          <p:grpSpPr>
            <a:xfrm>
              <a:off x="1131840" y="1736640"/>
              <a:ext cx="3818160" cy="3816360"/>
              <a:chOff x="1131840" y="1736640"/>
              <a:chExt cx="3818160" cy="3816360"/>
            </a:xfrm>
          </p:grpSpPr>
          <p:sp>
            <p:nvSpPr>
              <p:cNvPr id="1341" name=""/>
              <p:cNvSpPr/>
              <p:nvPr/>
            </p:nvSpPr>
            <p:spPr>
              <a:xfrm>
                <a:off x="1131840" y="5497560"/>
                <a:ext cx="180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1131840" y="1738440"/>
                <a:ext cx="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612800" y="5497560"/>
                <a:ext cx="180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1612800" y="1738440"/>
                <a:ext cx="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612800" y="55418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612800" y="1736640"/>
                <a:ext cx="11160" cy="3816360"/>
              </a:xfrm>
              <a:prstGeom prst="rect">
                <a:avLst/>
              </a:prstGeom>
              <a:blipFill rotWithShape="0">
                <a:blip r:embed="rId1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093760" y="5497560"/>
                <a:ext cx="180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2093760" y="1738440"/>
                <a:ext cx="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093760" y="55418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093760" y="1736640"/>
                <a:ext cx="11160" cy="3816360"/>
              </a:xfrm>
              <a:prstGeom prst="rect">
                <a:avLst/>
              </a:prstGeom>
              <a:blipFill rotWithShape="0">
                <a:blip r:embed="rId2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563920" y="5497560"/>
                <a:ext cx="144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2563920" y="1738440"/>
                <a:ext cx="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563920" y="55418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563920" y="1736640"/>
                <a:ext cx="11160" cy="3816360"/>
              </a:xfrm>
              <a:prstGeom prst="rect">
                <a:avLst/>
              </a:prstGeom>
              <a:blipFill rotWithShape="0">
                <a:blip r:embed="rId3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044880" y="5497560"/>
                <a:ext cx="144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3044880" y="1738440"/>
                <a:ext cx="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044880" y="55418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044880" y="1736640"/>
                <a:ext cx="11160" cy="3816360"/>
              </a:xfrm>
              <a:prstGeom prst="rect">
                <a:avLst/>
              </a:prstGeom>
              <a:blipFill rotWithShape="0">
                <a:blip r:embed="rId4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514680" y="5497560"/>
                <a:ext cx="180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3514680" y="1738440"/>
                <a:ext cx="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514680" y="55418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514680" y="1736640"/>
                <a:ext cx="11160" cy="3816360"/>
              </a:xfrm>
              <a:prstGeom prst="rect">
                <a:avLst/>
              </a:prstGeom>
              <a:blipFill rotWithShape="0">
                <a:blip r:embed="rId5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995640" y="5497560"/>
                <a:ext cx="180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3995640" y="1738440"/>
                <a:ext cx="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995640" y="55418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995640" y="1736640"/>
                <a:ext cx="12600" cy="3816360"/>
              </a:xfrm>
              <a:prstGeom prst="rect">
                <a:avLst/>
              </a:prstGeom>
              <a:blipFill rotWithShape="0">
                <a:blip r:embed="rId6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478400" y="5497560"/>
                <a:ext cx="144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4478400" y="1738440"/>
                <a:ext cx="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478400" y="55418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478400" y="1736640"/>
                <a:ext cx="11160" cy="3816360"/>
              </a:xfrm>
              <a:prstGeom prst="rect">
                <a:avLst/>
              </a:prstGeom>
              <a:blipFill rotWithShape="0">
                <a:blip r:embed="rId7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948200" y="5497560"/>
                <a:ext cx="180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4948200" y="1738440"/>
                <a:ext cx="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131840" y="17366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135080" y="1736640"/>
                <a:ext cx="381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135080" y="5541840"/>
                <a:ext cx="381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1131840" y="1736640"/>
              <a:ext cx="3827520" cy="3807000"/>
              <a:chOff x="1131840" y="1736640"/>
              <a:chExt cx="3827520" cy="3807000"/>
            </a:xfrm>
          </p:grpSpPr>
          <p:sp>
            <p:nvSpPr>
              <p:cNvPr id="1377" name=""/>
              <p:cNvSpPr/>
              <p:nvPr/>
            </p:nvSpPr>
            <p:spPr>
              <a:xfrm>
                <a:off x="1135080" y="5541840"/>
                <a:ext cx="54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4905360" y="5541840"/>
                <a:ext cx="42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135080" y="4911840"/>
                <a:ext cx="54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4905360" y="4911840"/>
                <a:ext cx="4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131840" y="49118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131840" y="4911840"/>
                <a:ext cx="3827520" cy="11160"/>
              </a:xfrm>
              <a:prstGeom prst="rect">
                <a:avLst/>
              </a:prstGeom>
              <a:blipFill rotWithShape="0">
                <a:blip r:embed="rId8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135080" y="4268880"/>
                <a:ext cx="54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>
                <a:off x="4905360" y="4268880"/>
                <a:ext cx="4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131840" y="42688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131840" y="4268880"/>
                <a:ext cx="3827520" cy="11160"/>
              </a:xfrm>
              <a:prstGeom prst="rect">
                <a:avLst/>
              </a:prstGeom>
              <a:blipFill rotWithShape="0">
                <a:blip r:embed="rId9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135080" y="3638520"/>
                <a:ext cx="54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>
                <a:off x="4905360" y="3638520"/>
                <a:ext cx="4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131840" y="36385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131840" y="3638520"/>
                <a:ext cx="3827520" cy="11160"/>
              </a:xfrm>
              <a:prstGeom prst="rect">
                <a:avLst/>
              </a:prstGeom>
              <a:blipFill rotWithShape="0">
                <a:blip r:embed="rId10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1135080" y="3008160"/>
                <a:ext cx="54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4905360" y="3008160"/>
                <a:ext cx="42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131840" y="30081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131840" y="3008160"/>
                <a:ext cx="3827520" cy="11160"/>
              </a:xfrm>
              <a:prstGeom prst="rect">
                <a:avLst/>
              </a:prstGeom>
              <a:blipFill rotWithShape="0">
                <a:blip r:embed="rId11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135080" y="2367000"/>
                <a:ext cx="54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>
                <a:off x="4905360" y="2367000"/>
                <a:ext cx="4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131840" y="23670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131840" y="2367000"/>
                <a:ext cx="3827520" cy="11160"/>
              </a:xfrm>
              <a:prstGeom prst="rect">
                <a:avLst/>
              </a:prstGeom>
              <a:blipFill rotWithShape="0">
                <a:blip r:embed="rId12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135080" y="1736640"/>
                <a:ext cx="54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4905360" y="1736640"/>
                <a:ext cx="42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1131840" y="1738440"/>
                <a:ext cx="0" cy="380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2" name=""/>
            <p:cNvSpPr/>
            <p:nvPr/>
          </p:nvSpPr>
          <p:spPr>
            <a:xfrm>
              <a:off x="1131840" y="1736640"/>
              <a:ext cx="3827520" cy="38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738440" y="5400720"/>
              <a:ext cx="8100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381400" y="5237280"/>
              <a:ext cx="7920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022560" y="4911840"/>
              <a:ext cx="7920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64080" y="4502160"/>
              <a:ext cx="8100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784520" y="5483160"/>
              <a:ext cx="71640" cy="71640"/>
            </a:xfrm>
            <a:custGeom>
              <a:avLst/>
              <a:gdLst/>
              <a:ahLst/>
              <a:rect l="0" t="0" r="r" b="b"/>
              <a:pathLst>
                <a:path w="199" h="199">
                  <a:moveTo>
                    <a:pt x="99" y="0"/>
                  </a:moveTo>
                  <a:lnTo>
                    <a:pt x="199" y="199"/>
                  </a:lnTo>
                  <a:lnTo>
                    <a:pt x="0" y="199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449440" y="5180040"/>
              <a:ext cx="70200" cy="71640"/>
            </a:xfrm>
            <a:custGeom>
              <a:avLst/>
              <a:gdLst/>
              <a:ahLst/>
              <a:rect l="0" t="0" r="r" b="b"/>
              <a:pathLst>
                <a:path w="195" h="199">
                  <a:moveTo>
                    <a:pt x="100" y="0"/>
                  </a:moveTo>
                  <a:lnTo>
                    <a:pt x="195" y="199"/>
                  </a:lnTo>
                  <a:lnTo>
                    <a:pt x="0" y="199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114720" y="4735440"/>
              <a:ext cx="70200" cy="71640"/>
            </a:xfrm>
            <a:custGeom>
              <a:avLst/>
              <a:gdLst/>
              <a:ahLst/>
              <a:rect l="0" t="0" r="r" b="b"/>
              <a:pathLst>
                <a:path w="195" h="199">
                  <a:moveTo>
                    <a:pt x="94" y="0"/>
                  </a:moveTo>
                  <a:lnTo>
                    <a:pt x="195" y="199"/>
                  </a:lnTo>
                  <a:lnTo>
                    <a:pt x="0" y="19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778200" y="4094280"/>
              <a:ext cx="71640" cy="71640"/>
            </a:xfrm>
            <a:custGeom>
              <a:avLst/>
              <a:gdLst/>
              <a:ahLst/>
              <a:rect l="0" t="0" r="r" b="b"/>
              <a:pathLst>
                <a:path w="199" h="199">
                  <a:moveTo>
                    <a:pt x="99" y="0"/>
                  </a:moveTo>
                  <a:lnTo>
                    <a:pt x="199" y="199"/>
                  </a:lnTo>
                  <a:lnTo>
                    <a:pt x="0" y="199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11560" y="5319720"/>
              <a:ext cx="81000" cy="81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701800" y="5073480"/>
              <a:ext cx="79200" cy="82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182760" y="4805280"/>
              <a:ext cx="79200" cy="82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710160" y="4338720"/>
              <a:ext cx="79200" cy="82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145040" y="3579840"/>
              <a:ext cx="81000" cy="82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707000" y="2552760"/>
              <a:ext cx="79200" cy="82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338120" y="5529240"/>
              <a:ext cx="57240" cy="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8" name=""/>
            <p:cNvGrpSpPr/>
            <p:nvPr/>
          </p:nvGrpSpPr>
          <p:grpSpPr>
            <a:xfrm>
              <a:off x="1544760" y="5529240"/>
              <a:ext cx="68400" cy="58680"/>
              <a:chOff x="1544760" y="5529240"/>
              <a:chExt cx="68400" cy="58680"/>
            </a:xfrm>
          </p:grpSpPr>
          <p:sp>
            <p:nvSpPr>
              <p:cNvPr id="1419" name=""/>
              <p:cNvSpPr/>
              <p:nvPr/>
            </p:nvSpPr>
            <p:spPr>
              <a:xfrm>
                <a:off x="1544760" y="5529240"/>
                <a:ext cx="57240" cy="5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555920" y="5529240"/>
                <a:ext cx="5724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1" name=""/>
            <p:cNvSpPr/>
            <p:nvPr/>
          </p:nvSpPr>
          <p:spPr>
            <a:xfrm>
              <a:off x="1990800" y="5470560"/>
              <a:ext cx="57240" cy="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27440" y="5202360"/>
              <a:ext cx="57240" cy="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3" name=""/>
            <p:cNvGrpSpPr/>
            <p:nvPr/>
          </p:nvGrpSpPr>
          <p:grpSpPr>
            <a:xfrm>
              <a:off x="1246320" y="5518080"/>
              <a:ext cx="68400" cy="69840"/>
              <a:chOff x="1246320" y="5518080"/>
              <a:chExt cx="68400" cy="69840"/>
            </a:xfrm>
          </p:grpSpPr>
          <p:sp>
            <p:nvSpPr>
              <p:cNvPr id="1424" name=""/>
              <p:cNvSpPr/>
              <p:nvPr/>
            </p:nvSpPr>
            <p:spPr>
              <a:xfrm>
                <a:off x="1257480" y="5529240"/>
                <a:ext cx="57240" cy="5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249200" y="5541840"/>
                <a:ext cx="43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268280" y="5521320"/>
                <a:ext cx="18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246320" y="5518080"/>
                <a:ext cx="5724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1555920" y="5483160"/>
              <a:ext cx="68040" cy="69840"/>
              <a:chOff x="1555920" y="5483160"/>
              <a:chExt cx="68040" cy="69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566720" y="5494320"/>
                <a:ext cx="57240" cy="5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558800" y="5506920"/>
                <a:ext cx="42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577880" y="5486400"/>
                <a:ext cx="18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555920" y="5483160"/>
                <a:ext cx="5724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2025720" y="5389560"/>
              <a:ext cx="68400" cy="69840"/>
              <a:chOff x="2025720" y="5389560"/>
              <a:chExt cx="68400" cy="69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2036880" y="5400720"/>
                <a:ext cx="57240" cy="5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028960" y="5413320"/>
                <a:ext cx="42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048040" y="5392800"/>
                <a:ext cx="1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025720" y="5389560"/>
                <a:ext cx="5724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4008600" y="4118040"/>
              <a:ext cx="68040" cy="69840"/>
              <a:chOff x="4008600" y="4118040"/>
              <a:chExt cx="68040" cy="69840"/>
            </a:xfrm>
          </p:grpSpPr>
          <p:sp>
            <p:nvSpPr>
              <p:cNvPr id="1439" name=""/>
              <p:cNvSpPr/>
              <p:nvPr/>
            </p:nvSpPr>
            <p:spPr>
              <a:xfrm>
                <a:off x="4019400" y="4129200"/>
                <a:ext cx="57240" cy="5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011480" y="4140360"/>
                <a:ext cx="41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030560" y="4121280"/>
                <a:ext cx="18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008600" y="4118040"/>
                <a:ext cx="57240" cy="57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3" name=""/>
            <p:cNvSpPr/>
            <p:nvPr/>
          </p:nvSpPr>
          <p:spPr>
            <a:xfrm flipV="1">
              <a:off x="2141640" y="4761000"/>
              <a:ext cx="249120" cy="35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2394000" y="4479840"/>
              <a:ext cx="179280" cy="27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2576520" y="4119480"/>
              <a:ext cx="135000" cy="35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714760" y="3581280"/>
              <a:ext cx="191880" cy="53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2865600" y="3548160"/>
              <a:ext cx="64800" cy="66600"/>
              <a:chOff x="2865600" y="3548160"/>
              <a:chExt cx="64800" cy="66600"/>
            </a:xfrm>
          </p:grpSpPr>
          <p:sp>
            <p:nvSpPr>
              <p:cNvPr id="1448" name=""/>
              <p:cNvSpPr/>
              <p:nvPr/>
            </p:nvSpPr>
            <p:spPr>
              <a:xfrm>
                <a:off x="2865600" y="3548160"/>
                <a:ext cx="648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2865600" y="3548160"/>
                <a:ext cx="648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865600" y="3579840"/>
                <a:ext cx="64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2108160" y="5089680"/>
              <a:ext cx="54000" cy="66600"/>
              <a:chOff x="2108160" y="5089680"/>
              <a:chExt cx="54000" cy="66600"/>
            </a:xfrm>
          </p:grpSpPr>
          <p:sp>
            <p:nvSpPr>
              <p:cNvPr id="1452" name=""/>
              <p:cNvSpPr/>
              <p:nvPr/>
            </p:nvSpPr>
            <p:spPr>
              <a:xfrm>
                <a:off x="2108160" y="5089680"/>
                <a:ext cx="540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2108160" y="5089680"/>
                <a:ext cx="540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108160" y="5121360"/>
                <a:ext cx="54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2681280" y="4084560"/>
              <a:ext cx="66600" cy="68400"/>
              <a:chOff x="2681280" y="4084560"/>
              <a:chExt cx="66600" cy="68400"/>
            </a:xfrm>
          </p:grpSpPr>
          <p:sp>
            <p:nvSpPr>
              <p:cNvPr id="1456" name=""/>
              <p:cNvSpPr/>
              <p:nvPr/>
            </p:nvSpPr>
            <p:spPr>
              <a:xfrm>
                <a:off x="2681280" y="4084560"/>
                <a:ext cx="6660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2681280" y="4084560"/>
                <a:ext cx="6660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681280" y="4118040"/>
                <a:ext cx="66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2544840" y="4446720"/>
              <a:ext cx="65160" cy="68040"/>
              <a:chOff x="2544840" y="4446720"/>
              <a:chExt cx="65160" cy="68040"/>
            </a:xfrm>
          </p:grpSpPr>
          <p:sp>
            <p:nvSpPr>
              <p:cNvPr id="1460" name=""/>
              <p:cNvSpPr/>
              <p:nvPr/>
            </p:nvSpPr>
            <p:spPr>
              <a:xfrm>
                <a:off x="2544840" y="4446720"/>
                <a:ext cx="6516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2544840" y="4446720"/>
                <a:ext cx="6516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544840" y="4478400"/>
                <a:ext cx="65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2360520" y="4727520"/>
              <a:ext cx="54000" cy="55440"/>
              <a:chOff x="2360520" y="4727520"/>
              <a:chExt cx="54000" cy="55440"/>
            </a:xfrm>
          </p:grpSpPr>
          <p:sp>
            <p:nvSpPr>
              <p:cNvPr id="1464" name=""/>
              <p:cNvSpPr/>
              <p:nvPr/>
            </p:nvSpPr>
            <p:spPr>
              <a:xfrm>
                <a:off x="2360520" y="4727520"/>
                <a:ext cx="5400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2360520" y="4727520"/>
                <a:ext cx="5400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360520" y="4759200"/>
                <a:ext cx="54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1108080" y="5622840"/>
              <a:ext cx="3998880" cy="222120"/>
              <a:chOff x="1108080" y="5622840"/>
              <a:chExt cx="3998880" cy="222120"/>
            </a:xfrm>
          </p:grpSpPr>
          <p:sp>
            <p:nvSpPr>
              <p:cNvPr id="1468" name=""/>
              <p:cNvSpPr txBox="1"/>
              <p:nvPr/>
            </p:nvSpPr>
            <p:spPr>
              <a:xfrm>
                <a:off x="4878360" y="5622840"/>
                <a:ext cx="22860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 txBox="1"/>
              <p:nvPr/>
            </p:nvSpPr>
            <p:spPr>
              <a:xfrm>
                <a:off x="4397400" y="5622840"/>
                <a:ext cx="22860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 txBox="1"/>
              <p:nvPr/>
            </p:nvSpPr>
            <p:spPr>
              <a:xfrm>
                <a:off x="3927600" y="5622840"/>
                <a:ext cx="22860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 txBox="1"/>
              <p:nvPr/>
            </p:nvSpPr>
            <p:spPr>
              <a:xfrm>
                <a:off x="3446640" y="5622840"/>
                <a:ext cx="22860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 txBox="1"/>
              <p:nvPr/>
            </p:nvSpPr>
            <p:spPr>
              <a:xfrm>
                <a:off x="3011400" y="5622840"/>
                <a:ext cx="14940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 txBox="1"/>
              <p:nvPr/>
            </p:nvSpPr>
            <p:spPr>
              <a:xfrm>
                <a:off x="2541600" y="5622840"/>
                <a:ext cx="14940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 txBox="1"/>
              <p:nvPr/>
            </p:nvSpPr>
            <p:spPr>
              <a:xfrm>
                <a:off x="2060640" y="5622840"/>
                <a:ext cx="14940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 txBox="1"/>
              <p:nvPr/>
            </p:nvSpPr>
            <p:spPr>
              <a:xfrm>
                <a:off x="1590840" y="5622840"/>
                <a:ext cx="14940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 txBox="1"/>
              <p:nvPr/>
            </p:nvSpPr>
            <p:spPr>
              <a:xfrm>
                <a:off x="1108080" y="5622840"/>
                <a:ext cx="14940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901800" y="1676520"/>
              <a:ext cx="274680" cy="4027320"/>
              <a:chOff x="901800" y="1676520"/>
              <a:chExt cx="274680" cy="4027320"/>
            </a:xfrm>
          </p:grpSpPr>
          <p:sp>
            <p:nvSpPr>
              <p:cNvPr id="1478" name=""/>
              <p:cNvSpPr txBox="1"/>
              <p:nvPr/>
            </p:nvSpPr>
            <p:spPr>
              <a:xfrm>
                <a:off x="901800" y="5481720"/>
                <a:ext cx="2746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 txBox="1"/>
              <p:nvPr/>
            </p:nvSpPr>
            <p:spPr>
              <a:xfrm>
                <a:off x="901800" y="4851360"/>
                <a:ext cx="2746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 txBox="1"/>
              <p:nvPr/>
            </p:nvSpPr>
            <p:spPr>
              <a:xfrm>
                <a:off x="901800" y="4210200"/>
                <a:ext cx="2746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 txBox="1"/>
              <p:nvPr/>
            </p:nvSpPr>
            <p:spPr>
              <a:xfrm>
                <a:off x="901800" y="3579840"/>
                <a:ext cx="2746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 txBox="1"/>
              <p:nvPr/>
            </p:nvSpPr>
            <p:spPr>
              <a:xfrm>
                <a:off x="901800" y="2949480"/>
                <a:ext cx="2746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 txBox="1"/>
              <p:nvPr/>
            </p:nvSpPr>
            <p:spPr>
              <a:xfrm>
                <a:off x="901800" y="2306520"/>
                <a:ext cx="2746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 txBox="1"/>
              <p:nvPr/>
            </p:nvSpPr>
            <p:spPr>
              <a:xfrm>
                <a:off x="901800" y="1676520"/>
                <a:ext cx="274680" cy="2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5" name=""/>
            <p:cNvSpPr txBox="1"/>
            <p:nvPr/>
          </p:nvSpPr>
          <p:spPr>
            <a:xfrm>
              <a:off x="2620800" y="5856120"/>
              <a:ext cx="116856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ctor error (%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 txBox="1"/>
            <p:nvPr/>
          </p:nvSpPr>
          <p:spPr>
            <a:xfrm>
              <a:off x="6480" y="3287880"/>
              <a:ext cx="145584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/N degradation (dB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 txBox="1"/>
            <p:nvPr/>
          </p:nvSpPr>
          <p:spPr>
            <a:xfrm>
              <a:off x="1406520" y="6113520"/>
              <a:ext cx="33926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/N degradation versus Vector err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720960" y="3592440"/>
              <a:ext cx="114480" cy="115920"/>
            </a:xfrm>
            <a:prstGeom prst="ellipse">
              <a:avLst/>
            </a:prstGeom>
            <a:solidFill>
              <a:srgbClr val="dd08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618000" y="3965400"/>
              <a:ext cx="114480" cy="115920"/>
            </a:xfrm>
            <a:prstGeom prst="rect">
              <a:avLst/>
            </a:prstGeom>
            <a:solidFill>
              <a:srgbClr val="0000d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354480" y="3475080"/>
              <a:ext cx="105120" cy="106560"/>
            </a:xfrm>
            <a:custGeom>
              <a:avLst/>
              <a:gdLst/>
              <a:ahLst/>
              <a:rect l="0" t="0" r="r" b="b"/>
              <a:pathLst>
                <a:path w="292" h="296">
                  <a:moveTo>
                    <a:pt x="129" y="0"/>
                  </a:moveTo>
                  <a:lnTo>
                    <a:pt x="292" y="296"/>
                  </a:lnTo>
                  <a:lnTo>
                    <a:pt x="0" y="29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801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70360" y="2833560"/>
              <a:ext cx="114480" cy="115920"/>
            </a:xfrm>
            <a:prstGeom prst="ellipse">
              <a:avLst/>
            </a:prstGeom>
            <a:solidFill>
              <a:srgbClr val="fcf3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1292400" y="1876320"/>
            <a:ext cx="194796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1292400" y="1863720"/>
            <a:ext cx="195912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acket length = 1000 by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281240" y="2075040"/>
            <a:ext cx="129384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1281240" y="2062080"/>
            <a:ext cx="134136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-bit soft deci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1346040" y="739800"/>
            <a:ext cx="65833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with transmitter degradation fa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1346040" y="1109520"/>
            <a:ext cx="57769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16QAM-OFDM Information data rate = 24 Mbit/s, Coding rate = 1/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100080" y="1608120"/>
            <a:ext cx="5219640" cy="4345200"/>
            <a:chOff x="100080" y="1608120"/>
            <a:chExt cx="5219640" cy="4345200"/>
          </a:xfrm>
        </p:grpSpPr>
        <p:grpSp>
          <p:nvGrpSpPr>
            <p:cNvPr id="1499" name=""/>
            <p:cNvGrpSpPr/>
            <p:nvPr/>
          </p:nvGrpSpPr>
          <p:grpSpPr>
            <a:xfrm>
              <a:off x="1217520" y="5524560"/>
              <a:ext cx="4102200" cy="220680"/>
              <a:chOff x="1217520" y="5524560"/>
              <a:chExt cx="4102200" cy="220680"/>
            </a:xfrm>
          </p:grpSpPr>
          <p:sp>
            <p:nvSpPr>
              <p:cNvPr id="1500" name=""/>
              <p:cNvSpPr txBox="1"/>
              <p:nvPr/>
            </p:nvSpPr>
            <p:spPr>
              <a:xfrm>
                <a:off x="5084640" y="5524560"/>
                <a:ext cx="23508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 txBox="1"/>
              <p:nvPr/>
            </p:nvSpPr>
            <p:spPr>
              <a:xfrm>
                <a:off x="4591080" y="5524560"/>
                <a:ext cx="23508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 txBox="1"/>
              <p:nvPr/>
            </p:nvSpPr>
            <p:spPr>
              <a:xfrm>
                <a:off x="4110120" y="5524560"/>
                <a:ext cx="23508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 txBox="1"/>
              <p:nvPr/>
            </p:nvSpPr>
            <p:spPr>
              <a:xfrm>
                <a:off x="3616200" y="5524560"/>
                <a:ext cx="23508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 txBox="1"/>
              <p:nvPr/>
            </p:nvSpPr>
            <p:spPr>
              <a:xfrm>
                <a:off x="3168720" y="5524560"/>
                <a:ext cx="15228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 txBox="1"/>
              <p:nvPr/>
            </p:nvSpPr>
            <p:spPr>
              <a:xfrm>
                <a:off x="2687760" y="5524560"/>
                <a:ext cx="15228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 txBox="1"/>
              <p:nvPr/>
            </p:nvSpPr>
            <p:spPr>
              <a:xfrm>
                <a:off x="2193840" y="5524560"/>
                <a:ext cx="15228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 txBox="1"/>
              <p:nvPr/>
            </p:nvSpPr>
            <p:spPr>
              <a:xfrm>
                <a:off x="1711440" y="5524560"/>
                <a:ext cx="15228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 txBox="1"/>
              <p:nvPr/>
            </p:nvSpPr>
            <p:spPr>
              <a:xfrm>
                <a:off x="1217520" y="5524560"/>
                <a:ext cx="15228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1241280" y="1665360"/>
              <a:ext cx="3916440" cy="3789360"/>
              <a:chOff x="1241280" y="1665360"/>
              <a:chExt cx="3916440" cy="3789360"/>
            </a:xfrm>
          </p:grpSpPr>
          <p:sp>
            <p:nvSpPr>
              <p:cNvPr id="1510" name=""/>
              <p:cNvSpPr/>
              <p:nvPr/>
            </p:nvSpPr>
            <p:spPr>
              <a:xfrm>
                <a:off x="1241280" y="5400720"/>
                <a:ext cx="18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1241280" y="166680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487520" y="5423040"/>
                <a:ext cx="144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V="1">
                <a:off x="1487520" y="166680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735200" y="5400720"/>
                <a:ext cx="1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1735200" y="166680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735200" y="5443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735200" y="1665360"/>
                <a:ext cx="11160" cy="3789360"/>
              </a:xfrm>
              <a:prstGeom prst="rect">
                <a:avLst/>
              </a:prstGeom>
              <a:blipFill rotWithShape="0">
                <a:blip r:embed="rId1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969920" y="5423040"/>
                <a:ext cx="180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1969920" y="166680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216160" y="5400720"/>
                <a:ext cx="1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2216160" y="166680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216160" y="5443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216160" y="1665360"/>
                <a:ext cx="12600" cy="3789360"/>
              </a:xfrm>
              <a:prstGeom prst="rect">
                <a:avLst/>
              </a:prstGeom>
              <a:blipFill rotWithShape="0">
                <a:blip r:embed="rId2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463840" y="5423040"/>
                <a:ext cx="144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2463840" y="166680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709720" y="5400720"/>
                <a:ext cx="18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2709720" y="166680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709720" y="5443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709720" y="1665360"/>
                <a:ext cx="12600" cy="3789360"/>
              </a:xfrm>
              <a:prstGeom prst="rect">
                <a:avLst/>
              </a:prstGeom>
              <a:blipFill rotWithShape="0">
                <a:blip r:embed="rId3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957400" y="5423040"/>
                <a:ext cx="180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2957400" y="166680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192480" y="5400720"/>
                <a:ext cx="1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3192480" y="166680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192480" y="5443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192480" y="1665360"/>
                <a:ext cx="11160" cy="3789360"/>
              </a:xfrm>
              <a:prstGeom prst="rect">
                <a:avLst/>
              </a:prstGeom>
              <a:blipFill rotWithShape="0">
                <a:blip r:embed="rId4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440160" y="5423040"/>
                <a:ext cx="144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V="1">
                <a:off x="3440160" y="166680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686040" y="5400720"/>
                <a:ext cx="18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3686040" y="166680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686040" y="5443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686040" y="1665360"/>
                <a:ext cx="12600" cy="3789360"/>
              </a:xfrm>
              <a:prstGeom prst="rect">
                <a:avLst/>
              </a:prstGeom>
              <a:blipFill rotWithShape="0">
                <a:blip r:embed="rId5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933720" y="5423040"/>
                <a:ext cx="180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3933720" y="166680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179960" y="5400720"/>
                <a:ext cx="1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4179960" y="166680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179960" y="5443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179960" y="1665360"/>
                <a:ext cx="12600" cy="3789360"/>
              </a:xfrm>
              <a:prstGeom prst="rect">
                <a:avLst/>
              </a:prstGeom>
              <a:blipFill rotWithShape="0">
                <a:blip r:embed="rId6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427640" y="5423040"/>
                <a:ext cx="144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V="1">
                <a:off x="4427640" y="166680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662360" y="5400720"/>
                <a:ext cx="18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662360" y="166680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662360" y="5443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62360" y="1665360"/>
                <a:ext cx="11160" cy="3789360"/>
              </a:xfrm>
              <a:prstGeom prst="rect">
                <a:avLst/>
              </a:prstGeom>
              <a:blipFill rotWithShape="0">
                <a:blip r:embed="rId7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908600" y="5423040"/>
                <a:ext cx="144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908600" y="166680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156280" y="5400720"/>
                <a:ext cx="1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>
                <a:off x="5156280" y="166680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241280" y="16653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44520" y="1665360"/>
                <a:ext cx="3911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244520" y="5443560"/>
                <a:ext cx="3911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1006560" y="1608120"/>
              <a:ext cx="282600" cy="3997440"/>
              <a:chOff x="1006560" y="1608120"/>
              <a:chExt cx="282600" cy="3997440"/>
            </a:xfrm>
          </p:grpSpPr>
          <p:sp>
            <p:nvSpPr>
              <p:cNvPr id="1562" name=""/>
              <p:cNvSpPr txBox="1"/>
              <p:nvPr/>
            </p:nvSpPr>
            <p:spPr>
              <a:xfrm>
                <a:off x="1006560" y="5384880"/>
                <a:ext cx="28260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 txBox="1"/>
              <p:nvPr/>
            </p:nvSpPr>
            <p:spPr>
              <a:xfrm>
                <a:off x="1006560" y="4759200"/>
                <a:ext cx="28260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 txBox="1"/>
              <p:nvPr/>
            </p:nvSpPr>
            <p:spPr>
              <a:xfrm>
                <a:off x="1006560" y="4122720"/>
                <a:ext cx="28260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 txBox="1"/>
              <p:nvPr/>
            </p:nvSpPr>
            <p:spPr>
              <a:xfrm>
                <a:off x="1006560" y="3497400"/>
                <a:ext cx="28260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 txBox="1"/>
              <p:nvPr/>
            </p:nvSpPr>
            <p:spPr>
              <a:xfrm>
                <a:off x="1006560" y="2870280"/>
                <a:ext cx="28260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 txBox="1"/>
              <p:nvPr/>
            </p:nvSpPr>
            <p:spPr>
              <a:xfrm>
                <a:off x="1006560" y="2233440"/>
                <a:ext cx="28260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 txBox="1"/>
              <p:nvPr/>
            </p:nvSpPr>
            <p:spPr>
              <a:xfrm>
                <a:off x="1006560" y="1608120"/>
                <a:ext cx="282600" cy="22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1241280" y="1665360"/>
              <a:ext cx="3925800" cy="3779640"/>
              <a:chOff x="1241280" y="1665360"/>
              <a:chExt cx="3925800" cy="3779640"/>
            </a:xfrm>
          </p:grpSpPr>
          <p:sp>
            <p:nvSpPr>
              <p:cNvPr id="1570" name=""/>
              <p:cNvSpPr/>
              <p:nvPr/>
            </p:nvSpPr>
            <p:spPr>
              <a:xfrm>
                <a:off x="1244520" y="5443560"/>
                <a:ext cx="4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5111640" y="5443560"/>
                <a:ext cx="4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244520" y="4818240"/>
                <a:ext cx="4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5111640" y="4818240"/>
                <a:ext cx="4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241280" y="48182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241280" y="4818240"/>
                <a:ext cx="3925800" cy="11160"/>
              </a:xfrm>
              <a:prstGeom prst="rect">
                <a:avLst/>
              </a:prstGeom>
              <a:blipFill rotWithShape="0">
                <a:blip r:embed="rId8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244520" y="4179960"/>
                <a:ext cx="4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5111640" y="4179960"/>
                <a:ext cx="4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241280" y="4179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241280" y="4179960"/>
                <a:ext cx="3925800" cy="12600"/>
              </a:xfrm>
              <a:prstGeom prst="rect">
                <a:avLst/>
              </a:prstGeom>
              <a:blipFill rotWithShape="0">
                <a:blip r:embed="rId9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244520" y="3554280"/>
                <a:ext cx="42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5111640" y="3554280"/>
                <a:ext cx="44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241280" y="35542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241280" y="3554280"/>
                <a:ext cx="3925800" cy="11160"/>
              </a:xfrm>
              <a:prstGeom prst="rect">
                <a:avLst/>
              </a:prstGeom>
              <a:blipFill rotWithShape="0">
                <a:blip r:embed="rId10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244520" y="2928960"/>
                <a:ext cx="4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5111640" y="2928960"/>
                <a:ext cx="4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241280" y="29289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241280" y="2928960"/>
                <a:ext cx="3925800" cy="11160"/>
              </a:xfrm>
              <a:prstGeom prst="rect">
                <a:avLst/>
              </a:prstGeom>
              <a:blipFill rotWithShape="0">
                <a:blip r:embed="rId11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244520" y="2292480"/>
                <a:ext cx="4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5111640" y="2292480"/>
                <a:ext cx="4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241280" y="22924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241280" y="2292480"/>
                <a:ext cx="3925800" cy="11160"/>
              </a:xfrm>
              <a:prstGeom prst="rect">
                <a:avLst/>
              </a:prstGeom>
              <a:blipFill rotWithShape="0">
                <a:blip r:embed="rId12"/>
                <a:tile tx="0" ty="0" sx="3525000" sy="3525000" algn="ctr"/>
              </a:blip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244520" y="1665360"/>
                <a:ext cx="4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>
                <a:off x="5111640" y="1665360"/>
                <a:ext cx="4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1241280" y="1666800"/>
                <a:ext cx="0" cy="37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1241280" y="1665360"/>
              <a:ext cx="3925800" cy="3789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863720" y="5303880"/>
              <a:ext cx="8244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522520" y="5141880"/>
              <a:ext cx="8244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181320" y="4818240"/>
              <a:ext cx="8244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38680" y="4411800"/>
              <a:ext cx="82440" cy="81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911240" y="5373720"/>
              <a:ext cx="71640" cy="71640"/>
            </a:xfrm>
            <a:custGeom>
              <a:avLst/>
              <a:gdLst/>
              <a:ahLst/>
              <a:rect l="0" t="0" r="r" b="b"/>
              <a:pathLst>
                <a:path w="199" h="199">
                  <a:moveTo>
                    <a:pt x="99" y="0"/>
                  </a:moveTo>
                  <a:lnTo>
                    <a:pt x="199" y="199"/>
                  </a:lnTo>
                  <a:lnTo>
                    <a:pt x="0" y="199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592360" y="5072040"/>
              <a:ext cx="73440" cy="71640"/>
            </a:xfrm>
            <a:custGeom>
              <a:avLst/>
              <a:gdLst/>
              <a:ahLst/>
              <a:rect l="0" t="0" r="r" b="b"/>
              <a:pathLst>
                <a:path w="204" h="199">
                  <a:moveTo>
                    <a:pt x="104" y="0"/>
                  </a:moveTo>
                  <a:lnTo>
                    <a:pt x="204" y="199"/>
                  </a:lnTo>
                  <a:lnTo>
                    <a:pt x="0" y="199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74920" y="4632480"/>
              <a:ext cx="71640" cy="71640"/>
            </a:xfrm>
            <a:custGeom>
              <a:avLst/>
              <a:gdLst/>
              <a:ahLst/>
              <a:rect l="0" t="0" r="r" b="b"/>
              <a:pathLst>
                <a:path w="199" h="199">
                  <a:moveTo>
                    <a:pt x="99" y="0"/>
                  </a:moveTo>
                  <a:lnTo>
                    <a:pt x="199" y="199"/>
                  </a:lnTo>
                  <a:lnTo>
                    <a:pt x="0" y="199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956040" y="3995640"/>
              <a:ext cx="73440" cy="70200"/>
            </a:xfrm>
            <a:custGeom>
              <a:avLst/>
              <a:gdLst/>
              <a:ahLst/>
              <a:rect l="0" t="0" r="r" b="b"/>
              <a:pathLst>
                <a:path w="204" h="195">
                  <a:moveTo>
                    <a:pt x="104" y="0"/>
                  </a:moveTo>
                  <a:lnTo>
                    <a:pt x="204" y="195"/>
                  </a:lnTo>
                  <a:lnTo>
                    <a:pt x="0" y="195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452680" y="5222880"/>
              <a:ext cx="81000" cy="81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863800" y="4979880"/>
              <a:ext cx="82440" cy="81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333600" y="4713120"/>
              <a:ext cx="82440" cy="81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875040" y="4249800"/>
              <a:ext cx="81000" cy="81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332240" y="3497400"/>
              <a:ext cx="82440" cy="81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21200" y="2476440"/>
              <a:ext cx="81000" cy="81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2600" y="5432400"/>
              <a:ext cx="58680" cy="57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63560" y="5432400"/>
              <a:ext cx="58680" cy="57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122560" y="5373720"/>
              <a:ext cx="58680" cy="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968560" y="5106960"/>
              <a:ext cx="58680" cy="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4" name=""/>
            <p:cNvGrpSpPr/>
            <p:nvPr/>
          </p:nvGrpSpPr>
          <p:grpSpPr>
            <a:xfrm>
              <a:off x="1346040" y="5419800"/>
              <a:ext cx="71640" cy="69840"/>
              <a:chOff x="1346040" y="5419800"/>
              <a:chExt cx="71640" cy="69840"/>
            </a:xfrm>
          </p:grpSpPr>
          <p:sp>
            <p:nvSpPr>
              <p:cNvPr id="1615" name=""/>
              <p:cNvSpPr/>
              <p:nvPr/>
            </p:nvSpPr>
            <p:spPr>
              <a:xfrm>
                <a:off x="1359000" y="5432400"/>
                <a:ext cx="586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349280" y="5443560"/>
                <a:ext cx="4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370160" y="5423040"/>
                <a:ext cx="144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346040" y="5419800"/>
                <a:ext cx="5868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1676520" y="5386320"/>
              <a:ext cx="69840" cy="68400"/>
              <a:chOff x="1676520" y="5386320"/>
              <a:chExt cx="69840" cy="68400"/>
            </a:xfrm>
          </p:grpSpPr>
          <p:sp>
            <p:nvSpPr>
              <p:cNvPr id="1620" name=""/>
              <p:cNvSpPr/>
              <p:nvPr/>
            </p:nvSpPr>
            <p:spPr>
              <a:xfrm>
                <a:off x="1687680" y="5397480"/>
                <a:ext cx="586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679400" y="5408640"/>
                <a:ext cx="43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700280" y="5389560"/>
                <a:ext cx="1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676520" y="5386320"/>
                <a:ext cx="58680" cy="57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2146320" y="5292720"/>
              <a:ext cx="69840" cy="69840"/>
              <a:chOff x="2146320" y="5292720"/>
              <a:chExt cx="69840" cy="69840"/>
            </a:xfrm>
          </p:grpSpPr>
          <p:sp>
            <p:nvSpPr>
              <p:cNvPr id="1625" name=""/>
              <p:cNvSpPr/>
              <p:nvPr/>
            </p:nvSpPr>
            <p:spPr>
              <a:xfrm>
                <a:off x="2157480" y="5303880"/>
                <a:ext cx="58680" cy="5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149560" y="5316480"/>
                <a:ext cx="44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170080" y="5295960"/>
                <a:ext cx="18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146320" y="5292720"/>
                <a:ext cx="5868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4192560" y="4029120"/>
              <a:ext cx="69840" cy="69840"/>
              <a:chOff x="4192560" y="4029120"/>
              <a:chExt cx="69840" cy="69840"/>
            </a:xfrm>
          </p:grpSpPr>
          <p:sp>
            <p:nvSpPr>
              <p:cNvPr id="1630" name=""/>
              <p:cNvSpPr/>
              <p:nvPr/>
            </p:nvSpPr>
            <p:spPr>
              <a:xfrm>
                <a:off x="4203720" y="4041720"/>
                <a:ext cx="586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195800" y="4052880"/>
                <a:ext cx="42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214880" y="4032360"/>
                <a:ext cx="144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192560" y="4029120"/>
                <a:ext cx="5868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4" name=""/>
            <p:cNvSpPr txBox="1"/>
            <p:nvPr/>
          </p:nvSpPr>
          <p:spPr>
            <a:xfrm>
              <a:off x="2768760" y="5732640"/>
              <a:ext cx="1198440" cy="22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ctor error (%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 txBox="1"/>
            <p:nvPr/>
          </p:nvSpPr>
          <p:spPr>
            <a:xfrm>
              <a:off x="100080" y="3182760"/>
              <a:ext cx="1492200" cy="22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/N degradation (dB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97160" y="3751200"/>
              <a:ext cx="117360" cy="115920"/>
            </a:xfrm>
            <a:prstGeom prst="ellipse">
              <a:avLst/>
            </a:prstGeom>
            <a:solidFill>
              <a:srgbClr val="dd08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03600" y="4273560"/>
              <a:ext cx="117360" cy="115920"/>
            </a:xfrm>
            <a:prstGeom prst="rect">
              <a:avLst/>
            </a:prstGeom>
            <a:solidFill>
              <a:srgbClr val="0000d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216240" y="4621320"/>
              <a:ext cx="108360" cy="105120"/>
            </a:xfrm>
            <a:custGeom>
              <a:avLst/>
              <a:gdLst/>
              <a:ahLst/>
              <a:rect l="0" t="0" r="r" b="b"/>
              <a:pathLst>
                <a:path w="301" h="292">
                  <a:moveTo>
                    <a:pt x="135" y="0"/>
                  </a:moveTo>
                  <a:lnTo>
                    <a:pt x="301" y="292"/>
                  </a:lnTo>
                  <a:lnTo>
                    <a:pt x="0" y="292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801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874960" y="4853160"/>
              <a:ext cx="117360" cy="115920"/>
            </a:xfrm>
            <a:prstGeom prst="ellipse">
              <a:avLst/>
            </a:prstGeom>
            <a:solidFill>
              <a:srgbClr val="fcf30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1349280" y="5411880"/>
              <a:ext cx="68400" cy="66600"/>
              <a:chOff x="1349280" y="5411880"/>
              <a:chExt cx="68400" cy="66600"/>
            </a:xfrm>
          </p:grpSpPr>
          <p:sp>
            <p:nvSpPr>
              <p:cNvPr id="1641" name=""/>
              <p:cNvSpPr/>
              <p:nvPr/>
            </p:nvSpPr>
            <p:spPr>
              <a:xfrm>
                <a:off x="1349280" y="5411880"/>
                <a:ext cx="684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H="1">
                <a:off x="1349280" y="5411880"/>
                <a:ext cx="684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349280" y="5443560"/>
                <a:ext cx="68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1468440" y="5365800"/>
              <a:ext cx="66600" cy="66600"/>
              <a:chOff x="1468440" y="5365800"/>
              <a:chExt cx="66600" cy="66600"/>
            </a:xfrm>
          </p:grpSpPr>
          <p:sp>
            <p:nvSpPr>
              <p:cNvPr id="1645" name=""/>
              <p:cNvSpPr/>
              <p:nvPr/>
            </p:nvSpPr>
            <p:spPr>
              <a:xfrm>
                <a:off x="1468440" y="5365800"/>
                <a:ext cx="666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H="1">
                <a:off x="1468440" y="5365800"/>
                <a:ext cx="666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468440" y="5397480"/>
                <a:ext cx="66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8" name=""/>
            <p:cNvGrpSpPr/>
            <p:nvPr/>
          </p:nvGrpSpPr>
          <p:grpSpPr>
            <a:xfrm>
              <a:off x="1655640" y="5307120"/>
              <a:ext cx="66960" cy="66600"/>
              <a:chOff x="1655640" y="5307120"/>
              <a:chExt cx="66960" cy="66600"/>
            </a:xfrm>
          </p:grpSpPr>
          <p:sp>
            <p:nvSpPr>
              <p:cNvPr id="1649" name=""/>
              <p:cNvSpPr/>
              <p:nvPr/>
            </p:nvSpPr>
            <p:spPr>
              <a:xfrm>
                <a:off x="1655640" y="5307120"/>
                <a:ext cx="669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H="1">
                <a:off x="1655640" y="5307120"/>
                <a:ext cx="669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655640" y="5338800"/>
                <a:ext cx="66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2" name=""/>
          <p:cNvSpPr txBox="1"/>
          <p:nvPr/>
        </p:nvSpPr>
        <p:spPr>
          <a:xfrm>
            <a:off x="5967360" y="1724040"/>
            <a:ext cx="15224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ature phase err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5967360" y="1978200"/>
            <a:ext cx="21542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ature amplitude unbal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5967360" y="2222640"/>
            <a:ext cx="2411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near amplifier (Rapp's mode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5967360" y="2476440"/>
            <a:ext cx="12621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D/A b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5967360" y="2743200"/>
            <a:ext cx="23194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FT internal bit number (Radix 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5967360" y="2987640"/>
            <a:ext cx="24004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noise (corner freq. = 5 kHz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719680" y="1758960"/>
            <a:ext cx="108720" cy="1355760"/>
            <a:chOff x="5719680" y="1758960"/>
            <a:chExt cx="108720" cy="1355760"/>
          </a:xfrm>
        </p:grpSpPr>
        <p:sp>
          <p:nvSpPr>
            <p:cNvPr id="1659" name=""/>
            <p:cNvSpPr/>
            <p:nvPr/>
          </p:nvSpPr>
          <p:spPr>
            <a:xfrm>
              <a:off x="5719680" y="1758960"/>
              <a:ext cx="106200" cy="103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732640" y="2013120"/>
              <a:ext cx="95760" cy="95760"/>
            </a:xfrm>
            <a:custGeom>
              <a:avLst/>
              <a:gdLst/>
              <a:ahLst/>
              <a:rect l="0" t="0" r="r" b="b"/>
              <a:pathLst>
                <a:path w="266" h="266">
                  <a:moveTo>
                    <a:pt x="131" y="0"/>
                  </a:moveTo>
                  <a:lnTo>
                    <a:pt x="266" y="266"/>
                  </a:lnTo>
                  <a:lnTo>
                    <a:pt x="0" y="26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719680" y="2257560"/>
              <a:ext cx="106200" cy="103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5732640" y="2546280"/>
              <a:ext cx="81000" cy="81000"/>
              <a:chOff x="5732640" y="2546280"/>
              <a:chExt cx="81000" cy="81000"/>
            </a:xfrm>
          </p:grpSpPr>
          <p:sp>
            <p:nvSpPr>
              <p:cNvPr id="1663" name=""/>
              <p:cNvSpPr/>
              <p:nvPr/>
            </p:nvSpPr>
            <p:spPr>
              <a:xfrm>
                <a:off x="5732640" y="2546280"/>
                <a:ext cx="81000" cy="8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743440" y="2546280"/>
                <a:ext cx="698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5719680" y="2789280"/>
              <a:ext cx="93960" cy="93600"/>
              <a:chOff x="5719680" y="2789280"/>
              <a:chExt cx="93960" cy="93600"/>
            </a:xfrm>
          </p:grpSpPr>
          <p:sp>
            <p:nvSpPr>
              <p:cNvPr id="1666" name=""/>
              <p:cNvSpPr/>
              <p:nvPr/>
            </p:nvSpPr>
            <p:spPr>
              <a:xfrm>
                <a:off x="5732640" y="2801880"/>
                <a:ext cx="81000" cy="8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722920" y="2824200"/>
                <a:ext cx="68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754600" y="2792520"/>
                <a:ext cx="180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719680" y="2789280"/>
                <a:ext cx="7128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5722920" y="3024360"/>
              <a:ext cx="79560" cy="90360"/>
              <a:chOff x="5722920" y="3024360"/>
              <a:chExt cx="79560" cy="90360"/>
            </a:xfrm>
          </p:grpSpPr>
          <p:sp>
            <p:nvSpPr>
              <p:cNvPr id="1671" name=""/>
              <p:cNvSpPr/>
              <p:nvPr/>
            </p:nvSpPr>
            <p:spPr>
              <a:xfrm>
                <a:off x="5722920" y="3024360"/>
                <a:ext cx="7956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>
                <a:off x="5722920" y="3024360"/>
                <a:ext cx="7956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722920" y="306864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4" name=""/>
          <p:cNvSpPr/>
          <p:nvPr/>
        </p:nvSpPr>
        <p:spPr>
          <a:xfrm>
            <a:off x="5872320" y="3740040"/>
            <a:ext cx="119160" cy="115920"/>
          </a:xfrm>
          <a:prstGeom prst="ellipse">
            <a:avLst/>
          </a:prstGeom>
          <a:solidFill>
            <a:srgbClr val="dd080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5861160" y="4017960"/>
            <a:ext cx="117360" cy="11592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884920" y="4273560"/>
            <a:ext cx="108360" cy="105120"/>
          </a:xfrm>
          <a:custGeom>
            <a:avLst/>
            <a:gdLst/>
            <a:ahLst/>
            <a:rect l="0" t="0" r="r" b="b"/>
            <a:pathLst>
              <a:path w="301" h="292">
                <a:moveTo>
                  <a:pt x="130" y="0"/>
                </a:moveTo>
                <a:lnTo>
                  <a:pt x="301" y="292"/>
                </a:lnTo>
                <a:lnTo>
                  <a:pt x="0" y="292"/>
                </a:lnTo>
                <a:lnTo>
                  <a:pt x="130" y="0"/>
                </a:lnTo>
                <a:close/>
              </a:path>
            </a:pathLst>
          </a:custGeom>
          <a:solidFill>
            <a:srgbClr val="00801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5861160" y="4516560"/>
            <a:ext cx="117360" cy="115920"/>
          </a:xfrm>
          <a:prstGeom prst="ellipse">
            <a:avLst/>
          </a:prstGeom>
          <a:solidFill>
            <a:srgbClr val="fcf30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6178680" y="3716280"/>
            <a:ext cx="102240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 = 5.0 d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6696000" y="3983040"/>
            <a:ext cx="28260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6696000" y="4249800"/>
            <a:ext cx="28260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6696000" y="4505400"/>
            <a:ext cx="28260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5762520" y="4818240"/>
            <a:ext cx="2649600" cy="1112760"/>
            <a:chOff x="5762520" y="4818240"/>
            <a:chExt cx="2649600" cy="1112760"/>
          </a:xfrm>
        </p:grpSpPr>
        <p:grpSp>
          <p:nvGrpSpPr>
            <p:cNvPr id="1683" name=""/>
            <p:cNvGrpSpPr/>
            <p:nvPr/>
          </p:nvGrpSpPr>
          <p:grpSpPr>
            <a:xfrm>
              <a:off x="6137280" y="4818240"/>
              <a:ext cx="2274840" cy="1112760"/>
              <a:chOff x="6137280" y="4818240"/>
              <a:chExt cx="2274840" cy="1112760"/>
            </a:xfrm>
          </p:grpSpPr>
          <p:sp>
            <p:nvSpPr>
              <p:cNvPr id="1684" name=""/>
              <p:cNvSpPr txBox="1"/>
              <p:nvPr/>
            </p:nvSpPr>
            <p:spPr>
              <a:xfrm>
                <a:off x="6137280" y="4829040"/>
                <a:ext cx="5716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QPE = 3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 txBox="1"/>
              <p:nvPr/>
            </p:nvSpPr>
            <p:spPr>
              <a:xfrm>
                <a:off x="6702480" y="4818240"/>
                <a:ext cx="1652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‹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 txBox="1"/>
              <p:nvPr/>
            </p:nvSpPr>
            <p:spPr>
              <a:xfrm>
                <a:off x="6772320" y="4829040"/>
                <a:ext cx="10177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V.E. = 2.7 %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 txBox="1"/>
              <p:nvPr/>
            </p:nvSpPr>
            <p:spPr>
              <a:xfrm>
                <a:off x="6137280" y="5732640"/>
                <a:ext cx="19414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hase noise = -23 dB (1.3 %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 txBox="1"/>
              <p:nvPr/>
            </p:nvSpPr>
            <p:spPr>
              <a:xfrm>
                <a:off x="6137280" y="5513400"/>
                <a:ext cx="21160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FFT bit number = 8 bit (0.9 %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 txBox="1"/>
              <p:nvPr/>
            </p:nvSpPr>
            <p:spPr>
              <a:xfrm>
                <a:off x="6137280" y="5060880"/>
                <a:ext cx="15112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QAU = 0.4 dB (2.8 %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 txBox="1"/>
              <p:nvPr/>
            </p:nvSpPr>
            <p:spPr>
              <a:xfrm>
                <a:off x="6137280" y="5281560"/>
                <a:ext cx="2274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umber of D/A bit = 8 bit (1.9 %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1" name=""/>
            <p:cNvSpPr txBox="1"/>
            <p:nvPr/>
          </p:nvSpPr>
          <p:spPr>
            <a:xfrm>
              <a:off x="5762520" y="4818240"/>
              <a:ext cx="2937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t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5637240" y="3497400"/>
            <a:ext cx="2822400" cy="25718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837400" y="3392640"/>
            <a:ext cx="253044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5713560" y="3389400"/>
            <a:ext cx="2814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 of total degrad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1617840" y="6000840"/>
            <a:ext cx="36669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versus Vector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500120" y="1793880"/>
            <a:ext cx="199872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1500120" y="1781280"/>
            <a:ext cx="200988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acket length = 1000 by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500120" y="1990800"/>
            <a:ext cx="132876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1500120" y="1978200"/>
            <a:ext cx="13748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-bit soft deci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47800" y="1387440"/>
            <a:ext cx="73407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transmitter constellation error (Vector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adation factors in Vect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ature Phas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ature Amplitude Un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nearity of High Power Ampl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zation in I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zation at D/A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"/>
          <p:cNvSpPr txBox="1"/>
          <p:nvPr/>
        </p:nvSpPr>
        <p:spPr>
          <a:xfrm>
            <a:off x="949320" y="1387440"/>
            <a:ext cx="8001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noise and non-linearity of HPA are the 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s for total vector error (transmitter constellation erro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12% Vector error is required to implement a 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ase of 16QAM and r=1/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60280" y="2521080"/>
            <a:ext cx="1181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3840" y="3711600"/>
            <a:ext cx="299880" cy="40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3819600"/>
            <a:ext cx="32544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/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22320" y="3687840"/>
            <a:ext cx="735120" cy="444600"/>
            <a:chOff x="922320" y="3687840"/>
            <a:chExt cx="735120" cy="444600"/>
          </a:xfrm>
        </p:grpSpPr>
        <p:sp>
          <p:nvSpPr>
            <p:cNvPr id="50" name=""/>
            <p:cNvSpPr/>
            <p:nvPr/>
          </p:nvSpPr>
          <p:spPr>
            <a:xfrm>
              <a:off x="922320" y="3687840"/>
              <a:ext cx="7113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971640" y="3784680"/>
              <a:ext cx="685800" cy="2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pp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849320" y="3687840"/>
            <a:ext cx="459000" cy="444600"/>
            <a:chOff x="1849320" y="3687840"/>
            <a:chExt cx="459000" cy="444600"/>
          </a:xfrm>
        </p:grpSpPr>
        <p:sp>
          <p:nvSpPr>
            <p:cNvPr id="53" name=""/>
            <p:cNvSpPr/>
            <p:nvPr/>
          </p:nvSpPr>
          <p:spPr>
            <a:xfrm>
              <a:off x="1849320" y="3687840"/>
              <a:ext cx="4096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1874880" y="3795840"/>
              <a:ext cx="433440" cy="2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F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5365800" y="3795840"/>
            <a:ext cx="6253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Q-mo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3320" y="3687840"/>
            <a:ext cx="61452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390840" y="3687840"/>
            <a:ext cx="6382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75080" y="3795840"/>
            <a:ext cx="506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90840" y="3903840"/>
            <a:ext cx="6015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560680" y="4757760"/>
            <a:ext cx="2019240" cy="554040"/>
            <a:chOff x="2560680" y="4757760"/>
            <a:chExt cx="2019240" cy="554040"/>
          </a:xfrm>
        </p:grpSpPr>
        <p:grpSp>
          <p:nvGrpSpPr>
            <p:cNvPr id="61" name=""/>
            <p:cNvGrpSpPr/>
            <p:nvPr/>
          </p:nvGrpSpPr>
          <p:grpSpPr>
            <a:xfrm>
              <a:off x="2560680" y="4757760"/>
              <a:ext cx="2019240" cy="323640"/>
              <a:chOff x="2560680" y="4757760"/>
              <a:chExt cx="2019240" cy="323640"/>
            </a:xfrm>
          </p:grpSpPr>
          <p:sp>
            <p:nvSpPr>
              <p:cNvPr id="62" name=""/>
              <p:cNvSpPr/>
              <p:nvPr/>
            </p:nvSpPr>
            <p:spPr>
              <a:xfrm>
                <a:off x="2595600" y="4781520"/>
                <a:ext cx="1984320" cy="299880"/>
              </a:xfrm>
              <a:prstGeom prst="round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60680" y="4757760"/>
                <a:ext cx="1982880" cy="29988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 txBox="1"/>
            <p:nvPr/>
          </p:nvSpPr>
          <p:spPr>
            <a:xfrm>
              <a:off x="2627280" y="4805280"/>
              <a:ext cx="168120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ntizaiton 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052880" y="2328840"/>
            <a:ext cx="3260520" cy="892440"/>
            <a:chOff x="4052880" y="2328840"/>
            <a:chExt cx="3260520" cy="892440"/>
          </a:xfrm>
        </p:grpSpPr>
        <p:grpSp>
          <p:nvGrpSpPr>
            <p:cNvPr id="66" name=""/>
            <p:cNvGrpSpPr/>
            <p:nvPr/>
          </p:nvGrpSpPr>
          <p:grpSpPr>
            <a:xfrm>
              <a:off x="4052880" y="2328840"/>
              <a:ext cx="3260520" cy="755640"/>
              <a:chOff x="4052880" y="2328840"/>
              <a:chExt cx="3260520" cy="755640"/>
            </a:xfrm>
          </p:grpSpPr>
          <p:sp>
            <p:nvSpPr>
              <p:cNvPr id="67" name=""/>
              <p:cNvSpPr/>
              <p:nvPr/>
            </p:nvSpPr>
            <p:spPr>
              <a:xfrm>
                <a:off x="4084560" y="2360520"/>
                <a:ext cx="3228840" cy="723960"/>
              </a:xfrm>
              <a:prstGeom prst="round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52880" y="2328840"/>
                <a:ext cx="3225960" cy="72396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 txBox="1"/>
            <p:nvPr/>
          </p:nvSpPr>
          <p:spPr>
            <a:xfrm>
              <a:off x="4200480" y="2408400"/>
              <a:ext cx="210816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drature phase err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4200480" y="2714760"/>
              <a:ext cx="298296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drature amplitude unba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560920" y="5010120"/>
            <a:ext cx="1384560" cy="554040"/>
            <a:chOff x="5560920" y="5010120"/>
            <a:chExt cx="1384560" cy="554040"/>
          </a:xfrm>
        </p:grpSpPr>
        <p:grpSp>
          <p:nvGrpSpPr>
            <p:cNvPr id="72" name=""/>
            <p:cNvGrpSpPr/>
            <p:nvPr/>
          </p:nvGrpSpPr>
          <p:grpSpPr>
            <a:xfrm>
              <a:off x="5560920" y="5010120"/>
              <a:ext cx="1384560" cy="311040"/>
              <a:chOff x="5560920" y="5010120"/>
              <a:chExt cx="1384560" cy="311040"/>
            </a:xfrm>
          </p:grpSpPr>
          <p:sp>
            <p:nvSpPr>
              <p:cNvPr id="73" name=""/>
              <p:cNvSpPr/>
              <p:nvPr/>
            </p:nvSpPr>
            <p:spPr>
              <a:xfrm>
                <a:off x="5594400" y="5033880"/>
                <a:ext cx="1351080" cy="287280"/>
              </a:xfrm>
              <a:prstGeom prst="round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560920" y="5010120"/>
                <a:ext cx="1349280" cy="28728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 txBox="1"/>
            <p:nvPr/>
          </p:nvSpPr>
          <p:spPr>
            <a:xfrm>
              <a:off x="5692680" y="5057640"/>
              <a:ext cx="107460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ase no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196040" y="4684680"/>
            <a:ext cx="1383120" cy="743040"/>
            <a:chOff x="7196040" y="4684680"/>
            <a:chExt cx="1383120" cy="743040"/>
          </a:xfrm>
        </p:grpSpPr>
        <p:sp>
          <p:nvSpPr>
            <p:cNvPr id="77" name=""/>
            <p:cNvSpPr/>
            <p:nvPr/>
          </p:nvSpPr>
          <p:spPr>
            <a:xfrm>
              <a:off x="7216920" y="4738680"/>
              <a:ext cx="1362240" cy="68904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96040" y="4684680"/>
              <a:ext cx="1362240" cy="68904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 txBox="1"/>
          <p:nvPr/>
        </p:nvSpPr>
        <p:spPr>
          <a:xfrm>
            <a:off x="7291440" y="4745160"/>
            <a:ext cx="104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n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476440" y="3687840"/>
            <a:ext cx="675000" cy="480960"/>
            <a:chOff x="2476440" y="3687840"/>
            <a:chExt cx="675000" cy="480960"/>
          </a:xfrm>
        </p:grpSpPr>
        <p:sp>
          <p:nvSpPr>
            <p:cNvPr id="81" name=""/>
            <p:cNvSpPr txBox="1"/>
            <p:nvPr/>
          </p:nvSpPr>
          <p:spPr>
            <a:xfrm>
              <a:off x="2716200" y="3735360"/>
              <a:ext cx="301680" cy="2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I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536920" y="3916440"/>
              <a:ext cx="614520" cy="2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i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76440" y="3687840"/>
              <a:ext cx="6494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96960" y="3771720"/>
            <a:ext cx="227160" cy="278280"/>
            <a:chOff x="696960" y="3771720"/>
            <a:chExt cx="227160" cy="278280"/>
          </a:xfrm>
        </p:grpSpPr>
        <p:grpSp>
          <p:nvGrpSpPr>
            <p:cNvPr id="85" name=""/>
            <p:cNvGrpSpPr/>
            <p:nvPr/>
          </p:nvGrpSpPr>
          <p:grpSpPr>
            <a:xfrm>
              <a:off x="696960" y="3771720"/>
              <a:ext cx="227160" cy="73440"/>
              <a:chOff x="696960" y="3771720"/>
              <a:chExt cx="227160" cy="73440"/>
            </a:xfrm>
          </p:grpSpPr>
          <p:sp>
            <p:nvSpPr>
              <p:cNvPr id="86" name=""/>
              <p:cNvSpPr/>
              <p:nvPr/>
            </p:nvSpPr>
            <p:spPr>
              <a:xfrm>
                <a:off x="814320" y="3771720"/>
                <a:ext cx="109800" cy="73440"/>
              </a:xfrm>
              <a:custGeom>
                <a:avLst/>
                <a:gdLst/>
                <a:ahLst/>
                <a:rect l="0" t="0" r="r" b="b"/>
                <a:pathLst>
                  <a:path w="305" h="204">
                    <a:moveTo>
                      <a:pt x="305" y="100"/>
                    </a:moveTo>
                    <a:lnTo>
                      <a:pt x="0" y="204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305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6960" y="3807000"/>
                <a:ext cx="11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96960" y="3975120"/>
              <a:ext cx="227160" cy="74880"/>
              <a:chOff x="696960" y="3975120"/>
              <a:chExt cx="227160" cy="74880"/>
            </a:xfrm>
          </p:grpSpPr>
          <p:sp>
            <p:nvSpPr>
              <p:cNvPr id="89" name=""/>
              <p:cNvSpPr/>
              <p:nvPr/>
            </p:nvSpPr>
            <p:spPr>
              <a:xfrm>
                <a:off x="814320" y="3975120"/>
                <a:ext cx="109800" cy="74880"/>
              </a:xfrm>
              <a:custGeom>
                <a:avLst/>
                <a:gdLst/>
                <a:ahLst/>
                <a:rect l="0" t="0" r="r" b="b"/>
                <a:pathLst>
                  <a:path w="305" h="208">
                    <a:moveTo>
                      <a:pt x="305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305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6960" y="4011480"/>
                <a:ext cx="117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43040" y="3867120"/>
              <a:ext cx="47520" cy="120600"/>
              <a:chOff x="743040" y="3867120"/>
              <a:chExt cx="47520" cy="120600"/>
            </a:xfrm>
          </p:grpSpPr>
          <p:sp>
            <p:nvSpPr>
              <p:cNvPr id="92" name=""/>
              <p:cNvSpPr/>
              <p:nvPr/>
            </p:nvSpPr>
            <p:spPr>
              <a:xfrm>
                <a:off x="743040" y="386712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43040" y="3940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623960" y="3771720"/>
            <a:ext cx="227160" cy="278280"/>
            <a:chOff x="1623960" y="3771720"/>
            <a:chExt cx="227160" cy="278280"/>
          </a:xfrm>
        </p:grpSpPr>
        <p:grpSp>
          <p:nvGrpSpPr>
            <p:cNvPr id="95" name=""/>
            <p:cNvGrpSpPr/>
            <p:nvPr/>
          </p:nvGrpSpPr>
          <p:grpSpPr>
            <a:xfrm>
              <a:off x="1623960" y="3771720"/>
              <a:ext cx="227160" cy="73440"/>
              <a:chOff x="1623960" y="3771720"/>
              <a:chExt cx="227160" cy="73440"/>
            </a:xfrm>
          </p:grpSpPr>
          <p:sp>
            <p:nvSpPr>
              <p:cNvPr id="96" name=""/>
              <p:cNvSpPr/>
              <p:nvPr/>
            </p:nvSpPr>
            <p:spPr>
              <a:xfrm>
                <a:off x="1741320" y="3771720"/>
                <a:ext cx="109800" cy="73440"/>
              </a:xfrm>
              <a:custGeom>
                <a:avLst/>
                <a:gdLst/>
                <a:ahLst/>
                <a:rect l="0" t="0" r="r" b="b"/>
                <a:pathLst>
                  <a:path w="305" h="204">
                    <a:moveTo>
                      <a:pt x="305" y="100"/>
                    </a:moveTo>
                    <a:lnTo>
                      <a:pt x="0" y="204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305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623960" y="3807000"/>
                <a:ext cx="117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1623960" y="3975120"/>
              <a:ext cx="227160" cy="74880"/>
              <a:chOff x="1623960" y="3975120"/>
              <a:chExt cx="227160" cy="74880"/>
            </a:xfrm>
          </p:grpSpPr>
          <p:sp>
            <p:nvSpPr>
              <p:cNvPr id="99" name=""/>
              <p:cNvSpPr/>
              <p:nvPr/>
            </p:nvSpPr>
            <p:spPr>
              <a:xfrm>
                <a:off x="1741320" y="3975120"/>
                <a:ext cx="109800" cy="74880"/>
              </a:xfrm>
              <a:custGeom>
                <a:avLst/>
                <a:gdLst/>
                <a:ahLst/>
                <a:rect l="0" t="0" r="r" b="b"/>
                <a:pathLst>
                  <a:path w="305" h="208">
                    <a:moveTo>
                      <a:pt x="305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305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23960" y="4011480"/>
                <a:ext cx="117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1670040" y="3867120"/>
              <a:ext cx="47520" cy="120600"/>
              <a:chOff x="1670040" y="3867120"/>
              <a:chExt cx="47520" cy="120600"/>
            </a:xfrm>
          </p:grpSpPr>
          <p:sp>
            <p:nvSpPr>
              <p:cNvPr id="102" name=""/>
              <p:cNvSpPr/>
              <p:nvPr/>
            </p:nvSpPr>
            <p:spPr>
              <a:xfrm>
                <a:off x="1670040" y="386712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670040" y="3940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2251080" y="3771720"/>
            <a:ext cx="227160" cy="278280"/>
            <a:chOff x="2251080" y="3771720"/>
            <a:chExt cx="227160" cy="278280"/>
          </a:xfrm>
        </p:grpSpPr>
        <p:grpSp>
          <p:nvGrpSpPr>
            <p:cNvPr id="105" name=""/>
            <p:cNvGrpSpPr/>
            <p:nvPr/>
          </p:nvGrpSpPr>
          <p:grpSpPr>
            <a:xfrm>
              <a:off x="2251080" y="3771720"/>
              <a:ext cx="227160" cy="73440"/>
              <a:chOff x="2251080" y="3771720"/>
              <a:chExt cx="227160" cy="73440"/>
            </a:xfrm>
          </p:grpSpPr>
          <p:sp>
            <p:nvSpPr>
              <p:cNvPr id="106" name=""/>
              <p:cNvSpPr/>
              <p:nvPr/>
            </p:nvSpPr>
            <p:spPr>
              <a:xfrm>
                <a:off x="2379600" y="3771720"/>
                <a:ext cx="98640" cy="73440"/>
              </a:xfrm>
              <a:custGeom>
                <a:avLst/>
                <a:gdLst/>
                <a:ahLst/>
                <a:rect l="0" t="0" r="r" b="b"/>
                <a:pathLst>
                  <a:path w="274" h="204">
                    <a:moveTo>
                      <a:pt x="274" y="100"/>
                    </a:moveTo>
                    <a:lnTo>
                      <a:pt x="0" y="204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51080" y="3807000"/>
                <a:ext cx="1285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51080" y="3975120"/>
              <a:ext cx="227160" cy="74880"/>
              <a:chOff x="2251080" y="3975120"/>
              <a:chExt cx="227160" cy="74880"/>
            </a:xfrm>
          </p:grpSpPr>
          <p:sp>
            <p:nvSpPr>
              <p:cNvPr id="109" name=""/>
              <p:cNvSpPr/>
              <p:nvPr/>
            </p:nvSpPr>
            <p:spPr>
              <a:xfrm>
                <a:off x="2379600" y="3975120"/>
                <a:ext cx="98640" cy="74880"/>
              </a:xfrm>
              <a:custGeom>
                <a:avLst/>
                <a:gdLst/>
                <a:ahLst/>
                <a:rect l="0" t="0" r="r" b="b"/>
                <a:pathLst>
                  <a:path w="274" h="208">
                    <a:moveTo>
                      <a:pt x="274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274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51080" y="4011480"/>
                <a:ext cx="1285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308320" y="3867120"/>
              <a:ext cx="47520" cy="120600"/>
              <a:chOff x="2308320" y="3867120"/>
              <a:chExt cx="47520" cy="120600"/>
            </a:xfrm>
          </p:grpSpPr>
          <p:sp>
            <p:nvSpPr>
              <p:cNvPr id="112" name=""/>
              <p:cNvSpPr/>
              <p:nvPr/>
            </p:nvSpPr>
            <p:spPr>
              <a:xfrm>
                <a:off x="2308320" y="386712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08320" y="3940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3117960" y="3771720"/>
            <a:ext cx="227160" cy="278280"/>
            <a:chOff x="3117960" y="3771720"/>
            <a:chExt cx="227160" cy="278280"/>
          </a:xfrm>
        </p:grpSpPr>
        <p:grpSp>
          <p:nvGrpSpPr>
            <p:cNvPr id="115" name=""/>
            <p:cNvGrpSpPr/>
            <p:nvPr/>
          </p:nvGrpSpPr>
          <p:grpSpPr>
            <a:xfrm>
              <a:off x="3117960" y="3771720"/>
              <a:ext cx="227160" cy="73440"/>
              <a:chOff x="3117960" y="3771720"/>
              <a:chExt cx="227160" cy="73440"/>
            </a:xfrm>
          </p:grpSpPr>
          <p:sp>
            <p:nvSpPr>
              <p:cNvPr id="116" name=""/>
              <p:cNvSpPr/>
              <p:nvPr/>
            </p:nvSpPr>
            <p:spPr>
              <a:xfrm>
                <a:off x="3246480" y="3771720"/>
                <a:ext cx="98640" cy="73440"/>
              </a:xfrm>
              <a:custGeom>
                <a:avLst/>
                <a:gdLst/>
                <a:ahLst/>
                <a:rect l="0" t="0" r="r" b="b"/>
                <a:pathLst>
                  <a:path w="274" h="204">
                    <a:moveTo>
                      <a:pt x="274" y="100"/>
                    </a:moveTo>
                    <a:lnTo>
                      <a:pt x="0" y="204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7960" y="3807000"/>
                <a:ext cx="1285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117960" y="3975120"/>
              <a:ext cx="227160" cy="74880"/>
              <a:chOff x="3117960" y="3975120"/>
              <a:chExt cx="227160" cy="74880"/>
            </a:xfrm>
          </p:grpSpPr>
          <p:sp>
            <p:nvSpPr>
              <p:cNvPr id="119" name=""/>
              <p:cNvSpPr/>
              <p:nvPr/>
            </p:nvSpPr>
            <p:spPr>
              <a:xfrm>
                <a:off x="3246480" y="3975120"/>
                <a:ext cx="98640" cy="74880"/>
              </a:xfrm>
              <a:custGeom>
                <a:avLst/>
                <a:gdLst/>
                <a:ahLst/>
                <a:rect l="0" t="0" r="r" b="b"/>
                <a:pathLst>
                  <a:path w="274" h="208">
                    <a:moveTo>
                      <a:pt x="274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274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7960" y="4011480"/>
                <a:ext cx="1285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174840" y="3867120"/>
              <a:ext cx="47520" cy="120600"/>
              <a:chOff x="3174840" y="3867120"/>
              <a:chExt cx="47520" cy="120600"/>
            </a:xfrm>
          </p:grpSpPr>
          <p:sp>
            <p:nvSpPr>
              <p:cNvPr id="122" name=""/>
              <p:cNvSpPr/>
              <p:nvPr/>
            </p:nvSpPr>
            <p:spPr>
              <a:xfrm>
                <a:off x="3174840" y="386712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74840" y="3940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3948120" y="3771720"/>
            <a:ext cx="227160" cy="278280"/>
            <a:chOff x="3948120" y="3771720"/>
            <a:chExt cx="227160" cy="278280"/>
          </a:xfrm>
        </p:grpSpPr>
        <p:grpSp>
          <p:nvGrpSpPr>
            <p:cNvPr id="125" name=""/>
            <p:cNvGrpSpPr/>
            <p:nvPr/>
          </p:nvGrpSpPr>
          <p:grpSpPr>
            <a:xfrm>
              <a:off x="3948120" y="3771720"/>
              <a:ext cx="227160" cy="73440"/>
              <a:chOff x="3948120" y="3771720"/>
              <a:chExt cx="227160" cy="73440"/>
            </a:xfrm>
          </p:grpSpPr>
          <p:sp>
            <p:nvSpPr>
              <p:cNvPr id="126" name=""/>
              <p:cNvSpPr/>
              <p:nvPr/>
            </p:nvSpPr>
            <p:spPr>
              <a:xfrm>
                <a:off x="4076640" y="3771720"/>
                <a:ext cx="98640" cy="73440"/>
              </a:xfrm>
              <a:custGeom>
                <a:avLst/>
                <a:gdLst/>
                <a:ahLst/>
                <a:rect l="0" t="0" r="r" b="b"/>
                <a:pathLst>
                  <a:path w="274" h="204">
                    <a:moveTo>
                      <a:pt x="274" y="100"/>
                    </a:moveTo>
                    <a:lnTo>
                      <a:pt x="0" y="204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48120" y="3807000"/>
                <a:ext cx="1285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948120" y="3975120"/>
              <a:ext cx="227160" cy="74880"/>
              <a:chOff x="3948120" y="3975120"/>
              <a:chExt cx="227160" cy="74880"/>
            </a:xfrm>
          </p:grpSpPr>
          <p:sp>
            <p:nvSpPr>
              <p:cNvPr id="129" name=""/>
              <p:cNvSpPr/>
              <p:nvPr/>
            </p:nvSpPr>
            <p:spPr>
              <a:xfrm>
                <a:off x="4076640" y="3975120"/>
                <a:ext cx="98640" cy="74880"/>
              </a:xfrm>
              <a:custGeom>
                <a:avLst/>
                <a:gdLst/>
                <a:ahLst/>
                <a:rect l="0" t="0" r="r" b="b"/>
                <a:pathLst>
                  <a:path w="274" h="208">
                    <a:moveTo>
                      <a:pt x="274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274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48120" y="4011480"/>
                <a:ext cx="1285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4186080" y="3687840"/>
            <a:ext cx="410040" cy="252360"/>
            <a:chOff x="4186080" y="3687840"/>
            <a:chExt cx="410040" cy="252360"/>
          </a:xfrm>
        </p:grpSpPr>
        <p:sp>
          <p:nvSpPr>
            <p:cNvPr id="132" name=""/>
            <p:cNvSpPr txBox="1"/>
            <p:nvPr/>
          </p:nvSpPr>
          <p:spPr>
            <a:xfrm>
              <a:off x="4210200" y="3687840"/>
              <a:ext cx="385920" cy="2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/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86080" y="3699000"/>
              <a:ext cx="33660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186080" y="3916440"/>
            <a:ext cx="410040" cy="252360"/>
            <a:chOff x="4186080" y="3916440"/>
            <a:chExt cx="410040" cy="252360"/>
          </a:xfrm>
        </p:grpSpPr>
        <p:sp>
          <p:nvSpPr>
            <p:cNvPr id="135" name=""/>
            <p:cNvSpPr txBox="1"/>
            <p:nvPr/>
          </p:nvSpPr>
          <p:spPr>
            <a:xfrm>
              <a:off x="4210200" y="3916440"/>
              <a:ext cx="385920" cy="2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/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86080" y="3927600"/>
              <a:ext cx="33660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 txBox="1"/>
          <p:nvPr/>
        </p:nvSpPr>
        <p:spPr>
          <a:xfrm>
            <a:off x="4775040" y="3687840"/>
            <a:ext cx="385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0120" y="3699000"/>
            <a:ext cx="372960" cy="192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775040" y="3916440"/>
            <a:ext cx="3859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40120" y="3927600"/>
            <a:ext cx="372960" cy="192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13320" y="3771720"/>
            <a:ext cx="228600" cy="278280"/>
            <a:chOff x="4513320" y="3771720"/>
            <a:chExt cx="228600" cy="278280"/>
          </a:xfrm>
        </p:grpSpPr>
        <p:grpSp>
          <p:nvGrpSpPr>
            <p:cNvPr id="142" name=""/>
            <p:cNvGrpSpPr/>
            <p:nvPr/>
          </p:nvGrpSpPr>
          <p:grpSpPr>
            <a:xfrm>
              <a:off x="4513320" y="3771720"/>
              <a:ext cx="228600" cy="73440"/>
              <a:chOff x="4513320" y="3771720"/>
              <a:chExt cx="228600" cy="73440"/>
            </a:xfrm>
          </p:grpSpPr>
          <p:sp>
            <p:nvSpPr>
              <p:cNvPr id="143" name=""/>
              <p:cNvSpPr/>
              <p:nvPr/>
            </p:nvSpPr>
            <p:spPr>
              <a:xfrm>
                <a:off x="4643280" y="3771720"/>
                <a:ext cx="98640" cy="73440"/>
              </a:xfrm>
              <a:custGeom>
                <a:avLst/>
                <a:gdLst/>
                <a:ahLst/>
                <a:rect l="0" t="0" r="r" b="b"/>
                <a:pathLst>
                  <a:path w="274" h="204">
                    <a:moveTo>
                      <a:pt x="274" y="100"/>
                    </a:moveTo>
                    <a:lnTo>
                      <a:pt x="0" y="204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13320" y="3807000"/>
                <a:ext cx="12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513320" y="3975120"/>
              <a:ext cx="228600" cy="74880"/>
              <a:chOff x="4513320" y="3975120"/>
              <a:chExt cx="228600" cy="74880"/>
            </a:xfrm>
          </p:grpSpPr>
          <p:sp>
            <p:nvSpPr>
              <p:cNvPr id="146" name=""/>
              <p:cNvSpPr/>
              <p:nvPr/>
            </p:nvSpPr>
            <p:spPr>
              <a:xfrm>
                <a:off x="4643280" y="3975120"/>
                <a:ext cx="98640" cy="74880"/>
              </a:xfrm>
              <a:custGeom>
                <a:avLst/>
                <a:gdLst/>
                <a:ahLst/>
                <a:rect l="0" t="0" r="r" b="b"/>
                <a:pathLst>
                  <a:path w="274" h="208">
                    <a:moveTo>
                      <a:pt x="274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274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13320" y="4011480"/>
                <a:ext cx="12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5103720" y="3771720"/>
            <a:ext cx="227520" cy="278280"/>
            <a:chOff x="5103720" y="3771720"/>
            <a:chExt cx="227520" cy="278280"/>
          </a:xfrm>
        </p:grpSpPr>
        <p:grpSp>
          <p:nvGrpSpPr>
            <p:cNvPr id="149" name=""/>
            <p:cNvGrpSpPr/>
            <p:nvPr/>
          </p:nvGrpSpPr>
          <p:grpSpPr>
            <a:xfrm>
              <a:off x="5103720" y="3771720"/>
              <a:ext cx="227520" cy="73440"/>
              <a:chOff x="5103720" y="3771720"/>
              <a:chExt cx="227520" cy="73440"/>
            </a:xfrm>
          </p:grpSpPr>
          <p:sp>
            <p:nvSpPr>
              <p:cNvPr id="150" name=""/>
              <p:cNvSpPr/>
              <p:nvPr/>
            </p:nvSpPr>
            <p:spPr>
              <a:xfrm>
                <a:off x="5234040" y="3771720"/>
                <a:ext cx="97200" cy="73440"/>
              </a:xfrm>
              <a:custGeom>
                <a:avLst/>
                <a:gdLst/>
                <a:ahLst/>
                <a:rect l="0" t="0" r="r" b="b"/>
                <a:pathLst>
                  <a:path w="270" h="204">
                    <a:moveTo>
                      <a:pt x="270" y="100"/>
                    </a:moveTo>
                    <a:lnTo>
                      <a:pt x="0" y="204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27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3720" y="3807000"/>
                <a:ext cx="130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103720" y="3975120"/>
              <a:ext cx="227520" cy="74880"/>
              <a:chOff x="5103720" y="3975120"/>
              <a:chExt cx="227520" cy="74880"/>
            </a:xfrm>
          </p:grpSpPr>
          <p:sp>
            <p:nvSpPr>
              <p:cNvPr id="153" name=""/>
              <p:cNvSpPr/>
              <p:nvPr/>
            </p:nvSpPr>
            <p:spPr>
              <a:xfrm>
                <a:off x="5234040" y="3975120"/>
                <a:ext cx="97200" cy="74880"/>
              </a:xfrm>
              <a:custGeom>
                <a:avLst/>
                <a:gdLst/>
                <a:ahLst/>
                <a:rect l="0" t="0" r="r" b="b"/>
                <a:pathLst>
                  <a:path w="270" h="208">
                    <a:moveTo>
                      <a:pt x="270" y="103"/>
                    </a:moveTo>
                    <a:lnTo>
                      <a:pt x="0" y="208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27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03720" y="4011480"/>
                <a:ext cx="130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5329080" y="3687840"/>
            <a:ext cx="614520" cy="444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425920" y="4324320"/>
            <a:ext cx="457560" cy="252360"/>
            <a:chOff x="5425920" y="4324320"/>
            <a:chExt cx="457560" cy="252360"/>
          </a:xfrm>
        </p:grpSpPr>
        <p:sp>
          <p:nvSpPr>
            <p:cNvPr id="157" name=""/>
            <p:cNvSpPr txBox="1"/>
            <p:nvPr/>
          </p:nvSpPr>
          <p:spPr>
            <a:xfrm>
              <a:off x="5462640" y="4324320"/>
              <a:ext cx="420840" cy="2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S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25920" y="4335480"/>
              <a:ext cx="396720" cy="1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581800" y="4119480"/>
            <a:ext cx="87840" cy="227160"/>
            <a:chOff x="5581800" y="4119480"/>
            <a:chExt cx="87840" cy="227160"/>
          </a:xfrm>
        </p:grpSpPr>
        <p:sp>
          <p:nvSpPr>
            <p:cNvPr id="160" name=""/>
            <p:cNvSpPr/>
            <p:nvPr/>
          </p:nvSpPr>
          <p:spPr>
            <a:xfrm>
              <a:off x="5581800" y="4119480"/>
              <a:ext cx="87840" cy="98640"/>
            </a:xfrm>
            <a:custGeom>
              <a:avLst/>
              <a:gdLst/>
              <a:ahLst/>
              <a:rect l="0" t="0" r="r" b="b"/>
              <a:pathLst>
                <a:path w="244" h="274">
                  <a:moveTo>
                    <a:pt x="104" y="0"/>
                  </a:moveTo>
                  <a:lnTo>
                    <a:pt x="244" y="274"/>
                  </a:lnTo>
                  <a:lnTo>
                    <a:pt x="104" y="274"/>
                  </a:lnTo>
                  <a:lnTo>
                    <a:pt x="0" y="27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618160" y="4218120"/>
              <a:ext cx="0" cy="128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653160" y="4324320"/>
            <a:ext cx="446400" cy="252360"/>
            <a:chOff x="6653160" y="4324320"/>
            <a:chExt cx="446400" cy="252360"/>
          </a:xfrm>
        </p:grpSpPr>
        <p:sp>
          <p:nvSpPr>
            <p:cNvPr id="163" name=""/>
            <p:cNvSpPr txBox="1"/>
            <p:nvPr/>
          </p:nvSpPr>
          <p:spPr>
            <a:xfrm>
              <a:off x="6678720" y="4324320"/>
              <a:ext cx="420840" cy="2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S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53160" y="4335480"/>
              <a:ext cx="398520" cy="1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810480" y="3987720"/>
            <a:ext cx="74880" cy="358920"/>
            <a:chOff x="6810480" y="3987720"/>
            <a:chExt cx="74880" cy="358920"/>
          </a:xfrm>
        </p:grpSpPr>
        <p:sp>
          <p:nvSpPr>
            <p:cNvPr id="166" name=""/>
            <p:cNvSpPr/>
            <p:nvPr/>
          </p:nvSpPr>
          <p:spPr>
            <a:xfrm>
              <a:off x="6810480" y="3987720"/>
              <a:ext cx="74880" cy="97200"/>
            </a:xfrm>
            <a:custGeom>
              <a:avLst/>
              <a:gdLst/>
              <a:ahLst/>
              <a:rect l="0" t="0" r="r" b="b"/>
              <a:pathLst>
                <a:path w="208" h="270">
                  <a:moveTo>
                    <a:pt x="103" y="0"/>
                  </a:moveTo>
                  <a:lnTo>
                    <a:pt x="208" y="270"/>
                  </a:lnTo>
                  <a:lnTo>
                    <a:pt x="103" y="270"/>
                  </a:lnTo>
                  <a:lnTo>
                    <a:pt x="0" y="27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846840" y="4084560"/>
              <a:ext cx="0" cy="262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159600" y="3795840"/>
            <a:ext cx="433080" cy="252360"/>
            <a:chOff x="6159600" y="3795840"/>
            <a:chExt cx="433080" cy="252360"/>
          </a:xfrm>
        </p:grpSpPr>
        <p:sp>
          <p:nvSpPr>
            <p:cNvPr id="169" name=""/>
            <p:cNvSpPr txBox="1"/>
            <p:nvPr/>
          </p:nvSpPr>
          <p:spPr>
            <a:xfrm>
              <a:off x="6195960" y="3795840"/>
              <a:ext cx="396720" cy="2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P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9600" y="3807000"/>
              <a:ext cx="37476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934240" y="3867120"/>
            <a:ext cx="227160" cy="74880"/>
            <a:chOff x="5934240" y="3867120"/>
            <a:chExt cx="227160" cy="74880"/>
          </a:xfrm>
        </p:grpSpPr>
        <p:sp>
          <p:nvSpPr>
            <p:cNvPr id="172" name=""/>
            <p:cNvSpPr/>
            <p:nvPr/>
          </p:nvSpPr>
          <p:spPr>
            <a:xfrm>
              <a:off x="6064200" y="3867120"/>
              <a:ext cx="97200" cy="74880"/>
            </a:xfrm>
            <a:custGeom>
              <a:avLst/>
              <a:gdLst/>
              <a:ahLst/>
              <a:rect l="0" t="0" r="r" b="b"/>
              <a:pathLst>
                <a:path w="270" h="208">
                  <a:moveTo>
                    <a:pt x="270" y="103"/>
                  </a:moveTo>
                  <a:lnTo>
                    <a:pt x="0" y="208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27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34240" y="3903840"/>
              <a:ext cx="1299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788160" y="3844800"/>
            <a:ext cx="104760" cy="117720"/>
            <a:chOff x="6788160" y="3844800"/>
            <a:chExt cx="104760" cy="117720"/>
          </a:xfrm>
        </p:grpSpPr>
        <p:sp>
          <p:nvSpPr>
            <p:cNvPr id="175" name=""/>
            <p:cNvSpPr/>
            <p:nvPr/>
          </p:nvSpPr>
          <p:spPr>
            <a:xfrm flipV="1">
              <a:off x="6788160" y="3844800"/>
              <a:ext cx="104760" cy="117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6788160" y="3844800"/>
              <a:ext cx="104760" cy="117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24640" y="3867120"/>
            <a:ext cx="227160" cy="74880"/>
            <a:chOff x="6524640" y="3867120"/>
            <a:chExt cx="227160" cy="74880"/>
          </a:xfrm>
        </p:grpSpPr>
        <p:sp>
          <p:nvSpPr>
            <p:cNvPr id="178" name=""/>
            <p:cNvSpPr/>
            <p:nvPr/>
          </p:nvSpPr>
          <p:spPr>
            <a:xfrm>
              <a:off x="6653160" y="3867120"/>
              <a:ext cx="98640" cy="74880"/>
            </a:xfrm>
            <a:custGeom>
              <a:avLst/>
              <a:gdLst/>
              <a:ahLst/>
              <a:rect l="0" t="0" r="r" b="b"/>
              <a:pathLst>
                <a:path w="274" h="208">
                  <a:moveTo>
                    <a:pt x="274" y="103"/>
                  </a:moveTo>
                  <a:lnTo>
                    <a:pt x="0" y="208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27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24640" y="3903840"/>
              <a:ext cx="128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921360" y="3867120"/>
            <a:ext cx="227520" cy="74880"/>
            <a:chOff x="6921360" y="3867120"/>
            <a:chExt cx="227520" cy="74880"/>
          </a:xfrm>
        </p:grpSpPr>
        <p:sp>
          <p:nvSpPr>
            <p:cNvPr id="181" name=""/>
            <p:cNvSpPr/>
            <p:nvPr/>
          </p:nvSpPr>
          <p:spPr>
            <a:xfrm>
              <a:off x="7051680" y="3867120"/>
              <a:ext cx="97200" cy="74880"/>
            </a:xfrm>
            <a:custGeom>
              <a:avLst/>
              <a:gdLst/>
              <a:ahLst/>
              <a:rect l="0" t="0" r="r" b="b"/>
              <a:pathLst>
                <a:path w="270" h="208">
                  <a:moveTo>
                    <a:pt x="270" y="103"/>
                  </a:moveTo>
                  <a:lnTo>
                    <a:pt x="0" y="208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27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21360" y="3903840"/>
              <a:ext cx="130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147080" y="3795840"/>
            <a:ext cx="433080" cy="252360"/>
            <a:chOff x="7147080" y="3795840"/>
            <a:chExt cx="433080" cy="252360"/>
          </a:xfrm>
        </p:grpSpPr>
        <p:sp>
          <p:nvSpPr>
            <p:cNvPr id="184" name=""/>
            <p:cNvSpPr txBox="1"/>
            <p:nvPr/>
          </p:nvSpPr>
          <p:spPr>
            <a:xfrm>
              <a:off x="7183440" y="3795840"/>
              <a:ext cx="396720" cy="2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P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47080" y="3807000"/>
              <a:ext cx="37296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512120" y="3867120"/>
            <a:ext cx="227160" cy="74880"/>
            <a:chOff x="7512120" y="3867120"/>
            <a:chExt cx="227160" cy="74880"/>
          </a:xfrm>
        </p:grpSpPr>
        <p:sp>
          <p:nvSpPr>
            <p:cNvPr id="187" name=""/>
            <p:cNvSpPr/>
            <p:nvPr/>
          </p:nvSpPr>
          <p:spPr>
            <a:xfrm>
              <a:off x="7640640" y="3867120"/>
              <a:ext cx="98640" cy="74880"/>
            </a:xfrm>
            <a:custGeom>
              <a:avLst/>
              <a:gdLst/>
              <a:ahLst/>
              <a:rect l="0" t="0" r="r" b="b"/>
              <a:pathLst>
                <a:path w="274" h="208">
                  <a:moveTo>
                    <a:pt x="274" y="103"/>
                  </a:moveTo>
                  <a:lnTo>
                    <a:pt x="0" y="208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27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12120" y="3903840"/>
              <a:ext cx="128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 txBox="1"/>
          <p:nvPr/>
        </p:nvSpPr>
        <p:spPr>
          <a:xfrm>
            <a:off x="7773840" y="3795840"/>
            <a:ext cx="44604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37480" y="3735360"/>
            <a:ext cx="38592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113680" y="3867120"/>
            <a:ext cx="227520" cy="74880"/>
            <a:chOff x="8113680" y="3867120"/>
            <a:chExt cx="227520" cy="74880"/>
          </a:xfrm>
        </p:grpSpPr>
        <p:sp>
          <p:nvSpPr>
            <p:cNvPr id="192" name=""/>
            <p:cNvSpPr/>
            <p:nvPr/>
          </p:nvSpPr>
          <p:spPr>
            <a:xfrm>
              <a:off x="8244000" y="3867120"/>
              <a:ext cx="97200" cy="74880"/>
            </a:xfrm>
            <a:custGeom>
              <a:avLst/>
              <a:gdLst/>
              <a:ahLst/>
              <a:rect l="0" t="0" r="r" b="b"/>
              <a:pathLst>
                <a:path w="270" h="208">
                  <a:moveTo>
                    <a:pt x="270" y="103"/>
                  </a:moveTo>
                  <a:lnTo>
                    <a:pt x="0" y="208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27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13680" y="3903840"/>
              <a:ext cx="130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8339040" y="3795840"/>
            <a:ext cx="433440" cy="252360"/>
            <a:chOff x="8339040" y="3795840"/>
            <a:chExt cx="433440" cy="252360"/>
          </a:xfrm>
        </p:grpSpPr>
        <p:sp>
          <p:nvSpPr>
            <p:cNvPr id="195" name=""/>
            <p:cNvSpPr txBox="1"/>
            <p:nvPr/>
          </p:nvSpPr>
          <p:spPr>
            <a:xfrm>
              <a:off x="8375760" y="3795840"/>
              <a:ext cx="396720" cy="2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P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39040" y="3807000"/>
              <a:ext cx="37296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704440" y="3903840"/>
            <a:ext cx="12852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832960" y="3438360"/>
            <a:ext cx="1440" cy="465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8737560" y="3436920"/>
            <a:ext cx="9360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8834400" y="3436920"/>
            <a:ext cx="9360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739360" y="3435480"/>
            <a:ext cx="1904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55520" y="3867120"/>
            <a:ext cx="227160" cy="74880"/>
            <a:chOff x="155520" y="3867120"/>
            <a:chExt cx="227160" cy="74880"/>
          </a:xfrm>
        </p:grpSpPr>
        <p:sp>
          <p:nvSpPr>
            <p:cNvPr id="203" name=""/>
            <p:cNvSpPr/>
            <p:nvPr/>
          </p:nvSpPr>
          <p:spPr>
            <a:xfrm>
              <a:off x="284040" y="3867120"/>
              <a:ext cx="98640" cy="74880"/>
            </a:xfrm>
            <a:custGeom>
              <a:avLst/>
              <a:gdLst/>
              <a:ahLst/>
              <a:rect l="0" t="0" r="r" b="b"/>
              <a:pathLst>
                <a:path w="274" h="208">
                  <a:moveTo>
                    <a:pt x="274" y="103"/>
                  </a:moveTo>
                  <a:lnTo>
                    <a:pt x="0" y="208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27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5520" y="3903840"/>
              <a:ext cx="128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208480" y="3133800"/>
            <a:ext cx="424440" cy="506880"/>
            <a:chOff x="5208480" y="3133800"/>
            <a:chExt cx="424440" cy="506880"/>
          </a:xfrm>
        </p:grpSpPr>
        <p:sp>
          <p:nvSpPr>
            <p:cNvPr id="206" name=""/>
            <p:cNvSpPr/>
            <p:nvPr/>
          </p:nvSpPr>
          <p:spPr>
            <a:xfrm>
              <a:off x="5208480" y="3133800"/>
              <a:ext cx="219600" cy="186120"/>
            </a:xfrm>
            <a:custGeom>
              <a:avLst/>
              <a:gdLst/>
              <a:ahLst/>
              <a:rect l="0" t="0" r="r" b="b"/>
              <a:pathLst>
                <a:path w="610" h="517">
                  <a:moveTo>
                    <a:pt x="0" y="0"/>
                  </a:moveTo>
                  <a:lnTo>
                    <a:pt x="610" y="330"/>
                  </a:lnTo>
                  <a:lnTo>
                    <a:pt x="236" y="285"/>
                  </a:lnTo>
                  <a:lnTo>
                    <a:pt x="102" y="51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tile tx="0" ty="0" sx="3525000" sy="3525000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81560" y="3225960"/>
              <a:ext cx="351360" cy="414720"/>
            </a:xfrm>
            <a:custGeom>
              <a:avLst/>
              <a:gdLst/>
              <a:ahLst/>
              <a:rect l="0" t="0" r="r" b="b"/>
              <a:pathLst>
                <a:path w="976" h="1152">
                  <a:moveTo>
                    <a:pt x="0" y="0"/>
                  </a:moveTo>
                  <a:lnTo>
                    <a:pt x="101" y="0"/>
                  </a:lnTo>
                  <a:lnTo>
                    <a:pt x="976" y="1086"/>
                  </a:lnTo>
                  <a:lnTo>
                    <a:pt x="976" y="1152"/>
                  </a:lnTo>
                  <a:lnTo>
                    <a:pt x="874" y="1152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tile tx="0" ty="0" sx="3525000" sy="3525000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077920" y="4156200"/>
            <a:ext cx="773640" cy="530280"/>
            <a:chOff x="2077920" y="4156200"/>
            <a:chExt cx="773640" cy="530280"/>
          </a:xfrm>
        </p:grpSpPr>
        <p:sp>
          <p:nvSpPr>
            <p:cNvPr id="209" name=""/>
            <p:cNvSpPr/>
            <p:nvPr/>
          </p:nvSpPr>
          <p:spPr>
            <a:xfrm>
              <a:off x="2584440" y="4456080"/>
              <a:ext cx="267120" cy="230400"/>
            </a:xfrm>
            <a:custGeom>
              <a:avLst/>
              <a:gdLst/>
              <a:ahLst/>
              <a:rect l="0" t="0" r="r" b="b"/>
              <a:pathLst>
                <a:path w="742" h="640">
                  <a:moveTo>
                    <a:pt x="742" y="640"/>
                  </a:moveTo>
                  <a:lnTo>
                    <a:pt x="0" y="507"/>
                  </a:lnTo>
                  <a:lnTo>
                    <a:pt x="369" y="369"/>
                  </a:lnTo>
                  <a:lnTo>
                    <a:pt x="338" y="0"/>
                  </a:lnTo>
                  <a:lnTo>
                    <a:pt x="742" y="640"/>
                  </a:lnTo>
                  <a:close/>
                </a:path>
              </a:pathLst>
            </a:custGeom>
            <a:blipFill rotWithShape="0">
              <a:blip r:embed="rId3"/>
              <a:tile tx="0" ty="0" sx="3525000" sy="3525000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77920" y="4156200"/>
              <a:ext cx="665640" cy="459000"/>
            </a:xfrm>
            <a:custGeom>
              <a:avLst/>
              <a:gdLst/>
              <a:ahLst/>
              <a:rect l="0" t="0" r="r" b="b"/>
              <a:pathLst>
                <a:path w="1849" h="1275">
                  <a:moveTo>
                    <a:pt x="0" y="0"/>
                  </a:moveTo>
                  <a:lnTo>
                    <a:pt x="101" y="0"/>
                  </a:lnTo>
                  <a:lnTo>
                    <a:pt x="1849" y="1173"/>
                  </a:lnTo>
                  <a:lnTo>
                    <a:pt x="1849" y="1275"/>
                  </a:lnTo>
                  <a:lnTo>
                    <a:pt x="1748" y="1275"/>
                  </a:lnTo>
                  <a:lnTo>
                    <a:pt x="0" y="10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tile tx="0" ty="0" sx="3525000" sy="3525000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56160" y="4156200"/>
            <a:ext cx="676440" cy="530280"/>
            <a:chOff x="3656160" y="4156200"/>
            <a:chExt cx="676440" cy="530280"/>
          </a:xfrm>
        </p:grpSpPr>
        <p:sp>
          <p:nvSpPr>
            <p:cNvPr id="212" name=""/>
            <p:cNvSpPr/>
            <p:nvPr/>
          </p:nvSpPr>
          <p:spPr>
            <a:xfrm>
              <a:off x="3656160" y="4444920"/>
              <a:ext cx="267120" cy="241560"/>
            </a:xfrm>
            <a:custGeom>
              <a:avLst/>
              <a:gdLst/>
              <a:ahLst/>
              <a:rect l="0" t="0" r="r" b="b"/>
              <a:pathLst>
                <a:path w="742" h="671">
                  <a:moveTo>
                    <a:pt x="0" y="671"/>
                  </a:moveTo>
                  <a:lnTo>
                    <a:pt x="369" y="0"/>
                  </a:lnTo>
                  <a:lnTo>
                    <a:pt x="369" y="369"/>
                  </a:lnTo>
                  <a:lnTo>
                    <a:pt x="742" y="471"/>
                  </a:lnTo>
                  <a:lnTo>
                    <a:pt x="0" y="671"/>
                  </a:lnTo>
                  <a:close/>
                </a:path>
              </a:pathLst>
            </a:custGeom>
            <a:blipFill rotWithShape="0">
              <a:blip r:embed="rId5"/>
              <a:tile tx="0" ty="0" sx="3525000" sy="3525000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6760" y="4156200"/>
              <a:ext cx="555840" cy="446400"/>
            </a:xfrm>
            <a:custGeom>
              <a:avLst/>
              <a:gdLst/>
              <a:ahLst/>
              <a:rect l="0" t="0" r="r" b="b"/>
              <a:pathLst>
                <a:path w="1544" h="1240">
                  <a:moveTo>
                    <a:pt x="0" y="1138"/>
                  </a:moveTo>
                  <a:lnTo>
                    <a:pt x="1442" y="0"/>
                  </a:lnTo>
                  <a:lnTo>
                    <a:pt x="1544" y="0"/>
                  </a:lnTo>
                  <a:lnTo>
                    <a:pt x="1544" y="101"/>
                  </a:lnTo>
                  <a:lnTo>
                    <a:pt x="101" y="1240"/>
                  </a:lnTo>
                  <a:lnTo>
                    <a:pt x="0" y="1240"/>
                  </a:lnTo>
                  <a:lnTo>
                    <a:pt x="0" y="1138"/>
                  </a:lnTo>
                  <a:close/>
                </a:path>
              </a:pathLst>
            </a:custGeom>
            <a:blipFill rotWithShape="0">
              <a:blip r:embed="rId6"/>
              <a:tile tx="0" ty="0" sx="3525000" sy="3525000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607000" y="4552920"/>
            <a:ext cx="302040" cy="409680"/>
            <a:chOff x="5607000" y="4552920"/>
            <a:chExt cx="302040" cy="409680"/>
          </a:xfrm>
        </p:grpSpPr>
        <p:sp>
          <p:nvSpPr>
            <p:cNvPr id="215" name=""/>
            <p:cNvSpPr/>
            <p:nvPr/>
          </p:nvSpPr>
          <p:spPr>
            <a:xfrm>
              <a:off x="5678640" y="4697280"/>
              <a:ext cx="230400" cy="265320"/>
            </a:xfrm>
            <a:custGeom>
              <a:avLst/>
              <a:gdLst/>
              <a:ahLst/>
              <a:rect l="0" t="0" r="r" b="b"/>
              <a:pathLst>
                <a:path w="640" h="737">
                  <a:moveTo>
                    <a:pt x="640" y="737"/>
                  </a:moveTo>
                  <a:lnTo>
                    <a:pt x="0" y="332"/>
                  </a:lnTo>
                  <a:lnTo>
                    <a:pt x="373" y="369"/>
                  </a:lnTo>
                  <a:lnTo>
                    <a:pt x="471" y="0"/>
                  </a:lnTo>
                  <a:lnTo>
                    <a:pt x="640" y="737"/>
                  </a:lnTo>
                  <a:close/>
                </a:path>
              </a:pathLst>
            </a:custGeom>
            <a:blipFill rotWithShape="0">
              <a:blip r:embed="rId7"/>
              <a:tile tx="0" ty="0" sx="3525000" sy="3525000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07000" y="4552920"/>
              <a:ext cx="230400" cy="302040"/>
            </a:xfrm>
            <a:custGeom>
              <a:avLst/>
              <a:gdLst/>
              <a:ahLst/>
              <a:rect l="0" t="0" r="r" b="b"/>
              <a:pathLst>
                <a:path w="640" h="839">
                  <a:moveTo>
                    <a:pt x="0" y="0"/>
                  </a:moveTo>
                  <a:lnTo>
                    <a:pt x="97" y="0"/>
                  </a:lnTo>
                  <a:lnTo>
                    <a:pt x="640" y="737"/>
                  </a:lnTo>
                  <a:lnTo>
                    <a:pt x="640" y="839"/>
                  </a:lnTo>
                  <a:lnTo>
                    <a:pt x="538" y="839"/>
                  </a:lnTo>
                  <a:lnTo>
                    <a:pt x="0" y="9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tile tx="0" ty="0" sx="3525000" sy="3525000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545160" y="4552920"/>
            <a:ext cx="303840" cy="409680"/>
            <a:chOff x="6545160" y="4552920"/>
            <a:chExt cx="303840" cy="409680"/>
          </a:xfrm>
        </p:grpSpPr>
        <p:sp>
          <p:nvSpPr>
            <p:cNvPr id="218" name=""/>
            <p:cNvSpPr/>
            <p:nvPr/>
          </p:nvSpPr>
          <p:spPr>
            <a:xfrm>
              <a:off x="6545160" y="4697280"/>
              <a:ext cx="230400" cy="265320"/>
            </a:xfrm>
            <a:custGeom>
              <a:avLst/>
              <a:gdLst/>
              <a:ahLst/>
              <a:rect l="0" t="0" r="r" b="b"/>
              <a:pathLst>
                <a:path w="640" h="737">
                  <a:moveTo>
                    <a:pt x="0" y="737"/>
                  </a:moveTo>
                  <a:lnTo>
                    <a:pt x="168" y="0"/>
                  </a:lnTo>
                  <a:lnTo>
                    <a:pt x="270" y="369"/>
                  </a:lnTo>
                  <a:lnTo>
                    <a:pt x="640" y="332"/>
                  </a:lnTo>
                  <a:lnTo>
                    <a:pt x="0" y="737"/>
                  </a:lnTo>
                  <a:close/>
                </a:path>
              </a:pathLst>
            </a:custGeom>
            <a:blipFill rotWithShape="0">
              <a:blip r:embed="rId9"/>
              <a:tile tx="0" ty="0" sx="3525000" sy="3525000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29400" y="4552920"/>
              <a:ext cx="219600" cy="302040"/>
            </a:xfrm>
            <a:custGeom>
              <a:avLst/>
              <a:gdLst/>
              <a:ahLst/>
              <a:rect l="0" t="0" r="r" b="b"/>
              <a:pathLst>
                <a:path w="610" h="839">
                  <a:moveTo>
                    <a:pt x="0" y="737"/>
                  </a:moveTo>
                  <a:lnTo>
                    <a:pt x="508" y="0"/>
                  </a:lnTo>
                  <a:lnTo>
                    <a:pt x="610" y="0"/>
                  </a:lnTo>
                  <a:lnTo>
                    <a:pt x="610" y="97"/>
                  </a:lnTo>
                  <a:lnTo>
                    <a:pt x="102" y="839"/>
                  </a:lnTo>
                  <a:lnTo>
                    <a:pt x="0" y="839"/>
                  </a:lnTo>
                  <a:lnTo>
                    <a:pt x="0" y="737"/>
                  </a:lnTo>
                  <a:close/>
                </a:path>
              </a:pathLst>
            </a:custGeom>
            <a:blipFill rotWithShape="0">
              <a:blip r:embed="rId10"/>
              <a:tile tx="0" ty="0" sx="3525000" sy="3525000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797960" y="4108320"/>
            <a:ext cx="206640" cy="518040"/>
            <a:chOff x="7797960" y="4108320"/>
            <a:chExt cx="206640" cy="518040"/>
          </a:xfrm>
        </p:grpSpPr>
        <p:sp>
          <p:nvSpPr>
            <p:cNvPr id="221" name=""/>
            <p:cNvSpPr/>
            <p:nvPr/>
          </p:nvSpPr>
          <p:spPr>
            <a:xfrm>
              <a:off x="7797960" y="4371840"/>
              <a:ext cx="206640" cy="254520"/>
            </a:xfrm>
            <a:custGeom>
              <a:avLst/>
              <a:gdLst/>
              <a:ahLst/>
              <a:rect l="0" t="0" r="r" b="b"/>
              <a:pathLst>
                <a:path w="574" h="707">
                  <a:moveTo>
                    <a:pt x="271" y="707"/>
                  </a:moveTo>
                  <a:lnTo>
                    <a:pt x="0" y="0"/>
                  </a:lnTo>
                  <a:lnTo>
                    <a:pt x="271" y="236"/>
                  </a:lnTo>
                  <a:lnTo>
                    <a:pt x="574" y="35"/>
                  </a:lnTo>
                  <a:lnTo>
                    <a:pt x="271" y="707"/>
                  </a:lnTo>
                  <a:close/>
                </a:path>
              </a:pathLst>
            </a:custGeom>
            <a:blipFill rotWithShape="0">
              <a:blip r:embed="rId11"/>
              <a:tile tx="0" ty="0" sx="3525000" sy="3525000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81840" y="4108320"/>
              <a:ext cx="49680" cy="373320"/>
            </a:xfrm>
            <a:custGeom>
              <a:avLst/>
              <a:gdLst/>
              <a:ahLst/>
              <a:rect l="0" t="0" r="r" b="b"/>
              <a:pathLst>
                <a:path w="138" h="1037">
                  <a:moveTo>
                    <a:pt x="0" y="939"/>
                  </a:moveTo>
                  <a:lnTo>
                    <a:pt x="37" y="0"/>
                  </a:lnTo>
                  <a:lnTo>
                    <a:pt x="138" y="0"/>
                  </a:lnTo>
                  <a:lnTo>
                    <a:pt x="138" y="97"/>
                  </a:lnTo>
                  <a:lnTo>
                    <a:pt x="106" y="1037"/>
                  </a:lnTo>
                  <a:lnTo>
                    <a:pt x="0" y="1037"/>
                  </a:lnTo>
                  <a:lnTo>
                    <a:pt x="0" y="939"/>
                  </a:lnTo>
                  <a:close/>
                </a:path>
              </a:pathLst>
            </a:custGeom>
            <a:blipFill rotWithShape="0">
              <a:blip r:embed="rId12"/>
              <a:tile tx="0" ty="0" sx="3525000" sy="3525000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1657440" y="1258920"/>
            <a:ext cx="5972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nsidered degradation factors at transmit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06440" y="774720"/>
            <a:ext cx="8344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43200" y="1028880"/>
            <a:ext cx="36702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137200" y="4197240"/>
            <a:ext cx="457200" cy="3938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4641840"/>
            <a:ext cx="457200" cy="3938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96880" y="939960"/>
            <a:ext cx="7238880" cy="6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and vector error by quadrature phas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33360" y="1433520"/>
            <a:ext cx="6486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6QAM-OFDM Information data rate = 24 Mbit/s, Coding rate = 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87400" y="5651640"/>
            <a:ext cx="33656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versus Quadrature phas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92600" y="5651640"/>
            <a:ext cx="30574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versus Quadrature phas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266840" y="5018040"/>
            <a:ext cx="2844720" cy="393480"/>
            <a:chOff x="1266840" y="5018040"/>
            <a:chExt cx="2844720" cy="393480"/>
          </a:xfrm>
        </p:grpSpPr>
        <p:sp>
          <p:nvSpPr>
            <p:cNvPr id="233" name=""/>
            <p:cNvSpPr txBox="1"/>
            <p:nvPr/>
          </p:nvSpPr>
          <p:spPr>
            <a:xfrm>
              <a:off x="3933720" y="5018040"/>
              <a:ext cx="17784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3386160" y="5018040"/>
              <a:ext cx="177840" cy="39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895480" y="5018040"/>
              <a:ext cx="889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2347920" y="5018040"/>
              <a:ext cx="889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812960" y="5018040"/>
              <a:ext cx="889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1266840" y="5018040"/>
              <a:ext cx="889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89160" y="2079720"/>
            <a:ext cx="2712960" cy="2852640"/>
            <a:chOff x="1289160" y="2079720"/>
            <a:chExt cx="2712960" cy="2852640"/>
          </a:xfrm>
        </p:grpSpPr>
        <p:sp>
          <p:nvSpPr>
            <p:cNvPr id="240" name=""/>
            <p:cNvSpPr/>
            <p:nvPr/>
          </p:nvSpPr>
          <p:spPr>
            <a:xfrm>
              <a:off x="128916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2891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352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8352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7168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3716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1780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9178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276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4527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006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0006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89160" y="2079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93840" y="2079720"/>
              <a:ext cx="2706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93840" y="4930920"/>
              <a:ext cx="2706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54080" y="2016000"/>
            <a:ext cx="268200" cy="3090960"/>
            <a:chOff x="1054080" y="2016000"/>
            <a:chExt cx="268200" cy="3090960"/>
          </a:xfrm>
        </p:grpSpPr>
        <p:sp>
          <p:nvSpPr>
            <p:cNvPr id="256" name=""/>
            <p:cNvSpPr txBox="1"/>
            <p:nvPr/>
          </p:nvSpPr>
          <p:spPr>
            <a:xfrm>
              <a:off x="1054080" y="4865760"/>
              <a:ext cx="2682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054080" y="4511520"/>
              <a:ext cx="2682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1054080" y="4157640"/>
              <a:ext cx="2682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054080" y="3801960"/>
              <a:ext cx="2682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1054080" y="3448080"/>
              <a:ext cx="2682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054080" y="3079800"/>
              <a:ext cx="2682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1054080" y="2725560"/>
              <a:ext cx="2682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1054080" y="2370240"/>
              <a:ext cx="2682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1054080" y="2016000"/>
              <a:ext cx="2682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89160" y="2079720"/>
            <a:ext cx="2711520" cy="2852640"/>
            <a:chOff x="1289160" y="2079720"/>
            <a:chExt cx="2711520" cy="2852640"/>
          </a:xfrm>
        </p:grpSpPr>
        <p:sp>
          <p:nvSpPr>
            <p:cNvPr id="266" name=""/>
            <p:cNvSpPr/>
            <p:nvPr/>
          </p:nvSpPr>
          <p:spPr>
            <a:xfrm>
              <a:off x="1293840" y="49309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960720" y="49309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3840" y="45752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960720" y="457524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3840" y="422100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960720" y="4221000"/>
              <a:ext cx="399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93840" y="38656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960720" y="38656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93840" y="351144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960720" y="3511440"/>
              <a:ext cx="399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93840" y="31431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960720" y="3143160"/>
              <a:ext cx="399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93840" y="27892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960720" y="27892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93840" y="243540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60720" y="243540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3840" y="20797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960720" y="207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1289160" y="2082960"/>
              <a:ext cx="0" cy="28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289160" y="2079720"/>
            <a:ext cx="2722680" cy="28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838160" y="4552920"/>
            <a:ext cx="532080" cy="236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01800" y="4753080"/>
            <a:ext cx="777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374920" y="4108320"/>
            <a:ext cx="54144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36760" y="4511520"/>
            <a:ext cx="792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19240" y="3525840"/>
            <a:ext cx="530280" cy="577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84320" y="4068720"/>
            <a:ext cx="777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3486240"/>
            <a:ext cx="777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87360" y="3475080"/>
            <a:ext cx="2589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[at PER = 0.1]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511280" y="5259240"/>
            <a:ext cx="22766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drature phase error (degre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467000" y="2244600"/>
            <a:ext cx="1908000" cy="843120"/>
            <a:chOff x="1467000" y="2244600"/>
            <a:chExt cx="1908000" cy="843120"/>
          </a:xfrm>
        </p:grpSpPr>
        <p:sp>
          <p:nvSpPr>
            <p:cNvPr id="296" name=""/>
            <p:cNvSpPr txBox="1"/>
            <p:nvPr/>
          </p:nvSpPr>
          <p:spPr>
            <a:xfrm>
              <a:off x="1467000" y="2459160"/>
              <a:ext cx="190800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length = 1000 by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1467000" y="2687760"/>
              <a:ext cx="1555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1555920" y="2700360"/>
              <a:ext cx="15552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1590840" y="2687760"/>
              <a:ext cx="116064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 soft dec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1467000" y="2244600"/>
              <a:ext cx="11494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ar amplif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803840" y="5018040"/>
            <a:ext cx="2890800" cy="241200"/>
            <a:chOff x="4803840" y="5018040"/>
            <a:chExt cx="2890800" cy="241200"/>
          </a:xfrm>
        </p:grpSpPr>
        <p:sp>
          <p:nvSpPr>
            <p:cNvPr id="302" name=""/>
            <p:cNvSpPr txBox="1"/>
            <p:nvPr/>
          </p:nvSpPr>
          <p:spPr>
            <a:xfrm>
              <a:off x="7470720" y="5018040"/>
              <a:ext cx="223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6923160" y="5018040"/>
              <a:ext cx="223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6432480" y="5018040"/>
              <a:ext cx="144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5886360" y="5018040"/>
              <a:ext cx="144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5349960" y="5018040"/>
              <a:ext cx="144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4803840" y="5018040"/>
              <a:ext cx="144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826160" y="2079720"/>
            <a:ext cx="2712960" cy="2852640"/>
            <a:chOff x="4826160" y="2079720"/>
            <a:chExt cx="2712960" cy="2852640"/>
          </a:xfrm>
        </p:grpSpPr>
        <p:sp>
          <p:nvSpPr>
            <p:cNvPr id="309" name=""/>
            <p:cNvSpPr/>
            <p:nvPr/>
          </p:nvSpPr>
          <p:spPr>
            <a:xfrm>
              <a:off x="482616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8261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722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3722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0868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90868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5480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5480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89760" y="488484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8976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37320" y="488484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537320" y="208296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26160" y="2079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30840" y="2079720"/>
              <a:ext cx="270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30840" y="4930920"/>
              <a:ext cx="27064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635360" y="2016000"/>
            <a:ext cx="223920" cy="3090960"/>
            <a:chOff x="4635360" y="2016000"/>
            <a:chExt cx="223920" cy="3090960"/>
          </a:xfrm>
        </p:grpSpPr>
        <p:sp>
          <p:nvSpPr>
            <p:cNvPr id="325" name=""/>
            <p:cNvSpPr txBox="1"/>
            <p:nvPr/>
          </p:nvSpPr>
          <p:spPr>
            <a:xfrm>
              <a:off x="4714920" y="4865760"/>
              <a:ext cx="144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714920" y="4460760"/>
              <a:ext cx="144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714920" y="4056120"/>
              <a:ext cx="144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4714920" y="3649680"/>
              <a:ext cx="144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4714920" y="3232080"/>
              <a:ext cx="1443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4635360" y="2827440"/>
              <a:ext cx="223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4635360" y="2421000"/>
              <a:ext cx="223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635360" y="2016000"/>
              <a:ext cx="2239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826160" y="2079720"/>
            <a:ext cx="2711160" cy="2852640"/>
            <a:chOff x="4826160" y="2079720"/>
            <a:chExt cx="2711160" cy="2852640"/>
          </a:xfrm>
        </p:grpSpPr>
        <p:sp>
          <p:nvSpPr>
            <p:cNvPr id="334" name=""/>
            <p:cNvSpPr/>
            <p:nvPr/>
          </p:nvSpPr>
          <p:spPr>
            <a:xfrm>
              <a:off x="4830840" y="49309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497720" y="49309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30840" y="45244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497720" y="45244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30840" y="411948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497720" y="411948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30840" y="37148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497720" y="37148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30840" y="329580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497720" y="329580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30840" y="289080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497720" y="289080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30840" y="248616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497720" y="248616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30840" y="20797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7497720" y="20797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826160" y="2082960"/>
              <a:ext cx="0" cy="28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826160" y="2079720"/>
            <a:ext cx="2722680" cy="28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38800" y="4346640"/>
            <a:ext cx="777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911920" y="3284640"/>
            <a:ext cx="541440" cy="552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75200" y="3801960"/>
            <a:ext cx="777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456240" y="2739960"/>
            <a:ext cx="530280" cy="53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21320" y="3244680"/>
            <a:ext cx="777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56280" y="2700360"/>
            <a:ext cx="7920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6200" y="3368520"/>
            <a:ext cx="12049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048280" y="5246640"/>
            <a:ext cx="22766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drature phase error (degre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388120" y="3851280"/>
            <a:ext cx="515880" cy="554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181160" y="939960"/>
            <a:ext cx="680724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581800" y="4083120"/>
            <a:ext cx="457200" cy="3938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90600" y="4565520"/>
            <a:ext cx="457200" cy="3938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758960" y="4929120"/>
            <a:ext cx="2901960" cy="241200"/>
            <a:chOff x="1758960" y="4929120"/>
            <a:chExt cx="2901960" cy="241200"/>
          </a:xfrm>
        </p:grpSpPr>
        <p:sp>
          <p:nvSpPr>
            <p:cNvPr id="365" name=""/>
            <p:cNvSpPr txBox="1"/>
            <p:nvPr/>
          </p:nvSpPr>
          <p:spPr>
            <a:xfrm>
              <a:off x="4400640" y="49291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3868560" y="49291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3346560" y="49291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2813040" y="49291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2290680" y="49291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1758960" y="49291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846440" y="1990800"/>
            <a:ext cx="2643120" cy="2852640"/>
            <a:chOff x="1846440" y="1990800"/>
            <a:chExt cx="2643120" cy="2852640"/>
          </a:xfrm>
        </p:grpSpPr>
        <p:sp>
          <p:nvSpPr>
            <p:cNvPr id="372" name=""/>
            <p:cNvSpPr/>
            <p:nvPr/>
          </p:nvSpPr>
          <p:spPr>
            <a:xfrm>
              <a:off x="1846440" y="47959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846440" y="1994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78160" y="47959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378160" y="1994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00520" y="47959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900520" y="1994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33680" y="479592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433680" y="1994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54600" y="47959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954600" y="1994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87760" y="479592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487760" y="1994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6440" y="1990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51120" y="1990800"/>
              <a:ext cx="2636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51120" y="4842000"/>
              <a:ext cx="2636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617840" y="1927080"/>
            <a:ext cx="260280" cy="3092400"/>
            <a:chOff x="1617840" y="1927080"/>
            <a:chExt cx="260280" cy="3092400"/>
          </a:xfrm>
        </p:grpSpPr>
        <p:sp>
          <p:nvSpPr>
            <p:cNvPr id="388" name=""/>
            <p:cNvSpPr txBox="1"/>
            <p:nvPr/>
          </p:nvSpPr>
          <p:spPr>
            <a:xfrm>
              <a:off x="1617840" y="477828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1617840" y="442260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1617840" y="40687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1617840" y="371304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1617840" y="335916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1617840" y="299088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1617840" y="263700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1617840" y="228276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1617840" y="192708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846440" y="1990800"/>
            <a:ext cx="2641320" cy="2852640"/>
            <a:chOff x="1846440" y="1990800"/>
            <a:chExt cx="2641320" cy="2852640"/>
          </a:xfrm>
        </p:grpSpPr>
        <p:sp>
          <p:nvSpPr>
            <p:cNvPr id="398" name=""/>
            <p:cNvSpPr/>
            <p:nvPr/>
          </p:nvSpPr>
          <p:spPr>
            <a:xfrm>
              <a:off x="1851120" y="48420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449600" y="48420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51120" y="448632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449600" y="448632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51120" y="41324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449600" y="41324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51120" y="37767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449600" y="37767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51120" y="34225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449600" y="34225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51120" y="30560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449600" y="30560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51120" y="27003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449600" y="27003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51120" y="23464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449600" y="23464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51120" y="19908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449600" y="19908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846440" y="1994040"/>
              <a:ext cx="0" cy="28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846440" y="1990800"/>
            <a:ext cx="2652840" cy="28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379600" y="4375080"/>
            <a:ext cx="517680" cy="412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46480" y="4753080"/>
            <a:ext cx="763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903400" y="3741840"/>
            <a:ext cx="528840" cy="628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67040" y="4335480"/>
            <a:ext cx="7632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436920" y="2841480"/>
            <a:ext cx="515880" cy="895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00560" y="3701880"/>
            <a:ext cx="7632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22560" y="2801880"/>
            <a:ext cx="763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205240" y="4929120"/>
            <a:ext cx="2903760" cy="241200"/>
            <a:chOff x="5205240" y="4929120"/>
            <a:chExt cx="2903760" cy="241200"/>
          </a:xfrm>
        </p:grpSpPr>
        <p:sp>
          <p:nvSpPr>
            <p:cNvPr id="426" name=""/>
            <p:cNvSpPr txBox="1"/>
            <p:nvPr/>
          </p:nvSpPr>
          <p:spPr>
            <a:xfrm>
              <a:off x="7848720" y="49291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7315200" y="49291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6792840" y="49291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6261120" y="49291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5738760" y="49291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5205240" y="4929120"/>
              <a:ext cx="260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292720" y="1990800"/>
            <a:ext cx="2643120" cy="2852640"/>
            <a:chOff x="5292720" y="1990800"/>
            <a:chExt cx="2643120" cy="2852640"/>
          </a:xfrm>
        </p:grpSpPr>
        <p:sp>
          <p:nvSpPr>
            <p:cNvPr id="433" name=""/>
            <p:cNvSpPr/>
            <p:nvPr/>
          </p:nvSpPr>
          <p:spPr>
            <a:xfrm>
              <a:off x="5292720" y="47959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292720" y="1994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26240" y="47959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826240" y="1994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46800" y="47959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346800" y="1994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80320" y="47959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880320" y="1994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02680" y="47959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402680" y="1994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34400" y="47959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934400" y="19940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92720" y="1990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97400" y="1990800"/>
              <a:ext cx="26370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97400" y="4842000"/>
              <a:ext cx="26370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106960" y="1927080"/>
            <a:ext cx="217440" cy="3092400"/>
            <a:chOff x="5106960" y="1927080"/>
            <a:chExt cx="217440" cy="3092400"/>
          </a:xfrm>
        </p:grpSpPr>
        <p:sp>
          <p:nvSpPr>
            <p:cNvPr id="449" name=""/>
            <p:cNvSpPr txBox="1"/>
            <p:nvPr/>
          </p:nvSpPr>
          <p:spPr>
            <a:xfrm>
              <a:off x="5183280" y="4778280"/>
              <a:ext cx="1411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5183280" y="4371840"/>
              <a:ext cx="1411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5183280" y="3967200"/>
              <a:ext cx="1411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5183280" y="3562200"/>
              <a:ext cx="1411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5183280" y="3143160"/>
              <a:ext cx="1411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5106960" y="2738520"/>
              <a:ext cx="217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5106960" y="2332080"/>
              <a:ext cx="217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5106960" y="1927080"/>
              <a:ext cx="217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292720" y="1990800"/>
            <a:ext cx="2641680" cy="2852640"/>
            <a:chOff x="5292720" y="1990800"/>
            <a:chExt cx="2641680" cy="2852640"/>
          </a:xfrm>
        </p:grpSpPr>
        <p:sp>
          <p:nvSpPr>
            <p:cNvPr id="458" name=""/>
            <p:cNvSpPr/>
            <p:nvPr/>
          </p:nvSpPr>
          <p:spPr>
            <a:xfrm>
              <a:off x="5297400" y="48420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896240" y="48420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97400" y="44355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896240" y="44355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97400" y="40305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896240" y="40305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97400" y="362592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7896240" y="362592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97400" y="32068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896240" y="32068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97400" y="280188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896240" y="280188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97400" y="23972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7896240" y="23972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97400" y="19908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896240" y="19908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5292720" y="1994040"/>
              <a:ext cx="0" cy="28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292720" y="1990800"/>
            <a:ext cx="2652840" cy="28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829480" y="3703680"/>
            <a:ext cx="515880" cy="56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92760" y="4233960"/>
            <a:ext cx="763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350040" y="3133800"/>
            <a:ext cx="528480" cy="566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15120" y="3664080"/>
            <a:ext cx="7632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881760" y="2562120"/>
            <a:ext cx="517680" cy="56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46840" y="3094200"/>
            <a:ext cx="76320" cy="87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369200" y="2522520"/>
            <a:ext cx="763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829480" y="3703680"/>
            <a:ext cx="515880" cy="56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60240" y="851040"/>
            <a:ext cx="70009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and vector error by quadrature amplitude un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790640" y="1344600"/>
            <a:ext cx="6486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6QAM-OFDM Information data rate = 24 Mbit/s, Coding rate = 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573200" y="5562720"/>
            <a:ext cx="33256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versus Quadrature amplitu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2781360" y="5753160"/>
            <a:ext cx="7826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216400" y="5562720"/>
            <a:ext cx="30178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versus Quadrature amplitu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270480" y="5753160"/>
            <a:ext cx="7826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210960" y="3419640"/>
            <a:ext cx="25225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/N degradation [at PER = 0.1]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922400" y="5157720"/>
            <a:ext cx="26924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drature amplitude unbalance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019240" y="2155680"/>
            <a:ext cx="1859040" cy="843120"/>
            <a:chOff x="2019240" y="2155680"/>
            <a:chExt cx="1859040" cy="843120"/>
          </a:xfrm>
        </p:grpSpPr>
        <p:sp>
          <p:nvSpPr>
            <p:cNvPr id="493" name=""/>
            <p:cNvSpPr txBox="1"/>
            <p:nvPr/>
          </p:nvSpPr>
          <p:spPr>
            <a:xfrm>
              <a:off x="2019240" y="2370240"/>
              <a:ext cx="185904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length = 1000 by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2019240" y="2598840"/>
              <a:ext cx="15228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2106720" y="2611440"/>
              <a:ext cx="15228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2139840" y="2598840"/>
              <a:ext cx="113040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 soft dec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2019240" y="2155680"/>
              <a:ext cx="11206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ar amplif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 txBox="1"/>
          <p:nvPr/>
        </p:nvSpPr>
        <p:spPr>
          <a:xfrm>
            <a:off x="4376880" y="3295800"/>
            <a:ext cx="11746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ctor error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5369040" y="5157720"/>
            <a:ext cx="26924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drature amplitude unbalance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507960" y="673200"/>
            <a:ext cx="814068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kura</cp:lastModifiedBy>
  <cp:revision>0</cp:revision>
  <dc:subject/>
  <dc:title>Transmitter Constellation Error</dc:title>
</cp:coreProperties>
</file>