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8620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880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79000" y="701640"/>
            <a:ext cx="4627800" cy="347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24600" cy="417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401800" y="898812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49720" y="89881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838A3D0-ED80-431D-9B23-CE01586BB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0440" y="89884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8640" y="8986680"/>
            <a:ext cx="552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2320" y="297000"/>
            <a:ext cx="568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249720" y="89881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EB0B42-3DB4-4A1F-AC24-2F6AB0BE7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01800" y="898812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8620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5880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9280" y="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20840" y="782640"/>
            <a:ext cx="4354560" cy="32655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29880" y="4411440"/>
            <a:ext cx="51246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249720" y="89881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3E717D0-1401-470B-9055-7455022B7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01800" y="898812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8620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5880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20840" y="782640"/>
            <a:ext cx="4354560" cy="32655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29880" y="4411440"/>
            <a:ext cx="51246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2BAF-1CB4-41AA-A065-96D04B12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12DF-5FF5-4A98-8E1F-FA3D5227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DD6-301D-427F-889A-519FB628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F15C-B9A9-4505-A45F-B7FC6221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8BC-04D4-4FCD-BC80-95065268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A1F-7B4A-407B-A364-AD6A0519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B05-82DA-47E3-8AB0-099F9F62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CA4-41DB-4CAE-B55F-E80DDB0B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C06-F1B8-4BF6-8246-FE2DCD8C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B32-E4D2-44F9-BCD7-1DFB30E1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F4E-46DB-4863-90C4-77F711A4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8EE-D3EC-4A9A-9D33-432D5749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20178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17D5D4B-7376-4886-A980-0BDB4CBEC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1295280"/>
            <a:ext cx="74674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easured Spectra for OFDM Transmission Based on PA Models of BR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386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amshid Khun-Jush </a:t>
            </a:r>
            <a:r>
              <a:rPr b="0" lang="en-GB" sz="2000" spc="-1" strike="noStrike" baseline="52000">
                <a:solidFill>
                  <a:srgbClr val="000000"/>
                </a:solidFill>
                <a:latin typeface="Times New Roman"/>
              </a:rPr>
              <a:t>(*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and Peter Schra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ricsson Eurolab - Nürnbe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52000">
                <a:solidFill>
                  <a:srgbClr val="000000"/>
                </a:solidFill>
                <a:latin typeface="Times New Roman"/>
              </a:rPr>
              <a:t>(*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-ordinator of HIPERLAN-2 Standard Area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ir of Physical Layer Technical Specification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402-4996-4CEA-B9B3-805A4F68BE9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 Models - Class 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90720" y="1905120"/>
          <a:ext cx="2666880" cy="24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26668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952880" y="1905120"/>
          <a:ext cx="2667240" cy="2438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905120"/>
                    <a:ext cx="26672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990720" y="5105520"/>
          <a:ext cx="5209920" cy="36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5105520"/>
                    <a:ext cx="52099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952880" y="5105520"/>
          <a:ext cx="5210280" cy="3618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5105520"/>
                    <a:ext cx="52102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400-0740-459F-81EE-D3CECA86FA8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379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band parameters as in IEEE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 MHz sampling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8 sub-carriers used, no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4 point F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E64-8EBD-4823-A9A6-3F01C989A7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D for Rapp’s Model (p=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for decision on channel spacing for IEEE 802.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fig4IEEE_psd_Rapp2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76AA-76EB-4847-A7A7-385DC028F8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D for Class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fig4IEEE_psd_A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5623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26F-1D29-47EE-ACDC-FA020EF35C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D for Class AB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ig4IEEE_psd_AB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410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78B-947D-407C-AEED-315F2F98B23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3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app’s model with p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istance from the UNII band edges in the order of 28 MHz is needed for a PA OBO of 6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lass AB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than 30 MHz distance from the UNII band edges needed with a PA OBO of 10.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istance from the HIPERLAN band edges in the order of 22 MHz is needed to fulfil CEPT regulations with a PA OBO of 5.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lass A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than 30 MHz distance from the UNII band edges needed with a PA OBO of 7.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istance from the HIPERLAN band edges in the order of 20 MHz is needed to fulfil CEPT regulations with a PA OBO of 5.5 dB. The PA back-off could be relaxed by using 22 MHz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6FA3-589F-4ACB-B682-0B3E46B5D6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Critical Consid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urther results on PA needed before channel spacing is fixed for IEEE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IEEE 802.11 really gain an additional channel by using 18 MHz instead of 20 MHz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an additional channel, what is with the gain in the overall system throughpu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506C-3676-4F62-AA56-50D46F5405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9E7-1E4E-4158-AF61-3F628A174C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 Models - Clas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2209680"/>
          <a:ext cx="274320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2743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562720" y="2209680"/>
          <a:ext cx="2590560" cy="251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2209680"/>
                    <a:ext cx="25905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990720" y="5181480"/>
          <a:ext cx="5209920" cy="362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5181480"/>
                    <a:ext cx="5209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562720" y="5181480"/>
          <a:ext cx="5209920" cy="3621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181480"/>
                    <a:ext cx="5209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C588-B731-4218-94D1-6FBA926E362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9T23:33:08Z</dcterms:created>
  <dc:creator>Naftali Chayat</dc:creator>
  <dc:description/>
  <dc:language>en-US</dc:language>
  <cp:lastModifiedBy>Naftali Chayat</cp:lastModifiedBy>
  <cp:lastPrinted>1998-11-10T00:09:19Z</cp:lastPrinted>
  <dcterms:modified xsi:type="dcterms:W3CDTF">1998-11-10T00:23:38Z</dcterms:modified>
  <cp:revision>3</cp:revision>
  <dc:subject/>
  <dc:title> Measured Spectra for OFDM Transmission Based on PA Models of BRAN</dc:title>
</cp:coreProperties>
</file>