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1D6-168B-4E68-9735-19D69F80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93C-5F46-4BB8-B596-4A77091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D0A-042C-43CE-A7F3-1482E542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600-112A-4E16-B736-EDC1E94F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8A8-3CF5-419D-B588-0A5B6CC9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D7D-6837-40C4-A65A-61358B8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6E3-7D78-4C69-90CB-CE35D65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4D7-2A2E-499D-8FD1-3D6253E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C43-AE56-484E-8786-9F0B77A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D82-A85A-4260-B2B0-4488278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2B4-00CC-48D0-8CF8-0F68833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CDC-693B-44CC-A6BB-1BE245F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1000" y="37044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7640" y="6494040"/>
            <a:ext cx="16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0A9042-0A1F-42FB-BB7F-F8FA2A31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ssignment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0MHz channel separation ca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DC4-E783-49E7-BFC7-24F8ED1FDA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536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052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70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608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5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9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03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31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34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05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11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57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465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76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29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61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1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19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400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264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0496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7800" y="3065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52560" y="30495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432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56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540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1544760"/>
            <a:ext cx="197352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7808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112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344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380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3520" y="15350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5840" y="15350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1506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2592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4824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389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868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00640" y="1554120"/>
            <a:ext cx="197352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913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996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26920" y="325584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9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2360" y="32940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320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55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9280" y="324648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2320" y="32274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75000" y="320832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58040" y="306864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6148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62640" y="1544760"/>
            <a:ext cx="0" cy="19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1880" y="3551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3080" y="144792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4720" y="14479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9000" y="114156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4600" y="11318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3080" y="1066680"/>
            <a:ext cx="4151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6960" y="1076400"/>
            <a:ext cx="310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9200" y="789120"/>
            <a:ext cx="175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use : 10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040" y="779400"/>
            <a:ext cx="227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/outdoor use : 1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5760" y="258120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7000" y="2313000"/>
            <a:ext cx="1040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6440" y="2516040"/>
            <a:ext cx="33156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5436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300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42879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2560" y="57834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5400" y="42782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7720" y="42782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8440" y="42498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0320" y="596124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26920" y="598968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9960" y="59990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2360" y="60278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37120" y="605628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3440" y="4181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5080" y="418140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9000" y="38750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4960" y="386568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9880" y="5791320"/>
            <a:ext cx="37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00640" y="57927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624-3AB2-41FD-B264-76BAC4032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6:02Z</dcterms:modified>
  <cp:revision>3</cp:revision>
  <dc:subject/>
  <dc:title>No Slide Title</dc:title>
</cp:coreProperties>
</file>