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09480" y="396720"/>
            <a:ext cx="11905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162920" y="6477120"/>
            <a:ext cx="14302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ard Paine - Boe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4344840" y="6475320"/>
            <a:ext cx="530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EA1AF6D5-A8AD-4F4F-8203-64E09CFADF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6073920" y="396720"/>
            <a:ext cx="2384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4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9040" y="609480"/>
            <a:ext cx="776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9040" y="6477120"/>
            <a:ext cx="784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762120"/>
            <a:ext cx="76010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nnelization Agreement Between IEEE802.11 and BR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3656160"/>
            <a:ext cx="67374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nor Issues Still to be Work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amble design/multiple preamb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leav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rier recovery pilot  vs. decision ai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existence/Interoper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2133720"/>
            <a:ext cx="7102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jor Issues Work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ne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mpling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pplied Research &amp; Technology</dc:creator>
  <dc:description/>
  <dc:language>en-US</dc:language>
  <cp:lastModifiedBy>Applied Research &amp; Technology</cp:lastModifiedBy>
  <cp:revision>0</cp:revision>
  <dc:subject/>
  <dc:title>No Slide Title</dc:title>
</cp:coreProperties>
</file>