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9000" y="701640"/>
            <a:ext cx="46278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FF422C-73E8-4EAC-AE42-E756BE1B3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0440" y="89884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8640" y="8986680"/>
            <a:ext cx="552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2320" y="297000"/>
            <a:ext cx="568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03B912-E807-4D5D-8943-19C5976ED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9280" y="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19040" y="782640"/>
            <a:ext cx="4356360" cy="3267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29880" y="4412880"/>
            <a:ext cx="5124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C4E-E16B-48CD-9EFA-BA100B49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2FD-4B55-4A42-819E-B448C648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035-DE77-4963-BEB7-1DAFD386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FDE-4AAB-48E7-9CB1-4292B600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4D7-1E0D-40CC-ABCD-180D6FDC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E4E-5A3C-4B26-8390-C3A72C70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45B-D029-4D03-B933-D3E24FEF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E7A-B0F1-4907-B5F7-097FA1CE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1BE-AE54-467A-B5B5-AD6B4D06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846-FFE8-4BFA-BCE0-24C2399E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C73-BBDD-4DBE-9481-DC8777EE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EB0-749C-473D-A4F0-5DD889F4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20178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0B433C-6F9E-49D4-9CD9-7AC72F600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RAN#11 PHY Decisions &amp; Issues to Resolved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386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mshid Khun-J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icsson Eurolab - Nürnbe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-ordinator of HIPERLAN-2 Standard Area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79A-7481-437F-AE7A-BAEE9F3FA1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Carrier Spacing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914040"/>
            <a:ext cx="7774200" cy="49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decision on the sampling rate which determines the bit rate supported in a radio chann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different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rate of 20 Msamples/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ults in a reduced adjacent channel interference (A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ight be translated in an increased overall system capac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higher sampling rate (e.g. 22 Msamples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reased instantaneous bit rate in one radio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but als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creased ACI that might be translated in degradation of the overall system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me mixed frequency products making the RF implementation more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ide on all issues in the PHY interim meeting in Decemb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E02-5135-4E30-9C5F-AC8E0E9223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379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isions on Baseb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isions on Carrier Sp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8F2-AFDD-476A-A2E1-62F04D2F82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6854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FT siz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4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umber of used sub-carr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uard inter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0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-carrier mod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PSK, QPSK, 16QAM, possibly 8PSK and optionally 64 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dulation in sub-carr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h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FBF-DB17-4332-80FC-794325FA38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4944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mandatory convolutional mother code with constraint length 7 and rate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red code rates ½, ¾ obtained by pun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de rate 2/3 will possibly be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de rates 1/3 or ¼ might be needed to provide more protection for short control PD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ode rates shall be selected in such a way that each PDU should be mapped into an integer multiple of OFDM symbols current assumption on data PDU size: 54 by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tional coding schemes might be added to the specification later (not in the first stag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446-B061-4575-BF32-09139B3365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leav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 decide yet, if the interleaving is to be done OFDM symbol wise or PDU wi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e investigation are needed. To be discussed and maybe decided at the interim meeting of the PHY TS Rapporteur Group on December 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cillator accu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/- 20 p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ectral sha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e approach as IEEE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4280" indent="-19872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 time windowing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4280" indent="-19872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stellation accuracy test specifications in combination with spectral mas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024-AEDD-4401-977A-26EC5C3EE3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4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ining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e different preambles needed, due to the centralised DLC protocol applied to HIPERLAN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for the beginning of MAC frame could have the same structure as the first part of the training sequence proposed for IEEE 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8600" indent="-18036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GC symbol(s), the symbols for coarse frequency and timing estimation and the long symbol for fine frequency offset and channel estim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8600" indent="-18036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need for the training part SIGNAL, because the signalling of PHY mode will be performed in other part of the protoc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for each downlink burst and one for each uplink burst could have the same structure as the long symbol T1 in IEEE 802.11 propos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 cle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8600" indent="-18036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mbols for coarse frequency offset estimation and timing are needed for downlink and uplink bur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8600" indent="-18036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GC symbol(s) in uplink bursts needed if power control is used in uplin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374-B4F5-404E-AE0F-E4AB64D7EF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4944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ase track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hase tracking scheme is needed due to coherent demod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need for pilot symbols to perform phase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essment based on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nitia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sults of some members of the PHY TS Rapporteur Gro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re results needed to make a final decision (to be discussed at the PHY TS interim meeting in Dece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pilot symbol aided scheme versus a  decision directed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02D-DA76-4258-A529-3992ADA208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4944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Carrier Spacing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0 MHz bandwidth currently available in Europe for HIPER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the range 5.15 – 5.3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ss than –33 dBm/100kHz emitted spurious power outside this band is allowed bel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uming a transmit power of 200 mW, a 35 dB attenuation necessary at both edges of the HIPERLAN frequency ban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mulation results show that the spacing of the outmost channels from the band’s edges have to be in the order of 22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nlinear model for a class AB power amplifier with an out put backoff of 5.5 dB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588-C4D0-4F02-BFA6-2AB36A7584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Carrier Spacing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 marL="713160" indent="-2743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umber of radio channels achieved by an 18 MHz channel spacing is equal to that achieved by a channel spacing of 20 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x radio channels could be obtained in current HIPERLAN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ce of the outmost channel from each band edge is 25 M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laxed requirements on the PA backo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 HIPERLAN/2 PA models, the outmost channels in UNII band need even more distance from the band edges if practical PA backoff values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 20 MHz channel spacing, 8 radio channels for the 200 MHz band starting at 5.15 GHz (lower and middle U-NII bands) achiev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addition enough spacing for the outmost channels from the band edge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E7F-0E78-4993-A3E1-1683431E89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9T23:33:08Z</dcterms:created>
  <dc:creator>Naftali Chayat</dc:creator>
  <dc:description/>
  <dc:language>en-US</dc:language>
  <cp:lastModifiedBy>Naftali Chayat</cp:lastModifiedBy>
  <cp:lastPrinted>1998-11-10T00:17:48Z</cp:lastPrinted>
  <dcterms:modified xsi:type="dcterms:W3CDTF">1998-11-10T00:20:44Z</dcterms:modified>
  <cp:revision>4</cp:revision>
  <dc:subject/>
  <dc:title> Measured Spectra for OFDM Transmission Based on PA Models of BRAN</dc:title>
</cp:coreProperties>
</file>