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put Comparis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Various Preamble M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nt Roll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ris Semi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put with FH Compatibility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 compatible mode is defined in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es the FH preamble and header with the DS Short Preamble and high speed data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throughput is between that realized for the long and short preamble DS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: Long Preamble and FH Compatible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1704960"/>
            <a:ext cx="8915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8000" y="838080"/>
            <a:ext cx="85374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put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peed extension provides three options for preamble and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tible “Long” preamble and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Preamble and Header with 5.5 or 11 Mbps data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 Compatible Mode with FH preamble and header and DS short preamble and header with 5.5 or 11 Mbps data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Duration 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0600" y="1905120"/>
            <a:ext cx="820116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Throughput 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25400" y="1801800"/>
            <a:ext cx="798840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685800"/>
            <a:ext cx="8667720" cy="59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 CTS Effect on Through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preamble has the advantage of utilizing the RTS/CTS mechanism to reduce collisions due to hidden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ra transaction on each packet reduces the overall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685800"/>
            <a:ext cx="8667720" cy="59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with 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tes the effect of back-off’s on the throughput with short and long pream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 of preamble length is less with increasing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600120"/>
            <a:ext cx="853452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nt Rollins</dc:creator>
  <dc:description/>
  <dc:language>en-US</dc:language>
  <cp:lastModifiedBy>Kent Rollins</cp:lastModifiedBy>
  <cp:revision>0</cp:revision>
  <dc:subject/>
  <dc:title>IEEE 802.11 Documents</dc:title>
</cp:coreProperties>
</file>