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828800"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2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92280" y="609480"/>
            <a:ext cx="7765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593640" y="6446880"/>
            <a:ext cx="895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92280" y="6477120"/>
            <a:ext cx="7842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1828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reless Personal Area Networ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3352680"/>
            <a:ext cx="7772400" cy="178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EEE 802.11 Study Group Report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ll for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ptember 16, 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228600" y="1119240"/>
            <a:ext cx="9105840" cy="44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PAN Study Group issued a Call for Applications (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295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July 24, 1998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ring the interim meeting held during September 1998 in Westford, MA, six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ubmissions were presented to the study grou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d upon these inputs, the study group selected a set of 15 categories wh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re deemed sufficient to capture and summarize these applications. Prior to and during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vember meeting these categories will be refined, more thoroughly defined and prioritiz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ly, the capabilities of three candidate WLANs for use as WPAN were al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wn using the same categories. These were shown as representative examples and t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ll be both corrections and additions to the list over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19040" y="1913040"/>
            <a:ext cx="8285040" cy="1935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54080" y="4255920"/>
            <a:ext cx="8794800" cy="18302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2575080" y="822240"/>
            <a:ext cx="3857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PAN Application 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ick Braley</dc:creator>
  <dc:description>Dick Braley, FedEx</dc:description>
  <dc:language>en-US</dc:language>
  <cp:lastModifiedBy>Dick Braley</cp:lastModifiedBy>
  <cp:revision>0</cp:revision>
  <dc:subject>doc.: IEEE 802.11-98/248</dc:subject>
  <dc:title>IEEE 802.11 WPAN SG Report</dc:title>
</cp:coreProperties>
</file>