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9D4E67-1995-418E-9325-F0751070E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8400" y="609480"/>
            <a:ext cx="7759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77120"/>
            <a:ext cx="783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1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096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 14-16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stford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14th, 1998 at 10:30am or after the Ful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98640" y="2736720"/>
            <a:ext cx="774720" cy="1994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46760" y="2279520"/>
            <a:ext cx="85104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6560" y="3346560"/>
            <a:ext cx="774720" cy="1384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0760" y="2279520"/>
            <a:ext cx="146052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5760" y="5724360"/>
            <a:ext cx="393840" cy="317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67280" y="5791320"/>
            <a:ext cx="29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Official Study Group Will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95760" y="6105600"/>
            <a:ext cx="393840" cy="317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67280" y="6172200"/>
            <a:ext cx="3102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unofficial Study Group Could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3879720"/>
            <a:ext cx="851040" cy="851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240" y="2279520"/>
            <a:ext cx="698400" cy="237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8760" y="1676520"/>
            <a:ext cx="90853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   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.|Studygroup |  TGb !  SG  |  TGa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TGa   ! SG  |      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      |      !      |    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Gb    ! SG  |     !     | Full 802.11 |  TG  ! SG  | Full 802.11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TGa !  SG |.............|      !     |Reports/Out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!     |     !     |      !      |      !     | Next mtg.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TGa !  SG  |       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. . . . . . .|. . . . . .|. . . . . . .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......... = flexible adjournment/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pening of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:30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list,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(breaks, lunch, copyin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57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ers arising from the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to the ExCom in La J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of the Call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view of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Adoption of th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approve the agenda as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CF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 Determine key WPAN MAC/PH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uesday Sept 1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s with Full W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Liais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Continue “La Jolla” MAC Layer discussion with WG (Ask for MAC experts 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Create a WPAN Comparis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Wednesday Sept 16, 199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Create WPAN Compare &amp; Contrast of 802.11 Annex - PICS Proforma list and repeat for remaining candidates (see La Jolla Meeting Report -98/256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 Examine WPAN 2.4 GHz coexistence with 802.11 devices (G. Ennis paper -8/319 on Bluetooth coex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 Review S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7 Determine SG Goals For Albuque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 prior to the 802.11 Full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hur Sept 1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 summary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Review of FH PHY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eview of MACS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highlighted versions for intermediate working sessions before Albuquerque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Prepare SG Report for Friday’s Full W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