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4E4F-F7CE-4CAC-9C3E-AD94992D1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B2E5-6F57-428B-A0A4-0E7BA059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40B3-4E30-4172-AAC4-5793C4766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38FF-2B03-4919-B661-D227AC2DB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2E0E-EB02-4751-803C-36942FFB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84BB-BF02-4CBD-BB39-0BB51635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9C24-AAE6-436D-B89C-8E3336B7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13F1-04C6-4DFB-AE70-F0DA2DF6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EE42-AF61-47E8-B744-C81B17ED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23C9-C49F-4515-B217-F900474F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2E40-E0C0-4614-8274-795F216B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2F9E-A06C-453B-890F-0B0CE36C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2286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89CE56A-B82C-4133-A60B-569263434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8/3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3640" y="6477120"/>
            <a:ext cx="1082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" name=""/>
          <p:cNvGraphicFramePr/>
          <p:nvPr/>
        </p:nvGraphicFramePr>
        <p:xfrm>
          <a:off x="7238880" y="6060960"/>
          <a:ext cx="1314720" cy="41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8880" y="6060960"/>
                    <a:ext cx="131472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erformance of PBCC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C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 rot="10800000">
          <a:off x="2286000" y="4065120"/>
          <a:ext cx="4495680" cy="14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2286000" y="4065120"/>
                    <a:ext cx="4495680" cy="14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935440" y="2387520"/>
            <a:ext cx="304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tthew Shoemak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n 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ris Heeg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59C1-56C6-4B83-B53C-AFFEDB18D87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6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3dB is worth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reater Building Penetration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 additional 3 dB coding gain allows the system to achieve transmission “through one more wall”.  This again yields an increased cell size and more flexible cell/network planning.</a:t>
            </a:r>
            <a:br>
              <a:rPr sz="14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ystem Robustness in the ISM Bands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services are beginning to crowd the ISM bands utilized by the 802.11 2.4 GHz wireless LAN standard. An additional 3 dB coding gain provides system robustness and operating margin against existing and emerging services within the 2.4 GHz ISM ban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igher Network Throughput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 additional 3 dB coding gain improves network throughput. First, an additional 3 dB coding gain improves the performance of marginal clients. Clients operating at a 30 ~ 40% packet error rate with the standard FEC can now operate at 10% PER with the optional high-performance FEC. Second, clients operating at 10% PER with the standard FEC can now operate at significantly lower PERs with the optional high-performance FEC. In either case, the overall throughput of the network will increase significant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94C3-EF14-435D-924B-8AF963065E5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6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BC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 state binary convolutional enco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der requires 6 bits of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ated onto QPSK, just like C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84440" y="3886200"/>
          <a:ext cx="3973680" cy="109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4440" y="3886200"/>
                    <a:ext cx="397368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34A1-CC4A-442D-BF26-148DD36E46E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6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CK is an 8 bit in, 16 bit out block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CK is rate 1/2, just like PB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CK is described by a generator over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= [ 1 1 1 1 1 1 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1 1 1 0 0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1 1 0 0 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1 0 1 0 1 0 1]     (see doc 98-3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7E1C-A19E-4D62-A7FC-F0AA5CB3CB6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6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x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CK requires 26 adds per info 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BCC requires 132 adds per info 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CK requires 16 compares per info 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BCC requires 64 compares per info 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623D-BB2E-4518-9DF5-CCF490426D5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6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t Error R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706400" y="1565280"/>
            <a:ext cx="5537520" cy="5216400"/>
            <a:chOff x="1706400" y="1565280"/>
            <a:chExt cx="5537520" cy="5216400"/>
          </a:xfrm>
        </p:grpSpPr>
        <p:sp>
          <p:nvSpPr>
            <p:cNvPr id="61" name=""/>
            <p:cNvSpPr/>
            <p:nvPr/>
          </p:nvSpPr>
          <p:spPr>
            <a:xfrm>
              <a:off x="2236680" y="1830240"/>
              <a:ext cx="4960800" cy="392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6680" y="1830240"/>
              <a:ext cx="4960800" cy="3927600"/>
            </a:xfrm>
            <a:prstGeom prst="rect">
              <a:avLst/>
            </a:prstGeom>
            <a:noFill/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36680" y="1830240"/>
              <a:ext cx="1440" cy="392760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28800" y="1830240"/>
              <a:ext cx="1440" cy="392760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33520" y="1830240"/>
              <a:ext cx="1800" cy="392760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25640" y="1830240"/>
              <a:ext cx="1800" cy="392760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17760" y="1830240"/>
              <a:ext cx="1800" cy="392760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722840" y="1830240"/>
              <a:ext cx="1440" cy="392760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14960" y="1830240"/>
              <a:ext cx="1440" cy="392760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08520" y="1830240"/>
              <a:ext cx="1800" cy="392760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00640" y="1830240"/>
              <a:ext cx="1800" cy="392760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703920" y="1830240"/>
              <a:ext cx="1440" cy="392760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197480" y="1830240"/>
              <a:ext cx="1800" cy="392760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36680" y="5757840"/>
              <a:ext cx="496080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36680" y="4973400"/>
              <a:ext cx="4960800" cy="180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236680" y="4190760"/>
              <a:ext cx="4960800" cy="180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236680" y="3395520"/>
              <a:ext cx="496080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36680" y="2612880"/>
              <a:ext cx="496080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36680" y="1830240"/>
              <a:ext cx="496080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36680" y="1830240"/>
              <a:ext cx="4960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36680" y="1830240"/>
              <a:ext cx="4960800" cy="392760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0" y="341"/>
                  </a:moveTo>
                  <a:lnTo>
                    <a:pt x="433" y="341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2236680" y="1830240"/>
              <a:ext cx="1440" cy="3927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236680" y="5757840"/>
              <a:ext cx="4960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236680" y="1830240"/>
              <a:ext cx="1440" cy="3927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236680" y="571176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36680" y="183024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97080" y="5803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2728800" y="571176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28800" y="183024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613960" y="58039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3233520" y="571176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233520" y="183024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93920" y="5803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3725640" y="571176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725640" y="183024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10800" y="58039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4217760" y="571176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217760" y="183024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79600" y="5803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4722840" y="571176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22840" y="183024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07640" y="58039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5214960" y="571176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14960" y="183024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76800" y="5803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5708520" y="571176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08520" y="183024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93680" y="58039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6200640" y="571176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00640" y="183024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61040" y="5803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6703920" y="571176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03920" y="183024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89080" y="58039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97480" y="571176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97480" y="183024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57880" y="5803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36680" y="575784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7151400" y="5757840"/>
              <a:ext cx="45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28880" y="56656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95200" y="560700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36680" y="4973400"/>
              <a:ext cx="46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151400" y="4973400"/>
              <a:ext cx="45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28880" y="4881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95200" y="482436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36680" y="4190760"/>
              <a:ext cx="46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7151400" y="4190760"/>
              <a:ext cx="45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28880" y="40986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95200" y="404172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36680" y="339552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7151400" y="3395520"/>
              <a:ext cx="45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28880" y="33033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095200" y="324612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36680" y="261288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7151400" y="2612880"/>
              <a:ext cx="45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28880" y="25207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95200" y="246348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36680" y="183024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7151400" y="1830240"/>
              <a:ext cx="45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28880" y="1738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95560" y="1680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36680" y="1830240"/>
              <a:ext cx="4960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36680" y="1830240"/>
              <a:ext cx="4960800" cy="392760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0" y="341"/>
                  </a:moveTo>
                  <a:lnTo>
                    <a:pt x="433" y="341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2236680" y="1830240"/>
              <a:ext cx="1440" cy="3927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36680" y="2520720"/>
              <a:ext cx="2978280" cy="335160"/>
            </a:xfrm>
            <a:custGeom>
              <a:avLst/>
              <a:gdLst/>
              <a:ahLst/>
              <a:rect l="l" t="t" r="r" b="b"/>
              <a:pathLst>
                <a:path w="1876" h="211">
                  <a:moveTo>
                    <a:pt x="0" y="0"/>
                  </a:moveTo>
                  <a:lnTo>
                    <a:pt x="65" y="7"/>
                  </a:lnTo>
                  <a:lnTo>
                    <a:pt x="122" y="15"/>
                  </a:lnTo>
                  <a:lnTo>
                    <a:pt x="187" y="15"/>
                  </a:lnTo>
                  <a:lnTo>
                    <a:pt x="252" y="22"/>
                  </a:lnTo>
                  <a:lnTo>
                    <a:pt x="310" y="29"/>
                  </a:lnTo>
                  <a:lnTo>
                    <a:pt x="375" y="36"/>
                  </a:lnTo>
                  <a:lnTo>
                    <a:pt x="440" y="36"/>
                  </a:lnTo>
                  <a:lnTo>
                    <a:pt x="498" y="44"/>
                  </a:lnTo>
                  <a:lnTo>
                    <a:pt x="563" y="51"/>
                  </a:lnTo>
                  <a:lnTo>
                    <a:pt x="628" y="58"/>
                  </a:lnTo>
                  <a:lnTo>
                    <a:pt x="685" y="65"/>
                  </a:lnTo>
                  <a:lnTo>
                    <a:pt x="750" y="73"/>
                  </a:lnTo>
                  <a:lnTo>
                    <a:pt x="815" y="80"/>
                  </a:lnTo>
                  <a:lnTo>
                    <a:pt x="873" y="80"/>
                  </a:lnTo>
                  <a:lnTo>
                    <a:pt x="938" y="87"/>
                  </a:lnTo>
                  <a:lnTo>
                    <a:pt x="1003" y="94"/>
                  </a:lnTo>
                  <a:lnTo>
                    <a:pt x="1061" y="102"/>
                  </a:lnTo>
                  <a:lnTo>
                    <a:pt x="1126" y="109"/>
                  </a:lnTo>
                  <a:lnTo>
                    <a:pt x="1191" y="116"/>
                  </a:lnTo>
                  <a:lnTo>
                    <a:pt x="1248" y="123"/>
                  </a:lnTo>
                  <a:lnTo>
                    <a:pt x="1313" y="138"/>
                  </a:lnTo>
                  <a:lnTo>
                    <a:pt x="1378" y="145"/>
                  </a:lnTo>
                  <a:lnTo>
                    <a:pt x="1436" y="152"/>
                  </a:lnTo>
                  <a:lnTo>
                    <a:pt x="1501" y="160"/>
                  </a:lnTo>
                  <a:lnTo>
                    <a:pt x="1566" y="167"/>
                  </a:lnTo>
                  <a:lnTo>
                    <a:pt x="1624" y="174"/>
                  </a:lnTo>
                  <a:lnTo>
                    <a:pt x="1689" y="181"/>
                  </a:lnTo>
                  <a:lnTo>
                    <a:pt x="1746" y="196"/>
                  </a:lnTo>
                  <a:lnTo>
                    <a:pt x="1811" y="203"/>
                  </a:lnTo>
                  <a:lnTo>
                    <a:pt x="1876" y="211"/>
                  </a:lnTo>
                </a:path>
              </a:pathLst>
            </a:custGeom>
            <a:noFill/>
            <a:ln w="11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01760" y="3592440"/>
              <a:ext cx="9216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05080" y="3673440"/>
              <a:ext cx="91800" cy="918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96880" y="3741480"/>
              <a:ext cx="9072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00200" y="3833640"/>
              <a:ext cx="9036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03520" y="3903480"/>
              <a:ext cx="9036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93880" y="4017960"/>
              <a:ext cx="92160" cy="918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97200" y="4087800"/>
              <a:ext cx="91800" cy="918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900160" y="4201920"/>
              <a:ext cx="9216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92320" y="4260600"/>
              <a:ext cx="9216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95640" y="4386240"/>
              <a:ext cx="91800" cy="918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98600" y="4456080"/>
              <a:ext cx="92160" cy="918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90760" y="4570200"/>
              <a:ext cx="9036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94080" y="4616280"/>
              <a:ext cx="9036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97040" y="4708440"/>
              <a:ext cx="9072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87760" y="4894200"/>
              <a:ext cx="9180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90720" y="4962240"/>
              <a:ext cx="9216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94040" y="5078160"/>
              <a:ext cx="9216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86200" y="5181480"/>
              <a:ext cx="9216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89160" y="5273640"/>
              <a:ext cx="92160" cy="918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92480" y="5411520"/>
              <a:ext cx="9216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84640" y="5549760"/>
              <a:ext cx="9036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87600" y="5607000"/>
              <a:ext cx="90720" cy="918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23160" y="1565280"/>
              <a:ext cx="92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it Error R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487400" y="5999040"/>
              <a:ext cx="41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s/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6200000">
              <a:off x="1640520" y="372816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36680" y="3627360"/>
              <a:ext cx="2978280" cy="3154320"/>
            </a:xfrm>
            <a:custGeom>
              <a:avLst/>
              <a:gdLst/>
              <a:ahLst/>
              <a:rect l="l" t="t" r="r" b="b"/>
              <a:pathLst>
                <a:path w="1876" h="1987">
                  <a:moveTo>
                    <a:pt x="0" y="0"/>
                  </a:moveTo>
                  <a:lnTo>
                    <a:pt x="65" y="50"/>
                  </a:lnTo>
                  <a:lnTo>
                    <a:pt x="122" y="94"/>
                  </a:lnTo>
                  <a:lnTo>
                    <a:pt x="187" y="152"/>
                  </a:lnTo>
                  <a:lnTo>
                    <a:pt x="252" y="195"/>
                  </a:lnTo>
                  <a:lnTo>
                    <a:pt x="310" y="268"/>
                  </a:lnTo>
                  <a:lnTo>
                    <a:pt x="375" y="311"/>
                  </a:lnTo>
                  <a:lnTo>
                    <a:pt x="440" y="384"/>
                  </a:lnTo>
                  <a:lnTo>
                    <a:pt x="498" y="420"/>
                  </a:lnTo>
                  <a:lnTo>
                    <a:pt x="563" y="500"/>
                  </a:lnTo>
                  <a:lnTo>
                    <a:pt x="628" y="544"/>
                  </a:lnTo>
                  <a:lnTo>
                    <a:pt x="685" y="616"/>
                  </a:lnTo>
                  <a:lnTo>
                    <a:pt x="750" y="645"/>
                  </a:lnTo>
                  <a:lnTo>
                    <a:pt x="815" y="703"/>
                  </a:lnTo>
                  <a:lnTo>
                    <a:pt x="873" y="819"/>
                  </a:lnTo>
                  <a:lnTo>
                    <a:pt x="938" y="863"/>
                  </a:lnTo>
                  <a:lnTo>
                    <a:pt x="1003" y="935"/>
                  </a:lnTo>
                  <a:lnTo>
                    <a:pt x="1061" y="1001"/>
                  </a:lnTo>
                  <a:lnTo>
                    <a:pt x="1126" y="1059"/>
                  </a:lnTo>
                  <a:lnTo>
                    <a:pt x="1191" y="1146"/>
                  </a:lnTo>
                  <a:lnTo>
                    <a:pt x="1248" y="1233"/>
                  </a:lnTo>
                  <a:lnTo>
                    <a:pt x="1313" y="1269"/>
                  </a:lnTo>
                  <a:lnTo>
                    <a:pt x="1378" y="1371"/>
                  </a:lnTo>
                  <a:lnTo>
                    <a:pt x="1436" y="1429"/>
                  </a:lnTo>
                  <a:lnTo>
                    <a:pt x="1501" y="1472"/>
                  </a:lnTo>
                  <a:lnTo>
                    <a:pt x="1566" y="1566"/>
                  </a:lnTo>
                  <a:lnTo>
                    <a:pt x="1624" y="1595"/>
                  </a:lnTo>
                  <a:lnTo>
                    <a:pt x="1689" y="1726"/>
                  </a:lnTo>
                  <a:lnTo>
                    <a:pt x="1746" y="1784"/>
                  </a:lnTo>
                  <a:lnTo>
                    <a:pt x="1811" y="1849"/>
                  </a:lnTo>
                  <a:lnTo>
                    <a:pt x="1876" y="198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17760" y="2716200"/>
              <a:ext cx="2979720" cy="507960"/>
            </a:xfrm>
            <a:custGeom>
              <a:avLst/>
              <a:gdLst/>
              <a:ahLst/>
              <a:rect l="l" t="t" r="r" b="b"/>
              <a:pathLst>
                <a:path w="1877" h="320">
                  <a:moveTo>
                    <a:pt x="0" y="0"/>
                  </a:moveTo>
                  <a:lnTo>
                    <a:pt x="65" y="15"/>
                  </a:lnTo>
                  <a:lnTo>
                    <a:pt x="130" y="22"/>
                  </a:lnTo>
                  <a:lnTo>
                    <a:pt x="188" y="29"/>
                  </a:lnTo>
                  <a:lnTo>
                    <a:pt x="253" y="37"/>
                  </a:lnTo>
                  <a:lnTo>
                    <a:pt x="318" y="44"/>
                  </a:lnTo>
                  <a:lnTo>
                    <a:pt x="376" y="51"/>
                  </a:lnTo>
                  <a:lnTo>
                    <a:pt x="441" y="58"/>
                  </a:lnTo>
                  <a:lnTo>
                    <a:pt x="498" y="73"/>
                  </a:lnTo>
                  <a:lnTo>
                    <a:pt x="563" y="80"/>
                  </a:lnTo>
                  <a:lnTo>
                    <a:pt x="628" y="88"/>
                  </a:lnTo>
                  <a:lnTo>
                    <a:pt x="686" y="95"/>
                  </a:lnTo>
                  <a:lnTo>
                    <a:pt x="751" y="109"/>
                  </a:lnTo>
                  <a:lnTo>
                    <a:pt x="816" y="117"/>
                  </a:lnTo>
                  <a:lnTo>
                    <a:pt x="874" y="131"/>
                  </a:lnTo>
                  <a:lnTo>
                    <a:pt x="939" y="138"/>
                  </a:lnTo>
                  <a:lnTo>
                    <a:pt x="1003" y="146"/>
                  </a:lnTo>
                  <a:lnTo>
                    <a:pt x="1061" y="160"/>
                  </a:lnTo>
                  <a:lnTo>
                    <a:pt x="1126" y="167"/>
                  </a:lnTo>
                  <a:lnTo>
                    <a:pt x="1191" y="182"/>
                  </a:lnTo>
                  <a:lnTo>
                    <a:pt x="1249" y="196"/>
                  </a:lnTo>
                  <a:lnTo>
                    <a:pt x="1314" y="204"/>
                  </a:lnTo>
                  <a:lnTo>
                    <a:pt x="1379" y="218"/>
                  </a:lnTo>
                  <a:lnTo>
                    <a:pt x="1437" y="225"/>
                  </a:lnTo>
                  <a:lnTo>
                    <a:pt x="1501" y="240"/>
                  </a:lnTo>
                  <a:lnTo>
                    <a:pt x="1566" y="254"/>
                  </a:lnTo>
                  <a:lnTo>
                    <a:pt x="1624" y="269"/>
                  </a:lnTo>
                  <a:lnTo>
                    <a:pt x="1689" y="283"/>
                  </a:lnTo>
                  <a:lnTo>
                    <a:pt x="1754" y="291"/>
                  </a:lnTo>
                  <a:lnTo>
                    <a:pt x="1812" y="305"/>
                  </a:lnTo>
                  <a:lnTo>
                    <a:pt x="1877" y="320"/>
                  </a:lnTo>
                </a:path>
              </a:pathLst>
            </a:custGeom>
            <a:noFill/>
            <a:ln w="11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172040" y="3581280"/>
              <a:ext cx="9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17760" y="3535200"/>
              <a:ext cx="180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75000" y="3627360"/>
              <a:ext cx="921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321080" y="3581280"/>
              <a:ext cx="144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78320" y="3673440"/>
              <a:ext cx="921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424400" y="3627360"/>
              <a:ext cx="144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470480" y="3719520"/>
              <a:ext cx="9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16200" y="3673440"/>
              <a:ext cx="1800" cy="9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3440" y="3741480"/>
              <a:ext cx="9216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19520" y="3695400"/>
              <a:ext cx="144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76760" y="3798720"/>
              <a:ext cx="921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22840" y="3752640"/>
              <a:ext cx="144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68920" y="3844800"/>
              <a:ext cx="903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814640" y="3798720"/>
              <a:ext cx="180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871880" y="3879720"/>
              <a:ext cx="9072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17960" y="3833640"/>
              <a:ext cx="144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62600" y="3949560"/>
              <a:ext cx="9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08320" y="3903480"/>
              <a:ext cx="180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65560" y="3983040"/>
              <a:ext cx="921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11640" y="3936960"/>
              <a:ext cx="1440" cy="9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168880" y="4028760"/>
              <a:ext cx="9216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14960" y="3983040"/>
              <a:ext cx="1440" cy="9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61040" y="4098600"/>
              <a:ext cx="918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306760" y="4052880"/>
              <a:ext cx="1800" cy="9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64000" y="4120920"/>
              <a:ext cx="9216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410080" y="4074840"/>
              <a:ext cx="180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467320" y="4190760"/>
              <a:ext cx="9216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13400" y="4144680"/>
              <a:ext cx="144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59480" y="4236840"/>
              <a:ext cx="9036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05200" y="4190760"/>
              <a:ext cx="180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662440" y="4282920"/>
              <a:ext cx="9072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708520" y="4236840"/>
              <a:ext cx="180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65760" y="4375080"/>
              <a:ext cx="903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10040" y="4329000"/>
              <a:ext cx="180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56120" y="4444920"/>
              <a:ext cx="921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02200" y="4398840"/>
              <a:ext cx="180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59440" y="4512960"/>
              <a:ext cx="9216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05520" y="4467240"/>
              <a:ext cx="1440" cy="9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62400" y="4537080"/>
              <a:ext cx="921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108480" y="4491000"/>
              <a:ext cx="1800" cy="9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154560" y="4651200"/>
              <a:ext cx="921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00640" y="4605120"/>
              <a:ext cx="180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57880" y="4674960"/>
              <a:ext cx="9216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303960" y="4628880"/>
              <a:ext cx="144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361200" y="4686120"/>
              <a:ext cx="9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06920" y="4640040"/>
              <a:ext cx="180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53000" y="4835520"/>
              <a:ext cx="9072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499080" y="4789440"/>
              <a:ext cx="1800" cy="9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556320" y="4859280"/>
              <a:ext cx="903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600600" y="4813200"/>
              <a:ext cx="180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59640" y="5008320"/>
              <a:ext cx="9036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03920" y="4962240"/>
              <a:ext cx="144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50000" y="5032080"/>
              <a:ext cx="9216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96080" y="4986360"/>
              <a:ext cx="1440" cy="9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53320" y="5078160"/>
              <a:ext cx="918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99040" y="5032080"/>
              <a:ext cx="180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956280" y="5192640"/>
              <a:ext cx="921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02360" y="5146560"/>
              <a:ext cx="144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048440" y="5238720"/>
              <a:ext cx="921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094520" y="5192640"/>
              <a:ext cx="144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151760" y="5330520"/>
              <a:ext cx="5688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197480" y="5284800"/>
              <a:ext cx="1800" cy="9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95800" y="355752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4195800" y="355752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298760" y="36036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4298760" y="36036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02080" y="3649680"/>
              <a:ext cx="46080" cy="457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4402080" y="3649680"/>
              <a:ext cx="46080" cy="457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92440" y="36954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4492440" y="36954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95760" y="3719520"/>
              <a:ext cx="46080" cy="457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4595760" y="3719520"/>
              <a:ext cx="46080" cy="457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699080" y="3776400"/>
              <a:ext cx="4572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4698720" y="3776400"/>
              <a:ext cx="4572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790880" y="382248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4790880" y="382248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94200" y="38574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4894200" y="38574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986360" y="39258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4986360" y="39258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089320" y="396072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5089320" y="396072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92640" y="40068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192640" y="40068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83000" y="407484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5283000" y="407484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86320" y="40986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5386320" y="40986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89640" y="4167000"/>
              <a:ext cx="45720" cy="475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5489280" y="4167000"/>
              <a:ext cx="45720" cy="475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81440" y="421452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5581440" y="421452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684760" y="42606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5684760" y="42606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788080" y="4352760"/>
              <a:ext cx="4572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5787720" y="4352760"/>
              <a:ext cx="4572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79880" y="442116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5879880" y="442116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83200" y="44910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5983200" y="44910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086520" y="451296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6086520" y="451296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76880" y="462888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6176880" y="462888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80200" y="46512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280200" y="46512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383160" y="466236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6383160" y="466236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75320" y="48132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6475320" y="48132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578640" y="4835520"/>
              <a:ext cx="46080" cy="457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6578640" y="4835520"/>
              <a:ext cx="46080" cy="457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681600" y="4986360"/>
              <a:ext cx="46080" cy="457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6681600" y="4986360"/>
              <a:ext cx="46080" cy="457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73760" y="500832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6773760" y="500832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77080" y="50544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6877080" y="50544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80040" y="517032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6980040" y="517032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70760" y="52164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7070760" y="52164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173720" y="5308560"/>
              <a:ext cx="34920" cy="349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7173360" y="5319720"/>
              <a:ext cx="34920" cy="349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17760" y="3581280"/>
              <a:ext cx="2979720" cy="1749240"/>
            </a:xfrm>
            <a:custGeom>
              <a:avLst/>
              <a:gdLst/>
              <a:ahLst/>
              <a:rect l="l" t="t" r="r" b="b"/>
              <a:pathLst>
                <a:path w="1877" h="1102">
                  <a:moveTo>
                    <a:pt x="0" y="0"/>
                  </a:moveTo>
                  <a:lnTo>
                    <a:pt x="65" y="29"/>
                  </a:lnTo>
                  <a:lnTo>
                    <a:pt x="130" y="58"/>
                  </a:lnTo>
                  <a:lnTo>
                    <a:pt x="188" y="87"/>
                  </a:lnTo>
                  <a:lnTo>
                    <a:pt x="253" y="101"/>
                  </a:lnTo>
                  <a:lnTo>
                    <a:pt x="318" y="137"/>
                  </a:lnTo>
                  <a:lnTo>
                    <a:pt x="376" y="166"/>
                  </a:lnTo>
                  <a:lnTo>
                    <a:pt x="441" y="188"/>
                  </a:lnTo>
                  <a:lnTo>
                    <a:pt x="498" y="232"/>
                  </a:lnTo>
                  <a:lnTo>
                    <a:pt x="563" y="253"/>
                  </a:lnTo>
                  <a:lnTo>
                    <a:pt x="628" y="282"/>
                  </a:lnTo>
                  <a:lnTo>
                    <a:pt x="686" y="326"/>
                  </a:lnTo>
                  <a:lnTo>
                    <a:pt x="751" y="340"/>
                  </a:lnTo>
                  <a:lnTo>
                    <a:pt x="816" y="384"/>
                  </a:lnTo>
                  <a:lnTo>
                    <a:pt x="874" y="413"/>
                  </a:lnTo>
                  <a:lnTo>
                    <a:pt x="939" y="442"/>
                  </a:lnTo>
                  <a:lnTo>
                    <a:pt x="1003" y="500"/>
                  </a:lnTo>
                  <a:lnTo>
                    <a:pt x="1061" y="544"/>
                  </a:lnTo>
                  <a:lnTo>
                    <a:pt x="1126" y="587"/>
                  </a:lnTo>
                  <a:lnTo>
                    <a:pt x="1191" y="602"/>
                  </a:lnTo>
                  <a:lnTo>
                    <a:pt x="1249" y="674"/>
                  </a:lnTo>
                  <a:lnTo>
                    <a:pt x="1314" y="689"/>
                  </a:lnTo>
                  <a:lnTo>
                    <a:pt x="1379" y="696"/>
                  </a:lnTo>
                  <a:lnTo>
                    <a:pt x="1437" y="790"/>
                  </a:lnTo>
                  <a:lnTo>
                    <a:pt x="1501" y="805"/>
                  </a:lnTo>
                  <a:lnTo>
                    <a:pt x="1566" y="899"/>
                  </a:lnTo>
                  <a:lnTo>
                    <a:pt x="1624" y="914"/>
                  </a:lnTo>
                  <a:lnTo>
                    <a:pt x="1689" y="943"/>
                  </a:lnTo>
                  <a:lnTo>
                    <a:pt x="1754" y="1015"/>
                  </a:lnTo>
                  <a:lnTo>
                    <a:pt x="1812" y="1044"/>
                  </a:lnTo>
                  <a:lnTo>
                    <a:pt x="1877" y="1102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14BC-666F-4218-93BA-734DC7F0BE1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6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ck Error R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1523880" y="1579680"/>
            <a:ext cx="5602320" cy="4669200"/>
            <a:chOff x="1523880" y="1579680"/>
            <a:chExt cx="5602320" cy="4669200"/>
          </a:xfrm>
        </p:grpSpPr>
        <p:sp>
          <p:nvSpPr>
            <p:cNvPr id="300" name=""/>
            <p:cNvSpPr/>
            <p:nvPr/>
          </p:nvSpPr>
          <p:spPr>
            <a:xfrm>
              <a:off x="2058840" y="1847880"/>
              <a:ext cx="5021280" cy="397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58840" y="1847880"/>
              <a:ext cx="5021280" cy="3973680"/>
            </a:xfrm>
            <a:prstGeom prst="rect">
              <a:avLst/>
            </a:prstGeom>
            <a:noFill/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58840" y="1847880"/>
              <a:ext cx="1440" cy="39736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557440" y="1847880"/>
              <a:ext cx="1440" cy="39736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066840" y="1847880"/>
              <a:ext cx="1440" cy="39736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65440" y="1847880"/>
              <a:ext cx="1440" cy="39736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065480" y="1847880"/>
              <a:ext cx="1440" cy="39736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74880" y="1847880"/>
              <a:ext cx="1800" cy="39736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073480" y="1847880"/>
              <a:ext cx="1440" cy="39736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572080" y="1847880"/>
              <a:ext cx="1440" cy="39736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70320" y="1847880"/>
              <a:ext cx="1800" cy="39736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581520" y="1847880"/>
              <a:ext cx="1800" cy="39736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080120" y="1847880"/>
              <a:ext cx="1440" cy="39736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058840" y="5821560"/>
              <a:ext cx="502128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58840" y="4492800"/>
              <a:ext cx="502128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58840" y="3176640"/>
              <a:ext cx="5021280" cy="180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058840" y="1847880"/>
              <a:ext cx="5021280" cy="180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058840" y="1847880"/>
              <a:ext cx="50212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58840" y="1847880"/>
              <a:ext cx="5021280" cy="397368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0" y="341"/>
                  </a:moveTo>
                  <a:lnTo>
                    <a:pt x="433" y="341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2058840" y="1847880"/>
              <a:ext cx="1440" cy="3973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058840" y="5821560"/>
              <a:ext cx="5021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2058840" y="1847880"/>
              <a:ext cx="1440" cy="3973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2058840" y="577548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058840" y="184788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019240" y="5867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2557440" y="577548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557440" y="184788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440800" y="586764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3066840" y="577548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066840" y="184788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027240" y="5867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3565440" y="577548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565440" y="184788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50240" y="586764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4065480" y="577548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065480" y="184788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025520" y="5867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4574880" y="577548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74880" y="184788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458240" y="586764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73480" y="577548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073480" y="184788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33880" y="5867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572080" y="577548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572080" y="184788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55440" y="586764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070320" y="577548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70320" y="184788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30720" y="5867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6581520" y="577548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581520" y="184788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464880" y="586764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7080120" y="577548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080120" y="184788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040160" y="5867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058840" y="582156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7032600" y="5821560"/>
              <a:ext cx="47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747800" y="57279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15920" y="567072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58840" y="449280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7032600" y="4492800"/>
              <a:ext cx="47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747800" y="43992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15920" y="434196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58840" y="3176640"/>
              <a:ext cx="46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7032600" y="3176640"/>
              <a:ext cx="47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747800" y="30830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915920" y="302436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058840" y="1847880"/>
              <a:ext cx="46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7032600" y="1847880"/>
              <a:ext cx="47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47800" y="1754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15920" y="169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058840" y="1847880"/>
              <a:ext cx="50212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058840" y="1847880"/>
              <a:ext cx="5021280" cy="397368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0" y="341"/>
                  </a:moveTo>
                  <a:lnTo>
                    <a:pt x="433" y="341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058840" y="1847880"/>
              <a:ext cx="1440" cy="3973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58840" y="3013200"/>
              <a:ext cx="3014640" cy="569880"/>
            </a:xfrm>
            <a:custGeom>
              <a:avLst/>
              <a:gdLst/>
              <a:ahLst/>
              <a:rect l="l" t="t" r="r" b="b"/>
              <a:pathLst>
                <a:path w="1899" h="359">
                  <a:moveTo>
                    <a:pt x="0" y="0"/>
                  </a:moveTo>
                  <a:lnTo>
                    <a:pt x="66" y="7"/>
                  </a:lnTo>
                  <a:lnTo>
                    <a:pt x="124" y="22"/>
                  </a:lnTo>
                  <a:lnTo>
                    <a:pt x="190" y="29"/>
                  </a:lnTo>
                  <a:lnTo>
                    <a:pt x="256" y="36"/>
                  </a:lnTo>
                  <a:lnTo>
                    <a:pt x="314" y="44"/>
                  </a:lnTo>
                  <a:lnTo>
                    <a:pt x="380" y="58"/>
                  </a:lnTo>
                  <a:lnTo>
                    <a:pt x="445" y="66"/>
                  </a:lnTo>
                  <a:lnTo>
                    <a:pt x="504" y="73"/>
                  </a:lnTo>
                  <a:lnTo>
                    <a:pt x="570" y="88"/>
                  </a:lnTo>
                  <a:lnTo>
                    <a:pt x="635" y="95"/>
                  </a:lnTo>
                  <a:lnTo>
                    <a:pt x="694" y="110"/>
                  </a:lnTo>
                  <a:lnTo>
                    <a:pt x="760" y="117"/>
                  </a:lnTo>
                  <a:lnTo>
                    <a:pt x="825" y="132"/>
                  </a:lnTo>
                  <a:lnTo>
                    <a:pt x="884" y="139"/>
                  </a:lnTo>
                  <a:lnTo>
                    <a:pt x="949" y="154"/>
                  </a:lnTo>
                  <a:lnTo>
                    <a:pt x="1015" y="161"/>
                  </a:lnTo>
                  <a:lnTo>
                    <a:pt x="1074" y="176"/>
                  </a:lnTo>
                  <a:lnTo>
                    <a:pt x="1139" y="191"/>
                  </a:lnTo>
                  <a:lnTo>
                    <a:pt x="1205" y="198"/>
                  </a:lnTo>
                  <a:lnTo>
                    <a:pt x="1264" y="213"/>
                  </a:lnTo>
                  <a:lnTo>
                    <a:pt x="1329" y="227"/>
                  </a:lnTo>
                  <a:lnTo>
                    <a:pt x="1395" y="242"/>
                  </a:lnTo>
                  <a:lnTo>
                    <a:pt x="1453" y="257"/>
                  </a:lnTo>
                  <a:lnTo>
                    <a:pt x="1519" y="264"/>
                  </a:lnTo>
                  <a:lnTo>
                    <a:pt x="1585" y="279"/>
                  </a:lnTo>
                  <a:lnTo>
                    <a:pt x="1643" y="293"/>
                  </a:lnTo>
                  <a:lnTo>
                    <a:pt x="1709" y="308"/>
                  </a:lnTo>
                  <a:lnTo>
                    <a:pt x="1768" y="323"/>
                  </a:lnTo>
                  <a:lnTo>
                    <a:pt x="1833" y="337"/>
                  </a:lnTo>
                  <a:lnTo>
                    <a:pt x="1899" y="359"/>
                  </a:lnTo>
                </a:path>
              </a:pathLst>
            </a:custGeom>
            <a:noFill/>
            <a:ln w="11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023920" y="1812960"/>
              <a:ext cx="9216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128680" y="1812960"/>
              <a:ext cx="9216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220840" y="1812960"/>
              <a:ext cx="9360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325600" y="1812960"/>
              <a:ext cx="9180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430360" y="1812960"/>
              <a:ext cx="9180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522160" y="1812960"/>
              <a:ext cx="9396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627280" y="1824120"/>
              <a:ext cx="91800" cy="936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732040" y="1847880"/>
              <a:ext cx="9180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23840" y="1859040"/>
              <a:ext cx="92160" cy="936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928600" y="1928880"/>
              <a:ext cx="92160" cy="936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31920" y="1963800"/>
              <a:ext cx="93600" cy="936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125520" y="2068560"/>
              <a:ext cx="92160" cy="936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230280" y="2103480"/>
              <a:ext cx="92160" cy="936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333600" y="2184480"/>
              <a:ext cx="93600" cy="936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427200" y="2395800"/>
              <a:ext cx="92160" cy="918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31960" y="2476800"/>
              <a:ext cx="92160" cy="936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35280" y="2616480"/>
              <a:ext cx="93600" cy="936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728880" y="2779920"/>
              <a:ext cx="92160" cy="936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832200" y="2930760"/>
              <a:ext cx="93600" cy="936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936960" y="3152880"/>
              <a:ext cx="93600" cy="936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030560" y="3303720"/>
              <a:ext cx="91800" cy="936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133520" y="3432240"/>
              <a:ext cx="93960" cy="936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238280" y="3700440"/>
              <a:ext cx="93960" cy="939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332240" y="3794400"/>
              <a:ext cx="91800" cy="918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435200" y="3921120"/>
              <a:ext cx="93600" cy="939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539960" y="4154760"/>
              <a:ext cx="92160" cy="936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632120" y="4224600"/>
              <a:ext cx="93600" cy="936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36880" y="4586400"/>
              <a:ext cx="93600" cy="936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830480" y="4795920"/>
              <a:ext cx="92160" cy="936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933800" y="4935600"/>
              <a:ext cx="93600" cy="936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38560" y="5238720"/>
              <a:ext cx="93600" cy="939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8640" y="1579680"/>
              <a:ext cx="1121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lock Error R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336560" y="6066000"/>
              <a:ext cx="41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s/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16200000">
              <a:off x="1458000" y="377028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58840" y="1847880"/>
              <a:ext cx="3014640" cy="3425760"/>
            </a:xfrm>
            <a:custGeom>
              <a:avLst/>
              <a:gdLst/>
              <a:ahLst/>
              <a:rect l="l" t="t" r="r" b="b"/>
              <a:pathLst>
                <a:path w="1899" h="2158">
                  <a:moveTo>
                    <a:pt x="0" y="0"/>
                  </a:moveTo>
                  <a:lnTo>
                    <a:pt x="66" y="0"/>
                  </a:lnTo>
                  <a:lnTo>
                    <a:pt x="124" y="0"/>
                  </a:lnTo>
                  <a:lnTo>
                    <a:pt x="190" y="0"/>
                  </a:lnTo>
                  <a:lnTo>
                    <a:pt x="256" y="0"/>
                  </a:lnTo>
                  <a:lnTo>
                    <a:pt x="314" y="0"/>
                  </a:lnTo>
                  <a:lnTo>
                    <a:pt x="380" y="7"/>
                  </a:lnTo>
                  <a:lnTo>
                    <a:pt x="445" y="22"/>
                  </a:lnTo>
                  <a:lnTo>
                    <a:pt x="504" y="29"/>
                  </a:lnTo>
                  <a:lnTo>
                    <a:pt x="570" y="73"/>
                  </a:lnTo>
                  <a:lnTo>
                    <a:pt x="635" y="95"/>
                  </a:lnTo>
                  <a:lnTo>
                    <a:pt x="694" y="161"/>
                  </a:lnTo>
                  <a:lnTo>
                    <a:pt x="760" y="183"/>
                  </a:lnTo>
                  <a:lnTo>
                    <a:pt x="825" y="235"/>
                  </a:lnTo>
                  <a:lnTo>
                    <a:pt x="884" y="367"/>
                  </a:lnTo>
                  <a:lnTo>
                    <a:pt x="949" y="418"/>
                  </a:lnTo>
                  <a:lnTo>
                    <a:pt x="1015" y="506"/>
                  </a:lnTo>
                  <a:lnTo>
                    <a:pt x="1074" y="609"/>
                  </a:lnTo>
                  <a:lnTo>
                    <a:pt x="1139" y="704"/>
                  </a:lnTo>
                  <a:lnTo>
                    <a:pt x="1205" y="844"/>
                  </a:lnTo>
                  <a:lnTo>
                    <a:pt x="1264" y="939"/>
                  </a:lnTo>
                  <a:lnTo>
                    <a:pt x="1329" y="1020"/>
                  </a:lnTo>
                  <a:lnTo>
                    <a:pt x="1395" y="1189"/>
                  </a:lnTo>
                  <a:lnTo>
                    <a:pt x="1453" y="1248"/>
                  </a:lnTo>
                  <a:lnTo>
                    <a:pt x="1519" y="1328"/>
                  </a:lnTo>
                  <a:lnTo>
                    <a:pt x="1585" y="1475"/>
                  </a:lnTo>
                  <a:lnTo>
                    <a:pt x="1643" y="1519"/>
                  </a:lnTo>
                  <a:lnTo>
                    <a:pt x="1709" y="1747"/>
                  </a:lnTo>
                  <a:lnTo>
                    <a:pt x="1768" y="1879"/>
                  </a:lnTo>
                  <a:lnTo>
                    <a:pt x="1833" y="1967"/>
                  </a:lnTo>
                  <a:lnTo>
                    <a:pt x="1899" y="215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065480" y="3351240"/>
              <a:ext cx="3014640" cy="851040"/>
            </a:xfrm>
            <a:custGeom>
              <a:avLst/>
              <a:gdLst/>
              <a:ahLst/>
              <a:rect l="l" t="t" r="r" b="b"/>
              <a:pathLst>
                <a:path w="1899" h="536">
                  <a:moveTo>
                    <a:pt x="0" y="0"/>
                  </a:moveTo>
                  <a:lnTo>
                    <a:pt x="65" y="14"/>
                  </a:lnTo>
                  <a:lnTo>
                    <a:pt x="131" y="29"/>
                  </a:lnTo>
                  <a:lnTo>
                    <a:pt x="189" y="44"/>
                  </a:lnTo>
                  <a:lnTo>
                    <a:pt x="255" y="51"/>
                  </a:lnTo>
                  <a:lnTo>
                    <a:pt x="321" y="66"/>
                  </a:lnTo>
                  <a:lnTo>
                    <a:pt x="379" y="80"/>
                  </a:lnTo>
                  <a:lnTo>
                    <a:pt x="445" y="95"/>
                  </a:lnTo>
                  <a:lnTo>
                    <a:pt x="504" y="110"/>
                  </a:lnTo>
                  <a:lnTo>
                    <a:pt x="569" y="124"/>
                  </a:lnTo>
                  <a:lnTo>
                    <a:pt x="635" y="146"/>
                  </a:lnTo>
                  <a:lnTo>
                    <a:pt x="693" y="161"/>
                  </a:lnTo>
                  <a:lnTo>
                    <a:pt x="759" y="176"/>
                  </a:lnTo>
                  <a:lnTo>
                    <a:pt x="825" y="191"/>
                  </a:lnTo>
                  <a:lnTo>
                    <a:pt x="883" y="213"/>
                  </a:lnTo>
                  <a:lnTo>
                    <a:pt x="949" y="227"/>
                  </a:lnTo>
                  <a:lnTo>
                    <a:pt x="1015" y="242"/>
                  </a:lnTo>
                  <a:lnTo>
                    <a:pt x="1073" y="264"/>
                  </a:lnTo>
                  <a:lnTo>
                    <a:pt x="1139" y="279"/>
                  </a:lnTo>
                  <a:lnTo>
                    <a:pt x="1205" y="301"/>
                  </a:lnTo>
                  <a:lnTo>
                    <a:pt x="1263" y="323"/>
                  </a:lnTo>
                  <a:lnTo>
                    <a:pt x="1329" y="337"/>
                  </a:lnTo>
                  <a:lnTo>
                    <a:pt x="1395" y="359"/>
                  </a:lnTo>
                  <a:lnTo>
                    <a:pt x="1453" y="381"/>
                  </a:lnTo>
                  <a:lnTo>
                    <a:pt x="1519" y="403"/>
                  </a:lnTo>
                  <a:lnTo>
                    <a:pt x="1585" y="425"/>
                  </a:lnTo>
                  <a:lnTo>
                    <a:pt x="1643" y="447"/>
                  </a:lnTo>
                  <a:lnTo>
                    <a:pt x="1709" y="469"/>
                  </a:lnTo>
                  <a:lnTo>
                    <a:pt x="1775" y="491"/>
                  </a:lnTo>
                  <a:lnTo>
                    <a:pt x="1833" y="514"/>
                  </a:lnTo>
                  <a:lnTo>
                    <a:pt x="1899" y="536"/>
                  </a:lnTo>
                </a:path>
              </a:pathLst>
            </a:custGeom>
            <a:noFill/>
            <a:ln w="11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17600" y="1847880"/>
              <a:ext cx="9396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065480" y="1847880"/>
              <a:ext cx="144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122360" y="1847880"/>
              <a:ext cx="9396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168440" y="1847880"/>
              <a:ext cx="180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227480" y="1847880"/>
              <a:ext cx="918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273200" y="1847880"/>
              <a:ext cx="180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319280" y="1847880"/>
              <a:ext cx="936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365360" y="1847880"/>
              <a:ext cx="180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424040" y="1847880"/>
              <a:ext cx="9216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470120" y="1847880"/>
              <a:ext cx="180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528800" y="1847880"/>
              <a:ext cx="9216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574880" y="1847880"/>
              <a:ext cx="180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620960" y="1847880"/>
              <a:ext cx="936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667040" y="1847880"/>
              <a:ext cx="144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725720" y="1847880"/>
              <a:ext cx="9216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771800" y="1847880"/>
              <a:ext cx="144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817880" y="1847880"/>
              <a:ext cx="936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65400" y="1847880"/>
              <a:ext cx="180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922640" y="1847880"/>
              <a:ext cx="936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968720" y="1847880"/>
              <a:ext cx="144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027400" y="1870200"/>
              <a:ext cx="921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073480" y="1847880"/>
              <a:ext cx="1440" cy="698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119560" y="1870200"/>
              <a:ext cx="936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165640" y="1847880"/>
              <a:ext cx="1440" cy="698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24320" y="1859040"/>
              <a:ext cx="9216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270400" y="1847880"/>
              <a:ext cx="1440" cy="572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329080" y="1905120"/>
              <a:ext cx="921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375160" y="1859040"/>
              <a:ext cx="1440" cy="936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421240" y="1917720"/>
              <a:ext cx="936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467320" y="1870200"/>
              <a:ext cx="1440" cy="936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526000" y="1963800"/>
              <a:ext cx="918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572080" y="1917720"/>
              <a:ext cx="144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630760" y="1998720"/>
              <a:ext cx="918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676840" y="1952640"/>
              <a:ext cx="144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722560" y="2033640"/>
              <a:ext cx="9396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768640" y="1987560"/>
              <a:ext cx="180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827680" y="2114640"/>
              <a:ext cx="918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873400" y="2068560"/>
              <a:ext cx="1800" cy="936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932440" y="2138400"/>
              <a:ext cx="918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978160" y="2092320"/>
              <a:ext cx="180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024240" y="2232000"/>
              <a:ext cx="9216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070320" y="2184480"/>
              <a:ext cx="1800" cy="936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129000" y="2256120"/>
              <a:ext cx="921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175080" y="2208240"/>
              <a:ext cx="1800" cy="936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232320" y="2325960"/>
              <a:ext cx="936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279840" y="2278080"/>
              <a:ext cx="1800" cy="936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325920" y="2465640"/>
              <a:ext cx="921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372000" y="2417760"/>
              <a:ext cx="1440" cy="939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430680" y="2522520"/>
              <a:ext cx="9216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476760" y="2476800"/>
              <a:ext cx="1800" cy="936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534000" y="2733840"/>
              <a:ext cx="936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581520" y="2686320"/>
              <a:ext cx="1800" cy="936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627600" y="2768760"/>
              <a:ext cx="921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673680" y="2721240"/>
              <a:ext cx="1440" cy="936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732360" y="2826000"/>
              <a:ext cx="921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778440" y="2779920"/>
              <a:ext cx="1440" cy="936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835680" y="3013200"/>
              <a:ext cx="936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883200" y="2965680"/>
              <a:ext cx="1440" cy="936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929280" y="3083040"/>
              <a:ext cx="921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975360" y="3035520"/>
              <a:ext cx="1440" cy="936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032600" y="3246480"/>
              <a:ext cx="5868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080120" y="3198960"/>
              <a:ext cx="1440" cy="936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5480" y="1847880"/>
              <a:ext cx="2196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4041360" y="1847880"/>
              <a:ext cx="2196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0240" y="1847880"/>
              <a:ext cx="2232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4146120" y="1847880"/>
              <a:ext cx="2196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273200" y="1847880"/>
              <a:ext cx="2412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4249440" y="1847880"/>
              <a:ext cx="2376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367160" y="1847880"/>
              <a:ext cx="2196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4343040" y="1847880"/>
              <a:ext cx="2232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71920" y="1847880"/>
              <a:ext cx="2196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4447800" y="1847880"/>
              <a:ext cx="2232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574880" y="1847880"/>
              <a:ext cx="2376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4551120" y="1847880"/>
              <a:ext cx="2376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668480" y="1847880"/>
              <a:ext cx="2232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4644720" y="1847880"/>
              <a:ext cx="2232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773240" y="1847880"/>
              <a:ext cx="2232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4749480" y="1847880"/>
              <a:ext cx="2232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865400" y="1847880"/>
              <a:ext cx="2232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4841640" y="1847880"/>
              <a:ext cx="2232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70160" y="1847880"/>
              <a:ext cx="2232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4946400" y="1847880"/>
              <a:ext cx="2232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49720" y="1847880"/>
              <a:ext cx="4752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5049720" y="1847880"/>
              <a:ext cx="4752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143320" y="184788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5143320" y="184788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259240" y="1847880"/>
              <a:ext cx="34920" cy="349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5247720" y="1847880"/>
              <a:ext cx="34920" cy="349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351400" y="1882800"/>
              <a:ext cx="4752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5351400" y="1882800"/>
              <a:ext cx="4752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445000" y="189396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5445000" y="189396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549760" y="1940040"/>
              <a:ext cx="46080" cy="475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5549760" y="1940040"/>
              <a:ext cx="46080" cy="475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652720" y="1974960"/>
              <a:ext cx="46080" cy="475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5652720" y="1974960"/>
              <a:ext cx="46080" cy="475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746680" y="2009880"/>
              <a:ext cx="46080" cy="475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5746680" y="2009880"/>
              <a:ext cx="46080" cy="475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849640" y="2092320"/>
              <a:ext cx="478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5849280" y="2092320"/>
              <a:ext cx="478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954400" y="2114640"/>
              <a:ext cx="46080" cy="475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5954400" y="2114640"/>
              <a:ext cx="46080" cy="475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048000" y="2208240"/>
              <a:ext cx="46080" cy="478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6048000" y="2208240"/>
              <a:ext cx="46080" cy="478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151320" y="2232000"/>
              <a:ext cx="4752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6151320" y="2232000"/>
              <a:ext cx="4752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256080" y="230184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6256080" y="230184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349680" y="2441880"/>
              <a:ext cx="46080" cy="457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6349680" y="2441880"/>
              <a:ext cx="46080" cy="457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453000" y="250056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6453000" y="250056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557760" y="271008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6557760" y="271008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649920" y="2745000"/>
              <a:ext cx="4752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6649920" y="2745000"/>
              <a:ext cx="4752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754680" y="280368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6754680" y="280368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59440" y="298944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6859440" y="298944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951600" y="3059280"/>
              <a:ext cx="4752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6951600" y="3059280"/>
              <a:ext cx="4752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056360" y="3222720"/>
              <a:ext cx="34920" cy="349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7056000" y="3233880"/>
              <a:ext cx="34920" cy="349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065480" y="1847880"/>
              <a:ext cx="3014640" cy="1398600"/>
            </a:xfrm>
            <a:custGeom>
              <a:avLst/>
              <a:gdLst/>
              <a:ahLst/>
              <a:rect l="l" t="t" r="r" b="b"/>
              <a:pathLst>
                <a:path w="1899" h="881">
                  <a:moveTo>
                    <a:pt x="0" y="0"/>
                  </a:moveTo>
                  <a:lnTo>
                    <a:pt x="65" y="0"/>
                  </a:lnTo>
                  <a:lnTo>
                    <a:pt x="131" y="0"/>
                  </a:lnTo>
                  <a:lnTo>
                    <a:pt x="189" y="0"/>
                  </a:lnTo>
                  <a:lnTo>
                    <a:pt x="255" y="0"/>
                  </a:lnTo>
                  <a:lnTo>
                    <a:pt x="321" y="0"/>
                  </a:lnTo>
                  <a:lnTo>
                    <a:pt x="379" y="0"/>
                  </a:lnTo>
                  <a:lnTo>
                    <a:pt x="445" y="0"/>
                  </a:lnTo>
                  <a:lnTo>
                    <a:pt x="504" y="0"/>
                  </a:lnTo>
                  <a:lnTo>
                    <a:pt x="569" y="0"/>
                  </a:lnTo>
                  <a:lnTo>
                    <a:pt x="635" y="14"/>
                  </a:lnTo>
                  <a:lnTo>
                    <a:pt x="693" y="14"/>
                  </a:lnTo>
                  <a:lnTo>
                    <a:pt x="759" y="7"/>
                  </a:lnTo>
                  <a:lnTo>
                    <a:pt x="825" y="36"/>
                  </a:lnTo>
                  <a:lnTo>
                    <a:pt x="883" y="44"/>
                  </a:lnTo>
                  <a:lnTo>
                    <a:pt x="949" y="73"/>
                  </a:lnTo>
                  <a:lnTo>
                    <a:pt x="1015" y="95"/>
                  </a:lnTo>
                  <a:lnTo>
                    <a:pt x="1073" y="117"/>
                  </a:lnTo>
                  <a:lnTo>
                    <a:pt x="1139" y="168"/>
                  </a:lnTo>
                  <a:lnTo>
                    <a:pt x="1205" y="183"/>
                  </a:lnTo>
                  <a:lnTo>
                    <a:pt x="1263" y="242"/>
                  </a:lnTo>
                  <a:lnTo>
                    <a:pt x="1329" y="257"/>
                  </a:lnTo>
                  <a:lnTo>
                    <a:pt x="1395" y="301"/>
                  </a:lnTo>
                  <a:lnTo>
                    <a:pt x="1453" y="389"/>
                  </a:lnTo>
                  <a:lnTo>
                    <a:pt x="1519" y="425"/>
                  </a:lnTo>
                  <a:lnTo>
                    <a:pt x="1585" y="558"/>
                  </a:lnTo>
                  <a:lnTo>
                    <a:pt x="1643" y="580"/>
                  </a:lnTo>
                  <a:lnTo>
                    <a:pt x="1709" y="616"/>
                  </a:lnTo>
                  <a:lnTo>
                    <a:pt x="1775" y="734"/>
                  </a:lnTo>
                  <a:lnTo>
                    <a:pt x="1833" y="778"/>
                  </a:lnTo>
                  <a:lnTo>
                    <a:pt x="1899" y="881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E7D6-9FE0-41B4-BB4A-A50C67369B3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6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ath 64 byte pac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1295280" y="1600200"/>
          <a:ext cx="640080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00200"/>
                    <a:ext cx="64008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3B58-AF14-49CA-81D2-AD0321231E0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6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ath, 1000 byte pac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1219320" y="1625760"/>
          <a:ext cx="6392880" cy="507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25760"/>
                    <a:ext cx="63928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1AF5-F982-49BF-8E2A-AD4B26249F9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6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3dB is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ell Size Increase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 additional 3 dB coding gain equates roughly to a 30% increase in transmission distance in an open-air environment. For a given service area, the number of cells is roughly proportional to the service area divided by the transmission distance squared (area/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distance ^ 2). With a 3dB gain, the area covered by a cell is 70% larger which means that the number of cells required is reduced to approximately 60% that of a standard FEC system for the identical service are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duced Power at the Client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user/network operator can configure the system to utilize the optional FEC for the access point to client transmission (AP -&gt; C), the client to access point transmission (C -&gt; AP), or both. One possible scenario is to use the optional, high-performance FEC for C -&gt; AP transmission and the standard FEC for AP -&gt; C transmission. Only the low-cost/low-complexity encoder of the optional FEC is implemented at the client, while the increased complexity and power of the high-performance decoder are consumed at the access point, where the power and complexity are not as critical. On the C -&gt; AP transmission, the client may transmit at a lower power than the AP -&gt; C transmission, yet still retain equivalent performance. The result is lower power consumption at the client, increasing the operating time at the point where it is need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083E-B675-4B64-95C6-58FBCD839B9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6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Chris Heegard</dc:creator>
  <dc:description/>
  <dc:language>en-US</dc:language>
  <cp:lastModifiedBy>rodane</cp:lastModifiedBy>
  <cp:lastPrinted>1998-02-10T13:28:06Z</cp:lastPrinted>
  <dcterms:modified xsi:type="dcterms:W3CDTF">1999-07-21T13:40:50Z</dcterms:modified>
  <cp:revision>50</cp:revision>
  <dc:subject/>
  <dc:title>Code Performance</dc:title>
</cp:coreProperties>
</file>