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42812D-EA0A-45AC-A0E3-7055CB010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075360" y="396720"/>
            <a:ext cx="238284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 L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I-IEEE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Chair’s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5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93720" y="776160"/>
            <a:ext cx="1552680" cy="1522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175520" y="824040"/>
            <a:ext cx="122400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e vs Fixed service 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e applications require limitation of RF power need to save battery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xed link services require distances to be spanned so require more RF power, but have no AC power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ployment of devices of the two services mentioned above should therefore be outside each others geographic location or frequency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 of mobile and fixed users of similar applications must be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357800" y="6475320"/>
            <a:ext cx="5032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frequencies with other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um is a scarce resource and re-use should be encour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should be done where-ever possible, however, the co-existence should be warranted by careful and realistic calculation, on each application’s me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standard development should be our ultimate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ariats should agree on a form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pectrum policy is needed to respond to users and manufacturer’s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monization of applications versus spectrum bandwidth and use is required on a global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peration between RLAN Standards Committ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69920"/>
            <a:ext cx="77724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-hoc liaison done over the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lized liaison is difficult to achi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RLAN issue is administration of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of drafts and standards is required to prevent du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-hoc lia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I BRAN and IEEE P802.11 have had informal liaison over the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s were exchanged based on Chairman’s discr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torials were received by both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5 GHz groups in both bodies selected the same modulation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ly the groups are further looking at selecting the same or similar system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oal is to obtain the benefit of large scale volumes from multiple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also provide better co-existence pos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lized Liais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policy in either body that permits making draft standards or standards available to any of the work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chair could not make the 802.11-1997 standard available to the group in ETSI working on Home RF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formal structure to input comments into each other’s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development of a 5 GHz specification that enables a true global standard over and above the professional and technical differences of each group is hard to achieve (geographic differences, frequency allocation and application difference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um and System related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icensed vs Licensed b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 vs Co-existence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e bandwidth needed to make practical system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e vs Fixed service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with othe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availability of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n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monization of frequency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monization of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example is the 2.45 GHz band, which is now available to RLAN devices virtually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area of expansion may be found in the 5 GHz b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Hz band is available in Europe as the HIPERLAN band and in the USA as the U-NII b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ada and Japan are planning to introduce allocations for RLAN in the 5 GHz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icensed vs licensed b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is advising regulatory agencies to Segregate the rules for licensed and unlicensed applications into different frequency segments if the application is within the sam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request ETSI to advise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 vs Co-existence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295280"/>
            <a:ext cx="7772400" cy="43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2.45 GHz band is a good example of rules and regulations that are only concerned with co-existence requirements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 has been in use since the rules and regulations were ap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5 GHz band in Europe requires the use of an interoperability standard for RLAN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nd has been allocated from the early 1990s, but is still not used by RLAN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IEEE 802.11 RLAN devices under development for the 5 GHz band are not permitted due to the fact that the band may only be used by HIPERLAN device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ms to be in contradiction of the European policy for free trade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is requesting ETSI’s assistance to include RLAN devices as another type of HIPERLAN device in the 5 GHz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e bandwidth needed to make practical system 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ation of voice or data applications versus range, frequency re-use and digital data rates requires ample bandwidth for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rted efforts of IEEE and ETSI are required to harmonize the allocation of spectrum and system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