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F530CC-1B92-4187-9210-0845EF36A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1640" y="609480"/>
            <a:ext cx="7756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6477120"/>
            <a:ext cx="7832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ireless Personal Area Networ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Study Group Repor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8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ford, Massachuse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results of the Call For Applications -98/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 Pitch -98/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HomeRF Working Group Pitch -98/2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he discussion on the 802.11 MAC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La Jolla MAC Layer Discussion” Bruce Kraemer, Harris -98/2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the work of the SG and plan for Albuque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6002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ed responses to the CFA [-8/288] with Full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d in discussion to determine applicability of existing 802.11 MAC to W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d a summary matrix [-8/29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Working Group -98/2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 -98/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d “La Jolla” MAC Layer discussion in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plishment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676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d the MAC &amp; FH PICS for suitability to WPA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/322 802.11 PICS vs WPAN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/323 802.11 Terminology related to W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PHY PICS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d potential areas for mod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d on the impact to power consumption, compatibility &amp;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6765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fy &amp; prioritize the CFA summar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MAC &amp; FH 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key points in the 802.11 MAC that cause difficulties to WP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al of this activity is to recommend to the 802.11 WG in November to ei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e the existing MAC, 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new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Plan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a modified PAR to the November 802.11 Plenary for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 on the direction of the WPAN 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form a TG within 802.11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WG within 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AR is approved by the 802.11 Plenary, then forward it to ExCom for approval at the March 1999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eeting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ober Ad-hoc meeting concurrent with Bluetooth Developers Conference in Atlanta (Oct 26-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9-13 - Hyatt Regency, Albuquerque, NM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11-15 - Grosevenor Resort, Lake Buena Vista, FL, Interim (Har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8-12 - Hyatt Regency, Town Lake, Austin, TX,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TBD - Japan?, Interim (Clar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5-9 - Queen Elizabeth, Montreal, P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 TBD - Israel?, Interim (Breeze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8-12 - Hyatt Regency Kauai, Koloa, 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 Mailing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://ftp.flexipc.com/wearablesgrou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grouper.iee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ds-802-wpan@majordomo.iee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Gifford</dc:creator>
  <dc:description>Ian Gifford, M/A-COM</dc:description>
  <dc:language>en-US</dc:language>
  <cp:lastModifiedBy>Ian Gifford</cp:lastModifiedBy>
  <cp:revision>0</cp:revision>
  <dc:subject>Tentative Agenda Westford</dc:subject>
  <dc:title>doc.: IEEE 802.11-98/xxx</dc:title>
</cp:coreProperties>
</file>