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012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8640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880" y="3682080"/>
            <a:ext cx="8640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752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9880" y="368208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7520" y="368208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1280" y="160452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3040" y="160452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" y="368208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1280" y="368208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3040" y="3682080"/>
            <a:ext cx="27820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4216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7520" y="1604520"/>
            <a:ext cx="4216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9880" y="273600"/>
            <a:ext cx="86407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7520" y="1604520"/>
            <a:ext cx="4216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880" y="368208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4216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752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7520" y="368208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988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7520" y="1604520"/>
            <a:ext cx="4216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880" y="3682080"/>
            <a:ext cx="8640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601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721400" y="396720"/>
            <a:ext cx="415908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609480"/>
            <a:ext cx="8159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20720" y="6475320"/>
            <a:ext cx="746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0720" y="647712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880" y="273600"/>
            <a:ext cx="86407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To IEEE WPAN Study Group Call For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D. McI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e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.d.mcinnis@boe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devices in the WPAN network (e.g. PDA, bar code scanner, printer, etc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CE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-Held Personal Computers (HP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ode scanners (may be part of WinCE device or HP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Readers - paperback size, accomodates up to ~ 4,000 pages of text and graphics. (i.e. RocketBook product at www.rocketbook.c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mmunication Service (PCS) wireless 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ccess Point ? (multiple radios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Telephony (VoIP) wireless 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 WPAN network init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s programmed with node or WPAN network IDs, WPAN access IDs pre-programmed into an ID table. The WPAN radios bind together depending on pre-programmed ID table(s). Adding/deleting IDs and Radio binding takes place without re-booting client each time a change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bit, 128 bit (option) encryption (DES?) key used as a means of RF link binding authent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client devices attach and detach from the network. Is human intervention requi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evices must support an Operating System (OS) (i.e. WinCE, Win95/97, linux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interface devices provide interface conversion to dumb devices (i.e. serial port, parallel port, USB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layer protocols are used to “network” with other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tervention is required for client device inter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20720" y="685800"/>
            <a:ext cx="8159760" cy="11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ffic flow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data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data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of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Protocols - TCP and UDP with 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flow, type, and amount is dependant on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P  (G.723.1 low-bit-rate speech coder for multimedia communications operating at 5.3 or 6.3 Kb/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G.711 (pulse code modulation [PCM] audio codec, 3.1 Khz bandwidth at 48, 56, and 64 Kb/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od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bas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latency in the message transfer is acceptable?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data latency as low as possible (less than 50 m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otential application - VoIP, is latency sensit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atency never hurt devices which can tolerate high lat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20720" y="99072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interface to a larger network (e.g. an 802.11 network)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so, how should these networks be inter-connected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20720" y="21337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devices to inter-connect with BlueTooth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devices to inter-connect with IEEE 802.11 (if 802.11 std. not used as part of WPAN st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20720" y="1295280"/>
            <a:ext cx="81597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need to send data between two (or more) PAN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two PANs within range of one another interac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should  WPANs inter-communicate/connect when within rang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inter-communicating WPANs configure themselves into one network or only communicate between masters, for example?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0720" y="26668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a need to inter-connect with two or more WP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WPANs enabled via node ID table(s) and frequency hopping pattern(s) se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master node to WPAN master node inter-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to single master if the peer(s) from one WPAN move out of range of one WPAN and into range of another WPAN (with recognized node ID and hopping patter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hort RF range for WPAN applications (up to 50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up-shift to higher power to communicate with WLAN when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nsume much less battery power than current WLAN PCMCIA devices 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C, WinCE, etc. devices do not have a large batt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like to have HPC, WinCE, etc. devices able to use the WPAN radio for a full 8 hours without battery recharge or re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20720" y="685800"/>
            <a:ext cx="815976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Factory and Business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and WPAN Connections to Factory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9080" y="1917720"/>
            <a:ext cx="73659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and WPAN Connections to Factory Tool Trucks and Fork L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04960" y="2954160"/>
            <a:ext cx="63133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 Barcode Lab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9560" y="2171520"/>
            <a:ext cx="4027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19280" y="83808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Switching Between WLAN and WPAN Dependant on Wireless Network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17880" y="2502000"/>
            <a:ext cx="35481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S and Wireless PBX application using PCS Carrier Voice Service and WLAN Voice Over IP (Vo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6120" y="2679840"/>
            <a:ext cx="39481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20720" y="685800"/>
            <a:ext cx="8159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 of WPA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20720" y="914400"/>
            <a:ext cx="815976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vices in a Personal Area Network (PAN)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work topolog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hitecture? (master-slave or peer-to-peer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ten used configuration - 2 devices (one master, one sla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device in the PAN configured as a “master” (Opt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support 8 or more slave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“master” fails, a slave can be configured as a m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 enabled when out of RF range of a master device, or when no master device is found within WPAN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McInnis</dc:creator>
  <dc:description/>
  <dc:language>en-US</dc:language>
  <cp:lastModifiedBy>Mike McInnis</cp:lastModifiedBy>
  <cp:revision>0</cp:revision>
  <dc:subject/>
  <dc:title>List of material that should be included in a dscription of your WPAN applications</dc:title>
</cp:coreProperties>
</file>