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1400" y="380880"/>
            <a:ext cx="79754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802.11-98/319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93720" y="76212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19120" y="6172200"/>
            <a:ext cx="79311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                                           page </a:t>
            </a:r>
            <a:fld id="{898DE992-351C-4530-8AD0-9B0D955DA1EC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Greg Ennis, Ennis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248520"/>
            <a:ext cx="815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Bluetooth on 802.11 Direct Sequence Wireless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g 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nis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31 Englewood 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Gatos, CA 950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914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Time and Frequency Overlap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orth American operation, the probability that an 802.11 packet of duration L experiences no Bluetooth collision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/3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L/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(2/3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L/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209680"/>
            <a:ext cx="8001000" cy="3505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802.11 Mechanisms to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packet size, hence likelihood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/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won’t obey.  RTS/CTS may succeed yet DATA transfer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sociation to a new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interference will be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allows for 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n of frames DATA-ACK-DATA-ACK, separated by S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error, transmitter backs off, continues starting with errored 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head: PHY and MAC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l under high error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of Bluetooth/802.11 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developed incorporating calculation on overlap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s: 802 Data rate + packet size, Bluetooth hop rate + picocell uti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: “Degradation Factor” versus fragme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 Factor is ratio of nonfragmented unimpaired transmission time to impaire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at 5.5. Mb/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43280" y="1741320"/>
            <a:ext cx="4775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BT picocell ut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93680" y="2038320"/>
            <a:ext cx="72802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Mb/s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50760" y="2038320"/>
            <a:ext cx="78724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b/s, 500 byte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2009880"/>
            <a:ext cx="54244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andwidth Si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e, Jap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is even more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if only two 802.11 channels available, expression for non-collision be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2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L/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(1/2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L/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Versus 3 Chann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1876320"/>
            <a:ext cx="60325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Frequency Ho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is a fast frequency hopping system focused on PA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opping period 625 micro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voice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with higher pow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rrier sense, no defer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within 2.4 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can impact 802.11 DS significantly, particularly on larg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802.11 mechanisms for responding to  poor channel quality either have no impact or make things 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 can help, mainly at lower data rates and high picocell uti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back to low-rate FH may b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/802.11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048040"/>
            <a:ext cx="6716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-induced coll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1752480"/>
            <a:ext cx="78138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obability that an 802.11 packet and a Bluetooth transmission will overlap in both time and freq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verlap: depends on duration of packet and relative timing of BT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verlap: depends upon number of channels - geographic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L = 802.11 packet dur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Bluetooth dwell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will partially overlap eith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well periods, depending on relative ti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iling(x) = least integer greater than or equal to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Time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d = the "delta" between the last Bluetooth hop and the start of the packet, where L = 1.3H and d &gt; .7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packet will overlap 3 Bluetooth dwell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0200" y="3962520"/>
            <a:ext cx="7607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verlap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ability that an 802.11 packet of duration L will overlap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dwell periods of duration 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ability that it overlap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 dwell period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L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North America, the probability that at any given time a Bluetooth transmitter is on a narrowband channel outside of a given wideband 802.11 DS channel is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802.11 packet overlaps with N Bluetooth dwell periods, the probability of no frequency overlap is (2/3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Ennis</dc:creator>
  <dc:description/>
  <dc:language>en-US</dc:language>
  <cp:lastModifiedBy>rodane</cp:lastModifiedBy>
  <cp:revision>0</cp:revision>
  <dc:subject/>
  <dc:title>Impact of Bluetooth on 802.11 Direct Sequence Wireless LANs</dc:title>
</cp:coreProperties>
</file>