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AB5A91E-B3DB-42A6-8F77-B58441746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76600" y="39672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87-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40840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WG agenda, September 1998</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1st</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2" name=""/>
          <p:cNvSpPr txBox="1"/>
          <p:nvPr/>
        </p:nvSpPr>
        <p:spPr>
          <a:xfrm>
            <a:off x="762120" y="1981080"/>
            <a:ext cx="7772400" cy="351684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September 14-18,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Westford, Massachusetts</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Sep 14, 8:30</a:t>
            </a:r>
            <a:br>
              <a:rPr sz="2800"/>
            </a:br>
            <a:r>
              <a:rPr b="1" lang="en-US" sz="2800" spc="-1" strike="noStrike">
                <a:solidFill>
                  <a:srgbClr val="000000"/>
                </a:solidFill>
                <a:latin typeface="Arial"/>
                <a:ea typeface="Arial"/>
              </a:rPr>
              <a:t>Includes meetings of the WPAN Study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7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802.11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8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estford,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9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94"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3333cc"/>
                </a:solidFill>
                <a:latin typeface="Times New Roman"/>
                <a:ea typeface="Times New Roman"/>
              </a:rPr>
              <a:t>Chang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removed TG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added complaint, recogni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9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00"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     Logistics (Copying)</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0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4</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ogistics (document distribution)</a:t>
            </a:r>
            <a:endParaRPr b="0" lang="en-US" sz="3600" spc="-1" strike="noStrike">
              <a:solidFill>
                <a:srgbClr val="000000"/>
              </a:solidFill>
              <a:latin typeface="Arial"/>
            </a:endParaRPr>
          </a:p>
        </p:txBody>
      </p:sp>
      <p:sp>
        <p:nvSpPr>
          <p:cNvPr id="108"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4</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ogistics (document distribution)</a:t>
            </a:r>
            <a:endParaRPr b="0" lang="en-US" sz="3600" spc="-1" strike="noStrike">
              <a:solidFill>
                <a:srgbClr val="000000"/>
              </a:solidFill>
              <a:latin typeface="Arial"/>
            </a:endParaRPr>
          </a:p>
        </p:txBody>
      </p:sp>
      <p:sp>
        <p:nvSpPr>
          <p:cNvPr id="110"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1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How to pick your papers</a:t>
            </a:r>
            <a:endParaRPr b="0" lang="en-US" sz="3600" spc="-1" strike="noStrike">
              <a:solidFill>
                <a:srgbClr val="000000"/>
              </a:solidFill>
              <a:latin typeface="Arial"/>
            </a:endParaRPr>
          </a:p>
        </p:txBody>
      </p:sp>
      <p:sp>
        <p:nvSpPr>
          <p:cNvPr id="113"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5"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48"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49"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0"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58"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59"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61"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58"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Studygroup |  TGb !  SG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     | Full 802.11 |  Tgb ! SG?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TGa !  SG |.............|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6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6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83808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6</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nd 1.7</a:t>
            </a:r>
            <a:br>
              <a:rPr sz="3600"/>
            </a:br>
            <a:r>
              <a:rPr b="0" lang="en-US" sz="3600" spc="-1" strike="noStrike">
                <a:solidFill>
                  <a:srgbClr val="000000"/>
                </a:solidFill>
                <a:latin typeface="Times New Roman"/>
                <a:ea typeface="Times New Roman"/>
              </a:rPr>
              <a:t>Individual and Anti-Trust</a:t>
            </a:r>
            <a:endParaRPr b="0" lang="en-US" sz="3600" spc="-1" strike="noStrike">
              <a:solidFill>
                <a:srgbClr val="000000"/>
              </a:solidFill>
              <a:latin typeface="Arial"/>
            </a:endParaRPr>
          </a:p>
        </p:txBody>
      </p:sp>
      <p:sp>
        <p:nvSpPr>
          <p:cNvPr id="167" name=""/>
          <p:cNvSpPr txBox="1"/>
          <p:nvPr/>
        </p:nvSpPr>
        <p:spPr>
          <a:xfrm>
            <a:off x="685800" y="198108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5800" y="4572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8</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Other announcements</a:t>
            </a:r>
            <a:endParaRPr b="0" lang="en-US" sz="3600" spc="-1" strike="noStrike">
              <a:solidFill>
                <a:srgbClr val="000000"/>
              </a:solidFill>
              <a:latin typeface="Arial"/>
            </a:endParaRPr>
          </a:p>
        </p:txBody>
      </p:sp>
      <p:sp>
        <p:nvSpPr>
          <p:cNvPr id="171" name=""/>
          <p:cNvSpPr txBox="1"/>
          <p:nvPr/>
        </p:nvSpPr>
        <p:spPr>
          <a:xfrm>
            <a:off x="685800" y="1066680"/>
            <a:ext cx="7772400" cy="47516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2 Status of publication of 802.11rev</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nex c, State Diagrams, is still not availa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EEE Editor has required the availability of Annex C in her checklist to RevCo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RevCom: 1 negative vote, 2 positive subject to availability of annex 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und a volunteer for Updating Annex c from Eastman Koda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an to have available first week of Octob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include editorials found causing compiler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85800" y="838080"/>
            <a:ext cx="7772400" cy="562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73" name=""/>
          <p:cNvSpPr txBox="1"/>
          <p:nvPr/>
        </p:nvSpPr>
        <p:spPr>
          <a:xfrm>
            <a:off x="121932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1.8.3 Attacks on spectrum in 5 GHz globally</a:t>
            </a:r>
            <a:endParaRPr b="0" lang="en-US" sz="23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Lower part of the band is also allocated globally to the Mobile Satelite Service for Earth- to-space links</a:t>
            </a:r>
            <a:endParaRPr b="0" lang="en-US" sz="23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Long ago, ETSI did approve the co-existence of MSS in the lower 5 GHz band based on calculation</a:t>
            </a:r>
            <a:endParaRPr b="0" lang="en-US" sz="23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Now the MSS industry is requiring regulatory agencies to reduce the RLAN allocations effectively eliminating RLAN from the 5150-5125 MHz band </a:t>
            </a:r>
            <a:endParaRPr b="0" lang="en-US" sz="23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10 mW e.i.r.p. and AC operation (that is not on battery operated equipmen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 cont’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ad player is ICO Global Communications, an INMARSAT spin-off and Globalstar, in the backgrou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in battlefield is in CEPT Project Team SE28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K Radio Communications now supports the MSS clai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bbying is also taking place in Japan, US and Ca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6858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8</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Other announcements</a:t>
            </a:r>
            <a:endParaRPr b="0" lang="en-US" sz="3600" spc="-1" strike="noStrike">
              <a:solidFill>
                <a:srgbClr val="000000"/>
              </a:solidFill>
              <a:latin typeface="Arial"/>
            </a:endParaRPr>
          </a:p>
        </p:txBody>
      </p:sp>
      <p:sp>
        <p:nvSpPr>
          <p:cNvPr id="177" name=""/>
          <p:cNvSpPr txBox="1"/>
          <p:nvPr/>
        </p:nvSpPr>
        <p:spPr>
          <a:xfrm>
            <a:off x="990720" y="1028880"/>
            <a:ext cx="7772400" cy="48006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600" spc="-1" strike="noStrike">
                <a:solidFill>
                  <a:srgbClr val="000000"/>
                </a:solidFill>
                <a:latin typeface="Times New Roman"/>
                <a:ea typeface="Times New Roman"/>
              </a:rPr>
              <a:t>1.8.3 Attacks on spectrum in 5 GHz globally, cont’d</a:t>
            </a:r>
            <a:endParaRPr b="0" lang="en-US" sz="26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600" spc="-1" strike="noStrike">
                <a:solidFill>
                  <a:srgbClr val="000000"/>
                </a:solidFill>
                <a:latin typeface="Times New Roman"/>
                <a:ea typeface="Times New Roman"/>
              </a:rPr>
              <a:t>Jan Kruys (Chair of ETSI BRAN) is single advocate for the RLAN industry. Please assist him by:</a:t>
            </a:r>
            <a:endParaRPr b="0" lang="en-US" sz="26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ing active either directly or via the national bodies for preparing CEPT and ITU-R decisions. All CEPT members have influence on the result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ing the meetings off CEPT SE and its Project Team SE28 as well as the ITU-R JRG 8A/9B, WP 8D and others involved in this subject.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moting the usage of the band for RLANs shared with the MSS in Japan MPT, USA-FCC and Industry Canada – these countries are (re-) considering regulations for RL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4 Use of MS-Office 95 applications, tall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5 Meeting of IEEE SAB in France </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also be used for a meeting of Executives of IEEE and ETSI</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LAN is on the agend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6 Announvements from th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2"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 h</a:t>
            </a:r>
            <a:endParaRPr b="0" lang="en-US" sz="32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ogn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 Jolla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284</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6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287</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6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Comments to Industry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1 the 5 GHz band characteristic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2 UK plans with licenses in the 2.45 GHz ba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3 RF Power for RFID in European 2.45 GHz ba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4 Liaison with ETSI-BRA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5 Teleconference ETSI/Exec-IEEE Exe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6 Liaison with MM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