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7D584B5-E5C4-49D3-8F10-4F0BAF480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49480" y="692280"/>
            <a:ext cx="4559040" cy="3416040"/>
          </a:xfrm>
          <a:prstGeom prst="rect">
            <a:avLst/>
          </a:prstGeom>
          <a:ln w="0">
            <a:noFill/>
          </a:ln>
        </p:spPr>
      </p:sp>
      <p:sp>
        <p:nvSpPr>
          <p:cNvPr id="18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49480" y="692280"/>
            <a:ext cx="455904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49480" y="692280"/>
            <a:ext cx="455904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49480" y="692280"/>
            <a:ext cx="455904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149480" y="692280"/>
            <a:ext cx="4559040" cy="3416040"/>
          </a:xfrm>
          <a:prstGeom prst="rect">
            <a:avLst/>
          </a:prstGeom>
          <a:ln w="0">
            <a:noFill/>
          </a:ln>
        </p:spPr>
      </p:sp>
      <p:sp>
        <p:nvSpPr>
          <p:cNvPr id="24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EDC10-6D8A-42A4-A21E-43862A31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D6386-9BA9-463B-AF3F-265C964F6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3772B-4180-4CA2-BEC0-BD4E256C1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32FFC-01D5-4B0C-966B-E65C06B11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9A24-1B2F-486E-B5BA-6D4077E84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2806-38A0-41C9-B39F-6E352AE32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8211-7348-4DA3-997C-31343F5B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6B6D4-C500-49E0-AB89-3A277B8F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E8E4-BC24-4B50-8177-1A668AB5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3A75-89E3-4855-9CAE-A44EC87A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C978-20DA-4983-A57A-E7BF097E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98CBC-1339-42EF-8171-F54DD6B5F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3A748-ADD9-4B17-BF25-9EDB2D4F6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03</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0480" y="647532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7000"/>
          </a:bodyPr>
          <a:p>
            <a:pPr marL="332640" indent="-3326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3-7, 1999</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ba, (Tokyo), Japan</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May 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Chiba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1" name=""/>
          <p:cNvGraphicFramePr/>
          <p:nvPr/>
        </p:nvGraphicFramePr>
        <p:xfrm>
          <a:off x="1728720" y="1523880"/>
          <a:ext cx="5587920" cy="2419560"/>
        </p:xfrm>
        <a:graphic>
          <a:graphicData uri="http://schemas.openxmlformats.org/presentationml/2006/ole">
            <p:oleObj r:id="rId1" spid="">
              <p:embed/>
              <p:pic>
                <p:nvPicPr>
                  <p:cNvPr id="11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work of TGd (Regulatory domai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part of the band is also allocated globally to the Mobile Satelite Service for Earth- to-space link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ago, ETSI did approve the co-existence of MSS in the lower 5 GHz band based on calculatio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April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668520" indent="-257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 Kruys (Chair of ETSI BRAN) is single advocate for the RLAN industry. Please assist him by:</a:t>
            </a:r>
            <a:endParaRPr b="0" lang="en-US" sz="28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ing the meetings off CEPT SE and its Project Team SE28 as well as the ITU-R JRG 8A/9B, WP 8D and others involved in this subject.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99/93</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March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financial report of the Waltha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Lake Buena Vista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 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4-12T08:51:08Z</dcterms:modified>
  <cp:revision>28</cp:revision>
  <dc:subject/>
  <dc:title>No Slide Title</dc:title>
</cp:coreProperties>
</file>