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B679F8B-D22D-467F-9F4A-F55CCA7C2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1149480" y="692280"/>
            <a:ext cx="4559040" cy="3416040"/>
          </a:xfrm>
          <a:prstGeom prst="rect">
            <a:avLst/>
          </a:prstGeom>
          <a:ln w="0">
            <a:noFill/>
          </a:ln>
        </p:spPr>
      </p:sp>
      <p:sp>
        <p:nvSpPr>
          <p:cNvPr id="18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49480" y="692280"/>
            <a:ext cx="455904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49480" y="692280"/>
            <a:ext cx="455904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50920" y="692280"/>
            <a:ext cx="455616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0D78C-CE62-4B19-9919-11A7D067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A8E3C-F5ED-4286-AE9E-5C278735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84E0-DC74-4D73-844D-39127F13E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5AE97-D826-4F16-B453-328E30F2E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D8E45-52DD-4E8D-B66B-F7F9DC358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1E45B-6D82-4F86-8D04-AE0A304D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19AF9-7123-4A91-A5CA-FF88A250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4DE17-BC51-436E-98E2-14A1F1E9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B187-E20E-46EF-8CF4-A19EBEDB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91D7-E80E-470C-B9CF-FEBFEC10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FD8D2-800D-475E-9026-0676D573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05CD-45C0-4065-A7A0-07E210398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0A4A3A-2945-4CC4-A710-C8602A995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8-19T08:17:54Z</dcterms:modified>
  <cp:revision>37</cp:revision>
  <dc:subject/>
  <dc:title>No Slide Title</dc:title>
</cp:coreProperties>
</file>