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36CA-F1CA-4FA0-8F9F-7DA75892C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A4CD-A493-44AA-99F6-6BA29CA4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BAD6-DDB2-4FBD-8051-7DB29ADE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F2AC-7EA3-489D-9D6C-317ED0A2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1BBF-1E27-4AE7-9F01-ED57D3DF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4EE1-D200-47EC-9A42-ECE1A062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D80E-DF9E-4F00-82A0-8BF5E452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519D-C8AA-45AF-9F16-B3F90B85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02B5-1D1F-49E1-80BB-8325907D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52F3-681F-4D2E-8DFE-2A4F9CC7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0D37-EEA4-48A6-BB56-DE071B56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257D-68F1-4386-8597-55540058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5470-1C75-4413-AD9D-B0DC1912D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600" y="396000"/>
            <a:ext cx="124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486400" y="6475320"/>
            <a:ext cx="312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s Kuwahara,  Boe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9024225-BC14-4198-8904-DD069A1DC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0/2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Study Grou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or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uai, Hawa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-11 Nov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Study Grou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ory Issu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u Delaverson    Motor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 Johnson         WLAN Consul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is Kuwahara   Boe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hard Paine        Boe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er Mim           Prox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Murray         N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ry Worstell      AT&amp;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k Ostermiller    Aware In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4 GHz NPRM Com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K - RA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GHz World Wide (Request for Vo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9T07:57:46Z</dcterms:created>
  <dc:creator>Standard Software Service</dc:creator>
  <dc:description/>
  <dc:language>en-US</dc:language>
  <cp:lastModifiedBy>vichayes</cp:lastModifiedBy>
  <cp:lastPrinted>1999-12-20T15:53:14Z</cp:lastPrinted>
  <dcterms:modified xsi:type="dcterms:W3CDTF">1999-12-20T15:53:21Z</dcterms:modified>
  <cp:revision>9</cp:revision>
  <dc:subject/>
  <dc:title>802.11 Regulatory Issues  Study Group</dc:title>
</cp:coreProperties>
</file>