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9/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1371600"/>
            <a:ext cx="7772400" cy="15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a Wireless Personal Area Network Physical Lay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Access Control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66680" y="3048120"/>
            <a:ext cx="708660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n Heber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tman Kodak 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 Eastman 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hester, NY 14650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: 716-588-19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heberlin@koda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Media-ISM (MM-ISM) Physical Layer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MM-ISM Physical Layer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Frequency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 to 2.5 GHz ISM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Mod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band CP-BF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 NRZ data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MM-ISM Physical Layer Attributes cont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Power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300 milliwatts ( Transm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100 milliwatts (Rece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Rate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MM-ISM Physical Layer Attributes cont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MHz ( 20 Mbp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3 MHz ( 1 Mb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Operating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overlapping 20 Mbps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non-overlapping 20 Mbps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 non-overlapping 1 Mbps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ISM Band Channelization to Support 20 Mbps Data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ISM Band Channelization to Support 1 Mbps Data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MM-ISM Physical Layer Attributes cont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xTurnAroundTime  &lt; 10 u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TxTurnAroundTime  &lt; 10 u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DetectTime = 10 u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 Time  &lt; 20 u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 = RxTxTurnAroundTime + EnergyDetect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MM-ISM Physical Layer Transmit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Power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 10mW (10dBm) or -20dBW e.i.r.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 pow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dB below max. peak power of 10 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Spectrum Mask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CFA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c:IEEE 802.11-98/35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 Propos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c:IEEE 802.11-99/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Access Control Protocol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MM-ISM Physical Layer Receiver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6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Input Leve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E-06 BER with -80dBm measured at anten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Inpu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E-06 BER with -10dBm measured at the ant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Adjacent Channel Re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-ISM Physical Layer PICS Proforma A.4.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-ISM Physical Layer PICS Proforma A.4.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-ISM Physical Layer PICS Proforma A.4.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858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MM-ISM Physical Layer Attributes</a:t>
            </a:r>
            <a:br>
              <a:rPr sz="1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</a:t>
            </a:r>
            <a:br>
              <a:rPr sz="3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 =  Fully Interoper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   = No Interoperabi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= There is sensing (CCA) that another BSS is function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76212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MM-ISM Physical Layer Attributes cont...</a:t>
            </a:r>
            <a:br>
              <a:rPr sz="1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existence</a:t>
            </a:r>
            <a:br>
              <a:rPr sz="3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 = Co-exist w/o interference(def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’ = Co-exist with interferen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Co-exist by deferring on 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2286000"/>
            <a:ext cx="7772400" cy="15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Media ISM (MM-ISM) Medium Access Control Protoco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MAC Layer propos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dopt a Full Featured 802.11 MA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Develop and Adopt an 802.11 MAC 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cenarios for WPAN and Digital Came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Cameras able to communicate via RF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s or Set Top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o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Featured 802.11 MAC Protocol Pros &amp;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Standards sup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featured MACs are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implementations do not support 20Mbps data r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to implement in a HW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Lite Protocol Pros &amp; 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complex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ly less expensive to imp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s Frame form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o devel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480" y="990720"/>
            <a:ext cx="7772400" cy="13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Lite Protocol Capabilites A.4.4.1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Lite Protocol Capabilites A.4.4.1 cont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Lite Protocol Capabilites A.4.4.1 cont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Lite Protocol Capabilites A.4.4.1 cont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Lite Protocol Capabilites A.4.4.1 cont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Enabled Digital Imaging Devices requ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e of use. Digital Image data transfers need to be easy to initiate and take less than 15 sec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network capability. Should be able to enter, join or leave a network easily. User doesn’t need to know IP addresses.  It just happ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communications range 60 meters or l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al transmit power levels ( High/Low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consum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defined (transmit)/(no transmit) boundary, based on RF energy str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oaming or hand-off between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Summary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12-20 Mbps Data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transfers ( Megabyte sized image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chronous data ( Packetized Video str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data ( e.g. interactive session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 for consume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PHY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4 GHz License Free Band. Allows multiple channels in North America &amp; Euro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-directional, half Du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in the face of Microwave Oven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protocol layer mu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RF multi-user friendly( e.g. Carrier Sense/Collision Avoidan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ble to select &amp; negotiate the use of one of several available RF chann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the creation of  an ad hoc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high effective data 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Characteristics cont.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bulk data, asynchronous data, and isochronous data transf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power management (e.g. Awake or Aslee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transparent to upper layer protocols   (e.g. TCP/I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in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len Heberling</dc:creator>
  <dc:description>Allen Heberling, Eastman Kodak Co.</dc:description>
  <dc:language>en-US</dc:language>
  <cp:lastModifiedBy>Allen Heberling</cp:lastModifiedBy>
  <cp:revision>0</cp:revision>
  <dc:subject/>
  <dc:title>No Slide Title</dc:title>
</cp:coreProperties>
</file>