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73920" y="396720"/>
            <a:ext cx="2384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 Method and Physica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Interoperability Option of HR/DSSS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2,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Kawagu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echnologi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5 Hamilton 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Jose, CA.  95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(408)369-26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(408)369-27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deank@psd.symbo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FH Interoperabilit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 an FH PHY backward interoperability mode as an option for the Harris HS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posal does not modify the basic modulation format, but it assumes the addition of the HS preamble; wraps around the Harris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fundamental changes required for FH interoperability a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opping of the wideband DS signal synchronized to the FH hop sequ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using the FH preamble in front of the HS preambl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 Interoperability to F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significant volume of 802.11 interoperable FH radios being sold today by a number of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/DS/FH will enable FH users to migrate to HR/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can maintain investments in low cost FH appliances while also adding rate scaling capability using HR/DS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brings together the previously distinct FH and DS cam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station which can support the HR/DS/FH will also be required to support the basic HR/DSSS, HR/DSSS/short, and by inference legacy DSSS and FH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centered initiatives coming out with new FH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is based on the 802.11 FH; considering using whatever mechanisms we develop here to provide higher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to basic HR/DSSS and DSSS can be improved by additional CCA requirements on HR/DS/FH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ideband energy detect with timeout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ull bandwidth correlation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in Interference Limited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’s experiences in the 900 MHz band since 1990 have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frequency systems will fail in the presence of fixed freq interfere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hannels is slow and often does not 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proprietary 900 MHz DS system has evolved into a hopping DS system to provide reliable connection in the presence of inter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.4 GHz band may eventually be worse than the 900 MHz band since it is the only unlicensed band available world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, non-802.11 systems in this band are already and will continue to be a significant portion of the usage of this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of the wideband HS signal will provide protection against a variety of fixed frequency and hopping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last line of defense, backing down to 1/2 Mbps FH with 79 1 MHz channels will provide the best chance of operating through interfer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ere some limitations that were pointed out in my original presentation in March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efficient use of the band would be achieved by frequency planning in a cellular arrangement such as used by 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at requires exclusive use of the band which cannot be guaranteed in the unlicensed ISM 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rades off the efficiency of the cell planning approach for the reliability of frequency hopping and the flexibility of scaling down to a 1 MHz narrow FH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 interoperability with the DS PHY necessitates turning off the hopping feature since hopping is not part of existing DS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, we recognize that the FH/DS cross CCA issues must be resolved because this option uses both 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ade specific recommendations in the letter ballot 16 comments to add the cross mode CCA requirements to resolve this iss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Work Toward Consen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line: March 1998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and DS interoperability was part of the comparison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and Harris presented proposal for FH interoperability 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and Micrilor unilaterally accepted same method for in their proposal to provide FH 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line: Today (January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H interoperability mechanisms have been refined and clarified over the past year but remain essentially the s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77% approval of the draft and r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out of 9 NO-FH votes are from Lucent saying that there are some problems with it so throw it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:  Build on our hard earned progress rather than destroy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limitations to what this mode can do as we pointed out from the beginning, but it fills a need that goes unanswered without this 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ane</dc:creator>
  <dc:description/>
  <dc:language>en-US</dc:language>
  <cp:lastModifiedBy>rodane</cp:lastModifiedBy>
  <cp:revision>0</cp:revision>
  <dc:subject/>
  <dc:title>IEEE 802.11 Wireless Access Method and Physical Specification</dc:title>
</cp:coreProperties>
</file>