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39FF-5FDB-4AE6-B7F6-EDAEF7D8C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52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443E-1095-4083-B727-FA5A116C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3DF1-3354-4296-A31D-8C1F2E844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0A51-5483-42A3-9002-9F8786A0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B4C0-DC9F-4CFD-A661-517E6A57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9AE7-C350-48D6-B164-AB890548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CEC2-F5DE-4055-8CF9-D550C940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587A-D6EE-451D-BD2F-5ABFAECE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10EA-957F-4700-AD83-46BC6C12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8077-5E53-49EE-B630-B258D639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D610-E42E-455B-80E4-2B61E453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BD7A-F0D9-44B5-8BBD-5A4D89BB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082E007-D3FB-4A77-8EEF-5FF789B82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0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 Rectangular Time Windowing Analysis for IEEE 802.11 OFDM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1424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 Ward in Cooperation with Symbol Technologi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, SciCom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374F-45A6-41BD-8DC9-AA83B38D00A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39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ontribution examines the potential error caused by the non-rectangular window included in the OFDM stand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observed that phase rotation and spreading of the constellation points results after ideal demod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error can impact synchronization, modulation error measurements and data decoding unless mitig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, SciCom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D5DB-5D92-4204-809C-2228F94F847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39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ort Training Signal Window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 Standard’s defining equations includes wind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ansition time, defined as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s said to be “about” 100 nsec.  In fact, earlier draft versions, imply relationship to the rolloff parameter of the raised cosine wind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olloff parameter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an be related to two FFT samples.  With respect to the 4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 OFDM symbo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6240" indent="-203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tin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2/64 indicates tha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= 100 nsec exactly, where T = 3.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, is the active symbol dur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76520" y="1828800"/>
                <a:ext cx="2666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HORT</m:t>
                        </m:r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SHORT</m:t>
                        </m:r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kΔ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76520" y="2362320"/>
                <a:ext cx="58816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SHORT</m:t>
                        </m:r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TR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R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&lt;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&lt;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R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e/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R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&lt;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&lt;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SHORT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R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 </m:t>
                            </m:r>
                          </m:e>
                          <m:e/>
                        </m:d>
                      </m:e>
                    </m:eqArr>
                    <m:d>
                      <m:dPr>
                        <m:begChr m:val="{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, SciCom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6C80-67B9-4B19-9A5C-4F98101767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ndowed vs Ideal Short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the window transition causes dispersion from the ideal rectangular time window, after ideal demod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16 point short 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 from ideal approximately, -22.8 db (following standard’s MER equ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h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ength commensurate with short symbol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71800" y="3581280"/>
            <a:ext cx="3048120" cy="22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, SciCom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9565-7076-44EE-99D7-BD67FB8F043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ndowed Long training Symbol with G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training symbol windowed shows less disp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impact of non unity multiplication applies to relatively less of the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 symbols long + windo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 training symbol can be viewed as a QPSK data 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 approximately -25.4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895480" y="3809880"/>
            <a:ext cx="3733920" cy="241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, SciCom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F975-6715-4788-A6DE-7BBB8BA105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er effect on shorter 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ve examples are for QP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act anticipated to be greater for more dense constel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ias synchronization estim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to modulation error requirements of -18 or -21 db for QPSK and potentially make them not realiz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, SciCom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954F-D398-45CA-B110-DC032DDB98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ommend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references to windowing in the standard are described as informative only and used for conven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nvenience is not necessary as appending time intervals over which a definition is valid is the usual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references to current time windowing.  Benefits inclu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for closer alignment with B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iminates con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oids potential for signal degradation due to this cau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, SciCom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9449-9A4A-4162-8AD5-9E1FAA978D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, SciCom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405D-7728-464B-90C7-DCA62D4EB14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rodane</cp:lastModifiedBy>
  <cp:lastPrinted>1999-03-10T08:30:39Z</cp:lastPrinted>
  <dcterms:modified xsi:type="dcterms:W3CDTF">1999-03-10T08:31:13Z</dcterms:modified>
  <cp:revision>21</cp:revision>
  <dc:subject/>
  <dc:title>No Slide Title</dc:title>
</cp:coreProperties>
</file>