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8.bmp" ContentType="image/bmp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267080" y="38088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9/023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0200" y="609480"/>
            <a:ext cx="7758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00200" y="6477120"/>
            <a:ext cx="7834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bmp"/><Relationship Id="rId2" Type="http://schemas.openxmlformats.org/officeDocument/2006/relationships/image" Target="../media/image8.bmp"/><Relationship Id="rId3" Type="http://schemas.openxmlformats.org/officeDocument/2006/relationships/image" Target="../media/image8.bmp"/><Relationship Id="rId4" Type="http://schemas.openxmlformats.org/officeDocument/2006/relationships/image" Target="../media/image8.bmp"/><Relationship Id="rId5" Type="http://schemas.openxmlformats.org/officeDocument/2006/relationships/image" Target="../media/image8.bmp"/><Relationship Id="rId6" Type="http://schemas.openxmlformats.org/officeDocument/2006/relationships/image" Target="../media/image8.bmp"/><Relationship Id="rId7" Type="http://schemas.openxmlformats.org/officeDocument/2006/relationships/image" Target="../media/image8.bmp"/><Relationship Id="rId8" Type="http://schemas.openxmlformats.org/officeDocument/2006/relationships/image" Target="../media/image8.bmp"/><Relationship Id="rId9" Type="http://schemas.openxmlformats.org/officeDocument/2006/relationships/image" Target="../media/image8.bmp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33720" y="2286000"/>
            <a:ext cx="4836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ents on P802.11a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680" y="3733920"/>
            <a:ext cx="4406760" cy="13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sahiro Morik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ikura@mhosun.wslab.ntt.co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47920" y="2254320"/>
            <a:ext cx="5657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.8.1 Receiver Minimum Input Level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47920" y="4235400"/>
            <a:ext cx="6934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urrent values for receiver sensitivity may be derived from the simulation results by using old system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8120" y="5105520"/>
            <a:ext cx="3078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-evaluation is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71600" y="1461960"/>
            <a:ext cx="3343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nts on P802.11a 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27320" y="5334120"/>
            <a:ext cx="592200" cy="1440"/>
          </a:xfrm>
          <a:prstGeom prst="line">
            <a:avLst/>
          </a:prstGeom>
          <a:ln w="76320">
            <a:solidFill>
              <a:srgbClr val="000000"/>
            </a:solidFill>
            <a:custDash>
              <a:ds d="199528" sp="199528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1720" bIns="-81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47920" y="2955960"/>
            <a:ext cx="66294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ensitivity values are specified by adding 5 dB margin to the required received power at 10% packet error rate in the case of 1000 byte MPDU l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52600" y="5927760"/>
            <a:ext cx="3805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cket Error Rate versus Received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95440" y="6122880"/>
            <a:ext cx="13525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inear chann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5194440" cy="49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724280" y="1295280"/>
            <a:ext cx="2876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cket Length = 1000 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1803240"/>
            <a:ext cx="4448160" cy="4076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278320" y="2286000"/>
            <a:ext cx="326880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604880" y="5867280"/>
            <a:ext cx="3805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cket Error Rate versus Received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47920" y="792000"/>
            <a:ext cx="47642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cket Error Rate with AW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5040" y="1600200"/>
            <a:ext cx="4797360" cy="4359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066680" y="1219320"/>
            <a:ext cx="67276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6QAM-OFDM, Information data rate = 24 Mbit/s, Coding rate = 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55640" y="6095880"/>
            <a:ext cx="1467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inear chann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248520" y="762120"/>
            <a:ext cx="1905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for calibr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28526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517920" cy="2959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90720" y="2557440"/>
            <a:ext cx="274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in current 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34120" y="2532240"/>
            <a:ext cx="2787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mmended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905120" y="963720"/>
            <a:ext cx="517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mmended change o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962520"/>
            <a:ext cx="457560" cy="838440"/>
          </a:xfrm>
          <a:custGeom>
            <a:avLst/>
            <a:gdLst/>
            <a:ahLst/>
            <a:rect l="0" t="0" r="r" b="b"/>
            <a:pathLst>
              <a:path w="1271" h="2329">
                <a:moveTo>
                  <a:pt x="0" y="775"/>
                </a:moveTo>
                <a:lnTo>
                  <a:pt x="0" y="1551"/>
                </a:lnTo>
                <a:lnTo>
                  <a:pt x="890" y="1551"/>
                </a:lnTo>
                <a:lnTo>
                  <a:pt x="890" y="2329"/>
                </a:lnTo>
                <a:lnTo>
                  <a:pt x="1271" y="1165"/>
                </a:lnTo>
                <a:lnTo>
                  <a:pt x="890" y="0"/>
                </a:lnTo>
                <a:lnTo>
                  <a:pt x="890" y="775"/>
                </a:lnTo>
                <a:lnTo>
                  <a:pt x="0" y="775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4a4a4a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812960" y="1676520"/>
            <a:ext cx="5578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values of receiver minimum input level sensitivity are recommended to change as the follo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35179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447920" y="2254320"/>
            <a:ext cx="391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.7.2  Transmit Spectrum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71600" y="1461960"/>
            <a:ext cx="3343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nts on P802.11a 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52480" y="2895480"/>
            <a:ext cx="5105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ransmit spectrum mask in current draft is tight for class AB ampl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824040" y="1006560"/>
            <a:ext cx="7558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spectrum of OFDM signal with class-AB 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33680" y="1803240"/>
            <a:ext cx="4229280" cy="3876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29000" y="3997440"/>
            <a:ext cx="2558880" cy="19080"/>
          </a:xfrm>
          <a:prstGeom prst="rect">
            <a:avLst/>
          </a:prstGeom>
          <a:blipFill rotWithShape="0">
            <a:blip r:embed="rId1"/>
            <a:tile tx="0" ty="0" sx="3525000" sy="3525000" algn="ctr"/>
          </a:blip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29000" y="4896000"/>
            <a:ext cx="3755880" cy="17640"/>
          </a:xfrm>
          <a:prstGeom prst="rect">
            <a:avLst/>
          </a:prstGeom>
          <a:blipFill rotWithShape="0">
            <a:blip r:embed="rId2"/>
            <a:tile tx="0" ty="0" sx="3525000" sy="3525000" algn="ctr"/>
          </a:blip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29000" y="3349800"/>
            <a:ext cx="1490760" cy="17640"/>
          </a:xfrm>
          <a:prstGeom prst="rect">
            <a:avLst/>
          </a:prstGeom>
          <a:blipFill rotWithShape="0">
            <a:blip r:embed="rId3"/>
            <a:tile tx="0" ty="0" sx="3525000" sy="3525000" algn="ctr"/>
          </a:blip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6520" y="1798560"/>
            <a:ext cx="17640" cy="3876840"/>
          </a:xfrm>
          <a:prstGeom prst="rect">
            <a:avLst/>
          </a:prstGeom>
          <a:blipFill rotWithShape="0">
            <a:blip r:embed="rId4"/>
            <a:tile tx="0" ty="0" sx="3525000" sy="3525000" algn="ctr"/>
          </a:blip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97440" y="1798560"/>
            <a:ext cx="19080" cy="3876840"/>
          </a:xfrm>
          <a:prstGeom prst="rect">
            <a:avLst/>
          </a:prstGeom>
          <a:blipFill rotWithShape="0">
            <a:blip r:embed="rId5"/>
            <a:tile tx="0" ty="0" sx="3525000" sy="3525000" algn="ctr"/>
          </a:blip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22760" y="1803240"/>
            <a:ext cx="7920" cy="3867120"/>
          </a:xfrm>
          <a:prstGeom prst="rect">
            <a:avLst/>
          </a:prstGeom>
          <a:blipFill rotWithShape="0">
            <a:blip r:embed="rId6"/>
            <a:tile tx="0" ty="0" sx="3525000" sy="3525000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1803240"/>
            <a:ext cx="9360" cy="3867120"/>
          </a:xfrm>
          <a:prstGeom prst="rect">
            <a:avLst/>
          </a:prstGeom>
          <a:blipFill rotWithShape="0">
            <a:blip r:embed="rId7"/>
            <a:tile tx="0" ty="0" sx="3525000" sy="3525000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533680" y="5638680"/>
            <a:ext cx="4213080" cy="25560"/>
            <a:chOff x="2533680" y="5638680"/>
            <a:chExt cx="4213080" cy="25560"/>
          </a:xfrm>
        </p:grpSpPr>
        <p:sp>
          <p:nvSpPr>
            <p:cNvPr id="84" name=""/>
            <p:cNvSpPr/>
            <p:nvPr/>
          </p:nvSpPr>
          <p:spPr>
            <a:xfrm>
              <a:off x="2533680" y="563868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2200" y="565632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00440" y="565632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30400" y="565632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59280" y="565632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7800" y="563868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5680" y="565632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6000" y="565632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84520" y="565632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22760" y="565632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51280" y="563868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81600" y="565632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0120" y="565632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48000" y="565632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76880" y="565632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06840" y="563868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35360" y="565632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73600" y="565632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02120" y="565632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30640" y="565632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68880" y="563868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99200" y="565632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27720" y="565632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56240" y="565632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94480" y="565632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24440" y="563868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52960" y="565632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1200" y="565632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19720" y="565632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50040" y="565632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78560" y="5638680"/>
              <a:ext cx="14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16800" y="565632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45320" y="565632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44840" y="5662440"/>
              <a:ext cx="4200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33680" y="1803240"/>
            <a:ext cx="4211640" cy="3861000"/>
            <a:chOff x="2533680" y="1803240"/>
            <a:chExt cx="4211640" cy="3861000"/>
          </a:xfrm>
        </p:grpSpPr>
        <p:sp>
          <p:nvSpPr>
            <p:cNvPr id="119" name=""/>
            <p:cNvSpPr/>
            <p:nvPr/>
          </p:nvSpPr>
          <p:spPr>
            <a:xfrm>
              <a:off x="2544840" y="566244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21560" y="566244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4840" y="543096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38840" y="543096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529272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8840" y="529272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44840" y="519732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38840" y="519732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44840" y="511956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38840" y="511956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44840" y="505944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38840" y="505944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44840" y="500868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38840" y="500868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44840" y="496584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38840" y="496584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44840" y="492120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8840" y="492120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44840" y="488808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21560" y="488808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44840" y="465444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38840" y="465444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44840" y="452592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38840" y="452592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44840" y="442260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38840" y="442260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44840" y="435276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38840" y="435276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44840" y="429264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38840" y="429264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44840" y="424188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38840" y="424188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44840" y="418932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38840" y="418932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44840" y="415440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8840" y="415440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44840" y="412128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21560" y="412128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44840" y="388764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38840" y="388764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44840" y="374976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38840" y="374976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44840" y="365616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38840" y="365616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44840" y="357840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38840" y="357840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44840" y="351792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38840" y="351792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44840" y="346536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38840" y="346536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44840" y="342252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38840" y="342252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44840" y="337968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38840" y="337968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44840" y="334476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21560" y="334476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44840" y="311292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38840" y="311292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44840" y="297504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38840" y="297504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44840" y="287964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38840" y="287964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44840" y="281160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38840" y="281160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44840" y="274320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38840" y="274320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44840" y="269064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38840" y="269064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44840" y="264780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38840" y="264780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44840" y="261288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38840" y="261288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4840" y="257796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21560" y="257796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44840" y="234648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8840" y="234648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44840" y="220824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38840" y="220824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44840" y="211284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38840" y="211284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44840" y="203688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38840" y="203688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44840" y="197640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38840" y="197640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44840" y="192420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38840" y="192420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4840" y="188136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8840" y="188136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44840" y="1838160"/>
              <a:ext cx="61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38840" y="183816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44840" y="180324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21560" y="180324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533680" y="1808280"/>
              <a:ext cx="0" cy="384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538360" y="1801800"/>
            <a:ext cx="4008600" cy="3757680"/>
            <a:chOff x="2538360" y="1801800"/>
            <a:chExt cx="4008600" cy="3757680"/>
          </a:xfrm>
        </p:grpSpPr>
        <p:grpSp>
          <p:nvGrpSpPr>
            <p:cNvPr id="213" name=""/>
            <p:cNvGrpSpPr/>
            <p:nvPr/>
          </p:nvGrpSpPr>
          <p:grpSpPr>
            <a:xfrm>
              <a:off x="2538360" y="1801800"/>
              <a:ext cx="1822680" cy="2338920"/>
              <a:chOff x="2538360" y="1801800"/>
              <a:chExt cx="1822680" cy="23389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2538360" y="2068560"/>
                <a:ext cx="6480" cy="3412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2546280" y="2075040"/>
                <a:ext cx="6480" cy="3427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2557440" y="1833480"/>
                <a:ext cx="14400" cy="222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2563920" y="1844640"/>
                <a:ext cx="15840" cy="220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587680" y="1839960"/>
                <a:ext cx="612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97040" y="1849320"/>
                <a:ext cx="504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2600280" y="1809720"/>
                <a:ext cx="14400" cy="49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2606760" y="1819440"/>
                <a:ext cx="15840" cy="48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30520" y="1814400"/>
                <a:ext cx="648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639880" y="1824120"/>
                <a:ext cx="648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2641680" y="1817640"/>
                <a:ext cx="612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2652840" y="1825560"/>
                <a:ext cx="46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665440" y="1824120"/>
                <a:ext cx="1440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673360" y="1832040"/>
                <a:ext cx="15840" cy="41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2684520" y="1809720"/>
                <a:ext cx="6120" cy="49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2693880" y="1819440"/>
                <a:ext cx="6480" cy="48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08280" y="1814400"/>
                <a:ext cx="14400" cy="32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717640" y="1824120"/>
                <a:ext cx="144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2727360" y="180828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2736720" y="181764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51120" y="1814400"/>
                <a:ext cx="648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60840" y="1824120"/>
                <a:ext cx="612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2763720" y="1817640"/>
                <a:ext cx="144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773440" y="1825560"/>
                <a:ext cx="1404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793960" y="182412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03680" y="1832040"/>
                <a:ext cx="612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805120" y="181764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2814480" y="182556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28880" y="1824120"/>
                <a:ext cx="14400" cy="48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38600" y="1832040"/>
                <a:ext cx="14040" cy="49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2847960" y="1809720"/>
                <a:ext cx="6480" cy="58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2857680" y="1817640"/>
                <a:ext cx="6120" cy="572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71720" y="1814400"/>
                <a:ext cx="15840" cy="32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881440" y="1824120"/>
                <a:ext cx="1404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2894040" y="1808280"/>
                <a:ext cx="46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2900520" y="1817640"/>
                <a:ext cx="612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03400" y="1803240"/>
                <a:ext cx="19440" cy="54360"/>
              </a:xfrm>
              <a:custGeom>
                <a:avLst/>
                <a:gdLst/>
                <a:ahLst/>
                <a:rect l="0" t="0" r="r" b="b"/>
                <a:pathLst>
                  <a:path w="54" h="151">
                    <a:moveTo>
                      <a:pt x="0" y="0"/>
                    </a:moveTo>
                    <a:lnTo>
                      <a:pt x="54" y="1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914560" y="1814400"/>
                <a:ext cx="648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24280" y="1824120"/>
                <a:ext cx="612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21040" y="1812960"/>
                <a:ext cx="27360" cy="44640"/>
              </a:xfrm>
              <a:custGeom>
                <a:avLst/>
                <a:gdLst/>
                <a:ahLst/>
                <a:rect l="0" t="0" r="r" b="b"/>
                <a:pathLst>
                  <a:path w="76" h="124">
                    <a:moveTo>
                      <a:pt x="0" y="124"/>
                    </a:moveTo>
                    <a:lnTo>
                      <a:pt x="76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927520" y="1817640"/>
                <a:ext cx="1404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2936880" y="1825560"/>
                <a:ext cx="144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946240" y="1812960"/>
                <a:ext cx="19440" cy="35280"/>
              </a:xfrm>
              <a:custGeom>
                <a:avLst/>
                <a:gdLst/>
                <a:ahLst/>
                <a:rect l="0" t="0" r="r" b="b"/>
                <a:pathLst>
                  <a:path w="54" h="98">
                    <a:moveTo>
                      <a:pt x="0" y="0"/>
                    </a:moveTo>
                    <a:lnTo>
                      <a:pt x="54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957400" y="1824120"/>
                <a:ext cx="6480" cy="22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967120" y="1832040"/>
                <a:ext cx="612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963880" y="1812960"/>
                <a:ext cx="28800" cy="35280"/>
              </a:xfrm>
              <a:custGeom>
                <a:avLst/>
                <a:gdLst/>
                <a:ahLst/>
                <a:rect l="0" t="0" r="r" b="b"/>
                <a:pathLst>
                  <a:path w="80" h="98">
                    <a:moveTo>
                      <a:pt x="0" y="98"/>
                    </a:moveTo>
                    <a:lnTo>
                      <a:pt x="80" y="0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968560" y="1817640"/>
                <a:ext cx="15840" cy="22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9720" y="1827360"/>
                <a:ext cx="1440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990880" y="1812960"/>
                <a:ext cx="18000" cy="35280"/>
              </a:xfrm>
              <a:custGeom>
                <a:avLst/>
                <a:gdLst/>
                <a:ahLst/>
                <a:rect l="0" t="0" r="r" b="b"/>
                <a:pathLst>
                  <a:path w="50" h="98">
                    <a:moveTo>
                      <a:pt x="0" y="0"/>
                    </a:moveTo>
                    <a:lnTo>
                      <a:pt x="5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02040" y="1824120"/>
                <a:ext cx="4680" cy="22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09960" y="1832040"/>
                <a:ext cx="612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06720" y="1803240"/>
                <a:ext cx="19440" cy="44640"/>
              </a:xfrm>
              <a:custGeom>
                <a:avLst/>
                <a:gdLst/>
                <a:ahLst/>
                <a:rect l="0" t="0" r="r" b="b"/>
                <a:pathLst>
                  <a:path w="54" h="124">
                    <a:moveTo>
                      <a:pt x="0" y="124"/>
                    </a:moveTo>
                    <a:lnTo>
                      <a:pt x="54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011400" y="180828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3021120" y="1817640"/>
                <a:ext cx="612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35160" y="1814400"/>
                <a:ext cx="1584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044880" y="1824120"/>
                <a:ext cx="1440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3057480" y="1808280"/>
                <a:ext cx="4680" cy="41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3063960" y="1819440"/>
                <a:ext cx="612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078000" y="1814400"/>
                <a:ext cx="648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87720" y="1824120"/>
                <a:ext cx="648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089160" y="1808280"/>
                <a:ext cx="15840" cy="41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3100320" y="1819440"/>
                <a:ext cx="1440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22640" y="1814400"/>
                <a:ext cx="4680" cy="32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30560" y="182412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3132000" y="1808280"/>
                <a:ext cx="1584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3143160" y="1817640"/>
                <a:ext cx="144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65480" y="1814400"/>
                <a:ext cx="648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73400" y="1824120"/>
                <a:ext cx="648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178080" y="1817640"/>
                <a:ext cx="46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184560" y="182556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198960" y="1824120"/>
                <a:ext cx="1584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08320" y="1832040"/>
                <a:ext cx="144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3219480" y="1808280"/>
                <a:ext cx="6480" cy="41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3227400" y="1819440"/>
                <a:ext cx="648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43240" y="1814400"/>
                <a:ext cx="1440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51160" y="1824120"/>
                <a:ext cx="14400" cy="22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3262320" y="1819440"/>
                <a:ext cx="6480" cy="14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3270240" y="1827360"/>
                <a:ext cx="6480" cy="14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86080" y="182412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94000" y="183204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3298680" y="1817640"/>
                <a:ext cx="144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3306600" y="1825560"/>
                <a:ext cx="144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28920" y="1824120"/>
                <a:ext cx="6480" cy="22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36840" y="1832040"/>
                <a:ext cx="648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3341520" y="1801800"/>
                <a:ext cx="1440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3349800" y="1808280"/>
                <a:ext cx="14040" cy="41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371760" y="180648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379680" y="1814400"/>
                <a:ext cx="6480" cy="32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3382920" y="1809720"/>
                <a:ext cx="648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3390840" y="1817640"/>
                <a:ext cx="6480" cy="22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06680" y="1814400"/>
                <a:ext cx="1440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14600" y="1824120"/>
                <a:ext cx="1440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5760" y="1827360"/>
                <a:ext cx="648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3433680" y="1835280"/>
                <a:ext cx="648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49520" y="183204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57440" y="1839960"/>
                <a:ext cx="6480" cy="33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3462480" y="1825560"/>
                <a:ext cx="1404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3470400" y="1835280"/>
                <a:ext cx="14040" cy="33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92360" y="1832040"/>
                <a:ext cx="6480" cy="41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0280" y="1839960"/>
                <a:ext cx="648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3505320" y="1844640"/>
                <a:ext cx="1404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3513240" y="1852560"/>
                <a:ext cx="1404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35200" y="1849320"/>
                <a:ext cx="6480" cy="238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543480" y="1857240"/>
                <a:ext cx="6120" cy="239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52840" y="2098800"/>
                <a:ext cx="6480" cy="5569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60760" y="2108160"/>
                <a:ext cx="6480" cy="5572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70120" y="2666880"/>
                <a:ext cx="14400" cy="247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578400" y="2676600"/>
                <a:ext cx="14040" cy="2458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95680" y="2925720"/>
                <a:ext cx="6480" cy="1350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603600" y="2933640"/>
                <a:ext cx="6480" cy="1364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613320" y="3071880"/>
                <a:ext cx="14040" cy="921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621240" y="3081240"/>
                <a:ext cx="15840" cy="921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638520" y="3174840"/>
                <a:ext cx="6480" cy="59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648240" y="3184560"/>
                <a:ext cx="4680" cy="572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656160" y="3244680"/>
                <a:ext cx="6120" cy="66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664080" y="3252960"/>
                <a:ext cx="6120" cy="66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73440" y="3322800"/>
                <a:ext cx="14400" cy="48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81360" y="3330720"/>
                <a:ext cx="15840" cy="48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99000" y="3382920"/>
                <a:ext cx="612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08360" y="3390840"/>
                <a:ext cx="468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16280" y="3433680"/>
                <a:ext cx="648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24200" y="3443400"/>
                <a:ext cx="6480" cy="14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33920" y="3459240"/>
                <a:ext cx="14040" cy="48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41840" y="3468600"/>
                <a:ext cx="15840" cy="49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759120" y="3519360"/>
                <a:ext cx="648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68840" y="3529080"/>
                <a:ext cx="4680" cy="6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776760" y="3537000"/>
                <a:ext cx="1404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84680" y="3546360"/>
                <a:ext cx="15840" cy="39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801960" y="3589200"/>
                <a:ext cx="648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811680" y="3597120"/>
                <a:ext cx="4680" cy="162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819600" y="3614760"/>
                <a:ext cx="612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827520" y="3624120"/>
                <a:ext cx="6120" cy="22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36880" y="3649680"/>
                <a:ext cx="1440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844800" y="3657600"/>
                <a:ext cx="15840" cy="158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62440" y="3675240"/>
                <a:ext cx="1440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71800" y="3684600"/>
                <a:ext cx="14400" cy="22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84760" y="3705120"/>
                <a:ext cx="1440" cy="18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92680" y="3714840"/>
                <a:ext cx="1440" cy="14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886200" y="3706920"/>
                <a:ext cx="27360" cy="36720"/>
              </a:xfrm>
              <a:custGeom>
                <a:avLst/>
                <a:gdLst/>
                <a:ahLst/>
                <a:rect l="0" t="0" r="r" b="b"/>
                <a:pathLst>
                  <a:path w="76" h="102">
                    <a:moveTo>
                      <a:pt x="0" y="0"/>
                    </a:moveTo>
                    <a:lnTo>
                      <a:pt x="76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97360" y="3718080"/>
                <a:ext cx="1440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905280" y="3727440"/>
                <a:ext cx="15840" cy="22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11760" y="3741840"/>
                <a:ext cx="19440" cy="9720"/>
              </a:xfrm>
              <a:custGeom>
                <a:avLst/>
                <a:gdLst/>
                <a:ahLst/>
                <a:rect l="0" t="0" r="r" b="b"/>
                <a:pathLst>
                  <a:path w="54" h="27">
                    <a:moveTo>
                      <a:pt x="0" y="0"/>
                    </a:moveTo>
                    <a:lnTo>
                      <a:pt x="54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22560" y="3747960"/>
                <a:ext cx="6480" cy="18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32280" y="3757680"/>
                <a:ext cx="4680" cy="14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929040" y="374976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0"/>
                    </a:moveTo>
                    <a:lnTo>
                      <a:pt x="76" y="1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40200" y="3760920"/>
                <a:ext cx="14400" cy="41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948120" y="3770280"/>
                <a:ext cx="1584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54600" y="3801960"/>
                <a:ext cx="19440" cy="19440"/>
              </a:xfrm>
              <a:custGeom>
                <a:avLst/>
                <a:gdLst/>
                <a:ahLst/>
                <a:rect l="0" t="0" r="r" b="b"/>
                <a:pathLst>
                  <a:path w="54" h="54">
                    <a:moveTo>
                      <a:pt x="0" y="0"/>
                    </a:moveTo>
                    <a:lnTo>
                      <a:pt x="54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965400" y="3813120"/>
                <a:ext cx="648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975120" y="3821040"/>
                <a:ext cx="648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71880" y="381960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0"/>
                    </a:moveTo>
                    <a:lnTo>
                      <a:pt x="76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983040" y="3830760"/>
                <a:ext cx="14400" cy="6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92400" y="3838680"/>
                <a:ext cx="14400" cy="6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997440" y="3836880"/>
                <a:ext cx="28440" cy="0"/>
              </a:xfrm>
              <a:custGeom>
                <a:avLst/>
                <a:gdLst/>
                <a:ahLst/>
                <a:rect l="0" t="0" r="r" b="b"/>
                <a:pathLst>
                  <a:path w="79" h="0">
                    <a:moveTo>
                      <a:pt x="0" y="0"/>
                    </a:moveTo>
                    <a:lnTo>
                      <a:pt x="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008600" y="3836880"/>
                <a:ext cx="15840" cy="18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017960" y="3844800"/>
                <a:ext cx="14400" cy="18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024440" y="3836880"/>
                <a:ext cx="9720" cy="35280"/>
              </a:xfrm>
              <a:custGeom>
                <a:avLst/>
                <a:gdLst/>
                <a:ahLst/>
                <a:rect l="0" t="0" r="r" b="b"/>
                <a:pathLst>
                  <a:path w="27" h="98">
                    <a:moveTo>
                      <a:pt x="0" y="0"/>
                    </a:moveTo>
                    <a:lnTo>
                      <a:pt x="27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30560" y="3848040"/>
                <a:ext cx="1800" cy="22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040280" y="3855960"/>
                <a:ext cx="144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032360" y="3870360"/>
                <a:ext cx="26640" cy="0"/>
              </a:xfrm>
              <a:custGeom>
                <a:avLst/>
                <a:gdLst/>
                <a:ahLst/>
                <a:rect l="0" t="0" r="r" b="b"/>
                <a:pathLst>
                  <a:path w="74" h="0">
                    <a:moveTo>
                      <a:pt x="0" y="0"/>
                    </a:move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043520" y="3870360"/>
                <a:ext cx="14040" cy="14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052880" y="3879720"/>
                <a:ext cx="14400" cy="18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57560" y="3870360"/>
                <a:ext cx="19440" cy="54360"/>
              </a:xfrm>
              <a:custGeom>
                <a:avLst/>
                <a:gdLst/>
                <a:ahLst/>
                <a:rect l="0" t="0" r="r" b="b"/>
                <a:pathLst>
                  <a:path w="54" h="151">
                    <a:moveTo>
                      <a:pt x="0" y="0"/>
                    </a:moveTo>
                    <a:lnTo>
                      <a:pt x="54" y="1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68720" y="3881520"/>
                <a:ext cx="6480" cy="41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078440" y="3890880"/>
                <a:ext cx="612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75200" y="3914640"/>
                <a:ext cx="28800" cy="9720"/>
              </a:xfrm>
              <a:custGeom>
                <a:avLst/>
                <a:gdLst/>
                <a:ahLst/>
                <a:rect l="0" t="0" r="r" b="b"/>
                <a:pathLst>
                  <a:path w="80" h="27">
                    <a:moveTo>
                      <a:pt x="0" y="27"/>
                    </a:moveTo>
                    <a:lnTo>
                      <a:pt x="8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81320" y="3917880"/>
                <a:ext cx="15840" cy="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092480" y="3925800"/>
                <a:ext cx="14400" cy="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02200" y="3914640"/>
                <a:ext cx="9720" cy="44640"/>
              </a:xfrm>
              <a:custGeom>
                <a:avLst/>
                <a:gdLst/>
                <a:ahLst/>
                <a:rect l="0" t="0" r="r" b="b"/>
                <a:pathLst>
                  <a:path w="27" h="124">
                    <a:moveTo>
                      <a:pt x="0" y="0"/>
                    </a:moveTo>
                    <a:lnTo>
                      <a:pt x="27" y="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108320" y="3925800"/>
                <a:ext cx="18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16240" y="3933720"/>
                <a:ext cx="18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110120" y="3948120"/>
                <a:ext cx="27360" cy="11520"/>
              </a:xfrm>
              <a:custGeom>
                <a:avLst/>
                <a:gdLst/>
                <a:ahLst/>
                <a:rect l="0" t="0" r="r" b="b"/>
                <a:pathLst>
                  <a:path w="76" h="32">
                    <a:moveTo>
                      <a:pt x="0" y="32"/>
                    </a:moveTo>
                    <a:lnTo>
                      <a:pt x="76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16240" y="3952800"/>
                <a:ext cx="14400" cy="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24160" y="3960720"/>
                <a:ext cx="16200" cy="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146480" y="395928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156200" y="3968640"/>
                <a:ext cx="6120" cy="32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4159080" y="3978360"/>
                <a:ext cx="14400" cy="6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4168800" y="3987720"/>
                <a:ext cx="1440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189320" y="3984480"/>
                <a:ext cx="1584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199040" y="3994200"/>
                <a:ext cx="1404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216320" y="4025880"/>
                <a:ext cx="4680" cy="14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24240" y="4033800"/>
                <a:ext cx="6480" cy="18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32160" y="4037040"/>
                <a:ext cx="1584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41880" y="4044960"/>
                <a:ext cx="14040" cy="33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4251240" y="4056120"/>
                <a:ext cx="0" cy="6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4260960" y="4065480"/>
                <a:ext cx="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255920" y="4051440"/>
                <a:ext cx="27360" cy="36720"/>
              </a:xfrm>
              <a:custGeom>
                <a:avLst/>
                <a:gdLst/>
                <a:ahLst/>
                <a:rect l="0" t="0" r="r" b="b"/>
                <a:pathLst>
                  <a:path w="76" h="102">
                    <a:moveTo>
                      <a:pt x="0" y="0"/>
                    </a:moveTo>
                    <a:lnTo>
                      <a:pt x="76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267080" y="4062240"/>
                <a:ext cx="14400" cy="24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276800" y="4071960"/>
                <a:ext cx="14040" cy="22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281480" y="4068720"/>
                <a:ext cx="19440" cy="19440"/>
              </a:xfrm>
              <a:custGeom>
                <a:avLst/>
                <a:gdLst/>
                <a:ahLst/>
                <a:rect l="0" t="0" r="r" b="b"/>
                <a:pathLst>
                  <a:path w="54" h="54">
                    <a:moveTo>
                      <a:pt x="0" y="54"/>
                    </a:moveTo>
                    <a:lnTo>
                      <a:pt x="54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4286160" y="4073400"/>
                <a:ext cx="648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4295880" y="4084560"/>
                <a:ext cx="6120" cy="4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99120" y="4068720"/>
                <a:ext cx="28800" cy="44640"/>
              </a:xfrm>
              <a:custGeom>
                <a:avLst/>
                <a:gdLst/>
                <a:ahLst/>
                <a:rect l="0" t="0" r="r" b="b"/>
                <a:pathLst>
                  <a:path w="80" h="124">
                    <a:moveTo>
                      <a:pt x="0" y="0"/>
                    </a:moveTo>
                    <a:lnTo>
                      <a:pt x="80" y="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309920" y="4079880"/>
                <a:ext cx="1584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319640" y="4089240"/>
                <a:ext cx="14400" cy="32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325760" y="409428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76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4332240" y="4098960"/>
                <a:ext cx="1440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4340160" y="4108320"/>
                <a:ext cx="1440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51320" y="4094280"/>
                <a:ext cx="9720" cy="46440"/>
              </a:xfrm>
              <a:custGeom>
                <a:avLst/>
                <a:gdLst/>
                <a:ahLst/>
                <a:rect l="0" t="0" r="r" b="b"/>
                <a:pathLst>
                  <a:path w="27" h="129">
                    <a:moveTo>
                      <a:pt x="0" y="0"/>
                    </a:moveTo>
                    <a:lnTo>
                      <a:pt x="27" y="1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57800" y="4105440"/>
                <a:ext cx="1440" cy="33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359240" y="4114800"/>
              <a:ext cx="1787400" cy="1195560"/>
              <a:chOff x="4359240" y="4114800"/>
              <a:chExt cx="1787400" cy="1195560"/>
            </a:xfrm>
          </p:grpSpPr>
          <p:sp>
            <p:nvSpPr>
              <p:cNvPr id="415" name=""/>
              <p:cNvSpPr/>
              <p:nvPr/>
            </p:nvSpPr>
            <p:spPr>
              <a:xfrm>
                <a:off x="4367160" y="4114800"/>
                <a:ext cx="18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59240" y="4121280"/>
                <a:ext cx="28800" cy="19440"/>
              </a:xfrm>
              <a:custGeom>
                <a:avLst/>
                <a:gdLst/>
                <a:ahLst/>
                <a:rect l="0" t="0" r="r" b="b"/>
                <a:pathLst>
                  <a:path w="80" h="54">
                    <a:moveTo>
                      <a:pt x="0" y="54"/>
                    </a:moveTo>
                    <a:lnTo>
                      <a:pt x="80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4363920" y="4125960"/>
                <a:ext cx="1584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4375080" y="4133880"/>
                <a:ext cx="1440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386240" y="4121280"/>
                <a:ext cx="18000" cy="44640"/>
              </a:xfrm>
              <a:custGeom>
                <a:avLst/>
                <a:gdLst/>
                <a:ahLst/>
                <a:rect l="0" t="0" r="r" b="b"/>
                <a:pathLst>
                  <a:path w="50" h="124">
                    <a:moveTo>
                      <a:pt x="0" y="0"/>
                    </a:moveTo>
                    <a:lnTo>
                      <a:pt x="50" y="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397400" y="4132440"/>
                <a:ext cx="46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05320" y="414036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02080" y="4154400"/>
                <a:ext cx="28800" cy="11520"/>
              </a:xfrm>
              <a:custGeom>
                <a:avLst/>
                <a:gdLst/>
                <a:ahLst/>
                <a:rect l="0" t="0" r="r" b="b"/>
                <a:pathLst>
                  <a:path w="80" h="32">
                    <a:moveTo>
                      <a:pt x="0" y="32"/>
                    </a:moveTo>
                    <a:lnTo>
                      <a:pt x="8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08560" y="4159080"/>
                <a:ext cx="15840" cy="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19720" y="4167360"/>
                <a:ext cx="14040" cy="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29080" y="4154400"/>
                <a:ext cx="19440" cy="46440"/>
              </a:xfrm>
              <a:custGeom>
                <a:avLst/>
                <a:gdLst/>
                <a:ahLst/>
                <a:rect l="0" t="0" r="r" b="b"/>
                <a:pathLst>
                  <a:path w="54" h="129">
                    <a:moveTo>
                      <a:pt x="0" y="0"/>
                    </a:moveTo>
                    <a:lnTo>
                      <a:pt x="54" y="1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440240" y="4165560"/>
                <a:ext cx="6480" cy="33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48160" y="417528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446720" y="417204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0" y="80"/>
                    </a:moveTo>
                    <a:lnTo>
                      <a:pt x="76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4452840" y="4176720"/>
                <a:ext cx="14400" cy="158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4460760" y="4187880"/>
                <a:ext cx="1440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471920" y="4172040"/>
                <a:ext cx="9720" cy="44640"/>
              </a:xfrm>
              <a:custGeom>
                <a:avLst/>
                <a:gdLst/>
                <a:ahLst/>
                <a:rect l="0" t="0" r="r" b="b"/>
                <a:pathLst>
                  <a:path w="27" h="124">
                    <a:moveTo>
                      <a:pt x="0" y="0"/>
                    </a:moveTo>
                    <a:lnTo>
                      <a:pt x="27" y="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478400" y="4183200"/>
                <a:ext cx="144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487760" y="4192560"/>
                <a:ext cx="18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479840" y="4199040"/>
                <a:ext cx="28800" cy="18000"/>
              </a:xfrm>
              <a:custGeom>
                <a:avLst/>
                <a:gdLst/>
                <a:ahLst/>
                <a:rect l="0" t="0" r="r" b="b"/>
                <a:pathLst>
                  <a:path w="80" h="50">
                    <a:moveTo>
                      <a:pt x="0" y="50"/>
                    </a:moveTo>
                    <a:lnTo>
                      <a:pt x="8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484520" y="4205160"/>
                <a:ext cx="16200" cy="5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4495680" y="4211640"/>
                <a:ext cx="1440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506840" y="4199040"/>
                <a:ext cx="27360" cy="52920"/>
              </a:xfrm>
              <a:custGeom>
                <a:avLst/>
                <a:gdLst/>
                <a:ahLst/>
                <a:rect l="0" t="0" r="r" b="b"/>
                <a:pathLst>
                  <a:path w="76" h="147">
                    <a:moveTo>
                      <a:pt x="0" y="0"/>
                    </a:moveTo>
                    <a:lnTo>
                      <a:pt x="76" y="1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518000" y="4210200"/>
                <a:ext cx="1440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525920" y="4218120"/>
                <a:ext cx="14400" cy="41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4537080" y="4237200"/>
                <a:ext cx="6480" cy="6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4545000" y="4246560"/>
                <a:ext cx="648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560840" y="4243320"/>
                <a:ext cx="144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68760" y="4253040"/>
                <a:ext cx="144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578480" y="4255920"/>
                <a:ext cx="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587840" y="4265640"/>
                <a:ext cx="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594320" y="4260960"/>
                <a:ext cx="15840" cy="48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603680" y="4270320"/>
                <a:ext cx="14400" cy="49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621320" y="4309920"/>
                <a:ext cx="4680" cy="18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629240" y="4319640"/>
                <a:ext cx="6120" cy="14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637160" y="4321080"/>
                <a:ext cx="1584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646520" y="4330800"/>
                <a:ext cx="14400" cy="21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4659480" y="4325760"/>
                <a:ext cx="1404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4667400" y="4334040"/>
                <a:ext cx="14040" cy="14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689360" y="4330800"/>
                <a:ext cx="648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697280" y="4338720"/>
                <a:ext cx="6480" cy="41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4702320" y="4351320"/>
                <a:ext cx="1404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08440" y="4357800"/>
                <a:ext cx="15840" cy="158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729320" y="4356000"/>
                <a:ext cx="1440" cy="39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737240" y="4363920"/>
                <a:ext cx="144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738680" y="4390920"/>
                <a:ext cx="14400" cy="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745160" y="4400640"/>
                <a:ext cx="14040" cy="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767120" y="4398840"/>
                <a:ext cx="648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775040" y="4406760"/>
                <a:ext cx="6480" cy="24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4780080" y="4394160"/>
                <a:ext cx="1404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4788000" y="4402080"/>
                <a:ext cx="1404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5280" y="4398840"/>
                <a:ext cx="180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815000" y="4406760"/>
                <a:ext cx="144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13200" y="4435560"/>
                <a:ext cx="15840" cy="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24360" y="4443480"/>
                <a:ext cx="14400" cy="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44880" y="4441680"/>
                <a:ext cx="1440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53160" y="4451400"/>
                <a:ext cx="1404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4863960" y="4460760"/>
                <a:ext cx="6480" cy="158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4871880" y="4471920"/>
                <a:ext cx="648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888080" y="4467240"/>
                <a:ext cx="1404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896000" y="4476600"/>
                <a:ext cx="15840" cy="22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4906800" y="4478400"/>
                <a:ext cx="6480" cy="6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4917960" y="4489560"/>
                <a:ext cx="5040" cy="4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30920" y="4484520"/>
                <a:ext cx="14040" cy="32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938840" y="4494240"/>
                <a:ext cx="1584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4950000" y="4497480"/>
                <a:ext cx="0" cy="14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4957920" y="4503600"/>
                <a:ext cx="0" cy="158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965840" y="4502160"/>
                <a:ext cx="14040" cy="49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73760" y="4510080"/>
                <a:ext cx="14040" cy="49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4986360" y="4538520"/>
                <a:ext cx="1440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4992840" y="4549680"/>
                <a:ext cx="15840" cy="4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6600" y="4545000"/>
                <a:ext cx="6120" cy="49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25960" y="4554360"/>
                <a:ext cx="4680" cy="49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5029200" y="4575240"/>
                <a:ext cx="1440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5035680" y="4581360"/>
                <a:ext cx="15840" cy="162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56200" y="4579920"/>
                <a:ext cx="144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064120" y="4587840"/>
                <a:ext cx="144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5064120" y="4592520"/>
                <a:ext cx="1440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5072040" y="4600440"/>
                <a:ext cx="1440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94360" y="4597560"/>
                <a:ext cx="612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02280" y="4605480"/>
                <a:ext cx="6120" cy="41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5106960" y="4624560"/>
                <a:ext cx="14400" cy="6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5113440" y="4633920"/>
                <a:ext cx="1584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37200" y="4630680"/>
                <a:ext cx="6480" cy="33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146560" y="4640400"/>
                <a:ext cx="504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5149800" y="4641840"/>
                <a:ext cx="14400" cy="158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156280" y="4653000"/>
                <a:ext cx="1584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180040" y="4648320"/>
                <a:ext cx="15840" cy="48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189400" y="4657680"/>
                <a:ext cx="14400" cy="49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5199120" y="4684680"/>
                <a:ext cx="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5207040" y="4694400"/>
                <a:ext cx="0" cy="6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14960" y="4691160"/>
                <a:ext cx="14400" cy="58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22880" y="4700520"/>
                <a:ext cx="15840" cy="572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5234040" y="4721400"/>
                <a:ext cx="612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5243400" y="4729320"/>
                <a:ext cx="6480" cy="21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257800" y="4726080"/>
                <a:ext cx="14400" cy="41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267160" y="4735440"/>
                <a:ext cx="1440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5276880" y="4745160"/>
                <a:ext cx="0" cy="158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5284800" y="4756320"/>
                <a:ext cx="0" cy="14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292720" y="4751280"/>
                <a:ext cx="14400" cy="49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300640" y="4761000"/>
                <a:ext cx="15840" cy="48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5313240" y="4791240"/>
                <a:ext cx="14400" cy="4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5322960" y="4797360"/>
                <a:ext cx="1404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343480" y="4795920"/>
                <a:ext cx="648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353200" y="4803840"/>
                <a:ext cx="6120" cy="41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5354640" y="4807080"/>
                <a:ext cx="1584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5365800" y="4816440"/>
                <a:ext cx="1440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388120" y="4811760"/>
                <a:ext cx="4680" cy="49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396040" y="4821120"/>
                <a:ext cx="6120" cy="49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397480" y="4851360"/>
                <a:ext cx="15840" cy="4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5408640" y="4857840"/>
                <a:ext cx="14400" cy="6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425920" y="4856040"/>
                <a:ext cx="1800" cy="39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33840" y="4863960"/>
                <a:ext cx="180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5433840" y="4857840"/>
                <a:ext cx="144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5440320" y="4867200"/>
                <a:ext cx="15840" cy="33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64080" y="4863960"/>
                <a:ext cx="648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73800" y="4871880"/>
                <a:ext cx="612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5477040" y="4892760"/>
                <a:ext cx="14040" cy="6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5486400" y="4900680"/>
                <a:ext cx="14400" cy="6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506920" y="4898880"/>
                <a:ext cx="15840" cy="32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516640" y="4906800"/>
                <a:ext cx="14040" cy="32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22760" y="4905360"/>
                <a:ext cx="9720" cy="27360"/>
              </a:xfrm>
              <a:custGeom>
                <a:avLst/>
                <a:gdLst/>
                <a:ahLst/>
                <a:rect l="0" t="0" r="r" b="b"/>
                <a:pathLst>
                  <a:path w="27" h="76">
                    <a:moveTo>
                      <a:pt x="0" y="76"/>
                    </a:moveTo>
                    <a:lnTo>
                      <a:pt x="27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526000" y="4911840"/>
                <a:ext cx="0" cy="14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5535720" y="4919760"/>
                <a:ext cx="0" cy="14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30680" y="4905360"/>
                <a:ext cx="27360" cy="62280"/>
              </a:xfrm>
              <a:custGeom>
                <a:avLst/>
                <a:gdLst/>
                <a:ahLst/>
                <a:rect l="0" t="0" r="r" b="b"/>
                <a:pathLst>
                  <a:path w="76" h="173">
                    <a:moveTo>
                      <a:pt x="0" y="0"/>
                    </a:moveTo>
                    <a:lnTo>
                      <a:pt x="76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541840" y="4916520"/>
                <a:ext cx="14400" cy="49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551560" y="4924440"/>
                <a:ext cx="14040" cy="49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56240" y="4930920"/>
                <a:ext cx="19440" cy="36720"/>
              </a:xfrm>
              <a:custGeom>
                <a:avLst/>
                <a:gdLst/>
                <a:ahLst/>
                <a:rect l="0" t="0" r="r" b="b"/>
                <a:pathLst>
                  <a:path w="54" h="102">
                    <a:moveTo>
                      <a:pt x="0" y="102"/>
                    </a:moveTo>
                    <a:lnTo>
                      <a:pt x="54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5560920" y="4937040"/>
                <a:ext cx="648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5570640" y="4944960"/>
                <a:ext cx="612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573880" y="4930920"/>
                <a:ext cx="28800" cy="52920"/>
              </a:xfrm>
              <a:custGeom>
                <a:avLst/>
                <a:gdLst/>
                <a:ahLst/>
                <a:rect l="0" t="0" r="r" b="b"/>
                <a:pathLst>
                  <a:path w="80" h="147">
                    <a:moveTo>
                      <a:pt x="0" y="0"/>
                    </a:moveTo>
                    <a:lnTo>
                      <a:pt x="80" y="1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584680" y="4941720"/>
                <a:ext cx="16200" cy="39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594400" y="4950000"/>
                <a:ext cx="14400" cy="41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600520" y="4956120"/>
                <a:ext cx="18000" cy="27360"/>
              </a:xfrm>
              <a:custGeom>
                <a:avLst/>
                <a:gdLst/>
                <a:ahLst/>
                <a:rect l="0" t="0" r="r" b="b"/>
                <a:pathLst>
                  <a:path w="50" h="76">
                    <a:moveTo>
                      <a:pt x="0" y="76"/>
                    </a:moveTo>
                    <a:lnTo>
                      <a:pt x="5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5607000" y="4962600"/>
                <a:ext cx="4680" cy="14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5613480" y="4971960"/>
                <a:ext cx="612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616720" y="4956120"/>
                <a:ext cx="28800" cy="44640"/>
              </a:xfrm>
              <a:custGeom>
                <a:avLst/>
                <a:gdLst/>
                <a:ahLst/>
                <a:rect l="0" t="0" r="r" b="b"/>
                <a:pathLst>
                  <a:path w="80" h="124">
                    <a:moveTo>
                      <a:pt x="0" y="0"/>
                    </a:moveTo>
                    <a:lnTo>
                      <a:pt x="80" y="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627520" y="4967280"/>
                <a:ext cx="162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637240" y="4976640"/>
                <a:ext cx="14400" cy="32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43720" y="4965840"/>
                <a:ext cx="27360" cy="35280"/>
              </a:xfrm>
              <a:custGeom>
                <a:avLst/>
                <a:gdLst/>
                <a:ahLst/>
                <a:rect l="0" t="0" r="r" b="b"/>
                <a:pathLst>
                  <a:path w="76" h="98">
                    <a:moveTo>
                      <a:pt x="0" y="98"/>
                    </a:moveTo>
                    <a:lnTo>
                      <a:pt x="76" y="0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5649840" y="4970520"/>
                <a:ext cx="14400" cy="223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5657760" y="4979880"/>
                <a:ext cx="1440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668920" y="4965840"/>
                <a:ext cx="9720" cy="60840"/>
              </a:xfrm>
              <a:custGeom>
                <a:avLst/>
                <a:gdLst/>
                <a:ahLst/>
                <a:rect l="0" t="0" r="r" b="b"/>
                <a:pathLst>
                  <a:path w="27" h="169">
                    <a:moveTo>
                      <a:pt x="0" y="0"/>
                    </a:moveTo>
                    <a:lnTo>
                      <a:pt x="27" y="1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75400" y="4976640"/>
                <a:ext cx="1440" cy="478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684760" y="4984920"/>
                <a:ext cx="1800" cy="489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676840" y="4998960"/>
                <a:ext cx="28800" cy="27360"/>
              </a:xfrm>
              <a:custGeom>
                <a:avLst/>
                <a:gdLst/>
                <a:ahLst/>
                <a:rect l="0" t="0" r="r" b="b"/>
                <a:pathLst>
                  <a:path w="80" h="76">
                    <a:moveTo>
                      <a:pt x="0" y="76"/>
                    </a:moveTo>
                    <a:lnTo>
                      <a:pt x="8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5681520" y="5005440"/>
                <a:ext cx="1584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5692680" y="5014800"/>
                <a:ext cx="1440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703840" y="4998960"/>
                <a:ext cx="19440" cy="44640"/>
              </a:xfrm>
              <a:custGeom>
                <a:avLst/>
                <a:gdLst/>
                <a:ahLst/>
                <a:rect l="0" t="0" r="r" b="b"/>
                <a:pathLst>
                  <a:path w="54" h="124">
                    <a:moveTo>
                      <a:pt x="0" y="0"/>
                    </a:moveTo>
                    <a:lnTo>
                      <a:pt x="54" y="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715000" y="501012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722920" y="5019840"/>
                <a:ext cx="648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721480" y="502452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76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5727600" y="5029200"/>
                <a:ext cx="1440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5735520" y="5038560"/>
                <a:ext cx="1440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746680" y="5024520"/>
                <a:ext cx="9720" cy="46440"/>
              </a:xfrm>
              <a:custGeom>
                <a:avLst/>
                <a:gdLst/>
                <a:ahLst/>
                <a:rect l="0" t="0" r="r" b="b"/>
                <a:pathLst>
                  <a:path w="27" h="129">
                    <a:moveTo>
                      <a:pt x="0" y="0"/>
                    </a:moveTo>
                    <a:lnTo>
                      <a:pt x="27" y="1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753160" y="5035680"/>
                <a:ext cx="1440" cy="33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762520" y="5045040"/>
                <a:ext cx="18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5759280" y="5046840"/>
                <a:ext cx="16200" cy="158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5770440" y="5057640"/>
                <a:ext cx="1440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792760" y="5052960"/>
                <a:ext cx="468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00680" y="5062680"/>
                <a:ext cx="648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5802480" y="5075280"/>
                <a:ext cx="1584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5813280" y="5083200"/>
                <a:ext cx="1440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835600" y="5079960"/>
                <a:ext cx="144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843520" y="5087880"/>
                <a:ext cx="144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856120" y="5106960"/>
                <a:ext cx="6480" cy="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64400" y="5114880"/>
                <a:ext cx="6120" cy="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878440" y="5113440"/>
                <a:ext cx="14400" cy="41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886360" y="5122800"/>
                <a:ext cx="1440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5896080" y="5141880"/>
                <a:ext cx="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5905440" y="5149800"/>
                <a:ext cx="0" cy="64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911920" y="5148360"/>
                <a:ext cx="1584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921280" y="5156280"/>
                <a:ext cx="1440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932440" y="5159520"/>
                <a:ext cx="6480" cy="6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940360" y="5167440"/>
                <a:ext cx="6480" cy="612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956200" y="5165640"/>
                <a:ext cx="144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964120" y="5173560"/>
                <a:ext cx="1440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5977080" y="5178600"/>
                <a:ext cx="14040" cy="14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5983200" y="5186520"/>
                <a:ext cx="15840" cy="14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04080" y="5183280"/>
                <a:ext cx="144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012000" y="5191200"/>
                <a:ext cx="1440" cy="3168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005520" y="518940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w="76" h="76">
                    <a:moveTo>
                      <a:pt x="0" y="76"/>
                    </a:moveTo>
                    <a:lnTo>
                      <a:pt x="76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6012000" y="5195880"/>
                <a:ext cx="1404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6019920" y="5203800"/>
                <a:ext cx="1404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031080" y="5189400"/>
                <a:ext cx="19440" cy="52920"/>
              </a:xfrm>
              <a:custGeom>
                <a:avLst/>
                <a:gdLst/>
                <a:ahLst/>
                <a:rect l="0" t="0" r="r" b="b"/>
                <a:pathLst>
                  <a:path w="54" h="147">
                    <a:moveTo>
                      <a:pt x="0" y="0"/>
                    </a:moveTo>
                    <a:lnTo>
                      <a:pt x="54" y="1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041880" y="5200560"/>
                <a:ext cx="648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049800" y="5208480"/>
                <a:ext cx="648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048360" y="5205240"/>
                <a:ext cx="27360" cy="36720"/>
              </a:xfrm>
              <a:custGeom>
                <a:avLst/>
                <a:gdLst/>
                <a:ahLst/>
                <a:rect l="0" t="0" r="r" b="b"/>
                <a:pathLst>
                  <a:path w="76" h="102">
                    <a:moveTo>
                      <a:pt x="0" y="102"/>
                    </a:moveTo>
                    <a:lnTo>
                      <a:pt x="76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6054840" y="5211720"/>
                <a:ext cx="1404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062760" y="5221440"/>
                <a:ext cx="14040" cy="2376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073920" y="5205240"/>
                <a:ext cx="19440" cy="54360"/>
              </a:xfrm>
              <a:custGeom>
                <a:avLst/>
                <a:gdLst/>
                <a:ahLst/>
                <a:rect l="0" t="0" r="r" b="b"/>
                <a:pathLst>
                  <a:path w="54" h="151">
                    <a:moveTo>
                      <a:pt x="0" y="0"/>
                    </a:moveTo>
                    <a:lnTo>
                      <a:pt x="54" y="1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084720" y="5216400"/>
                <a:ext cx="6480" cy="41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093000" y="5226120"/>
                <a:ext cx="6120" cy="396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091200" y="523224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w="76" h="76">
                    <a:moveTo>
                      <a:pt x="0" y="76"/>
                    </a:moveTo>
                    <a:lnTo>
                      <a:pt x="76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6097680" y="5238720"/>
                <a:ext cx="1404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6103800" y="5246640"/>
                <a:ext cx="1584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16760" y="5232240"/>
                <a:ext cx="11520" cy="70200"/>
              </a:xfrm>
              <a:custGeom>
                <a:avLst/>
                <a:gdLst/>
                <a:ahLst/>
                <a:rect l="0" t="0" r="r" b="b"/>
                <a:pathLst>
                  <a:path w="32" h="195">
                    <a:moveTo>
                      <a:pt x="0" y="0"/>
                    </a:moveTo>
                    <a:lnTo>
                      <a:pt x="32" y="1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24680" y="5243400"/>
                <a:ext cx="1440" cy="572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132600" y="5251320"/>
                <a:ext cx="1440" cy="5904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6132600" y="5281560"/>
                <a:ext cx="14040" cy="14400"/>
              </a:xfrm>
              <a:prstGeom prst="line">
                <a:avLst/>
              </a:prstGeom>
              <a:ln w="12600">
                <a:solidFill>
                  <a:srgbClr val="00994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 flipV="1">
              <a:off x="6140520" y="5288040"/>
              <a:ext cx="14040" cy="1584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62840" y="5286240"/>
              <a:ext cx="14040" cy="4932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70760" y="5294160"/>
              <a:ext cx="15840" cy="4932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181560" y="5316480"/>
              <a:ext cx="6480" cy="1440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192720" y="5324400"/>
              <a:ext cx="5040" cy="1440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05680" y="5321160"/>
              <a:ext cx="14040" cy="3204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13600" y="5329080"/>
              <a:ext cx="15840" cy="3204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224760" y="5324400"/>
              <a:ext cx="0" cy="2376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6232680" y="5332320"/>
              <a:ext cx="0" cy="2376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40600" y="5329080"/>
              <a:ext cx="14040" cy="4140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48520" y="5337000"/>
              <a:ext cx="14040" cy="4140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259680" y="5357880"/>
              <a:ext cx="6120" cy="612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267600" y="5365800"/>
              <a:ext cx="6120" cy="648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83440" y="5364000"/>
              <a:ext cx="14040" cy="4932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91360" y="5372280"/>
              <a:ext cx="14040" cy="4896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303960" y="5384880"/>
              <a:ext cx="14400" cy="2376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310440" y="5392800"/>
              <a:ext cx="15840" cy="2376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34200" y="5389560"/>
              <a:ext cx="6120" cy="3168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43560" y="5397480"/>
              <a:ext cx="6480" cy="3348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6346800" y="5402160"/>
              <a:ext cx="14400" cy="1440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6356520" y="5408640"/>
              <a:ext cx="14040" cy="1584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373800" y="5407200"/>
              <a:ext cx="1440" cy="5688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81720" y="5415120"/>
              <a:ext cx="1440" cy="5868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6381720" y="5445000"/>
              <a:ext cx="14400" cy="1440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6388200" y="5451480"/>
              <a:ext cx="15840" cy="1584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11960" y="5450040"/>
              <a:ext cx="6480" cy="3960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421320" y="5457960"/>
              <a:ext cx="5040" cy="4104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6424560" y="5470560"/>
              <a:ext cx="14400" cy="1440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6431040" y="5479920"/>
              <a:ext cx="15840" cy="1440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51560" y="5475240"/>
              <a:ext cx="1800" cy="4140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59480" y="5484960"/>
              <a:ext cx="1800" cy="3960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6459480" y="5494320"/>
              <a:ext cx="14400" cy="1584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6467400" y="5505480"/>
              <a:ext cx="14400" cy="1440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489720" y="5500800"/>
              <a:ext cx="14400" cy="4896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97640" y="5510160"/>
              <a:ext cx="15840" cy="4932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6508800" y="5521320"/>
              <a:ext cx="6480" cy="2232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6518160" y="5530680"/>
              <a:ext cx="6480" cy="2412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532560" y="5527800"/>
              <a:ext cx="6480" cy="2196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41920" y="5535720"/>
              <a:ext cx="5040" cy="23760"/>
            </a:xfrm>
            <a:prstGeom prst="line">
              <a:avLst/>
            </a:prstGeom>
            <a:ln w="12600">
              <a:solidFill>
                <a:srgbClr val="0099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38360" y="1800360"/>
            <a:ext cx="3259080" cy="3759120"/>
            <a:chOff x="2538360" y="1800360"/>
            <a:chExt cx="3259080" cy="3759120"/>
          </a:xfrm>
        </p:grpSpPr>
        <p:grpSp>
          <p:nvGrpSpPr>
            <p:cNvPr id="655" name=""/>
            <p:cNvGrpSpPr/>
            <p:nvPr/>
          </p:nvGrpSpPr>
          <p:grpSpPr>
            <a:xfrm>
              <a:off x="2538360" y="1800360"/>
              <a:ext cx="1936800" cy="2725560"/>
              <a:chOff x="2538360" y="1800360"/>
              <a:chExt cx="1936800" cy="2725560"/>
            </a:xfrm>
          </p:grpSpPr>
          <p:sp>
            <p:nvSpPr>
              <p:cNvPr id="656" name=""/>
              <p:cNvSpPr/>
              <p:nvPr/>
            </p:nvSpPr>
            <p:spPr>
              <a:xfrm flipV="1">
                <a:off x="2538360" y="2068560"/>
                <a:ext cx="6480" cy="3506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2546280" y="2076480"/>
                <a:ext cx="6480" cy="3506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2557440" y="1833480"/>
                <a:ext cx="14400" cy="2224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2563920" y="1844640"/>
                <a:ext cx="15840" cy="220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587680" y="1839960"/>
                <a:ext cx="612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597040" y="1849320"/>
                <a:ext cx="504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2600280" y="1809720"/>
                <a:ext cx="14400" cy="493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2606760" y="1819440"/>
                <a:ext cx="15840" cy="489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630520" y="1814400"/>
                <a:ext cx="6480" cy="414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39880" y="1824120"/>
                <a:ext cx="6480" cy="396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2641680" y="1817640"/>
                <a:ext cx="612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2652840" y="1825560"/>
                <a:ext cx="46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665440" y="1824120"/>
                <a:ext cx="14400" cy="396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673360" y="1832040"/>
                <a:ext cx="15840" cy="410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2684520" y="1809720"/>
                <a:ext cx="6120" cy="493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2693880" y="1819440"/>
                <a:ext cx="6480" cy="489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08280" y="1814400"/>
                <a:ext cx="14400" cy="320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17640" y="1824120"/>
                <a:ext cx="1440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2727360" y="180828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736720" y="181764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751120" y="1814400"/>
                <a:ext cx="6480" cy="414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60840" y="1824120"/>
                <a:ext cx="6120" cy="396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2763720" y="1817640"/>
                <a:ext cx="1440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2773440" y="1825560"/>
                <a:ext cx="1404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82800" y="1812960"/>
                <a:ext cx="19440" cy="44640"/>
              </a:xfrm>
              <a:custGeom>
                <a:avLst/>
                <a:gdLst/>
                <a:ahLst/>
                <a:rect l="0" t="0" r="r" b="b"/>
                <a:pathLst>
                  <a:path w="54" h="124">
                    <a:moveTo>
                      <a:pt x="0" y="0"/>
                    </a:moveTo>
                    <a:lnTo>
                      <a:pt x="54" y="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3960" y="182412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803680" y="1832040"/>
                <a:ext cx="612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800440" y="1812960"/>
                <a:ext cx="19440" cy="44640"/>
              </a:xfrm>
              <a:custGeom>
                <a:avLst/>
                <a:gdLst/>
                <a:ahLst/>
                <a:rect l="0" t="0" r="r" b="b"/>
                <a:pathLst>
                  <a:path w="54" h="124">
                    <a:moveTo>
                      <a:pt x="0" y="124"/>
                    </a:moveTo>
                    <a:lnTo>
                      <a:pt x="54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2805120" y="181764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2814480" y="182556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817720" y="1812960"/>
                <a:ext cx="27360" cy="62280"/>
              </a:xfrm>
              <a:custGeom>
                <a:avLst/>
                <a:gdLst/>
                <a:ahLst/>
                <a:rect l="0" t="0" r="r" b="b"/>
                <a:pathLst>
                  <a:path w="76" h="173">
                    <a:moveTo>
                      <a:pt x="0" y="0"/>
                    </a:moveTo>
                    <a:lnTo>
                      <a:pt x="76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828880" y="1824120"/>
                <a:ext cx="14400" cy="489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838600" y="1832040"/>
                <a:ext cx="14040" cy="493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843280" y="1803240"/>
                <a:ext cx="19440" cy="71640"/>
              </a:xfrm>
              <a:custGeom>
                <a:avLst/>
                <a:gdLst/>
                <a:ahLst/>
                <a:rect l="0" t="0" r="r" b="b"/>
                <a:pathLst>
                  <a:path w="54" h="199">
                    <a:moveTo>
                      <a:pt x="0" y="199"/>
                    </a:moveTo>
                    <a:lnTo>
                      <a:pt x="54" y="0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2847960" y="1809720"/>
                <a:ext cx="6480" cy="58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857680" y="1817640"/>
                <a:ext cx="6120" cy="572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860560" y="1803240"/>
                <a:ext cx="28800" cy="44640"/>
              </a:xfrm>
              <a:custGeom>
                <a:avLst/>
                <a:gdLst/>
                <a:ahLst/>
                <a:rect l="0" t="0" r="r" b="b"/>
                <a:pathLst>
                  <a:path w="80" h="124">
                    <a:moveTo>
                      <a:pt x="0" y="0"/>
                    </a:moveTo>
                    <a:lnTo>
                      <a:pt x="80" y="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871720" y="1814400"/>
                <a:ext cx="15840" cy="320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81440" y="1824120"/>
                <a:ext cx="1404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887560" y="1803240"/>
                <a:ext cx="18000" cy="44640"/>
              </a:xfrm>
              <a:custGeom>
                <a:avLst/>
                <a:gdLst/>
                <a:ahLst/>
                <a:rect l="0" t="0" r="r" b="b"/>
                <a:pathLst>
                  <a:path w="50" h="124">
                    <a:moveTo>
                      <a:pt x="0" y="124"/>
                    </a:moveTo>
                    <a:lnTo>
                      <a:pt x="5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94040" y="1808280"/>
                <a:ext cx="46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00520" y="1817640"/>
                <a:ext cx="612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903400" y="1803240"/>
                <a:ext cx="19440" cy="54360"/>
              </a:xfrm>
              <a:custGeom>
                <a:avLst/>
                <a:gdLst/>
                <a:ahLst/>
                <a:rect l="0" t="0" r="r" b="b"/>
                <a:pathLst>
                  <a:path w="54" h="151">
                    <a:moveTo>
                      <a:pt x="0" y="0"/>
                    </a:moveTo>
                    <a:lnTo>
                      <a:pt x="54" y="1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914560" y="1814400"/>
                <a:ext cx="6480" cy="414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924280" y="1824120"/>
                <a:ext cx="6120" cy="396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921040" y="1812960"/>
                <a:ext cx="27360" cy="44640"/>
              </a:xfrm>
              <a:custGeom>
                <a:avLst/>
                <a:gdLst/>
                <a:ahLst/>
                <a:rect l="0" t="0" r="r" b="b"/>
                <a:pathLst>
                  <a:path w="76" h="124">
                    <a:moveTo>
                      <a:pt x="0" y="124"/>
                    </a:moveTo>
                    <a:lnTo>
                      <a:pt x="76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927520" y="1817640"/>
                <a:ext cx="1404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936880" y="1825560"/>
                <a:ext cx="1440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946240" y="1812960"/>
                <a:ext cx="19440" cy="35280"/>
              </a:xfrm>
              <a:custGeom>
                <a:avLst/>
                <a:gdLst/>
                <a:ahLst/>
                <a:rect l="0" t="0" r="r" b="b"/>
                <a:pathLst>
                  <a:path w="54" h="98">
                    <a:moveTo>
                      <a:pt x="0" y="0"/>
                    </a:moveTo>
                    <a:lnTo>
                      <a:pt x="54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957400" y="1824120"/>
                <a:ext cx="6480" cy="223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967120" y="1832040"/>
                <a:ext cx="612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63880" y="1812960"/>
                <a:ext cx="28800" cy="35280"/>
              </a:xfrm>
              <a:custGeom>
                <a:avLst/>
                <a:gdLst/>
                <a:ahLst/>
                <a:rect l="0" t="0" r="r" b="b"/>
                <a:pathLst>
                  <a:path w="80" h="98">
                    <a:moveTo>
                      <a:pt x="0" y="98"/>
                    </a:moveTo>
                    <a:lnTo>
                      <a:pt x="80" y="0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2968560" y="1817640"/>
                <a:ext cx="15840" cy="223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2979720" y="1827360"/>
                <a:ext cx="1440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990880" y="1812960"/>
                <a:ext cx="18000" cy="35280"/>
              </a:xfrm>
              <a:custGeom>
                <a:avLst/>
                <a:gdLst/>
                <a:ahLst/>
                <a:rect l="0" t="0" r="r" b="b"/>
                <a:pathLst>
                  <a:path w="50" h="98">
                    <a:moveTo>
                      <a:pt x="0" y="0"/>
                    </a:moveTo>
                    <a:lnTo>
                      <a:pt x="5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002040" y="1824120"/>
                <a:ext cx="4680" cy="223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009960" y="1832040"/>
                <a:ext cx="612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006720" y="1803240"/>
                <a:ext cx="19440" cy="44640"/>
              </a:xfrm>
              <a:custGeom>
                <a:avLst/>
                <a:gdLst/>
                <a:ahLst/>
                <a:rect l="0" t="0" r="r" b="b"/>
                <a:pathLst>
                  <a:path w="54" h="124">
                    <a:moveTo>
                      <a:pt x="0" y="124"/>
                    </a:moveTo>
                    <a:lnTo>
                      <a:pt x="54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011400" y="180828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021120" y="1817640"/>
                <a:ext cx="612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035160" y="1814400"/>
                <a:ext cx="15840" cy="414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044880" y="1824120"/>
                <a:ext cx="14400" cy="396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057480" y="1808280"/>
                <a:ext cx="4680" cy="410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063960" y="1819440"/>
                <a:ext cx="6120" cy="396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078000" y="1814400"/>
                <a:ext cx="6480" cy="414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087720" y="1824120"/>
                <a:ext cx="6480" cy="396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3089160" y="1808280"/>
                <a:ext cx="15840" cy="410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3100320" y="1819440"/>
                <a:ext cx="14400" cy="396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122640" y="1814400"/>
                <a:ext cx="4680" cy="320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130560" y="182412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3132000" y="1808280"/>
                <a:ext cx="1584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3143160" y="1817640"/>
                <a:ext cx="1440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165480" y="1814400"/>
                <a:ext cx="6480" cy="414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173400" y="1824120"/>
                <a:ext cx="6480" cy="396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3178080" y="1817640"/>
                <a:ext cx="46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3184560" y="182556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198960" y="1824120"/>
                <a:ext cx="1584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208320" y="1832040"/>
                <a:ext cx="1440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3219480" y="1808280"/>
                <a:ext cx="6480" cy="410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3227400" y="1819440"/>
                <a:ext cx="6480" cy="396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243240" y="1814400"/>
                <a:ext cx="1440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251160" y="1824120"/>
                <a:ext cx="14400" cy="223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3262320" y="1819440"/>
                <a:ext cx="6480" cy="140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3270240" y="1827360"/>
                <a:ext cx="6480" cy="140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286080" y="182412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294000" y="183204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3298680" y="1817640"/>
                <a:ext cx="1440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3306600" y="1825560"/>
                <a:ext cx="1440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28920" y="1824120"/>
                <a:ext cx="6480" cy="223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36840" y="1832040"/>
                <a:ext cx="648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3341520" y="1801800"/>
                <a:ext cx="14400" cy="396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3349800" y="1808280"/>
                <a:ext cx="14040" cy="410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71760" y="180648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79680" y="1814400"/>
                <a:ext cx="6480" cy="320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3382920" y="180036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3390840" y="180828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06680" y="1806480"/>
                <a:ext cx="14400" cy="493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14600" y="1814400"/>
                <a:ext cx="14400" cy="493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3425760" y="1827360"/>
                <a:ext cx="648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3433680" y="1835280"/>
                <a:ext cx="648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449520" y="183204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457440" y="1839960"/>
                <a:ext cx="6480" cy="331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3462480" y="1825560"/>
                <a:ext cx="1404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3470400" y="1835280"/>
                <a:ext cx="14040" cy="331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492360" y="1832040"/>
                <a:ext cx="6480" cy="410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500280" y="1839960"/>
                <a:ext cx="6480" cy="414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3505320" y="1844640"/>
                <a:ext cx="1404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3513240" y="1852560"/>
                <a:ext cx="1404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535200" y="1849320"/>
                <a:ext cx="6480" cy="2383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543480" y="1857240"/>
                <a:ext cx="6120" cy="239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52840" y="2098800"/>
                <a:ext cx="6480" cy="5666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60760" y="2108160"/>
                <a:ext cx="6480" cy="5652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570120" y="2676600"/>
                <a:ext cx="14400" cy="2458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578400" y="2684520"/>
                <a:ext cx="14040" cy="247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595680" y="2933640"/>
                <a:ext cx="6480" cy="1443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603600" y="2943360"/>
                <a:ext cx="6480" cy="1443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613320" y="3089160"/>
                <a:ext cx="14040" cy="1018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0760" bIns="50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621240" y="3098880"/>
                <a:ext cx="15840" cy="1000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638520" y="3201840"/>
                <a:ext cx="6480" cy="669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8240" y="3209760"/>
                <a:ext cx="4680" cy="669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56160" y="3279600"/>
                <a:ext cx="6120" cy="651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664080" y="3287880"/>
                <a:ext cx="6120" cy="666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673440" y="3355920"/>
                <a:ext cx="14400" cy="493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681360" y="3365640"/>
                <a:ext cx="15840" cy="489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699000" y="3416400"/>
                <a:ext cx="6120" cy="489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708360" y="3425760"/>
                <a:ext cx="4680" cy="493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716280" y="347652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724200" y="348624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33920" y="3519360"/>
                <a:ext cx="14040" cy="414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41840" y="3529080"/>
                <a:ext cx="15840" cy="396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59120" y="3571920"/>
                <a:ext cx="648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68840" y="3579840"/>
                <a:ext cx="4680" cy="334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76760" y="3614760"/>
                <a:ext cx="1404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84680" y="3624120"/>
                <a:ext cx="15840" cy="320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801960" y="3657600"/>
                <a:ext cx="648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811680" y="3666960"/>
                <a:ext cx="4680" cy="223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819600" y="3692520"/>
                <a:ext cx="612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27520" y="3700440"/>
                <a:ext cx="6120" cy="334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36880" y="3735360"/>
                <a:ext cx="1440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844800" y="3745080"/>
                <a:ext cx="15840" cy="219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862440" y="3770280"/>
                <a:ext cx="1440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871800" y="3778200"/>
                <a:ext cx="1440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884760" y="3805200"/>
                <a:ext cx="1440" cy="144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892680" y="3813120"/>
                <a:ext cx="1440" cy="144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897360" y="3830760"/>
                <a:ext cx="1440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05280" y="3838680"/>
                <a:ext cx="1584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922560" y="3873600"/>
                <a:ext cx="6480" cy="140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932280" y="3881520"/>
                <a:ext cx="4680" cy="158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940200" y="3898800"/>
                <a:ext cx="1440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948120" y="3908520"/>
                <a:ext cx="1584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965400" y="3941640"/>
                <a:ext cx="6480" cy="64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975120" y="3951360"/>
                <a:ext cx="6480" cy="61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983040" y="3959280"/>
                <a:ext cx="14400" cy="144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992400" y="3968640"/>
                <a:ext cx="14400" cy="144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008600" y="3984480"/>
                <a:ext cx="15840" cy="162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017960" y="3994200"/>
                <a:ext cx="14400" cy="144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030560" y="4011480"/>
                <a:ext cx="1800" cy="223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040280" y="4019400"/>
                <a:ext cx="1440" cy="241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43520" y="4044960"/>
                <a:ext cx="14040" cy="64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052880" y="4054320"/>
                <a:ext cx="14400" cy="64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068720" y="4062240"/>
                <a:ext cx="6480" cy="320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078440" y="4071960"/>
                <a:ext cx="612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086360" y="4105440"/>
                <a:ext cx="15840" cy="61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095720" y="4114800"/>
                <a:ext cx="14400" cy="64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108320" y="4122720"/>
                <a:ext cx="180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116240" y="4132440"/>
                <a:ext cx="1800" cy="219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121280" y="4152960"/>
                <a:ext cx="14040" cy="14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129200" y="4162320"/>
                <a:ext cx="15840" cy="18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146480" y="4165560"/>
                <a:ext cx="648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56200" y="4175280"/>
                <a:ext cx="612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164120" y="4197240"/>
                <a:ext cx="14040" cy="18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173480" y="4205160"/>
                <a:ext cx="14400" cy="18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189320" y="4210200"/>
                <a:ext cx="1584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199040" y="4218120"/>
                <a:ext cx="1404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16320" y="4253040"/>
                <a:ext cx="4680" cy="61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224240" y="4260960"/>
                <a:ext cx="6480" cy="61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232160" y="4270320"/>
                <a:ext cx="1584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241880" y="4278240"/>
                <a:ext cx="1404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251240" y="4297320"/>
                <a:ext cx="0" cy="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260960" y="4305240"/>
                <a:ext cx="1440" cy="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267080" y="4303800"/>
                <a:ext cx="1440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276800" y="4313160"/>
                <a:ext cx="1404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292640" y="4343400"/>
                <a:ext cx="6480" cy="14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302000" y="4351320"/>
                <a:ext cx="6480" cy="14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309920" y="4356000"/>
                <a:ext cx="1584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19640" y="4363920"/>
                <a:ext cx="14400" cy="237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336920" y="4379760"/>
                <a:ext cx="14400" cy="18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344840" y="4387680"/>
                <a:ext cx="14400" cy="18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357800" y="4390920"/>
                <a:ext cx="1440" cy="316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367160" y="4398840"/>
                <a:ext cx="1800" cy="320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370400" y="4429080"/>
                <a:ext cx="15840" cy="18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379760" y="4438800"/>
                <a:ext cx="14400" cy="14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397400" y="4441680"/>
                <a:ext cx="4680" cy="241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405320" y="4451400"/>
                <a:ext cx="6480" cy="223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13240" y="4465800"/>
                <a:ext cx="15840" cy="14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422600" y="4473720"/>
                <a:ext cx="14400" cy="144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440240" y="4476600"/>
                <a:ext cx="6480" cy="3996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448160" y="4484520"/>
                <a:ext cx="6480" cy="4140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4452840" y="4503600"/>
                <a:ext cx="14400" cy="648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4460760" y="4513320"/>
                <a:ext cx="14400" cy="6120"/>
              </a:xfrm>
              <a:prstGeom prst="line">
                <a:avLst/>
              </a:prstGeom>
              <a:ln w="12600">
                <a:solidFill>
                  <a:srgbClr val="99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4478400" y="4510080"/>
              <a:ext cx="1440" cy="334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87760" y="4519440"/>
              <a:ext cx="1800" cy="32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486320" y="4538520"/>
              <a:ext cx="15840" cy="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97480" y="4546440"/>
              <a:ext cx="14040" cy="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518000" y="4545000"/>
              <a:ext cx="14400" cy="41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525920" y="4554360"/>
              <a:ext cx="14400" cy="399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543560" y="4586400"/>
              <a:ext cx="6120" cy="14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1480" y="4594320"/>
              <a:ext cx="6120" cy="14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60840" y="4597560"/>
              <a:ext cx="14400" cy="489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568760" y="4605480"/>
              <a:ext cx="14400" cy="489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4578480" y="4633920"/>
              <a:ext cx="0" cy="64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4587840" y="4641840"/>
              <a:ext cx="0" cy="64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94320" y="4640400"/>
              <a:ext cx="15840" cy="316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03680" y="4648320"/>
              <a:ext cx="14400" cy="316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621320" y="4672080"/>
              <a:ext cx="4680" cy="14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629240" y="4680000"/>
              <a:ext cx="6120" cy="14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37160" y="4683240"/>
              <a:ext cx="15840" cy="41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46520" y="4691160"/>
              <a:ext cx="14400" cy="41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4659480" y="4711680"/>
              <a:ext cx="14040" cy="64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4667400" y="4719600"/>
              <a:ext cx="14040" cy="64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89360" y="4718160"/>
              <a:ext cx="6480" cy="396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697280" y="4726080"/>
              <a:ext cx="6480" cy="41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4702320" y="4738680"/>
              <a:ext cx="14040" cy="14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708440" y="4745160"/>
              <a:ext cx="15840" cy="158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29320" y="4743360"/>
              <a:ext cx="1440" cy="41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737240" y="4751280"/>
              <a:ext cx="1440" cy="41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741920" y="4784760"/>
              <a:ext cx="14400" cy="14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749840" y="4792680"/>
              <a:ext cx="14400" cy="14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767120" y="4795920"/>
              <a:ext cx="6480" cy="396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75040" y="4803840"/>
              <a:ext cx="6480" cy="41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4780080" y="4807080"/>
              <a:ext cx="14040" cy="237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4788000" y="4816440"/>
              <a:ext cx="14040" cy="237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805280" y="4811760"/>
              <a:ext cx="1800" cy="41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815000" y="4821120"/>
              <a:ext cx="1440" cy="399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13200" y="4848120"/>
              <a:ext cx="15840" cy="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24360" y="4856040"/>
              <a:ext cx="14400" cy="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44880" y="4856040"/>
              <a:ext cx="14400" cy="399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53160" y="4863960"/>
              <a:ext cx="14040" cy="41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4863960" y="4883040"/>
              <a:ext cx="6480" cy="64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4871880" y="4892760"/>
              <a:ext cx="6480" cy="612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88080" y="4889520"/>
              <a:ext cx="14040" cy="41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96000" y="4898880"/>
              <a:ext cx="15840" cy="399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4906800" y="4911840"/>
              <a:ext cx="6480" cy="14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4917960" y="4919760"/>
              <a:ext cx="5040" cy="14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30920" y="4916520"/>
              <a:ext cx="14040" cy="396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938840" y="4924440"/>
              <a:ext cx="15840" cy="41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4950000" y="4937040"/>
              <a:ext cx="0" cy="14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4957920" y="4943520"/>
              <a:ext cx="0" cy="158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965840" y="4941720"/>
              <a:ext cx="14040" cy="4932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973760" y="4950000"/>
              <a:ext cx="14040" cy="489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4986360" y="4962600"/>
              <a:ext cx="14400" cy="237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4992840" y="4970520"/>
              <a:ext cx="15840" cy="2232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16600" y="4967280"/>
              <a:ext cx="6120" cy="4932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25960" y="4976640"/>
              <a:ext cx="4680" cy="478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5029200" y="4997520"/>
              <a:ext cx="14400" cy="14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5035680" y="5005440"/>
              <a:ext cx="15840" cy="14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56200" y="5002200"/>
              <a:ext cx="1440" cy="396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064120" y="5010120"/>
              <a:ext cx="1440" cy="41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068800" y="5041800"/>
              <a:ext cx="14400" cy="18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076720" y="5051520"/>
              <a:ext cx="14400" cy="14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094360" y="5052960"/>
              <a:ext cx="6120" cy="41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102280" y="5062680"/>
              <a:ext cx="6120" cy="396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5106960" y="5056200"/>
              <a:ext cx="14400" cy="316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5113440" y="5064120"/>
              <a:ext cx="15840" cy="316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137200" y="5062680"/>
              <a:ext cx="6480" cy="489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146560" y="5070600"/>
              <a:ext cx="5040" cy="489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5149800" y="5099040"/>
              <a:ext cx="14400" cy="64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5156280" y="5106960"/>
              <a:ext cx="15840" cy="64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180040" y="5105520"/>
              <a:ext cx="15840" cy="489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89400" y="5113440"/>
              <a:ext cx="14400" cy="489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5199120" y="5141880"/>
              <a:ext cx="0" cy="64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5207040" y="5149800"/>
              <a:ext cx="0" cy="64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214960" y="5148360"/>
              <a:ext cx="14400" cy="489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222880" y="5156280"/>
              <a:ext cx="15840" cy="489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5234040" y="5178600"/>
              <a:ext cx="6120" cy="14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5243400" y="5186520"/>
              <a:ext cx="6480" cy="14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257800" y="5183280"/>
              <a:ext cx="14400" cy="396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67160" y="5191200"/>
              <a:ext cx="14400" cy="41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5276880" y="5203800"/>
              <a:ext cx="0" cy="14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5284800" y="5210280"/>
              <a:ext cx="0" cy="158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92720" y="5208480"/>
              <a:ext cx="14400" cy="41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00640" y="5216400"/>
              <a:ext cx="15840" cy="41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5313240" y="5237280"/>
              <a:ext cx="14400" cy="612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5322960" y="5245200"/>
              <a:ext cx="14040" cy="612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43480" y="5243400"/>
              <a:ext cx="6480" cy="4932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53200" y="5251320"/>
              <a:ext cx="6120" cy="4932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5354640" y="5270400"/>
              <a:ext cx="15840" cy="158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5365800" y="5281560"/>
              <a:ext cx="14400" cy="14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88120" y="5276880"/>
              <a:ext cx="4680" cy="41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96040" y="5286240"/>
              <a:ext cx="6120" cy="399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5397480" y="5305320"/>
              <a:ext cx="15840" cy="64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5408640" y="5316480"/>
              <a:ext cx="14400" cy="46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425920" y="5311800"/>
              <a:ext cx="1800" cy="316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433840" y="5321160"/>
              <a:ext cx="1800" cy="32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5433840" y="5324400"/>
              <a:ext cx="14400" cy="14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440320" y="5330880"/>
              <a:ext cx="15840" cy="158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464080" y="5329080"/>
              <a:ext cx="6480" cy="32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473800" y="5337000"/>
              <a:ext cx="6120" cy="334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81720" y="5361120"/>
              <a:ext cx="14040" cy="14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491080" y="5370480"/>
              <a:ext cx="14400" cy="18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506920" y="5372280"/>
              <a:ext cx="15840" cy="316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516640" y="5381640"/>
              <a:ext cx="14040" cy="316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5526000" y="5384880"/>
              <a:ext cx="0" cy="14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5535720" y="5391000"/>
              <a:ext cx="0" cy="162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41840" y="5389560"/>
              <a:ext cx="14400" cy="41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51560" y="5397480"/>
              <a:ext cx="14040" cy="41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560920" y="5402160"/>
              <a:ext cx="6480" cy="237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5570640" y="5410080"/>
              <a:ext cx="6120" cy="237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584680" y="5407200"/>
              <a:ext cx="16200" cy="396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94400" y="5415120"/>
              <a:ext cx="14400" cy="41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5607000" y="5427720"/>
              <a:ext cx="4680" cy="14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613480" y="5437080"/>
              <a:ext cx="6120" cy="14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627520" y="5432400"/>
              <a:ext cx="16200" cy="41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637240" y="5442120"/>
              <a:ext cx="14400" cy="396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5649840" y="5445000"/>
              <a:ext cx="14400" cy="2376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5657760" y="5452920"/>
              <a:ext cx="14400" cy="2412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75400" y="5450040"/>
              <a:ext cx="1440" cy="396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84760" y="5457960"/>
              <a:ext cx="1800" cy="41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5681520" y="5470560"/>
              <a:ext cx="15840" cy="14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5692680" y="5479920"/>
              <a:ext cx="14400" cy="14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715000" y="5475240"/>
              <a:ext cx="6480" cy="41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722920" y="5484960"/>
              <a:ext cx="6480" cy="396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5727600" y="5504040"/>
              <a:ext cx="14400" cy="612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5735520" y="5511960"/>
              <a:ext cx="14400" cy="612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53160" y="5510160"/>
              <a:ext cx="1440" cy="316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62520" y="5518080"/>
              <a:ext cx="1800" cy="316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5759280" y="5529240"/>
              <a:ext cx="16200" cy="64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5770440" y="5540400"/>
              <a:ext cx="14400" cy="468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88080" y="5535720"/>
              <a:ext cx="1440" cy="1404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96000" y="5545080"/>
              <a:ext cx="1440" cy="14400"/>
            </a:xfrm>
            <a:prstGeom prst="line">
              <a:avLst/>
            </a:prstGeom>
            <a:ln w="12600">
              <a:solidFill>
                <a:srgbClr val="99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"/>
          <p:cNvSpPr txBox="1"/>
          <p:nvPr/>
        </p:nvSpPr>
        <p:spPr>
          <a:xfrm>
            <a:off x="4479840" y="3309840"/>
            <a:ext cx="95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2508120" y="57484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3144960" y="57484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782880" y="57484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57484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437000" y="57484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506840" y="57484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5100480" y="57484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168880" y="57484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5764320" y="57484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5832360" y="57484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6410160" y="57484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6478560" y="57484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2370240" y="174312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266920" y="250992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2335320" y="250992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2405160" y="250992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2266920" y="328464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2335320" y="328464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2405160" y="328464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2266920" y="405144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2335320" y="405144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2405160" y="405144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2266920" y="481824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2335320" y="481824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2405160" y="481824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2266920" y="55846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2335320" y="55846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2405160" y="55846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549600" y="2363760"/>
            <a:ext cx="353880" cy="14616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652920" y="2260440"/>
            <a:ext cx="147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3665520" y="245916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683160" y="2408400"/>
            <a:ext cx="95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652920" y="2343240"/>
            <a:ext cx="155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3657600" y="2252520"/>
            <a:ext cx="14616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665520" y="21844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686480" y="2398680"/>
            <a:ext cx="422280" cy="14616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824360" y="2260440"/>
            <a:ext cx="1476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4835520" y="252900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4835520" y="245916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4853160" y="2408400"/>
            <a:ext cx="95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4822920" y="2351160"/>
            <a:ext cx="155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4827600" y="2252520"/>
            <a:ext cx="14616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4835520" y="21844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884920" y="2398680"/>
            <a:ext cx="420840" cy="14616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021360" y="2260440"/>
            <a:ext cx="1476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6033960" y="252900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6033960" y="245916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6051600" y="2408400"/>
            <a:ext cx="95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6021360" y="2351160"/>
            <a:ext cx="155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6026040" y="2252520"/>
            <a:ext cx="14616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6033960" y="21844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2538360" y="1801800"/>
            <a:ext cx="4192560" cy="3387600"/>
            <a:chOff x="2538360" y="1801800"/>
            <a:chExt cx="4192560" cy="3387600"/>
          </a:xfrm>
        </p:grpSpPr>
        <p:grpSp>
          <p:nvGrpSpPr>
            <p:cNvPr id="1039" name=""/>
            <p:cNvGrpSpPr/>
            <p:nvPr/>
          </p:nvGrpSpPr>
          <p:grpSpPr>
            <a:xfrm>
              <a:off x="2538360" y="1801800"/>
              <a:ext cx="1928880" cy="2000160"/>
              <a:chOff x="2538360" y="1801800"/>
              <a:chExt cx="1928880" cy="2000160"/>
            </a:xfrm>
          </p:grpSpPr>
          <p:sp>
            <p:nvSpPr>
              <p:cNvPr id="1040" name=""/>
              <p:cNvSpPr/>
              <p:nvPr/>
            </p:nvSpPr>
            <p:spPr>
              <a:xfrm flipV="1">
                <a:off x="2538360" y="2066760"/>
                <a:ext cx="6480" cy="3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2546280" y="2075040"/>
                <a:ext cx="6480" cy="33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50960" y="1838160"/>
                <a:ext cx="27360" cy="225720"/>
              </a:xfrm>
              <a:custGeom>
                <a:avLst/>
                <a:gdLst/>
                <a:ahLst/>
                <a:rect l="0" t="0" r="r" b="b"/>
                <a:pathLst>
                  <a:path w="76" h="627">
                    <a:moveTo>
                      <a:pt x="0" y="627"/>
                    </a:moveTo>
                    <a:lnTo>
                      <a:pt x="76" y="0"/>
                    </a:lnTo>
                    <a:lnTo>
                      <a:pt x="0" y="6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2557440" y="1843200"/>
                <a:ext cx="1440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2563920" y="1851120"/>
                <a:ext cx="1584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576520" y="1838160"/>
                <a:ext cx="19440" cy="27360"/>
              </a:xfrm>
              <a:custGeom>
                <a:avLst/>
                <a:gdLst/>
                <a:ahLst/>
                <a:rect l="0" t="0" r="r" b="b"/>
                <a:pathLst>
                  <a:path w="54" h="76">
                    <a:moveTo>
                      <a:pt x="0" y="0"/>
                    </a:moveTo>
                    <a:lnTo>
                      <a:pt x="54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587680" y="1849320"/>
                <a:ext cx="612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97040" y="1857240"/>
                <a:ext cx="50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593800" y="1803240"/>
                <a:ext cx="27360" cy="62280"/>
              </a:xfrm>
              <a:custGeom>
                <a:avLst/>
                <a:gdLst/>
                <a:ahLst/>
                <a:rect l="0" t="0" r="r" b="b"/>
                <a:pathLst>
                  <a:path w="76" h="173">
                    <a:moveTo>
                      <a:pt x="0" y="173"/>
                    </a:moveTo>
                    <a:lnTo>
                      <a:pt x="76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2600280" y="1809720"/>
                <a:ext cx="1440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2606760" y="1819440"/>
                <a:ext cx="15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619360" y="1803240"/>
                <a:ext cx="19440" cy="54360"/>
              </a:xfrm>
              <a:custGeom>
                <a:avLst/>
                <a:gdLst/>
                <a:ahLst/>
                <a:rect l="0" t="0" r="r" b="b"/>
                <a:pathLst>
                  <a:path w="54" h="151">
                    <a:moveTo>
                      <a:pt x="0" y="0"/>
                    </a:moveTo>
                    <a:lnTo>
                      <a:pt x="54" y="1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630520" y="1814400"/>
                <a:ext cx="648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639880" y="1824120"/>
                <a:ext cx="64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37000" y="1812960"/>
                <a:ext cx="19440" cy="44640"/>
              </a:xfrm>
              <a:custGeom>
                <a:avLst/>
                <a:gdLst/>
                <a:ahLst/>
                <a:rect l="0" t="0" r="r" b="b"/>
                <a:pathLst>
                  <a:path w="54" h="124">
                    <a:moveTo>
                      <a:pt x="0" y="124"/>
                    </a:moveTo>
                    <a:lnTo>
                      <a:pt x="54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>
                <a:off x="2641680" y="1817640"/>
                <a:ext cx="612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V="1">
                <a:off x="2652840" y="1825560"/>
                <a:ext cx="46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654280" y="1812960"/>
                <a:ext cx="27360" cy="52920"/>
              </a:xfrm>
              <a:custGeom>
                <a:avLst/>
                <a:gdLst/>
                <a:ahLst/>
                <a:rect l="0" t="0" r="r" b="b"/>
                <a:pathLst>
                  <a:path w="76" h="147">
                    <a:moveTo>
                      <a:pt x="0" y="0"/>
                    </a:moveTo>
                    <a:lnTo>
                      <a:pt x="76" y="1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665440" y="1824120"/>
                <a:ext cx="1440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673360" y="1832040"/>
                <a:ext cx="1584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679840" y="1803240"/>
                <a:ext cx="19440" cy="62280"/>
              </a:xfrm>
              <a:custGeom>
                <a:avLst/>
                <a:gdLst/>
                <a:ahLst/>
                <a:rect l="0" t="0" r="r" b="b"/>
                <a:pathLst>
                  <a:path w="54" h="173">
                    <a:moveTo>
                      <a:pt x="0" y="173"/>
                    </a:moveTo>
                    <a:lnTo>
                      <a:pt x="54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2684520" y="1809720"/>
                <a:ext cx="612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2693880" y="1819440"/>
                <a:ext cx="64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97120" y="1803240"/>
                <a:ext cx="27360" cy="44640"/>
              </a:xfrm>
              <a:custGeom>
                <a:avLst/>
                <a:gdLst/>
                <a:ahLst/>
                <a:rect l="0" t="0" r="r" b="b"/>
                <a:pathLst>
                  <a:path w="76" h="124">
                    <a:moveTo>
                      <a:pt x="0" y="0"/>
                    </a:moveTo>
                    <a:lnTo>
                      <a:pt x="76" y="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708280" y="1814400"/>
                <a:ext cx="1440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717640" y="1824120"/>
                <a:ext cx="144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722680" y="1803240"/>
                <a:ext cx="19440" cy="44640"/>
              </a:xfrm>
              <a:custGeom>
                <a:avLst/>
                <a:gdLst/>
                <a:ahLst/>
                <a:rect l="0" t="0" r="r" b="b"/>
                <a:pathLst>
                  <a:path w="54" h="124">
                    <a:moveTo>
                      <a:pt x="0" y="124"/>
                    </a:moveTo>
                    <a:lnTo>
                      <a:pt x="54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2727360" y="1808280"/>
                <a:ext cx="64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2736720" y="1817640"/>
                <a:ext cx="64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739960" y="1803240"/>
                <a:ext cx="19440" cy="54360"/>
              </a:xfrm>
              <a:custGeom>
                <a:avLst/>
                <a:gdLst/>
                <a:ahLst/>
                <a:rect l="0" t="0" r="r" b="b"/>
                <a:pathLst>
                  <a:path w="54" h="151">
                    <a:moveTo>
                      <a:pt x="0" y="0"/>
                    </a:moveTo>
                    <a:lnTo>
                      <a:pt x="54" y="1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751120" y="1814400"/>
                <a:ext cx="648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760840" y="1824120"/>
                <a:ext cx="612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757600" y="1812960"/>
                <a:ext cx="27360" cy="44640"/>
              </a:xfrm>
              <a:custGeom>
                <a:avLst/>
                <a:gdLst/>
                <a:ahLst/>
                <a:rect l="0" t="0" r="r" b="b"/>
                <a:pathLst>
                  <a:path w="76" h="124">
                    <a:moveTo>
                      <a:pt x="0" y="124"/>
                    </a:moveTo>
                    <a:lnTo>
                      <a:pt x="76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2763720" y="1817640"/>
                <a:ext cx="144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V="1">
                <a:off x="2773440" y="1825560"/>
                <a:ext cx="140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2800" y="1812960"/>
                <a:ext cx="19440" cy="52920"/>
              </a:xfrm>
              <a:custGeom>
                <a:avLst/>
                <a:gdLst/>
                <a:ahLst/>
                <a:rect l="0" t="0" r="r" b="b"/>
                <a:pathLst>
                  <a:path w="54" h="147">
                    <a:moveTo>
                      <a:pt x="0" y="0"/>
                    </a:moveTo>
                    <a:lnTo>
                      <a:pt x="54" y="1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93960" y="1824120"/>
                <a:ext cx="64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803680" y="1832040"/>
                <a:ext cx="612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800440" y="1812960"/>
                <a:ext cx="19440" cy="52920"/>
              </a:xfrm>
              <a:custGeom>
                <a:avLst/>
                <a:gdLst/>
                <a:ahLst/>
                <a:rect l="0" t="0" r="r" b="b"/>
                <a:pathLst>
                  <a:path w="54" h="147">
                    <a:moveTo>
                      <a:pt x="0" y="147"/>
                    </a:moveTo>
                    <a:lnTo>
                      <a:pt x="54" y="0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2805120" y="1819440"/>
                <a:ext cx="64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V="1">
                <a:off x="2814480" y="1825560"/>
                <a:ext cx="648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828880" y="1824120"/>
                <a:ext cx="144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838600" y="1832040"/>
                <a:ext cx="140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2847960" y="1819440"/>
                <a:ext cx="64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V="1">
                <a:off x="2857680" y="1827360"/>
                <a:ext cx="61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71720" y="1824120"/>
                <a:ext cx="158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81440" y="1832040"/>
                <a:ext cx="140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>
                <a:off x="2894040" y="1817640"/>
                <a:ext cx="46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2900520" y="1825560"/>
                <a:ext cx="612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914560" y="1824120"/>
                <a:ext cx="64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924280" y="1832040"/>
                <a:ext cx="612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2927520" y="1827360"/>
                <a:ext cx="140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2936880" y="1835280"/>
                <a:ext cx="144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957400" y="1832040"/>
                <a:ext cx="64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967120" y="1839960"/>
                <a:ext cx="612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2968560" y="1817640"/>
                <a:ext cx="158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2979720" y="1825560"/>
                <a:ext cx="144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002040" y="1824120"/>
                <a:ext cx="46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009960" y="1832040"/>
                <a:ext cx="612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3011400" y="1808280"/>
                <a:ext cx="648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3021120" y="1819440"/>
                <a:ext cx="612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035160" y="1814400"/>
                <a:ext cx="158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044880" y="1824120"/>
                <a:ext cx="1440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3057480" y="1817640"/>
                <a:ext cx="46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063960" y="1825560"/>
                <a:ext cx="612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078000" y="1824120"/>
                <a:ext cx="64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087720" y="1832040"/>
                <a:ext cx="64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3089160" y="1817640"/>
                <a:ext cx="158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3100320" y="1825560"/>
                <a:ext cx="144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122640" y="1824120"/>
                <a:ext cx="468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130560" y="1832040"/>
                <a:ext cx="64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3132000" y="1808280"/>
                <a:ext cx="158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3143160" y="1817640"/>
                <a:ext cx="144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165480" y="1814400"/>
                <a:ext cx="648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173400" y="1824120"/>
                <a:ext cx="64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3178080" y="1817640"/>
                <a:ext cx="46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3184560" y="1825560"/>
                <a:ext cx="64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198960" y="1824120"/>
                <a:ext cx="158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208320" y="1832040"/>
                <a:ext cx="144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3219480" y="1808280"/>
                <a:ext cx="648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3227400" y="1819440"/>
                <a:ext cx="64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243240" y="1814400"/>
                <a:ext cx="144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251160" y="1824120"/>
                <a:ext cx="1440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3262320" y="1819440"/>
                <a:ext cx="64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3270240" y="1827360"/>
                <a:ext cx="64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286080" y="1824120"/>
                <a:ext cx="64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294000" y="1832040"/>
                <a:ext cx="64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3298680" y="1817640"/>
                <a:ext cx="144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3306600" y="1825560"/>
                <a:ext cx="144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328920" y="1824120"/>
                <a:ext cx="64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336840" y="1832040"/>
                <a:ext cx="64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>
                <a:off x="3341520" y="1801800"/>
                <a:ext cx="1440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V="1">
                <a:off x="3349800" y="1809720"/>
                <a:ext cx="140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371760" y="1806480"/>
                <a:ext cx="64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379680" y="1814400"/>
                <a:ext cx="648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3382920" y="1809720"/>
                <a:ext cx="64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3390840" y="1817640"/>
                <a:ext cx="648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406680" y="1814400"/>
                <a:ext cx="1440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414600" y="1824120"/>
                <a:ext cx="144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V="1">
                <a:off x="3425760" y="1825560"/>
                <a:ext cx="64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3433680" y="1835280"/>
                <a:ext cx="648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449520" y="1832040"/>
                <a:ext cx="64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457440" y="1839960"/>
                <a:ext cx="648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3462480" y="1825560"/>
                <a:ext cx="140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3470400" y="1835280"/>
                <a:ext cx="1404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492360" y="1832040"/>
                <a:ext cx="648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00280" y="1839960"/>
                <a:ext cx="648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3505320" y="1844640"/>
                <a:ext cx="140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3513240" y="1852560"/>
                <a:ext cx="140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535200" y="1849320"/>
                <a:ext cx="6480" cy="23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543480" y="1857240"/>
                <a:ext cx="612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552840" y="2098800"/>
                <a:ext cx="6480" cy="53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560760" y="2108160"/>
                <a:ext cx="6480" cy="53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570120" y="2649600"/>
                <a:ext cx="1440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578400" y="2658960"/>
                <a:ext cx="14040" cy="23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595680" y="2890800"/>
                <a:ext cx="648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603600" y="2900520"/>
                <a:ext cx="6480" cy="9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613320" y="3003480"/>
                <a:ext cx="1404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621240" y="3011400"/>
                <a:ext cx="1584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638520" y="3081240"/>
                <a:ext cx="64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648240" y="3089160"/>
                <a:ext cx="468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656160" y="3124080"/>
                <a:ext cx="612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664080" y="3132000"/>
                <a:ext cx="612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673440" y="3201840"/>
                <a:ext cx="144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681360" y="3209760"/>
                <a:ext cx="1584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699000" y="3227400"/>
                <a:ext cx="612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708360" y="3235320"/>
                <a:ext cx="468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716280" y="3259080"/>
                <a:ext cx="6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724200" y="326880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733920" y="3270240"/>
                <a:ext cx="1404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741840" y="3279600"/>
                <a:ext cx="158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754440" y="332424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765600" y="3332160"/>
                <a:ext cx="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776760" y="3330720"/>
                <a:ext cx="140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784680" y="3340080"/>
                <a:ext cx="158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801960" y="3362400"/>
                <a:ext cx="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811680" y="337176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819600" y="3373560"/>
                <a:ext cx="612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827520" y="3382920"/>
                <a:ext cx="612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833640" y="3392640"/>
                <a:ext cx="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40120" y="3400560"/>
                <a:ext cx="1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862440" y="3400560"/>
                <a:ext cx="1440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871800" y="3408480"/>
                <a:ext cx="1440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3881520" y="3427560"/>
                <a:ext cx="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V="1">
                <a:off x="3889440" y="3438360"/>
                <a:ext cx="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97360" y="3433680"/>
                <a:ext cx="144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05280" y="3443400"/>
                <a:ext cx="158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917880" y="346068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927600" y="3470400"/>
                <a:ext cx="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0200" y="3468600"/>
                <a:ext cx="1440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8120" y="3476520"/>
                <a:ext cx="158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60720" y="350352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70440" y="351324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983040" y="3511440"/>
                <a:ext cx="144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992400" y="3519360"/>
                <a:ext cx="1440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V="1">
                <a:off x="4002120" y="3506760"/>
                <a:ext cx="158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4013280" y="3514680"/>
                <a:ext cx="140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030560" y="35114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040280" y="351936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>
                <a:off x="4038480" y="3540240"/>
                <a:ext cx="1440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4048200" y="3548160"/>
                <a:ext cx="140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068720" y="3546360"/>
                <a:ext cx="648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078440" y="3554280"/>
                <a:ext cx="612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4079880" y="3567240"/>
                <a:ext cx="158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V="1">
                <a:off x="4091040" y="3573360"/>
                <a:ext cx="1440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108320" y="357192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116240" y="35798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4116240" y="3591000"/>
                <a:ext cx="1440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V="1">
                <a:off x="4122720" y="3602160"/>
                <a:ext cx="158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46480" y="3597120"/>
                <a:ext cx="648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156200" y="3606840"/>
                <a:ext cx="612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4159080" y="3619440"/>
                <a:ext cx="1440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V="1">
                <a:off x="4168800" y="3625920"/>
                <a:ext cx="1440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189320" y="3624120"/>
                <a:ext cx="1584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199040" y="3632040"/>
                <a:ext cx="1404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4211640" y="3643200"/>
                <a:ext cx="46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4218120" y="3651120"/>
                <a:ext cx="612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232160" y="3649680"/>
                <a:ext cx="158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241880" y="3657600"/>
                <a:ext cx="14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4251240" y="3660840"/>
                <a:ext cx="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4260960" y="36702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267080" y="3666960"/>
                <a:ext cx="1440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276800" y="3675240"/>
                <a:ext cx="140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>
                <a:off x="4286160" y="3679920"/>
                <a:ext cx="6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V="1">
                <a:off x="4295880" y="3686040"/>
                <a:ext cx="612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309920" y="3684600"/>
                <a:ext cx="158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319640" y="3692520"/>
                <a:ext cx="144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V="1">
                <a:off x="4332240" y="3705120"/>
                <a:ext cx="144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V="1">
                <a:off x="4340160" y="3711600"/>
                <a:ext cx="1440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357800" y="3710160"/>
                <a:ext cx="14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367160" y="3718080"/>
                <a:ext cx="18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4363920" y="3722760"/>
                <a:ext cx="158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4375080" y="3730680"/>
                <a:ext cx="144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397400" y="3727440"/>
                <a:ext cx="46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405320" y="3735360"/>
                <a:ext cx="648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4406760" y="3747960"/>
                <a:ext cx="1584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V="1">
                <a:off x="4417920" y="3754440"/>
                <a:ext cx="1440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440240" y="3753000"/>
                <a:ext cx="648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448160" y="3760920"/>
                <a:ext cx="648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V="1">
                <a:off x="4452840" y="3755880"/>
                <a:ext cx="1440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4460760" y="3760920"/>
              <a:ext cx="2054520" cy="1323720"/>
              <a:chOff x="4460760" y="3760920"/>
              <a:chExt cx="2054520" cy="1323720"/>
            </a:xfrm>
          </p:grpSpPr>
          <p:sp>
            <p:nvSpPr>
              <p:cNvPr id="1241" name=""/>
              <p:cNvSpPr/>
              <p:nvPr/>
            </p:nvSpPr>
            <p:spPr>
              <a:xfrm flipV="1">
                <a:off x="4460760" y="3763800"/>
                <a:ext cx="1440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478400" y="3760920"/>
                <a:ext cx="144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487760" y="3770280"/>
                <a:ext cx="180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V="1">
                <a:off x="4484520" y="3789360"/>
                <a:ext cx="162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V="1">
                <a:off x="4495680" y="3800520"/>
                <a:ext cx="1440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518000" y="3795840"/>
                <a:ext cx="144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525920" y="3805200"/>
                <a:ext cx="144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4537080" y="3814920"/>
                <a:ext cx="648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4545000" y="3824280"/>
                <a:ext cx="64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560840" y="3821040"/>
                <a:ext cx="1440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568760" y="3830760"/>
                <a:ext cx="144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V="1">
                <a:off x="4578480" y="3841920"/>
                <a:ext cx="0" cy="2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V="1">
                <a:off x="4587840" y="38512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594320" y="3848040"/>
                <a:ext cx="158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603680" y="3855960"/>
                <a:ext cx="144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621320" y="3879720"/>
                <a:ext cx="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629240" y="3887640"/>
                <a:ext cx="6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637160" y="3890880"/>
                <a:ext cx="158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646520" y="3898800"/>
                <a:ext cx="144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4659480" y="3903840"/>
                <a:ext cx="140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4667400" y="3911760"/>
                <a:ext cx="140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689360" y="3908520"/>
                <a:ext cx="64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697280" y="3916440"/>
                <a:ext cx="648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4702320" y="3929040"/>
                <a:ext cx="1404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V="1">
                <a:off x="4708440" y="3935520"/>
                <a:ext cx="158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729320" y="3933720"/>
                <a:ext cx="144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737240" y="394164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4737240" y="3954600"/>
                <a:ext cx="140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4745160" y="3963960"/>
                <a:ext cx="1404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767120" y="3959280"/>
                <a:ext cx="648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775040" y="3968640"/>
                <a:ext cx="648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4780080" y="3971880"/>
                <a:ext cx="140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4788000" y="3979800"/>
                <a:ext cx="140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805280" y="3976560"/>
                <a:ext cx="180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815000" y="3984480"/>
                <a:ext cx="144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4811760" y="4014720"/>
                <a:ext cx="1584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4822920" y="4024440"/>
                <a:ext cx="140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844880" y="4019400"/>
                <a:ext cx="144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853160" y="4029120"/>
                <a:ext cx="140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4863960" y="4032360"/>
                <a:ext cx="64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4871880" y="4040280"/>
                <a:ext cx="64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888080" y="4037040"/>
                <a:ext cx="140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896000" y="4044960"/>
                <a:ext cx="15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4906800" y="4067280"/>
                <a:ext cx="64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4917960" y="4075200"/>
                <a:ext cx="50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930920" y="4071960"/>
                <a:ext cx="140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938840" y="4079880"/>
                <a:ext cx="15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950000" y="41162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957920" y="41241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965840" y="4122720"/>
                <a:ext cx="140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973760" y="4132440"/>
                <a:ext cx="140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>
                <a:off x="4986360" y="4145040"/>
                <a:ext cx="1440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4992840" y="4151160"/>
                <a:ext cx="158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016600" y="4149720"/>
                <a:ext cx="612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025960" y="4157640"/>
                <a:ext cx="468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5029200" y="4195800"/>
                <a:ext cx="144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5035680" y="4205160"/>
                <a:ext cx="1584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056200" y="4200480"/>
                <a:ext cx="14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064120" y="4210200"/>
                <a:ext cx="1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5064120" y="4221000"/>
                <a:ext cx="1440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V="1">
                <a:off x="5072040" y="4230720"/>
                <a:ext cx="144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094360" y="4226040"/>
                <a:ext cx="61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102280" y="4235400"/>
                <a:ext cx="612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108400" y="4270320"/>
                <a:ext cx="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114880" y="4280040"/>
                <a:ext cx="1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137200" y="4278240"/>
                <a:ext cx="648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146560" y="4286160"/>
                <a:ext cx="50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5149800" y="4299120"/>
                <a:ext cx="144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5156280" y="4307040"/>
                <a:ext cx="15840" cy="2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180040" y="4303800"/>
                <a:ext cx="15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189400" y="4313160"/>
                <a:ext cx="1440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5199120" y="4340160"/>
                <a:ext cx="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V="1">
                <a:off x="5207040" y="4349880"/>
                <a:ext cx="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214960" y="4346640"/>
                <a:ext cx="1440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222880" y="4356000"/>
                <a:ext cx="15840" cy="7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5234040" y="4394160"/>
                <a:ext cx="612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5243400" y="4402080"/>
                <a:ext cx="64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257800" y="4398840"/>
                <a:ext cx="144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267160" y="4406760"/>
                <a:ext cx="144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5276880" y="4427640"/>
                <a:ext cx="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V="1">
                <a:off x="5284800" y="4435560"/>
                <a:ext cx="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292720" y="4433760"/>
                <a:ext cx="1440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300640" y="4441680"/>
                <a:ext cx="158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5313240" y="4471920"/>
                <a:ext cx="144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5322960" y="4479840"/>
                <a:ext cx="1404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343480" y="4476600"/>
                <a:ext cx="648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353200" y="4484520"/>
                <a:ext cx="612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V="1">
                <a:off x="5354640" y="4521240"/>
                <a:ext cx="158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5365800" y="4530600"/>
                <a:ext cx="144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388120" y="4527720"/>
                <a:ext cx="4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396040" y="4537080"/>
                <a:ext cx="612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398920" y="4572000"/>
                <a:ext cx="1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408640" y="4581360"/>
                <a:ext cx="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425920" y="4579920"/>
                <a:ext cx="180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433840" y="45878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5433840" y="4600440"/>
                <a:ext cx="144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V="1">
                <a:off x="5440320" y="4610160"/>
                <a:ext cx="1584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464080" y="4605480"/>
                <a:ext cx="648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473800" y="4614840"/>
                <a:ext cx="612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5477040" y="4618080"/>
                <a:ext cx="140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5486400" y="4626000"/>
                <a:ext cx="144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506920" y="4622760"/>
                <a:ext cx="158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516640" y="4630680"/>
                <a:ext cx="1404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526000" y="46497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535720" y="4659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541840" y="4657680"/>
                <a:ext cx="144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551560" y="4665600"/>
                <a:ext cx="140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V="1">
                <a:off x="5560920" y="4651200"/>
                <a:ext cx="648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5570640" y="4659480"/>
                <a:ext cx="612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584680" y="4657680"/>
                <a:ext cx="1620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594400" y="4665600"/>
                <a:ext cx="1440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V="1">
                <a:off x="5607000" y="4678200"/>
                <a:ext cx="46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5613480" y="4686480"/>
                <a:ext cx="612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627520" y="4683240"/>
                <a:ext cx="162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637240" y="4691160"/>
                <a:ext cx="1440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5649840" y="4686480"/>
                <a:ext cx="144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5657760" y="4695840"/>
                <a:ext cx="144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675400" y="4691160"/>
                <a:ext cx="1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684760" y="4700520"/>
                <a:ext cx="180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V="1">
                <a:off x="5681520" y="4721400"/>
                <a:ext cx="158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V="1">
                <a:off x="5692680" y="4730760"/>
                <a:ext cx="144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715000" y="4726080"/>
                <a:ext cx="64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722920" y="4735440"/>
                <a:ext cx="648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5727600" y="4721400"/>
                <a:ext cx="144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5735520" y="4729320"/>
                <a:ext cx="14400" cy="2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753160" y="4726080"/>
                <a:ext cx="1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762520" y="4735440"/>
                <a:ext cx="180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5759280" y="4746600"/>
                <a:ext cx="162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5770440" y="4756320"/>
                <a:ext cx="144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792760" y="4751280"/>
                <a:ext cx="46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800680" y="4761000"/>
                <a:ext cx="64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5802480" y="4756320"/>
                <a:ext cx="158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5813280" y="4762440"/>
                <a:ext cx="1440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835600" y="4761000"/>
                <a:ext cx="1440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843520" y="4768920"/>
                <a:ext cx="1440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5854680" y="4781520"/>
                <a:ext cx="648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5862600" y="4791240"/>
                <a:ext cx="64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878440" y="4786200"/>
                <a:ext cx="1440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886360" y="4795920"/>
                <a:ext cx="144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5896080" y="4799160"/>
                <a:ext cx="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5905440" y="480528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911920" y="4803840"/>
                <a:ext cx="158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921280" y="4811760"/>
                <a:ext cx="1440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5932440" y="4816440"/>
                <a:ext cx="648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V="1">
                <a:off x="5940360" y="4822920"/>
                <a:ext cx="648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956200" y="4821120"/>
                <a:ext cx="144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964120" y="4829040"/>
                <a:ext cx="1440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5977080" y="4822920"/>
                <a:ext cx="140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5983200" y="4834080"/>
                <a:ext cx="1584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004080" y="482904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012000" y="483876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6012000" y="4842000"/>
                <a:ext cx="140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6019920" y="4849920"/>
                <a:ext cx="14040" cy="2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041880" y="4846680"/>
                <a:ext cx="64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049800" y="4856040"/>
                <a:ext cx="648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6054840" y="4851360"/>
                <a:ext cx="1404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6062760" y="4859280"/>
                <a:ext cx="1404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084720" y="4856040"/>
                <a:ext cx="648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093000" y="4863960"/>
                <a:ext cx="612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6097680" y="4859280"/>
                <a:ext cx="140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V="1">
                <a:off x="6103800" y="4867200"/>
                <a:ext cx="158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124680" y="4863960"/>
                <a:ext cx="14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132600" y="4871880"/>
                <a:ext cx="14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6132600" y="4884840"/>
                <a:ext cx="140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V="1">
                <a:off x="6140520" y="4892760"/>
                <a:ext cx="1404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162840" y="4889520"/>
                <a:ext cx="140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170760" y="4898880"/>
                <a:ext cx="15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6181560" y="4919760"/>
                <a:ext cx="64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V="1">
                <a:off x="6192720" y="4925880"/>
                <a:ext cx="50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205680" y="4924440"/>
                <a:ext cx="140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213600" y="4932360"/>
                <a:ext cx="158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6224760" y="491976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>
                <a:off x="6232680" y="49276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240600" y="4924440"/>
                <a:ext cx="14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248520" y="4932360"/>
                <a:ext cx="14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V="1">
                <a:off x="6259680" y="4943520"/>
                <a:ext cx="612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V="1">
                <a:off x="6267600" y="4954680"/>
                <a:ext cx="61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283440" y="4950000"/>
                <a:ext cx="1404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291360" y="4959360"/>
                <a:ext cx="140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V="1">
                <a:off x="6303960" y="4943520"/>
                <a:ext cx="144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V="1">
                <a:off x="6310440" y="4954680"/>
                <a:ext cx="158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334200" y="4950000"/>
                <a:ext cx="612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343560" y="4959360"/>
                <a:ext cx="64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6346800" y="4971960"/>
                <a:ext cx="144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V="1">
                <a:off x="6356520" y="4979880"/>
                <a:ext cx="1404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373800" y="4976640"/>
                <a:ext cx="14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381720" y="4984920"/>
                <a:ext cx="1440" cy="5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6381720" y="4995720"/>
                <a:ext cx="1440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V="1">
                <a:off x="6388200" y="5003640"/>
                <a:ext cx="1584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411960" y="5002200"/>
                <a:ext cx="648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421320" y="5010120"/>
                <a:ext cx="50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6424560" y="5014800"/>
                <a:ext cx="144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V="1">
                <a:off x="6431040" y="5022720"/>
                <a:ext cx="1584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451560" y="5019840"/>
                <a:ext cx="180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459480" y="5027760"/>
                <a:ext cx="180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V="1">
                <a:off x="6459480" y="5040360"/>
                <a:ext cx="144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V="1">
                <a:off x="6467400" y="5046840"/>
                <a:ext cx="1440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489720" y="5045040"/>
                <a:ext cx="1440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497640" y="5052960"/>
                <a:ext cx="1584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V="1">
                <a:off x="6508800" y="5057640"/>
                <a:ext cx="648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 flipV="1">
              <a:off x="6518160" y="5065560"/>
              <a:ext cx="6480" cy="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532560" y="5062680"/>
              <a:ext cx="14400" cy="39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541920" y="5070600"/>
              <a:ext cx="14400" cy="4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6551640" y="5073480"/>
              <a:ext cx="648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6561000" y="5083200"/>
              <a:ext cx="648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575400" y="5079960"/>
              <a:ext cx="15840" cy="39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85120" y="5087880"/>
              <a:ext cx="14040" cy="41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6594480" y="50911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6602400" y="510048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610320" y="5095800"/>
              <a:ext cx="14400" cy="41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618240" y="5105520"/>
              <a:ext cx="15840" cy="39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6629400" y="5118120"/>
              <a:ext cx="15840" cy="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6640560" y="5126040"/>
              <a:ext cx="14400" cy="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662880" y="5122800"/>
              <a:ext cx="468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670800" y="5130720"/>
              <a:ext cx="612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6672240" y="5141880"/>
              <a:ext cx="1584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6683400" y="5149800"/>
              <a:ext cx="1440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700680" y="514836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708600" y="515628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6708600" y="5151600"/>
              <a:ext cx="1440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6715080" y="5160960"/>
              <a:ext cx="1584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2552760" y="1812960"/>
            <a:ext cx="1307880" cy="14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3860640" y="1817640"/>
            <a:ext cx="0" cy="15303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871800" y="3365640"/>
            <a:ext cx="1300320" cy="6397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157720" y="4010040"/>
            <a:ext cx="1322280" cy="8985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3645000" y="2398680"/>
            <a:ext cx="422280" cy="14616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782880" y="2260440"/>
            <a:ext cx="1461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3794040" y="252900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3794040" y="245916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3811680" y="2408400"/>
            <a:ext cx="9540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3606840" y="2363760"/>
            <a:ext cx="2142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3786120" y="2252520"/>
            <a:ext cx="14616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794040" y="2184480"/>
            <a:ext cx="128520" cy="1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5384880" y="4299120"/>
            <a:ext cx="312480" cy="211320"/>
            <a:chOff x="5384880" y="4299120"/>
            <a:chExt cx="312480" cy="211320"/>
          </a:xfrm>
        </p:grpSpPr>
        <p:sp>
          <p:nvSpPr>
            <p:cNvPr id="1475" name=""/>
            <p:cNvSpPr/>
            <p:nvPr/>
          </p:nvSpPr>
          <p:spPr>
            <a:xfrm>
              <a:off x="5384880" y="4422600"/>
              <a:ext cx="105120" cy="87840"/>
            </a:xfrm>
            <a:custGeom>
              <a:avLst/>
              <a:gdLst/>
              <a:ahLst/>
              <a:rect l="0" t="0" r="r" b="b"/>
              <a:pathLst>
                <a:path w="292" h="244">
                  <a:moveTo>
                    <a:pt x="0" y="244"/>
                  </a:moveTo>
                  <a:lnTo>
                    <a:pt x="143" y="0"/>
                  </a:lnTo>
                  <a:lnTo>
                    <a:pt x="143" y="144"/>
                  </a:lnTo>
                  <a:lnTo>
                    <a:pt x="292" y="195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5440320" y="4299120"/>
              <a:ext cx="257040" cy="169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4338720" y="4724280"/>
            <a:ext cx="298800" cy="200160"/>
            <a:chOff x="4338720" y="4724280"/>
            <a:chExt cx="298800" cy="200160"/>
          </a:xfrm>
        </p:grpSpPr>
        <p:sp>
          <p:nvSpPr>
            <p:cNvPr id="1478" name=""/>
            <p:cNvSpPr/>
            <p:nvPr/>
          </p:nvSpPr>
          <p:spPr>
            <a:xfrm>
              <a:off x="4532400" y="4724280"/>
              <a:ext cx="105120" cy="87840"/>
            </a:xfrm>
            <a:custGeom>
              <a:avLst/>
              <a:gdLst/>
              <a:ahLst/>
              <a:rect l="0" t="0" r="r" b="b"/>
              <a:pathLst>
                <a:path w="292" h="244">
                  <a:moveTo>
                    <a:pt x="292" y="0"/>
                  </a:moveTo>
                  <a:lnTo>
                    <a:pt x="143" y="244"/>
                  </a:lnTo>
                  <a:lnTo>
                    <a:pt x="143" y="95"/>
                  </a:lnTo>
                  <a:lnTo>
                    <a:pt x="0" y="44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4338720" y="4762440"/>
              <a:ext cx="237960" cy="162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5029200" y="4938840"/>
            <a:ext cx="495720" cy="357120"/>
            <a:chOff x="5029200" y="4938840"/>
            <a:chExt cx="495720" cy="357120"/>
          </a:xfrm>
        </p:grpSpPr>
        <p:sp>
          <p:nvSpPr>
            <p:cNvPr id="1481" name=""/>
            <p:cNvSpPr/>
            <p:nvPr/>
          </p:nvSpPr>
          <p:spPr>
            <a:xfrm>
              <a:off x="5419800" y="4938840"/>
              <a:ext cx="105120" cy="87840"/>
            </a:xfrm>
            <a:custGeom>
              <a:avLst/>
              <a:gdLst/>
              <a:ahLst/>
              <a:rect l="0" t="0" r="r" b="b"/>
              <a:pathLst>
                <a:path w="292" h="244">
                  <a:moveTo>
                    <a:pt x="292" y="0"/>
                  </a:moveTo>
                  <a:lnTo>
                    <a:pt x="143" y="244"/>
                  </a:lnTo>
                  <a:lnTo>
                    <a:pt x="143" y="99"/>
                  </a:lnTo>
                  <a:lnTo>
                    <a:pt x="0" y="49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5029200" y="4979880"/>
              <a:ext cx="436680" cy="31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3" name=""/>
          <p:cNvSpPr txBox="1"/>
          <p:nvPr/>
        </p:nvSpPr>
        <p:spPr>
          <a:xfrm>
            <a:off x="4114800" y="5943600"/>
            <a:ext cx="1281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(M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762120" y="3657600"/>
            <a:ext cx="256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power spectrum density (dB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2666880" y="4343400"/>
            <a:ext cx="1376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-AB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733920" y="1839960"/>
            <a:ext cx="0" cy="369720"/>
          </a:xfrm>
          <a:prstGeom prst="line">
            <a:avLst/>
          </a:prstGeom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733920" y="2678040"/>
            <a:ext cx="0" cy="674640"/>
          </a:xfrm>
          <a:prstGeom prst="line">
            <a:avLst/>
          </a:prstGeom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736800" y="3348000"/>
            <a:ext cx="1162080" cy="652680"/>
          </a:xfrm>
          <a:prstGeom prst="line">
            <a:avLst/>
          </a:prstGeom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5160960" y="3873600"/>
            <a:ext cx="654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8 d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4091040" y="3111480"/>
            <a:ext cx="654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 d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6095880" y="4719600"/>
            <a:ext cx="654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0 d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4076640" y="1905120"/>
            <a:ext cx="1127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3897360" y="2136600"/>
            <a:ext cx="301680" cy="941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5743440" y="4138560"/>
            <a:ext cx="844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O=5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4221000" y="5254560"/>
            <a:ext cx="844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O=7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497400" y="4851360"/>
            <a:ext cx="920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O=10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164200" y="1798560"/>
            <a:ext cx="19080" cy="3876840"/>
          </a:xfrm>
          <a:prstGeom prst="rect">
            <a:avLst/>
          </a:prstGeom>
          <a:blipFill rotWithShape="0">
            <a:blip r:embed="rId8"/>
            <a:tile tx="0" ty="0" sx="3525000" sy="3525000" algn="ctr"/>
          </a:blip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6467400" y="1792440"/>
            <a:ext cx="17640" cy="3876840"/>
          </a:xfrm>
          <a:prstGeom prst="rect">
            <a:avLst/>
          </a:prstGeom>
          <a:blipFill rotWithShape="0">
            <a:blip r:embed="rId9"/>
            <a:tile tx="0" ty="0" sx="3525000" sy="3525000" algn="ctr"/>
          </a:blip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917960" y="4014720"/>
            <a:ext cx="1155960" cy="874800"/>
          </a:xfrm>
          <a:prstGeom prst="line">
            <a:avLst/>
          </a:prstGeom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3740040" y="2363760"/>
            <a:ext cx="2142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5097600" y="2260440"/>
            <a:ext cx="1476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130720" y="2570040"/>
            <a:ext cx="6336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5130720" y="2500200"/>
            <a:ext cx="6336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5146560" y="2449440"/>
            <a:ext cx="3168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5105520" y="2382840"/>
            <a:ext cx="11268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5116680" y="2289240"/>
            <a:ext cx="9216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5133960" y="2228760"/>
            <a:ext cx="57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265800" y="2443320"/>
            <a:ext cx="420840" cy="14616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396120" y="2273400"/>
            <a:ext cx="1476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6431040" y="2583000"/>
            <a:ext cx="6336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6431040" y="2513160"/>
            <a:ext cx="6336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6446880" y="2462040"/>
            <a:ext cx="3168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6405480" y="2395440"/>
            <a:ext cx="11268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6416640" y="2301840"/>
            <a:ext cx="9216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6434280" y="2241720"/>
            <a:ext cx="57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6" name="" descr=""/>
          <p:cNvPicPr/>
          <p:nvPr/>
        </p:nvPicPr>
        <p:blipFill>
          <a:blip r:embed="rId1"/>
          <a:stretch/>
        </p:blipFill>
        <p:spPr>
          <a:xfrm>
            <a:off x="2290680" y="3036960"/>
            <a:ext cx="4778280" cy="2463840"/>
          </a:xfrm>
          <a:prstGeom prst="rect">
            <a:avLst/>
          </a:prstGeom>
          <a:ln w="0">
            <a:noFill/>
          </a:ln>
        </p:spPr>
      </p:pic>
      <p:sp>
        <p:nvSpPr>
          <p:cNvPr id="1517" name=""/>
          <p:cNvSpPr txBox="1"/>
          <p:nvPr/>
        </p:nvSpPr>
        <p:spPr>
          <a:xfrm>
            <a:off x="3124080" y="5808600"/>
            <a:ext cx="2724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 Spectrum M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1523880" y="922320"/>
            <a:ext cx="5726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mmended Transmit Spectrum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dane</cp:lastModifiedBy>
  <cp:revision>0</cp:revision>
  <dc:subject/>
  <dc:title>No Slide Title</dc:title>
</cp:coreProperties>
</file>