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749-E9D2-46D5-B476-725FFB7A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FB5-E568-4D7A-AB78-D57AAF1E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018-7564-4529-8D49-2D10752D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1C6-7BC6-4494-94CB-6252E306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6E0-3F19-4503-A1A3-02B22734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61E-390D-4127-A04A-B654CCD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BFD-09EB-49A7-AAAC-1E105D20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9CA-71C5-415D-8E5B-E7D67837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59E-1FDD-48FB-A8CE-4EA63CDF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D77-238B-4BF0-BB42-47268DFE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811-37F3-45E7-BBA4-7B7EE66D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D97-5A22-4589-8622-2449FFF4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0DB1F8-7376-43A2-95E3-ED97A1E88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3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B28-437E-4BD2-BB64-580225823BB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dium Interoperability Continu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3800" y="1460520"/>
            <a:ext cx="8844120" cy="5016600"/>
            <a:chOff x="73800" y="1460520"/>
            <a:chExt cx="8844120" cy="5016600"/>
          </a:xfrm>
        </p:grpSpPr>
        <p:sp>
          <p:nvSpPr>
            <p:cNvPr id="67" name=""/>
            <p:cNvSpPr/>
            <p:nvPr/>
          </p:nvSpPr>
          <p:spPr>
            <a:xfrm>
              <a:off x="3370320" y="1460520"/>
              <a:ext cx="0" cy="485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3000" y="5108400"/>
              <a:ext cx="337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ckground White noi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81560" y="5367240"/>
              <a:ext cx="455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425760" y="1604880"/>
              <a:ext cx="3189240" cy="458280"/>
              <a:chOff x="3425760" y="1604880"/>
              <a:chExt cx="3189240" cy="458280"/>
            </a:xfrm>
          </p:grpSpPr>
          <p:sp>
            <p:nvSpPr>
              <p:cNvPr id="71" name=""/>
              <p:cNvSpPr/>
              <p:nvPr/>
            </p:nvSpPr>
            <p:spPr>
              <a:xfrm>
                <a:off x="4453200" y="1604880"/>
                <a:ext cx="2161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ull compli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425760" y="1870200"/>
                <a:ext cx="93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395960" y="5649840"/>
              <a:ext cx="314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Destructive 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39440" y="5975280"/>
              <a:ext cx="322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ignificant Degra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79560" y="1946160"/>
              <a:ext cx="0" cy="315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320" y="3657600"/>
              <a:ext cx="1638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800" y="3703680"/>
              <a:ext cx="164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ex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46440" y="2833560"/>
              <a:ext cx="30146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37920" y="2581200"/>
              <a:ext cx="299844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ptable to 802.11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9200" y="1865160"/>
              <a:ext cx="0" cy="177984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754440" y="3240000"/>
              <a:ext cx="3073320" cy="1457280"/>
              <a:chOff x="3754440" y="3240000"/>
              <a:chExt cx="3073320" cy="1457280"/>
            </a:xfrm>
          </p:grpSpPr>
          <p:sp>
            <p:nvSpPr>
              <p:cNvPr id="82" name=""/>
              <p:cNvSpPr/>
              <p:nvPr/>
            </p:nvSpPr>
            <p:spPr>
              <a:xfrm>
                <a:off x="3811680" y="3968640"/>
                <a:ext cx="30160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49080" y="3713040"/>
                <a:ext cx="2420640" cy="45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PAN proposal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54440" y="3240000"/>
                <a:ext cx="0" cy="1457280"/>
              </a:xfrm>
              <a:prstGeom prst="line">
                <a:avLst/>
              </a:prstGeom>
              <a:ln w="50760">
                <a:solidFill>
                  <a:srgbClr val="00cc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92040" y="5181480"/>
              <a:ext cx="2538360" cy="1295640"/>
              <a:chOff x="392040" y="5181480"/>
              <a:chExt cx="2538360" cy="12956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92040" y="5264280"/>
                <a:ext cx="1762560" cy="1212840"/>
                <a:chOff x="392040" y="5264280"/>
                <a:chExt cx="1762560" cy="12128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009800" y="5264280"/>
                  <a:ext cx="0" cy="121284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  <a:headEnd len="lg" type="stealth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92040" y="5565600"/>
                  <a:ext cx="1762560" cy="45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interferenc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 flipH="1">
                <a:off x="573120" y="5181480"/>
                <a:ext cx="235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270160" y="1946160"/>
              <a:ext cx="0" cy="1778040"/>
            </a:xfrm>
            <a:prstGeom prst="line">
              <a:avLst/>
            </a:prstGeom>
            <a:ln w="12600">
              <a:solidFill>
                <a:srgbClr val="ff33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6040" y="2362320"/>
              <a:ext cx="220284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ff"/>
                  </a:solidFill>
                  <a:latin typeface="Times New Roman"/>
                </a:rPr>
                <a:t>interope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ff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523160" y="3808440"/>
              <a:ext cx="1456200" cy="1373040"/>
              <a:chOff x="1523160" y="3808440"/>
              <a:chExt cx="1456200" cy="1373040"/>
            </a:xfrm>
          </p:grpSpPr>
          <p:sp>
            <p:nvSpPr>
              <p:cNvPr id="93" name=""/>
              <p:cNvSpPr/>
              <p:nvPr/>
            </p:nvSpPr>
            <p:spPr>
              <a:xfrm>
                <a:off x="2270160" y="3808440"/>
                <a:ext cx="0" cy="137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23160" y="4091040"/>
                <a:ext cx="1456200" cy="96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tru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tiquet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52440" y="3022560"/>
              <a:ext cx="6254640" cy="652680"/>
              <a:chOff x="352440" y="3022560"/>
              <a:chExt cx="6254640" cy="652680"/>
            </a:xfrm>
          </p:grpSpPr>
          <p:sp>
            <p:nvSpPr>
              <p:cNvPr id="96" name=""/>
              <p:cNvSpPr/>
              <p:nvPr/>
            </p:nvSpPr>
            <p:spPr>
              <a:xfrm>
                <a:off x="3865680" y="3349800"/>
                <a:ext cx="2741400" cy="0"/>
              </a:xfrm>
              <a:prstGeom prst="line">
                <a:avLst/>
              </a:prstGeom>
              <a:ln w="25560">
                <a:solidFill>
                  <a:srgbClr val="ff00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2440" y="3022560"/>
                <a:ext cx="3786120" cy="652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236840" y="3139920"/>
              <a:ext cx="305316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transfer cap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19320" y="1623960"/>
              <a:ext cx="1074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33360" y="2241720"/>
              <a:ext cx="1227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3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3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29040" y="5143680"/>
              <a:ext cx="1388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3000" y="5889600"/>
              <a:ext cx="455760" cy="14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320" y="3200400"/>
              <a:ext cx="1137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WPAN GO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8CA-602F-4166-AC31-AC4034C195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Interoperabil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4 - Full Compliance to the 802.11 MAC &amp; PHY 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 3 - Partial Interoperability: there is a way on the medium to exchange data without an intermediate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 3a Transmit and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 3b Receiv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 3c Detec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2 - Bridge-like (1 MAC/2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1 - Gateway-like (&gt; 1 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0 - Non Interop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824-29A0-4573-9DD2-FE8C57D60A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nk you for your time and atten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EBE-8C02-4D14-88BA-D85C829091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Commen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DE2-43A9-40AB-857C-E21CBB4E80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PAN SG meeting from Monday to Wedn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the Albuquerque, NM Minutes -98/356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 Ballot 16 -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3 passed with 60/14/4 or 81%. WPAN's PAR and 5 Criter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and Dispositioned the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d the Five Criteria -98/161r5 and PAR -98/162r8 for recirculation ballot and submission to Ex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for 802 Plenary in Austin, TX; the SG ends March 12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365-3D5B-4C0D-B832-CCE511611C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Commen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“To submit the contents of documents IEEE 802.11-98/161-r4 and -98/162-r7 to Executive Committe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"Motion 3 passed with 60/14/4 or 81%. WPAN's PAR and 5 Criteri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BA0-7C31-4154-B9FE-FFEAD6A60D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the approved PAR -98/162r7 and revised Five Criteria -98/161r4 to ExCom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a revised PAR -98/162r8 and revised Five Criteria -98/161r5 to recirculation WG Lette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7B3-4FFB-4ED4-BCAB-202910E4DC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"Motion 3 passed with 60/14/4 or 81%. WPAN's PAR and 5 Criteria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88 Voting members. 78 submitted their vote. 3 aspirant members submitted their vote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urn ratio is 78/88= 88 %. So the ballot is valid (50 % is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tep is to resolve all com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Absten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Comm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AF5-3861-4603-9497-BF003CE5DA50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1784520"/>
          <a:ext cx="7818480" cy="44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84520"/>
                    <a:ext cx="781848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E3D-1651-4713-8D15-ED182A69FC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1: SG Agreed to incorporate the mino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rick, Al - SG agreed to fix typo in the Five Criteria -98/161r4, abstract para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ramowitz, Jeff - SG agreed to add in the Five Criteria -98/161r4 WPAN Application examples, 1.1. Broad Market Potential, a) Broad sets of applic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ramowitz, Jeff - SG agreed to add “Bluetooth Specification” reference, Five Criteria -98/161r4 1.3 Distinct 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yat, Naftali - SG agreed to proposed revision on cost target, Five Criteria -98/161r4, 1.1. Broad Market Potential, c) Balanced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, Simon - SG agreed with the proposed revision to have at least a verba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es, Vic -  SG agreed to deal with Isochronous Traffic as a QoS issue, PAR -98/162r8, 7.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es, Vic -  SG agreed to add references to WPAN documents Functional Requirements, CFA Summar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782-FAE4-4520-A34A-775CEBDA2F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2: SG Agreed to add the following to the P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 scope that a level of interoperability sufficient to transfer data between a WPAN device and an 802.11 device will b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 Tom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 scope that a level of interoperability sufficient to transfer data between a WPAN device and an 802.11 device will b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 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 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ABC-DBE7-439B-9B26-9A4D59A502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cp:keywords>January 1999</cp:keywords>
  <dc:language>en-US</dc:language>
  <cp:lastModifiedBy>Harry R. Worstell</cp:lastModifiedBy>
  <cp:lastPrinted>1998-02-10T13:28:06Z</cp:lastPrinted>
  <dcterms:modified xsi:type="dcterms:W3CDTF">1999-01-14T03:40:23Z</dcterms:modified>
  <cp:revision>25</cp:revision>
  <dc:subject>Submission</dc:subject>
  <dc:title>doc.: IEEE 802.11-99/005</dc:title>
</cp:coreProperties>
</file>