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se for removing the HR/DSSS/FH op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 Belanger - Air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 Tuch - Luc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523880"/>
            <a:ext cx="7772400" cy="42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/DSSS/FH is first and foremost an FH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R/DSSS/FH station joins an FH BSS and “hops” with the rest of th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and “medium reservation” is done in a 1 MHz wid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Rate transmission of the PDU consumes a 22 MHz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FH system that speeds up to HR DS when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a system that operates at high speed and falls back to 2 Mbps F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remov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190512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R/DSSS/FH mode interferes with all other 802.11 PH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pproved, it will be the worst possible interferer that we hav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interferer for existing FH and D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n’t even coexist with it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located HR/DSSS/FH systems will not work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remov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single cell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ar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migration path from existing FH to high speed 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provide backwards compatibility from the high rate PHY to F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remov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new 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interoperate with the HR/DSSS 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rter for TGb states that we are to develop a single 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early violates that cha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in the standard are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remove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this option causes confusion in the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two new incompatibl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should present a unified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Rate capability is expanding the market for W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repeat the same mistake we made with FH and DS in the 2.4GH b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ption is yet another thing to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becomes an obstacle to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vote to remove HR/DSSS/F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echnically u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well defined in current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ben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warfa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limit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lows the market adoption of W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b schedul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ane</dc:creator>
  <dc:description/>
  <dc:language>en-US</dc:language>
  <cp:lastModifiedBy>rodane</cp:lastModifiedBy>
  <cp:revision>0</cp:revision>
  <dc:subject/>
  <dc:title>The case for removing the HR/DSSS/FH option.</dc:title>
</cp:coreProperties>
</file>