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93E50DB-7EC7-40D7-8BC4-D9C9D59C92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371600" y="768240"/>
            <a:ext cx="5029200" cy="3767400"/>
          </a:xfrm>
          <a:prstGeom prst="rect">
            <a:avLst/>
          </a:prstGeom>
          <a:ln w="0">
            <a:noFill/>
          </a:ln>
        </p:spPr>
      </p:sp>
      <p:sp>
        <p:nvSpPr>
          <p:cNvPr id="1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371600" y="768240"/>
            <a:ext cx="5029200" cy="3767400"/>
          </a:xfrm>
          <a:prstGeom prst="rect">
            <a:avLst/>
          </a:prstGeom>
          <a:ln w="0">
            <a:noFill/>
          </a:ln>
        </p:spPr>
      </p:sp>
      <p:sp>
        <p:nvSpPr>
          <p:cNvPr id="1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768240"/>
            <a:ext cx="5029200" cy="3767400"/>
          </a:xfrm>
          <a:prstGeom prst="rect">
            <a:avLst/>
          </a:prstGeom>
          <a:ln w="0">
            <a:noFill/>
          </a:ln>
        </p:spPr>
      </p:sp>
      <p:sp>
        <p:nvSpPr>
          <p:cNvPr id="1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768240"/>
            <a:ext cx="5029200" cy="3767400"/>
          </a:xfrm>
          <a:prstGeom prst="rect">
            <a:avLst/>
          </a:prstGeom>
          <a:ln w="0">
            <a:noFill/>
          </a:ln>
        </p:spPr>
      </p:sp>
      <p:sp>
        <p:nvSpPr>
          <p:cNvPr id="1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768240"/>
            <a:ext cx="5029200" cy="3767400"/>
          </a:xfrm>
          <a:prstGeom prst="rect">
            <a:avLst/>
          </a:prstGeom>
          <a:ln w="0">
            <a:noFill/>
          </a:ln>
        </p:spPr>
      </p:sp>
      <p:sp>
        <p:nvSpPr>
          <p:cNvPr id="1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371600" y="768240"/>
            <a:ext cx="5029200" cy="3767400"/>
          </a:xfrm>
          <a:prstGeom prst="rect">
            <a:avLst/>
          </a:prstGeom>
          <a:ln w="0">
            <a:noFill/>
          </a:ln>
        </p:spPr>
      </p:sp>
      <p:sp>
        <p:nvSpPr>
          <p:cNvPr id="1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71600" y="768240"/>
            <a:ext cx="5029200" cy="3767400"/>
          </a:xfrm>
          <a:prstGeom prst="rect">
            <a:avLst/>
          </a:prstGeom>
          <a:ln w="0">
            <a:noFill/>
          </a:ln>
        </p:spPr>
      </p:sp>
      <p:sp>
        <p:nvSpPr>
          <p:cNvPr id="1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371600" y="768240"/>
            <a:ext cx="5029200" cy="3767400"/>
          </a:xfrm>
          <a:prstGeom prst="rect">
            <a:avLst/>
          </a:prstGeom>
          <a:ln w="0">
            <a:noFill/>
          </a:ln>
        </p:spPr>
      </p:sp>
      <p:sp>
        <p:nvSpPr>
          <p:cNvPr id="1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75160" y="396720"/>
            <a:ext cx="3983040" cy="39348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408-r1</a:t>
            </a:r>
            <a:endParaRPr b="0" lang="en-US" sz="1400" spc="-1" strike="noStrike">
              <a:solidFill>
                <a:srgbClr val="000000"/>
              </a:solidFill>
              <a:latin typeface="Arial"/>
            </a:endParaRPr>
          </a:p>
        </p:txBody>
      </p:sp>
      <p:sp>
        <p:nvSpPr>
          <p:cNvPr id="2" name=""/>
          <p:cNvSpPr/>
          <p:nvPr/>
        </p:nvSpPr>
        <p:spPr>
          <a:xfrm>
            <a:off x="696960" y="609480"/>
            <a:ext cx="776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223668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WG agenda, January 1999</a:t>
            </a:r>
            <a:endParaRPr b="0" lang="en-US" sz="1200" spc="-1" strike="noStrike">
              <a:solidFill>
                <a:srgbClr val="000000"/>
              </a:solidFill>
              <a:latin typeface="Arial"/>
            </a:endParaRPr>
          </a:p>
        </p:txBody>
      </p:sp>
      <p:sp>
        <p:nvSpPr>
          <p:cNvPr id="4" name=""/>
          <p:cNvSpPr/>
          <p:nvPr/>
        </p:nvSpPr>
        <p:spPr>
          <a:xfrm>
            <a:off x="696960" y="6477120"/>
            <a:ext cx="7837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5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54th</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3" name=""/>
          <p:cNvSpPr txBox="1"/>
          <p:nvPr/>
        </p:nvSpPr>
        <p:spPr>
          <a:xfrm>
            <a:off x="762120" y="1981080"/>
            <a:ext cx="7772400" cy="351684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January 11-15, 1999</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Lake Buenovista, Florida</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Jan 11, 8:30</a:t>
            </a:r>
            <a:br>
              <a:rPr sz="2800"/>
            </a:br>
            <a:r>
              <a:rPr b="1" lang="en-US" sz="2800" spc="-1" strike="noStrike">
                <a:solidFill>
                  <a:srgbClr val="000000"/>
                </a:solidFill>
                <a:latin typeface="Arial"/>
                <a:ea typeface="Arial"/>
              </a:rPr>
              <a:t>Includes meetings of the WPAN Study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8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8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8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802.11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9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 11-15 - Lake Buena Vista, FL, Interim (Harri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10-14 - Shinagawa? Prince Hotel, Tokyo, Japan, Interim (NTT, Clarion, NE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3-17 - Hilton, Santa Rosa, CA, Interim (Alantro)</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0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uary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6-10 - Hyatt Regency, Albuquerque, NM,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10-14 - Hyatt Regency La Jolla, San Diego, CA,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6-10 - Hyatt Regency, Tampa, F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9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9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9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98"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8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8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78</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10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101"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10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pic>
        <p:nvPicPr>
          <p:cNvPr id="104" name="" descr=""/>
          <p:cNvPicPr/>
          <p:nvPr/>
        </p:nvPicPr>
        <p:blipFill>
          <a:blip r:embed="rId1"/>
          <a:stretch/>
        </p:blipFill>
        <p:spPr>
          <a:xfrm>
            <a:off x="1728720" y="1523880"/>
            <a:ext cx="5613480" cy="2444760"/>
          </a:xfrm>
          <a:prstGeom prst="rect">
            <a:avLst/>
          </a:prstGeom>
          <a:ln w="0">
            <a:noFill/>
          </a:ln>
        </p:spPr>
      </p:pic>
      <p:sp>
        <p:nvSpPr>
          <p:cNvPr id="105"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10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1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11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ment resolution and resubmit for LB of the drafts of TGa and 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ment resolution of WPAN PAR + 5Criteria and submission to ExCo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Joint meetings with ETSI BRAN on OFDM and spectrum issu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eleconference with the FCC plus resulting 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13"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14"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5 AM and 3:15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30-- 1:3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 other printers available? </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1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principle in electronic form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 distribution)</a:t>
            </a:r>
            <a:endParaRPr b="0" lang="en-US" sz="4000" spc="-1" strike="noStrike">
              <a:solidFill>
                <a:srgbClr val="000000"/>
              </a:solidFill>
              <a:latin typeface="Arial"/>
            </a:endParaRPr>
          </a:p>
        </p:txBody>
      </p:sp>
      <p:sp>
        <p:nvSpPr>
          <p:cNvPr id="119" name=""/>
          <p:cNvSpPr txBox="1"/>
          <p:nvPr/>
        </p:nvSpPr>
        <p:spPr>
          <a:xfrm>
            <a:off x="6094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per copies only available in limited numb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apply for distribution of paper copies, ask for a slot assignment from Stuart Ker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2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22"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2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25"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2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2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30"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6</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d 1.7</a:t>
            </a:r>
            <a:br>
              <a:rPr sz="4000"/>
            </a:br>
            <a:r>
              <a:rPr b="0" lang="en-US" sz="4000" spc="-1" strike="noStrike">
                <a:solidFill>
                  <a:srgbClr val="000000"/>
                </a:solidFill>
                <a:latin typeface="Times New Roman"/>
                <a:ea typeface="Times New Roman"/>
              </a:rPr>
              <a:t>Individual and Anti-Trust</a:t>
            </a:r>
            <a:endParaRPr b="0" lang="en-US" sz="4000" spc="-1" strike="noStrike">
              <a:solidFill>
                <a:srgbClr val="000000"/>
              </a:solidFill>
              <a:latin typeface="Arial"/>
            </a:endParaRPr>
          </a:p>
        </p:txBody>
      </p:sp>
      <p:sp>
        <p:nvSpPr>
          <p:cNvPr id="13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3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3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2 Status of publication of 802.11rev</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nex c, State Diagrams, is still not availabl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EEE Editor has required the availability of Annex C in her checklist to RevCom</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RevCom: 1 negative vote, 2 positive subject to availability of annex c</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und a volunteer for Updating Annex c from Eastman Koda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an to have available first week of Octobe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ill include editorials found causing compiler err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37" name=""/>
          <p:cNvSpPr txBox="1"/>
          <p:nvPr/>
        </p:nvSpPr>
        <p:spPr>
          <a:xfrm>
            <a:off x="609480" y="1523880"/>
            <a:ext cx="7772400" cy="541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3 Attacks on spectrum in 5 GHz globall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wer part of the band is also allocated globally to the Mobile Satelite Service for Earth- to-space link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ng ago, ETSI did approve the co-existence of MSS in the lower 5 GHz band based on calcul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w the MSS industry is requiring regulatory agencies to reduce the RLAN allocations effectively eliminating RLAN from the 5150-5250 MHz band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 mW e.i.r.p. and AC operation (that is not on battery operated equi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6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61" name=""/>
          <p:cNvSpPr txBox="1"/>
          <p:nvPr/>
        </p:nvSpPr>
        <p:spPr>
          <a:xfrm>
            <a:off x="150840" y="1285920"/>
            <a:ext cx="8985240" cy="472608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TGb  !     |TGa   !      |    TGa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 .!  SG |. . . !  SG  |.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SG  |TGb  !     |TGa   !      | TGa/BRAN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dhoc !      |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b    ! SG  | TGa !     | Full 802.11 |    TGb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SG |.............|            |Reports/Out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 .!     |. . .!     |      !      |. . . . . . | Next mt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a    !     |TGa/ !     | TGb  !  SG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BRAN!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 TGa/BRAN?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FCC teleconference and joint meeting with ETSI-Spectrum to be determ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3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3 Attacks on spectrum in 5 GHz globally, cont’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ad player is ICO Global Communications, an INMARSAT spin-off and Globalstar, in the backgroun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in battlefield is in CEPT Project Team SE28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K Radio Communications now supports the MSS claim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bbying is also taking place in Japan, US and Can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41" name=""/>
          <p:cNvSpPr txBox="1"/>
          <p:nvPr/>
        </p:nvSpPr>
        <p:spPr>
          <a:xfrm>
            <a:off x="609480" y="1523880"/>
            <a:ext cx="7772400" cy="53694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3 Attacks on spectrum in 5 GHz globally, cont’d</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Jan Kruys (Chair of ETSI BRAN) is single advocate for the RLAN industry. Please assist him by:</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eing active either directly or via the national bodies for preparing CEPT and ITU-R decisions. All CEPT members have influence on the result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ing the meetings off CEPT SE and its Project Team SE28 as well as the ITU-R JRG 8A/9B, WP 8D and others involved in this subject.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romoting the usage of the band for RLANs shared with the MSS in Japan MPT, USA-FCC and Industry Canada – these countries are (re-)considering regulations for RLA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4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4 Use of MS-Office 95 applications, tall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5 Meeting of IEEE SAB in France </a:t>
            </a:r>
            <a:endParaRPr b="0" lang="en-US" sz="32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ll also be used for a meeting of Executives of IEEE and ETSI</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LAN is on the agenda</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6 Announvements from the fl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4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4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2 E-mail reflector archive availa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ly accessible for memb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ttp://grouper.ieee.org/groups/11/private/index.html#reflector-archiv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 times accessed in December 19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4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3 Popularity of web materia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802.11revision was downloaded over 1600 tim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ssword only provided to 300 e-mail address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4 IP Statement for OFDM received from CSI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5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5 Use of MS-Office 95 applications, tall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6 Sponsor Ballot formation for 802.11a and .11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7 Announcements from the fl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2.2 Matters arising from the minutes</a:t>
            </a:r>
            <a:endParaRPr b="0" lang="en-US" sz="4000" spc="-1" strike="noStrike">
              <a:solidFill>
                <a:srgbClr val="000000"/>
              </a:solidFill>
              <a:latin typeface="Arial"/>
            </a:endParaRPr>
          </a:p>
        </p:txBody>
      </p:sp>
      <p:sp>
        <p:nvSpPr>
          <p:cNvPr id="15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n the Point of order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at we need one solution per application and that this looks like multiple solutions to the same par without answering the 5 quest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chair ruled that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extension to the high rate HR/DSSS/FH PHY  is not a second PHY and the session was not out of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2.2 Matters arising from the minutes</a:t>
            </a:r>
            <a:endParaRPr b="0" lang="en-US" sz="4000" spc="-1" strike="noStrike">
              <a:solidFill>
                <a:srgbClr val="000000"/>
              </a:solidFill>
              <a:latin typeface="Arial"/>
            </a:endParaRPr>
          </a:p>
        </p:txBody>
      </p:sp>
      <p:sp>
        <p:nvSpPr>
          <p:cNvPr id="15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issues:</a:t>
            </a:r>
            <a:br>
              <a:rPr sz="3200"/>
            </a:br>
            <a:r>
              <a:rPr b="0" lang="en-US" sz="3200" spc="-1" strike="noStrike">
                <a:solidFill>
                  <a:srgbClr val="000000"/>
                </a:solidFill>
                <a:latin typeface="Times New Roman"/>
                <a:ea typeface="Times New Roman"/>
              </a:rPr>
              <a:t>Chair should not have ruled on technical matters</a:t>
            </a:r>
            <a:br>
              <a:rPr sz="3200"/>
            </a:br>
            <a:r>
              <a:rPr b="0" lang="en-US" sz="3200" spc="-1" strike="noStrike">
                <a:solidFill>
                  <a:srgbClr val="000000"/>
                </a:solidFill>
                <a:latin typeface="Times New Roman"/>
                <a:ea typeface="Times New Roman"/>
              </a:rPr>
              <a:t>Chair has now seen in the Tables 1 and 2 that he would have ruled differently would he have known the table then</a:t>
            </a:r>
            <a:br>
              <a:rPr sz="3200"/>
            </a:br>
            <a:r>
              <a:rPr b="0" lang="en-US" sz="3200" spc="-1" strike="noStrike">
                <a:solidFill>
                  <a:srgbClr val="000000"/>
                </a:solidFill>
                <a:latin typeface="Times New Roman"/>
                <a:ea typeface="Times New Roman"/>
              </a:rPr>
              <a:t>The chair is ready to entertain a motion to rescind the ruling </a:t>
            </a:r>
            <a:br>
              <a:rPr sz="3200"/>
            </a:b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1 Report of the Sponsor reconfirmation Ballot</a:t>
            </a:r>
            <a:endParaRPr b="0" lang="en-US" sz="4000" spc="-1" strike="noStrike">
              <a:solidFill>
                <a:srgbClr val="000000"/>
              </a:solidFill>
              <a:latin typeface="Arial"/>
            </a:endParaRPr>
          </a:p>
        </p:txBody>
      </p:sp>
      <p:sp>
        <p:nvSpPr>
          <p:cNvPr id="15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nly two responses received voting Approve with commen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ments made available on the website on January 6, 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ment Resolution Group met on January 8, 99 and decided the no new recinfirmation ballot is nee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6"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 h</a:t>
            </a:r>
            <a:endParaRPr b="0" lang="en-US" sz="32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o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2 Report of Letter Ballot 16</a:t>
            </a:r>
            <a:endParaRPr b="0" lang="en-US" sz="4000" spc="-1" strike="noStrike">
              <a:solidFill>
                <a:srgbClr val="000000"/>
              </a:solidFill>
              <a:latin typeface="Arial"/>
            </a:endParaRPr>
          </a:p>
        </p:txBody>
      </p:sp>
      <p:sp>
        <p:nvSpPr>
          <p:cNvPr id="15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Ballot closed on January 8, 99, 11 PM UT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 hours later, chair collected all responses and left for Orlando</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 hours later the results were available on the we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air wished electronic ballot is available now</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port is in doc.: 99/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2 Report of Letter Ballot 16 (2)</a:t>
            </a:r>
            <a:endParaRPr b="0" lang="en-US" sz="4000" spc="-1" strike="noStrike">
              <a:solidFill>
                <a:srgbClr val="000000"/>
              </a:solidFill>
              <a:latin typeface="Arial"/>
            </a:endParaRPr>
          </a:p>
        </p:txBody>
      </p:sp>
      <p:sp>
        <p:nvSpPr>
          <p:cNvPr id="16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raft 802.11a approved by 54/19/5 or 73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raft 802.11b recirc. approved by 58/17/3 or 77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s to be reviewed with original vot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PAN PAR and 5 C approved by 60/14/4 or 81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ment files are respectively 99/16, 17 and 1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3 Report of the Thursday ExCom mee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4 Financial report of the Waltham mee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5 Report of the RFID meetings in the CEPT</a:t>
            </a:r>
            <a:endParaRPr b="0" lang="en-US" sz="4000" spc="-1" strike="noStrike">
              <a:solidFill>
                <a:srgbClr val="000000"/>
              </a:solidFill>
              <a:latin typeface="Arial"/>
            </a:endParaRPr>
          </a:p>
        </p:txBody>
      </p:sp>
      <p:sp>
        <p:nvSpPr>
          <p:cNvPr id="16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the CEPT area, Spread Spectrum devices are limited to 100 mW EIRP</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mary users are Electronic News Gathering (ENG) and Fixed Servic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NG is an analogue system</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oth have awfully low receiver level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0 mW as already a bur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5 Report of the RFID meetings in the CEPT (2)</a:t>
            </a:r>
            <a:endParaRPr b="0" lang="en-US" sz="4000" spc="-1" strike="noStrike">
              <a:solidFill>
                <a:srgbClr val="000000"/>
              </a:solidFill>
              <a:latin typeface="Arial"/>
            </a:endParaRPr>
          </a:p>
        </p:txBody>
      </p:sp>
      <p:sp>
        <p:nvSpPr>
          <p:cNvPr id="16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FID devices have a request for being permitted 500 mW EIRP using Spread Spectrum</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creases about 3 dB per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atest report showed 5 W (10 W) EIRP</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it for power transfer to batteryless tag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ll cause interference to our de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5 Report of the RFID meetings in the CEPT (3)</a:t>
            </a:r>
            <a:endParaRPr b="0" lang="en-US" sz="4000" spc="-1" strike="noStrike">
              <a:solidFill>
                <a:srgbClr val="000000"/>
              </a:solidFill>
              <a:latin typeface="Arial"/>
            </a:endParaRPr>
          </a:p>
        </p:txBody>
      </p:sp>
      <p:sp>
        <p:nvSpPr>
          <p:cNvPr id="16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cent Technologies and Telxon are defending our cas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greement reached about interference mode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0 dB pathloss over 60 meter was original proposal</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mary users might be our rescu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till looking for more suppor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8"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cogni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lbuquerque mee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375</a:t>
            </a:r>
            <a:br>
              <a:rPr sz="2800"/>
            </a:br>
            <a:r>
              <a:rPr b="0" lang="en-US" sz="2800" spc="-1" strike="noStrike">
                <a:solidFill>
                  <a:srgbClr val="000000"/>
                </a:solidFill>
                <a:latin typeface="Times New Roman"/>
                <a:ea typeface="Times New Roman"/>
              </a:rPr>
              <a:t>(quorum require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7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7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 of the Sponsor Reconfirmation ballo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 of the Letter Ballot 16</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3 of the Thursday ExCom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4 financial report of the Waltham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5 of the RFID meetings in the CEPT</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8/408</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o approve the agenda as mod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7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7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Study Group WPA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1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7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 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 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 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8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ic Hayes</cp:lastModifiedBy>
  <cp:revision>0</cp:revision>
  <dc:subject/>
  <dc:title>No Slide Title</dc:title>
</cp:coreProperties>
</file>