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D3662-D2BD-44E5-9910-CA8E72A7A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CB67F-BED8-4F05-8D6A-918EF3A16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C3B5D-EDBC-43FF-A3B4-01893E404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26128-1802-4A1E-AD31-CC058528E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54996-C719-4687-907B-2CAC799D8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54EE0-FA32-4069-A301-A71015BE6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627A1-1885-491F-A722-25BBB0B02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FA665-27DA-4F8C-ABB3-7211D3E8A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1E1D8-251F-4638-9D9A-C1D5E267F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EAA57-1485-445C-B306-5F4BB575F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DE080-04E7-4C62-A136-621F15BDE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BD948-4170-4278-A433-8AD0EFB89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395640"/>
            <a:ext cx="8272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D4D6FFA3-4263-4AAD-93B6-A887BC8E89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doc.: IEEE 802.11-99/14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5800" y="19810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posal for an improved B16 sequenc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898640" y="3657600"/>
            <a:ext cx="545976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NT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Masahiro Morikura and Masato Mizoguch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morikura@ansl.ntt.co.j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sahiro Morikura, NT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3E7CF-DB57-4F4C-81A4-B6AE36A70C33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53352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 symbol timing detection schem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357720" y="3632040"/>
            <a:ext cx="115560" cy="939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967040" y="4268880"/>
            <a:ext cx="1215720" cy="868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077920" y="4387680"/>
            <a:ext cx="10540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tched fil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735360" y="4268880"/>
            <a:ext cx="1216080" cy="834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86200" y="4378320"/>
            <a:ext cx="9302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igital fil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5411880" y="4268880"/>
            <a:ext cx="1751040" cy="834840"/>
            <a:chOff x="5411880" y="4268880"/>
            <a:chExt cx="1751040" cy="834840"/>
          </a:xfrm>
        </p:grpSpPr>
        <p:sp>
          <p:nvSpPr>
            <p:cNvPr id="54" name=""/>
            <p:cNvSpPr/>
            <p:nvPr/>
          </p:nvSpPr>
          <p:spPr>
            <a:xfrm>
              <a:off x="5411880" y="4268880"/>
              <a:ext cx="1673280" cy="834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470560" y="4381560"/>
              <a:ext cx="169236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Symbol timing decis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1373040" y="4724280"/>
            <a:ext cx="6080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201840" y="4724280"/>
            <a:ext cx="532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954680" y="4724280"/>
            <a:ext cx="455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88040" y="4724280"/>
            <a:ext cx="379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600200" y="4726080"/>
            <a:ext cx="0" cy="912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601640" y="5638680"/>
            <a:ext cx="5027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09480" y="4267080"/>
            <a:ext cx="1219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ceived sign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622920" y="5335560"/>
            <a:ext cx="1573200" cy="63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629400" y="5334120"/>
            <a:ext cx="17524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move cyclic exten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7480" y="4726080"/>
            <a:ext cx="0" cy="608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8199360" y="5638680"/>
            <a:ext cx="335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467480" y="4381560"/>
            <a:ext cx="91440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tected symbol tim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616280" y="2287440"/>
            <a:ext cx="0" cy="379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986280" y="2287440"/>
            <a:ext cx="0" cy="379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2000" y="2287440"/>
            <a:ext cx="0" cy="3794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251320" y="2286000"/>
            <a:ext cx="1522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251320" y="2666880"/>
            <a:ext cx="1522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700680" y="2284560"/>
            <a:ext cx="78120" cy="385560"/>
          </a:xfrm>
          <a:custGeom>
            <a:avLst/>
            <a:gdLst/>
            <a:ahLst/>
            <a:rect l="l" t="t" r="r" b="b"/>
            <a:pathLst>
              <a:path w="49" h="243">
                <a:moveTo>
                  <a:pt x="48" y="0"/>
                </a:moveTo>
                <a:lnTo>
                  <a:pt x="14" y="24"/>
                </a:lnTo>
                <a:lnTo>
                  <a:pt x="7" y="38"/>
                </a:lnTo>
                <a:lnTo>
                  <a:pt x="0" y="48"/>
                </a:lnTo>
                <a:lnTo>
                  <a:pt x="7" y="62"/>
                </a:lnTo>
                <a:lnTo>
                  <a:pt x="28" y="73"/>
                </a:lnTo>
                <a:lnTo>
                  <a:pt x="41" y="86"/>
                </a:lnTo>
                <a:lnTo>
                  <a:pt x="48" y="97"/>
                </a:lnTo>
                <a:lnTo>
                  <a:pt x="41" y="110"/>
                </a:lnTo>
                <a:lnTo>
                  <a:pt x="28" y="121"/>
                </a:lnTo>
                <a:lnTo>
                  <a:pt x="7" y="134"/>
                </a:lnTo>
                <a:lnTo>
                  <a:pt x="0" y="145"/>
                </a:lnTo>
                <a:lnTo>
                  <a:pt x="7" y="159"/>
                </a:lnTo>
                <a:lnTo>
                  <a:pt x="21" y="169"/>
                </a:lnTo>
                <a:lnTo>
                  <a:pt x="41" y="183"/>
                </a:lnTo>
                <a:lnTo>
                  <a:pt x="48" y="194"/>
                </a:lnTo>
                <a:lnTo>
                  <a:pt x="48" y="218"/>
                </a:lnTo>
                <a:lnTo>
                  <a:pt x="48" y="24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193920" y="2286000"/>
            <a:ext cx="2436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193920" y="2666880"/>
            <a:ext cx="2436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114720" y="2284560"/>
            <a:ext cx="88920" cy="385560"/>
          </a:xfrm>
          <a:custGeom>
            <a:avLst/>
            <a:gdLst/>
            <a:ahLst/>
            <a:rect l="l" t="t" r="r" b="b"/>
            <a:pathLst>
              <a:path w="56" h="243">
                <a:moveTo>
                  <a:pt x="48" y="0"/>
                </a:moveTo>
                <a:lnTo>
                  <a:pt x="32" y="13"/>
                </a:lnTo>
                <a:lnTo>
                  <a:pt x="16" y="24"/>
                </a:lnTo>
                <a:lnTo>
                  <a:pt x="3" y="38"/>
                </a:lnTo>
                <a:lnTo>
                  <a:pt x="0" y="48"/>
                </a:lnTo>
                <a:lnTo>
                  <a:pt x="3" y="54"/>
                </a:lnTo>
                <a:lnTo>
                  <a:pt x="6" y="62"/>
                </a:lnTo>
                <a:lnTo>
                  <a:pt x="26" y="73"/>
                </a:lnTo>
                <a:lnTo>
                  <a:pt x="42" y="86"/>
                </a:lnTo>
                <a:lnTo>
                  <a:pt x="45" y="91"/>
                </a:lnTo>
                <a:lnTo>
                  <a:pt x="48" y="97"/>
                </a:lnTo>
                <a:lnTo>
                  <a:pt x="45" y="102"/>
                </a:lnTo>
                <a:lnTo>
                  <a:pt x="42" y="110"/>
                </a:lnTo>
                <a:lnTo>
                  <a:pt x="26" y="121"/>
                </a:lnTo>
                <a:lnTo>
                  <a:pt x="6" y="134"/>
                </a:lnTo>
                <a:lnTo>
                  <a:pt x="3" y="140"/>
                </a:lnTo>
                <a:lnTo>
                  <a:pt x="0" y="145"/>
                </a:lnTo>
                <a:lnTo>
                  <a:pt x="3" y="151"/>
                </a:lnTo>
                <a:lnTo>
                  <a:pt x="6" y="159"/>
                </a:lnTo>
                <a:lnTo>
                  <a:pt x="22" y="169"/>
                </a:lnTo>
                <a:lnTo>
                  <a:pt x="39" y="183"/>
                </a:lnTo>
                <a:lnTo>
                  <a:pt x="45" y="188"/>
                </a:lnTo>
                <a:lnTo>
                  <a:pt x="48" y="194"/>
                </a:lnTo>
                <a:lnTo>
                  <a:pt x="52" y="207"/>
                </a:lnTo>
                <a:lnTo>
                  <a:pt x="55" y="218"/>
                </a:lnTo>
                <a:lnTo>
                  <a:pt x="48" y="24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136400" y="2300400"/>
            <a:ext cx="363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715640" y="2300400"/>
            <a:ext cx="477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402160" y="2286000"/>
            <a:ext cx="54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I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163560" y="2286000"/>
            <a:ext cx="439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355920" y="2287440"/>
            <a:ext cx="0" cy="379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472920" y="2300400"/>
            <a:ext cx="363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60840" y="3100320"/>
            <a:ext cx="19101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tched filter outp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961200" y="2295360"/>
            <a:ext cx="2160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ceived training sig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839880" y="1906560"/>
            <a:ext cx="7388280" cy="1901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3039840" y="2897280"/>
            <a:ext cx="3164040" cy="590400"/>
            <a:chOff x="3039840" y="2897280"/>
            <a:chExt cx="3164040" cy="590400"/>
          </a:xfrm>
        </p:grpSpPr>
        <p:sp>
          <p:nvSpPr>
            <p:cNvPr id="87" name=""/>
            <p:cNvSpPr/>
            <p:nvPr/>
          </p:nvSpPr>
          <p:spPr>
            <a:xfrm>
              <a:off x="5248440" y="2897280"/>
              <a:ext cx="68040" cy="519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V="1">
              <a:off x="5316480" y="3335040"/>
              <a:ext cx="44640" cy="81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364000" y="3335400"/>
              <a:ext cx="54000" cy="144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>
              <a:off x="5176800" y="2897280"/>
              <a:ext cx="69840" cy="519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5128920" y="3335040"/>
              <a:ext cx="44280" cy="81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5076720" y="3335400"/>
              <a:ext cx="52560" cy="144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5048280" y="3417840"/>
              <a:ext cx="2520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>
              <a:off x="4984920" y="3417840"/>
              <a:ext cx="6336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4933440" y="3335040"/>
              <a:ext cx="49320" cy="144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flipV="1">
              <a:off x="5419800" y="3417840"/>
              <a:ext cx="2376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45000" y="3417840"/>
              <a:ext cx="6516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 flipV="1">
              <a:off x="5511960" y="3335040"/>
              <a:ext cx="48960" cy="144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62720" y="3335400"/>
              <a:ext cx="39600" cy="144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flipV="1">
              <a:off x="5603760" y="3335040"/>
              <a:ext cx="52560" cy="142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5711760" y="3335400"/>
              <a:ext cx="38160" cy="144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 flipV="1">
              <a:off x="5657760" y="3335040"/>
              <a:ext cx="52560" cy="142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3" name=""/>
            <p:cNvGrpSpPr/>
            <p:nvPr/>
          </p:nvGrpSpPr>
          <p:grpSpPr>
            <a:xfrm>
              <a:off x="5749560" y="3335040"/>
              <a:ext cx="257400" cy="144720"/>
              <a:chOff x="5749560" y="3335040"/>
              <a:chExt cx="257400" cy="144720"/>
            </a:xfrm>
          </p:grpSpPr>
          <p:sp>
            <p:nvSpPr>
              <p:cNvPr id="104" name=""/>
              <p:cNvSpPr/>
              <p:nvPr/>
            </p:nvSpPr>
            <p:spPr>
              <a:xfrm flipH="1" flipV="1">
                <a:off x="5866920" y="3417840"/>
                <a:ext cx="25560" cy="61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flipH="1">
                <a:off x="5803920" y="3417840"/>
                <a:ext cx="63360" cy="61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flipH="1" flipV="1">
                <a:off x="5749560" y="3335040"/>
                <a:ext cx="50760" cy="144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flipV="1">
                <a:off x="5894280" y="3417840"/>
                <a:ext cx="50760" cy="61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948280" y="3417840"/>
                <a:ext cx="58680" cy="61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4618080" y="2897280"/>
              <a:ext cx="312840" cy="582480"/>
              <a:chOff x="4618080" y="2897280"/>
              <a:chExt cx="312840" cy="582480"/>
            </a:xfrm>
          </p:grpSpPr>
          <p:sp>
            <p:nvSpPr>
              <p:cNvPr id="110" name=""/>
              <p:cNvSpPr/>
              <p:nvPr/>
            </p:nvSpPr>
            <p:spPr>
              <a:xfrm>
                <a:off x="4618080" y="2897280"/>
                <a:ext cx="69840" cy="519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V="1">
                <a:off x="4687920" y="3335040"/>
                <a:ext cx="44280" cy="81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4735440" y="3335400"/>
                <a:ext cx="52560" cy="144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4788000" y="3417840"/>
                <a:ext cx="25200" cy="61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4816440" y="3417840"/>
                <a:ext cx="63360" cy="61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4879800" y="3335040"/>
                <a:ext cx="51120" cy="144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6" name=""/>
            <p:cNvSpPr/>
            <p:nvPr/>
          </p:nvSpPr>
          <p:spPr>
            <a:xfrm flipV="1">
              <a:off x="6111720" y="3417840"/>
              <a:ext cx="2556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140520" y="3417840"/>
              <a:ext cx="6336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 flipV="1">
              <a:off x="6062760" y="3417840"/>
              <a:ext cx="4896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flipH="1">
              <a:off x="6000480" y="3417840"/>
              <a:ext cx="6012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3669840" y="2897280"/>
              <a:ext cx="629280" cy="582480"/>
              <a:chOff x="3669840" y="2897280"/>
              <a:chExt cx="629280" cy="582480"/>
            </a:xfrm>
          </p:grpSpPr>
          <p:sp>
            <p:nvSpPr>
              <p:cNvPr id="121" name=""/>
              <p:cNvSpPr/>
              <p:nvPr/>
            </p:nvSpPr>
            <p:spPr>
              <a:xfrm flipH="1">
                <a:off x="3916440" y="2897280"/>
                <a:ext cx="69840" cy="519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flipH="1" flipV="1">
                <a:off x="3868560" y="3335040"/>
                <a:ext cx="44640" cy="81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3814560" y="3335400"/>
                <a:ext cx="53640" cy="144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 flipV="1">
                <a:off x="3789360" y="3417840"/>
                <a:ext cx="23760" cy="61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3723840" y="3417840"/>
                <a:ext cx="63720" cy="61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flipV="1">
                <a:off x="3669840" y="3335040"/>
                <a:ext cx="50760" cy="144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987720" y="2897280"/>
                <a:ext cx="311400" cy="582480"/>
                <a:chOff x="3987720" y="2897280"/>
                <a:chExt cx="311400" cy="58248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3987720" y="2897280"/>
                  <a:ext cx="69840" cy="519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 flipV="1">
                  <a:off x="4057560" y="3335040"/>
                  <a:ext cx="44640" cy="810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4105440" y="3335400"/>
                  <a:ext cx="52200" cy="144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 flipV="1">
                  <a:off x="4159080" y="3417840"/>
                  <a:ext cx="24120" cy="61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4184640" y="3417840"/>
                  <a:ext cx="63360" cy="61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 flipV="1">
                  <a:off x="4248000" y="3335040"/>
                  <a:ext cx="51120" cy="144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4" name=""/>
            <p:cNvGrpSpPr/>
            <p:nvPr/>
          </p:nvGrpSpPr>
          <p:grpSpPr>
            <a:xfrm>
              <a:off x="4300200" y="2905200"/>
              <a:ext cx="316080" cy="582480"/>
              <a:chOff x="4300200" y="2905200"/>
              <a:chExt cx="316080" cy="582480"/>
            </a:xfrm>
          </p:grpSpPr>
          <p:sp>
            <p:nvSpPr>
              <p:cNvPr id="135" name=""/>
              <p:cNvSpPr/>
              <p:nvPr/>
            </p:nvSpPr>
            <p:spPr>
              <a:xfrm flipH="1">
                <a:off x="4546440" y="2905200"/>
                <a:ext cx="69840" cy="519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flipH="1" flipV="1">
                <a:off x="4498920" y="3342960"/>
                <a:ext cx="44640" cy="81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>
                <a:off x="4446360" y="3343320"/>
                <a:ext cx="52200" cy="144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 flipH="1" flipV="1">
                <a:off x="4417560" y="3425760"/>
                <a:ext cx="25560" cy="61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 flipH="1">
                <a:off x="4354560" y="3425760"/>
                <a:ext cx="63360" cy="61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 flipH="1" flipV="1">
                <a:off x="4300200" y="3342960"/>
                <a:ext cx="50760" cy="144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1" name=""/>
            <p:cNvGrpSpPr/>
            <p:nvPr/>
          </p:nvGrpSpPr>
          <p:grpSpPr>
            <a:xfrm>
              <a:off x="3039840" y="2897280"/>
              <a:ext cx="628920" cy="582480"/>
              <a:chOff x="3039840" y="2897280"/>
              <a:chExt cx="628920" cy="582480"/>
            </a:xfrm>
          </p:grpSpPr>
          <p:sp>
            <p:nvSpPr>
              <p:cNvPr id="142" name=""/>
              <p:cNvSpPr/>
              <p:nvPr/>
            </p:nvSpPr>
            <p:spPr>
              <a:xfrm flipH="1">
                <a:off x="3286080" y="2897280"/>
                <a:ext cx="69840" cy="519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 flipH="1" flipV="1">
                <a:off x="3238200" y="3335040"/>
                <a:ext cx="44280" cy="81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 flipH="1">
                <a:off x="3184560" y="3335400"/>
                <a:ext cx="54000" cy="144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flipH="1" flipV="1">
                <a:off x="3159000" y="3417840"/>
                <a:ext cx="23760" cy="61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flipH="1">
                <a:off x="3094200" y="3417840"/>
                <a:ext cx="63360" cy="61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 flipH="1" flipV="1">
                <a:off x="3039840" y="3335040"/>
                <a:ext cx="50760" cy="144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8" name=""/>
              <p:cNvGrpSpPr/>
              <p:nvPr/>
            </p:nvGrpSpPr>
            <p:grpSpPr>
              <a:xfrm>
                <a:off x="3357720" y="2897280"/>
                <a:ext cx="311040" cy="582480"/>
                <a:chOff x="3357720" y="2897280"/>
                <a:chExt cx="311040" cy="582480"/>
              </a:xfrm>
            </p:grpSpPr>
            <p:sp>
              <p:nvSpPr>
                <p:cNvPr id="149" name=""/>
                <p:cNvSpPr/>
                <p:nvPr/>
              </p:nvSpPr>
              <p:spPr>
                <a:xfrm>
                  <a:off x="3357720" y="2897280"/>
                  <a:ext cx="69840" cy="519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 flipV="1">
                  <a:off x="3427560" y="3335040"/>
                  <a:ext cx="44280" cy="810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3475080" y="3335400"/>
                  <a:ext cx="52200" cy="144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V="1">
                  <a:off x="3529080" y="3417840"/>
                  <a:ext cx="23760" cy="61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3554280" y="3417840"/>
                  <a:ext cx="63720" cy="61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 flipV="1">
                  <a:off x="3618000" y="3335040"/>
                  <a:ext cx="50760" cy="144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55" name=""/>
          <p:cNvSpPr/>
          <p:nvPr/>
        </p:nvSpPr>
        <p:spPr>
          <a:xfrm>
            <a:off x="5246640" y="2287440"/>
            <a:ext cx="0" cy="379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021360" y="2898720"/>
            <a:ext cx="205596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tecting disappearance of correlation peak sig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6603840" y="3436920"/>
            <a:ext cx="182880" cy="75240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408640" y="2895480"/>
            <a:ext cx="461880" cy="390600"/>
          </a:xfrm>
          <a:custGeom>
            <a:avLst/>
            <a:gdLst/>
            <a:ahLst/>
            <a:rect l="l" t="t" r="r" b="b"/>
            <a:pathLst>
              <a:path w="291" h="246">
                <a:moveTo>
                  <a:pt x="0" y="3"/>
                </a:moveTo>
                <a:lnTo>
                  <a:pt x="47" y="0"/>
                </a:lnTo>
                <a:lnTo>
                  <a:pt x="95" y="3"/>
                </a:lnTo>
                <a:lnTo>
                  <a:pt x="148" y="10"/>
                </a:lnTo>
                <a:lnTo>
                  <a:pt x="172" y="13"/>
                </a:lnTo>
                <a:lnTo>
                  <a:pt x="189" y="23"/>
                </a:lnTo>
                <a:lnTo>
                  <a:pt x="207" y="33"/>
                </a:lnTo>
                <a:lnTo>
                  <a:pt x="219" y="50"/>
                </a:lnTo>
                <a:lnTo>
                  <a:pt x="237" y="70"/>
                </a:lnTo>
                <a:lnTo>
                  <a:pt x="249" y="93"/>
                </a:lnTo>
                <a:lnTo>
                  <a:pt x="255" y="109"/>
                </a:lnTo>
                <a:lnTo>
                  <a:pt x="260" y="129"/>
                </a:lnTo>
                <a:lnTo>
                  <a:pt x="272" y="172"/>
                </a:lnTo>
                <a:lnTo>
                  <a:pt x="278" y="212"/>
                </a:lnTo>
                <a:lnTo>
                  <a:pt x="284" y="232"/>
                </a:lnTo>
                <a:lnTo>
                  <a:pt x="290" y="245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sahiro Morikura, NT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93789-E119-47D4-938E-D37FDE8CA955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685800" y="4572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ymbol Conten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80880" y="152388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rrent short symbol patter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04920" y="2971800"/>
            <a:ext cx="8458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posed B16 symbol(This modified B16 symbol pattern was accepted by the last ETSI BRAN meeting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455760" y="4091040"/>
          <a:ext cx="8246880" cy="938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4091040"/>
                    <a:ext cx="8246880" cy="9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" name=""/>
          <p:cNvSpPr/>
          <p:nvPr/>
        </p:nvSpPr>
        <p:spPr>
          <a:xfrm>
            <a:off x="433800" y="5234040"/>
            <a:ext cx="78415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Generated by 4 points cyclic time shift and    rad rotation from current B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457200" y="2133720"/>
          <a:ext cx="8242200" cy="9792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2133720"/>
                    <a:ext cx="8242200" cy="97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7" name=""/>
          <p:cNvSpPr/>
          <p:nvPr/>
        </p:nvSpPr>
        <p:spPr>
          <a:xfrm>
            <a:off x="3340440" y="5791320"/>
            <a:ext cx="52491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ame PAPR and dynamic range with current B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666880" y="5791320"/>
            <a:ext cx="611280" cy="398520"/>
          </a:xfrm>
          <a:custGeom>
            <a:avLst/>
            <a:gdLst/>
            <a:ahLst/>
            <a:rect l="l" t="t" r="r" b="b"/>
            <a:pathLst>
              <a:path w="385" h="251">
                <a:moveTo>
                  <a:pt x="199" y="0"/>
                </a:moveTo>
                <a:lnTo>
                  <a:pt x="199" y="63"/>
                </a:lnTo>
                <a:lnTo>
                  <a:pt x="0" y="63"/>
                </a:lnTo>
                <a:lnTo>
                  <a:pt x="0" y="187"/>
                </a:lnTo>
                <a:lnTo>
                  <a:pt x="199" y="187"/>
                </a:lnTo>
                <a:lnTo>
                  <a:pt x="199" y="250"/>
                </a:lnTo>
                <a:lnTo>
                  <a:pt x="384" y="125"/>
                </a:lnTo>
                <a:lnTo>
                  <a:pt x="199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876920" y="5257800"/>
            <a:ext cx="309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49280" y="5111640"/>
            <a:ext cx="8316720" cy="1216080"/>
          </a:xfrm>
          <a:custGeom>
            <a:avLst/>
            <a:gdLst/>
            <a:ahLst/>
            <a:rect l="l" t="t" r="r" b="b"/>
            <a:pathLst>
              <a:path w="5239" h="766">
                <a:moveTo>
                  <a:pt x="97" y="0"/>
                </a:moveTo>
                <a:lnTo>
                  <a:pt x="62" y="6"/>
                </a:lnTo>
                <a:lnTo>
                  <a:pt x="26" y="32"/>
                </a:lnTo>
                <a:lnTo>
                  <a:pt x="9" y="57"/>
                </a:lnTo>
                <a:lnTo>
                  <a:pt x="0" y="96"/>
                </a:lnTo>
                <a:lnTo>
                  <a:pt x="0" y="669"/>
                </a:lnTo>
                <a:lnTo>
                  <a:pt x="9" y="708"/>
                </a:lnTo>
                <a:lnTo>
                  <a:pt x="26" y="739"/>
                </a:lnTo>
                <a:lnTo>
                  <a:pt x="62" y="759"/>
                </a:lnTo>
                <a:lnTo>
                  <a:pt x="97" y="765"/>
                </a:lnTo>
                <a:lnTo>
                  <a:pt x="5141" y="765"/>
                </a:lnTo>
                <a:lnTo>
                  <a:pt x="5176" y="759"/>
                </a:lnTo>
                <a:lnTo>
                  <a:pt x="5211" y="739"/>
                </a:lnTo>
                <a:lnTo>
                  <a:pt x="5229" y="708"/>
                </a:lnTo>
                <a:lnTo>
                  <a:pt x="5238" y="669"/>
                </a:lnTo>
                <a:lnTo>
                  <a:pt x="5238" y="96"/>
                </a:lnTo>
                <a:lnTo>
                  <a:pt x="5229" y="57"/>
                </a:lnTo>
                <a:lnTo>
                  <a:pt x="5211" y="32"/>
                </a:lnTo>
                <a:lnTo>
                  <a:pt x="5176" y="6"/>
                </a:lnTo>
                <a:lnTo>
                  <a:pt x="5141" y="0"/>
                </a:lnTo>
                <a:lnTo>
                  <a:pt x="97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sahiro Morikura, NT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6D823-5069-417B-80F3-6BE7BFD46B02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 rot="16200000">
            <a:off x="138600" y="2836800"/>
            <a:ext cx="2134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tched filter out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512800" y="762120"/>
            <a:ext cx="45072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tched filter outpu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696960" y="5446800"/>
            <a:ext cx="5002200" cy="461880"/>
            <a:chOff x="696960" y="5446800"/>
            <a:chExt cx="5002200" cy="461880"/>
          </a:xfrm>
        </p:grpSpPr>
        <p:sp>
          <p:nvSpPr>
            <p:cNvPr id="174" name=""/>
            <p:cNvSpPr/>
            <p:nvPr/>
          </p:nvSpPr>
          <p:spPr>
            <a:xfrm>
              <a:off x="696960" y="5446800"/>
              <a:ext cx="158760" cy="423720"/>
            </a:xfrm>
            <a:custGeom>
              <a:avLst/>
              <a:gdLst/>
              <a:ahLst/>
              <a:rect l="l" t="t" r="r" b="b"/>
              <a:pathLst>
                <a:path w="100" h="267">
                  <a:moveTo>
                    <a:pt x="49" y="0"/>
                  </a:moveTo>
                  <a:lnTo>
                    <a:pt x="29" y="23"/>
                  </a:lnTo>
                  <a:lnTo>
                    <a:pt x="20" y="35"/>
                  </a:lnTo>
                  <a:lnTo>
                    <a:pt x="12" y="47"/>
                  </a:lnTo>
                  <a:lnTo>
                    <a:pt x="6" y="53"/>
                  </a:lnTo>
                  <a:lnTo>
                    <a:pt x="1" y="65"/>
                  </a:lnTo>
                  <a:lnTo>
                    <a:pt x="0" y="77"/>
                  </a:lnTo>
                  <a:lnTo>
                    <a:pt x="0" y="83"/>
                  </a:lnTo>
                  <a:lnTo>
                    <a:pt x="1" y="89"/>
                  </a:lnTo>
                  <a:lnTo>
                    <a:pt x="4" y="94"/>
                  </a:lnTo>
                  <a:lnTo>
                    <a:pt x="7" y="100"/>
                  </a:lnTo>
                  <a:lnTo>
                    <a:pt x="13" y="106"/>
                  </a:lnTo>
                  <a:lnTo>
                    <a:pt x="19" y="112"/>
                  </a:lnTo>
                  <a:lnTo>
                    <a:pt x="33" y="124"/>
                  </a:lnTo>
                  <a:lnTo>
                    <a:pt x="49" y="136"/>
                  </a:lnTo>
                  <a:lnTo>
                    <a:pt x="66" y="142"/>
                  </a:lnTo>
                  <a:lnTo>
                    <a:pt x="80" y="154"/>
                  </a:lnTo>
                  <a:lnTo>
                    <a:pt x="86" y="160"/>
                  </a:lnTo>
                  <a:lnTo>
                    <a:pt x="91" y="165"/>
                  </a:lnTo>
                  <a:lnTo>
                    <a:pt x="95" y="171"/>
                  </a:lnTo>
                  <a:lnTo>
                    <a:pt x="97" y="177"/>
                  </a:lnTo>
                  <a:lnTo>
                    <a:pt x="99" y="189"/>
                  </a:lnTo>
                  <a:lnTo>
                    <a:pt x="97" y="201"/>
                  </a:lnTo>
                  <a:lnTo>
                    <a:pt x="93" y="213"/>
                  </a:lnTo>
                  <a:lnTo>
                    <a:pt x="87" y="225"/>
                  </a:lnTo>
                  <a:lnTo>
                    <a:pt x="79" y="231"/>
                  </a:lnTo>
                  <a:lnTo>
                    <a:pt x="69" y="242"/>
                  </a:lnTo>
                  <a:lnTo>
                    <a:pt x="49" y="26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38360" y="5472000"/>
              <a:ext cx="2512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38360" y="5892840"/>
              <a:ext cx="2512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31480" y="5506920"/>
              <a:ext cx="5659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948040" y="5472000"/>
              <a:ext cx="2665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948040" y="5892840"/>
              <a:ext cx="2665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317480" y="5541840"/>
              <a:ext cx="5659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6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831600" y="5506920"/>
              <a:ext cx="5659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1560" y="5470560"/>
              <a:ext cx="147600" cy="425520"/>
            </a:xfrm>
            <a:custGeom>
              <a:avLst/>
              <a:gdLst/>
              <a:ahLst/>
              <a:rect l="l" t="t" r="r" b="b"/>
              <a:pathLst>
                <a:path w="93" h="268">
                  <a:moveTo>
                    <a:pt x="46" y="0"/>
                  </a:moveTo>
                  <a:lnTo>
                    <a:pt x="23" y="23"/>
                  </a:lnTo>
                  <a:lnTo>
                    <a:pt x="6" y="47"/>
                  </a:lnTo>
                  <a:lnTo>
                    <a:pt x="0" y="65"/>
                  </a:lnTo>
                  <a:lnTo>
                    <a:pt x="0" y="89"/>
                  </a:lnTo>
                  <a:lnTo>
                    <a:pt x="6" y="101"/>
                  </a:lnTo>
                  <a:lnTo>
                    <a:pt x="18" y="113"/>
                  </a:lnTo>
                  <a:lnTo>
                    <a:pt x="46" y="136"/>
                  </a:lnTo>
                  <a:lnTo>
                    <a:pt x="75" y="154"/>
                  </a:lnTo>
                  <a:lnTo>
                    <a:pt x="87" y="166"/>
                  </a:lnTo>
                  <a:lnTo>
                    <a:pt x="92" y="178"/>
                  </a:lnTo>
                  <a:lnTo>
                    <a:pt x="92" y="202"/>
                  </a:lnTo>
                  <a:lnTo>
                    <a:pt x="87" y="225"/>
                  </a:lnTo>
                  <a:lnTo>
                    <a:pt x="69" y="243"/>
                  </a:lnTo>
                  <a:lnTo>
                    <a:pt x="46" y="26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574640" y="5473800"/>
              <a:ext cx="0" cy="431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946240" y="5473800"/>
              <a:ext cx="0" cy="431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>
            <a:off x="3287880" y="5086440"/>
            <a:ext cx="66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1600200" y="1525680"/>
            <a:ext cx="3911760" cy="357336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5638680" y="2743200"/>
            <a:ext cx="3016440" cy="10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Search was carried out to obtain low sidelobe at the neighborhood of mainlobe (around t=0) and the next short symbol period (t=16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533840" y="3505320"/>
            <a:ext cx="490680" cy="990360"/>
          </a:xfrm>
          <a:prstGeom prst="ellipse">
            <a:avLst/>
          </a:prstGeom>
          <a:noFill/>
          <a:ln w="1260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781360" y="3657600"/>
            <a:ext cx="490320" cy="990720"/>
          </a:xfrm>
          <a:prstGeom prst="ellipse">
            <a:avLst/>
          </a:prstGeom>
          <a:noFill/>
          <a:ln w="1260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sahiro Morikura, NT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4E2C9-8A7C-41E9-8564-937D8FAF181B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5415120" y="4240080"/>
            <a:ext cx="32716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arge correlation side-lobe degrades symbol timing detection accurac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708360" y="2832120"/>
            <a:ext cx="146160" cy="1093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854520" y="3753000"/>
            <a:ext cx="95040" cy="171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952800" y="3754440"/>
            <a:ext cx="11448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559320" y="2832120"/>
            <a:ext cx="147600" cy="1093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H="1" flipV="1">
            <a:off x="3460320" y="3753000"/>
            <a:ext cx="95400" cy="171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3346200" y="3754440"/>
            <a:ext cx="11412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H="1" flipV="1">
            <a:off x="3292200" y="3927600"/>
            <a:ext cx="5220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H="1">
            <a:off x="3153960" y="3927600"/>
            <a:ext cx="13644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3046320" y="3753000"/>
            <a:ext cx="10656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068720" y="3927600"/>
            <a:ext cx="5256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122720" y="3927600"/>
            <a:ext cx="13644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4260960" y="3753000"/>
            <a:ext cx="10620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368960" y="3754440"/>
            <a:ext cx="83880" cy="304920"/>
          </a:xfrm>
          <a:prstGeom prst="line">
            <a:avLst/>
          </a:prstGeom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4452840" y="3425400"/>
            <a:ext cx="101520" cy="631800"/>
          </a:xfrm>
          <a:prstGeom prst="line">
            <a:avLst/>
          </a:prstGeom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4680000" y="3754440"/>
            <a:ext cx="84240" cy="304920"/>
          </a:xfrm>
          <a:prstGeom prst="line">
            <a:avLst/>
          </a:prstGeom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4565160" y="3425400"/>
            <a:ext cx="112680" cy="631800"/>
          </a:xfrm>
          <a:prstGeom prst="line">
            <a:avLst/>
          </a:prstGeom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4763880" y="3753000"/>
            <a:ext cx="538200" cy="306360"/>
            <a:chOff x="4763880" y="3753000"/>
            <a:chExt cx="538200" cy="306360"/>
          </a:xfrm>
        </p:grpSpPr>
        <p:sp>
          <p:nvSpPr>
            <p:cNvPr id="208" name=""/>
            <p:cNvSpPr/>
            <p:nvPr/>
          </p:nvSpPr>
          <p:spPr>
            <a:xfrm flipH="1" flipV="1">
              <a:off x="5013000" y="3927600"/>
              <a:ext cx="52200" cy="13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4874760" y="3927600"/>
              <a:ext cx="136440" cy="13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 flipH="1" flipV="1">
              <a:off x="4763880" y="3753000"/>
              <a:ext cx="10764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 flipV="1">
              <a:off x="5065560" y="3927600"/>
              <a:ext cx="108000" cy="13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176800" y="3927600"/>
              <a:ext cx="125280" cy="13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3" name=""/>
          <p:cNvSpPr/>
          <p:nvPr/>
        </p:nvSpPr>
        <p:spPr>
          <a:xfrm>
            <a:off x="2384280" y="2832120"/>
            <a:ext cx="147960" cy="1093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2532240" y="3753000"/>
            <a:ext cx="95040" cy="171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630520" y="3754440"/>
            <a:ext cx="11268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744640" y="3927600"/>
            <a:ext cx="5256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798640" y="3927600"/>
            <a:ext cx="13680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2935440" y="3753000"/>
            <a:ext cx="10764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526000" y="3927600"/>
            <a:ext cx="5256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580000" y="3927600"/>
            <a:ext cx="13644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H="1" flipV="1">
            <a:off x="5414760" y="3927600"/>
            <a:ext cx="10764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5289120" y="3927600"/>
            <a:ext cx="12564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33520" y="3147840"/>
            <a:ext cx="1765080" cy="51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tched filter output for direct path sig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73120" y="4211640"/>
            <a:ext cx="1725480" cy="51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tched filter outpu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delayed sig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973160" y="4289400"/>
            <a:ext cx="3327120" cy="477720"/>
            <a:chOff x="1973160" y="4289400"/>
            <a:chExt cx="3327120" cy="477720"/>
          </a:xfrm>
        </p:grpSpPr>
        <p:sp>
          <p:nvSpPr>
            <p:cNvPr id="226" name=""/>
            <p:cNvSpPr/>
            <p:nvPr/>
          </p:nvSpPr>
          <p:spPr>
            <a:xfrm>
              <a:off x="4398840" y="4648320"/>
              <a:ext cx="112680" cy="11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7" name=""/>
            <p:cNvGrpSpPr/>
            <p:nvPr/>
          </p:nvGrpSpPr>
          <p:grpSpPr>
            <a:xfrm>
              <a:off x="3914280" y="4289400"/>
              <a:ext cx="483120" cy="425520"/>
              <a:chOff x="3914280" y="4289400"/>
              <a:chExt cx="483120" cy="425520"/>
            </a:xfrm>
          </p:grpSpPr>
          <p:sp>
            <p:nvSpPr>
              <p:cNvPr id="228" name=""/>
              <p:cNvSpPr/>
              <p:nvPr/>
            </p:nvSpPr>
            <p:spPr>
              <a:xfrm>
                <a:off x="4157640" y="4289400"/>
                <a:ext cx="144360" cy="425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flipV="1">
                <a:off x="4303800" y="4646160"/>
                <a:ext cx="93600" cy="66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flipH="1">
                <a:off x="4012920" y="4289400"/>
                <a:ext cx="142920" cy="425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flipH="1" flipV="1">
                <a:off x="3914280" y="4646160"/>
                <a:ext cx="95400" cy="66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2" name=""/>
            <p:cNvSpPr/>
            <p:nvPr/>
          </p:nvSpPr>
          <p:spPr>
            <a:xfrm flipH="1">
              <a:off x="3805200" y="4648320"/>
              <a:ext cx="109440" cy="11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 flipV="1">
              <a:off x="3508200" y="4648320"/>
              <a:ext cx="106560" cy="11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V="1">
              <a:off x="4699080" y="4648320"/>
              <a:ext cx="104760" cy="11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807080" y="4648320"/>
              <a:ext cx="83880" cy="1188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 flipV="1">
              <a:off x="4890960" y="4470480"/>
              <a:ext cx="108000" cy="2952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flipH="1" flipV="1">
              <a:off x="5195520" y="4648320"/>
              <a:ext cx="104760" cy="11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flipH="1">
              <a:off x="5111640" y="4648320"/>
              <a:ext cx="84240" cy="1188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 flipH="1" flipV="1">
              <a:off x="5000400" y="4470480"/>
              <a:ext cx="107640" cy="2952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860560" y="4289400"/>
              <a:ext cx="144720" cy="42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 flipV="1">
              <a:off x="3005280" y="4646160"/>
              <a:ext cx="91800" cy="66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100320" y="4648320"/>
              <a:ext cx="112680" cy="11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flipV="1">
              <a:off x="3403440" y="4648320"/>
              <a:ext cx="103320" cy="11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flipH="1">
              <a:off x="2714400" y="4289400"/>
              <a:ext cx="144360" cy="42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5" name=""/>
            <p:cNvGrpSpPr/>
            <p:nvPr/>
          </p:nvGrpSpPr>
          <p:grpSpPr>
            <a:xfrm>
              <a:off x="2207880" y="4646160"/>
              <a:ext cx="505080" cy="120960"/>
              <a:chOff x="2207880" y="4646160"/>
              <a:chExt cx="505080" cy="120960"/>
            </a:xfrm>
          </p:grpSpPr>
          <p:sp>
            <p:nvSpPr>
              <p:cNvPr id="246" name=""/>
              <p:cNvSpPr/>
              <p:nvPr/>
            </p:nvSpPr>
            <p:spPr>
              <a:xfrm flipH="1" flipV="1">
                <a:off x="2619360" y="4646160"/>
                <a:ext cx="93600" cy="66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flipH="1">
                <a:off x="2504880" y="4648320"/>
                <a:ext cx="112680" cy="118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flipH="1" flipV="1">
                <a:off x="2450880" y="4714560"/>
                <a:ext cx="50760" cy="50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flipH="1">
                <a:off x="2315880" y="4716360"/>
                <a:ext cx="135000" cy="50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flipH="1" flipV="1">
                <a:off x="2207880" y="4648320"/>
                <a:ext cx="104760" cy="118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1" name=""/>
            <p:cNvSpPr/>
            <p:nvPr/>
          </p:nvSpPr>
          <p:spPr>
            <a:xfrm flipV="1">
              <a:off x="2109960" y="4648320"/>
              <a:ext cx="102960" cy="11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 flipV="1">
              <a:off x="3751200" y="4714560"/>
              <a:ext cx="5256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 flipH="1">
              <a:off x="3615840" y="4716360"/>
              <a:ext cx="13356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 flipV="1">
              <a:off x="4511520" y="4714560"/>
              <a:ext cx="5112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565520" y="4716360"/>
              <a:ext cx="13356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 flipV="1">
              <a:off x="3213000" y="4714560"/>
              <a:ext cx="5076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267000" y="4716360"/>
              <a:ext cx="13500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973160" y="4716360"/>
              <a:ext cx="13500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9" name=""/>
          <p:cNvGrpSpPr/>
          <p:nvPr/>
        </p:nvGrpSpPr>
        <p:grpSpPr>
          <a:xfrm>
            <a:off x="1714680" y="4883040"/>
            <a:ext cx="4451040" cy="408240"/>
            <a:chOff x="1714680" y="4883040"/>
            <a:chExt cx="4451040" cy="408240"/>
          </a:xfrm>
        </p:grpSpPr>
        <p:sp>
          <p:nvSpPr>
            <p:cNvPr id="260" name=""/>
            <p:cNvSpPr/>
            <p:nvPr/>
          </p:nvSpPr>
          <p:spPr>
            <a:xfrm>
              <a:off x="1784520" y="4884840"/>
              <a:ext cx="2122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784520" y="5288040"/>
              <a:ext cx="2257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780640" y="4917960"/>
              <a:ext cx="4777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733920" y="4884840"/>
              <a:ext cx="2349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33920" y="5288040"/>
              <a:ext cx="2349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677840" y="4917960"/>
              <a:ext cx="4395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866240" y="4917960"/>
              <a:ext cx="3632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714680" y="4883040"/>
              <a:ext cx="137880" cy="408240"/>
            </a:xfrm>
            <a:custGeom>
              <a:avLst/>
              <a:gdLst/>
              <a:ahLst/>
              <a:rect l="l" t="t" r="r" b="b"/>
              <a:pathLst>
                <a:path w="87" h="257">
                  <a:moveTo>
                    <a:pt x="43" y="0"/>
                  </a:moveTo>
                  <a:lnTo>
                    <a:pt x="26" y="21"/>
                  </a:lnTo>
                  <a:lnTo>
                    <a:pt x="11" y="43"/>
                  </a:lnTo>
                  <a:lnTo>
                    <a:pt x="6" y="53"/>
                  </a:lnTo>
                  <a:lnTo>
                    <a:pt x="2" y="64"/>
                  </a:lnTo>
                  <a:lnTo>
                    <a:pt x="0" y="75"/>
                  </a:lnTo>
                  <a:lnTo>
                    <a:pt x="0" y="85"/>
                  </a:lnTo>
                  <a:lnTo>
                    <a:pt x="6" y="96"/>
                  </a:lnTo>
                  <a:lnTo>
                    <a:pt x="15" y="107"/>
                  </a:lnTo>
                  <a:lnTo>
                    <a:pt x="28" y="117"/>
                  </a:lnTo>
                  <a:lnTo>
                    <a:pt x="43" y="128"/>
                  </a:lnTo>
                  <a:lnTo>
                    <a:pt x="58" y="139"/>
                  </a:lnTo>
                  <a:lnTo>
                    <a:pt x="71" y="149"/>
                  </a:lnTo>
                  <a:lnTo>
                    <a:pt x="81" y="160"/>
                  </a:lnTo>
                  <a:lnTo>
                    <a:pt x="86" y="171"/>
                  </a:lnTo>
                  <a:lnTo>
                    <a:pt x="86" y="181"/>
                  </a:lnTo>
                  <a:lnTo>
                    <a:pt x="86" y="192"/>
                  </a:lnTo>
                  <a:lnTo>
                    <a:pt x="83" y="203"/>
                  </a:lnTo>
                  <a:lnTo>
                    <a:pt x="77" y="213"/>
                  </a:lnTo>
                  <a:lnTo>
                    <a:pt x="62" y="235"/>
                  </a:lnTo>
                  <a:lnTo>
                    <a:pt x="43" y="25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026040" y="4883040"/>
              <a:ext cx="139680" cy="408240"/>
            </a:xfrm>
            <a:custGeom>
              <a:avLst/>
              <a:gdLst/>
              <a:ahLst/>
              <a:rect l="l" t="t" r="r" b="b"/>
              <a:pathLst>
                <a:path w="88" h="257">
                  <a:moveTo>
                    <a:pt x="43" y="0"/>
                  </a:moveTo>
                  <a:lnTo>
                    <a:pt x="12" y="43"/>
                  </a:lnTo>
                  <a:lnTo>
                    <a:pt x="0" y="64"/>
                  </a:lnTo>
                  <a:lnTo>
                    <a:pt x="0" y="85"/>
                  </a:lnTo>
                  <a:lnTo>
                    <a:pt x="6" y="96"/>
                  </a:lnTo>
                  <a:lnTo>
                    <a:pt x="18" y="107"/>
                  </a:lnTo>
                  <a:lnTo>
                    <a:pt x="43" y="128"/>
                  </a:lnTo>
                  <a:lnTo>
                    <a:pt x="74" y="149"/>
                  </a:lnTo>
                  <a:lnTo>
                    <a:pt x="81" y="160"/>
                  </a:lnTo>
                  <a:lnTo>
                    <a:pt x="87" y="171"/>
                  </a:lnTo>
                  <a:lnTo>
                    <a:pt x="87" y="192"/>
                  </a:lnTo>
                  <a:lnTo>
                    <a:pt x="74" y="213"/>
                  </a:lnTo>
                  <a:lnTo>
                    <a:pt x="43" y="25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382840" y="4886280"/>
              <a:ext cx="0" cy="40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706920" y="4886280"/>
              <a:ext cx="0" cy="40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1" name=""/>
          <p:cNvSpPr/>
          <p:nvPr/>
        </p:nvSpPr>
        <p:spPr>
          <a:xfrm>
            <a:off x="3706920" y="2808360"/>
            <a:ext cx="0" cy="23940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019840" y="2808360"/>
            <a:ext cx="0" cy="2076480"/>
          </a:xfrm>
          <a:prstGeom prst="line">
            <a:avLst/>
          </a:prstGeom>
          <a:ln w="255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2230560" y="2841480"/>
            <a:ext cx="147600" cy="1094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382840" y="2841480"/>
            <a:ext cx="0" cy="23940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105520" y="3160800"/>
            <a:ext cx="205560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isappearance of correlation peak sig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066680" y="1187280"/>
            <a:ext cx="72392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luence of the high correlation side-lob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 timing detection accura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07000" y="2816280"/>
            <a:ext cx="1218960" cy="691920"/>
          </a:xfrm>
          <a:custGeom>
            <a:avLst/>
            <a:gdLst/>
            <a:ahLst/>
            <a:rect l="l" t="t" r="r" b="b"/>
            <a:pathLst>
              <a:path w="768" h="436">
                <a:moveTo>
                  <a:pt x="0" y="4"/>
                </a:moveTo>
                <a:lnTo>
                  <a:pt x="40" y="4"/>
                </a:lnTo>
                <a:lnTo>
                  <a:pt x="91" y="0"/>
                </a:lnTo>
                <a:lnTo>
                  <a:pt x="157" y="0"/>
                </a:lnTo>
                <a:lnTo>
                  <a:pt x="228" y="4"/>
                </a:lnTo>
                <a:lnTo>
                  <a:pt x="269" y="7"/>
                </a:lnTo>
                <a:lnTo>
                  <a:pt x="320" y="7"/>
                </a:lnTo>
                <a:lnTo>
                  <a:pt x="426" y="14"/>
                </a:lnTo>
                <a:lnTo>
                  <a:pt x="528" y="25"/>
                </a:lnTo>
                <a:lnTo>
                  <a:pt x="574" y="32"/>
                </a:lnTo>
                <a:lnTo>
                  <a:pt x="614" y="46"/>
                </a:lnTo>
                <a:lnTo>
                  <a:pt x="645" y="64"/>
                </a:lnTo>
                <a:lnTo>
                  <a:pt x="670" y="85"/>
                </a:lnTo>
                <a:lnTo>
                  <a:pt x="706" y="135"/>
                </a:lnTo>
                <a:lnTo>
                  <a:pt x="731" y="191"/>
                </a:lnTo>
                <a:lnTo>
                  <a:pt x="752" y="244"/>
                </a:lnTo>
                <a:lnTo>
                  <a:pt x="767" y="297"/>
                </a:lnTo>
                <a:lnTo>
                  <a:pt x="767" y="350"/>
                </a:lnTo>
                <a:lnTo>
                  <a:pt x="767" y="396"/>
                </a:lnTo>
                <a:lnTo>
                  <a:pt x="767" y="417"/>
                </a:lnTo>
                <a:lnTo>
                  <a:pt x="767" y="435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sahiro Morikura, NT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8F2F7-2DB9-48A8-82DB-0BE02422476D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" descr=""/>
          <p:cNvPicPr/>
          <p:nvPr/>
        </p:nvPicPr>
        <p:blipFill>
          <a:blip r:embed="rId1"/>
          <a:stretch/>
        </p:blipFill>
        <p:spPr>
          <a:xfrm>
            <a:off x="1219320" y="1447920"/>
            <a:ext cx="4460760" cy="409392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/>
          <p:nvPr/>
        </p:nvSpPr>
        <p:spPr>
          <a:xfrm>
            <a:off x="685800" y="838080"/>
            <a:ext cx="784872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cket error rate perform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137760" y="5398920"/>
            <a:ext cx="102024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ja-JP" sz="16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ja-JP" sz="1600" spc="-1" strike="noStrike">
                <a:solidFill>
                  <a:srgbClr val="000000"/>
                </a:solidFill>
                <a:latin typeface="Times New Roman"/>
              </a:rPr>
              <a:t>/N</a:t>
            </a:r>
            <a:r>
              <a:rPr b="0" i="1" lang="ja-JP" sz="1600" spc="-1" strike="noStrike" baseline="-25000">
                <a:solidFill>
                  <a:srgbClr val="000000"/>
                </a:solidFill>
                <a:latin typeface="Times New Roman"/>
              </a:rPr>
              <a:t>0 </a:t>
            </a: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[dB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rot="16200000">
            <a:off x="244440" y="3072600"/>
            <a:ext cx="15231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cket error r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064240" y="5796000"/>
            <a:ext cx="319320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Packet error rate versus </a:t>
            </a:r>
            <a:r>
              <a:rPr b="0" i="1" lang="ja-JP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ja-JP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ja-JP" sz="2000" spc="-1" strike="noStrike">
                <a:solidFill>
                  <a:srgbClr val="000000"/>
                </a:solidFill>
                <a:latin typeface="Times New Roman"/>
              </a:rPr>
              <a:t>/N</a:t>
            </a:r>
            <a:r>
              <a:rPr b="0" i="1" lang="ja-JP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791320" y="3733920"/>
            <a:ext cx="2666880" cy="10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irreducible error caused by miss/false timing detection is much improved by using proposed B16 sequenc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2"/>
          <a:stretch/>
        </p:blipFill>
        <p:spPr>
          <a:xfrm>
            <a:off x="5791320" y="2438280"/>
            <a:ext cx="2743200" cy="528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sahiro Morikura, NT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E4E61-D4FD-4387-B8E5-5517B679CDDC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839520" y="843120"/>
            <a:ext cx="70372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clu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propose to adopt the modified B16 sh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mbol pattern which was accepted by the ETS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RA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sahiro Morikura, NT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090C8-9227-4AE8-99F9-2A47B5ADD218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odane</cp:lastModifiedBy>
  <cp:lastPrinted>1999-07-15T08:33:35Z</cp:lastPrinted>
  <dcterms:modified xsi:type="dcterms:W3CDTF">1999-07-15T08:34:16Z</dcterms:modified>
  <cp:revision>2</cp:revision>
  <dc:subject/>
  <dc:title>No Slide Title</dc:title>
</cp:coreProperties>
</file>