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5217-250B-4EEB-8276-B566CEFEE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15AD-4D74-4BDB-9DE5-AD7C938AA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1891-F110-4785-9974-B61CD151A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E84E-DB8A-40FC-96A3-6FD4EA9D7E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E7F9-4E80-4690-BE74-3852695C91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9BAE-DEB8-42C2-8AD1-B42B1A3A6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DA37F-6E72-49E5-A99E-530D853D6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A43C8-0225-4A2F-9D31-B92701909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0C06-D4AD-4AF0-ACF5-A3371CDCD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7D965-A9FD-4EE2-93F1-2874DD7C6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924B-4605-4A0E-AE14-6BE0AAD63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FEC3-44C9-48C8-B0E0-AC5FB3A8E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6EBB787-059D-4518-A688-94E9516B8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1120" y="396000"/>
            <a:ext cx="39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 99/1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3160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77200" y="643896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Zyren Ha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17400" y="2438280"/>
            <a:ext cx="58651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RM 98-42 Study Group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m Zy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9A6E-7F2C-4B05-BA4D-D23411EDCB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RM 98-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 authorization of RF Lights operating in 2.45 GHz ISM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 on in-band emiss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DA limits on human exposure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OET recommendation sent to Commission in December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15 Interests appealed directly to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 delayed final resolution pending efforts of interested parties to seek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59D5-C139-4D09-B4CC-3A5C6A3661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est Proposal (July 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65280" y="1850760"/>
            <a:ext cx="7002360" cy="1579320"/>
            <a:chOff x="1565280" y="1850760"/>
            <a:chExt cx="7002360" cy="1579320"/>
          </a:xfrm>
        </p:grpSpPr>
        <p:sp>
          <p:nvSpPr>
            <p:cNvPr id="50" name=""/>
            <p:cNvSpPr/>
            <p:nvPr/>
          </p:nvSpPr>
          <p:spPr>
            <a:xfrm>
              <a:off x="1565280" y="3295800"/>
              <a:ext cx="700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209700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795672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796080" y="3017880"/>
            <a:ext cx="118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11400" y="3027240"/>
            <a:ext cx="35323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7516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8992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1264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2704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9980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1420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264280" y="176544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48320" y="172404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0" y="52"/>
                </a:moveTo>
                <a:lnTo>
                  <a:pt x="9" y="26"/>
                </a:lnTo>
                <a:lnTo>
                  <a:pt x="0" y="0"/>
                </a:lnTo>
                <a:lnTo>
                  <a:pt x="60" y="26"/>
                </a:lnTo>
                <a:lnTo>
                  <a:pt x="0" y="5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81760" y="176688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10480" y="172548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60" y="0"/>
                </a:moveTo>
                <a:lnTo>
                  <a:pt x="51" y="26"/>
                </a:lnTo>
                <a:lnTo>
                  <a:pt x="60" y="52"/>
                </a:lnTo>
                <a:lnTo>
                  <a:pt x="0" y="26"/>
                </a:lnTo>
                <a:lnTo>
                  <a:pt x="6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73520" y="1614600"/>
            <a:ext cx="155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 - 248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65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62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624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608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9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7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5632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54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52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51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9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48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46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44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43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43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41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399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38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36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5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33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30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28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27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25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40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23960" y="1978200"/>
            <a:ext cx="51120" cy="26640"/>
          </a:xfrm>
          <a:custGeom>
            <a:avLst/>
            <a:gdLst/>
            <a:ahLst/>
            <a:rect l="l" t="t" r="r" b="b"/>
            <a:pathLst>
              <a:path w="32" h="17">
                <a:moveTo>
                  <a:pt x="31" y="16"/>
                </a:moveTo>
                <a:lnTo>
                  <a:pt x="31" y="0"/>
                </a:lnTo>
                <a:lnTo>
                  <a:pt x="0" y="0"/>
                </a:lnTo>
                <a:lnTo>
                  <a:pt x="0" y="16"/>
                </a:lnTo>
                <a:lnTo>
                  <a:pt x="31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22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0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19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17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16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14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12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1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9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2896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2708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556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2404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2252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63840" y="3017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6" y="0"/>
                </a:lnTo>
                <a:lnTo>
                  <a:pt x="0" y="0"/>
                </a:lnTo>
                <a:lnTo>
                  <a:pt x="0" y="16"/>
                </a:lnTo>
                <a:lnTo>
                  <a:pt x="1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21840" y="231156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57760" y="16574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57760" y="175896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57760" y="18604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7760" y="1962000"/>
            <a:ext cx="2700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57760" y="2062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57760" y="2163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57760" y="226548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57760" y="236700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57760" y="246852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7760" y="25700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57760" y="267192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57760" y="27716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7760" y="287352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57760" y="29750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7760" y="307656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57760" y="3178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7760" y="3279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78800" y="16574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78800" y="175896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78800" y="18604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8800" y="1962000"/>
            <a:ext cx="2664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78800" y="2062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78800" y="2163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78800" y="226548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78800" y="236700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8800" y="246852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78800" y="25700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78800" y="2671920"/>
            <a:ext cx="2664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78800" y="27716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78800" y="287352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78800" y="29750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78800" y="307656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78800" y="3178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78800" y="3279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67480" y="1995480"/>
            <a:ext cx="11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34680" y="2293920"/>
            <a:ext cx="38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26480" y="2265480"/>
            <a:ext cx="49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80" y="1854360"/>
            <a:ext cx="103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B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6680" y="2036880"/>
            <a:ext cx="72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7640" y="2895480"/>
            <a:ext cx="945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B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2520" y="3078000"/>
            <a:ext cx="63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3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0680" y="3919680"/>
            <a:ext cx="111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5480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1520" y="3919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6576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8880" y="3963960"/>
            <a:ext cx="4880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00 - 2460 MHz. RF lighting restricted to 1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31400" y="4468680"/>
            <a:ext cx="121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4880" y="446868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18240" y="4468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02120" y="4468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25960" y="4513320"/>
            <a:ext cx="5820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60 - 2480 MHz. RF Light emission limit of 100 d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/m @ 10 m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51200" y="4772160"/>
            <a:ext cx="594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quivalent to 330 mVm @ 3m).  Consistent with CISPR15 lim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33200" y="5016600"/>
            <a:ext cx="23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31040" y="5261040"/>
            <a:ext cx="131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53520" y="526104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16520" y="526104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97160" y="5305320"/>
            <a:ext cx="4981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80 - 2500 MHz.  RF lighting restricted to 1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48680" y="5608800"/>
            <a:ext cx="4665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ortion of the band includes satellite servi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27080" y="556416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83800" y="341136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8200" y="362412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79A6-6615-4B6F-B807-4BF0236C97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t a revised letter to the FCC and Fusion Lighting on spurious emissi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DB24-B745-4AC4-97CA-B366F2E156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6:59:08Z</dcterms:created>
  <dc:creator>Jim Zyren</dc:creator>
  <dc:description/>
  <dc:language>en-US</dc:language>
  <cp:lastModifiedBy>Al Petrick</cp:lastModifiedBy>
  <dcterms:modified xsi:type="dcterms:W3CDTF">1999-07-08T13:04:17Z</dcterms:modified>
  <cp:revision>37</cp:revision>
  <dc:subject/>
  <dc:title>No Slide Title</dc:title>
</cp:coreProperties>
</file>