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29FC-70E4-46E6-9184-52C91783F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6C21-DF03-4873-9A6D-E6612924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D15A-C69E-4551-913A-60C9EE4F5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91A6-4A62-4576-9D96-7503CF86C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4DE6-F511-4AFE-AD4D-F79347B9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8291-CF7D-4ECF-BA6F-908B2CAB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CB2D-747B-4C05-9B0C-30725492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E128-6553-4CF2-BDD9-69E1299E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7D7E-4B5F-46DF-828C-CC57701B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C176-B798-4089-956A-5A50F98D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85CE-A7F6-4359-9F4D-02343D27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D117-2966-4164-B50D-409C73AF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7BB3BF7-8E5B-40E0-9D1E-C67F382EB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8/16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itics of IEEE P802.11 response to FCC NPRM 99-14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ftali Chay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eze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ftalic@breezecom.co.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6A33-C57A-420A-89BF-5D81EDAE573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ference of WBFH to NBF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BFH interferer needs more received power than NBFH, to fail a desired NBFH sig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ollision probability for WBFH is higher, but the percentage of stations within range is sma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85800" y="4495320"/>
            <a:ext cx="7772040" cy="2076120"/>
            <a:chOff x="685800" y="4495320"/>
            <a:chExt cx="7772040" cy="2076120"/>
          </a:xfrm>
        </p:grpSpPr>
        <p:sp>
          <p:nvSpPr>
            <p:cNvPr id="124" name=""/>
            <p:cNvSpPr/>
            <p:nvPr/>
          </p:nvSpPr>
          <p:spPr>
            <a:xfrm>
              <a:off x="685800" y="5797800"/>
              <a:ext cx="777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2010960" y="4495320"/>
              <a:ext cx="173520" cy="1302120"/>
              <a:chOff x="2010960" y="4495320"/>
              <a:chExt cx="173520" cy="1302120"/>
            </a:xfrm>
          </p:grpSpPr>
          <p:sp>
            <p:nvSpPr>
              <p:cNvPr id="126" name=""/>
              <p:cNvSpPr/>
              <p:nvPr/>
            </p:nvSpPr>
            <p:spPr>
              <a:xfrm flipV="1">
                <a:off x="2010960" y="4495320"/>
                <a:ext cx="32400" cy="1302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043360" y="4495680"/>
                <a:ext cx="1087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 flipV="1">
                <a:off x="2152080" y="4495320"/>
                <a:ext cx="32400" cy="1302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1549440" y="5761440"/>
              <a:ext cx="1612440" cy="8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BFH 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BFH interfer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2010960" y="5093640"/>
              <a:ext cx="173520" cy="667440"/>
              <a:chOff x="2010960" y="5093640"/>
              <a:chExt cx="173520" cy="667440"/>
            </a:xfrm>
          </p:grpSpPr>
          <p:sp>
            <p:nvSpPr>
              <p:cNvPr id="131" name=""/>
              <p:cNvSpPr/>
              <p:nvPr/>
            </p:nvSpPr>
            <p:spPr>
              <a:xfrm flipV="1">
                <a:off x="2010960" y="5093640"/>
                <a:ext cx="32400" cy="6674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043360" y="5093640"/>
                <a:ext cx="10872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flipV="1">
                <a:off x="2152080" y="5093640"/>
                <a:ext cx="32400" cy="6674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5435640" y="5551920"/>
              <a:ext cx="634320" cy="209160"/>
              <a:chOff x="5435640" y="5551920"/>
              <a:chExt cx="634320" cy="209160"/>
            </a:xfrm>
          </p:grpSpPr>
          <p:sp>
            <p:nvSpPr>
              <p:cNvPr id="135" name=""/>
              <p:cNvSpPr/>
              <p:nvPr/>
            </p:nvSpPr>
            <p:spPr>
              <a:xfrm flipV="1">
                <a:off x="5435640" y="5551920"/>
                <a:ext cx="118440" cy="20916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554080" y="5552280"/>
                <a:ext cx="3978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flipV="1">
                <a:off x="5951520" y="5551920"/>
                <a:ext cx="118440" cy="20916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5695920" y="4495320"/>
              <a:ext cx="170640" cy="1302120"/>
              <a:chOff x="5695920" y="4495320"/>
              <a:chExt cx="170640" cy="1302120"/>
            </a:xfrm>
          </p:grpSpPr>
          <p:sp>
            <p:nvSpPr>
              <p:cNvPr id="139" name=""/>
              <p:cNvSpPr/>
              <p:nvPr/>
            </p:nvSpPr>
            <p:spPr>
              <a:xfrm flipV="1">
                <a:off x="5695920" y="4495320"/>
                <a:ext cx="31680" cy="1302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727600" y="4495680"/>
                <a:ext cx="107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 flipV="1">
                <a:off x="5834880" y="4495320"/>
                <a:ext cx="31680" cy="1302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4976280" y="5727600"/>
              <a:ext cx="1670040" cy="80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BFH 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BFH interfer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0099-3BC9-4A5E-A457-6EAFFDE96A6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BFH interference to itself - overlapping or disjoint channel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verlapping WBFH interferer creates slightly less inter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ollision probability for overlapping WBFH channels is  twice as hig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channel signals can use CCA to yield to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CA is not efficient with overlapping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85800" y="4800600"/>
            <a:ext cx="7772040" cy="1751760"/>
            <a:chOff x="685800" y="4800600"/>
            <a:chExt cx="7772040" cy="1751760"/>
          </a:xfrm>
        </p:grpSpPr>
        <p:sp>
          <p:nvSpPr>
            <p:cNvPr id="146" name=""/>
            <p:cNvSpPr/>
            <p:nvPr/>
          </p:nvSpPr>
          <p:spPr>
            <a:xfrm>
              <a:off x="685800" y="5918760"/>
              <a:ext cx="777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5435280" y="5616000"/>
              <a:ext cx="632880" cy="302040"/>
              <a:chOff x="5435280" y="5616000"/>
              <a:chExt cx="632880" cy="302040"/>
            </a:xfrm>
          </p:grpSpPr>
          <p:sp>
            <p:nvSpPr>
              <p:cNvPr id="148" name=""/>
              <p:cNvSpPr/>
              <p:nvPr/>
            </p:nvSpPr>
            <p:spPr>
              <a:xfrm flipV="1">
                <a:off x="5435280" y="5616000"/>
                <a:ext cx="118080" cy="302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553360" y="5616360"/>
                <a:ext cx="39636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 flipV="1">
                <a:off x="5950080" y="5616000"/>
                <a:ext cx="118080" cy="302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5435280" y="4800600"/>
              <a:ext cx="632880" cy="1118160"/>
              <a:chOff x="5435280" y="4800600"/>
              <a:chExt cx="632880" cy="1118160"/>
            </a:xfrm>
          </p:grpSpPr>
          <p:sp>
            <p:nvSpPr>
              <p:cNvPr id="152" name=""/>
              <p:cNvSpPr/>
              <p:nvPr/>
            </p:nvSpPr>
            <p:spPr>
              <a:xfrm flipV="1">
                <a:off x="5435280" y="4800600"/>
                <a:ext cx="118080" cy="1118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553360" y="4800600"/>
                <a:ext cx="3963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 flipV="1">
                <a:off x="5950080" y="4800600"/>
                <a:ext cx="118080" cy="1118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4256280" y="5859000"/>
              <a:ext cx="2849040" cy="69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BFH 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-channel WBFH interfer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2325960" y="5616000"/>
              <a:ext cx="634320" cy="302040"/>
              <a:chOff x="2325960" y="5616000"/>
              <a:chExt cx="634320" cy="302040"/>
            </a:xfrm>
          </p:grpSpPr>
          <p:sp>
            <p:nvSpPr>
              <p:cNvPr id="157" name=""/>
              <p:cNvSpPr/>
              <p:nvPr/>
            </p:nvSpPr>
            <p:spPr>
              <a:xfrm flipV="1">
                <a:off x="2325960" y="5616000"/>
                <a:ext cx="118440" cy="302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444400" y="5616360"/>
                <a:ext cx="3978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2841840" y="5616000"/>
                <a:ext cx="118440" cy="302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2499480" y="4800600"/>
              <a:ext cx="632880" cy="1118160"/>
              <a:chOff x="2499480" y="4800600"/>
              <a:chExt cx="632880" cy="1118160"/>
            </a:xfrm>
          </p:grpSpPr>
          <p:sp>
            <p:nvSpPr>
              <p:cNvPr id="161" name=""/>
              <p:cNvSpPr/>
              <p:nvPr/>
            </p:nvSpPr>
            <p:spPr>
              <a:xfrm flipV="1">
                <a:off x="2499480" y="4800600"/>
                <a:ext cx="118080" cy="1118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617560" y="4800600"/>
                <a:ext cx="3963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flipV="1">
                <a:off x="3014280" y="4800600"/>
                <a:ext cx="118080" cy="1118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1318320" y="5859000"/>
              <a:ext cx="2851200" cy="69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BFH 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verlapping WBFH interfer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F70D-B39C-4B12-BC20-18FFA879CEA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802 should not issue a negative response to the FCC NPRM 99-14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5 may benefit from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terference to/from current systems is about same as among current incompatibl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should not block inno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EEE decides to issue a negative response, it should remove the misleading assumptions about WBFH system transmit power compared to legacy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54C5-9F41-44E5-AFA4-E8ED4B9BEC1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802.11 response to NPRM 99-14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sponse in document P802.11-99/162 tries to protect the 802.11 investment, which is O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802.11 response contains speculative arguments which are inappropriate for IEEE sponsored respon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sponse blocks new innovative uses of the ISM b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sponse fails to address the potential benefit of wider channels to W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FCDA-8560-418E-B3D9-86DF3B3A1F4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FCC NPRM 99-149 in a nutsh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llow FH with channels which are ei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MHz wide, allowed power reduced from 1 W to 330 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MHz wide, allowed power reduced from 1 W to 200 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tain 75 hopping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s overlapping FH cha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BFH will be required to hop f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37F6-36DE-41A4-AB35-3E99CE0B455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tential uses of wider chann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er data rates are achiev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signaling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novative modulation schemes increase rates even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tter sensitivity for FSK due to possibility to use higher dev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day in 802.11 h=0.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um is at h=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in of 4-5 dB in sensitivity and interference robus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eficial to low power transmitters (WP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6C78-1818-4887-AE01-06216CD67A7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ll WBFH use more power than 802.11 system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urrent regulations allow FH and DS 1 Wa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posed WBFH maximal power is 330 or 200 mW for 3 or 5 MHz wide channels, res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art C of the response of 802.11 claims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1 devices typically use 100 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BFH devices will use full allowed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argument is an ab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wer used will be about same (at expense of ran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s on power consumption and amplifie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8D5E-D77B-4339-9AD9-5023F83A2C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deband FH interference is almost same as NBFH without power re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PRM intends to allow less power to WBFH than to NBF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ractice, the power will be simi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um power is seldom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the interference to existing NBFH and DS users is not significantly different from the interference that this users cause to themselves and to each oth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slides address few scenari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FE12-65A4-453E-AF6A-59096081003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alysis assum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terferer transmitting from same distance at same power will be received at same total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al density will depend on band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sired signal will be received at the power needed for demod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ly same spectral 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B signals need more received power, however it does not mean higher transmitted power, it means smaller useful r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EFA5-57CA-4F13-ADC8-6486E3F61DF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BFH interference to 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SINR depends (almost) only on FH signal power, not its bandwid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DS-FH collision probability depends on DS BW and width of the hopping band, not on FH B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62120" y="4190760"/>
            <a:ext cx="7749720" cy="2342520"/>
            <a:chOff x="762120" y="4190760"/>
            <a:chExt cx="7749720" cy="2342520"/>
          </a:xfrm>
        </p:grpSpPr>
        <p:sp>
          <p:nvSpPr>
            <p:cNvPr id="62" name=""/>
            <p:cNvSpPr/>
            <p:nvPr/>
          </p:nvSpPr>
          <p:spPr>
            <a:xfrm>
              <a:off x="762120" y="5728680"/>
              <a:ext cx="774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3862440" y="4190760"/>
              <a:ext cx="3070080" cy="1537560"/>
              <a:chOff x="3862440" y="4190760"/>
              <a:chExt cx="3070080" cy="1537560"/>
            </a:xfrm>
          </p:grpSpPr>
          <p:sp>
            <p:nvSpPr>
              <p:cNvPr id="64" name=""/>
              <p:cNvSpPr/>
              <p:nvPr/>
            </p:nvSpPr>
            <p:spPr>
              <a:xfrm flipV="1">
                <a:off x="3862440" y="4190760"/>
                <a:ext cx="573480" cy="153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435920" y="4191120"/>
                <a:ext cx="1922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flipV="1">
                <a:off x="6358680" y="4190760"/>
                <a:ext cx="573840" cy="153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4666680" y="4374360"/>
              <a:ext cx="170280" cy="1354320"/>
              <a:chOff x="4666680" y="4374360"/>
              <a:chExt cx="170280" cy="1354320"/>
            </a:xfrm>
          </p:grpSpPr>
          <p:sp>
            <p:nvSpPr>
              <p:cNvPr id="68" name=""/>
              <p:cNvSpPr/>
              <p:nvPr/>
            </p:nvSpPr>
            <p:spPr>
              <a:xfrm flipV="1">
                <a:off x="4666680" y="4374360"/>
                <a:ext cx="31680" cy="1354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698360" y="4374360"/>
                <a:ext cx="1065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flipV="1">
                <a:off x="4805280" y="4374360"/>
                <a:ext cx="31680" cy="1354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4980960" y="5213520"/>
              <a:ext cx="459720" cy="514440"/>
              <a:chOff x="4980960" y="5213520"/>
              <a:chExt cx="459720" cy="514440"/>
            </a:xfrm>
          </p:grpSpPr>
          <p:sp>
            <p:nvSpPr>
              <p:cNvPr id="72" name=""/>
              <p:cNvSpPr/>
              <p:nvPr/>
            </p:nvSpPr>
            <p:spPr>
              <a:xfrm flipV="1">
                <a:off x="4980960" y="5213520"/>
                <a:ext cx="85680" cy="514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066640" y="5213880"/>
                <a:ext cx="288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flipV="1">
                <a:off x="5354640" y="5213520"/>
                <a:ext cx="86040" cy="514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5554800" y="5362200"/>
              <a:ext cx="630360" cy="366480"/>
              <a:chOff x="5554800" y="5362200"/>
              <a:chExt cx="630360" cy="366480"/>
            </a:xfrm>
          </p:grpSpPr>
          <p:sp>
            <p:nvSpPr>
              <p:cNvPr id="76" name=""/>
              <p:cNvSpPr/>
              <p:nvPr/>
            </p:nvSpPr>
            <p:spPr>
              <a:xfrm flipV="1">
                <a:off x="5554800" y="5362200"/>
                <a:ext cx="117720" cy="3664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672520" y="5362200"/>
                <a:ext cx="395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flipV="1">
                <a:off x="6067440" y="5362200"/>
                <a:ext cx="117720" cy="3664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6502680" y="4336200"/>
              <a:ext cx="11476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S 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06600" y="5690880"/>
              <a:ext cx="1004040" cy="84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BF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354640" y="5690880"/>
              <a:ext cx="1004040" cy="84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BF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5D53-977E-4888-B5EE-376DC62A4CB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S interference to NB and WB F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BFH needs more received power than NBFH, however SINR degradation due to DS jamer is sam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DS-FH collision probability depends on DS BW and width of the hopping band, not on FH B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685800" y="4343400"/>
            <a:ext cx="7768800" cy="2152080"/>
            <a:chOff x="685800" y="4343400"/>
            <a:chExt cx="7768800" cy="2152080"/>
          </a:xfrm>
        </p:grpSpPr>
        <p:sp>
          <p:nvSpPr>
            <p:cNvPr id="85" name=""/>
            <p:cNvSpPr/>
            <p:nvPr/>
          </p:nvSpPr>
          <p:spPr>
            <a:xfrm>
              <a:off x="685800" y="5856480"/>
              <a:ext cx="776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3794040" y="5420520"/>
              <a:ext cx="3077640" cy="435600"/>
              <a:chOff x="3794040" y="5420520"/>
              <a:chExt cx="3077640" cy="435600"/>
            </a:xfrm>
          </p:grpSpPr>
          <p:sp>
            <p:nvSpPr>
              <p:cNvPr id="87" name=""/>
              <p:cNvSpPr/>
              <p:nvPr/>
            </p:nvSpPr>
            <p:spPr>
              <a:xfrm flipV="1">
                <a:off x="3794040" y="5420520"/>
                <a:ext cx="574920" cy="43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368960" y="5420520"/>
                <a:ext cx="1927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 flipV="1">
                <a:off x="6296400" y="5420520"/>
                <a:ext cx="575280" cy="43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2010240" y="4779000"/>
              <a:ext cx="173520" cy="1077120"/>
              <a:chOff x="2010240" y="4779000"/>
              <a:chExt cx="173520" cy="1077120"/>
            </a:xfrm>
          </p:grpSpPr>
          <p:sp>
            <p:nvSpPr>
              <p:cNvPr id="91" name=""/>
              <p:cNvSpPr/>
              <p:nvPr/>
            </p:nvSpPr>
            <p:spPr>
              <a:xfrm flipV="1">
                <a:off x="2010240" y="4779000"/>
                <a:ext cx="32400" cy="1077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042640" y="4779000"/>
                <a:ext cx="1087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flipV="1">
                <a:off x="2151360" y="4779000"/>
                <a:ext cx="32400" cy="1077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2328120" y="4779000"/>
              <a:ext cx="458640" cy="1077120"/>
              <a:chOff x="2328120" y="4779000"/>
              <a:chExt cx="458640" cy="1077120"/>
            </a:xfrm>
          </p:grpSpPr>
          <p:sp>
            <p:nvSpPr>
              <p:cNvPr id="95" name=""/>
              <p:cNvSpPr/>
              <p:nvPr/>
            </p:nvSpPr>
            <p:spPr>
              <a:xfrm flipV="1">
                <a:off x="2328120" y="4779000"/>
                <a:ext cx="85680" cy="1077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13800" y="4779000"/>
                <a:ext cx="287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 flipV="1">
                <a:off x="2701080" y="4779000"/>
                <a:ext cx="85680" cy="1077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2903400" y="4779000"/>
              <a:ext cx="632160" cy="1077120"/>
              <a:chOff x="2903400" y="4779000"/>
              <a:chExt cx="632160" cy="1077120"/>
            </a:xfrm>
          </p:grpSpPr>
          <p:sp>
            <p:nvSpPr>
              <p:cNvPr id="99" name=""/>
              <p:cNvSpPr/>
              <p:nvPr/>
            </p:nvSpPr>
            <p:spPr>
              <a:xfrm flipV="1">
                <a:off x="2903400" y="4779000"/>
                <a:ext cx="118080" cy="1077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21480" y="4779000"/>
                <a:ext cx="396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 flipV="1">
                <a:off x="3417480" y="4779000"/>
                <a:ext cx="118080" cy="1077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440400" y="5275080"/>
              <a:ext cx="115056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S 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49080" y="5826240"/>
              <a:ext cx="1006560" cy="66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BF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00000" y="5826240"/>
              <a:ext cx="1007280" cy="66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BF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4543200" y="4343400"/>
              <a:ext cx="170640" cy="1077120"/>
              <a:chOff x="4543200" y="4343400"/>
              <a:chExt cx="170640" cy="1077120"/>
            </a:xfrm>
          </p:grpSpPr>
          <p:sp>
            <p:nvSpPr>
              <p:cNvPr id="106" name=""/>
              <p:cNvSpPr/>
              <p:nvPr/>
            </p:nvSpPr>
            <p:spPr>
              <a:xfrm flipV="1">
                <a:off x="4543200" y="4343400"/>
                <a:ext cx="31680" cy="1077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574880" y="4343400"/>
                <a:ext cx="1069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flipV="1">
                <a:off x="4682160" y="4343400"/>
                <a:ext cx="31680" cy="1077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4858200" y="4343400"/>
              <a:ext cx="460800" cy="1077120"/>
              <a:chOff x="4858200" y="4343400"/>
              <a:chExt cx="460800" cy="1077120"/>
            </a:xfrm>
          </p:grpSpPr>
          <p:sp>
            <p:nvSpPr>
              <p:cNvPr id="110" name=""/>
              <p:cNvSpPr/>
              <p:nvPr/>
            </p:nvSpPr>
            <p:spPr>
              <a:xfrm flipV="1">
                <a:off x="4858200" y="4343400"/>
                <a:ext cx="86040" cy="1077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944240" y="4343400"/>
                <a:ext cx="2887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flipV="1">
                <a:off x="5232960" y="4343400"/>
                <a:ext cx="86040" cy="1077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5433480" y="4343400"/>
              <a:ext cx="634320" cy="1077120"/>
              <a:chOff x="5433480" y="4343400"/>
              <a:chExt cx="634320" cy="1077120"/>
            </a:xfrm>
          </p:grpSpPr>
          <p:sp>
            <p:nvSpPr>
              <p:cNvPr id="114" name=""/>
              <p:cNvSpPr/>
              <p:nvPr/>
            </p:nvSpPr>
            <p:spPr>
              <a:xfrm flipV="1">
                <a:off x="5433480" y="4343400"/>
                <a:ext cx="118440" cy="1077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551920" y="4343400"/>
                <a:ext cx="3974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flipV="1">
                <a:off x="5949360" y="4343400"/>
                <a:ext cx="118440" cy="1077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 flipH="1">
              <a:off x="1233720" y="4343400"/>
              <a:ext cx="3221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1234080" y="4779000"/>
              <a:ext cx="805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1492200" y="4343400"/>
              <a:ext cx="0" cy="43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49080" y="4343400"/>
              <a:ext cx="210060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INR Degrad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9BEB-BD59-416E-B73B-2C93A8577C5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8T09:56:23Z</dcterms:created>
  <dc:creator>Naftali Chayat</dc:creator>
  <dc:description/>
  <dc:language>en-US</dc:language>
  <cp:lastModifiedBy>Harry R. Worstell</cp:lastModifiedBy>
  <cp:lastPrinted>1998-02-10T13:28:06Z</cp:lastPrinted>
  <dcterms:modified xsi:type="dcterms:W3CDTF">1999-07-08T13:38:48Z</dcterms:modified>
  <cp:revision>13</cp:revision>
  <dc:subject/>
  <dc:title>IEEE802.11 response to FCC  NPRM 99-149</dc:title>
</cp:coreProperties>
</file>