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545-5BA4-42BC-9D0B-9F2E60FA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739-C501-4C91-9F7C-8EB411BD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5CD-BA71-49AB-B67A-CE43D5E7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FEA-4CCD-444D-94C3-C9322D2A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152-0AA4-472E-A7EC-861910BD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42B-4020-49F3-807B-85C417E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CE0-2268-4FE9-BBBE-C8607235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0C0-D23D-45CB-B281-4637D06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5FD-9812-4875-9853-3F991002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47C-7332-4967-A2EB-953CD26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D14-49D8-4787-A91F-FAF219B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FDD-C7C1-4130-B7F2-B6A8183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6EBDB2-FF60-444E-A498-F4A7B670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nhancements to the IEEE 802.11 MAC Lay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7-729-49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trick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E64-B71E-4EFC-92AE-ED73727CE4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orking group is approaching closure on the a 2.4GHz 802.11HR - PHY extension, And a new 5GHz PHY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PHY drafts support data rates applicable for application payloads beyo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file transf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payloads…..packetized  voice, multimedia, and Isochronous, VoIP traf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A86-9B48-4925-8EBE-593D328F15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….co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MAC layer supports an optional mechanism which has basic foundation support these types of application payloads…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CF - Point Coordin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CD8-F254-449C-9F2D-F724CE8EA4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CF and Security Enhanceme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are missing in the MAC layer’s PCF mechanism for supporting such ap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lity of Service - Q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of Service - 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ecurity mechanisms for supporting longer security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management…key negotiation &amp;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enhancements to the authentica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8E6-FFF6-4B3C-9801-AEE9C3E0C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robust QoS and CoS 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ETF - Internet Engineering Task Fo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d on the IP world and currently defining QoS metrics and strategies for VoIP, integrated and 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B86-6897-427B-9AD9-B7DAB91D4D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upports 2 types of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ous Connection Oriented (Voice traffic) and Asynchron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ing QoS and CoS for voice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5 entertaining papers comparing 802.11 vs Bluetooth networks supporting such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imilar to the CSMA/CA 802.11 and support both a voice/Isochronous traff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42E-761A-4F0D-BC77-A964AF8E02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Recommended Ac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upport from 802.11 MAC memb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reflector to spaw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 off study group at the next interim meeting in Septembe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completing a PAR  by January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08E-7673-4270-BC0B-D6A324BEA7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plenary adopt the recommended actions  as stated in on page 7 of doc 99/16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831-3E7E-4CE4-919F-87CC37E922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 Petrick, Harris Semiconductor</dc:creator>
  <dc:description/>
  <dc:language>en-US</dc:language>
  <cp:lastModifiedBy>rodane</cp:lastModifiedBy>
  <cp:lastPrinted>1999-07-15T08:54:29Z</cp:lastPrinted>
  <dcterms:modified xsi:type="dcterms:W3CDTF">1999-07-15T08:54:51Z</dcterms:modified>
  <cp:revision>16</cp:revision>
  <dc:subject/>
  <dc:title>No Slide Title</dc:title>
</cp:coreProperties>
</file>