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631-0124-4DFB-A643-862E7C21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606-5C1E-45F4-9425-893A1675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0D0-DFCE-48C6-877D-E7AA51FF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A93-4410-4466-8450-B6AD6396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4EC-0AA2-4F1E-B265-6C35A4C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1DF-AE68-40F7-A3C9-4BFF2395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315-6315-4F2B-8C1C-73C2DDA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BCA-8DDC-40E1-94EF-27C5B9A5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852-22CD-4507-8E25-8D3984E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33F-1D9C-4737-891A-13D1B28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A26-C0C9-42DA-BD13-8E21FB3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060-C237-49C3-ABC3-D9CDCD9D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F69DA7-EE22-4F2A-B80E-72BF87C6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real, Quebe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454-6E21-4E95-84ED-D3559D720B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0574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8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2B2-5E77-48A5-99B2-A74AB44587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for TGd was approved at NeSCom in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B4F-9080-43AA-ADAB-D07349E0A8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99/159 FH Hop sequences for new regulator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: 98/22 FH Sequences for Australia, Israel, Canada outdoors (will be revised to include band lim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37F-4406-4020-8993-F325DECCC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rodane</cp:lastModifiedBy>
  <cp:lastPrinted>1999-07-15T08:39:25Z</cp:lastPrinted>
  <dcterms:modified xsi:type="dcterms:W3CDTF">1999-07-15T08:39:55Z</dcterms:modified>
  <cp:revision>7</cp:revision>
  <dc:subject/>
  <dc:title>TGd Agenda</dc:title>
</cp:coreProperties>
</file>