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5A57-3B71-444C-9C14-856FC2AA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C9B8-9687-48DC-82BC-10041E52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3F07-B56E-4654-8F6A-1F08EE67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A820-C272-473E-8883-20D84194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8AD0-74D6-48FE-845A-249F0410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1ACE-60BD-49FA-88B4-07D20968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80F-C353-4247-BA53-966E7C83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9A80-8C9F-49C1-A47F-9EB87556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B4CF-DF61-49F8-99AD-08B6DEE7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994-0B78-4E32-9886-13677B84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296E-B6F6-4A1A-84CC-187FB527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D25C-537A-4E9F-9750-3FA3A71A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4886480-2650-4773-AFDB-A25487C54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000" y="644688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Gd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d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y 1999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real, Quebec,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F6D4-FAC6-4D0E-86F1-7F5EA6015E3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o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th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for Sub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sub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205740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esday 8:30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91E3-0809-4DA4-B0C1-5DD32C876F5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 for TGd was approved at NeSCom in J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B674-DCF8-4179-8B89-48226EF760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n Kawaguchi: 99/159 FH Hop sequences for new regulatory doma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ftali Chayat: 98/22 FH Sequences for Australia, Israel, Canada outdoors (will be revised to include band limi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ADB7-790B-46EA-BA62-24B39770C2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 for 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n Kawaguchi: Algorithmic determination of hop 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n Kawaguchi/Naftali Chayat: International Mo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win Engwer: Algorithmic determination of hop 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C1BF-D57E-42D7-A6A7-05E2814757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 for Next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Methods to begin to converge to a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bout 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FB58-BCD3-4529-B689-20E4402C85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rodane</cp:lastModifiedBy>
  <cp:lastPrinted>1999-07-15T08:43:17Z</cp:lastPrinted>
  <dcterms:modified xsi:type="dcterms:W3CDTF">1999-07-15T08:43:51Z</dcterms:modified>
  <cp:revision>7</cp:revision>
  <dc:subject/>
  <dc:title>TGd Agenda</dc:title>
</cp:coreProperties>
</file>