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367-8EB5-453D-B96B-28C5E2C4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DC2-6D14-4CC6-AD85-0A5222A0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B2E-1C80-4251-B33D-36C607AD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AB4-E772-4BF6-85EF-D5DD2C42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385-5152-4851-A0E0-C76AE807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64B-2881-424F-80DB-E8BDB01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4F2-BDC1-4531-B15A-586355D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9D9-EF99-47D5-BF89-8CB667F0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169-C8A6-4AFF-8356-300E73B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382-70C7-4496-A434-5D9081DE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609-1259-4EE3-9577-29CC3A2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1E6-680A-45CA-B49A-FA4DFD5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5461C1-CFA2-41A7-A551-C22D4A2DD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on RF Lighting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ised Proposal on In Band Emissions for RF Lights in 2.45 GHz ISM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C86-116A-4997-8C3B-3D05D4300B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New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RF Lights to use low (relatively) ripple DC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es magnetron operat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Fusion demonstrates that lights eqipeed in this manner can comply with new proposed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BW of stabilized magnetron is &lt;1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imit restricts hi power to 2460 - 248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 of band limited to 10 mV/m @ 3m (av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average power of -15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06E-3769-409F-AAD6-CCFB0A3CA9C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FE4-E9D9-44BF-9A41-7B13921DF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by public without special preca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 microwave o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occupational limit is 1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at 20 cm from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point source approximation, de facto limit can be estim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 = 20 cm, surface of sp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=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P of unrestricted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RP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1 mW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5 Wat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85D-2A88-4D12-A319-490DC3D7B1C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adiate at much highe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ccess must be ba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imit applies (1 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rray of lights on a 12 meter m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include stadium lights, parking lo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wer is equipped with ladder, access is barred with a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no one can come within 10 meters of 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of sphere with 10 m radius is 12.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able EIRP is 12.5 kW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A2E-20C4-425D-9AE4-3DE0B20D2AE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roposal (Ja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5880" y="2544840"/>
          <a:ext cx="794088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544840"/>
                    <a:ext cx="794088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AC7-3B27-4753-9725-7BB69D31C3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Proposal (Mar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0960" y="1573200"/>
          <a:ext cx="801072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573200"/>
                    <a:ext cx="801072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A20-36D0-48BE-BF76-EF2D8DAEE87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4400" y="1854360"/>
            <a:ext cx="102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0960" y="2895480"/>
            <a:ext cx="94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5720" y="3963960"/>
            <a:ext cx="49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34240" y="4513320"/>
            <a:ext cx="580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u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4360" y="5305320"/>
            <a:ext cx="5083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C52-26E9-48F0-A939-3E231602F38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rons Sweep in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1600200"/>
          <a:ext cx="784692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8469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B38-759B-4A32-ABE3-B175F063EC9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 Ripple Power is Worst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51000" y="1741320"/>
          <a:ext cx="61675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4132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95280" y="4038480"/>
          <a:ext cx="616752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03848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724480" y="3489480"/>
            <a:ext cx="35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8520" y="5943600"/>
            <a:ext cx="351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5D8-0539-44D3-9368-7A2424EE6C2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7-15T08:29:54Z</cp:lastPrinted>
  <dcterms:modified xsi:type="dcterms:W3CDTF">1999-07-15T08:30:33Z</dcterms:modified>
  <cp:revision>10</cp:revision>
  <dc:subject/>
  <dc:title>No Slide Title</dc:title>
</cp:coreProperties>
</file>