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C6A6-7D21-4A1C-A7A3-E82558A05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CD99-3164-4BFB-8EB1-A534D60B8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427D-9FE5-4544-8641-BDBF9788A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F7D5-4FAB-4D82-ACBE-4AA07F5494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E9F3-8749-43D4-A5B8-9227FBF56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93D2-4FC0-4AD5-87E5-C2D5F82BC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EC43-3DBC-4568-8CC7-EC64BC07C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7A5D-3C05-4CBE-A7B3-7B680D3AD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E6D1-2F50-4DA9-A2D3-9E63808BA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794F-7E85-4B64-896A-32437886C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EA50-EE37-4D08-8A02-4947B5E5F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95D0-B184-4B83-BC61-62D44EDE2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7175E1-C6B0-4BBE-9920-4BB2CADE5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8280" y="6438960"/>
            <a:ext cx="195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Zyren, Al Petrick,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6680" y="1847880"/>
            <a:ext cx="6069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 99-149 Study Group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FH - Jim Zy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 Processing Gain - Al Pet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000B-127C-4313-9B3A-252935BC42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C5A6-54C3-44C8-AECC-789E3C8449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E39B-3C72-41F4-8663-D9D12856FD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3520" y="1143000"/>
          <a:ext cx="8254800" cy="79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254800" cy="79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0040" y="609480"/>
            <a:ext cx="59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Evening WBFH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4EAE-6DF3-44D4-9280-B61F37CE9D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y group to draft a letter on behalf of 802.11 in opposition of WBFH as defined in NPRM 99-231. This document after approval of 802.11 plenary will be forwarded to ExCom for approval for release to the F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D190-73D2-47D6-B7A5-692B8AC302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685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DD76-31EA-4EE5-B90D-C0A00F7156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80880" y="1219320"/>
          <a:ext cx="8229600" cy="853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229600" cy="85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55640" y="682560"/>
            <a:ext cx="660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uesday Evening DS Processing Gain Summ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0F68-2152-4257-A360-896D48ED6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plenary adopts the recommendation as stated in the summary on slide 7 of doc 99/16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ECE9-15CA-47A4-BCE4-F724F81774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Jim Zyren, Al Petrick</dc:creator>
  <dc:description/>
  <dc:language>en-US</dc:language>
  <cp:lastModifiedBy>Al Petrick</cp:lastModifiedBy>
  <dcterms:modified xsi:type="dcterms:W3CDTF">1999-07-08T13:47:17Z</dcterms:modified>
  <cp:revision>41</cp:revision>
  <dc:subject/>
  <dc:title>No Slide Title</dc:title>
</cp:coreProperties>
</file>