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BC3A-B57C-4A12-B069-301C66B11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C9A2-8D71-45A9-8F55-028761F4B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A53B-0F47-4F06-B42F-49B7F64D7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04E9-C69B-4632-93F0-877EC6CAF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7AEB-D145-4C6D-82A9-D9CBD8B38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CA00-E409-44F7-A63B-55B870CCA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0A79-214B-4E26-B883-06320F831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BA21-E17B-4DF8-AE43-23BCF5652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D1EE-D051-403C-AB79-A98BC6E4D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00CA-989C-464A-842B-DA537ABAE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2EF6-2A45-4978-B4CB-5F07AEE18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97BA-B5A2-4302-B6B7-5E59A4CF6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BDF23F-B532-480F-AFDC-BAD26391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0800" y="64389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Al Petrick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C644-A2BD-4A12-9EF5-DD0216D223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1BEE-89A2-47AD-9CFE-5E6DD0ED3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EC51-4D85-43F0-967E-1F0ACFC32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E735-9019-48C6-A2EE-89203809D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E5A9-5DC9-47E7-806A-422F61C2BE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Al Petrick</cp:lastModifiedBy>
  <dcterms:modified xsi:type="dcterms:W3CDTF">1999-07-07T21:08:22Z</dcterms:modified>
  <cp:revision>19</cp:revision>
  <dc:subject/>
  <dc:title>No Slide Title</dc:title>
</cp:coreProperties>
</file>