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892-A561-4807-A7AF-E9D6CF51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E3E-FCE3-499C-9E94-073CFAB7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B54-6EF1-42C4-A527-816129F6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14A-2A0E-47E7-BEC4-AB3A58BD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42D-1462-47BE-8FDC-AC93AF7F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698-E0E5-441C-B603-4880BFC2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BC1-2178-4D0B-BB80-C79A42A0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4B1-C321-4C73-BC25-9D12A2FD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6A4-7B34-47F5-BBF4-667CBA27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345-305A-4582-B53D-D42B4648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5B9-D7F2-4E8D-A9F2-EF6AFA8D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A1B-6E31-4407-ACF0-CEFA8B7F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EF6A7B4-62C0-477D-948E-24796CFD4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ellation Bit Encodings for IEEE 802.11 OFDM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Ward in Cooperation with Symbol Technologi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E1D-069B-4C82-BC74-C5AD89C6B01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tribution provides the OFDM Constellations as per IEEE Standards conventional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echnical content change i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E5C-10F9-4BE7-811B-220FA209F8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nd Q mappings to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existing Tables 81, 82, 83,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 integer locations without power norm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y Code Map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hang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nsmitted earlier in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N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rve same normalizations for unity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SK,QPSK and Pilot 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 Q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05520" y="4800600"/>
                <a:ext cx="45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63800" y="5105520"/>
                <a:ext cx="520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859120" y="5410080"/>
                <a:ext cx="531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437-35A5-4CD7-A55E-4BFAF2C87C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PSK,QPSK and 16 QAM Constellation Enc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SK and Pi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5533920" cy="83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5540400" cy="839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5540400" cy="136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F0D-9522-494B-8506-92A19B5983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4 QAM Constellation Enc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20800" y="2236680"/>
            <a:ext cx="5702400" cy="23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0A1-3AB6-4F13-ADFB-CEBF0F5B88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y Bit Encoding with constellation encoding diagrams provided in this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in 17.3.5.7, the reference to the necessary power normalization factors (as was in earlier drafts) included in a separate para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s IEEE Standard conventions for bit encoding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storage of bit encoding tables (since @ integer lo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s bit encoding and power normaliz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90F-C5D3-4974-B1BC-B5499EA632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text cla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nstellation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ach constellation, symbols are located at integer points, within the following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SK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(1,1) and (-1,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PSK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QAM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 QAM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d I and Q values are normalized by power scaling to achieve unity average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he clause on 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7A0-D87C-46C6-9F4B-798B67EBE2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1999-03-10T15:02:39Z</dcterms:modified>
  <cp:revision>28</cp:revision>
  <dc:subject/>
  <dc:title>No Slide Title</dc:title>
</cp:coreProperties>
</file>