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98D1-16B9-48F7-BB1B-CEA7048E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12F6-C0A2-4547-91F4-7E7671D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941D-4CEB-4122-A23C-FD4FC5A0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4785-5521-44C8-AEF9-7465C7EF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B6E2-CC63-472E-AE88-C14F3BF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D5CF-E26F-4A05-9CC1-FDC0A04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0005-2272-40A7-A1C5-4414CAA7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7E04-EFEE-4D68-9144-EA1B268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DFCA-E0A5-44E5-BB75-D3F7BD3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320B-EF3C-4DA4-A72D-61F3BAC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2DB4-187A-448F-873D-968D902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3ED0-09D7-49A1-81EF-24F273CA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9864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E22E51-3B2C-4BC9-B318-632D075B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584676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2.4 GHz High Rate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tele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9,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8DD0-944E-4290-AE81-400ACBE239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isting draft has an approval rate of 94% at the working group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expecting approval at 802.11 to submit the draft for sponso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F88A-EF96-4092-8CA7-1617864CB0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t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has been approved by the FCC with the CCK 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in the current draft standard is an optional modulation, PBC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same modulation that was presented to the FCC in Nov, 9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26E0-2A3B-45AF-BBB4-034C26889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uses 64-ary (nearly) orthogonal keying using a complementary cod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mensionality of the CCK codes requires 16 chips per symbol to descri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83B1-3BFD-4C61-B7E2-888FD100E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allows the use of a fast walsh transform for the correlator in the demodulator greatly simplifying the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modulation code words possess an underlying structure which can be exploited by a symbol-decision-based equalizer.  This allows the equalizer to operate at low SNR condi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60C7-7283-453E-B1FB-3E87F63B75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9-03-09T05:35:00Z</cp:lastPrinted>
  <dcterms:modified xsi:type="dcterms:W3CDTF">1999-03-09T15:02:58Z</dcterms:modified>
  <cp:revision>53</cp:revision>
  <dc:subject/>
  <dc:title>Document 98/116</dc:title>
</cp:coreProperties>
</file>