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447153-1FDD-44ED-B8F2-42FD34686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1665B4-B5E7-48FB-94F0-49AF9037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3578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improve the  preamble detection probability and time acquisition accuracy we propose to use the structure of the A-field as depicted in this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length of the A-field is not changed by the alternative structure (still 96 samples in tot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A-field consists of 6 repetitive short OFDM symb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samples of the last short symbol are phase-shifted by 180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Several advantages are achieved with this structur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granularity of the short symbols is higher, which leads to a larger AC wind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 shorter AC delay allows the detection of larger frequency offs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For CC the structure allows correlation over 16- or 32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proposal is almost identical to current IEEE proposal which is advantageous for harm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Overall this  provides more flexibility and better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show the improved acquisition reliability we want to consider the synchronisation using auto-correlation (A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received signal is delayed by the correlation delay 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njugate complex samples of the delayed version are multiplied with the received samples. The products are feed into the moving average of window size W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and are then post-processed for a threshold detection and/or maximum search to find the correct tim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correlation result at the peak position can be used to estimate the frequency off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maximum detectable frequency offset is different for both structures, the current WA has a detection range of 208kHz, the new proposal can detect up to 635k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nsidering frequency allocation of H/2 systems (e.g. 5.15G-5.35G) max. frequency offset is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214kHz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(5.35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urrent A-field structure can not be used for Frequency offset detection and coarse frequency synchr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new proposal achieves reliable FO de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A09-640A-4F55-B573-15ACA79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1F9-5E2A-42E4-B453-11B7887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1D8-4CD1-4533-878E-6C401043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026-C973-4405-A50A-2338427C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894-33B0-4CD0-B4A8-0B1ECE9D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009-AB77-432D-A8A9-9B5974D4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3E2-E1B5-4349-96E3-772F2F1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B3B-D5C6-4888-A759-F1B43E5E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F30-10A6-44A9-81BF-20276373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B9F-7369-47C5-912E-10C1F42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174-1D61-4AD8-A1EC-CCCE337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310-666C-4DB4-B823-19F3571F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A85A7E-E1FB-4245-9DAE-8218A6F4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IPERLAN-2 PH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CA4-8CF3-496C-95A1-0BC56C2B2C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ambl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9A2-2426-4DD8-A766-897AA4AE43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286000"/>
          <a:ext cx="85345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534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9640" y="1752480"/>
            <a:ext cx="8001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mplified HIPERLAN-2 MAC-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7A4-6EF4-48DA-B04B-2299AD0E72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fferent preambles for HIPERLAN-2 due to the centralised DLC protocol applied to HIPERLA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-Frame (for BC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rt symbols for AGC setting, (coarse) frequency acquisition as well as timing acquisition and long symbols for channel estimation (and fine frequency acquisitio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rrently no need for the IEEE PLCP Header, because the signalling of LENGTH,  PHY mode and SERVICE are performed in the other part of protocol (in FC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including long symbols C64 (T1/T2 in IEEE 802.11a). Not agreed y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for downlink bursts needed? (most likely N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and/or AGC symbol(s) in uplink bur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42C-9DAF-42CD-827D-3CD807FBB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00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-2 preamble structure for BroadCast Channel (BC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95280" y="3048120"/>
          <a:ext cx="73152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73152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520" y="4292640"/>
            <a:ext cx="8001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ly two proposal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ssue will be resolved in  BRAN#13 meeting on April 13-16, in Stockhol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A06-E465-43E4-A484-BC97408697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CCH Prea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815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introduced at the IEEE/BRAN joint meeting in Orlando by Ericsson/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971800"/>
            <a:ext cx="7765560" cy="1218960"/>
            <a:chOff x="762120" y="2971800"/>
            <a:chExt cx="7765560" cy="1218960"/>
          </a:xfrm>
        </p:grpSpPr>
        <p:sp>
          <p:nvSpPr>
            <p:cNvPr id="73" name=""/>
            <p:cNvSpPr/>
            <p:nvPr/>
          </p:nvSpPr>
          <p:spPr>
            <a:xfrm>
              <a:off x="3129120" y="3618000"/>
              <a:ext cx="2611080" cy="57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AGC settling, frequency offset estimation, and time synchron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2120" y="2971800"/>
              <a:ext cx="7765560" cy="1209600"/>
              <a:chOff x="762120" y="2971800"/>
              <a:chExt cx="7765560" cy="12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311840" y="3628800"/>
                <a:ext cx="1587600" cy="55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GC and coarse time synchroniz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9040" y="3498120"/>
                <a:ext cx="22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2120" y="2971800"/>
                <a:ext cx="448920" cy="3164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10680" y="2978280"/>
                <a:ext cx="64548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6440" y="2978280"/>
                <a:ext cx="45540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02200" y="2978280"/>
                <a:ext cx="75852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60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44360" y="2978280"/>
                <a:ext cx="68400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28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35880" y="3505320"/>
                <a:ext cx="27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21720" y="2980080"/>
                <a:ext cx="68364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5808240" y="2978280"/>
                <a:ext cx="2719440" cy="975600"/>
                <a:chOff x="5808240" y="2978280"/>
                <a:chExt cx="2719440" cy="975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71120" y="3585600"/>
                  <a:ext cx="19288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hannel estim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7600" y="3503880"/>
                  <a:ext cx="271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808240" y="2978280"/>
                  <a:ext cx="68400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3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92240" y="2978280"/>
                  <a:ext cx="105336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45960" y="2982240"/>
                  <a:ext cx="97344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" name=""/>
          <p:cNvSpPr/>
          <p:nvPr/>
        </p:nvSpPr>
        <p:spPr>
          <a:xfrm>
            <a:off x="533520" y="4343400"/>
            <a:ext cx="808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proposed by SONY based on 1/4 symbols for A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81080" y="5486400"/>
          <a:ext cx="5562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86400"/>
                    <a:ext cx="5562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95B-660D-4D7D-9741-BFAAF563D8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repetitive symbols of length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pattern is phase-shifted by 180° (sign-bit fl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(SONY claims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synchronization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s excellent False Alarm/Detection Failure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oss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identification of last repetition (CC-peak phase shift) for length 16 cross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CC peak in case of length 32 cross-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commonality to IEEE802.11 pream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C2E-EB1C-457F-A47A-64ECD6B60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quence proposal for A16, sub-carrier mapping, generation same as in IEEE (see [BRAN12.5, HL12.5SON2.a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imize Peak-to-Average-Power-Ratio and dynamic range to improve AGC lock-in speed and reduce nonlinear distor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: PAPR=3dB, Dynamic Range=30.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6 proposal: PAPR=2.2dB, Dynamic Range=7.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3581280"/>
          <a:ext cx="3276720" cy="259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81280"/>
                    <a:ext cx="3276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86200" y="61722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6000"/>
          </a:bodyPr>
          <a:p>
            <a:pPr marL="191880" indent="-191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: Ralf Boehnke (boehnke@sony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518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FDC-AAA4-4536-978A-3374FAA8A0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64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ntent of T1/T2 symbol in 802.11a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ame block size and permutation rule as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data scra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C-frame synchronous scrambler with the generator polynomial used in 802.11a. Only 16 initial states are needed which are defined by the first four bits of BC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olutional code and puncturing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rate-1/2 “mother code” with generator polynomials 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33 and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71 in octal representation as used in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code rate 3/4 the same pattern as 802.11a (2/3 is currently not  used in HIPERLAN-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75A-246E-4288-9F3A-BF06B4F1B0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38:34Z</cp:lastPrinted>
  <dcterms:modified xsi:type="dcterms:W3CDTF">1999-03-31T08:40:03Z</dcterms:modified>
  <cp:revision>16</cp:revision>
  <dc:subject/>
  <dc:title>No Slide Title</dc:title>
</cp:coreProperties>
</file>