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97B29A-3A53-4951-BA94-BC7A4C05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8D6EEC-D7BB-4A61-B7FB-2E39D33B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840-3277-4E01-9AC2-34E15600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C1E-117A-4A88-A649-7A15D67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4A2-A887-43F0-ACFB-00B4A411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940-2B89-41DD-8FB5-F2632C11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615-5547-4681-84FB-8700BEF3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670-6CB5-4268-AC0B-6E9BB887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F08-E369-4FDE-9D46-7164429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F50-388F-4D18-8E15-040D8614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E20-20A0-45B1-86C2-0A5125B0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EC2-162C-47CF-8A3C-6035AAA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2AD-C961-40F1-B834-955CC67A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5A0-A098-4015-A901-3CE994D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877D07-C295-4196-ABB0-8CF0A85D1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10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AC7-A3F8-49C5-9D65-59D0778A89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6 under Addi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hange as follows: A Personal Operating Space (POS) is the space about a pers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Reason: Clarification of i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61C-DFCD-4FC9-8D33-DF7713E376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o approve the WPAN PAR “Rev 9” -98/162r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550-4423-4743-8A57-921495E3DD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hat the 802.11 WLAN Working Group recommends that The Executive Committee of 802 submit the WPAN PAR “Rev 9” -98/162r9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298-2B0B-45B9-899F-0BF353FE4B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WLAN Group recommends that The Executive Committee of 802 establish a new Working Group for Wireless Person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233-9FAC-4FD4-9530-77835EFC9F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B43-03F7-4380-9C9E-0EFE0BA8A73C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A93-B7B6-42CF-958D-E29DB8E4B4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60D-E7DA-478E-833A-559EF57530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497-06AD-4B48-891F-DCD4ADCFD5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ame of WG:  Change from ‘WPAN Study Group’ to ‘Sponsor:  IEEE 802.11 WG for WLAN, Proposed Working Group:  IEEE 802.xx WG for Wireless Personal Area Networks”   Reason: greater c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 Name of Reporter and supporting info from Vic Hayes To Bob Heile.  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D09-8820-47C7-8955-864B70E518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 of WG Chair.  Add Vic Hayes.  Reason: no longer same as Repor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b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hange from Supplement to New Standard. Reason:  reflects change of recommendation from TG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 7 Change from Trial Use to Full Use. Reason: clerical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C1A-95DC-4D0E-89C7-E71D89E272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“[To define derivative versions of the 802.11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have been reviewed to determine their suitability to meet the Functional Requirements of the WPAN Applications as specified in IEEE documents –98/295-298 and –98/352.  Detailed suggestions on proposed changes to the IEEE 802.11 MAC &amp; PHY Standard have been reported in documents –98/322r2, 323, 324.]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62F-C70D-4C77-A34C-2112CA0C2C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[To define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ndard 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en reviewed to determi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itability to meet the Functional Requirements of the WPAN Applications as specified in IEEE documents –98/295-298 and –98/352.  Detailed suggestions on proposed changes to the IEEE 802.11 MAC &amp; PHY Standard have been reported in documents –98/322r2, 323, 324.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: reflects change of recommendation from TG to 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CE6-94DD-4BA1-BCC7-B00327773C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rop word “supplemental”.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following footnote “These groups are not standards organizations, but they have similar charters and the Working Group intends to establish liaisons with these groups as appropriate.” Reason: clarification and i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“[ISO/IEC JTC1/SC6] by [DR]”.  Reason: cleric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D85-3CC2-4939-9839-D991295CCC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dc:language>en-US</dc:language>
  <cp:lastModifiedBy>Ian C. Gifford</cp:lastModifiedBy>
  <cp:lastPrinted>1999-03-08T22:00:07Z</cp:lastPrinted>
  <dcterms:modified xsi:type="dcterms:W3CDTF">1999-03-10T18:54:36Z</dcterms:modified>
  <cp:revision>47</cp:revision>
  <dc:subject>doc.: IEEE 802.11-99/056</dc:subject>
  <dc:title>WPAN SG WG Report</dc:title>
</cp:coreProperties>
</file>