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777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ary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 IEEE P802.11-99/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64785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3944880"/>
                <a:tab algn="r" pos="789156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79E2B6-2028-4935-87A8-9DB8726C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5960" y="647712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5960" y="3808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09480" y="1371600"/>
            <a:ext cx="7925040" cy="133200"/>
            <a:chOff x="609480" y="1371600"/>
            <a:chExt cx="7925040" cy="133200"/>
          </a:xfrm>
        </p:grpSpPr>
        <p:sp>
          <p:nvSpPr>
            <p:cNvPr id="7" name=""/>
            <p:cNvSpPr/>
            <p:nvPr/>
          </p:nvSpPr>
          <p:spPr>
            <a:xfrm>
              <a:off x="609480" y="1371600"/>
              <a:ext cx="7925040" cy="6516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9480" y="1471680"/>
              <a:ext cx="7925040" cy="33120"/>
            </a:xfrm>
            <a:prstGeom prst="rect">
              <a:avLst/>
            </a:prstGeom>
            <a:gradFill rotWithShape="0">
              <a:gsLst>
                <a:gs pos="0">
                  <a:srgbClr val="ad3e7f"/>
                </a:gs>
                <a:gs pos="50000">
                  <a:srgbClr val="f95ab7"/>
                </a:gs>
                <a:gs pos="100000">
                  <a:srgbClr val="ad3e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2104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H Interoperability Option of HR/DSSS PH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uary 12, 199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n Kawaguch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mbol Technologie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45 Hamilton A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n Jose, CA.  95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lephone:  (408)369-26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X:  (408)369-27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:  deank@psd.symbol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 Interoperability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propose an FH PHY backward interoperability mode as an option for the Harris HS propo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oposal does not modify the basic modulation format, but it assumes the addition of the HS preamble; wraps around the Harris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fundamental changes required for FH interoperability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hopping of the wideband DS signal synchronized to the FH hop sequ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using the FH preamble in front of the HS preambl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ward Interoperability to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a significant volume of 802.11 interoperable FH radios being sold today by a number of manufactur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/DS/FH will enable FH users to migrate to HR/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s can maintain investments in low cost FH appliances while also adding rate scaling capability using HR/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brings together the previously distinct FH and DS cam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station which can support the HR/DS/FH will also be required to support the basic HR/DSSS, HR/DSSS/short, and by inference legacy DSSS and FH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 centered initiatives coming out with new FH 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RF is based on the 802.11 FH; considering using whatever mechanisms we develop here to provide higher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existence to basic HR/DSSS and DSSS can be improved by additional CCA requirements on HR/DS/FH un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wideband energy detect with timeout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ull bandwidth correlation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 in Interference Limi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’s experiences in the 900 MHz band since 1990 have sh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frequency systems will fail in the presence of fixed freq inter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ing channels is slow and often does not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proprietary 900 MHz DS system has evolved into a hopping DS system to provide reliable connection in the presence of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2.4 GHz band may eventually be worse than the 900 MHz band since it is the only unlicensed band available worldw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non-802.11 systems in this band are already and will continue to be a significant portion of the usage of this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ping of the wideband HS signal will provide protection against a variety of fixed frequency and hopping interfer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 last line of defense, backing down to 1/2 Mbps FH with 79 1 MHz channels will provide the best chance of operating through inter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were some limitations that were pointed out in my original presentation in March 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efficient use of the band would be achieved by frequency planning in a cellular arrangement such as used by 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that requires exclusive use of the band which cannot be guaranteed in the unlicensed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trades off the efficiency of the cell planning approach for the reliability of frequency hopping and the flexibility of scaling down to a 1 MHz narrow FH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interoperability with the DS PHY necessitates turning off the hopping feature since hopping is not part of existing DS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ddition, we recognize that the FH/DS cross CCA issues must be resolved because this option uses both mo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de specific recommendations in the letter ballot 16 comments to add the cross mode CCA requirements to resolve this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: Work Toward Consen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March 1998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 and DS interoperability was part of the comparis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 and Harris presented proposal for FH interoperability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cent and Micrilor unilaterally accepted same method for in their proposal to provide FH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Today (January 1999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H interoperability mechanisms have been refined and clarified over the past year but remain essentiall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have 77% approval of the draft and r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out of 9 NO-FH votes are from Lucent saying that there are some problems with it so throw i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s:  Build on our hard earned progress rather than destroying 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limitations to what this mode can do as we pointed out from the beginning, but it fills a need that goes unanswered without this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6:01:10Z</dcterms:created>
  <dc:creator>DeanK</dc:creator>
  <dc:description/>
  <dc:language>en-US</dc:language>
  <cp:lastModifiedBy>Dean Kawaguchi</cp:lastModifiedBy>
  <cp:lastPrinted>2009-04-22T19:24:48Z</cp:lastPrinted>
  <dcterms:modified xsi:type="dcterms:W3CDTF">1999-01-12T14:19:39Z</dcterms:modified>
  <cp:revision>19</cp:revision>
  <dc:subject/>
  <dc:title>IEEE 802.11 Wireless Access Method and Physical Specification</dc:title>
</cp:coreProperties>
</file>