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E2A-0027-48C2-8886-9F9B5AF5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B9A-ECF7-4F33-9C46-E3068B25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CC0-3182-488A-8130-50476081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6CBB-C1AE-486D-AB4C-7C7F8C18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3CC-CCEB-49E2-9597-25D36A37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80A2-467D-4E04-83C2-5D710ADB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9ED-9758-4D40-9E32-37B82591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B0E3-5D66-4B4B-B7D8-09B7B30C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A8B-4447-4BAB-BBEE-474C395D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B17-8A22-449D-A0F7-D7C6B60B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2EE-3182-40FB-A351-EA2A103E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82E0-D3F9-4234-9B34-EAB45BE9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F880417-8E60-4617-8E0E-E4940B29A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0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a - High Speed PHY in the 5 GHz band PHY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ftali Chayat, 802.11 TGa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ezeCOM Ltd., ISRA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304-6872-4A09-B902-64610ED0BD3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ambl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ne repetitions of short sequence in the begi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Detection, AGC convergence, Diversity resolution, Timing estimation, Coarse frequency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repetitions of long sequence with Guard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 frequency estimation, Channel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868680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060E-6B95-4878-B2C1-DF94B55C599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nelization in 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6840" y="1447920"/>
            <a:ext cx="831996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FA6-0B3D-48A8-BA6E-943ABACC22E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tral Mask Requi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sk determines worst case 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ed to pass local regulatory requirements is explicitly men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7315200" cy="335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A2C-C4AA-417D-9DF5-90C72FB0B35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ination with other Standards Committ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 TGa cooperates with the European ETSI BRAN (Broadband Radio Access Networks) and with Japanese MMAC (Mobile Multimedia Advisory Council) to achieve commonality in PHY spec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AC Wireless Ethernet group will adopt 802.11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AC Wireless ATM group and BRAN agreed on basic parameters (52 subcarrier OFDM, channel spacing), but adapt some details such as preamble structure and rate signaling to their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7D9-B885-479F-BBB4-C1B71C78AFC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802.1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ized a standard for Wireless LANs in the 2.4 GHz ISM band in July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MAC, three PHYs: FHSS, DSSS, 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less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the group works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speed PHY in the 5 GHz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speed PHY in the 2.4 GHz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PAN (Personal Area Network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365-BBF0-416E-A57C-57EDB42EF85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TGa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Group a formed in July 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tion selected in July 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finalized in Nov 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letter ballot issued Nov 98, processed Jan 99, 82% support after 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nfirmation ballot issued Jan 99, to be processed in March 99, initially 92%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9A5A-03B3-4A42-8315-B509FC97A7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a - 5 GHz High Speed PHY Presentation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DM 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C, Modulations, Preamble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neliz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tral mask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cooperation with other standards bodies (BRAN, MM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964-CAEF-46A5-AC78-F38397C825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 MHz channel spa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.6 MHz signal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data rates-  6 to 54 Mbit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of 6, 12 and 24 Mbit/s rates is mand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DM mod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PSK, QPSK, 16QAM or 64QAM on each subcar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lot assisted coherent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multirate mechanis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5E1-B779-4CE0-BB16-BE10CC6263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DM Fram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er spacing is 312.5 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transform performed over 3.2 microsec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8 microsecond Guard Interval for ISI re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438280" y="4038480"/>
          <a:ext cx="431964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038480"/>
                    <a:ext cx="431964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798D-8161-46CB-AC88-897D3BA67F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nd Pilot subcarr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 non zero sub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 data sub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carrier pilot sub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er frequency subcarrier not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kage in quadrature modulators may corrupt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09480" y="3885840"/>
            <a:ext cx="8153640" cy="2590920"/>
            <a:chOff x="609480" y="3885840"/>
            <a:chExt cx="8153640" cy="2590920"/>
          </a:xfrm>
        </p:grpSpPr>
        <p:sp>
          <p:nvSpPr>
            <p:cNvPr id="62" name=""/>
            <p:cNvSpPr/>
            <p:nvPr/>
          </p:nvSpPr>
          <p:spPr>
            <a:xfrm>
              <a:off x="8953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386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815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244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677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10640" y="4647960"/>
              <a:ext cx="0" cy="121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535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68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397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826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59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688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121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550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80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12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842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271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704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13320" y="4647960"/>
              <a:ext cx="0" cy="121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62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995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424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853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286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715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14840" y="5715000"/>
              <a:ext cx="0" cy="152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577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006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439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868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298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730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16000" y="4647960"/>
              <a:ext cx="0" cy="121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589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022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451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880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313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42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175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604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033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466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895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324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757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18680" y="4647960"/>
              <a:ext cx="0" cy="121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616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048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478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907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340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9480" y="5867280"/>
              <a:ext cx="81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614840" y="388584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17D4-E5B8-4B45-802A-AA5EED6FB1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ror Correction 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C is a must - some subcarriers may f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 Interleaved Convolutional Coding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robust that trellis in Rayleigh f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 standard K=7, R=1/2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coding rates (2/3, 3/4) derived by pun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il zero bits added to message (trellis termin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leaver spans one OFDM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cy and complexity consid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B2CF-5AF9-4049-9566-B9001D26895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orted Rates and Modu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ion of the data subcarriers by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SK, QPSK, 16QAM or 64Q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 2, 4, or 6 bits/subcarrier, corresponding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Msubcarriers/sec (48 subcarriers each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-1752480" y="1752480"/>
          <a:ext cx="12877560" cy="26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52480" y="1752480"/>
                    <a:ext cx="1287756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520-6DF4-4870-8BF9-BE21657F696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23:36:41Z</dcterms:created>
  <dc:creator>Naftali Chayat</dc:creator>
  <dc:description/>
  <dc:language>en-US</dc:language>
  <cp:lastModifiedBy>vichayes</cp:lastModifiedBy>
  <cp:lastPrinted>1999-03-09T05:40:21Z</cp:lastPrinted>
  <dcterms:modified xsi:type="dcterms:W3CDTF">1999-03-09T05:41:07Z</dcterms:modified>
  <cp:revision>10</cp:revision>
  <dc:subject/>
  <dc:title>No Slide Title</dc:title>
</cp:coreProperties>
</file>