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BA2CBE-5A72-45B4-A435-E8F2310C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2100B9-230F-495A-9816-DE9153584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796-84F6-41F6-A739-F155F15D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6B9-4042-4D6F-8822-2079EF05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404-5204-4359-B683-C73D1DAC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38E-BF40-42B2-BDFE-76A5D3EB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5D8-0288-46E5-A837-D1B63A5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502-13BD-4950-91B0-D8D81F6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5DD-13EE-4970-AA3D-BB5D5BA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479-6E6F-4460-B1AC-40622D8F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A78-2F5C-4E99-BED0-205E3437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CC8-72B1-4436-94A0-CFE357D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A48-3152-4E6F-ACB0-C6BCF40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C4E-4E08-4138-8617-952CE1D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FDA9E1-21E8-4C76-B9D4-754B0104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0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811-2BA3-49D1-9CB2-4D36C68A66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G and the WPAN S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need for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that there is a strong market demand for a consumer-cost, low pow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a PAR to accomplish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importance of Coexistence and the need for etiquette  in the use of a shared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venue to best create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B8A-3A62-435C-A1EF-B57ED268F9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Relat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4 Companies Participa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-Jun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F/Firefly--  ~84 Compani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Dec 98/Dec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SG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 Companies Particip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tandard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c, Motorola, Butterfly, Kod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5B9-9430-4BE6-91FF-E0E6FF6024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PAN Standard that does not involve Bluetooth as a participant will have a tough time gaining market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dependent efforts will aggravate coexistence and interferenc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E54-E193-47BB-A8B0-55F90C7B87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atives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that can attract members who feel they have equal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get active participation from Members of Bluetooth, HomeRF/Firefly, 802.11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which can take a fresh look, evaluate different proposals and find compromise solutions that address broad market applicability as well as technical me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is of the essence--1-2year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BBE-938F-480B-A8AB-D23205D026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 as a 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 of one MAC per WG eliminates a large class of potential solutions for developing a WPAN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erception that 802.11 has invested interests and will block non .11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G it is harder for non .11 participants to feel that they have equal standing, assuming they can be attract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ursue direct liaison with important outside interests/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899-2499-486B-BF55-83387FDD81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tages of a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tature required to work more effectively with significant exter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ct as the agent of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freedom of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urpose promotes speed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7AD-7C58-4F3F-9687-93C22A9286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ly urge the SEC to pass a motion to form a WPAN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effective compromise solutions is imperative to shared use, interoperability, success and accep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ption of balance needs to be as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is not whether a lite version of .11 can do the job, more important is market acceptance of a standard that does the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B03-62B1-4214-A6C9-B2CCB0F7DC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March 1999</cp:keywords>
  <dc:language>en-US</dc:language>
  <cp:lastModifiedBy>rodane</cp:lastModifiedBy>
  <cp:lastPrinted>1999-03-30T09:54:55Z</cp:lastPrinted>
  <dcterms:modified xsi:type="dcterms:W3CDTF">1999-03-30T09:55:51Z</dcterms:modified>
  <cp:revision>8</cp:revision>
  <dc:subject>WPAN SG ExCom Report</dc:subject>
  <dc:title>doc.: IEEE 802.11-98/58</dc:title>
</cp:coreProperties>
</file>