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6C027C9-CE59-46EA-B4E9-ECE6AEEE0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5348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520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19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A4DC48-0848-4270-BFDA-AE47BC313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290600" y="771480"/>
            <a:ext cx="4287960" cy="321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3BE-CA03-4431-AA06-5E37498C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D39-FBC7-4DAB-8433-45E58B28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3F7-D3A6-4B77-92DF-EFEC5A22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7F9-BE35-42F1-B2AC-E5E62553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60D-2E5C-46B1-A6E9-A5E24E36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1DD-5432-47DF-A202-62D8847F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693-7A7A-4236-B09A-BA9BD6DB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0A4-36F4-43C2-9A7C-318A25BB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A9D-C93E-402E-82D0-2DD02EF5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03A-FB43-4306-801B-167065AA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3BD-842F-4A38-8B01-1CF85358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AB3-4D16-4DEF-9146-4FA73BB3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7589CE6-7815-4F4F-B65A-DE589227A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0/0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inkage of RF Generation and Time-base Cloc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386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amshid Khun-J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ricsson Eurolab - Nürn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-ordinator of HIPERLAN-2 Standard Area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hair of Physical Layer Technical Specificatio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5EA-1DDA-4350-9704-7422B15B3D3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on-linked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st case drift between carrier frequency source and timing clock 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0 p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lerable phase shift for 16Q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4*17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+ 8*22,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+ 4*4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/16 = 26.7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lerable time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t the numbering of subcarriers be from -32 to 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sampling time shift (50 ns) corresponds to 26/32*18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hase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6.7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lerable phase shift results in a tolerable time shift (50ns*26.7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*32)/(26*18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= 9.15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ximum burst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9.15ns/40ppm = 229 us corresponding to 57 OFDM 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ctr">
              <a:lnSpc>
                <a:spcPct val="89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t is too sho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nd necessitates the use a (very) fast closed loop for tracking of symbol ti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849-ADA8-4485-8B0E-EAF2CA1989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Linked Sou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uming a frequency acquisition accuracy in the order 2% of sub-carrier sp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th a max. frequency error 20ppm*5GHz, the 2%*(20MHz/64) frequency error after fine frequency acquisition correspond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1.25 ppm frequency error which allows a much longer max. burst length and makes the use of a very slow closed loop for tracking of symbol timing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Times New Roman"/>
              </a:rPr>
              <a:t>Conclusion: The linkage of clocks enables a reduced complexity receiver imple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998-1762-4DF8-A31C-D80FB79E9C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rodane</cp:lastModifiedBy>
  <cp:lastPrinted>1999-03-31T08:42:42Z</cp:lastPrinted>
  <dcterms:modified xsi:type="dcterms:W3CDTF">1999-03-31T08:43:38Z</dcterms:modified>
  <cp:revision>14</cp:revision>
  <dc:subject/>
  <dc:title>No Slide Title</dc:title>
</cp:coreProperties>
</file>