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760-0700-463E-B8FC-8B81AEAE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9FB-2C9D-47DC-9864-37FD5CED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7D7-5E12-4E2D-9C7F-9B5E0CD2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34A1-7D83-450E-9086-1E38A2BA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8577-32CF-403F-BCF8-8C7E17EB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567-860C-44AB-8E46-FA26D6A4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BFF-219A-486A-B741-5ED97876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DD1-23CD-4BDB-9BFB-63A04ADE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ECE-87B7-44EE-AE2F-6063C9AB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F44-22E7-46DA-AB54-75816A69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AA9-EF3D-4C08-B376-D640F5EB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9B0-097D-4BE3-BFBE-AB1E4123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797959-4EFB-480D-8440-1DFA752CA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9/1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pathy Cards and Don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ory of Valerie Zele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ympathy Cards can be sent Valerie’s Mom addres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ie Zelen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22 New Market R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nellen, NJ  088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nations, checks sent in memory of Valerie Zelenty t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ch of Dimes Birth Defects Found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Jersey Chap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10 East Park Boulev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anbury, NJ  085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7EA-CBC8-4774-B7E5-1C4E9F5D0C0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 Petrick</cp:lastModifiedBy>
  <dcterms:modified xsi:type="dcterms:W3CDTF">1999-05-07T00:51:59Z</dcterms:modified>
  <cp:revision>6</cp:revision>
  <dc:subject/>
  <dc:title>Sympathy Cards and Donations</dc:title>
</cp:coreProperties>
</file>