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CB0-C6C4-4D6F-91A0-5D82306A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1B2-B641-4B14-974D-22BFA9B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FAA-D695-430F-AFE0-45C62CA8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1B5-4FE6-491E-9DAC-D9968688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13E-133B-4081-85DB-B82C949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EB7-C081-4628-A03B-ED50D982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57F-ED14-4AD7-93AC-BF09E75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FD9-C1B1-446B-87EA-83E74556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BDB-CC4A-4E97-B19C-A613443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C81-25EF-470E-9A1A-28D30BB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683-1982-4C0B-9EEA-C4100CE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DFF-3F65-40A2-A938-39FC19D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11826A-DF82-4E78-BE83-F00938E7B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long training symbol pha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9800" y="3352680"/>
            <a:ext cx="5607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hiro Morikura  and 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:+81-468-59-3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x:+81-468-55-1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78F-FC61-4F1D-A4F7-7956F9832F6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4280" y="119700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ent on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1400" y="2346480"/>
            <a:ext cx="671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e number; 17.3.3 PLCP preamble (SY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ase relation between short preamble (t1-t10) and long preamble (T1,T2) in draft 5.0 causes degradation in timing detection accuracy. This is because the matched filter output for detecting the short preamble pattern has large side-lobe in boundary region between t10 and T1 when the phase relation in D5.0 is used. This large side-lobe badly affects the timing decision value when multi-path delayed signals are superimpo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D3C-21D5-4723-A6E9-BEB20DB5E2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920" y="3630600"/>
            <a:ext cx="117360" cy="94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5240" y="4267080"/>
            <a:ext cx="121932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920" y="43876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2670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37832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410080" y="4267080"/>
            <a:ext cx="1752840" cy="838080"/>
            <a:chOff x="5410080" y="4267080"/>
            <a:chExt cx="1752840" cy="838080"/>
          </a:xfrm>
        </p:grpSpPr>
        <p:sp>
          <p:nvSpPr>
            <p:cNvPr id="56" name=""/>
            <p:cNvSpPr/>
            <p:nvPr/>
          </p:nvSpPr>
          <p:spPr>
            <a:xfrm>
              <a:off x="5410080" y="4267080"/>
              <a:ext cx="16765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0560" y="43815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37160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724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724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6386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5334120"/>
            <a:ext cx="157644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724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7920" y="563868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43815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8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2860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4988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988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9780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2480" y="2286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92480" y="2666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3856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17800" y="2300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04320" y="22860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65720" y="2286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5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7472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63000" y="310032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3360" y="229536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05120"/>
            <a:ext cx="739152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39840" y="2895480"/>
            <a:ext cx="3164040" cy="592200"/>
            <a:chOff x="3039840" y="2895480"/>
            <a:chExt cx="3164040" cy="592200"/>
          </a:xfrm>
        </p:grpSpPr>
        <p:sp>
          <p:nvSpPr>
            <p:cNvPr id="89" name=""/>
            <p:cNvSpPr/>
            <p:nvPr/>
          </p:nvSpPr>
          <p:spPr>
            <a:xfrm>
              <a:off x="5246640" y="2895480"/>
              <a:ext cx="6984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3164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62560" y="3333600"/>
              <a:ext cx="55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175360" y="2895480"/>
              <a:ext cx="7128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1292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075280" y="3333600"/>
              <a:ext cx="540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0479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98276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93200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418000" y="3416400"/>
              <a:ext cx="25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3560" y="3416400"/>
              <a:ext cx="66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51016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0920" y="3333600"/>
              <a:ext cx="414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602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710320" y="3333600"/>
              <a:ext cx="396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656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49920" y="3333600"/>
              <a:ext cx="257040" cy="146160"/>
              <a:chOff x="5749920" y="3333600"/>
              <a:chExt cx="257040" cy="1461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586764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01400" y="3416400"/>
                <a:ext cx="658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5749920" y="3333600"/>
                <a:ext cx="5184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893560" y="3416400"/>
                <a:ext cx="52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6480" y="3416400"/>
                <a:ext cx="60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616280" y="2895480"/>
              <a:ext cx="315720" cy="584280"/>
              <a:chOff x="4616280" y="2895480"/>
              <a:chExt cx="315720" cy="5842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1628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687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3364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7883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1392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87980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61117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872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060600" y="3416400"/>
              <a:ext cx="507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999040" y="3416400"/>
              <a:ext cx="61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669840" y="2895480"/>
              <a:ext cx="630360" cy="584280"/>
              <a:chOff x="3669840" y="2895480"/>
              <a:chExt cx="630360" cy="58428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391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86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81348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78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72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366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3985200" y="2895480"/>
                <a:ext cx="315000" cy="584280"/>
                <a:chOff x="3985200" y="2895480"/>
                <a:chExt cx="315000" cy="584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8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05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0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15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8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24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4300560" y="2903400"/>
              <a:ext cx="315360" cy="584280"/>
              <a:chOff x="4300560" y="2903400"/>
              <a:chExt cx="315360" cy="58428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4545000" y="290340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98920" y="334188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444560" y="334188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418640" y="342432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52760" y="342432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4300560" y="334188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39840" y="2895480"/>
              <a:ext cx="630360" cy="584280"/>
              <a:chOff x="3039840" y="2895480"/>
              <a:chExt cx="630360" cy="5842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28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23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18312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15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09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03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355200" y="2895480"/>
                <a:ext cx="315000" cy="584280"/>
                <a:chOff x="3355200" y="2895480"/>
                <a:chExt cx="315000" cy="58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35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42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47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52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1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524664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21360" y="2898720"/>
            <a:ext cx="20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602400" y="3436560"/>
            <a:ext cx="184320" cy="75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2895480"/>
            <a:ext cx="457200" cy="38736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0" y="4"/>
                </a:moveTo>
                <a:cubicBezTo>
                  <a:pt x="32" y="0"/>
                  <a:pt x="64" y="1"/>
                  <a:pt x="96" y="4"/>
                </a:cubicBezTo>
                <a:cubicBezTo>
                  <a:pt x="128" y="7"/>
                  <a:pt x="164" y="7"/>
                  <a:pt x="189" y="22"/>
                </a:cubicBezTo>
                <a:cubicBezTo>
                  <a:pt x="214" y="37"/>
                  <a:pt x="230" y="57"/>
                  <a:pt x="246" y="94"/>
                </a:cubicBezTo>
                <a:cubicBezTo>
                  <a:pt x="262" y="131"/>
                  <a:pt x="279" y="213"/>
                  <a:pt x="288" y="2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C59-A355-4415-8C75-AD8E2A634F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800600" y="1919160"/>
            <a:ext cx="1522440" cy="1300320"/>
            <a:chOff x="4800600" y="1919160"/>
            <a:chExt cx="1522440" cy="1300320"/>
          </a:xfrm>
        </p:grpSpPr>
        <p:sp>
          <p:nvSpPr>
            <p:cNvPr id="162" name=""/>
            <p:cNvSpPr/>
            <p:nvPr/>
          </p:nvSpPr>
          <p:spPr>
            <a:xfrm flipV="1">
              <a:off x="5308560" y="216828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693880"/>
              <a:ext cx="106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1680" y="26668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1480" y="19191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62240" y="2353680"/>
              <a:ext cx="70128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8840" y="2886120"/>
              <a:ext cx="10440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3160" y="2435040"/>
              <a:ext cx="104400" cy="104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79840" y="3836880"/>
            <a:ext cx="18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4260960"/>
            <a:ext cx="548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9880" y="3836880"/>
            <a:ext cx="14112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82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7840" y="3836880"/>
            <a:ext cx="34416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620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0652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5104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556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00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46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2760" y="3827520"/>
            <a:ext cx="12708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61040" y="3827520"/>
            <a:ext cx="118800" cy="42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1000" y="383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021200" y="3836880"/>
            <a:ext cx="3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9560" y="3913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03560" y="3909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2760" y="3905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01960" y="390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1800" y="3897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1000" y="3892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4184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8652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228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0920" y="39132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2080" y="391320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5360" y="16444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05120" y="2052720"/>
            <a:ext cx="1522800" cy="1224000"/>
            <a:chOff x="1905120" y="2052720"/>
            <a:chExt cx="1522800" cy="1224000"/>
          </a:xfrm>
        </p:grpSpPr>
        <p:sp>
          <p:nvSpPr>
            <p:cNvPr id="199" name=""/>
            <p:cNvSpPr/>
            <p:nvPr/>
          </p:nvSpPr>
          <p:spPr>
            <a:xfrm flipV="1">
              <a:off x="2413080" y="222552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751120"/>
              <a:ext cx="10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6560" y="27241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7120" y="20527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67120" y="240984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67120" y="241092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2943360"/>
              <a:ext cx="104760" cy="10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2492280"/>
              <a:ext cx="104760" cy="104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7680" y="2492280"/>
              <a:ext cx="104760" cy="1047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7680" y="2943360"/>
              <a:ext cx="104760" cy="10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338880" y="1928880"/>
            <a:ext cx="1584720" cy="1280520"/>
            <a:chOff x="6338880" y="1928880"/>
            <a:chExt cx="1584720" cy="1280520"/>
          </a:xfrm>
        </p:grpSpPr>
        <p:sp>
          <p:nvSpPr>
            <p:cNvPr id="210" name=""/>
            <p:cNvSpPr/>
            <p:nvPr/>
          </p:nvSpPr>
          <p:spPr>
            <a:xfrm>
              <a:off x="6338880" y="2695320"/>
              <a:ext cx="124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933960" y="2158920"/>
              <a:ext cx="0" cy="10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2240" y="269064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5400" y="19288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640" y="2643120"/>
              <a:ext cx="10476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2644560"/>
              <a:ext cx="104760" cy="104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943600" y="5518080"/>
            <a:ext cx="254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puter search is carried out to find the phase relation that generates low correlation side-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3600" y="38368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803760"/>
            <a:ext cx="75960" cy="45720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05320" y="4481640"/>
            <a:ext cx="3816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43480" y="4826160"/>
            <a:ext cx="2520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68680" y="4826160"/>
            <a:ext cx="3024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65720" y="4481640"/>
            <a:ext cx="3960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341960" y="4826160"/>
            <a:ext cx="2376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11720" y="4826160"/>
            <a:ext cx="302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297320" y="489060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60600" y="489096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232160" y="4825800"/>
            <a:ext cx="28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98920" y="4890600"/>
            <a:ext cx="1440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3320" y="4890960"/>
            <a:ext cx="349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48240" y="4890600"/>
            <a:ext cx="2844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6680" y="4890960"/>
            <a:ext cx="223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99000" y="4827240"/>
            <a:ext cx="302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657680" y="4826160"/>
            <a:ext cx="2232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28880" y="4827240"/>
            <a:ext cx="284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80000" y="4825800"/>
            <a:ext cx="139680" cy="114480"/>
            <a:chOff x="4680000" y="4825800"/>
            <a:chExt cx="139680" cy="114480"/>
          </a:xfrm>
        </p:grpSpPr>
        <p:sp>
          <p:nvSpPr>
            <p:cNvPr id="236" name=""/>
            <p:cNvSpPr/>
            <p:nvPr/>
          </p:nvSpPr>
          <p:spPr>
            <a:xfrm flipH="1" flipV="1">
              <a:off x="4743360" y="4891320"/>
              <a:ext cx="1404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708440" y="4891320"/>
              <a:ext cx="3492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680000" y="4825800"/>
              <a:ext cx="288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757760" y="4891320"/>
              <a:ext cx="2880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6560" y="4891320"/>
              <a:ext cx="331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060800" y="4481640"/>
            <a:ext cx="171360" cy="458640"/>
            <a:chOff x="4060800" y="4481640"/>
            <a:chExt cx="171360" cy="458640"/>
          </a:xfrm>
        </p:grpSpPr>
        <p:sp>
          <p:nvSpPr>
            <p:cNvPr id="242" name=""/>
            <p:cNvSpPr/>
            <p:nvPr/>
          </p:nvSpPr>
          <p:spPr>
            <a:xfrm>
              <a:off x="40608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99320" y="482544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452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154040" y="489060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680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0372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44560" y="4481640"/>
            <a:ext cx="344520" cy="458640"/>
            <a:chOff x="3544560" y="4481640"/>
            <a:chExt cx="344520" cy="458640"/>
          </a:xfrm>
        </p:grpSpPr>
        <p:sp>
          <p:nvSpPr>
            <p:cNvPr id="249" name=""/>
            <p:cNvSpPr/>
            <p:nvPr/>
          </p:nvSpPr>
          <p:spPr>
            <a:xfrm flipH="1">
              <a:off x="367812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65328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62340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60900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7300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54456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17000" y="4481640"/>
              <a:ext cx="172080" cy="458640"/>
              <a:chOff x="3717000" y="4481640"/>
              <a:chExt cx="172080" cy="458640"/>
            </a:xfrm>
          </p:grpSpPr>
          <p:sp>
            <p:nvSpPr>
              <p:cNvPr id="256" name=""/>
              <p:cNvSpPr/>
              <p:nvPr/>
            </p:nvSpPr>
            <p:spPr>
              <a:xfrm>
                <a:off x="371700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75552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8072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381060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2464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86064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3889440" y="4487760"/>
            <a:ext cx="171360" cy="459000"/>
            <a:chOff x="3889440" y="4487760"/>
            <a:chExt cx="171360" cy="459000"/>
          </a:xfrm>
        </p:grpSpPr>
        <p:sp>
          <p:nvSpPr>
            <p:cNvPr id="263" name=""/>
            <p:cNvSpPr/>
            <p:nvPr/>
          </p:nvSpPr>
          <p:spPr>
            <a:xfrm flipH="1">
              <a:off x="4022280" y="448776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3997440" y="483192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67560" y="4832280"/>
              <a:ext cx="295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3953880" y="489672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917880" y="489672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889440" y="4832280"/>
              <a:ext cx="28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00040" y="4481640"/>
            <a:ext cx="344520" cy="458640"/>
            <a:chOff x="3200040" y="4481640"/>
            <a:chExt cx="344520" cy="458640"/>
          </a:xfrm>
        </p:grpSpPr>
        <p:sp>
          <p:nvSpPr>
            <p:cNvPr id="270" name=""/>
            <p:cNvSpPr/>
            <p:nvPr/>
          </p:nvSpPr>
          <p:spPr>
            <a:xfrm flipH="1">
              <a:off x="33336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30876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27888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26448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2284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20004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372480" y="4481640"/>
              <a:ext cx="172080" cy="458640"/>
              <a:chOff x="3372480" y="4481640"/>
              <a:chExt cx="172080" cy="458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37248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41100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620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46608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012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51612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727280" y="4487760"/>
            <a:ext cx="88416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14680" y="4489560"/>
            <a:ext cx="90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8080" y="479412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8776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16120" y="4794120"/>
            <a:ext cx="463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081760" y="4831920"/>
            <a:ext cx="237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05152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03712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00400" y="489744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971960" y="4832280"/>
            <a:ext cx="28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19680" y="4832280"/>
            <a:ext cx="442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6396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89420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08600" y="4897440"/>
            <a:ext cx="3492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943520" y="4832280"/>
            <a:ext cx="28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34400" y="1895760"/>
            <a:ext cx="285840" cy="3376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800"/>
              <a:gd name="textAreaBottom" fmla="*/ 3288960 h 33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964480" y="1877040"/>
            <a:ext cx="285840" cy="337644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573200" y="5486400"/>
            <a:ext cx="3697200" cy="838080"/>
          </a:xfrm>
          <a:prstGeom prst="wedgeRectCallout">
            <a:avLst>
              <a:gd name="adj1" fmla="val 32824"/>
              <a:gd name="adj2" fmla="val 8238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atched filter output of this region depends on relative phase between short and long preamble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67440" y="5796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08480" y="2521080"/>
            <a:ext cx="1163520" cy="450720"/>
          </a:xfrm>
          <a:prstGeom prst="leftRightArrow">
            <a:avLst>
              <a:gd name="adj1" fmla="val 50000"/>
              <a:gd name="adj2" fmla="val 5139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118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16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2720" y="16444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664240"/>
            <a:ext cx="498600" cy="431640"/>
          </a:xfrm>
          <a:prstGeom prst="rightArrow">
            <a:avLst>
              <a:gd name="adj1" fmla="val 50000"/>
              <a:gd name="adj2" fmla="val 496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551120" y="4931640"/>
            <a:ext cx="158760" cy="339840"/>
          </a:xfrm>
          <a:custGeom>
            <a:avLst/>
            <a:gdLst>
              <a:gd name="textAreaLeft" fmla="*/ 101520 w 158760"/>
              <a:gd name="textAreaRight" fmla="*/ 159120 w 158760"/>
              <a:gd name="textAreaTop" fmla="*/ 8640 h 339840"/>
              <a:gd name="textAreaBottom" fmla="*/ 331200 h 33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9144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ffect of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395-99CD-438A-ADBB-73D9B590C1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371600" y="1692360"/>
            <a:ext cx="4089240" cy="3717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16200000">
            <a:off x="47880" y="316476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03848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038480" y="3429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038480" y="4876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536256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low sidelobe is obtained by the proposed long preambl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352680"/>
            <a:ext cx="530280" cy="422280"/>
          </a:xfrm>
          <a:prstGeom prst="downArrow">
            <a:avLst>
              <a:gd name="adj1" fmla="val 47972"/>
              <a:gd name="adj2" fmla="val 398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320040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4 radian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28880" y="838080"/>
            <a:ext cx="68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ed results of Matched filt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5480" y="5761080"/>
            <a:ext cx="177840" cy="42048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96" y="160"/>
                  <a:pt x="104" y="192"/>
                </a:cubicBezTo>
                <a:cubicBezTo>
                  <a:pt x="112" y="224"/>
                  <a:pt x="84" y="256"/>
                  <a:pt x="5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14400" y="5761080"/>
            <a:ext cx="4978440" cy="438120"/>
            <a:chOff x="914400" y="5761080"/>
            <a:chExt cx="4978440" cy="438120"/>
          </a:xfrm>
        </p:grpSpPr>
        <p:sp>
          <p:nvSpPr>
            <p:cNvPr id="320" name=""/>
            <p:cNvSpPr/>
            <p:nvPr/>
          </p:nvSpPr>
          <p:spPr>
            <a:xfrm>
              <a:off x="914400" y="5761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400" y="61815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1120" y="5796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57610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618156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7120" y="58309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1240" y="579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576108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40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78480" y="3962520"/>
            <a:ext cx="1621080" cy="1344960"/>
            <a:chOff x="6378480" y="3962520"/>
            <a:chExt cx="1621080" cy="1344960"/>
          </a:xfrm>
        </p:grpSpPr>
        <p:sp>
          <p:nvSpPr>
            <p:cNvPr id="331" name=""/>
            <p:cNvSpPr/>
            <p:nvPr/>
          </p:nvSpPr>
          <p:spPr>
            <a:xfrm flipV="1">
              <a:off x="6937200" y="4152240"/>
              <a:ext cx="0" cy="11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730400"/>
              <a:ext cx="11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8200" y="47005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2320" y="39625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6320" y="4354920"/>
              <a:ext cx="77220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9760" y="444060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3040" y="49366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248520" y="1695600"/>
            <a:ext cx="1689480" cy="1409040"/>
            <a:chOff x="6248520" y="1695600"/>
            <a:chExt cx="1689480" cy="1409040"/>
          </a:xfrm>
        </p:grpSpPr>
        <p:sp>
          <p:nvSpPr>
            <p:cNvPr id="339" name=""/>
            <p:cNvSpPr/>
            <p:nvPr/>
          </p:nvSpPr>
          <p:spPr>
            <a:xfrm>
              <a:off x="6248520" y="2539080"/>
              <a:ext cx="136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903000" y="194904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06640" y="2533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04800" y="1695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52640" y="24814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38520" y="248292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450320" y="48211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2004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27478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72600" y="16146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8880" y="39006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83600" y="5410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E16-ACD6-42F5-AC84-C1786A71972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415120" y="4240080"/>
            <a:ext cx="32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06920" y="2830680"/>
            <a:ext cx="1476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545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513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55716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4603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447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2907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15252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04488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06728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2128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25916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7160" y="3753000"/>
            <a:ext cx="8568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452840" y="3425760"/>
            <a:ext cx="1033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77840" y="3753000"/>
            <a:ext cx="8604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563720" y="3425760"/>
            <a:ext cx="1141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764240" y="3752640"/>
            <a:ext cx="537480" cy="306360"/>
            <a:chOff x="4764240" y="3752640"/>
            <a:chExt cx="537480" cy="306360"/>
          </a:xfrm>
        </p:grpSpPr>
        <p:sp>
          <p:nvSpPr>
            <p:cNvPr id="369" name=""/>
            <p:cNvSpPr/>
            <p:nvPr/>
          </p:nvSpPr>
          <p:spPr>
            <a:xfrm flipH="1" flipV="1">
              <a:off x="5010840" y="3925800"/>
              <a:ext cx="536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2960" y="3926160"/>
              <a:ext cx="138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764240" y="3752640"/>
              <a:ext cx="10872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064840" y="3925800"/>
              <a:ext cx="110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75360" y="3926160"/>
              <a:ext cx="126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38284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53224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29080" y="3753000"/>
            <a:ext cx="1141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74320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97200" y="3925800"/>
            <a:ext cx="1382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935440" y="3752640"/>
            <a:ext cx="1094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5245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415120" y="3925440"/>
            <a:ext cx="1094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287680" y="3925800"/>
            <a:ext cx="1270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3147840"/>
            <a:ext cx="1765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120" y="4211640"/>
            <a:ext cx="1725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971720" y="4287960"/>
            <a:ext cx="3330000" cy="479160"/>
            <a:chOff x="1971720" y="4287960"/>
            <a:chExt cx="3330000" cy="479160"/>
          </a:xfrm>
        </p:grpSpPr>
        <p:sp>
          <p:nvSpPr>
            <p:cNvPr id="387" name=""/>
            <p:cNvSpPr/>
            <p:nvPr/>
          </p:nvSpPr>
          <p:spPr>
            <a:xfrm>
              <a:off x="439740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14640" y="4287960"/>
              <a:ext cx="482400" cy="426600"/>
              <a:chOff x="3914640" y="4287960"/>
              <a:chExt cx="482400" cy="426600"/>
            </a:xfrm>
          </p:grpSpPr>
          <p:sp>
            <p:nvSpPr>
              <p:cNvPr id="389" name=""/>
              <p:cNvSpPr/>
              <p:nvPr/>
            </p:nvSpPr>
            <p:spPr>
              <a:xfrm>
                <a:off x="4156560" y="4287960"/>
                <a:ext cx="145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302000" y="4646160"/>
                <a:ext cx="9504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011120" y="4287960"/>
                <a:ext cx="14544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3914640" y="4646160"/>
                <a:ext cx="9648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H="1">
              <a:off x="3803760" y="4646520"/>
              <a:ext cx="1108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506760" y="4646160"/>
              <a:ext cx="1080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9908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528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890960" y="4471200"/>
              <a:ext cx="10980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19552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11020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000760" y="4471200"/>
              <a:ext cx="10944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5912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005280" y="4646520"/>
              <a:ext cx="936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888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40200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1296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208240" y="4646160"/>
              <a:ext cx="504000" cy="120960"/>
              <a:chOff x="2208240" y="4646160"/>
              <a:chExt cx="504000" cy="120960"/>
            </a:xfrm>
          </p:grpSpPr>
          <p:sp>
            <p:nvSpPr>
              <p:cNvPr id="407" name=""/>
              <p:cNvSpPr/>
              <p:nvPr/>
            </p:nvSpPr>
            <p:spPr>
              <a:xfrm flipH="1" flipV="1">
                <a:off x="2616840" y="4646160"/>
                <a:ext cx="9540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503800" y="4646520"/>
                <a:ext cx="11304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2450880" y="4714920"/>
                <a:ext cx="5256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314800" y="4715280"/>
                <a:ext cx="1360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208240" y="4646160"/>
                <a:ext cx="10656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V="1">
              <a:off x="210816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3749760" y="4714920"/>
              <a:ext cx="54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61440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51152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6408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21300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556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7172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04960" y="4884840"/>
            <a:ext cx="4466880" cy="403200"/>
            <a:chOff x="1704960" y="4884840"/>
            <a:chExt cx="4466880" cy="403200"/>
          </a:xfrm>
        </p:grpSpPr>
        <p:sp>
          <p:nvSpPr>
            <p:cNvPr id="421" name=""/>
            <p:cNvSpPr/>
            <p:nvPr/>
          </p:nvSpPr>
          <p:spPr>
            <a:xfrm>
              <a:off x="1783080" y="4884840"/>
              <a:ext cx="212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83080" y="5288040"/>
              <a:ext cx="22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82080" y="49183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1040" y="48848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1040" y="52880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80000" y="49183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8040" y="4918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496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524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8212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0620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706920" y="2806560"/>
            <a:ext cx="0" cy="23958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9840" y="2806560"/>
            <a:ext cx="0" cy="207828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228400" y="2840040"/>
            <a:ext cx="149400" cy="10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82840" y="2840040"/>
            <a:ext cx="0" cy="2395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520" y="3160800"/>
            <a:ext cx="205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187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811600"/>
            <a:ext cx="1228680" cy="693720"/>
          </a:xfrm>
          <a:custGeom>
            <a:avLst/>
            <a:gdLst/>
            <a:ahLst/>
            <a:rect l="l" t="t" r="r" b="b"/>
            <a:pathLst>
              <a:path w="774" h="437">
                <a:moveTo>
                  <a:pt x="0" y="8"/>
                </a:moveTo>
                <a:cubicBezTo>
                  <a:pt x="38" y="8"/>
                  <a:pt x="124" y="0"/>
                  <a:pt x="226" y="7"/>
                </a:cubicBezTo>
                <a:cubicBezTo>
                  <a:pt x="328" y="14"/>
                  <a:pt x="523" y="9"/>
                  <a:pt x="610" y="49"/>
                </a:cubicBezTo>
                <a:cubicBezTo>
                  <a:pt x="697" y="89"/>
                  <a:pt x="722" y="182"/>
                  <a:pt x="748" y="247"/>
                </a:cubicBezTo>
                <a:cubicBezTo>
                  <a:pt x="774" y="312"/>
                  <a:pt x="763" y="398"/>
                  <a:pt x="767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289-C22A-43DA-A00C-A3855331DCD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performance in multipath propagation with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0" y="511812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45360" y="514980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-380880" y="33264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3873240" y="3300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52240" y="54547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Delay spread = 10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2640" y="545472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lay spread = 15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3920" y="4387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97480" y="3517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8320" y="42354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1520" y="335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872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16840" y="27306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6080" y="205740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56760" y="5851440"/>
            <a:ext cx="318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286000" y="4235040"/>
            <a:ext cx="3268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693520" y="3809880"/>
            <a:ext cx="2588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048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88600" y="27288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40800" y="205596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546960" y="4038480"/>
            <a:ext cx="3380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885000" y="3587760"/>
            <a:ext cx="233280" cy="22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46120" y="1870200"/>
            <a:ext cx="3703680" cy="32796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792680" y="1827360"/>
            <a:ext cx="3741840" cy="33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D8A-F746-4EA3-A452-5E3380ED36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search was carried out to find the long preamble phase that gives low correlation side-lo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commend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hange Eq.(8) so as to rotate the all signal phase +(3/4)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-26,26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{-1+j, -1+j, +1-j, +1-j, -1+j, -1+j, +1-j, -1+j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... , -1+j, -1+j}/sqrt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only changing the preamble phase, the irreducible packet error is improved to less than 1/3 that of Draft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4662360"/>
            <a:ext cx="1095120" cy="519120"/>
          </a:xfrm>
          <a:prstGeom prst="downArrow">
            <a:avLst>
              <a:gd name="adj1" fmla="val 48407"/>
              <a:gd name="adj2" fmla="val 422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134-F56A-4150-9BB5-718DF27246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M.Morikura &amp; M.Mizoguchi, NTT</dc:description>
  <cp:keywords>May 1999</cp:keywords>
  <dc:language>en-US</dc:language>
  <cp:lastModifiedBy>rodane</cp:lastModifiedBy>
  <cp:lastPrinted>1999-06-03T12:00:37Z</cp:lastPrinted>
  <dcterms:modified xsi:type="dcterms:W3CDTF">1999-06-03T12:01:19Z</dcterms:modified>
  <cp:revision>1</cp:revision>
  <dc:subject>Submission</dc:subject>
  <dc:title>doc.: IEEE 802.11-99/115 </dc:title>
</cp:coreProperties>
</file>