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F68-7C4D-49DF-A3DD-C9B033F8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292-6F0F-45CD-87B0-5A0140A2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FB1-FD66-425C-A9DC-56D00377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277-8178-45DF-846F-C4FDD3E5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389-E9AA-47F6-A824-AF24CB39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E83-1F6B-4340-9EA2-D42416BD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32C-A6DA-4EA5-93E1-27DBD9A1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F6A-A5CC-4755-82C7-9971C7FA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43A-953E-4970-A513-B36867F1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A8B-CFE7-4809-A59D-84665144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BD1-349D-4334-95DA-0E1653C6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465-1EC0-4899-9ECD-7F567ED2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8993B99-7E18-46AA-922C-1254D9A68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167652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3300"/>
                </a:solidFill>
                <a:latin typeface="Times New Roman"/>
              </a:rPr>
              <a:t>Preamble for HIPERLAN</a:t>
            </a:r>
            <a:r>
              <a:rPr b="0" lang="en-US" sz="3400" spc="-1" strike="noStrike">
                <a:solidFill>
                  <a:srgbClr val="ff3300"/>
                </a:solidFill>
                <a:latin typeface="Times New Roman"/>
              </a:rPr>
              <a:t>-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65200" y="4323960"/>
            <a:ext cx="630720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Jamshid Khun-Jush, Erics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Coordinator of HIPERLAN type 2 &amp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4E0-A275-40CC-BD4D-0E3F62E02B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roving timing detec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2209680"/>
          <a:ext cx="41148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41148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648320" y="2209680"/>
          <a:ext cx="412884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09680"/>
                    <a:ext cx="412884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arper auto-correlation p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289-500B-4F42-82B9-E002671B44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609480" y="1447920"/>
          <a:ext cx="7467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467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80880" y="8380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o-Correlation P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90920" y="3124080"/>
          <a:ext cx="3886200" cy="3056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124080"/>
                    <a:ext cx="388620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72C-6441-46FC-8ADB-498C8E7F94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04920" y="2362320"/>
          <a:ext cx="4363920" cy="327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43639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648320" y="2362320"/>
          <a:ext cx="4154400" cy="3273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62320"/>
                    <a:ext cx="415440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51B-1455-44C9-B337-F3352540CE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219320" y="1676520"/>
          <a:ext cx="66294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6294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85800" y="4267080"/>
          <a:ext cx="7467480" cy="184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746748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8088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ss-Correlation Rece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163-9ADA-40C8-BFFD-BC266456746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ss-Correlation for A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733920" y="1828800"/>
          <a:ext cx="507204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828800"/>
                    <a:ext cx="50720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-990720" y="1849320"/>
          <a:ext cx="5334120" cy="394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90720" y="1849320"/>
                    <a:ext cx="533412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AF0-E810-4580-B97F-4EBC207173F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-1143000" y="1828800"/>
          <a:ext cx="5562720" cy="40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3000" y="1828800"/>
                    <a:ext cx="55627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200400" y="1828800"/>
          <a:ext cx="5583240" cy="405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828800"/>
                    <a:ext cx="558324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ss-Correlation for A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2D5-D79C-4BF2-A88A-14D8F64F46F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80880" y="2209680"/>
          <a:ext cx="434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434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572000" y="2209680"/>
          <a:ext cx="421020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4210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trum Issues -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wer Spectral Density: left (inverted), right (non-inver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7D8-9917-407F-BA2F-AAAE118887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2362320"/>
          <a:ext cx="42670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4267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572000" y="2362320"/>
          <a:ext cx="4210200" cy="3809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62320"/>
                    <a:ext cx="42102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trum Issues -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523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X signal filtering (FIR filter): only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8 MHz cut-off frequency, -60 dB stop-b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tten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93C-679D-48C5-BB94-9BBCF742D28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trum Issues -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04920" y="2286000"/>
          <a:ext cx="434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434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648320" y="2286000"/>
          <a:ext cx="420984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86000"/>
                    <a:ext cx="4209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X signal filtering (only preambl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AC9-918E-41E0-98C7-DC9812D544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80880" y="2133720"/>
          <a:ext cx="426744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4267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648320" y="2133720"/>
          <a:ext cx="4192560" cy="4038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133720"/>
                    <a:ext cx="41925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trum Issues -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X signal filtering: data and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0D4-5FD8-4454-BAAC-9630228BDB4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PERLAN-2/MMAC-WATM MAC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600200"/>
            <a:ext cx="8989920" cy="4295880"/>
            <a:chOff x="380880" y="1600200"/>
            <a:chExt cx="8989920" cy="4295880"/>
          </a:xfrm>
        </p:grpSpPr>
        <p:sp>
          <p:nvSpPr>
            <p:cNvPr id="49" name=""/>
            <p:cNvSpPr/>
            <p:nvPr/>
          </p:nvSpPr>
          <p:spPr>
            <a:xfrm>
              <a:off x="6059520" y="4762440"/>
              <a:ext cx="47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380880" y="1600200"/>
              <a:ext cx="8989920" cy="4295880"/>
              <a:chOff x="380880" y="1600200"/>
              <a:chExt cx="8989920" cy="4295880"/>
            </a:xfrm>
          </p:grpSpPr>
          <p:sp>
            <p:nvSpPr>
              <p:cNvPr id="51" name=""/>
              <p:cNvSpPr/>
              <p:nvPr/>
            </p:nvSpPr>
            <p:spPr>
              <a:xfrm>
                <a:off x="2983320" y="2424960"/>
                <a:ext cx="0" cy="55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380880" y="1600200"/>
                <a:ext cx="8989920" cy="4295880"/>
                <a:chOff x="380880" y="1600200"/>
                <a:chExt cx="8989920" cy="42958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693240" y="2424960"/>
                  <a:ext cx="0" cy="55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380880" y="1600200"/>
                  <a:ext cx="8989920" cy="4295880"/>
                  <a:chOff x="380880" y="1600200"/>
                  <a:chExt cx="8989920" cy="4295880"/>
                </a:xfrm>
              </p:grpSpPr>
              <p:grpSp>
                <p:nvGrpSpPr>
                  <p:cNvPr id="55" name=""/>
                  <p:cNvGrpSpPr/>
                  <p:nvPr/>
                </p:nvGrpSpPr>
                <p:grpSpPr>
                  <a:xfrm>
                    <a:off x="380880" y="1600200"/>
                    <a:ext cx="8989920" cy="4295880"/>
                    <a:chOff x="380880" y="1600200"/>
                    <a:chExt cx="8989920" cy="4295880"/>
                  </a:xfrm>
                </p:grpSpPr>
                <p:grpSp>
                  <p:nvGrpSpPr>
                    <p:cNvPr id="56" name=""/>
                    <p:cNvGrpSpPr/>
                    <p:nvPr/>
                  </p:nvGrpSpPr>
                  <p:grpSpPr>
                    <a:xfrm>
                      <a:off x="380880" y="2424960"/>
                      <a:ext cx="8358480" cy="550080"/>
                      <a:chOff x="380880" y="2424960"/>
                      <a:chExt cx="8358480" cy="550080"/>
                    </a:xfrm>
                  </p:grpSpPr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380880" y="2424960"/>
                        <a:ext cx="945720" cy="550080"/>
                        <a:chOff x="380880" y="2424960"/>
                        <a:chExt cx="945720" cy="55008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380880" y="2424960"/>
                          <a:ext cx="94572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380880" y="2424960"/>
                          <a:ext cx="945720" cy="520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Broadcast CHannel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1326960" y="2424960"/>
                        <a:ext cx="1261080" cy="550080"/>
                        <a:chOff x="1326960" y="2424960"/>
                        <a:chExt cx="1261080" cy="55008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1326960" y="2424960"/>
                          <a:ext cx="126108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1326960" y="2424960"/>
                          <a:ext cx="1261080" cy="520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Frame control CHannel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588760" y="2424960"/>
                        <a:ext cx="2365200" cy="550080"/>
                        <a:chOff x="2588760" y="2424960"/>
                        <a:chExt cx="2365200" cy="55008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588760" y="2424960"/>
                          <a:ext cx="236520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2590560" y="2563920"/>
                          <a:ext cx="236052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                    </a:t>
                          </a: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downlin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4951440" y="2424960"/>
                        <a:ext cx="2368440" cy="550080"/>
                        <a:chOff x="4951440" y="2424960"/>
                        <a:chExt cx="2368440" cy="55008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4954320" y="2424960"/>
                          <a:ext cx="236556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4951440" y="2563920"/>
                          <a:ext cx="236700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uplin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7317360" y="2424960"/>
                        <a:ext cx="1422000" cy="550080"/>
                        <a:chOff x="7317360" y="2424960"/>
                        <a:chExt cx="1422000" cy="55008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7319880" y="2424960"/>
                          <a:ext cx="141912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7317360" y="2424960"/>
                          <a:ext cx="1422000" cy="520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Random access channel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2" name=""/>
                    <p:cNvGrpSpPr/>
                    <p:nvPr/>
                  </p:nvGrpSpPr>
                  <p:grpSpPr>
                    <a:xfrm>
                      <a:off x="4718160" y="2691720"/>
                      <a:ext cx="2838600" cy="0"/>
                      <a:chOff x="4718160" y="2691720"/>
                      <a:chExt cx="2838600" cy="0"/>
                    </a:xfrm>
                  </p:grpSpPr>
                  <p:sp>
                    <p:nvSpPr>
                      <p:cNvPr id="73" name=""/>
                      <p:cNvSpPr/>
                      <p:nvPr/>
                    </p:nvSpPr>
                    <p:spPr>
                      <a:xfrm>
                        <a:off x="4718160" y="2691720"/>
                        <a:ext cx="4730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" name=""/>
                      <p:cNvSpPr/>
                      <p:nvPr/>
                    </p:nvSpPr>
                    <p:spPr>
                      <a:xfrm>
                        <a:off x="7083720" y="2691720"/>
                        <a:ext cx="4730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5" name=""/>
                    <p:cNvSpPr/>
                    <p:nvPr/>
                  </p:nvSpPr>
                  <p:spPr>
                    <a:xfrm flipV="1">
                      <a:off x="5033520" y="1943640"/>
                      <a:ext cx="946080" cy="687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5979600" y="1944000"/>
                      <a:ext cx="1261800" cy="687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5270040" y="1600200"/>
                      <a:ext cx="17348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ynamic bound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 flipH="1">
                      <a:off x="2667600" y="3043800"/>
                      <a:ext cx="315360" cy="1374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3692880" y="3043800"/>
                      <a:ext cx="2602440" cy="1374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1484640" y="4487400"/>
                      <a:ext cx="4810680" cy="48132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2667600" y="4487400"/>
                      <a:ext cx="0" cy="48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1484640" y="4556160"/>
                      <a:ext cx="11826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am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3614040" y="4487400"/>
                      <a:ext cx="0" cy="48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4323600" y="4487400"/>
                      <a:ext cx="0" cy="48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2667600" y="5030640"/>
                      <a:ext cx="0" cy="27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295320" y="5030640"/>
                      <a:ext cx="0" cy="27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2667600" y="5175000"/>
                      <a:ext cx="3627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4165920" y="5312520"/>
                      <a:ext cx="10252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3614040" y="4556160"/>
                      <a:ext cx="7095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flipV="1">
                      <a:off x="6374160" y="4280760"/>
                      <a:ext cx="473040" cy="412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531840" y="3937680"/>
                      <a:ext cx="17348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ynamic bound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058800" y="5589000"/>
                      <a:ext cx="28389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U: Protocol Data Unit (54 byt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689520" y="4627800"/>
                      <a:ext cx="2681280" cy="63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burst consisting of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4" name=""/>
                  <p:cNvSpPr/>
                  <p:nvPr/>
                </p:nvSpPr>
                <p:spPr>
                  <a:xfrm>
                    <a:off x="2904120" y="2562840"/>
                    <a:ext cx="8676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ser da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50B-AC1D-461E-9F37-DD31FDEB63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wnlink Prea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CH Pream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2514600"/>
            <a:ext cx="8153280" cy="457200"/>
            <a:chOff x="533520" y="2514600"/>
            <a:chExt cx="8153280" cy="457200"/>
          </a:xfrm>
        </p:grpSpPr>
        <p:sp>
          <p:nvSpPr>
            <p:cNvPr id="98" name=""/>
            <p:cNvSpPr/>
            <p:nvPr/>
          </p:nvSpPr>
          <p:spPr>
            <a:xfrm>
              <a:off x="533520" y="251748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6440" y="251460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4960" y="251460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53480" y="251460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22000" y="251460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0520" y="2514600"/>
              <a:ext cx="65052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42120" y="2514600"/>
              <a:ext cx="65052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94080" y="2514600"/>
              <a:ext cx="65052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45680" y="2514600"/>
              <a:ext cx="65052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97640" y="2514600"/>
              <a:ext cx="70164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16200" y="2514600"/>
              <a:ext cx="1470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80880" y="37339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her Downlink Channels Preamble (FCH,SCH,L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5800" y="4952880"/>
            <a:ext cx="6248160" cy="457200"/>
            <a:chOff x="685800" y="4952880"/>
            <a:chExt cx="6248160" cy="457200"/>
          </a:xfrm>
        </p:grpSpPr>
        <p:sp>
          <p:nvSpPr>
            <p:cNvPr id="111" name=""/>
            <p:cNvSpPr/>
            <p:nvPr/>
          </p:nvSpPr>
          <p:spPr>
            <a:xfrm>
              <a:off x="685800" y="4952880"/>
              <a:ext cx="115704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42840" y="4952880"/>
              <a:ext cx="25455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88400" y="4952880"/>
              <a:ext cx="25455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09480" y="5257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B44-B28D-4E99-99F9-0EBC0A1DDA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mbol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52388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8000"/>
          </a:bodyPr>
          <a:p>
            <a:pPr marL="2332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6/RA16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The sign reversal of every second A16 symbol is automatically achieved by the specified subcarrier loading.</a:t>
            </a:r>
            <a:r>
              <a:rPr b="1" lang="fi-F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666880"/>
          <a:ext cx="8047080" cy="102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80470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80880" y="37339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6 Symbol (subcarrier loading as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-26…2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ymbol in PL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4419720"/>
          <a:ext cx="8229600" cy="96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419720"/>
                    <a:ext cx="822960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0880" y="55627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64 Symbol: the same content as T1/T2 in 802.11a PLC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35C-2425-4E56-ACA4-B13C190218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ion-Failure and False-Alarm Rates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2971800"/>
          <a:ext cx="84582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8458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80880" y="15238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3000"/>
          </a:bodyPr>
          <a:p>
            <a:pPr marL="113040" indent="-113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Auto-Correlation (AC) Receiver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Correlation delay D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Times New Roman"/>
                <a:ea typeface="?l?r ??fc"/>
              </a:rPr>
              <a:t>ac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=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Moving Average (MAV) window size of AC = 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C36-00B6-4FD3-B7E7-F67DEAFAE24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ion-Failure and False-Alarm Rates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8120" y="1676520"/>
          <a:ext cx="578628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786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80880" y="1752480"/>
            <a:ext cx="2667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etector-1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only takes the absolute value of the A-field correlation peak (as well as the phase at the peak position to verify the peak belonging to the BCH A-field) and compares it with a defined thresho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724280"/>
            <a:ext cx="2590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etector-2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takes into account both peaks (A-field and B-field) being above a certain threshold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2A4-4DE4-436A-91AF-A913B49071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mbol PAPR and Dynamic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24280" y="1676520"/>
          <a:ext cx="396252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9625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09480" y="1676520"/>
          <a:ext cx="4114800" cy="4038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76520"/>
                    <a:ext cx="4114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57150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urrent 802.11a symbol S</a:t>
            </a:r>
            <a:r>
              <a:rPr b="1" lang="en-GB" sz="1500" spc="-1" strike="noStrike" baseline="-25000">
                <a:solidFill>
                  <a:srgbClr val="000000"/>
                </a:solidFill>
                <a:latin typeface="Times New Roman"/>
              </a:rPr>
              <a:t>-26...26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, PAPR = 3.00 d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57150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B16</a:t>
            </a:r>
            <a:r>
              <a:rPr b="1" lang="en-GB" sz="1500" spc="-1" strike="noStrike" baseline="-25000">
                <a:solidFill>
                  <a:srgbClr val="000000"/>
                </a:solidFill>
                <a:latin typeface="Times New Roman"/>
              </a:rPr>
              <a:t>-26...26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symbol, PAPR = 2.24 d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A9B-D0AE-47AD-B3FC-44D3F50F8C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link Prea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2590920"/>
            <a:ext cx="6705000" cy="457200"/>
            <a:chOff x="685800" y="2590920"/>
            <a:chExt cx="6705000" cy="457200"/>
          </a:xfrm>
        </p:grpSpPr>
        <p:sp>
          <p:nvSpPr>
            <p:cNvPr id="142" name=""/>
            <p:cNvSpPr/>
            <p:nvPr/>
          </p:nvSpPr>
          <p:spPr>
            <a:xfrm>
              <a:off x="685800" y="2594160"/>
              <a:ext cx="63432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26240" y="2590920"/>
              <a:ext cx="63432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61640" y="2590920"/>
              <a:ext cx="63432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97040" y="2590920"/>
              <a:ext cx="63432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32080" y="2590920"/>
              <a:ext cx="65124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872880" y="2594160"/>
              <a:ext cx="3517920" cy="453960"/>
              <a:chOff x="3872880" y="2594160"/>
              <a:chExt cx="3517920" cy="453960"/>
            </a:xfrm>
          </p:grpSpPr>
          <p:sp>
            <p:nvSpPr>
              <p:cNvPr id="148" name=""/>
              <p:cNvSpPr/>
              <p:nvPr/>
            </p:nvSpPr>
            <p:spPr>
              <a:xfrm>
                <a:off x="3872880" y="2594160"/>
                <a:ext cx="651240" cy="453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C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24120" y="2594160"/>
                <a:ext cx="1433160" cy="453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C6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57640" y="2594160"/>
                <a:ext cx="1433160" cy="453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C6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533520" y="4952880"/>
            <a:ext cx="8076600" cy="457200"/>
            <a:chOff x="533520" y="4952880"/>
            <a:chExt cx="8076600" cy="457200"/>
          </a:xfrm>
        </p:grpSpPr>
        <p:sp>
          <p:nvSpPr>
            <p:cNvPr id="152" name=""/>
            <p:cNvSpPr/>
            <p:nvPr/>
          </p:nvSpPr>
          <p:spPr>
            <a:xfrm>
              <a:off x="533520" y="4952880"/>
              <a:ext cx="647640" cy="4572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81880" y="4952880"/>
              <a:ext cx="665280" cy="4572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843920" y="4968000"/>
              <a:ext cx="2611440" cy="438840"/>
              <a:chOff x="1843920" y="4968000"/>
              <a:chExt cx="2611440" cy="438840"/>
            </a:xfrm>
          </p:grpSpPr>
          <p:sp>
            <p:nvSpPr>
              <p:cNvPr id="155" name=""/>
              <p:cNvSpPr/>
              <p:nvPr/>
            </p:nvSpPr>
            <p:spPr>
              <a:xfrm>
                <a:off x="1843920" y="496800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92640" y="496800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41000" y="496800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90080" y="4968000"/>
                <a:ext cx="66528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468320" y="4964040"/>
              <a:ext cx="2611440" cy="438840"/>
              <a:chOff x="4468320" y="4964040"/>
              <a:chExt cx="2611440" cy="438840"/>
            </a:xfrm>
          </p:grpSpPr>
          <p:sp>
            <p:nvSpPr>
              <p:cNvPr id="160" name=""/>
              <p:cNvSpPr/>
              <p:nvPr/>
            </p:nvSpPr>
            <p:spPr>
              <a:xfrm>
                <a:off x="4468320" y="496404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17040" y="496404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765400" y="496404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14480" y="4964040"/>
                <a:ext cx="66528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I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068960" y="4966920"/>
              <a:ext cx="15411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80880" y="3886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ng Preamble (very similar to 802.11a PLCP preamb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598-447F-403F-9C71-4545E8F533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gn Inversion of the Last Re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neficial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improving timing detection accuracy (sharper auto-correlation pe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increasing the receiver implementation flexibility (e.g. auto-correlation based or cross-correlation base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providing unique identification possibilities of the last short symbol re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19B-6448-4C0F-9A31-2E1D297E81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6-03T12:31:42Z</cp:lastPrinted>
  <dcterms:modified xsi:type="dcterms:W3CDTF">1999-06-03T12:33:57Z</dcterms:modified>
  <cp:revision>21</cp:revision>
  <dc:subject/>
  <dc:title>No Slide Title</dc:title>
</cp:coreProperties>
</file>