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B9E-B8FE-4000-8246-58529CD9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77F-FC6E-4E42-A638-2C7ECF8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AC8-0303-4881-9588-5C08A520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260-D895-46F7-96DA-1E4DF9B2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935-E7F2-4DBB-B623-32BE9C7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F3C-A2DE-4029-A68C-FCDDDE8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999-B986-474C-97FE-4A0EC4D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CB3-6FDC-4DE0-A518-6C7F6E21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44B-C48A-4EEC-85EC-B8867072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FFA-282B-447D-A042-19C1DAF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E56-EC14-4779-8D86-538C1F5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ACB-E5E1-4535-806C-9AF9FC5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19E44A-12B9-4FF5-BE7D-F4B2B147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066680"/>
            <a:ext cx="5867280" cy="221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ed-Solomon Coding for IEEE 802.1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4960" y="3581280"/>
            <a:ext cx="6434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 &amp; 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ugopal Gub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836-D7C4-4CF3-B148-9CCB846687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66680" y="828720"/>
          <a:ext cx="6912000" cy="51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28720"/>
                    <a:ext cx="6912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CA4-35C4-4F2A-BE5B-D77AB8AA4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4160" y="898560"/>
          <a:ext cx="6923160" cy="51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898560"/>
                    <a:ext cx="69231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193-7F06-4791-AA60-231515DA707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19320" y="942840"/>
          <a:ext cx="6759360" cy="504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42840"/>
                    <a:ext cx="675936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4DC-BEFD-4742-861B-B0041D0892A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arameters of Reed-Solomon Codes for MPEG Video Packe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F256 (8 bit byte symb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 &lt;= 257, k = n-2*t, d = 2*t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rrect 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-2 Packets, k = 188, n = 188+2*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A2-1D3B-45AF-AED4-1A79B5F4E4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52480" y="1752480"/>
            <a:ext cx="5295960" cy="4348440"/>
            <a:chOff x="1752480" y="1752480"/>
            <a:chExt cx="5295960" cy="4348440"/>
          </a:xfrm>
        </p:grpSpPr>
        <p:pic>
          <p:nvPicPr>
            <p:cNvPr id="61" name="CCK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752480"/>
              <a:ext cx="5295960" cy="4348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" name=""/>
            <p:cNvGraphicFramePr/>
            <p:nvPr/>
          </p:nvGraphicFramePr>
          <p:xfrm>
            <a:off x="5791320" y="285768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1320" y="285768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D32-A205-4540-8EE0-466BE5FD7A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52480" y="1609560"/>
            <a:ext cx="5372280" cy="4410360"/>
            <a:chOff x="1752480" y="1609560"/>
            <a:chExt cx="5372280" cy="4410360"/>
          </a:xfrm>
        </p:grpSpPr>
        <p:pic>
          <p:nvPicPr>
            <p:cNvPr id="66" name="PBCC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609560"/>
              <a:ext cx="5372280" cy="441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" name=""/>
            <p:cNvGraphicFramePr/>
            <p:nvPr/>
          </p:nvGraphicFramePr>
          <p:xfrm>
            <a:off x="5840280" y="274320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0280" y="274320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663-9F1A-4BB8-8C10-9637668722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05120" y="1633680"/>
            <a:ext cx="5327640" cy="4329000"/>
            <a:chOff x="1905120" y="1633680"/>
            <a:chExt cx="5327640" cy="4329000"/>
          </a:xfrm>
        </p:grpSpPr>
        <p:pic>
          <p:nvPicPr>
            <p:cNvPr id="71" name="CCK11EbPreview" descr=""/>
            <p:cNvPicPr/>
            <p:nvPr/>
          </p:nvPicPr>
          <p:blipFill>
            <a:blip r:embed="rId1"/>
            <a:stretch/>
          </p:blipFill>
          <p:spPr>
            <a:xfrm>
              <a:off x="1905120" y="1633680"/>
              <a:ext cx="5327640" cy="432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2" name=""/>
            <p:cNvGraphicFramePr/>
            <p:nvPr/>
          </p:nvGraphicFramePr>
          <p:xfrm>
            <a:off x="5916600" y="270504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6600" y="270504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153-9F08-4C9A-87BB-50382C574E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519200"/>
            <a:ext cx="5632560" cy="4576680"/>
            <a:chOff x="1752480" y="1519200"/>
            <a:chExt cx="5632560" cy="4576680"/>
          </a:xfrm>
        </p:grpSpPr>
        <p:pic>
          <p:nvPicPr>
            <p:cNvPr id="76" name="PBCC11EbPreview" descr=""/>
            <p:cNvPicPr/>
            <p:nvPr/>
          </p:nvPicPr>
          <p:blipFill>
            <a:blip r:embed="rId1"/>
            <a:stretch/>
          </p:blipFill>
          <p:spPr>
            <a:xfrm>
              <a:off x="1752480" y="1519200"/>
              <a:ext cx="5632560" cy="4576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7" name=""/>
            <p:cNvGraphicFramePr/>
            <p:nvPr/>
          </p:nvGraphicFramePr>
          <p:xfrm>
            <a:off x="6068880" y="2666880"/>
            <a:ext cx="1170000" cy="419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68880" y="2666880"/>
                      <a:ext cx="11700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BF7-7CFB-4BBA-8245-D98255AC63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7:06:24Z</dcterms:created>
  <dc:creator>CH</dc:creator>
  <dc:description/>
  <dc:language>en-US</dc:language>
  <cp:lastModifiedBy>Bozo T. Clown</cp:lastModifiedBy>
  <cp:lastPrinted>1999-10-15T02:12:22Z</cp:lastPrinted>
  <dcterms:modified xsi:type="dcterms:W3CDTF">1999-11-10T19:04:11Z</dcterms:modified>
  <cp:revision>109</cp:revision>
  <dc:subject/>
  <dc:title>No Slide Title</dc:title>
</cp:coreProperties>
</file>