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5AB9-08E3-4355-8D56-C1EE7B24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7E00-2A52-42F6-8649-E75C8092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FD68-FB97-4517-B621-E6F39063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4C94-85FA-4289-B627-1C53C415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8F8-8E07-49BB-9597-3B23D158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8B5D-B18F-475C-A334-06A4144E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01C-F09B-4F84-AC8D-AE0CCFF6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516-8DA1-455B-A429-233FAC14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BD4-F28B-409E-BB41-FAA2C965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2CD9-732C-4C7C-A6F1-C40FAEB7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7302-80C7-4451-8468-6D39A16D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6C4-E225-4E3E-8903-0637AAEE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2959EAD-D47C-4482-85FC-2B0690336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2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Report #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, 1999 Kaua'i Koloa, HI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8880" y="5181480"/>
            <a:ext cx="694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1 -99/00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05r0P802-15_Liaison-Report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2 -99/02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29r0P802-15_Liaison-Report-2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3 -99/06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63r1P802-15_Liaison-Report-3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Server &amp; Flash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DAB6-2F73-40DC-B22F-E0403453A47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/IEEE Proposed 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1999 - Initial Discussion on Proposal submi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1999 - IEEE initial vote of support to draft 802.15 based on Bluetooth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 1999 - Overview the draft 802.15.1 based on the current  Bluetooth specification to the tim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 1999 - Initial draft ready for WG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 2000 - First Ballot complete, second ballot kicked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 2000 - Draft ready for IEEE sponso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2000 - Approval by IEEE Standards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392-2598-4C74-9218-FF08AF1E300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EEE and Bluetooth SIG have a very strong Lia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uetooth Special Interest Group Formed May 20,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 07Jul98 -98/2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2 15Sep98 -98/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3 26Oct98 -98/350 (Minutes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4 14Dec98 J. Carlo 802 Overview to Bluetooth S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5 09Mar99 -99/053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6 01Jul99 -99/028 Letter Of I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7 15Jul99 -99/028r1 LOI #2, License, CD-ROM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8 26Jul99 Bluetooth v1.0A Foundation Specification Available via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9 31Aug99 -99/085 IEEE/ETSI/Bluetooth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0 31Aug99 -99/085 Proposal to IEEE &amp; ET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1 3Sep99 CD-ROM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2 9Sep99 Signed &amp; Initialed Copyright Licens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3 13Sep99 -99/068 BT-IEEE Editorial WG Repor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4 14Sep99 -99/069 to 073 Overview of the Bluetooth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5 16Sep99 -99/082r1 Outline and Technical Overvie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6 4Nov99 -99/028r2 #3 Letter of 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7 4Nov99 -99/xxx Draft Standard v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8 8Nov99 -99/xxx BT-IEEE Editorial WG Repor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9 9Nov99 -99/xxx Using Bluetooth v1.0A Basis For Standard, Tutorial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412-916A-44AB-AE74-D42865D681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SI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con &amp;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Nov99 Lou Delaverson to P802.15 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’s to ET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’s from ET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99 Lou Delav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#16 30Nov99 to 3Dec99 Athens, 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0BB8-8561-4C7F-9378-0645E089250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 Liaison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D8CB-223A-4E71-B59E-F363C702EB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802.11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n &amp;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ocated Meetings/Various both Informal/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to P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10, 1999 Joint Meeting 1:00pm to 3:00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from P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10, 1999 Joint Meeting 1:00pm to 3:00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ing May00 Interim Meeting, Venu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 Sep00 Interim Meeting Submi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5791320"/>
            <a:ext cx="83059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Bruce Kraemer, Stuart Kerry &amp; Peter Murray for more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231-509C-42E7-BF45-19FA1D4EBC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Negot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 S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 new TG1 Operating Rules to WG &amp; BSIG for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ise on LB #1 Stat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Meeting Date?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279-8B69-437D-B858-3C84492407D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num7" descr=""/>
          <p:cNvPicPr/>
          <p:nvPr/>
        </p:nvPicPr>
        <p:blipFill>
          <a:blip r:embed="rId1"/>
          <a:stretch/>
        </p:blipFill>
        <p:spPr>
          <a:xfrm>
            <a:off x="3708360" y="2895480"/>
            <a:ext cx="1800360" cy="505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1905120"/>
            <a:ext cx="274320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3200400"/>
            <a:ext cx="3427560" cy="323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92520" y="1538280"/>
            <a:ext cx="5146560" cy="4862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996920" y="4786200"/>
            <a:ext cx="1432080" cy="1157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796640" y="4622760"/>
            <a:ext cx="302112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200 Bluetooth Promo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opters or SIG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4720" y="1752480"/>
            <a:ext cx="2477160" cy="100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 Vo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802.15.1 W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802.15.x WPAN-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9040" y="4089240"/>
            <a:ext cx="297684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90 HomeRF Adopt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/Cor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luetooth%20logo%20(tm)" descr=""/>
          <p:cNvPicPr/>
          <p:nvPr/>
        </p:nvPicPr>
        <p:blipFill>
          <a:blip r:embed="rId3"/>
          <a:stretch/>
        </p:blipFill>
        <p:spPr>
          <a:xfrm>
            <a:off x="4968720" y="5372280"/>
            <a:ext cx="2651400" cy="571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695760" y="3441600"/>
            <a:ext cx="904680" cy="85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PAN-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700-DF34-481F-A990-9F5978550BE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REL" descr=""/>
          <p:cNvPicPr/>
          <p:nvPr/>
        </p:nvPicPr>
        <p:blipFill>
          <a:blip r:embed="rId1"/>
          <a:stretch/>
        </p:blipFill>
        <p:spPr>
          <a:xfrm>
            <a:off x="1328760" y="1828800"/>
            <a:ext cx="6481800" cy="3236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80880" y="5486400"/>
            <a:ext cx="83059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8Nov99 we are not aware of any progress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and ETSI…IEEE may want to consider BT Upper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97C-5615-435C-8922-1B0D19021D6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7162920" y="1752480"/>
            <a:ext cx="1752480" cy="4419720"/>
            <a:chOff x="7162920" y="1752480"/>
            <a:chExt cx="1752480" cy="4419720"/>
          </a:xfrm>
        </p:grpSpPr>
        <p:sp>
          <p:nvSpPr>
            <p:cNvPr id="221" name=""/>
            <p:cNvSpPr/>
            <p:nvPr/>
          </p:nvSpPr>
          <p:spPr>
            <a:xfrm>
              <a:off x="7162920" y="1752480"/>
              <a:ext cx="1752480" cy="441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PAN-H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40920" y="3736800"/>
              <a:ext cx="1098360" cy="13986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1720" y="5213520"/>
              <a:ext cx="1067040" cy="7761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51720" y="3733920"/>
              <a:ext cx="113832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er data rate enhancement in 2.4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02.15.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8040" y="5216400"/>
              <a:ext cx="99072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1Mbit/s 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Mbit/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8073720" y="3124080"/>
              <a:ext cx="3240" cy="606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5840" y="2514600"/>
            <a:ext cx="4971960" cy="2799720"/>
            <a:chOff x="285840" y="2514600"/>
            <a:chExt cx="4971960" cy="2799720"/>
          </a:xfrm>
        </p:grpSpPr>
        <p:sp>
          <p:nvSpPr>
            <p:cNvPr id="229" name=""/>
            <p:cNvSpPr/>
            <p:nvPr/>
          </p:nvSpPr>
          <p:spPr>
            <a:xfrm>
              <a:off x="341640" y="3525480"/>
              <a:ext cx="118368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5840" y="3483720"/>
              <a:ext cx="12927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4 GHz 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eq. Hopp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read Spect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82560" y="3525480"/>
              <a:ext cx="122760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52680" y="3483720"/>
              <a:ext cx="1285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4 GHz 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rect Seque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read Spect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01960" y="3525480"/>
              <a:ext cx="55332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42560" y="3791160"/>
              <a:ext cx="660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ra-R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82080" y="3311280"/>
              <a:ext cx="379548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20400" y="3337560"/>
              <a:ext cx="0" cy="156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840" y="3202560"/>
              <a:ext cx="0" cy="111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56160" y="3331440"/>
              <a:ext cx="0" cy="1792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13640" y="3337560"/>
              <a:ext cx="0" cy="1796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720" y="4633200"/>
              <a:ext cx="59868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6600" y="4632120"/>
              <a:ext cx="565920" cy="33588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21680" y="4633200"/>
              <a:ext cx="60012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35000" y="4632120"/>
              <a:ext cx="565920" cy="33588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01960" y="4633200"/>
              <a:ext cx="55332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92240" y="4631040"/>
              <a:ext cx="565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0320" y="5100120"/>
              <a:ext cx="1823400" cy="21420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egend: 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</a:rPr>
                <a:t>italic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(and </a:t>
              </a:r>
              <a:r>
                <a:rPr b="1" lang="en-US" sz="800" spc="-1" strike="noStrike">
                  <a:solidFill>
                    <a:srgbClr val="ff0000"/>
                  </a:solidFill>
                  <a:latin typeface="Arial"/>
                </a:rPr>
                <a:t>red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) = optio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56840" y="3337560"/>
              <a:ext cx="0" cy="1857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74320" y="3337560"/>
              <a:ext cx="0" cy="156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48520" y="3525480"/>
              <a:ext cx="77760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95240" y="3525480"/>
              <a:ext cx="82404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26280" y="4633200"/>
              <a:ext cx="639360" cy="39996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19440" y="4633200"/>
              <a:ext cx="598680" cy="58248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89120" y="3521880"/>
              <a:ext cx="85356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gher data rate extension in 2.4 GH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03880" y="3521880"/>
              <a:ext cx="85392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gher data rate extension in 5 GH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02.11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79480" y="4622400"/>
              <a:ext cx="61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1 &amp; 5.5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bit/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39600" y="4635720"/>
              <a:ext cx="594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-12-18...54 Mbit/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54960" y="2514600"/>
              <a:ext cx="3434760" cy="69048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486400" y="1828800"/>
            <a:ext cx="1752480" cy="441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88080" y="3736800"/>
            <a:ext cx="1098360" cy="139860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9240" y="5213520"/>
            <a:ext cx="1066680" cy="776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9240" y="3733920"/>
            <a:ext cx="11379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75200" y="5216400"/>
            <a:ext cx="99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1Mbit/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2438280"/>
            <a:ext cx="3429000" cy="71460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321600" y="3124080"/>
            <a:ext cx="2880" cy="606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996480" y="5105520"/>
            <a:ext cx="7995240" cy="1143000"/>
            <a:chOff x="996480" y="5105520"/>
            <a:chExt cx="7995240" cy="1143000"/>
          </a:xfrm>
        </p:grpSpPr>
        <p:sp>
          <p:nvSpPr>
            <p:cNvPr id="266" name=""/>
            <p:cNvSpPr/>
            <p:nvPr/>
          </p:nvSpPr>
          <p:spPr>
            <a:xfrm>
              <a:off x="5334120" y="5105520"/>
              <a:ext cx="36576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6480" y="5867280"/>
              <a:ext cx="33476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802.15 Coexistence Study 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343400" y="5714640"/>
              <a:ext cx="10666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6320" y="4572000"/>
            <a:ext cx="2971800" cy="1294920"/>
            <a:chOff x="76320" y="4572000"/>
            <a:chExt cx="2971800" cy="1294920"/>
          </a:xfrm>
        </p:grpSpPr>
        <p:sp>
          <p:nvSpPr>
            <p:cNvPr id="270" name=""/>
            <p:cNvSpPr/>
            <p:nvPr/>
          </p:nvSpPr>
          <p:spPr>
            <a:xfrm>
              <a:off x="76320" y="4572000"/>
              <a:ext cx="29718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600200" y="480024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8F41-0F33-4C7B-9083-15944BBB36B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AN Timeline Overview &amp;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egot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5E38-BA4E-456C-A5A0-359C00B83EB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as a Valu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802 as a leader in Wireless Standards-Ma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P802.15 as an expert in WP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ceive Draft Standard Submissions from External and Internal (IEEE) from our Liais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353-03B4-4355-83B9-5BF4AB3A41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 Timeline -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867280"/>
            <a:ext cx="8381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6360" y="6110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20960" y="6110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560" y="609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97880" y="609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09480" y="167616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2408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63868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00100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438280"/>
            <a:ext cx="228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P802.11 Study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WP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048120"/>
            <a:ext cx="2438280" cy="60948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P802.15 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up for WP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74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76520" y="236232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60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962520" y="29714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73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248520" y="320040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828800"/>
            <a:ext cx="228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Ad Hoc “Wearabl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dards 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321080" y="3733920"/>
            <a:ext cx="1927440" cy="2448000"/>
            <a:chOff x="4321080" y="3733920"/>
            <a:chExt cx="1927440" cy="2448000"/>
          </a:xfrm>
        </p:grpSpPr>
        <p:sp>
          <p:nvSpPr>
            <p:cNvPr id="72" name=""/>
            <p:cNvSpPr/>
            <p:nvPr/>
          </p:nvSpPr>
          <p:spPr>
            <a:xfrm>
              <a:off x="4533840" y="3962520"/>
              <a:ext cx="0" cy="1904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27720" y="3733920"/>
              <a:ext cx="1720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P #1 5/6/98 to 3/12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2108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608720" y="4038480"/>
            <a:ext cx="1639800" cy="2145240"/>
            <a:chOff x="4608720" y="4038480"/>
            <a:chExt cx="1639800" cy="2145240"/>
          </a:xfrm>
        </p:grpSpPr>
        <p:sp>
          <p:nvSpPr>
            <p:cNvPr id="76" name=""/>
            <p:cNvSpPr/>
            <p:nvPr/>
          </p:nvSpPr>
          <p:spPr>
            <a:xfrm>
              <a:off x="4800600" y="403848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08720" y="5907240"/>
              <a:ext cx="45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00600" y="4038480"/>
              <a:ext cx="14479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A #1 7/24/98 to 3/12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089040" y="4495680"/>
            <a:ext cx="691200" cy="1906920"/>
            <a:chOff x="6089040" y="4495680"/>
            <a:chExt cx="691200" cy="1906920"/>
          </a:xfrm>
        </p:grpSpPr>
        <p:sp>
          <p:nvSpPr>
            <p:cNvPr id="80" name=""/>
            <p:cNvSpPr/>
            <p:nvPr/>
          </p:nvSpPr>
          <p:spPr>
            <a:xfrm>
              <a:off x="6118200" y="6126120"/>
              <a:ext cx="646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/18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438960" y="49528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6089040" y="4495680"/>
              <a:ext cx="691200" cy="650520"/>
              <a:chOff x="6089040" y="4495680"/>
              <a:chExt cx="691200" cy="65052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6091200" y="4536360"/>
                <a:ext cx="6858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89040" y="4495680"/>
                <a:ext cx="691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pprov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6708960" y="4343400"/>
            <a:ext cx="682560" cy="1838520"/>
            <a:chOff x="6708960" y="4343400"/>
            <a:chExt cx="682560" cy="1838520"/>
          </a:xfrm>
        </p:grpSpPr>
        <p:sp>
          <p:nvSpPr>
            <p:cNvPr id="86" name=""/>
            <p:cNvSpPr/>
            <p:nvPr/>
          </p:nvSpPr>
          <p:spPr>
            <a:xfrm>
              <a:off x="670896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89680" y="4343400"/>
              <a:ext cx="5018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P #2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/14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 7/1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96160" y="47242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469280" y="4343400"/>
            <a:ext cx="682560" cy="1838520"/>
            <a:chOff x="7469280" y="4343400"/>
            <a:chExt cx="682560" cy="1838520"/>
          </a:xfrm>
        </p:grpSpPr>
        <p:sp>
          <p:nvSpPr>
            <p:cNvPr id="90" name=""/>
            <p:cNvSpPr/>
            <p:nvPr/>
          </p:nvSpPr>
          <p:spPr>
            <a:xfrm>
              <a:off x="746928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50000" y="4343400"/>
              <a:ext cx="5018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I #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9/13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 9/17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56480" y="47242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581240" y="1447920"/>
            <a:ext cx="569520" cy="4495320"/>
            <a:chOff x="7581240" y="1447920"/>
            <a:chExt cx="569520" cy="4495320"/>
          </a:xfrm>
        </p:grpSpPr>
        <p:sp>
          <p:nvSpPr>
            <p:cNvPr id="94" name=""/>
            <p:cNvSpPr/>
            <p:nvPr/>
          </p:nvSpPr>
          <p:spPr>
            <a:xfrm flipV="1">
              <a:off x="7883280" y="1676160"/>
              <a:ext cx="0" cy="42670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81240" y="144792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To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1BC-EF8F-48C2-AAE2-04E649F8B5A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39840" y="3833640"/>
            <a:ext cx="8559000" cy="801720"/>
            <a:chOff x="339840" y="3833640"/>
            <a:chExt cx="8559000" cy="801720"/>
          </a:xfrm>
        </p:grpSpPr>
        <p:sp>
          <p:nvSpPr>
            <p:cNvPr id="97" name=""/>
            <p:cNvSpPr/>
            <p:nvPr/>
          </p:nvSpPr>
          <p:spPr>
            <a:xfrm>
              <a:off x="49212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8284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7320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5464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840" y="41022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68280" y="3833640"/>
              <a:ext cx="22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. November 13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V="1">
            <a:off x="228600" y="685800"/>
            <a:ext cx="0" cy="5549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9840" y="5410080"/>
            <a:ext cx="8229600" cy="801720"/>
            <a:chOff x="339840" y="5410080"/>
            <a:chExt cx="8229600" cy="801720"/>
          </a:xfrm>
        </p:grpSpPr>
        <p:sp>
          <p:nvSpPr>
            <p:cNvPr id="105" name=""/>
            <p:cNvSpPr/>
            <p:nvPr/>
          </p:nvSpPr>
          <p:spPr>
            <a:xfrm>
              <a:off x="4921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7320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/20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639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6724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483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/A-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9840" y="56786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67200" y="5410080"/>
              <a:ext cx="185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. May 22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8284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/4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39840" y="3071880"/>
            <a:ext cx="8424360" cy="801720"/>
            <a:chOff x="339840" y="3071880"/>
            <a:chExt cx="8424360" cy="801720"/>
          </a:xfrm>
        </p:grpSpPr>
        <p:sp>
          <p:nvSpPr>
            <p:cNvPr id="114" name=""/>
            <p:cNvSpPr/>
            <p:nvPr/>
          </p:nvSpPr>
          <p:spPr>
            <a:xfrm>
              <a:off x="49212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28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7320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546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9840" y="33400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66120" y="3071880"/>
              <a:ext cx="209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. January 15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264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39840" y="4572000"/>
            <a:ext cx="8229600" cy="801720"/>
            <a:chOff x="339840" y="4572000"/>
            <a:chExt cx="8229600" cy="801720"/>
          </a:xfrm>
        </p:grpSpPr>
        <p:sp>
          <p:nvSpPr>
            <p:cNvPr id="122" name=""/>
            <p:cNvSpPr/>
            <p:nvPr/>
          </p:nvSpPr>
          <p:spPr>
            <a:xfrm>
              <a:off x="4921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8284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7320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639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5464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4500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toro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9840" y="48402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66480" y="4572000"/>
              <a:ext cx="183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. July 10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357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/A-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 flipV="1">
            <a:off x="3123720" y="4559040"/>
            <a:ext cx="2778120" cy="70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276360" y="4483080"/>
            <a:ext cx="373356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895480" y="4559400"/>
            <a:ext cx="990720" cy="73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39840" y="2297160"/>
            <a:ext cx="8246160" cy="801720"/>
            <a:chOff x="339840" y="2297160"/>
            <a:chExt cx="8246160" cy="801720"/>
          </a:xfrm>
        </p:grpSpPr>
        <p:sp>
          <p:nvSpPr>
            <p:cNvPr id="135" name=""/>
            <p:cNvSpPr/>
            <p:nvPr/>
          </p:nvSpPr>
          <p:spPr>
            <a:xfrm>
              <a:off x="49212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8284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7320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5464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840" y="2565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67920" y="2297160"/>
              <a:ext cx="191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. March 8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26440" y="256392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33720" y="76320"/>
            <a:ext cx="4876560" cy="2286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ireless Personal Area Net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70080" y="6418440"/>
            <a:ext cx="1400040" cy="27648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all For Propos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21840" y="6323040"/>
            <a:ext cx="6652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6622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5240" y="635472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gence Achie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15080" y="6348240"/>
            <a:ext cx="168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gence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42080" y="634824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Converg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43080" y="1676520"/>
            <a:ext cx="8229600" cy="801720"/>
            <a:chOff x="343080" y="1676520"/>
            <a:chExt cx="8229600" cy="801720"/>
          </a:xfrm>
        </p:grpSpPr>
        <p:sp>
          <p:nvSpPr>
            <p:cNvPr id="150" name=""/>
            <p:cNvSpPr/>
            <p:nvPr/>
          </p:nvSpPr>
          <p:spPr>
            <a:xfrm>
              <a:off x="2476440" y="1944720"/>
              <a:ext cx="914400" cy="533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3080" y="19447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69360" y="1676520"/>
              <a:ext cx="175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. July 1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0" y="66294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66294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43080" y="1015920"/>
            <a:ext cx="8584560" cy="801720"/>
            <a:chOff x="343080" y="1015920"/>
            <a:chExt cx="8584560" cy="801720"/>
          </a:xfrm>
        </p:grpSpPr>
        <p:sp>
          <p:nvSpPr>
            <p:cNvPr id="156" name=""/>
            <p:cNvSpPr/>
            <p:nvPr/>
          </p:nvSpPr>
          <p:spPr>
            <a:xfrm>
              <a:off x="2476440" y="1284120"/>
              <a:ext cx="914400" cy="533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080" y="12841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71160" y="101592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7. September 13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43080" y="254160"/>
            <a:ext cx="8482680" cy="801000"/>
            <a:chOff x="343080" y="254160"/>
            <a:chExt cx="8482680" cy="801000"/>
          </a:xfrm>
        </p:grpSpPr>
        <p:grpSp>
          <p:nvGrpSpPr>
            <p:cNvPr id="160" name=""/>
            <p:cNvGrpSpPr/>
            <p:nvPr/>
          </p:nvGrpSpPr>
          <p:grpSpPr>
            <a:xfrm>
              <a:off x="343080" y="254160"/>
              <a:ext cx="8482680" cy="801000"/>
              <a:chOff x="343080" y="254160"/>
              <a:chExt cx="8482680" cy="801000"/>
            </a:xfrm>
          </p:grpSpPr>
          <p:sp>
            <p:nvSpPr>
              <p:cNvPr id="161" name=""/>
              <p:cNvSpPr/>
              <p:nvPr/>
            </p:nvSpPr>
            <p:spPr>
              <a:xfrm>
                <a:off x="2476440" y="522000"/>
                <a:ext cx="914400" cy="533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Bluetoo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43080" y="522000"/>
                <a:ext cx="822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671520" y="254160"/>
                <a:ext cx="215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. November 8, 1999 or soon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429680" y="520560"/>
              <a:ext cx="914400" cy="533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540560" y="6008760"/>
            <a:ext cx="1299960" cy="30600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all For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3560" y="163440"/>
            <a:ext cx="6221160" cy="143856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EEE P802.15.1 Draft v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Letter Ballot Issued to W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75F-BEBE-4EE7-9A25-2D10EBD39F7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ergent WPAN Usage Models Are Starting to app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 PAR 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1 = 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PAR 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1 = 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x = WPAN-HR (High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y = WPAN-LR (Low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52680" y="358128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95800" y="2514600"/>
            <a:ext cx="13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-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18480" y="464832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WPAN-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50480" y="36212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258880" y="2362320"/>
            <a:ext cx="691200" cy="1906560"/>
            <a:chOff x="5258880" y="2362320"/>
            <a:chExt cx="691200" cy="1906560"/>
          </a:xfrm>
        </p:grpSpPr>
        <p:sp>
          <p:nvSpPr>
            <p:cNvPr id="174" name=""/>
            <p:cNvSpPr/>
            <p:nvPr/>
          </p:nvSpPr>
          <p:spPr>
            <a:xfrm>
              <a:off x="5288040" y="3992400"/>
              <a:ext cx="646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/18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608800" y="28188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5258880" y="2362320"/>
              <a:ext cx="691200" cy="650160"/>
              <a:chOff x="5258880" y="2362320"/>
              <a:chExt cx="691200" cy="650160"/>
            </a:xfrm>
          </p:grpSpPr>
          <p:sp>
            <p:nvSpPr>
              <p:cNvPr id="177" name=""/>
              <p:cNvSpPr/>
              <p:nvPr/>
            </p:nvSpPr>
            <p:spPr>
              <a:xfrm flipV="1">
                <a:off x="5261040" y="2403360"/>
                <a:ext cx="685800" cy="609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58880" y="2362320"/>
                <a:ext cx="691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pprov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216000" y="5715000"/>
            <a:ext cx="871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WPAN Draft v0.6 was received 4Nov99.  WPAN-HR Call For Interest submission -99/115r0 w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d 2Nov99.  The WPAN-LR Usage Model has not yet been addressed via IE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38098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545800" y="3137040"/>
            <a:ext cx="2302920" cy="1358640"/>
            <a:chOff x="5545800" y="3137040"/>
            <a:chExt cx="2302920" cy="135864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5618160" y="3137040"/>
              <a:ext cx="223056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545800" y="363384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P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BF7-5B76-4B35-AA54-1DBF09C1F4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e Liaison List Re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tooth Special Interest Group (Kardach/Bisdiki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11 (Hayes/Kerry/Murr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SI BRAN Project (Khun-Jush/Delaver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M Forum WATM (Delaver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PAN-High Rate (Allen/Heber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active Liaison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1 (Lindinsk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2 (Carl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RF Working Group (Man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 MobileIP (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RC (Kuriha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P Forum (Parris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DA (McK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Liais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" descr=""/>
          <p:cNvPicPr/>
          <p:nvPr/>
        </p:nvPicPr>
        <p:blipFill>
          <a:blip r:embed="rId1"/>
          <a:stretch/>
        </p:blipFill>
        <p:spPr>
          <a:xfrm>
            <a:off x="698400" y="2997360"/>
            <a:ext cx="520920" cy="201600"/>
          </a:xfrm>
          <a:prstGeom prst="rect">
            <a:avLst/>
          </a:prstGeom>
          <a:ln w="0">
            <a:noFill/>
          </a:ln>
        </p:spPr>
      </p:pic>
      <p:pic>
        <p:nvPicPr>
          <p:cNvPr id="187" name="new" descr=""/>
          <p:cNvPicPr/>
          <p:nvPr/>
        </p:nvPicPr>
        <p:blipFill>
          <a:blip r:embed="rId2"/>
          <a:stretch/>
        </p:blipFill>
        <p:spPr>
          <a:xfrm>
            <a:off x="698400" y="3290760"/>
            <a:ext cx="520920" cy="201600"/>
          </a:xfrm>
          <a:prstGeom prst="rect">
            <a:avLst/>
          </a:prstGeom>
          <a:ln w="0">
            <a:noFill/>
          </a:ln>
        </p:spPr>
      </p:pic>
      <p:pic>
        <p:nvPicPr>
          <p:cNvPr id="188" name="new" descr=""/>
          <p:cNvPicPr/>
          <p:nvPr/>
        </p:nvPicPr>
        <p:blipFill>
          <a:blip r:embed="rId3"/>
          <a:stretch/>
        </p:blipFill>
        <p:spPr>
          <a:xfrm>
            <a:off x="698400" y="3557520"/>
            <a:ext cx="520920" cy="20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C1C2-79C3-48D5-AF46-0BD26C6940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Liaison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3D28-5CAC-4059-B042-FB34119DC2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n &amp;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to Bluetooth 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from Bluetooth 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Nov99 Jim Kardach to Ian Gifford -99/028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 new TG1 Operating Rules to WG &amp; BSIG for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ise on LB #1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going Telecon’s &amp; 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5B1-834C-48B0-938C-2AD5E2489A2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Ian Gifford</dc:creator>
  <dc:description>Ian Gifford, M/A-COM</dc:description>
  <cp:keywords>November 1999</cp:keywords>
  <dc:language>en-US</dc:language>
  <cp:lastModifiedBy>Ian C. Gifford</cp:lastModifiedBy>
  <cp:lastPrinted>1998-02-10T13:28:06Z</cp:lastPrinted>
  <dcterms:modified xsi:type="dcterms:W3CDTF">1999-11-08T23:08:33Z</dcterms:modified>
  <cp:revision>153</cp:revision>
  <dc:subject>#4</dc:subject>
  <dc:title>Liaison Report</dc:title>
</cp:coreProperties>
</file>