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C22B-4109-4469-B5FF-40388AB43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97B9-D440-4695-A0D4-DA08CC4A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66EB-0D21-48FC-A622-E98A80C49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4F30-1F1D-42EC-BF32-386CEB045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8BC3-D34E-455E-A615-3AFF1292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429C-07B5-4A23-A632-EA1BD313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BE2B-5741-4A2B-80C2-2C49CABA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AE05-BAC5-4F32-892F-11514DEC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C507-8C75-4155-B0AC-44C3E0CD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5D03-5DF4-4032-85B8-DB08F577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CDDF-0D11-4542-8E60-F43AC246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13E5-A804-4E9C-A10F-57206DB3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b O’Hara, Chair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1451F39-ED34-433B-856A-1435BD3C7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2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4000" y="6446880"/>
            <a:ext cx="916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Gd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Gd 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ember 1999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uai Hawa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6A0A-22A0-4C99-9832-76E28B698AD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sue a draft for WG letter bal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03E2-E065-4E8E-9E8C-5F2E59D5C39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mi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O’Hara: 99/244 Communication of PHY Specific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 Zegelin: 99/257 International Roa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D196-D9EA-4B59-B34F-A0D5CF2C9B9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issue TGd draft 0.2 contained in document P802.11d Draft0.2.doc to working group letter bal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passed unanimously in TG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C1EC-E3A3-4375-A188-87E80FF5B2D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mpower the January interim meeting to process comments on the TGd letter ballot and to issue a new draft to working group letter bal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passed unanimously in TG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FB50-85D6-4DAF-A09B-325DCC5B253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3:03:53Z</dcterms:created>
  <dc:creator>Bob O'Hara</dc:creator>
  <dc:description/>
  <dc:language>en-US</dc:language>
  <cp:lastModifiedBy>Bob O'Hara</cp:lastModifiedBy>
  <cp:lastPrinted>1998-02-10T13:28:06Z</cp:lastPrinted>
  <dcterms:modified xsi:type="dcterms:W3CDTF">1999-11-11T22:28:03Z</dcterms:modified>
  <cp:revision>11</cp:revision>
  <dc:subject/>
  <dc:title>TGd Agenda</dc:title>
</cp:coreProperties>
</file>