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576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576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28600" y="698040"/>
            <a:ext cx="460224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94204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94204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E184D84-3731-4436-AE81-C2DFB1F12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942400"/>
            <a:ext cx="225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tative agenda Full WG, Jul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6560" y="8940960"/>
            <a:ext cx="540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2040" y="295200"/>
            <a:ext cx="55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84760" y="-1440"/>
            <a:ext cx="2973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4760" y="877248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77248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-14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2960" y="4385880"/>
            <a:ext cx="50306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2240" cy="3451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84760" y="-1440"/>
            <a:ext cx="2973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4760" y="877248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77248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-14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2960" y="4385880"/>
            <a:ext cx="50306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2240" cy="34513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2AA-6EDB-430B-BF4A-E375EDFA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324-5D89-4ACC-8D97-21C5A978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E72D-5E8B-4C2F-BCA7-101EC256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112-C859-4C52-9182-921A8F41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99AF-92A1-449D-8778-4CB10674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29A-142B-4AB3-B05E-434F0333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2627-2749-4AB8-A3FB-2C83A4F2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C48-8BD4-498E-B3B2-BF000D81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9FE-A4F4-48CF-BF2A-0CC4D344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7FEA-6747-4EFC-86CF-ABF53450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5A87-50FE-4CC8-AF93-E5C4AB2A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89C3-261F-4D26-9FFB-BE92633E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73560" y="6474960"/>
            <a:ext cx="674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l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F4D32E4-7F29-4FF2-96EE-3310E556239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42884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43-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320" y="609480"/>
            <a:ext cx="775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289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tative agenda Full WG, Nov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06320" y="6477120"/>
            <a:ext cx="782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59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ession of meetings of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EEE P802.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reless Local Area Networ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tative Agen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ember 8-12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loa, 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ession starts on Monday, Nov 8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:0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ess Code: ca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d tool to follow discussions: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D18-81E9-47B1-B9DF-A0262CA0CCA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ture Meeting Sche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8-12 - Hyatt Regency, Kauai, Koloa, HI, Ple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 10-14 - Tel Aviv, Israel, Interim (Breeze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ch 6-10 - Hyatt Regency, Albuquerque, NM, Ple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8-12 - Renaissance Madison Hotel, Seattle, WA (Boe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ly 10-14 - Hyatt Regency La Jolla, San Diego, CA, Ple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Sept 18-22 - Memphis, TN (FedEx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6-10 - Hyatt Regency, Tampa, F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EAC-EC71-4D14-ACC9-9B949044E94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4.1 Awards for 8802-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 Brock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ri Moel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win Eng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hny Zwe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426F-EC11-40EB-9FDB-956B136CBB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EC2F-AADA-4BC8-88F7-27D49BAB1DE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s for this 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text for 802.11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PAR and 5 Criteria for SG MAC Enhance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 letters to liaison groups and to regulatory agencies as needed, 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C NPRM ET Docket No. 99-2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C NPRM ET Docket No. 99-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C 2000/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C6DF-249C-4067-BD43-5EEE8DFB9F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ic 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8600" y="1349280"/>
          <a:ext cx="8686800" cy="498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49280"/>
                    <a:ext cx="868680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348-C71A-4567-A559-75882C2C688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nda, Thursday,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:30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list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da adju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60E7-661D-4529-8269-41234A8B62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nda, Thursday,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 a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sub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.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G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ubmit the draft standard 11d to WG 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mpower the group to resolve LB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.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 to UK-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 to FCC Reply Comments on 99-2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 to ITU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to d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C22-D6E8-4CAF-865C-BEF5A76E5F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nda, Thursday,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.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y group Enhanced 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for SG MAC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to submit PAR to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5.4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G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Chair to form Sponsor Ballot Group as soon as PAR has been ap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to start WG Letter Ballot so that Sponsor Ballot can start from the March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61ED-9047-446A-897A-8A4D87EFDE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nda, Thursday,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finishe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 802.11b C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/2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tter to UK-RA re Consult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/2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tter to FCC re 99-23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/2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tter to ITU-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/2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tension for SG MAC enhance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raft PAR MAC enhance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053-ED2A-4FD8-96AD-4300E9E4D6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nda, Thursday,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 for next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resolve LB results of TG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work on the PAR and 5 Cr to be ready for submission to SEC, 30 days before March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resolve LB results of T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respond to Reg ulatory events and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ling dates as soon as possible, weekly uploads, as the need arises in diskette format for those that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E6C7-93C6-46A3-B1A4-6ECC27D5AC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nda, Thursday,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interim meeting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:00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3D1-7052-40F1-B9E3-FBFF8B76F2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vichayes</cp:lastModifiedBy>
  <cp:lastPrinted>1999-11-08T20:44:23Z</cp:lastPrinted>
  <dcterms:modified xsi:type="dcterms:W3CDTF">1999-11-11T23:02:57Z</dcterms:modified>
  <cp:revision>65</cp:revision>
  <dc:subject/>
  <dc:title>No Slide Title</dc:title>
</cp:coreProperties>
</file>