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12B-8C53-490A-9525-FFADF962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0A2-B8DB-4AFA-B727-004B8E78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407-71AC-4370-B230-1A220DD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DC5-1851-47A5-903B-A2AE9514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471-8CD9-46BA-BA42-216C7106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B2E-59E6-43B0-A7C2-0227A74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DC9-5F91-4270-AD8D-70ECE70B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87D-CF79-4657-87CD-C3FA0AE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492-906D-4EE9-A633-85A2F85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09-C116-4537-A73C-FA5106D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EDA-4AF1-4538-B8DD-20F6633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40D-43A4-4191-B547-C61ACFA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FD07E5-6C19-4FAB-A181-9A41F9847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112-B4CC-44EE-97BE-05A3295AFF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1EF-4163-40B6-A3FB-7AA0F9A4D0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CD3-613F-40B3-966E-71FE05A286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 for Tu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one or more small groups to draft text for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vene Wednesday morning at 10:3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47F-33FD-4B94-928C-8D33A0F3E3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65F-A152-4C15-8032-263922988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30:22Z</dcterms:modified>
  <cp:revision>11</cp:revision>
  <dc:subject/>
  <dc:title>TGd Agenda</dc:title>
</cp:coreProperties>
</file>