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CC3-1377-440E-8EA8-84E75B7A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BC-0DF5-4DB8-9126-3158DCE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DFB-5DBC-45AB-82A3-9A1FB60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EAF-0186-4352-B350-80A0405F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8BA-C020-4258-AF25-32DAC896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209-CE98-47E3-A900-15C531E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0C1-194E-4D6B-8CE4-722D2CF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584-D926-4EF0-97AB-5A1A021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F75-60E7-4453-9120-3945ECA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272-6B4C-4157-B5BE-BC20CAE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DD6-833A-492D-A35A-4252587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207-104C-4CF2-BCAE-B6B0954B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FA4BED-FB16-47B7-AC74-18A5C758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custom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438280" y="4568760"/>
            <a:ext cx="3886200" cy="9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road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need to incorporate new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er then IEEE can standardiz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need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requires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requires mechanisms to accommodate thes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/3. Compatibility with IEEE Standard 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imply adding something improves interoperability of systems with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echn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management frames already allows frame customization through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serve element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explicit that the extension of managements frames with additional elements is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implementations require no or minor modifications to be compa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Econom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implementations are already compatible with extended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ark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5:30:38Z</dcterms:created>
  <dc:creator>Maarten Hoeben</dc:creator>
  <dc:description/>
  <dc:language>en-US</dc:language>
  <cp:lastModifiedBy>Maarten Hoeben</cp:lastModifiedBy>
  <dcterms:modified xsi:type="dcterms:W3CDTF">1999-11-09T08:12:16Z</dcterms:modified>
  <cp:revision>5</cp:revision>
  <dc:subject/>
  <dc:title>Frame customization PAR Criteria</dc:title>
</cp:coreProperties>
</file>