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37461-C84F-42B7-9B2D-E1F0A9924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822CC-BA38-4B4F-9500-0A2DA10C7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48DDE-34EF-449E-ACC7-5E07FBBD4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A5897-B7E0-4E5B-8A2E-40EAE6EE1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DFFEE-BCEA-45B0-9111-F1E276FB7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54BD5-9D90-4ABD-B48B-FE12D7140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B3A4E-9F59-46F2-B1C5-415D96BC5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B9E3A-3304-4C4A-B2D3-1F4EF5974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BD28D-49D3-4125-B8AE-56A3A1CC7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B4178-02F8-469F-B3F4-26299EA0F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74186-27A9-41D3-B275-C3F2B2D00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AA529-9058-4EE5-8DDC-310168470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395640"/>
            <a:ext cx="82872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28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A439F490-841B-41C3-9F59-FAF179AA2C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99/25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ad Balancin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 Criter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arten Hoeb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nowires" descr=""/>
          <p:cNvPicPr/>
          <p:nvPr/>
        </p:nvPicPr>
        <p:blipFill>
          <a:blip r:embed="rId1"/>
          <a:stretch/>
        </p:blipFill>
        <p:spPr>
          <a:xfrm>
            <a:off x="2438280" y="4568760"/>
            <a:ext cx="3886200" cy="917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. Hoeben - No Wires Need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. Broad Market Potent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urrently not part of the 802.11 MAC, but very often an important evaluation criter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garded as essential for application of 802.11 based systems in densely populated are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vendors already incorporate proprietary solutions in their produ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. Hoeben - No Wires Need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. Compatibility with IEEE Standard 80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ad balancing is just another parameter in the roaming decision made by the station based on extra information about the load of an access poi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is a pure MAC change (PHY is un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does not change the LLC interf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ad balancing aware implementations will benefit from new function, current implementations will continue to work as bef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. Hoeben - No Wires Need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. Distinct ident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 applic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’re simply adding something that improves the performance of 802.11 based systems in densely populated are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. Hoeben - No Wires Need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. Technical feasi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me extra information fields in the Beacon and Probe Response frames is enoug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ust another parameter in the roaming decision of st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 that this is more an implementation iss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simple modifications to the stand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en technolo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prietary systems already implement load balancing sche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. Hoeben - No Wires Need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. Economical feasi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aightforward implementation, backward compatibility and proven technology make load balancing economical feasi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. Hoeben - No Wires Need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7T05:07:03Z</dcterms:created>
  <dc:creator>Maarten Hoeben</dc:creator>
  <dc:description/>
  <dc:language>en-US</dc:language>
  <cp:lastModifiedBy>Maarten Hoeben</cp:lastModifiedBy>
  <dcterms:modified xsi:type="dcterms:W3CDTF">1999-11-09T08:12:13Z</dcterms:modified>
  <cp:revision>7</cp:revision>
  <dc:subject/>
  <dc:title>Load Balancing PAR Criteria</dc:title>
</cp:coreProperties>
</file>