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85A-D2EB-4398-AE1F-DF748AF5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566-8F02-4BB6-9816-752ECE3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156-5443-414E-8518-6B2EB1C6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344-2020-4D4F-80F3-44710AF8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62E-8E96-4B7B-B9D6-2762B08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470-5242-4C72-B0CB-E5AA67AD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F6F-9718-478C-920C-CE5D1A2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1E2-4694-44DA-899E-13429CDF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A1D-EF14-4E6D-B26F-C3278A2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01F-F9CC-42EA-AC42-A96C32E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722-BAA8-446D-9B7B-5A7A3BB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F2E-5F27-4DA0-90F7-97029A8A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an Winkowski, BreezeCOM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500587-18BE-4448-B764-9AC58863B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doc.: IEEE 802.11-99/2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Protocol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Winkow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 L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798-E6CE-4B76-BFEF-298DA9D665F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New PHY’s defined lately in 802.11, while MAC remained stat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Efficiency was analyzed for different packet sizes as well as different transaction scena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Analisys was performed on a transaction 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Substantial degradation in protocol effici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C11-CE0B-4885-BFEB-BA300DD008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mount of Networ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, 400 and 1500 bytes Data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ransaction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C (Data-Ack and  RTS-CTS-Data-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F (CF-Poll{+Data}-CF-Ack{+Data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D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minal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Mbps, 11Mbps, 24Mbps and 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90920" y="1676520"/>
          <a:ext cx="3047760" cy="107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3047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DC1-5218-47BC-98FE-8EF292A50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C Efficiency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like Collisions and Backoff were not considered, thus efficiency is actually 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600200"/>
          <a:ext cx="88390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FDF-5186-4E43-AFE0-2E147E0EB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: Data-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5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8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4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7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828800"/>
          <a:ext cx="70102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0102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EEA-2E02-48CD-8DB2-030C350108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C: RTS-CTS-Data-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1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1685880"/>
          <a:ext cx="70866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85880"/>
                    <a:ext cx="70866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CA8-F77A-406B-A467-7968733FAE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performance depends on protoco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simulation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length: 400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 of different trans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ata (CF-Poll) - Data (CF-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F-Poll - Data (with CF-Ack on next po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ata (CF-Poll) - CF-Ack (No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F-Poll (No Data) - P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2BF-4673-4C59-B04C-7872D5AA4A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fficiency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676520"/>
          <a:ext cx="8153280" cy="14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0" y="2971800"/>
          <a:ext cx="464832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971800"/>
                    <a:ext cx="4648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8C3-560E-4853-8BCA-9C99D269C1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antitative efficiency degradation in all scenarios analy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sible improvements propos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frames for Data and Control information (specially in short fra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of feedback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in advance by the AP (PCF improv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CFD-C287-4ED2-A637-26260F6645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8:29:19Z</dcterms:created>
  <dc:creator>Alan Winkowski</dc:creator>
  <dc:description/>
  <dc:language>en-US</dc:language>
  <cp:lastModifiedBy>Alan Winkowski</cp:lastModifiedBy>
  <cp:lastPrinted>1998-02-10T13:28:06Z</cp:lastPrinted>
  <dcterms:modified xsi:type="dcterms:W3CDTF">1999-11-09T19:11:27Z</dcterms:modified>
  <cp:revision>8</cp:revision>
  <dc:subject/>
  <dc:title>Protocol Efficiency</dc:title>
</cp:coreProperties>
</file>