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9/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6320" y="609480"/>
            <a:ext cx="7751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06320" y="6477120"/>
            <a:ext cx="7828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62120" y="1981080"/>
            <a:ext cx="7772400" cy="21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Frequency Selection and Transmit Power Control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tential project for the MAC Enhancement 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4876920"/>
            <a:ext cx="7772400" cy="13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Jan Bo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802.11a and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process to get 802.11a adopted as a European ‘HiperLAN’ standard, 802.11b should at least be conformant to European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ERC Decision ERC DEC 99(NN) has been provisionally approved  that covers both HIPERLAN/1 and HIPERLAN/2  and defines the revised frequency bands and power limits.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ome requirements are not addressed in 802.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Power Lim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2120" y="4952880"/>
            <a:ext cx="777240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quirements are also addressed in the HiperLAN2 systems overview (TR 101 683 V1.1.2 (1999-06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8000" y="2577960"/>
            <a:ext cx="852156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Frequency Selection (DF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 with radar systems, some of which are mo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dynamic adaptation  (DFS) to local interference condi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d to spread their emissions over the available frequency chann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quirement to spread is a statistical requirement that should be satisfied on a large scale rather than the scale of a single HIPERLA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 across a minimum of 330 MHz, or 255 MHz in the case of equipment used only in the band 5470 – 5725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m should work in the low and high 5 GHz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ails of such a mechanism are to be dec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r Power Control (TPC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ive of the TPC mechanism is to reduce the large scale average RF output by at least 3 dB relative to the RF output of systems not implementing T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link and down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enha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oks’ to implement DFS and TCP available in 802.11a PHY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in MAC required to control DFS and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as project for the MAC enhancement S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ails for implemen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n Boer</dc:creator>
  <dc:description/>
  <dc:language>en-US</dc:language>
  <cp:lastModifiedBy>Jan Boer</cp:lastModifiedBy>
  <cp:revision>0</cp:revision>
  <dc:subject/>
  <dc:title>No Slide Title</dc:title>
</cp:coreProperties>
</file>