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6871-CB0C-4216-8DCD-95E5C4F3D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C5D2-EC71-4012-8097-FCC695BB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CEFF-AA1B-4E19-B822-090D8613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A83A-6733-46CE-AF17-DF1937260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3597-AC67-4A6B-8975-376F40BA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08DD-B0E8-4013-9F66-068BFE53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2710-965A-478B-B072-96935BFD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E785-66A3-4FCD-9B03-569A35AC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7035-19CE-4D65-803B-2569AD6C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71F9-E226-4C56-AB02-A457E576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AD42-7396-420C-8FD9-089E757F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5B6F-C4B2-4F88-A125-ACCA6C2C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E26B-CB8A-4796-B75E-DC893E878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600" y="396000"/>
            <a:ext cx="1241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486400" y="6475320"/>
            <a:ext cx="312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is Kuwahara,  Boe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11516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2537966-E224-4EE9-BC7C-66FC8CC07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0/26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Study Grou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ory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uai, Hawa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-11 Nov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Study Grou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ory Issu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u Delaverson    Motor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 Johnson         WLAN Consul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is Kuwahara   Boe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chard Paine        Boe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ner Mim           Prox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Murray         N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ry Worstell      AT&amp;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 Ligh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4 GHz NPRM Com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GHz World W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K - RA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F Ligh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new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 if this is 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Action at This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4 GHz NPRM Com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of NPRM Com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4 Comments, 14 with Suppor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efuting Data F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d Draft Reply -- in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K -- RA Consult Do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G feels need for coexist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mmend ETSI/IEEE coexistence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y to UK RA RF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im Carlo, Fred Lucas, Vic Ha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GHz World W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G is still in 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 Position to US SG8a/9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C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9T07:57:46Z</dcterms:created>
  <dc:creator>Standard Software Service</dc:creator>
  <dc:description/>
  <dc:language>en-US</dc:language>
  <cp:lastModifiedBy>Standard Software Service</cp:lastModifiedBy>
  <dcterms:modified xsi:type="dcterms:W3CDTF">1999-11-11T02:47:34Z</dcterms:modified>
  <cp:revision>5</cp:revision>
  <dc:subject/>
  <dc:title>802.11 Regulatory Issues  Study Group</dc:title>
</cp:coreProperties>
</file>