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F07A-4B8D-4E2F-AFFE-E5D1E82B4B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5CC2-E925-4EA6-91B0-8AB1AAB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CEDD-A28F-45A7-A14B-646DBAB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481F-A5E3-49B3-AC59-F0D9EBF60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A4FB-FC20-4C37-A3E6-83DF039A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5BDC-2CBA-4B28-BC99-B77DDED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C929-409F-4B7D-AF2E-08BFC5B7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0B44-8556-4A9D-AA8A-8A7EB4E9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19DA-0A47-43C1-B43E-DB8F846A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8F21-0E1C-4A73-B115-DDB2C8B6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7F99-3BF9-4942-A088-AB00A58F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7FF7-FA78-42B2-8627-D536B68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4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Beach, Symbol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6320" y="609480"/>
            <a:ext cx="77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248520"/>
            <a:ext cx="782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DC59-5ABB-48ED-B01F-1B984EFBBD14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B49563-CF18-46BF-AE2A-5820BEED5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Issues with 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3D2E-A7BF-4B19-B725-0AF5695965B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71D94-C135-4067-B7C3-B6F1451920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ual User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buys AP and attaches it to office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periment/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ist others in breaking into corporate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ttached, the corporate net is wide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mins are unaware of new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at corporate security has now been completely compro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C6AA-0894-4931-BA3D-6660260595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31446-AF94-466B-B300-EE5A870A69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on of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eans to detect presence of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ministrators can detect all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disa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0DE2-8AFE-4D65-B269-D77ED0BC84A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9B306-1AF7-4168-B15C-661F0CC624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uthentic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enterprise authentication solutions on the hori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2000 uses Kerb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mechanisms may support WLAN authentication and ke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authentication may interfere with such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2AB7-417E-43EB-B8D2-C36372E9CC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09902-A548-43E1-ACAF-D5753D4A31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uthentic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vels of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r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ate, then associate model prevents limited access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 may communicate with authentication servers but nothing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Kerberos may use Network Time Protocol to obtain 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F0CB-932B-4487-8C58-0A13B10004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3D62-42C5-40B3-A03D-A0C4798A74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Impr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levels of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uthentication server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out authentication and encryp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authentication, but WEP for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3B0E-1BAF-4A94-A5F3-D011D65B52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28D69-9EA9-4865-AA06-5B21243461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was designed for a generally benig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s are very tempting to hac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attached to corporat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ypes of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issues that need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just WEP key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B48A-AA64-4FD3-9E08-E495A6F853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DD6CE-98DC-4F53-B49B-03BD9BAE79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tations of W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s available for the 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physical access to corporat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passes corporate fire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 and AP technology readily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still learning to install/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is moderately defen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F3BE-A9F1-4D75-8F9A-14723ABB79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784E6-459C-43E2-9FB0-F59A8F18A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s and Attackers are Var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ing into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l data, corrup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IP addresses for other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disruptions are as bad as break-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 Ex, UPS use wireless LANs for package s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s are worldwide and orga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hief/fun, ideological, com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C97F-1C89-4E23-9C8D-AD2E51EA09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F0E80-D91A-488D-94DE-A5CFB39B4E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ecu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relatively benig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Authorization/encry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of RF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Address Fo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of Unauthorized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802.11 authorization mechanism and other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66D4-0AEB-4FDB-89F1-6A2364BFF2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1AA2F-7F25-42B5-ABE0-BB4D7C85B4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 of RF Protoc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of phony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ans to verify identity of s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ompletely (or partially) disrupt net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0C7C-7B8F-4F61-88F9-940E2F74C4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C4DA2-5AD5-41AA-A3C9-4A2515C5EA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F Protocol Att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associate requests consume AP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ower management mod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RTS/CTS Packets waste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Disassociate requests disconnect 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beacons to consume MU battery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robe responses confuse MU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oll requests steal MU’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26F1-4FAD-4F03-A707-C8C2C7AF6D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67473-01F9-4A61-B1B4-61B1B05E63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Protocol Integrity Reqm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to verify identity of s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to prevent replay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and retransmission of “good pack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3A66-21DA-4F11-9081-BE44D362F8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D9890-2A9A-4625-8611-19857C9A98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Address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dresses are subject to Forg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Vendors NIC cards can be reprogram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development kits from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endors rely on Access Control Lists for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eans to verify MAC address/MU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DE6E-2747-4675-B904-A7A04E5958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C21C1-B847-4FFF-8E69-13A142B9DE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uthorized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in the parking lo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MAC address as real 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s Mobile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may be simple mischief  or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Disrupt operation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looks okay, but nothing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 Mobile Unit 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to MU, break in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AB23-E4BE-4058-98AA-1E1B10017B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5F375-E16C-4A17-92CC-6D9C666C30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9:06:16Z</dcterms:created>
  <dc:creator>Bob Beach</dc:creator>
  <dc:description/>
  <dc:language>en-US</dc:language>
  <cp:lastModifiedBy>Bob Beach</cp:lastModifiedBy>
  <cp:lastPrinted>1999-09-29T19:25:50Z</cp:lastPrinted>
  <dcterms:modified xsi:type="dcterms:W3CDTF">1999-11-10T19:04:27Z</dcterms:modified>
  <cp:revision>28</cp:revision>
  <dc:subject/>
  <dc:title>Security Issues with IEEE 802.11</dc:title>
</cp:coreProperties>
</file>