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AF9B-BF10-4C31-A847-1FC2A4B9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2D1-52E4-4592-96F5-4DFF729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806-F80A-41C4-86B4-355E14E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034-3059-4E92-841E-5FAAC0E8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DB7-F0C4-4AA0-B0C3-E5B267F5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84B-888F-4910-82A1-AEB5E449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7F0-2F24-485B-92D8-D7279745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644-487C-40E5-BA78-F361E98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DBF-0573-4514-889F-00F54CF1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69C-4C47-455D-98BF-FF999C11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910-50A4-4448-B527-C47A2EE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B15-A882-4482-8736-7BD92E9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97D-0C38-44B6-B23C-40D1092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A20C-2DC9-4C17-86B6-F805BD386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3D05-88F6-4F66-BCD8-0B6C383E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0F8B-ADDE-4061-B905-BAF0DAA53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598D5C-F225-4F47-84FA-847E0BE3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280" y="1858680"/>
            <a:ext cx="7939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 for &gt; 40 bit W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05320" y="228600"/>
            <a:ext cx="563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ed for &gt;40 bit W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600200"/>
            <a:ext cx="7620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bit encryption can now be broken in less than a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5 bit just broken with major comput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requiring &gt;40 bit encryption cannot just pay for higher bi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- include several other options in addition to 40 bi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56:27Z</dcterms:created>
  <dc:creator>Mathematics &amp; Computing Technology</dc:creator>
  <dc:description/>
  <dc:language>en-US</dc:language>
  <cp:lastModifiedBy>Mathematics &amp; Computing Technology</cp:lastModifiedBy>
  <dcterms:modified xsi:type="dcterms:W3CDTF">1999-09-14T16:33:46Z</dcterms:modified>
  <cp:revision>2</cp:revision>
  <dc:subject/>
  <dc:title>No Slide Title</dc:title>
</cp:coreProperties>
</file>