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2C96-C7FD-4461-9D1C-F7A3F602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FEE3-1447-4234-B072-0A01B27A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9912-6AF9-4E37-8E4E-2E3980F6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FDB0-4166-4964-A579-0D148EC0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3628-D98E-461D-9C37-F3047CD1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CE26-5A47-499A-A382-56A986CF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0628-5BA2-4137-B0F1-6E51CEB0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460F-AAC6-48E2-97A1-5B54B15E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5FA6-749A-4DC1-B9BC-23B30FD4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635C-E854-4A51-935E-8534A7EA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1981-7B90-458A-8101-14A0246E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862F-1B08-474D-8F50-A554EC53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B6CC93B-A765-442D-8E05-54CB376F9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14600" y="396000"/>
            <a:ext cx="5943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71r0 {802.11-99/223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pping the Bluetooth Specific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5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Sie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iep@t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mllieee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628560" cy="714240"/>
          </a:xfrm>
          <a:prstGeom prst="rect">
            <a:avLst/>
          </a:prstGeom>
          <a:ln w="0">
            <a:noFill/>
          </a:ln>
        </p:spPr>
      </p:pic>
      <p:pic>
        <p:nvPicPr>
          <p:cNvPr id="48" name="IEEE%20802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739800" cy="7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6C33-2497-460F-9C79-094787BBA32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Layer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1752480"/>
          <a:ext cx="6324480" cy="48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632448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C9B5-A334-49BA-B0ED-931829E4169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Anne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676520" y="2666880"/>
          <a:ext cx="579096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66880"/>
                    <a:ext cx="579096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E303-5045-4AAF-A4D4-BD4DD182FB6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9059r4P802-15_Mapping-Between-Bluetooth-802-15-1.d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mic Sans MS"/>
              </a:rPr>
              <a:t>Will be on Flash after this meeting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mic Sans MS"/>
              </a:rPr>
              <a:t>may be updated this we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DE4F-1227-4A85-962C-DE152E55E8E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 of Bluetooth Spec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DI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IFI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1 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FREQUENCY BANDS AND CHANNEL ARRAN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TRANSMITTER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4 RECEIVER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BAND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GENERAL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PHYSICAL 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 PHYSICAL 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4 PA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5 ERROR COR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6 LOGICAL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7 DATA WHITE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8 TRANSMIT/RECEIVE ROUT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9 TRANSMIT/RECEIVE TI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0 CHANNEL CONTROL B11 HOP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2 VOICE COD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3 BLUETOOTH ADDR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4 BLUETOOTH 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 MANAGER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 FORMAT OF L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 THE PROCEDURE RULES AND PD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4 CONNECTION ESTABL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5 SUMMARY OF PD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6 TEST M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7 ERROR HAND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2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1 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2 GENERAL OPE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 STATE MACH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4 DATA PACKE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5 SIGNAL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6 CONFIGURATION PARAMETER O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7 SERVICE PRIMI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8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2CAP APPENDIX A: CONFIGURATION MS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2CAP APPENDIX B: IMPLEMENTATION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8FFA-E34B-4216-8805-26D86D25C030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 of an 802 MAC/PHY Stand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verview</a:t>
            </a:r>
            <a:r>
              <a:rPr b="0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rmative 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bbreviations and Acrony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5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General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Access Control (M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Physical Layer (PH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P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otocol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plementation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C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nformance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atement pro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Description of MAC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Description of PHY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 Management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 Management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ibli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6079-F5B7-48E9-92B3-CEFD56A3EE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371600" y="2057400"/>
          <a:ext cx="642636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64263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733920" y="5029200"/>
          <a:ext cx="2197080" cy="5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5029200"/>
                    <a:ext cx="219708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809880" y="3505320"/>
          <a:ext cx="2370240" cy="146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3505320"/>
                    <a:ext cx="237024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809880" y="3048120"/>
          <a:ext cx="3054600" cy="148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3048120"/>
                    <a:ext cx="30546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048120" y="2743200"/>
          <a:ext cx="4255920" cy="1317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2743200"/>
                    <a:ext cx="42559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057400" y="2743200"/>
          <a:ext cx="3970440" cy="1508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2743200"/>
                    <a:ext cx="397044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0853-4FD3-40B1-933D-8D5977760B9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pping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     and        ML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90720" y="1828800"/>
            <a:ext cx="6629400" cy="4291560"/>
            <a:chOff x="990720" y="1828800"/>
            <a:chExt cx="6629400" cy="4291560"/>
          </a:xfrm>
        </p:grpSpPr>
        <p:sp>
          <p:nvSpPr>
            <p:cNvPr id="69" name=""/>
            <p:cNvSpPr/>
            <p:nvPr/>
          </p:nvSpPr>
          <p:spPr>
            <a:xfrm>
              <a:off x="4359600" y="1828800"/>
              <a:ext cx="0" cy="40132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71" idx="3"/>
              <a:endCxn id="72" idx="0"/>
            </p:cNvCxnSpPr>
            <p:nvPr/>
          </p:nvCxnSpPr>
          <p:spPr>
            <a:xfrm>
              <a:off x="5963040" y="2351880"/>
              <a:ext cx="27360" cy="2559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73" name=""/>
            <p:cNvSpPr/>
            <p:nvPr/>
          </p:nvSpPr>
          <p:spPr>
            <a:xfrm>
              <a:off x="5174640" y="2468520"/>
              <a:ext cx="1630080" cy="407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ion Mgm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74640" y="3224520"/>
              <a:ext cx="1630080" cy="3488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nk-level 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74640" y="3748320"/>
              <a:ext cx="1630080" cy="523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iconet &amp; 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74640" y="4388040"/>
              <a:ext cx="1630080" cy="407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nk In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74640" y="4911480"/>
              <a:ext cx="1630080" cy="407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er 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70880" y="5086080"/>
              <a:ext cx="1901520" cy="523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ming /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equency Sel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70880" y="4717440"/>
              <a:ext cx="1901520" cy="3099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cket Co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70880" y="4388040"/>
              <a:ext cx="1901520" cy="271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cry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70880" y="4038840"/>
              <a:ext cx="1901520" cy="2905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86280" y="3690000"/>
              <a:ext cx="1086480" cy="2905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99080" y="3282480"/>
              <a:ext cx="2282040" cy="348840"/>
            </a:xfrm>
            <a:custGeom>
              <a:avLst/>
              <a:gdLst>
                <a:gd name="textAreaLeft" fmla="*/ 354240 w 2282040"/>
                <a:gd name="textAreaRight" fmla="*/ 1927800 w 2282040"/>
                <a:gd name="textAreaTop" fmla="*/ 54000 h 348840"/>
                <a:gd name="textAreaBottom" fmla="*/ 294840 h 34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715" y="21600"/>
                  </a:lnTo>
                  <a:lnTo>
                    <a:pt x="2885" y="2160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O/ACL De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99080" y="2817360"/>
              <a:ext cx="760680" cy="407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oic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d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68840" y="2933640"/>
              <a:ext cx="1412640" cy="29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agm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97040" y="2526480"/>
              <a:ext cx="1738800" cy="348840"/>
            </a:xfrm>
            <a:custGeom>
              <a:avLst/>
              <a:gdLst>
                <a:gd name="textAreaLeft" fmla="*/ 293400 w 1738800"/>
                <a:gd name="textAreaRight" fmla="*/ 1445400 w 1738800"/>
                <a:gd name="textAreaTop" fmla="*/ 58680 h 348840"/>
                <a:gd name="textAreaBottom" fmla="*/ 290160 h 34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83" y="21600"/>
                  </a:lnTo>
                  <a:lnTo>
                    <a:pt x="3417" y="2160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X/ DE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62000" y="2410200"/>
              <a:ext cx="1358280" cy="581760"/>
            </a:xfrm>
            <a:prstGeom prst="leftRightArrow">
              <a:avLst>
                <a:gd name="adj1" fmla="val 63750"/>
                <a:gd name="adj2" fmla="val 48641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2CAP Signal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44560" y="3166560"/>
              <a:ext cx="1303920" cy="523440"/>
            </a:xfrm>
            <a:prstGeom prst="leftRightArrow">
              <a:avLst>
                <a:gd name="adj1" fmla="val 69444"/>
                <a:gd name="adj2" fmla="val 51666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MP PD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49000" y="1886760"/>
              <a:ext cx="760680" cy="581760"/>
            </a:xfrm>
            <a:prstGeom prst="upDownArrow">
              <a:avLst>
                <a:gd name="adj1" fmla="val 55657"/>
                <a:gd name="adj2" fmla="val 32815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934560" y="2105280"/>
              <a:ext cx="872280" cy="434520"/>
            </a:xfrm>
            <a:prstGeom prst="leftRightArrow">
              <a:avLst>
                <a:gd name="adj1" fmla="val 71870"/>
                <a:gd name="adj2" fmla="val 40084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90720" y="1886760"/>
              <a:ext cx="28256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77200" y="5609520"/>
              <a:ext cx="380160" cy="2905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45080" y="5725800"/>
              <a:ext cx="2934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64360" y="5834880"/>
              <a:ext cx="5464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03200" y="5551200"/>
              <a:ext cx="21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48360" y="5633640"/>
              <a:ext cx="6652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81320" y="5318640"/>
              <a:ext cx="0" cy="46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35840" y="2468520"/>
              <a:ext cx="162720" cy="3141000"/>
            </a:xfrm>
            <a:custGeom>
              <a:avLst/>
              <a:gdLst>
                <a:gd name="textAreaLeft" fmla="*/ 0 w 162720"/>
                <a:gd name="textAreaRight" fmla="*/ 58680 w 162720"/>
                <a:gd name="textAreaTop" fmla="*/ 81720 h 3141000"/>
                <a:gd name="textAreaBottom" fmla="*/ 3059280 h 314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1967"/>
                  </a:lnTo>
                  <a:cubicBezTo>
                    <a:pt x="10800" y="12867"/>
                    <a:pt x="16200" y="13767"/>
                    <a:pt x="21600" y="13767"/>
                  </a:cubicBezTo>
                  <a:cubicBezTo>
                    <a:pt x="16200" y="13767"/>
                    <a:pt x="10800" y="14667"/>
                    <a:pt x="10800" y="1556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07640" y="4446360"/>
              <a:ext cx="108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17800" y="4236480"/>
              <a:ext cx="75528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13800" y="2410200"/>
              <a:ext cx="271440" cy="3024720"/>
            </a:xfrm>
            <a:custGeom>
              <a:avLst/>
              <a:gdLst>
                <a:gd name="textAreaLeft" fmla="*/ 0 w 271440"/>
                <a:gd name="textAreaRight" fmla="*/ 97920 w 271440"/>
                <a:gd name="textAreaTop" fmla="*/ 78840 h 3024720"/>
                <a:gd name="textAreaBottom" fmla="*/ 2945880 h 302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39960" y="3922560"/>
              <a:ext cx="38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57560" y="3166560"/>
              <a:ext cx="108360" cy="2210040"/>
            </a:xfrm>
            <a:custGeom>
              <a:avLst/>
              <a:gdLst>
                <a:gd name="textAreaLeft" fmla="*/ 31680 w 108360"/>
                <a:gd name="textAreaRight" fmla="*/ 108720 w 108360"/>
                <a:gd name="textAreaTop" fmla="*/ 91800 h 2210040"/>
                <a:gd name="textAreaBottom" fmla="*/ 21182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97040" y="3690000"/>
              <a:ext cx="325800" cy="290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55160" y="1944720"/>
              <a:ext cx="815040" cy="4071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02680" y="2642760"/>
              <a:ext cx="0" cy="26175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6200000">
              <a:off x="4020840" y="5165640"/>
              <a:ext cx="5846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ccccff"/>
                  </a:solidFill>
                  <a:latin typeface="Arial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4237560" y="5104080"/>
              <a:ext cx="7034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ccccff"/>
                  </a:solidFill>
                  <a:latin typeface="Arial"/>
                </a:rPr>
                <a:t>ML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77CB-1FD3-4F9B-8F67-3A0D645B7D6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roductory Mate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743200"/>
          <a:ext cx="5641920" cy="26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743200"/>
                    <a:ext cx="564192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D675-8F59-41BC-85CF-F32A29D94AC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MAC</a:t>
            </a:r>
            <a:br>
              <a:rPr sz="3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 of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371600" y="1523880"/>
          <a:ext cx="6553080" cy="49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655308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34BB-EA3F-4BB7-9BE0-52E4C4A1942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MAC</a:t>
            </a:r>
            <a:br>
              <a:rPr sz="3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 of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47920" y="1523880"/>
          <a:ext cx="64767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4767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EDAE-B236-41F3-B504-62B807C3C06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P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600200" y="2209680"/>
          <a:ext cx="5734080" cy="419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09680"/>
                    <a:ext cx="5734080" cy="41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0EDB-F9B9-4A26-9913-1F45921B5D3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7T21:17:05Z</dcterms:created>
  <dc:creator>Tom Siep</dc:creator>
  <dc:description>071r0</dc:description>
  <dc:language>en-US</dc:language>
  <cp:lastModifiedBy>Tim Godfrey</cp:lastModifiedBy>
  <cp:lastPrinted>1998-02-10T13:28:06Z</cp:lastPrinted>
  <dcterms:modified xsi:type="dcterms:W3CDTF">1999-09-15T02:59:59Z</dcterms:modified>
  <cp:revision>6</cp:revision>
  <dc:subject>IEEE 802.15 Tutorial</dc:subject>
  <dc:title>Mapping the Bluetooth Specification to IEEE 802.15.1</dc:title>
</cp:coreProperties>
</file>