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0C1-C1A8-4B13-AC2B-71F2FCAE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2A4-7380-4BE8-8C43-D90DC00F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7C3-FF01-4547-8AB1-2E3A9BCF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3F6-F6B9-4E09-8EFC-AFCA2134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A2D-F344-4C13-8906-A49E5B3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6B3-DD0C-4C1F-9271-6A20D0B8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47F-D665-41F2-B521-D4A93CBC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C3D-611C-4157-ABD7-E0B7FAF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8FE-8E34-4D52-9DF5-DFA25E2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4F6-D831-4CF2-AB15-16658CE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B0D-8533-483D-8DB4-3FCE147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B5A-7E87-47E1-99A5-CE8377D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Informed Technology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DD7541-35D8-4241-9B69-F60C1B93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DS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358-5286-4384-975C-91D83D2F71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lgorithm to Assig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 parameters are all that ar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band edg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guard b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bandwidt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pac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can be determined through simpl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0EF-D67A-4129-A067-94C458BB8B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00200" y="2057400"/>
          <a:ext cx="5943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5943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2F9-17E5-47C0-AE75-D131B445E2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66680" y="2057400"/>
                <a:ext cx="2667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66680" y="2666880"/>
                <a:ext cx="4800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3200400"/>
                <a:ext cx="3429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ac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66680" y="4419720"/>
                <a:ext cx="266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66680" y="4952880"/>
                <a:ext cx="46483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B75-1AA7-481D-980B-C136AB64D2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U.S. Channe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1752480"/>
                <a:ext cx="256536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a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81C-7084-4CED-B173-5CB4C5FB92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Bob O'Hara</dc:creator>
  <dc:description/>
  <dc:language>en-US</dc:language>
  <cp:lastModifiedBy>Bob O'Hara</cp:lastModifiedBy>
  <cp:lastPrinted>1998-02-10T13:28:06Z</cp:lastPrinted>
  <dcterms:modified xsi:type="dcterms:W3CDTF">1999-09-13T21:01:14Z</dcterms:modified>
  <cp:revision>2</cp:revision>
  <dc:subject/>
  <dc:title>Universal DS Channelization</dc:title>
</cp:coreProperties>
</file>