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00240" y="682560"/>
            <a:ext cx="4535280" cy="34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BD5-32F4-4A54-A503-FC1FDA1E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5B7-D90C-4612-8124-D528EA00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386000" y="925560"/>
            <a:ext cx="4160880" cy="3120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40C-C9E7-488E-9549-E9A6DBA9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E0F-0B13-4B9C-9DBA-499B3A71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B34-1124-402B-A2C2-C745E127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69A-2CBD-4AF2-85F6-CAA4BDA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DAF-3D37-4D81-A42A-6629ACE2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397-D693-43D0-AA38-11237E6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4A5-8142-414E-81CA-CA052CB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382-884C-439D-8582-C8B11B6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95B-B0CC-49FF-8255-905C4CC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23B-7908-4577-85E2-8FB0FAB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A6C-855E-4AC0-8967-073FE64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DFE-493C-4F23-AFB7-C92FDAF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8B7B-34F0-46EC-9EB8-17C69577A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30E456-094D-4269-8E89-40F203C4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8240" y="1523520"/>
            <a:ext cx="699336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s for a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1981440" cy="111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23623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751400" y="1752480"/>
            <a:ext cx="6494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uthentication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ecurity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Mechanisms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Multicast/IGMP Snooping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5320" y="609480"/>
            <a:ext cx="481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990720" y="1378080"/>
          <a:ext cx="7315200" cy="547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8080"/>
                    <a:ext cx="731520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09480" y="1371600"/>
          <a:ext cx="762012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201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094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1600200" y="1828800"/>
            <a:ext cx="6171840" cy="4343040"/>
            <a:chOff x="1600200" y="1828800"/>
            <a:chExt cx="6171840" cy="4343040"/>
          </a:xfrm>
        </p:grpSpPr>
        <p:graphicFrame>
          <p:nvGraphicFramePr>
            <p:cNvPr id="1106" name=""/>
            <p:cNvGraphicFramePr/>
            <p:nvPr/>
          </p:nvGraphicFramePr>
          <p:xfrm>
            <a:off x="1600200" y="1828800"/>
            <a:ext cx="6171840" cy="434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828800"/>
                      <a:ext cx="6171840" cy="43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8" name=""/>
            <p:cNvSpPr/>
            <p:nvPr/>
          </p:nvSpPr>
          <p:spPr>
            <a:xfrm>
              <a:off x="1942200" y="4983840"/>
              <a:ext cx="904320" cy="93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983960" y="1752480"/>
            <a:ext cx="525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gnore IAPP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IAPP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Section Added to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Finalized 7/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1113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1124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1046160" y="3105000"/>
            <a:ext cx="104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7688160" y="4565520"/>
            <a:ext cx="1447920" cy="2284560"/>
            <a:chOff x="7688160" y="4565520"/>
            <a:chExt cx="1447920" cy="2284560"/>
          </a:xfrm>
        </p:grpSpPr>
        <p:sp>
          <p:nvSpPr>
            <p:cNvPr id="1135" name=""/>
            <p:cNvSpPr/>
            <p:nvPr/>
          </p:nvSpPr>
          <p:spPr>
            <a:xfrm flipH="1">
              <a:off x="7905240" y="5175360"/>
              <a:ext cx="5461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16760" y="5402160"/>
              <a:ext cx="75096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8678880" y="661032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8439120" y="5162040"/>
              <a:ext cx="696960" cy="145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752960" y="5175360"/>
              <a:ext cx="46836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65920" y="5402160"/>
              <a:ext cx="74952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28040" y="68436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65920" y="539748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93080" y="5402160"/>
              <a:ext cx="141120" cy="217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147160" y="5468400"/>
              <a:ext cx="36828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8362440" y="5238720"/>
              <a:ext cx="165240" cy="24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7981560" y="5251320"/>
              <a:ext cx="39204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602560" y="6546960"/>
              <a:ext cx="14148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755200" y="6610320"/>
              <a:ext cx="293400" cy="16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8896320" y="6381720"/>
              <a:ext cx="1634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8591400" y="6392880"/>
              <a:ext cx="3175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98000" y="5935680"/>
              <a:ext cx="29340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8602560" y="6305040"/>
              <a:ext cx="293760" cy="165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8591400" y="5772240"/>
              <a:ext cx="317520" cy="54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286480" y="5783400"/>
              <a:ext cx="3157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373960" y="59356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28040" y="5859360"/>
              <a:ext cx="633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51720" y="6089760"/>
              <a:ext cx="6372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02560" y="6013440"/>
              <a:ext cx="651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28040" y="6240600"/>
              <a:ext cx="63360" cy="64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678880" y="61642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2560" y="63928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755200" y="6316560"/>
              <a:ext cx="6480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8069400" y="546876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8210160" y="5708520"/>
              <a:ext cx="46836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28040" y="5479920"/>
              <a:ext cx="13968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65920" y="4641840"/>
              <a:ext cx="36828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88160" y="4565520"/>
              <a:ext cx="65160" cy="63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1170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1191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1217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1221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48400" y="152100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454880" y="1355400"/>
            <a:ext cx="1206360" cy="165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526160" y="159696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1200" y="1432080"/>
            <a:ext cx="1206360" cy="16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531200" y="2119320"/>
            <a:ext cx="120636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454880" y="15210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454880" y="22068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744040" y="1442880"/>
            <a:ext cx="0" cy="676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674200" y="1366920"/>
            <a:ext cx="63360" cy="65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601040" y="1673280"/>
            <a:ext cx="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607160" y="1509840"/>
            <a:ext cx="105408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667720" y="1521000"/>
            <a:ext cx="0" cy="36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596360" y="1901880"/>
            <a:ext cx="1077840" cy="141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7683480" y="1661760"/>
            <a:ext cx="522360" cy="8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683480" y="1736280"/>
            <a:ext cx="7491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59800" y="18954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7759800" y="1888920"/>
            <a:ext cx="5205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372440" y="1442880"/>
            <a:ext cx="0" cy="446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78560" y="1895400"/>
            <a:ext cx="141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02600" y="1366920"/>
            <a:ext cx="63360" cy="65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23880" y="533520"/>
            <a:ext cx="7620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 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1261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1263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1298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319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1342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1363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5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3440" y="1676520"/>
            <a:ext cx="6606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 Wireless LA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us Network (Multiple wireless L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Network (Wireless LAN/flo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an IA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ropp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09720" y="457200"/>
            <a:ext cx="733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5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03360" y="-520164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16760" y="62856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1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3440" y="6172200"/>
            <a:ext cx="507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8104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5600" y="617220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2876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437200" y="609480"/>
            <a:ext cx="6707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691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725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746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792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832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3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5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838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875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919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 flipV="1">
            <a:off x="1496880" y="2230200"/>
            <a:ext cx="399276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89640" y="223056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352680" y="2230560"/>
            <a:ext cx="405000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496520" y="303372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523880" y="495288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33840" y="4911840"/>
            <a:ext cx="19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352680" y="491184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496520" y="571644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447920" y="4038480"/>
            <a:ext cx="39924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489640" y="400068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352680" y="400068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496520" y="48052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496880" y="303372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89640" y="303372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296880" y="3033720"/>
            <a:ext cx="40482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1496520" y="38386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1496880" y="137160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89640" y="137160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52680" y="1371600"/>
            <a:ext cx="40500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496520" y="217656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0268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26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3384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033280" y="2260440"/>
            <a:ext cx="49996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600200" y="3048120"/>
            <a:ext cx="55627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523880" y="3962520"/>
            <a:ext cx="5791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523880" y="4952520"/>
            <a:ext cx="58676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0" y="2666880"/>
            <a:ext cx="0" cy="262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52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52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388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3152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52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3352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38880" y="25909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15200" y="4495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18288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572000" y="1828440"/>
            <a:ext cx="2438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572000" y="25905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572000" y="3504960"/>
            <a:ext cx="27432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648320" y="4495680"/>
            <a:ext cx="26668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752480" y="51814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676520" y="464796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28800" y="365724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676520" y="4267080"/>
            <a:ext cx="304776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676520" y="274284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76520" y="3429000"/>
            <a:ext cx="27432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057400" y="23619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057400" y="205740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7080" y="609480"/>
            <a:ext cx="663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Building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724280" y="190512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876920" y="4571640"/>
            <a:ext cx="25146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572000" y="266652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410080" y="22096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24280" y="3580920"/>
            <a:ext cx="26672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7162920" y="1828800"/>
            <a:ext cx="1371600" cy="3200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28600" y="510552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7009920" y="3657600"/>
            <a:ext cx="12193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 rot="670800">
            <a:off x="1752480" y="259056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823800">
            <a:off x="4266720" y="251424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781680" y="3581280"/>
          <a:ext cx="38592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81280"/>
                    <a:ext cx="385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"/>
          <p:cNvSpPr/>
          <p:nvPr/>
        </p:nvSpPr>
        <p:spPr>
          <a:xfrm>
            <a:off x="2958480" y="4611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27000" y="4648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69600" y="1828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437560" y="2666880"/>
            <a:ext cx="1033920" cy="699840"/>
            <a:chOff x="2437560" y="2666880"/>
            <a:chExt cx="1033920" cy="699840"/>
          </a:xfrm>
        </p:grpSpPr>
        <p:sp>
          <p:nvSpPr>
            <p:cNvPr id="1030" name=""/>
            <p:cNvSpPr/>
            <p:nvPr/>
          </p:nvSpPr>
          <p:spPr>
            <a:xfrm flipH="1">
              <a:off x="3173040" y="308124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46536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471760" y="2865240"/>
              <a:ext cx="27288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57600" y="287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030120" y="2876400"/>
              <a:ext cx="29844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460600" y="3151080"/>
              <a:ext cx="58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6528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471760" y="33624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043080" y="3074760"/>
              <a:ext cx="2732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2280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36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00560" y="2666880"/>
              <a:ext cx="586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3756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5790600" y="2666880"/>
            <a:ext cx="1033560" cy="699840"/>
            <a:chOff x="5790600" y="2666880"/>
            <a:chExt cx="1033560" cy="699840"/>
          </a:xfrm>
        </p:grpSpPr>
        <p:sp>
          <p:nvSpPr>
            <p:cNvPr id="1044" name=""/>
            <p:cNvSpPr/>
            <p:nvPr/>
          </p:nvSpPr>
          <p:spPr>
            <a:xfrm flipH="1">
              <a:off x="6526080" y="3081240"/>
              <a:ext cx="29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81804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824440" y="2865240"/>
              <a:ext cx="27252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10280" y="287028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83160" y="2876400"/>
              <a:ext cx="298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812920" y="3151080"/>
              <a:ext cx="58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17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24440" y="336240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395760" y="3074760"/>
              <a:ext cx="2728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7548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8964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53240" y="2666880"/>
              <a:ext cx="5832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9060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4114800" y="609480"/>
            <a:ext cx="473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ff Requi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048120" y="2437920"/>
            <a:ext cx="30456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048120" y="2438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324480" y="2438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195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24480" y="2438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8:47:13Z</dcterms:created>
  <dc:creator>Mathematics &amp; Computing Technology</dc:creator>
  <dc:description/>
  <dc:language>en-US</dc:language>
  <cp:lastModifiedBy>Mathematics &amp; Computing Technology</cp:lastModifiedBy>
  <cp:lastPrinted>1999-05-14T21:37:40Z</cp:lastPrinted>
  <dcterms:modified xsi:type="dcterms:W3CDTF">1999-09-14T16:35:01Z</dcterms:modified>
  <cp:revision>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N:\DEN\DEN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