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ADB-30D2-4C22-B6BC-F766DE0F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71D-19A5-4444-8FD5-8A71B85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321-7CE7-4880-A2B9-FE0DD734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283-FC69-4076-A78E-27BCECDA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9A8-9296-45A6-912B-6535AC0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ED0-1EA9-45CA-ACB7-6D32E9C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18A-305E-4B0B-94DB-E26F911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689-ACFB-4D02-A4AC-7E1F2E2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AAD-29AD-49AA-B7CF-F5A1EF3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BDA-6189-4E4A-9241-BF94890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AB6-1289-4E37-8FF9-1A1AEC7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E33-08E1-4A2A-9BC9-F57D877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B858CF-BF6F-49E8-BF1F-F9D2E79A6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201-33A0-4F9F-86E8-2899F1EE57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balancing is impor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tations enhanc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provisions for load balanc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proprietary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olutions prevent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for the industry and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3DC-A49A-4584-8E08-EF2CAFC0A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ad balancing information to the Bea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the Access Po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neighbor Access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92E-202C-410A-AA11-B2A12EBF2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broader sens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will invent new (proprietary) features that require extensions to the Beac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es conformanc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438-FD08-4A28-9666-3E54B77F4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the Beacon (based on elements) allows for ext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 an element that vendors can use to accommodate their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819-73C8-4764-BEE9-72562CBEFB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5T08:31:00Z</dcterms:modified>
  <cp:revision>16</cp:revision>
  <dc:subject/>
  <dc:title>Enhancing 802.11 With QoS</dc:title>
</cp:coreProperties>
</file>