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EDB3-5F0C-455A-A0E6-2945A1BCC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3884760" y="-3240"/>
            <a:ext cx="29732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884760" y="868212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0" name=""/>
          <p:cNvSpPr/>
          <p:nvPr/>
        </p:nvSpPr>
        <p:spPr>
          <a:xfrm>
            <a:off x="0" y="868212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3240"/>
            <a:ext cx="297180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sldImg"/>
          </p:nvPr>
        </p:nvSpPr>
        <p:spPr>
          <a:xfrm>
            <a:off x="1158840" y="682560"/>
            <a:ext cx="4541760" cy="3406680"/>
          </a:xfrm>
          <a:prstGeom prst="rect">
            <a:avLst/>
          </a:prstGeom>
          <a:ln w="0">
            <a:noFill/>
          </a:ln>
        </p:spPr>
      </p:sp>
      <p:sp>
        <p:nvSpPr>
          <p:cNvPr id="93" name="PlaceHolder 2"/>
          <p:cNvSpPr>
            <a:spLocks noGrp="1"/>
          </p:cNvSpPr>
          <p:nvPr>
            <p:ph type="body"/>
          </p:nvPr>
        </p:nvSpPr>
        <p:spPr>
          <a:xfrm>
            <a:off x="914400" y="4341600"/>
            <a:ext cx="502776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A3392-B531-4E20-BDE7-9D8E34BB4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984AA-F458-402C-8FA6-155A3C22D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D3675-0E48-4CC8-AABB-AE302951C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8C449-0880-4BDA-9E2F-8412F7322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6A15E-3E90-4167-A2ED-169EEDEF1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59FC4-0F5E-4C53-B48D-3A2757BF8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FCEB1-1C23-4C2A-A46D-B53CBEFB6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CBB48-09A1-4979-8487-382F8C60D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8212F-C510-4F8E-AEE5-BF500B415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4FC24-73B3-4FCF-8E1D-98326564B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560E5-9ECC-477A-8C1C-CA58556D2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34789-186B-4770-94D8-DF8ABC7B9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15B0-6970-4E9C-9899-769A8865D7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80CE-1B25-41B3-8288-F47CFE1EC1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19720" y="106668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63040" y="828720"/>
            <a:ext cx="1257120" cy="22104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ntom Works</a:t>
            </a:r>
            <a:endParaRPr b="0" lang="en-US" sz="1200" spc="-1" strike="noStrike">
              <a:solidFill>
                <a:srgbClr val="000000"/>
              </a:solidFill>
              <a:latin typeface="Times New Roman"/>
            </a:endParaRPr>
          </a:p>
        </p:txBody>
      </p:sp>
      <p:sp>
        <p:nvSpPr>
          <p:cNvPr id="10" name=""/>
          <p:cNvSpPr/>
          <p:nvPr/>
        </p:nvSpPr>
        <p:spPr>
          <a:xfrm>
            <a:off x="570600" y="981000"/>
            <a:ext cx="3840120" cy="28188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hematics &amp; Computing Technology</a:t>
            </a:r>
            <a:endParaRPr b="0" lang="en-US" sz="1600" spc="-1" strike="noStrike">
              <a:solidFill>
                <a:srgbClr val="000000"/>
              </a:solidFill>
              <a:latin typeface="Times New Roman"/>
            </a:endParaRPr>
          </a:p>
        </p:txBody>
      </p:sp>
      <p:pic>
        <p:nvPicPr>
          <p:cNvPr id="11" name="" descr=""/>
          <p:cNvPicPr/>
          <p:nvPr/>
        </p:nvPicPr>
        <p:blipFill>
          <a:blip r:embed="rId2"/>
          <a:stretch/>
        </p:blipFill>
        <p:spPr>
          <a:xfrm>
            <a:off x="3429000" y="5562720"/>
            <a:ext cx="2496960" cy="536400"/>
          </a:xfrm>
          <a:prstGeom prst="rect">
            <a:avLst/>
          </a:prstGeom>
          <a:ln w="0">
            <a:noFill/>
          </a:ln>
        </p:spPr>
      </p:pic>
      <p:sp>
        <p:nvSpPr>
          <p:cNvPr id="1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 name=""/>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7F09-80FB-4277-A0F3-5A90F47FE3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 name=""/>
          <p:cNvSpPr/>
          <p:nvPr/>
        </p:nvSpPr>
        <p:spPr>
          <a:xfrm>
            <a:off x="606240" y="39600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1999</a:t>
            </a:r>
            <a:endParaRPr b="0" lang="en-US" sz="1400" spc="-1" strike="noStrike">
              <a:solidFill>
                <a:srgbClr val="000000"/>
              </a:solidFill>
              <a:latin typeface="Times New Roman"/>
            </a:endParaRPr>
          </a:p>
        </p:txBody>
      </p:sp>
      <p:sp>
        <p:nvSpPr>
          <p:cNvPr id="16" name=""/>
          <p:cNvSpPr/>
          <p:nvPr/>
        </p:nvSpPr>
        <p:spPr>
          <a:xfrm>
            <a:off x="7233120" y="6475320"/>
            <a:ext cx="1375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Paine, Boeing</a:t>
            </a:r>
            <a:endParaRPr b="0" lang="en-US" sz="1200" spc="-1" strike="noStrike">
              <a:solidFill>
                <a:srgbClr val="000000"/>
              </a:solidFill>
              <a:latin typeface="Times New Roman"/>
            </a:endParaRPr>
          </a:p>
        </p:txBody>
      </p:sp>
      <p:sp>
        <p:nvSpPr>
          <p:cNvPr id="17"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B46B1E-9B0B-4CDF-B402-C61C8D208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226</a:t>
            </a:r>
            <a:endParaRPr b="0" lang="en-US" sz="1400" spc="-1" strike="noStrike">
              <a:solidFill>
                <a:srgbClr val="000000"/>
              </a:solidFill>
              <a:latin typeface="Times New Roman"/>
            </a:endParaRPr>
          </a:p>
        </p:txBody>
      </p:sp>
      <p:sp>
        <p:nvSpPr>
          <p:cNvPr id="1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216240" y="60102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79160" y="1858680"/>
            <a:ext cx="8389440" cy="708840"/>
          </a:xfrm>
          <a:prstGeom prst="rect">
            <a:avLst/>
          </a:prstGeom>
          <a:noFill/>
          <a:ln w="0">
            <a:noFill/>
          </a:ln>
        </p:spPr>
        <p:style>
          <a:lnRef idx="0"/>
          <a:fillRef idx="0"/>
          <a:effectRef idx="0"/>
          <a:fontRef idx="minor"/>
        </p:style>
        <p:txBody>
          <a:bodyPr wrap="none" lIns="47520" rIns="47520" tIns="19080" bIns="19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ldwide 5GHz Requirements</a:t>
            </a:r>
            <a:endParaRPr b="0" lang="en-US" sz="4400" spc="-1" strike="noStrike">
              <a:solidFill>
                <a:srgbClr val="000000"/>
              </a:solidFill>
              <a:latin typeface="Times New Roman"/>
            </a:endParaRPr>
          </a:p>
        </p:txBody>
      </p:sp>
      <p:pic>
        <p:nvPicPr>
          <p:cNvPr id="68" name="" descr=""/>
          <p:cNvPicPr/>
          <p:nvPr/>
        </p:nvPicPr>
        <p:blipFill>
          <a:blip r:embed="rId1"/>
          <a:stretch/>
        </p:blipFill>
        <p:spPr>
          <a:xfrm>
            <a:off x="685800" y="3200400"/>
            <a:ext cx="1981080" cy="1114560"/>
          </a:xfrm>
          <a:prstGeom prst="rect">
            <a:avLst/>
          </a:prstGeom>
          <a:ln w="0">
            <a:noFill/>
          </a:ln>
        </p:spPr>
      </p:pic>
      <p:pic>
        <p:nvPicPr>
          <p:cNvPr id="69" name="" descr=""/>
          <p:cNvPicPr/>
          <p:nvPr/>
        </p:nvPicPr>
        <p:blipFill>
          <a:blip r:embed="rId2"/>
          <a:stretch/>
        </p:blipFill>
        <p:spPr>
          <a:xfrm>
            <a:off x="7772400" y="3200400"/>
            <a:ext cx="876240" cy="1219320"/>
          </a:xfrm>
          <a:prstGeom prst="rect">
            <a:avLst/>
          </a:prstGeom>
          <a:ln w="0">
            <a:noFill/>
          </a:ln>
        </p:spPr>
      </p:pic>
      <p:pic>
        <p:nvPicPr>
          <p:cNvPr id="70" name="" descr=""/>
          <p:cNvPicPr/>
          <p:nvPr/>
        </p:nvPicPr>
        <p:blipFill>
          <a:blip r:embed="rId3"/>
          <a:stretch/>
        </p:blipFill>
        <p:spPr>
          <a:xfrm>
            <a:off x="6400800" y="5181480"/>
            <a:ext cx="809640" cy="1257480"/>
          </a:xfrm>
          <a:prstGeom prst="rect">
            <a:avLst/>
          </a:prstGeom>
          <a:ln w="0">
            <a:noFill/>
          </a:ln>
        </p:spPr>
      </p:pic>
      <p:pic>
        <p:nvPicPr>
          <p:cNvPr id="71" name="" descr=""/>
          <p:cNvPicPr/>
          <p:nvPr/>
        </p:nvPicPr>
        <p:blipFill>
          <a:blip r:embed="rId4"/>
          <a:stretch/>
        </p:blipFill>
        <p:spPr>
          <a:xfrm>
            <a:off x="7924680" y="4952880"/>
            <a:ext cx="895320" cy="1343160"/>
          </a:xfrm>
          <a:prstGeom prst="rect">
            <a:avLst/>
          </a:prstGeom>
          <a:ln w="0">
            <a:noFill/>
          </a:ln>
        </p:spPr>
      </p:pic>
      <p:pic>
        <p:nvPicPr>
          <p:cNvPr id="72" name="" descr=""/>
          <p:cNvPicPr/>
          <p:nvPr/>
        </p:nvPicPr>
        <p:blipFill>
          <a:blip r:embed="rId5"/>
          <a:stretch/>
        </p:blipFill>
        <p:spPr>
          <a:xfrm>
            <a:off x="5562720" y="2971800"/>
            <a:ext cx="1085760" cy="1171440"/>
          </a:xfrm>
          <a:prstGeom prst="rect">
            <a:avLst/>
          </a:prstGeom>
          <a:ln w="0">
            <a:noFill/>
          </a:ln>
        </p:spPr>
      </p:pic>
      <p:pic>
        <p:nvPicPr>
          <p:cNvPr id="73" name="" descr=""/>
          <p:cNvPicPr/>
          <p:nvPr/>
        </p:nvPicPr>
        <p:blipFill>
          <a:blip r:embed="rId6"/>
          <a:stretch/>
        </p:blipFill>
        <p:spPr>
          <a:xfrm>
            <a:off x="3581280" y="3429000"/>
            <a:ext cx="1390680" cy="1028880"/>
          </a:xfrm>
          <a:prstGeom prst="rect">
            <a:avLst/>
          </a:prstGeom>
          <a:ln w="0">
            <a:noFill/>
          </a:ln>
        </p:spPr>
      </p:pic>
      <p:pic>
        <p:nvPicPr>
          <p:cNvPr id="74" name="" descr=""/>
          <p:cNvPicPr/>
          <p:nvPr/>
        </p:nvPicPr>
        <p:blipFill>
          <a:blip r:embed="rId7"/>
          <a:stretch/>
        </p:blipFill>
        <p:spPr>
          <a:xfrm>
            <a:off x="380880" y="4495680"/>
            <a:ext cx="2886120" cy="1838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981080" y="609480"/>
            <a:ext cx="6858000" cy="587160"/>
          </a:xfrm>
          <a:prstGeom prst="rect">
            <a:avLst/>
          </a:prstGeom>
          <a:noFill/>
          <a:ln w="0">
            <a:noFill/>
          </a:ln>
        </p:spPr>
        <p:style>
          <a:lnRef idx="0"/>
          <a:fillRef idx="0"/>
          <a:effectRef idx="0"/>
          <a:fontRef idx="minor"/>
        </p:style>
        <p:txBody>
          <a:bodyPr lIns="47520" rIns="47520" tIns="19080" bIns="19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TP for Worldwide 5.15GHz</a:t>
            </a:r>
            <a:endParaRPr b="0" lang="en-US" sz="3600" spc="-1" strike="noStrike">
              <a:solidFill>
                <a:srgbClr val="000000"/>
              </a:solidFill>
              <a:latin typeface="Times New Roman"/>
            </a:endParaRPr>
          </a:p>
        </p:txBody>
      </p:sp>
      <p:sp>
        <p:nvSpPr>
          <p:cNvPr id="76" name=""/>
          <p:cNvSpPr/>
          <p:nvPr/>
        </p:nvSpPr>
        <p:spPr>
          <a:xfrm>
            <a:off x="528480" y="1203480"/>
            <a:ext cx="1762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ituation - </a:t>
            </a:r>
            <a:endParaRPr b="0" lang="en-US" sz="2400" spc="-1" strike="noStrike">
              <a:solidFill>
                <a:srgbClr val="000000"/>
              </a:solidFill>
              <a:latin typeface="Times New Roman"/>
            </a:endParaRPr>
          </a:p>
        </p:txBody>
      </p:sp>
      <p:sp>
        <p:nvSpPr>
          <p:cNvPr id="77" name=""/>
          <p:cNvSpPr/>
          <p:nvPr/>
        </p:nvSpPr>
        <p:spPr>
          <a:xfrm>
            <a:off x="530280" y="3848040"/>
            <a:ext cx="1388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rget - </a:t>
            </a:r>
            <a:endParaRPr b="0" lang="en-US" sz="2400" spc="-1" strike="noStrike">
              <a:solidFill>
                <a:srgbClr val="000000"/>
              </a:solidFill>
              <a:latin typeface="Times New Roman"/>
            </a:endParaRPr>
          </a:p>
        </p:txBody>
      </p:sp>
      <p:sp>
        <p:nvSpPr>
          <p:cNvPr id="78" name=""/>
          <p:cNvSpPr/>
          <p:nvPr/>
        </p:nvSpPr>
        <p:spPr>
          <a:xfrm>
            <a:off x="530280" y="487692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posal - </a:t>
            </a:r>
            <a:endParaRPr b="0" lang="en-US" sz="2400" spc="-1" strike="noStrike">
              <a:solidFill>
                <a:srgbClr val="000000"/>
              </a:solidFill>
              <a:latin typeface="Times New Roman"/>
            </a:endParaRPr>
          </a:p>
        </p:txBody>
      </p:sp>
      <p:sp>
        <p:nvSpPr>
          <p:cNvPr id="79" name=""/>
          <p:cNvSpPr/>
          <p:nvPr/>
        </p:nvSpPr>
        <p:spPr>
          <a:xfrm>
            <a:off x="2133720" y="1279440"/>
            <a:ext cx="6681600" cy="243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CC allocated 300MHz of bandwidth in January of 1997 for unlicensed use called the “National Information Infrastructure.”  These frequencies became known as the NII frequencies, starting at 5.15GHz.  The first 100MHz of frequency has also been allocated in Europe as the Hyperlan frequencies and the European Telecommunications Standards Institute (ETSI) has asked for an additional 150MHz to go with the original 100MHz.  Japan has also set aside some of the 5.15GHz as an unlicensed band in Japan.  These frequencies form the basis for the next worldwide unlicensed frequency allocation.  The 2.4GHz ISM band in the US is actually a worldwide frequency which was allocated by the World Radio Conference (WRC) in 1990.  The next WRC (2000) is the time for Boeing to  recommend that 5.15GHz be the next worldwide frequency band.</a:t>
            </a:r>
            <a:endParaRPr b="0" lang="en-US" sz="1400" spc="-1" strike="noStrike">
              <a:solidFill>
                <a:srgbClr val="000000"/>
              </a:solidFill>
              <a:latin typeface="Times New Roman"/>
            </a:endParaRPr>
          </a:p>
        </p:txBody>
      </p:sp>
      <p:sp>
        <p:nvSpPr>
          <p:cNvPr id="80" name=""/>
          <p:cNvSpPr/>
          <p:nvPr/>
        </p:nvSpPr>
        <p:spPr>
          <a:xfrm>
            <a:off x="2133720" y="3962520"/>
            <a:ext cx="668160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ecommendation from Boeing that 5.15GHz band be allocated in the WRC2000 as a worldwide frequency band. </a:t>
            </a:r>
            <a:endParaRPr b="0" lang="en-US" sz="1400" spc="-1" strike="noStrike">
              <a:solidFill>
                <a:srgbClr val="000000"/>
              </a:solidFill>
              <a:latin typeface="Times New Roman"/>
            </a:endParaRPr>
          </a:p>
        </p:txBody>
      </p:sp>
      <p:sp>
        <p:nvSpPr>
          <p:cNvPr id="81" name=""/>
          <p:cNvSpPr/>
          <p:nvPr/>
        </p:nvSpPr>
        <p:spPr>
          <a:xfrm>
            <a:off x="2133720" y="4952880"/>
            <a:ext cx="668160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eing should submit an official recommendation to support and actually deploy the 5.15GHz band to the WRC as a worldwide unlicensed frequ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acts</a:t>
            </a:r>
            <a:endParaRPr b="0" lang="en-US" sz="3600" spc="-1" strike="noStrike">
              <a:solidFill>
                <a:srgbClr val="000000"/>
              </a:solidFill>
              <a:latin typeface="Times New Roman"/>
            </a:endParaRPr>
          </a:p>
        </p:txBody>
      </p:sp>
      <p:sp>
        <p:nvSpPr>
          <p:cNvPr id="83" name=""/>
          <p:cNvSpPr/>
          <p:nvPr/>
        </p:nvSpPr>
        <p:spPr>
          <a:xfrm>
            <a:off x="914400" y="1600200"/>
            <a:ext cx="7620120" cy="41158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ve a common PMD between 802.11 and BRA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s the stage for software radios at 5GHz</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RC meets in 2000, 5GHz unlicensed worldwide is not on agenda</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US delegation for SG8 meets in November in preparation for the WR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eing is a corporate member of IT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Recommendations</a:t>
            </a:r>
            <a:endParaRPr b="0" lang="en-US" sz="3600" spc="-1" strike="noStrike">
              <a:solidFill>
                <a:srgbClr val="000000"/>
              </a:solidFill>
              <a:latin typeface="Times New Roman"/>
            </a:endParaRPr>
          </a:p>
        </p:txBody>
      </p:sp>
      <p:sp>
        <p:nvSpPr>
          <p:cNvPr id="85" name=""/>
          <p:cNvSpPr/>
          <p:nvPr/>
        </p:nvSpPr>
        <p:spPr>
          <a:xfrm>
            <a:off x="914400" y="1600200"/>
            <a:ext cx="762012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802.11 letter to SG8 or WRC supporting 5GHz unlicensed worldwid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mit 8802.11a and b to ISO and IT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524600" y="1143000"/>
            <a:ext cx="6383520" cy="527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in the 5 GHz ba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sk Group a working on the high data-rate PHY in the 5 GHz band, project 802.11a, processed comments from 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 Ballot. The meeting actually started before the ballot closed, so comments continued to flow in as the work</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essed. 86 people responded to the ballot, of which 5 submitted "no" votes. After processing the comments, only 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votes remained (97% support!), and we hope to resolve those at the teleconference scheduled to end of May. Th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itor already implemented the resolved comments into draft D5.3, after the teleconference D5.5 will be produced, and 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gining of June a Reconfirmation Sponsor Ballot will be issued. The comments from this ballot will be processed 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July plenary meeting in Montreal.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resentatives from BRAN and from MMAC contributed comments and participated in discussions. The structure of</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cket preamble and its parameters were a hot discussion item. The changes to the 802.11a Draft were relativel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or. At the end of the meeting a liaison statement was issued to BRAN and MMAC-PC, acknowledging thei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ibutions and updating them on the March and May changes in the draft standar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raft 802.11a standard is based on Orthogonal Frequency Division Multiplexing (OFDM) to modulate the data. Th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in benefit OFDM modulation is its robustness to multipath echoes, which are typical to the indoor and mobi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vironments. Each OFDM symbol is composed of 52 subcarriers, of which 48 carry data and 4 subcarriers serve 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ase reference pilots. The specifications of the Physical Layer encompass data rates from 6 Mbit/s up to 54 Mbit/s, wi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 MHz spacing between adjacent channels. All implementations are required to support 6, 12 and 24 Mbit/s. Option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ensions are for 9, 18, 36, 48 and 54Mbit/s. The range of data rates is provided to match the wide range of radi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characteristics in both indoor and outdoor environments. The multirate mechanism of the MAC protocol ensur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all devices communicate with each other at the best data rate in the present channel.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the semina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ly the 5 GHz band is open to unlicensed devides only in USA. Mr. Hashimoto (NTT) updated, among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sues, on the intent to open the 5 GHz band in Japan in the begining of 2000. Naftali Chayat, TGa chair, presented 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view of the 802.11a standard and the collaboration with MMAC-PC and with BRAN. In particular, MMAC-P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reless Ethernet working group intends to adopt the 802.11a standard, while the WATM groop of MMAC-PC a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SI BRAN agreed with 802.11a on most modulation parameters. In Europe currently the only available band in 5 GHz</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allocated to the HIPERLAN project. Based on the broad level of agreement and collaboration between 802.11a a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AN, 802.11a issued a liaison statement to ETSI BRAN asking it to support the inclusion of 802.11 with 802.11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 in its HIPERLAN family of standards. If ETSI will support 802.11a in Europe, the 5 GHz high speed wireles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Ns will enjoy same worldwide availability that 2.4 GHz devices enjoy today!</a:t>
            </a:r>
            <a:endParaRPr b="0" lang="en-US" sz="1000" spc="-1" strike="noStrike">
              <a:solidFill>
                <a:srgbClr val="000000"/>
              </a:solidFill>
              <a:latin typeface="Times New Roman"/>
            </a:endParaRPr>
          </a:p>
        </p:txBody>
      </p:sp>
      <p:sp>
        <p:nvSpPr>
          <p:cNvPr id="87"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Extract from Montre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4T13:26:38Z</dcterms:created>
  <dc:creator>Mathematics &amp; Computing Technology</dc:creator>
  <dc:description/>
  <dc:language>en-US</dc:language>
  <cp:lastModifiedBy>Mathematics &amp; Computing Technology</cp:lastModifiedBy>
  <dcterms:modified xsi:type="dcterms:W3CDTF">1999-09-15T16:42:26Z</dcterms:modified>
  <cp:revision>4</cp:revision>
  <dc:subject/>
  <dc:title>No Slide Title</dc:title>
</cp:coreProperties>
</file>