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3C2-9390-404F-8C5D-1C786F4B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8F4-D271-4C63-9B2B-B2825A87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FA3-762C-4DBE-843D-3E5087B3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455-5AC4-4362-A426-684CA1D4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749-0865-4CCC-AC3D-B708F997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C76-40D3-4DA6-8189-49083EAD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10F-F375-498F-86A3-6150D6DF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8EB-196E-46D1-8A51-EE18F945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74E-D821-48D2-998D-1E884BC7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1A5-F96E-45E9-B860-CB2C761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AF2-518D-443E-9236-37CBBA10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AF4-1EB9-4175-80D4-5FBF8AF2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006D1F-C202-4C33-B276-95801629F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hancing 802.11 With Q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ory 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wires" descr="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EEB-0C7C-4456-B41F-9898AF5988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ly more complicated design, howe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d scheduling makes it easier to meet certain service requirem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integrate legacy devices, because they already adhere to PCF ru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powerful plat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BD7-D317-4600-8072-9C6F11A626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? -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C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upstream scheduling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Queue state of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a set of services and specify a mechanism for negotiating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balance between flexibility and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complexity in Access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757-A4EB-4A2F-8509-06E7419474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want to enhance 802.1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with modern LAN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 performance of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/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D1D-A058-4D34-9B54-F37B28F546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? –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ing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C4F-F316-45FA-8256-C484377A24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drop straight into the fundamental discu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258-CF3D-4309-8898-1042BC0864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the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akes wireless differ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want to achie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os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technology is available and feasi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feasible for a wireless L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want to adapt the applications as w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l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39E-05FF-4496-ABBF-602B54F107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 ? -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akes wireless differ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mediu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andwid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uarante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s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DFD-7C82-4306-BBC0-8EC68FB648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 ? -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we want to achie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on’t want to achieve hard – real-time guarant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ea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pplications don’t requir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maintain wireless’ unique quality: mo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bandwidth reservation may not be desi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4A5-8801-4524-AB72-998A945BC6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 ? -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 real-tim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with playbac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ing video/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delivery: bitrate, loss-rate (retry and fragmentation strateg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CF2-C632-4C82-9C64-3462604E25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backoff mech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to imp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new contention mech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ajor modification of the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with both approaches it is difficult to integrate legacy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B34-ED85-40F6-855B-2152A20D15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9:45:34Z</dcterms:created>
  <dc:creator>Maarten Hoeben</dc:creator>
  <dc:description/>
  <dc:language>en-US</dc:language>
  <cp:lastModifiedBy>Maarten Hoeben</cp:lastModifiedBy>
  <dcterms:modified xsi:type="dcterms:W3CDTF">1999-09-14T15:16:27Z</dcterms:modified>
  <cp:revision>13</cp:revision>
  <dc:subject/>
  <dc:title>Enhancing 802.11 With QoS</dc:title>
</cp:coreProperties>
</file>