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1E9-6211-4F78-8960-1FEC991D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ED0-971A-4E0A-A7F6-CC9FB9C3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B97-23F5-4DD7-A1DD-BFEBDA5A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7EB-A491-40D2-9D93-F175AD6E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950-FBD3-4423-9E18-B6274B92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0F3-718A-424F-BC54-B6EDF9E6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A1E-354A-4D21-B591-608B0B8F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62E-77E4-487F-9E67-D1450E3F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C2F-2E67-43F0-AE86-625DA103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FF0-EF10-410A-A6B2-FF22FA84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9A9-4E64-4E14-BBFC-7FF55A66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386-B69C-413B-80EB-02B0B2DF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FA299C-D637-498D-B991-F0C50A516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396000"/>
            <a:ext cx="617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69r0{802.11-99/220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uetooth Architecture Overvie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. Chatschik Bisdiki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 Resear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J. Watson Research Cen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wthorne, NY 10532, US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sdik@us.ib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AEF-405E-41BA-A5CA-02BB6DD4255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62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6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7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1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3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419220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39C-16A9-4029-B669-B5059CD139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83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7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8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2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grpSp>
        <p:nvGrpSpPr>
          <p:cNvPr id="493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4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device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dless phon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’s fre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C76-2A0D-41AB-A1FB-01961223CC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pic>
        <p:nvPicPr>
          <p:cNvPr id="499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3940200" y="2441520"/>
            <a:ext cx="4460760" cy="1521000"/>
            <a:chOff x="3940200" y="2441520"/>
            <a:chExt cx="4460760" cy="1521000"/>
          </a:xfrm>
        </p:grpSpPr>
        <p:pic>
          <p:nvPicPr>
            <p:cNvPr id="501" name="" descr=""/>
            <p:cNvPicPr/>
            <p:nvPr/>
          </p:nvPicPr>
          <p:blipFill>
            <a:blip r:embed="rId3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3940200" y="2671920"/>
              <a:ext cx="860400" cy="1054080"/>
              <a:chOff x="3940200" y="2671920"/>
              <a:chExt cx="860400" cy="1054080"/>
            </a:xfrm>
          </p:grpSpPr>
          <p:sp>
            <p:nvSpPr>
              <p:cNvPr id="513" name=""/>
              <p:cNvSpPr/>
              <p:nvPr/>
            </p:nvSpPr>
            <p:spPr>
              <a:xfrm rot="20846400">
                <a:off x="4006080" y="2741760"/>
                <a:ext cx="529200" cy="491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4" name="tosh50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40200" y="2671920"/>
                <a:ext cx="860400" cy="105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5" name="globe3" descr=""/>
            <p:cNvPicPr/>
            <p:nvPr/>
          </p:nvPicPr>
          <p:blipFill>
            <a:blip r:embed="rId5"/>
            <a:srcRect l="13639" t="0" r="12661" b="0"/>
            <a:stretch/>
          </p:blipFill>
          <p:spPr>
            <a:xfrm>
              <a:off x="6994440" y="2441520"/>
              <a:ext cx="1406520" cy="15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4338000" y="1036800"/>
            <a:ext cx="2643120" cy="988560"/>
            <a:chOff x="4338000" y="1036800"/>
            <a:chExt cx="2643120" cy="988560"/>
          </a:xfrm>
        </p:grpSpPr>
        <p:pic>
          <p:nvPicPr>
            <p:cNvPr id="518" name="" descr=""/>
            <p:cNvPicPr/>
            <p:nvPr/>
          </p:nvPicPr>
          <p:blipFill>
            <a:blip r:embed="rId7"/>
            <a:stretch/>
          </p:blipFill>
          <p:spPr>
            <a:xfrm>
              <a:off x="5351400" y="1547640"/>
              <a:ext cx="97308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9" name=""/>
            <p:cNvGrpSpPr/>
            <p:nvPr/>
          </p:nvGrpSpPr>
          <p:grpSpPr>
            <a:xfrm>
              <a:off x="4338000" y="1547640"/>
              <a:ext cx="919080" cy="477720"/>
              <a:chOff x="4338000" y="1547640"/>
              <a:chExt cx="919080" cy="47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433800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8956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4220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0924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4964040" y="1036800"/>
              <a:ext cx="1633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STN, ISDN,</a:t>
              </a:r>
              <a:br>
                <a:rPr sz="1200"/>
              </a:b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, WAN, x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6062040" y="1547640"/>
              <a:ext cx="919080" cy="477720"/>
              <a:chOff x="6062040" y="1547640"/>
              <a:chExt cx="919080" cy="47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606204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1360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6624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3328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0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ccess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400824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re conn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y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connectio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A8B-57E5-4BA9-BF44-A70E6CA7F7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133720" y="551988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4998960"/>
            <a:ext cx="2898720" cy="4557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3720" y="4021200"/>
            <a:ext cx="709560" cy="9126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01960" y="451008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4021200"/>
            <a:ext cx="1360440" cy="423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271944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219708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06720" y="219708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13320" y="219708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40240" y="219708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167652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18840" y="3110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7809800">
            <a:off x="4582440" y="3129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6400" y="388620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44960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9262-09B5-4255-A83C-209E1E53ECE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synthesis: frequency 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bits into symbols: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365-7ED2-48CD-82A7-5F2911AEEE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52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network top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ed radios can be master or  sl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are symmetric (same radio can be 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 can connect to 7 simultaneous or 200+ active slaves per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iconet has maximum capacity (1 MS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que hopping pattern/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apac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al impact with up to 10 piconets within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can share picone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4BD-D4C0-4BA4-A3A0-DC73D1E462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91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6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vices in a piconet hop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 a piconet: master gives slaves 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8-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n 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iconet devices are in stand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onet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Member Address (AMA, 3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ed Member Address (PMA, 8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301-6334-4566-825D-478334B9B3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 to join a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about radios to connect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to a specific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ly on a piconet (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/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-power connec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9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9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12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5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1B0-2C87-402B-8C1A-27D9DED732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 conscious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 current &lt; 0.3 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months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mode 8-30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5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 average 5 m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3-30mA, 20 kbps, 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pow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data length (else radio slee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and Park modes: 60 µ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s connected but not particip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retains AMA address, Park releases AMA, gets PMA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can participate within 2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imates calculated with 600 mAh battery and internal amplifier, power will vary with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F42-7F1B-43F7-A9DF-ED09450F13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link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ing-based packet 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slot: 0.625msec (max 1600 slots/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/slave slots (even-/odd-numbered sl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ling: master always “polls” sl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connection-oriented (SCO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it-switch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single-slot packet ass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metric 64Kbps full-du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connection-less (ACL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swi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mmetric band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packet size (1-5 sl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x. 721 kbps (57.6 kbps return chann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.8 - 432.6 kbps (symmetr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23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5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63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7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81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DFB-9542-45DE-89D4-3664969276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knowledgement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FDC-F0D2-4FCF-B024-A57F618242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-error correction (F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s are protected with 1/3 rate FEC and H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s may be FEC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3 rate: simple bit repetition (SCO packet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/3 rate: (10,15) shortened Hamming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/3 rate: no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Q (ACL packets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bit CRC (CRC-CCITT) &amp; 1-bit ACK/N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bit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6200" y="215424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00040" y="215424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97200" y="215424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43000" y="279072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43920" y="279072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10960" y="278928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2800" y="185436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882880" y="185436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53960" y="183024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1D0-CE61-4F7A-B70A-6A4BDCA2CCC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security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frequency hopping (79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ransmit power (range &lt;= 10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remot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link key (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performed in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paylo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 cipher algorithm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all traffic on 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entry by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945-9DEF-4A70-9396-BAF996C747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8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5" name=""/>
            <p:cNvCxnSpPr>
              <a:stCxn id="802" idx="5"/>
              <a:endCxn id="800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6" name=""/>
            <p:cNvCxnSpPr>
              <a:stCxn id="803" idx="3"/>
              <a:endCxn id="800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7" name=""/>
            <p:cNvCxnSpPr>
              <a:stCxn id="802" idx="6"/>
              <a:endCxn id="803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8" name=""/>
            <p:cNvCxnSpPr>
              <a:stCxn id="800" idx="5"/>
              <a:endCxn id="801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9" name=""/>
            <p:cNvCxnSpPr>
              <a:stCxn id="804" idx="7"/>
              <a:endCxn id="800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10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 keys in a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keys are generated via a PI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link key for each pair of devices i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storage of link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70F-A913-4C77-81F8-7F8BF000152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generation and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60560" y="1441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1200" y="23623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03480" y="1814400"/>
            <a:ext cx="350640" cy="547920"/>
          </a:xfrm>
          <a:prstGeom prst="downArrow">
            <a:avLst>
              <a:gd name="adj1" fmla="val 50000"/>
              <a:gd name="adj2" fmla="val 3906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69880" y="33512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7440" y="55483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1200" y="44467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01680" y="39052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201680" y="28479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01680" y="49323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74840" y="3444840"/>
            <a:ext cx="2743200" cy="304920"/>
          </a:xfrm>
          <a:prstGeom prst="leftRightArrow">
            <a:avLst>
              <a:gd name="adj1" fmla="val 50000"/>
              <a:gd name="adj2" fmla="val 179096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79840" y="57243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51480" y="5349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39800" y="3105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560920" y="142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80120" y="23493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03840" y="18018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70600" y="333864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18160" y="55450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280120" y="44337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02400" y="38926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02400" y="28353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02400" y="49197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70920" y="14778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85320" y="31860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437600" y="5472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D28-A392-473F-99AF-D96B098B279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level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s on-top of link-leve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trusted devic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levels f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or higher security requirements could be ad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ecur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023-0EAE-4ADD-885F-CD173BEF9B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1676520" y="1828800"/>
            <a:ext cx="6324480" cy="4266720"/>
            <a:chOff x="1676520" y="1828800"/>
            <a:chExt cx="6324480" cy="4266720"/>
          </a:xfrm>
        </p:grpSpPr>
        <p:sp>
          <p:nvSpPr>
            <p:cNvPr id="852" name=""/>
            <p:cNvSpPr/>
            <p:nvPr/>
          </p:nvSpPr>
          <p:spPr>
            <a:xfrm>
              <a:off x="1676520" y="396216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52840" y="567180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52840" y="515124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52840" y="417312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30720" y="466236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30720" y="417312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52840" y="287172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52840" y="234936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522520" y="234936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234936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86480" y="234936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752840" y="182880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98280" y="32619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7809800">
              <a:off x="3866760" y="32929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39040" y="198108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48520" y="3116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517640" y="449568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94400" y="41907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C6B-5375-4E1C-B7F0-06A715E7FD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architectur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he target usag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 variety of hardwar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ut of box us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legac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existing protocols whe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CFF-0C00-4627-9519-A41F217B9A2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380880" y="1828800"/>
            <a:ext cx="8404200" cy="4495680"/>
            <a:chOff x="380880" y="1828800"/>
            <a:chExt cx="8404200" cy="4495680"/>
          </a:xfrm>
        </p:grpSpPr>
        <p:sp>
          <p:nvSpPr>
            <p:cNvPr id="873" name=""/>
            <p:cNvSpPr/>
            <p:nvPr/>
          </p:nvSpPr>
          <p:spPr>
            <a:xfrm>
              <a:off x="2614680" y="500400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04960" y="499284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765520" y="3886200"/>
              <a:ext cx="360" cy="6858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2765520" y="4571280"/>
              <a:ext cx="60948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ri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ost Control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70280" y="5477040"/>
              <a:ext cx="360" cy="314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vCard/v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12676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94320" y="29718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75000" y="3200400"/>
              <a:ext cx="9907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6572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99080" y="5619600"/>
              <a:ext cx="360" cy="17172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7048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05560" y="5626080"/>
              <a:ext cx="16002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>
              <a:off x="8098560" y="2285280"/>
              <a:ext cx="360" cy="33526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500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7500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60800" y="4495680"/>
              <a:ext cx="360" cy="4572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13280" y="3873600"/>
              <a:ext cx="360" cy="1079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7028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1780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65560" y="3435480"/>
              <a:ext cx="15811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255840" y="3429000"/>
              <a:ext cx="1581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76720" y="3406680"/>
              <a:ext cx="16272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78520" y="3390840"/>
              <a:ext cx="1623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64120" y="4108320"/>
              <a:ext cx="163836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54760" y="4091040"/>
              <a:ext cx="1650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27480" y="3200400"/>
              <a:ext cx="5335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6100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65320" y="4724280"/>
              <a:ext cx="18288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94120" y="4724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165320" y="4572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0880" y="4091040"/>
              <a:ext cx="220824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ervice Dis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AAA-8F09-4D5E-A1DF-85434A7479F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Controller Interface (H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Layer Control &amp; Adaptation (L2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876-EF1D-4146-BABD-409B5CE46E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 Protocol (S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575-F064-4B5B-9E13-1B2F522286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Blueto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luetooth and what does it do 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usage scenarios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&amp;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802.15 and Bluetooth spec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BE9-B34A-402A-B390-0F0CA47962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OMM (based on GSM TS07.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y Control Protocol Spec (T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protocol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23B-E9B8-482F-AA59-9AE9D7BD11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 &amp;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653000" y="1662120"/>
            <a:ext cx="3857760" cy="3672720"/>
            <a:chOff x="4653000" y="1662120"/>
            <a:chExt cx="3857760" cy="3672720"/>
          </a:xfrm>
        </p:grpSpPr>
        <p:sp>
          <p:nvSpPr>
            <p:cNvPr id="934" name=""/>
            <p:cNvSpPr/>
            <p:nvPr/>
          </p:nvSpPr>
          <p:spPr>
            <a:xfrm>
              <a:off x="5072040" y="2595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2040" y="37414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072040" y="31683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314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45160" y="17352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18280" y="17352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91400" y="17352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64520" y="30366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35840" y="17352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32560" y="50464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560640" y="50450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53000" y="28828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6200000">
              <a:off x="4330080" y="331056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072040" y="16621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24600" y="18144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1716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91400" y="30258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35840" y="41716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default solution for a 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lice through the protoco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interoperability and logo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luetooth device supports one or more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BFB-50AD-4B2D-9118-E0D9A1F932C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5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419256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636-2CB6-4414-BCB8-8CFAFCF51F8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"/>
          <p:cNvGrpSpPr/>
          <p:nvPr/>
        </p:nvGrpSpPr>
        <p:grpSpPr>
          <a:xfrm>
            <a:off x="609480" y="1635120"/>
            <a:ext cx="8020080" cy="4613400"/>
            <a:chOff x="609480" y="1635120"/>
            <a:chExt cx="8020080" cy="4613400"/>
          </a:xfrm>
        </p:grpSpPr>
        <p:sp>
          <p:nvSpPr>
            <p:cNvPr id="972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4" name=""/>
            <p:cNvGraphicFramePr/>
            <p:nvPr/>
          </p:nvGraphicFramePr>
          <p:xfrm>
            <a:off x="3903480" y="2098440"/>
            <a:ext cx="855720" cy="78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2098440"/>
                      <a:ext cx="85572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6" name=""/>
            <p:cNvGraphicFramePr/>
            <p:nvPr/>
          </p:nvGraphicFramePr>
          <p:xfrm>
            <a:off x="609480" y="2673360"/>
            <a:ext cx="141444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673360"/>
                      <a:ext cx="141444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2266920" y="2576520"/>
            <a:ext cx="1315800" cy="36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2576520"/>
                      <a:ext cx="131580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0" name=""/>
            <p:cNvGraphicFramePr/>
            <p:nvPr/>
          </p:nvGraphicFramePr>
          <p:xfrm>
            <a:off x="2371680" y="3622680"/>
            <a:ext cx="1271520" cy="40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622680"/>
                      <a:ext cx="1271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2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1320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13200" y="59626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83568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58040" y="59626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35804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48016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713200" y="55335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64040" y="55339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835680" y="55335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7358040" y="55335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8480160" y="55335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508520" y="55339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11880" y="539100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078320" y="433872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078320" y="3608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18000" y="5384880"/>
              <a:ext cx="80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05320" y="50608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92720" y="2814480"/>
              <a:ext cx="0" cy="29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7692480" y="2071800"/>
              <a:ext cx="324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9"/>
            <a:stretch/>
          </p:blipFill>
          <p:spPr>
            <a:xfrm>
              <a:off x="4047840" y="4014720"/>
              <a:ext cx="658800" cy="4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557-F6EE-4EE1-86EC-BE8EEEE0182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609480" y="1625760"/>
            <a:ext cx="7910280" cy="4012560"/>
            <a:chOff x="609480" y="1625760"/>
            <a:chExt cx="7910280" cy="4012560"/>
          </a:xfrm>
        </p:grpSpPr>
        <p:sp>
          <p:nvSpPr>
            <p:cNvPr id="1014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6" name=""/>
            <p:cNvGraphicFramePr/>
            <p:nvPr/>
          </p:nvGraphicFramePr>
          <p:xfrm>
            <a:off x="609480" y="4647960"/>
            <a:ext cx="1143000" cy="99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647960"/>
                      <a:ext cx="114300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8" name=""/>
            <p:cNvGraphicFramePr/>
            <p:nvPr/>
          </p:nvGraphicFramePr>
          <p:xfrm>
            <a:off x="2750760" y="1625760"/>
            <a:ext cx="1166760" cy="12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625760"/>
                      <a:ext cx="116676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0376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03760" y="49640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725880" y="46778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48240" y="49640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4824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37072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5603760" y="45352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4240" y="45352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725880" y="45352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7248240" y="45352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8370720" y="45352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399080" y="45352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0208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02080" y="367812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656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87680" y="2820960"/>
              <a:ext cx="648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192720" y="2106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70120" y="182052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6" name="" descr=""/>
            <p:cNvPicPr/>
            <p:nvPr/>
          </p:nvPicPr>
          <p:blipFill>
            <a:blip r:embed="rId5"/>
            <a:stretch/>
          </p:blipFill>
          <p:spPr>
            <a:xfrm>
              <a:off x="1333080" y="3063600"/>
              <a:ext cx="1744920" cy="15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063-E706-4059-9E19-860CFF9AAFA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685800" y="1658880"/>
            <a:ext cx="7994160" cy="4284720"/>
            <a:chOff x="685800" y="1658880"/>
            <a:chExt cx="7994160" cy="4284720"/>
          </a:xfrm>
        </p:grpSpPr>
        <p:sp>
          <p:nvSpPr>
            <p:cNvPr id="1049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1" name=""/>
            <p:cNvGraphicFramePr/>
            <p:nvPr/>
          </p:nvGraphicFramePr>
          <p:xfrm>
            <a:off x="4343040" y="282708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82708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2590560" y="305568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305568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5" name=""/>
            <p:cNvGraphicFramePr/>
            <p:nvPr/>
          </p:nvGraphicFramePr>
          <p:xfrm>
            <a:off x="685800" y="267480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67480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7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6396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63960" y="565776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688644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08800" y="565776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40880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53092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763960" y="522864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914800" y="522900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886440" y="522864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7408800" y="522864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8530920" y="522864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559280" y="522900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35560" y="40338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129080" y="315576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62640" y="508608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368760" y="507996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56080" y="475596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1400" y="523224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930720" y="208404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N access poin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11D-6BAB-42E6-892B-0DB98D298C6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1087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1090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1093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1096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1099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353-4597-4F02-9AD8-550E5FA3969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is a global, RF-based (ISM band: 2.4GHz), short-range, connectivity technology &amp; solution for portable, personal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tooth spec com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Discover Magazine Awards fi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mor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ttp://www.bluetoot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581-BF4C-4668-A705-3A9FF6A5AB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is not only a link (connectivity) solution but an end-to-end (e2e)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e2e solution is built on-top of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low lev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“brand-name” is highly dependent on the presence of the core protocols in all devices claiming to be Bluetooth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The draft standard must contain: RF, BB, LM, &amp; L2CAP Bluetooth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level services (including LLC) can/shall be built on top of L2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AP (Generic Access Profile) can serve as a guideline for establishing Bluetooth links between hos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6EA-7FAA-4377-9031-0DE2CAE82DC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5563440" y="412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0800000">
            <a:off x="5257440" y="43430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40240" y="23493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7809800">
            <a:off x="4582440" y="32821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28717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318840" y="32623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905120" y="3733920"/>
            <a:ext cx="6324480" cy="2590560"/>
            <a:chOff x="1905120" y="3733920"/>
            <a:chExt cx="6324480" cy="2590560"/>
          </a:xfrm>
        </p:grpSpPr>
        <p:sp>
          <p:nvSpPr>
            <p:cNvPr id="1113" name=""/>
            <p:cNvSpPr/>
            <p:nvPr/>
          </p:nvSpPr>
          <p:spPr>
            <a:xfrm>
              <a:off x="1905120" y="37339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62720" y="41148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95880" y="4830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2133720" y="41734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23493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006720" y="23493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613320" y="23493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18288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56721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51516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01960" y="46623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01960" y="41734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90D-0B78-4F0E-AA54-3FB05DC5A61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ald Blaatand “Bluetooth”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of Denmark 940-981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e of two Runic stones erected in his capital city of J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ne’s inscription (“runes”) s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hristianiz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ontroll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believes that devices shall seamlessly communicate [wirelessl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103-9EE0-404B-B633-8ED302EF97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ocol lay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98720" y="21891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898720" y="29224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71920" y="29224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671920" y="36561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78400" y="36561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75160" y="36561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340320" y="36561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64000" y="32558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4000" y="33307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664000" y="35560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664000" y="3630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57480" y="3197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057480" y="32734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57480" y="33498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7480" y="34243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7480" y="3500280"/>
            <a:ext cx="111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57480" y="35751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62160" y="32544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137040" y="33130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213000" y="33703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286080" y="34290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362400" y="34876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36920" y="35463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13240" y="360504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457440" y="32544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30520" y="3305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606840" y="3359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81360" y="3411360"/>
            <a:ext cx="42840" cy="352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57680" y="34639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832200" y="35164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08520" y="3570120"/>
            <a:ext cx="410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83040" y="36226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57440" y="32544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53232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08280" y="3313080"/>
            <a:ext cx="3996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83160" y="33400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7591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33640" y="3398760"/>
            <a:ext cx="3996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08520" y="34275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983040" y="34592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05936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35320" y="35164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210200" y="354636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286160" y="35751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61040" y="36036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4370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388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64280" y="36036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87960" y="35751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11640" y="3546360"/>
            <a:ext cx="414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38560" y="35164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96260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888080" y="34592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11760" y="34275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737240" y="339876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609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586400" y="33400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10080" y="3313080"/>
            <a:ext cx="4140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43700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361040" y="32544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498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2261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00640" y="3292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769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451480" y="3333600"/>
            <a:ext cx="3960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5278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603760" y="33735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6768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53160" y="34146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8276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9040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9785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548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29360" y="3516480"/>
            <a:ext cx="3960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2056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278400" y="35575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3547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29240" y="35989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055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580080" y="36385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299280" y="36385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2229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48440" y="35989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721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996160" y="35575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9230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48200" y="3516480"/>
            <a:ext cx="3816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722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6959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6214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5450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70560" y="34146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3942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21160" y="33735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2452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170320" y="3333600"/>
            <a:ext cx="3996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943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19840" y="32925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435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672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89360" y="2882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89360" y="2808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89360" y="2732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89360" y="2657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89360" y="258300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89360" y="25225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6560" y="2522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46560" y="25956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46560" y="2671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46560" y="27464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146560" y="28224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46560" y="28987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71920" y="43894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5748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5748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5748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05748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5748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4000" y="434988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4000" y="42735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4000" y="41990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64000" y="41241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4000" y="40496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64000" y="398772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02000" y="43894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75160" y="43894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02000" y="51213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940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40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940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940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4940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4940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574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574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574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574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0574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574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3335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478400" y="43894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340320" y="43894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67240" y="434988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67240" y="42735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567240" y="41990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67240" y="41241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567240" y="40496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567240" y="398772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1796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1796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1796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1796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01796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1796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3324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324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324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324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324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324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150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150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150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150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6150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150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7320" y="50817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397320" y="50068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7320" y="49309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97320" y="4857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97320" y="47815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397320" y="47214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406680" y="51213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06680" y="43894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30848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7076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2353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1796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1796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1796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796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01796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1796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164280" y="50817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64280" y="50068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64280" y="49309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64280" y="4857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64280" y="47815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164280" y="47214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15000" y="50817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15000" y="50068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15000" y="49309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15000" y="4857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615000" y="47815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615000" y="47214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08480" y="51213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4036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00228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370160" y="34830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370160" y="48927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90720" y="56707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1484280" y="28540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438200" y="33400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438200" y="27496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484280" y="35874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438200" y="4748040"/>
            <a:ext cx="90720" cy="1447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34830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484280" y="49971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38200" y="5538960"/>
            <a:ext cx="90720" cy="14256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48927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484280" y="206640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19605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484280" y="5681520"/>
            <a:ext cx="1800" cy="401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38200" y="60451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21720" y="18763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41960" y="32320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55560" y="39942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616400" y="5432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98040" y="58276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283720" y="22734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246640" y="30052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39200" y="37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39200" y="44719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711240" y="27669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361040" y="28274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08176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2946240" y="28274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9404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39200" y="5203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5748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748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5748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5748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05748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57800" y="32497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57800" y="32130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57800" y="30988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30607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3024360"/>
            <a:ext cx="93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357800" y="29876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357800" y="2949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6396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6396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6396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6396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86396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488200" y="3759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221160" y="49658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5998680" y="50259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097680" y="499572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6671880" y="50259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618240" y="499572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160720" y="25797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5600" y="29624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60720" y="25797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65360" y="43084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160720" y="25797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03360" y="50450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15120" y="23893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441800" y="2500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69680" y="600696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597640" y="600696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256720" y="61866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713560" y="61880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170760" y="51213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30960" y="4491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472720" y="52243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1219320" y="2774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990720" y="27748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6200000">
            <a:off x="503280" y="40381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40A-DF5C-4E8F-BBDC-DDCAAFF636E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838080" y="2925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2CAP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35200" y="17748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643760" y="21240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657600" y="17748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832920" y="212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header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0" name=""/>
          <p:cNvGraphicFramePr/>
          <p:nvPr/>
        </p:nvGraphicFramePr>
        <p:xfrm>
          <a:off x="1371600" y="307800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7800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"/>
          <p:cNvSpPr/>
          <p:nvPr/>
        </p:nvSpPr>
        <p:spPr>
          <a:xfrm>
            <a:off x="753120" y="445608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221480" y="1523880"/>
            <a:ext cx="6520320" cy="337320"/>
            <a:chOff x="1221480" y="1523880"/>
            <a:chExt cx="6520320" cy="337320"/>
          </a:xfrm>
        </p:grpSpPr>
        <p:sp>
          <p:nvSpPr>
            <p:cNvPr id="1454" name=""/>
            <p:cNvSpPr/>
            <p:nvPr/>
          </p:nvSpPr>
          <p:spPr>
            <a:xfrm>
              <a:off x="122148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9532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00360" y="16920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94A-AD87-410F-A6C8-28109800E52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838080" y="268128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L PDU (ACLP)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735200" y="16002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643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57600" y="16002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42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L_CH=‘b11’ the ACLP payload is generated and interpreted by the ACLP layer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Manager (LM) P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 (L2C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1295280" y="2757600"/>
          <a:ext cx="7162920" cy="190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57600"/>
                    <a:ext cx="71629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"/>
          <p:cNvSpPr/>
          <p:nvPr/>
        </p:nvSpPr>
        <p:spPr>
          <a:xfrm>
            <a:off x="757080" y="435780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1221480" y="1371600"/>
            <a:ext cx="6520320" cy="337320"/>
            <a:chOff x="1221480" y="1371600"/>
            <a:chExt cx="6520320" cy="337320"/>
          </a:xfrm>
        </p:grpSpPr>
        <p:sp>
          <p:nvSpPr>
            <p:cNvPr id="1468" name=""/>
            <p:cNvSpPr/>
            <p:nvPr/>
          </p:nvSpPr>
          <p:spPr>
            <a:xfrm>
              <a:off x="122148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9532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800360" y="15397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2B5-33E9-45B7-ACDC-8FEAB8FE762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838080" y="266688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735200" y="1523880"/>
            <a:ext cx="1828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1560" y="187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657600" y="15238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42760" y="18730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229068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 (encoded with 1/3-rate FEC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+CRC encoded with {1,2,3}/3-rate F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U_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Dxy, HVx, DV, AUX1 the BB payload is passed to the appropriate higher layer (LM for ACL packets, an application for SCO packets, AUX1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header information or in the FHS payload is used to facilitate &amp; manage baseb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C: present only in non-AUX, ACL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1295280" y="274320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0" name=""/>
          <p:cNvGrpSpPr/>
          <p:nvPr/>
        </p:nvGrpSpPr>
        <p:grpSpPr>
          <a:xfrm>
            <a:off x="1221480" y="1289160"/>
            <a:ext cx="6520320" cy="337320"/>
            <a:chOff x="1221480" y="1289160"/>
            <a:chExt cx="6520320" cy="337320"/>
          </a:xfrm>
        </p:grpSpPr>
        <p:sp>
          <p:nvSpPr>
            <p:cNvPr id="1481" name=""/>
            <p:cNvSpPr/>
            <p:nvPr/>
          </p:nvSpPr>
          <p:spPr>
            <a:xfrm>
              <a:off x="122148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19532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800360" y="14572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7324560" y="1523880"/>
            <a:ext cx="99072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241760" y="1873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5A1-9CF9-41B8-961C-B50EA3CE10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type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724040" y="42670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994120" y="4267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390920" y="4267080"/>
            <a:ext cx="3657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083320" y="4616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942280" y="4616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009400" y="461628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738440" y="3397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390920" y="33973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83320" y="2101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185440" y="373392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33520" y="21178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752480" y="17524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738440" y="2590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63960" y="2590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97360" y="2908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851560" y="294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249920" y="1797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95280" y="26352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097360" y="3733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127520" y="342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56640" y="43117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752480" y="51814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024360" y="51814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419720" y="5181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11176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972520" y="553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62120" y="5791320"/>
            <a:ext cx="76197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202440" y="5181480"/>
            <a:ext cx="19047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04540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157440" y="553068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249920" y="5226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1221480" y="1492200"/>
            <a:ext cx="6520320" cy="337320"/>
            <a:chOff x="1221480" y="1492200"/>
            <a:chExt cx="6520320" cy="337320"/>
          </a:xfrm>
        </p:grpSpPr>
        <p:sp>
          <p:nvSpPr>
            <p:cNvPr id="1519" name=""/>
            <p:cNvSpPr/>
            <p:nvPr/>
          </p:nvSpPr>
          <p:spPr>
            <a:xfrm>
              <a:off x="122148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9532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00360" y="16603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024360" y="3397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2520" y="3733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6F3-8A8F-41E5-8345-081D6791A5F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066680" y="19051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425960" y="2254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124080" y="19051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191120" y="19051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019920" y="19051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286000" y="2095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46896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863960" y="2254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36300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096920" y="26668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991440" y="30160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1240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91120" y="26668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25780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3244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4689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53420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60268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6675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438280" y="2857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0922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496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743200" y="3747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043080" y="38862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092240" y="46483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124080" y="4648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191120" y="4648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019920" y="46483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043800" y="50292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743200" y="483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B03-C7B6-4B63-9057-4037EEB0DF5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56" idx="3"/>
            <a:endCxn id="1557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557" idx="3"/>
            <a:endCxn id="1558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5" name=""/>
          <p:cNvCxnSpPr>
            <a:stCxn id="1561" idx="3"/>
            <a:endCxn id="1560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6" name=""/>
          <p:cNvCxnSpPr>
            <a:stCxn id="1560" idx="3"/>
            <a:endCxn id="1559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7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2" name=""/>
          <p:cNvCxnSpPr>
            <a:stCxn id="1569" idx="3"/>
            <a:endCxn id="1570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3" name=""/>
          <p:cNvCxnSpPr>
            <a:stCxn id="1570" idx="0"/>
            <a:endCxn id="1571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4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6" idx="3"/>
            <a:endCxn id="1575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79" idx="3"/>
            <a:endCxn id="1580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2" name=""/>
          <p:cNvCxnSpPr>
            <a:stCxn id="1575" idx="2"/>
            <a:endCxn id="1579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3" name=""/>
          <p:cNvCxnSpPr>
            <a:stCxn id="1571" idx="3"/>
            <a:endCxn id="1574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8" idx="0"/>
            <a:endCxn id="1586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0" name=""/>
          <p:cNvCxnSpPr>
            <a:stCxn id="1588" idx="0"/>
            <a:endCxn id="1587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1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09B-CEA5-4E6E-B504-7D5D0CA981F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does Bluetooth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6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71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3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2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4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6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9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3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5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6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8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3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BF4-1D18-47C0-BBAC-7C471005E0B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ittle bit of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(Special Interest Group) was formed in Februar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ver 1036 adopter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ent “public” in Ma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ork (the spec: &gt;1,500 pages) became public on July 26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15D-9F29-4D07-947D-1F0C0AF094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421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424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427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430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433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ACF-951C-4017-9878-E50E88C5B61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484200" y="1447920"/>
            <a:ext cx="8278560" cy="4267080"/>
            <a:chOff x="484200" y="1447920"/>
            <a:chExt cx="8278560" cy="4267080"/>
          </a:xfrm>
        </p:grpSpPr>
        <p:sp>
          <p:nvSpPr>
            <p:cNvPr id="436" name=""/>
            <p:cNvSpPr/>
            <p:nvPr/>
          </p:nvSpPr>
          <p:spPr>
            <a:xfrm>
              <a:off x="5262480" y="20120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2680" y="15238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38408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38098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24120" y="49370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36880" y="47242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75160" y="30009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531600" y="34290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52912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4200" y="47703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200" y="37926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52440" y="42814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52440" y="37926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4200" y="24908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4200" y="19684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7200" y="19684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63800" y="19684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90720" y="19684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4200" y="14479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69320" y="28814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7809800">
              <a:off x="2932920" y="29012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rdware/softwar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208-ECAC-4788-AAB0-7587B38535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ge scenarios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den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dless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rd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-in-one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peaker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79B-8E02-4D5C-87C6-633667CE80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7:09:06Z</dcterms:created>
  <dc:creator>Dr. Chatschik Bisdikian</dc:creator>
  <dc:description>69</dc:description>
  <dc:language>en-US</dc:language>
  <cp:lastModifiedBy>Tim Godfrey</cp:lastModifiedBy>
  <cp:lastPrinted>1998-02-10T13:28:06Z</cp:lastPrinted>
  <dcterms:modified xsi:type="dcterms:W3CDTF">1999-09-15T02:54:59Z</dcterms:modified>
  <cp:revision>5</cp:revision>
  <dc:subject>Bluetooth Architecture Overview</dc:subject>
  <dc:title>Overview of the Bluetooth System</dc:title>
</cp:coreProperties>
</file>