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6B708-FCEB-4142-A42E-E36ACE0BC1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DEAB3-1F09-44B1-8313-89DB75BA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3424D-ABF2-45AC-988F-7F05D602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D849D-6FAB-4B4C-9C83-F6C56A93F3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41914-20A1-42FA-8838-B72EEDFA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CBE05-BDC2-4487-849A-F5E9526A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351B8-7BFD-48C9-9E4A-790C8180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80B9C-B8CB-4850-95F1-4C104108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AB5DB-1A44-4D3F-BAA5-EEC80739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066EB-56D1-4204-A5A0-EC09A960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CE1B5-ECC1-49CC-A9CA-FDE92D03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18F60-D9B0-4D2F-9323-BC9E4253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AF01DFB-8873-4B09-9F6C-2BCF27471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96880" y="6446880"/>
            <a:ext cx="127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tative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638680" y="6477120"/>
            <a:ext cx="292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O’Hara, Chairman, Task Group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Tbaum@ee.rochester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ntative Agend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Group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13-17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a Rosa,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F6E0F-4426-465F-BACD-579B74B50F6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for Task Group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minutes from July meeting, document 99/1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for sub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E10F0-9230-416C-AB42-E3F9740B21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for Task Group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 of Frequency Ho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/195, “Algorithmically Derived Hop Sequences”, Darwin Engwer, Johnny Zwe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baum@ee.rochester.ed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Edward Titleba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/xxx, “Algorithmic Determination of Hop Sequences”, Dean Kawagu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 of Direct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/191, “Universal DS Channelization”, Bob O’H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s of MAC and MAC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/xxx, “Support for International Mobility”, Naftali Chayat, Dean Kawagu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B3021-D185-4861-927F-7D57FB56FEF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for Task Group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B0D0E-DE9B-4C8E-AC1D-95554E64997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5:47:32Z</dcterms:created>
  <dc:creator>Bob O'Hara</dc:creator>
  <dc:description/>
  <dc:language>en-US</dc:language>
  <cp:lastModifiedBy>Bob O'Hara</cp:lastModifiedBy>
  <cp:lastPrinted>1998-02-10T13:28:06Z</cp:lastPrinted>
  <dcterms:modified xsi:type="dcterms:W3CDTF">1999-09-15T22:53:17Z</dcterms:modified>
  <cp:revision>8</cp:revision>
  <dc:subject/>
  <dc:title>Agenda for Task Group d</dc:title>
</cp:coreProperties>
</file>