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DE65-3DD7-4C4A-AD5C-EDE547DC1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7B8C-B261-4E44-881D-D4DBFA845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3B23-89B7-44E7-B46B-8F4BD4B75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036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0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12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036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0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D260-97D1-4E3E-A869-FC56FF86D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E3BB8-CEC6-4542-A30C-9F24147A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824F2-5A51-405E-999F-BC9E1CC5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42491-A8BE-4BAC-AE5C-4F80C455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639BE-7D78-4F82-9522-F6C45ABE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E5F3E-8E28-4C10-A348-DBE3ED78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76160" y="304560"/>
            <a:ext cx="698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328D9-D07A-4C6C-BFA2-26938795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DF2EF-DFBF-468E-81CA-6A99445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E27F-849E-4393-9887-E6162707F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71FC5-B192-4DDD-8CDA-B3211864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0099C-912D-41FE-8620-A6C0E96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ABE4D-5595-42AC-BDC5-27F3C8A8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8C161-17FC-4FF9-BAEF-91EAA155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90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312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90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72AD2-C447-418F-93B3-BBE6088D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9175-1EFE-4DC1-A554-DBC5DBAC8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7CEA-2EF7-48A9-851D-F932EED68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15C1-C571-4816-B505-D5B9A169E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160" y="304560"/>
            <a:ext cx="698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D4E0-D98D-4DFE-963B-ACC05F572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D55E-D564-484A-ABB5-69C809D03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134F-3F7A-4880-B674-C3658B9F4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2A97-CAE5-4D7F-B3C8-EE9FB826B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990720" cy="779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6520" y="227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0600" y="3042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5176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9BA909-B0FC-4F77-B2DF-5FC2214A1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65360" y="582480"/>
            <a:ext cx="2203560" cy="173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302B15-7AFF-41C0-A715-23A4CEC0B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00"/>
              </a:spcBef>
              <a:buClr>
                <a:srgbClr val="0066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349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6680" y="394668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66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deband FH NPRM Mo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27320" y="4083120"/>
            <a:ext cx="6457680" cy="17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en Mann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hair, HomeRF Working Group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l Corporation &lt; ben.manny@intel.com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EEE 802.11&amp;15 Interim Meetin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eptember 15, 1999 - Santa Rosa, C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A27B1-109C-4B1E-88D2-E592012DF5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 Prior to 9/13/9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3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RF working group desires to scale performance of SWAP-CA to expand capabilities and usag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d FCC letter in the Fall ‘98 requesting Part 15.247 waiver or rule change to permit wider channels with reduced power and dwe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waver opposition, FCC issued Part 15 NPR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 issued letter opposing this ru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Overlapped channels cause “increased interfer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Faster hopping “represents a more severe interference thre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The proportional reduction in transmitted RF power will not “effectively offset the impact of wider occupied chann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Changing the 15.247 rules to allow WBFH is not necessary, since there is “already…a standard for high speed wireless networking” that will meet all of HomeRF’s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280B-05C2-4A43-90A5-CEB9042DD6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802.11 9/13 Meeting 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7123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RF Working Group presented and defended paper on 9/13 that addresses these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included Call to Action to re-call IEEE 802 letter based on addressing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 moved the HomeRF Call to Action discussion to 9/15 to permit time to reflect and discuss new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terference impact papers presented to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mments and papers to FCC NPRM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action am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s need to review new interferenc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call from IEEE EMC (Electro Magnetic Compatibility)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6981-E9F1-4FD0-B55C-F769602FFD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6986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recall first letter and send in a letter of support for the ru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ligned with IEEE 802 goals of supporting regulations that permit greatest selection of best technology to meet specific market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oes not impact the performance of existing Part 15 compliant products over current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able US consumers to benefit from new wireless devices that are currently allowed in most other countries but not in the U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recall first letter and remai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individual companies comment on rul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request IEEE’s EMC committee to review NPRM interference impact papers and publish a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ractice to engage appropriate IEEE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C committee members are interested in doing th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58F5-E9F0-4D38-83DC-B09CBB1FFE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en Manny, HomeRF Chair</dc:creator>
  <dc:description/>
  <dc:language>en-US</dc:language>
  <cp:lastModifiedBy>Tim Godfrey</cp:lastModifiedBy>
  <cp:lastPrinted>1998-09-11T21:46:02Z</cp:lastPrinted>
  <dcterms:modified xsi:type="dcterms:W3CDTF">1999-09-15T00:32:25Z</dcterms:modified>
  <cp:revision>335</cp:revision>
  <dc:subject/>
  <dc:title>Wideband FH NPRM Motions</dc:title>
</cp:coreProperties>
</file>