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958-24A9-4C6B-A6EC-FB3E909F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A11B-9A44-47E8-9053-ECA11C24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4A75-A8E8-4CD3-95EE-A8F29914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14B-53B7-44F7-A736-1A0F0F7F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410-B6C9-4BB0-88AE-F1D6814B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FDD-11D7-4B64-BF7B-A0A72765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5EC-33A2-4BEF-AAC4-2F16B128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800-F02E-4B79-BCD1-AA989D62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800E-A196-4D5E-A9EB-6F25B89C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4D22-F094-4437-A98F-9CCA6AB4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2D9-FC75-44B1-BF0A-1C32167B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ADA-62DE-4E8C-B743-FD651E60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98B68BA-0F68-43AD-870D-813284E88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0" y="396000"/>
            <a:ext cx="617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70r0 {802.11-99/221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38840" y="2514600"/>
            <a:ext cx="2820960" cy="3124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066680"/>
            <a:ext cx="8305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NOKIA HARDWARE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7800" y="3251160"/>
            <a:ext cx="31352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laf Joe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af.Joeresse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7800" y="4508640"/>
            <a:ext cx="3392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lger Huss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lger.Hussman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960" y="1994040"/>
            <a:ext cx="2835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omas Mü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mas.T.Muller@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B44-FA65-4EF7-8EA7-8DF54C6C51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Common Bluetooth Interfaces needed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934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s for common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interoperability between components (HW/SW) from different vendors (Example: H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/BB: most important HW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vendors on both sides of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BB solutions require stabl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/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ly hidden in BB A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depend o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722F-DE99-4E20-9E87-E97BDDE6FF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ndard RF/BB Interface driv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-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-architectu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pin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BB integration into other 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device pin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proof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data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146-91BC-41AF-BA3F-E47C2358E3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720A-D5EC-47CD-953D-EA39F9B6688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Module: F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p-Chips: RF ASIC, BB ASIC, Fl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&lt; 500 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cl. Crys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: 2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ly shiel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supply: 3.0 .. 5.2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ing: 1.8 .. 3.3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956C-631B-48FA-8C96-2E16AE89D5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high-IF R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time-to-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 oriented BB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PS consuming tasks done in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low-level features can be added in S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W buffers dedicated to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flexibility w.r.t. interfaces and buffer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D7BF-6C05-45BE-B831-DD1B09AA70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W Bl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17560" y="1523880"/>
            <a:ext cx="6124680" cy="44388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31120" y="4930920"/>
            <a:ext cx="1000080" cy="677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92680" y="2629080"/>
            <a:ext cx="18018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33440" y="2629080"/>
            <a:ext cx="175752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0960" y="260352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23000" y="2603520"/>
            <a:ext cx="1120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55760" y="2437920"/>
            <a:ext cx="362520" cy="638280"/>
            <a:chOff x="455760" y="2437920"/>
            <a:chExt cx="362520" cy="638280"/>
          </a:xfrm>
        </p:grpSpPr>
        <p:sp>
          <p:nvSpPr>
            <p:cNvPr id="64" name=""/>
            <p:cNvSpPr/>
            <p:nvPr/>
          </p:nvSpPr>
          <p:spPr>
            <a:xfrm>
              <a:off x="636120" y="2468520"/>
              <a:ext cx="0" cy="60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455760" y="2437920"/>
              <a:ext cx="194400" cy="39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23520" y="2468520"/>
              <a:ext cx="194760" cy="3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537280" y="3019320"/>
            <a:ext cx="1295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60720" y="3019320"/>
            <a:ext cx="1632240" cy="9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RM7T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VSD co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pplic.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69040" y="407340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9720" y="3078000"/>
            <a:ext cx="157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14720" y="3370320"/>
            <a:ext cx="165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81880" y="2986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985920" y="2913120"/>
            <a:ext cx="170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74440" y="2579760"/>
            <a:ext cx="99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75520" y="3036960"/>
            <a:ext cx="675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37840" y="3900600"/>
            <a:ext cx="1687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15560" y="1668600"/>
            <a:ext cx="27554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toot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516440" y="371808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54840" y="3797280"/>
            <a:ext cx="1222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V, 2.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32600" y="2593800"/>
            <a:ext cx="121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.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40" y="399240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98880" y="382284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61120" y="3489480"/>
            <a:ext cx="90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91400" y="4083120"/>
            <a:ext cx="0" cy="823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639960" y="4449600"/>
            <a:ext cx="318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654360" y="4083120"/>
            <a:ext cx="0" cy="36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98520" y="417528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294080" y="2820960"/>
            <a:ext cx="9216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294080" y="3278160"/>
            <a:ext cx="9216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03720" y="29131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03720" y="3370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57440" y="55468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02680" y="54547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711760" y="4896000"/>
            <a:ext cx="558720" cy="558720"/>
            <a:chOff x="5711760" y="4896000"/>
            <a:chExt cx="558720" cy="558720"/>
          </a:xfrm>
        </p:grpSpPr>
        <p:sp>
          <p:nvSpPr>
            <p:cNvPr id="95" name=""/>
            <p:cNvSpPr/>
            <p:nvPr/>
          </p:nvSpPr>
          <p:spPr>
            <a:xfrm rot="5400000">
              <a:off x="5711760" y="489600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773320" y="5037120"/>
              <a:ext cx="416160" cy="273960"/>
              <a:chOff x="5773320" y="5037120"/>
              <a:chExt cx="416160" cy="273960"/>
            </a:xfrm>
          </p:grpSpPr>
          <p:sp>
            <p:nvSpPr>
              <p:cNvPr id="97" name=""/>
              <p:cNvSpPr/>
              <p:nvPr/>
            </p:nvSpPr>
            <p:spPr>
              <a:xfrm rot="5400000">
                <a:off x="5885640" y="511992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5880240" y="504180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5773320" y="517680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6081840" y="503712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6078600" y="518760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2649600" y="5000760"/>
            <a:ext cx="558720" cy="558720"/>
            <a:chOff x="2649600" y="5000760"/>
            <a:chExt cx="558720" cy="558720"/>
          </a:xfrm>
        </p:grpSpPr>
        <p:sp>
          <p:nvSpPr>
            <p:cNvPr id="103" name=""/>
            <p:cNvSpPr/>
            <p:nvPr/>
          </p:nvSpPr>
          <p:spPr>
            <a:xfrm rot="5400000">
              <a:off x="2649600" y="500076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2711160" y="5141880"/>
              <a:ext cx="416160" cy="273960"/>
              <a:chOff x="2711160" y="5141880"/>
              <a:chExt cx="416160" cy="273960"/>
            </a:xfrm>
          </p:grpSpPr>
          <p:sp>
            <p:nvSpPr>
              <p:cNvPr id="105" name=""/>
              <p:cNvSpPr/>
              <p:nvPr/>
            </p:nvSpPr>
            <p:spPr>
              <a:xfrm rot="5400000">
                <a:off x="2823480" y="522468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2818080" y="514656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2711160" y="528156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3019680" y="514188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3016440" y="529236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739960" y="4083120"/>
            <a:ext cx="367920" cy="918360"/>
            <a:chOff x="2739960" y="4083120"/>
            <a:chExt cx="367920" cy="918360"/>
          </a:xfrm>
        </p:grpSpPr>
        <p:sp>
          <p:nvSpPr>
            <p:cNvPr id="111" name=""/>
            <p:cNvSpPr/>
            <p:nvPr/>
          </p:nvSpPr>
          <p:spPr>
            <a:xfrm>
              <a:off x="2739960" y="4083120"/>
              <a:ext cx="144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05720" y="4083120"/>
              <a:ext cx="216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848200" y="4083120"/>
            <a:ext cx="367560" cy="826200"/>
            <a:chOff x="5848200" y="4083120"/>
            <a:chExt cx="367560" cy="826200"/>
          </a:xfrm>
        </p:grpSpPr>
        <p:sp>
          <p:nvSpPr>
            <p:cNvPr id="114" name=""/>
            <p:cNvSpPr/>
            <p:nvPr/>
          </p:nvSpPr>
          <p:spPr>
            <a:xfrm>
              <a:off x="5848200" y="4083120"/>
              <a:ext cx="216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14320" y="4083120"/>
              <a:ext cx="144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73D0-D68D-4FBB-81E1-CEC16929EF6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RF 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30400" y="1600200"/>
            <a:ext cx="5345280" cy="4572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12920" y="331632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112920" y="33159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12920" y="438300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4000" y="2233440"/>
            <a:ext cx="4716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778200" y="2376360"/>
            <a:ext cx="415440" cy="1381320"/>
            <a:chOff x="3778200" y="2376360"/>
            <a:chExt cx="415440" cy="1381320"/>
          </a:xfrm>
        </p:grpSpPr>
        <p:sp>
          <p:nvSpPr>
            <p:cNvPr id="123" name=""/>
            <p:cNvSpPr/>
            <p:nvPr/>
          </p:nvSpPr>
          <p:spPr>
            <a:xfrm>
              <a:off x="3778200" y="35305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892320" y="2376360"/>
              <a:ext cx="144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92320" y="2376360"/>
              <a:ext cx="3013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031280" y="2521080"/>
              <a:ext cx="144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31280" y="25210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78200" y="3755880"/>
              <a:ext cx="253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657680" y="2376360"/>
            <a:ext cx="415440" cy="1381320"/>
            <a:chOff x="4657680" y="2376360"/>
            <a:chExt cx="415440" cy="1381320"/>
          </a:xfrm>
        </p:grpSpPr>
        <p:sp>
          <p:nvSpPr>
            <p:cNvPr id="130" name=""/>
            <p:cNvSpPr/>
            <p:nvPr/>
          </p:nvSpPr>
          <p:spPr>
            <a:xfrm flipH="1">
              <a:off x="4958280" y="35305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958640" y="2376360"/>
              <a:ext cx="180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657680" y="2376360"/>
              <a:ext cx="3009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819680" y="2521080"/>
              <a:ext cx="180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657680" y="25210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819680" y="3755880"/>
              <a:ext cx="253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264200" y="2274840"/>
            <a:ext cx="323280" cy="328680"/>
            <a:chOff x="4264200" y="2274840"/>
            <a:chExt cx="323280" cy="328680"/>
          </a:xfrm>
        </p:grpSpPr>
        <p:sp>
          <p:nvSpPr>
            <p:cNvPr id="137" name=""/>
            <p:cNvSpPr/>
            <p:nvPr/>
          </p:nvSpPr>
          <p:spPr>
            <a:xfrm>
              <a:off x="4264200" y="23702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4200" y="23702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4200" y="24685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4200" y="24685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380480" y="2520720"/>
              <a:ext cx="112320" cy="60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64200" y="22748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4200" y="22748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380480" y="2295360"/>
              <a:ext cx="112320" cy="5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5621400" y="2233440"/>
            <a:ext cx="4698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51440" y="2644920"/>
            <a:ext cx="324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72320" y="2436840"/>
            <a:ext cx="1378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75200" y="2481120"/>
            <a:ext cx="139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2160" y="2332080"/>
            <a:ext cx="1440" cy="104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942160" y="2476080"/>
            <a:ext cx="1440" cy="103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686560" y="2311560"/>
            <a:ext cx="144360" cy="271080"/>
            <a:chOff x="5686560" y="2311560"/>
            <a:chExt cx="144360" cy="271080"/>
          </a:xfrm>
        </p:grpSpPr>
        <p:sp>
          <p:nvSpPr>
            <p:cNvPr id="152" name=""/>
            <p:cNvSpPr/>
            <p:nvPr/>
          </p:nvSpPr>
          <p:spPr>
            <a:xfrm>
              <a:off x="5686560" y="23144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86560" y="23144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86560" y="23115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86560" y="23115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86560" y="24033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86560" y="24033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86560" y="23986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6560" y="23986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86560" y="24908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86560" y="24908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86560" y="24958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6560" y="24958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916080" y="183204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W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8240" y="1647720"/>
            <a:ext cx="1472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im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487160" y="560232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84040" y="1792440"/>
            <a:ext cx="98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3240" y="567864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65360" y="3040200"/>
            <a:ext cx="1440" cy="83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65360" y="3882960"/>
            <a:ext cx="4824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665360" y="3039840"/>
            <a:ext cx="120600" cy="20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7640" y="3040200"/>
            <a:ext cx="117720" cy="20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63800" y="3675240"/>
            <a:ext cx="471600" cy="41724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27280" y="3882960"/>
            <a:ext cx="230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157480" y="3675240"/>
            <a:ext cx="472680" cy="417240"/>
            <a:chOff x="2157480" y="3675240"/>
            <a:chExt cx="472680" cy="417240"/>
          </a:xfrm>
        </p:grpSpPr>
        <p:sp>
          <p:nvSpPr>
            <p:cNvPr id="176" name=""/>
            <p:cNvSpPr/>
            <p:nvPr/>
          </p:nvSpPr>
          <p:spPr>
            <a:xfrm>
              <a:off x="2157480" y="3675240"/>
              <a:ext cx="472680" cy="41724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2221200" y="3727440"/>
              <a:ext cx="324720" cy="326160"/>
              <a:chOff x="2221200" y="3727440"/>
              <a:chExt cx="324720" cy="326160"/>
            </a:xfrm>
          </p:grpSpPr>
          <p:sp>
            <p:nvSpPr>
              <p:cNvPr id="178" name=""/>
              <p:cNvSpPr/>
              <p:nvPr/>
            </p:nvSpPr>
            <p:spPr>
              <a:xfrm>
                <a:off x="2221200" y="38221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21200" y="38221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21200" y="392076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221200" y="392076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2337120" y="3972960"/>
                <a:ext cx="110160" cy="58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21200" y="372744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21200" y="372744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2337120" y="3746160"/>
                <a:ext cx="110160" cy="59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2908800" y="381492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17800" y="270684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21160" y="2803680"/>
            <a:ext cx="3578040" cy="2265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280980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03960" y="3011400"/>
            <a:ext cx="313812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high IF limiting 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nalog FM discri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pen loop 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ternal VCO tank &amp; vari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dig. pulse sha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pin-count RF/BB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293000" y="5373720"/>
            <a:ext cx="472680" cy="419040"/>
            <a:chOff x="4293000" y="5373720"/>
            <a:chExt cx="472680" cy="419040"/>
          </a:xfrm>
        </p:grpSpPr>
        <p:sp>
          <p:nvSpPr>
            <p:cNvPr id="192" name=""/>
            <p:cNvSpPr/>
            <p:nvPr/>
          </p:nvSpPr>
          <p:spPr>
            <a:xfrm rot="5400000">
              <a:off x="4319640" y="5346720"/>
              <a:ext cx="419040" cy="47268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5400000">
              <a:off x="4460040" y="5542920"/>
              <a:ext cx="146160" cy="9648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624560" y="5497560"/>
              <a:ext cx="1440" cy="183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440240" y="5497560"/>
              <a:ext cx="1440" cy="20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26000" y="5600520"/>
              <a:ext cx="950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348800" y="5600520"/>
              <a:ext cx="928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37832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284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06960" y="583092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863880" y="5068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65680" y="5373720"/>
            <a:ext cx="471600" cy="41904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21280" y="5580000"/>
            <a:ext cx="139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21280" y="5621400"/>
            <a:ext cx="13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91120" y="5478480"/>
            <a:ext cx="1800" cy="101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991120" y="5621400"/>
            <a:ext cx="1800" cy="10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35520" y="5454720"/>
            <a:ext cx="145080" cy="271440"/>
            <a:chOff x="5735520" y="5454720"/>
            <a:chExt cx="145080" cy="271440"/>
          </a:xfrm>
        </p:grpSpPr>
        <p:sp>
          <p:nvSpPr>
            <p:cNvPr id="208" name=""/>
            <p:cNvSpPr/>
            <p:nvPr/>
          </p:nvSpPr>
          <p:spPr>
            <a:xfrm>
              <a:off x="5736960" y="54579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6960" y="54579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35520" y="545472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35520" y="545472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36960" y="554688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36960" y="554688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35520" y="554220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35520" y="554220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36960" y="56343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36960" y="56343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35520" y="563796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5520" y="563796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5751360" y="5068800"/>
            <a:ext cx="180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44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22560" y="583092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20080" y="3594240"/>
            <a:ext cx="1557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094520" y="3164040"/>
            <a:ext cx="1595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46480" y="2882880"/>
            <a:ext cx="8139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46120" y="3316320"/>
            <a:ext cx="567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32440" y="3720960"/>
            <a:ext cx="7452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593120" y="30877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574040" y="35179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7640" y="32018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87640" y="364500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64120" y="4178160"/>
            <a:ext cx="599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59600" y="399888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59600" y="445932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51480" y="2462040"/>
            <a:ext cx="171360" cy="354240"/>
          </a:xfrm>
          <a:custGeom>
            <a:avLst/>
            <a:gdLst/>
            <a:ahLst/>
            <a:rect l="l" t="t" r="r" b="b"/>
            <a:pathLst>
              <a:path w="108" h="223">
                <a:moveTo>
                  <a:pt x="108" y="0"/>
                </a:moveTo>
                <a:lnTo>
                  <a:pt x="0" y="0"/>
                </a:lnTo>
                <a:lnTo>
                  <a:pt x="0" y="2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D7C1-3CB1-470B-96A7-9BDCE59946A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RF/BB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d for low pin count to aid integration of the BB functionality into existing system AS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-directional data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bus can be shared with other 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control supported in the RF ASIC (e.g. synth. sett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690-E0EB-4226-B140-E3A89646C0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Baseband ASIC F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pChip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7 @ 13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kHz Sleep clock osc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level (MIPS consuming) protocols in H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buffer RAM (no dedicated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B80-671B-4082-9EEE-63C5B19ECB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919080" y="1515960"/>
            <a:ext cx="7724880" cy="48085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ASIC - Block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92320" y="3341520"/>
            <a:ext cx="1457280" cy="789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7520" y="5183280"/>
            <a:ext cx="1433520" cy="85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ch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16240" y="5178600"/>
            <a:ext cx="1433520" cy="85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2873520"/>
            <a:ext cx="1496880" cy="1325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W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57960" y="1738440"/>
            <a:ext cx="1457280" cy="78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/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37080" y="3027240"/>
            <a:ext cx="1446480" cy="2967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b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78560" y="3736800"/>
            <a:ext cx="1025640" cy="127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9280" y="536724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1960" y="389412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4680" y="3557520"/>
            <a:ext cx="63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1640" y="579420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60" y="50180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13680" y="5472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05040" y="388944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74800" y="355284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05040" y="580716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74800" y="547056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727440" y="4210200"/>
            <a:ext cx="293400" cy="983880"/>
            <a:chOff x="3727440" y="4210200"/>
            <a:chExt cx="293400" cy="983880"/>
          </a:xfrm>
        </p:grpSpPr>
        <p:sp>
          <p:nvSpPr>
            <p:cNvPr id="260" name=""/>
            <p:cNvSpPr/>
            <p:nvPr/>
          </p:nvSpPr>
          <p:spPr>
            <a:xfrm>
              <a:off x="3727440" y="421020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20840" y="421020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686480" y="320688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6480" y="33973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86480" y="379080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86480" y="398160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67400" y="54673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67400" y="565776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896160" y="4251240"/>
            <a:ext cx="511200" cy="177840"/>
            <a:chOff x="6896160" y="4251240"/>
            <a:chExt cx="511200" cy="177840"/>
          </a:xfrm>
        </p:grpSpPr>
        <p:sp>
          <p:nvSpPr>
            <p:cNvPr id="269" name=""/>
            <p:cNvSpPr/>
            <p:nvPr/>
          </p:nvSpPr>
          <p:spPr>
            <a:xfrm>
              <a:off x="6896160" y="425124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96160" y="442908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5948280" y="2533680"/>
            <a:ext cx="473040" cy="485640"/>
          </a:xfrm>
          <a:prstGeom prst="upDownArrow">
            <a:avLst>
              <a:gd name="adj1" fmla="val 50000"/>
              <a:gd name="adj2" fmla="val 204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400480" y="4908240"/>
            <a:ext cx="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2480" y="45194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60160" y="3067200"/>
            <a:ext cx="264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41440" y="4933800"/>
            <a:ext cx="276120" cy="249480"/>
          </a:xfrm>
          <a:prstGeom prst="upArrow">
            <a:avLst>
              <a:gd name="adj1" fmla="val 40231"/>
              <a:gd name="adj2" fmla="val 515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47960" y="428148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415360" y="4259160"/>
            <a:ext cx="511200" cy="177840"/>
            <a:chOff x="8415360" y="4259160"/>
            <a:chExt cx="511200" cy="177840"/>
          </a:xfrm>
        </p:grpSpPr>
        <p:sp>
          <p:nvSpPr>
            <p:cNvPr id="278" name=""/>
            <p:cNvSpPr/>
            <p:nvPr/>
          </p:nvSpPr>
          <p:spPr>
            <a:xfrm>
              <a:off x="8415360" y="425916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15360" y="443700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E9CE-ACC8-4A57-9A5F-E27E2B0F385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10:25Z</dcterms:created>
  <dc:creator>Thomas Müller</dc:creator>
  <dc:description>070r0</dc:description>
  <dc:language>en-US</dc:language>
  <cp:lastModifiedBy>Tim Godfrey</cp:lastModifiedBy>
  <cp:lastPrinted>1998-02-10T13:28:06Z</cp:lastPrinted>
  <dcterms:modified xsi:type="dcterms:W3CDTF">1999-09-15T02:56:45Z</dcterms:modified>
  <cp:revision>3</cp:revision>
  <dc:subject>IEEE 802.15 Tutorial</dc:subject>
  <dc:title>Nokia Hardware Overview</dc:title>
</cp:coreProperties>
</file>