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97F24-B741-4164-8498-ABC3C57E10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566EA-C793-4C7E-A4F6-B3924BCD6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5A681-812E-4913-BEF2-71311CB0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3A0B7-7913-44CF-916E-82960EFB03A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79BC1-66AF-419D-A054-785D268DA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25E49-D279-4710-9EA3-465B8AF8D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497D6-E989-4757-9A38-145C66620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10E83-DD50-498E-A2CB-883A4AAE8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2BCAA-CD8A-48DD-825A-4A026A4B9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8245E-491A-49CC-A733-6F383B6C2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F14A8-B02F-4AE2-A61B-E96BB766B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A64E6-44DD-4AB2-8500-D785FBE4D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3657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9172F22-0F46-4F73-878F-2555D7809C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9/2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94000" y="6446880"/>
            <a:ext cx="599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5638680" y="6477120"/>
            <a:ext cx="292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b O’Hara, Chairman, Task Group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Tbaum@ee.rochester.edu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sk Group 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tember 13-17, 19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ta Rosa, 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645E2-B79A-40D7-99CE-698AC45410DD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sent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 of Frequency Hop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9/195, “Algorithmically Derived Hop Sequences”, Darwin Engwer, Johnny Zwei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Tbaum@ee.rochester.ed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Edward Titlebau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 of Direct Sequ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9/191, “Universal DS Channelization”, Bob O’Ha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E32E7-A80E-44B1-AC5C-590F92A3421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ussion of International Mo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ied a set of parameters that can describe the channel allocation for FH, DS, HRDS, and OFDM PHY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d a new information element to carry the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other element, or extensions to this element will be necessary for support of hop sequence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B5025-5293-4B75-A5BD-0C60AF9C524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nnel Allocation El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ulatory identifier (2 octe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fetime (1 octe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 of sub-elements (1 oct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sub-element conta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channel center (2 oct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nel spacing (1 oct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channels (2 oct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cupied bandwidth per channel (1 oct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um transmitted power allowed (2 oct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309F9-94C1-4A10-A425-EC5E9962331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p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fe default operation until a channel allocation element is received (1 mW Tx pow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BSS operation is in safe default mode until a channel allocation element is he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BSS adopts channel allocation element heard from any(?) AP or other IBSS(?), lifetime is derivitive from original 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IBSS allow user to set regulatory inform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happens if conflicting information is received in different channel allocation elemen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068A7-3D3C-4933-A9A6-BFA4BAA6A56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ldwide 5GHz Requi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ed by Richard Paine, Boe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C 2000 does not have 5GHz on the age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portunity to get 5GHz on the WRC 2002 agenda is during 6 weeks immediately after WRC 200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est to have 802.11 send a letter to SG8 and/or WR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CDE13-CBEA-4CFA-8FE4-057E4F6D3E6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have 802.11 send a letter to the US delegation of ITU SG8 and/or WRC suppporting the global allocation of the 5GHz band for unlicensed u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sed unanimous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DB608-2F01-4882-958B-E955D77DEE1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3T15:47:32Z</dcterms:created>
  <dc:creator>Bob O'Hara</dc:creator>
  <dc:description/>
  <cp:keywords>September 1999</cp:keywords>
  <dc:language>en-US</dc:language>
  <cp:lastModifiedBy>Bob O'Hara</cp:lastModifiedBy>
  <cp:lastPrinted>1998-02-10T13:28:06Z</cp:lastPrinted>
  <dcterms:modified xsi:type="dcterms:W3CDTF">1999-09-15T22:51:31Z</dcterms:modified>
  <cp:revision>18</cp:revision>
  <dc:subject>doc.: IEEE 802.11-99/212</dc:subject>
  <dc:title>Report from Task Group d</dc:title>
</cp:coreProperties>
</file>