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E214B-ED4E-47AE-AFF0-2B35BE4BD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4136-82DB-4680-B1E5-73396A926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91671-5A5F-44B9-8235-C3E948B21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4F088-EB82-4FEA-9CEF-D336F9101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75016-5279-4D75-9F22-1E04FC3D2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C10EF-DCE3-4809-8164-2D5299515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F4C95-A2E9-4EC1-9754-D73BC7CB4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FDE3C-D29A-42E5-B6F3-BEA886AC0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DB347-CF6F-4075-916A-F80FAA12F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70F18-5D60-4ABA-9317-FD18CBD1F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390FB-C825-4486-A070-77D723F88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EBA2-03D3-42B4-8AE6-E9D0BCA40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B0F3-2137-4D5A-AC8E-225071E7B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30477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arables" Standards Ad Hoc Committee Meet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tandards Proc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ember 2, 1997</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veland Embassy Suites Hotel</a:t>
            </a:r>
            <a:endParaRPr b="0" lang="en-US" sz="2000" spc="-1" strike="noStrike">
              <a:solidFill>
                <a:srgbClr val="000000"/>
              </a:solidFill>
              <a:latin typeface="Times New Roman"/>
            </a:endParaRPr>
          </a:p>
        </p:txBody>
      </p:sp>
      <p:pic>
        <p:nvPicPr>
          <p:cNvPr id="43" name="ieeelogo" descr=""/>
          <p:cNvPicPr/>
          <p:nvPr/>
        </p:nvPicPr>
        <p:blipFill>
          <a:blip r:embed="rId1"/>
          <a:stretch/>
        </p:blipFill>
        <p:spPr>
          <a:xfrm>
            <a:off x="2643120" y="318960"/>
            <a:ext cx="1571760" cy="1838520"/>
          </a:xfrm>
          <a:prstGeom prst="rect">
            <a:avLst/>
          </a:prstGeom>
          <a:ln w="0">
            <a:noFill/>
          </a:ln>
        </p:spPr>
      </p:pic>
      <p:sp>
        <p:nvSpPr>
          <p:cNvPr id="44" name=""/>
          <p:cNvSpPr/>
          <p:nvPr/>
        </p:nvSpPr>
        <p:spPr>
          <a:xfrm>
            <a:off x="3660480" y="8321760"/>
            <a:ext cx="32011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Gifford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macom.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tandards Process</a:t>
            </a:r>
            <a:endParaRPr b="0" lang="en-US" sz="4400" spc="-1" strike="noStrike">
              <a:solidFill>
                <a:srgbClr val="000000"/>
              </a:solidFill>
              <a:latin typeface="Times New Roman"/>
            </a:endParaRPr>
          </a:p>
        </p:txBody>
      </p:sp>
      <p:pic>
        <p:nvPicPr>
          <p:cNvPr id="66" name="fig3" descr=""/>
          <p:cNvPicPr/>
          <p:nvPr/>
        </p:nvPicPr>
        <p:blipFill>
          <a:blip r:embed="rId1"/>
          <a:stretch/>
        </p:blipFill>
        <p:spPr>
          <a:xfrm>
            <a:off x="990720" y="2209680"/>
            <a:ext cx="4908600" cy="673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tandards Process</a:t>
            </a:r>
            <a:endParaRPr b="0" lang="en-US" sz="4400" spc="-1" strike="noStrike">
              <a:solidFill>
                <a:srgbClr val="000000"/>
              </a:solidFill>
              <a:latin typeface="Times New Roman"/>
            </a:endParaRPr>
          </a:p>
        </p:txBody>
      </p:sp>
      <p:pic>
        <p:nvPicPr>
          <p:cNvPr id="68" name="fig4" descr=""/>
          <p:cNvPicPr/>
          <p:nvPr/>
        </p:nvPicPr>
        <p:blipFill>
          <a:blip r:embed="rId1"/>
          <a:stretch/>
        </p:blipFill>
        <p:spPr>
          <a:xfrm>
            <a:off x="2514600" y="2290680"/>
            <a:ext cx="2057400" cy="66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tandards Process</a:t>
            </a:r>
            <a:endParaRPr b="0" lang="en-US" sz="4400" spc="-1" strike="noStrike">
              <a:solidFill>
                <a:srgbClr val="000000"/>
              </a:solidFill>
              <a:latin typeface="Times New Roman"/>
            </a:endParaRPr>
          </a:p>
        </p:txBody>
      </p:sp>
      <p:pic>
        <p:nvPicPr>
          <p:cNvPr id="70" name="fig6" descr=""/>
          <p:cNvPicPr/>
          <p:nvPr/>
        </p:nvPicPr>
        <p:blipFill>
          <a:blip r:embed="rId1"/>
          <a:stretch/>
        </p:blipFill>
        <p:spPr>
          <a:xfrm>
            <a:off x="838080" y="2257560"/>
            <a:ext cx="5181840" cy="688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One</a:t>
            </a:r>
            <a:endParaRPr b="0" lang="en-US" sz="4400" spc="-1" strike="noStrike">
              <a:solidFill>
                <a:srgbClr val="000000"/>
              </a:solidFill>
              <a:latin typeface="Times New Roman"/>
            </a:endParaRPr>
          </a:p>
        </p:txBody>
      </p:sp>
      <p:sp>
        <p:nvSpPr>
          <p:cNvPr id="72"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s are reviewed and recommended for approval four times a year by NesCom. There are submittal deadlines of 40 days before each meeting to allow NesCom to review the proposed PARs. IEEE staff will also examine your PAR, try to pinpoint any problem areas, and work with you to correct them prior to mailing the PARs to NesCom. However, if your PAR arrives too close to the deadline, staff cannot guarantee that they will have the time for a thorough review, and problems may arise at the NesCom meeting. The point is, the earlier you can submit your PAR, the be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Two</a:t>
            </a:r>
            <a:endParaRPr b="0" lang="en-US" sz="4400" spc="-1" strike="noStrike">
              <a:solidFill>
                <a:srgbClr val="000000"/>
              </a:solidFill>
              <a:latin typeface="Times New Roman"/>
            </a:endParaRPr>
          </a:p>
        </p:txBody>
      </p:sp>
      <p:sp>
        <p:nvSpPr>
          <p:cNvPr id="74"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s also need to be signed by the working group chair and the sponsor or sponsor liaison, and NesCom needs to receive both of these signatures before the PAR will be considered. NesCom also requires that the sponsor or the sponsor liaison does the actual PAR subm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Three</a:t>
            </a:r>
            <a:endParaRPr b="0" lang="en-US" sz="4400" spc="-1" strike="noStrike">
              <a:solidFill>
                <a:srgbClr val="000000"/>
              </a:solidFill>
              <a:latin typeface="Times New Roman"/>
            </a:endParaRPr>
          </a:p>
        </p:txBody>
      </p:sp>
      <p:sp>
        <p:nvSpPr>
          <p:cNvPr id="76"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ly, the PAR, like the standard it encapsulates, is a living document. Just as a standard evolves and changes, so does a PAR. However, many groups don't consider these two items as synonymous and never look at their PAR after it is approved. For instance, as a standard evolves, it may change direction, and the PAR may need to be revised to reflect those changes. You should be careful to ensure that your scope specifically covers exactly what you want to standardiz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sCom PAR Checklist</a:t>
            </a:r>
            <a:endParaRPr b="0" lang="en-US" sz="4400" spc="-1" strike="noStrike">
              <a:solidFill>
                <a:srgbClr val="000000"/>
              </a:solidFill>
              <a:latin typeface="Times New Roman"/>
            </a:endParaRPr>
          </a:p>
        </p:txBody>
      </p:sp>
      <p:sp>
        <p:nvSpPr>
          <p:cNvPr id="7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an appropriate box in each category of the PAR been checked?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scope unique from the purpose? Are both descriptive of the project?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the chair signed the copyright agreement?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the sponsor signed the PAR?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 the sponsor submit the PAR?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intersponsor coordination been avoided?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title correctly structured and unambiguous?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acronyms spelled out?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ll original paperwork avail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776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ase of an alternative to an SDO</a:t>
            </a:r>
            <a:endParaRPr b="0" lang="en-US" sz="4400" spc="-1" strike="noStrike">
              <a:solidFill>
                <a:srgbClr val="000000"/>
              </a:solidFill>
              <a:latin typeface="Times New Roman"/>
            </a:endParaRPr>
          </a:p>
        </p:txBody>
      </p:sp>
      <p:pic>
        <p:nvPicPr>
          <p:cNvPr id="80" name="IRDA" descr=""/>
          <p:cNvPicPr/>
          <p:nvPr/>
        </p:nvPicPr>
        <p:blipFill>
          <a:blip r:embed="rId1"/>
          <a:stretch/>
        </p:blipFill>
        <p:spPr>
          <a:xfrm>
            <a:off x="1852560" y="5394240"/>
            <a:ext cx="2952720" cy="12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DA Charter</a:t>
            </a:r>
            <a:endParaRPr b="0" lang="en-US" sz="4400" spc="-1" strike="noStrike">
              <a:solidFill>
                <a:srgbClr val="000000"/>
              </a:solidFill>
              <a:latin typeface="Times New Roman"/>
            </a:endParaRPr>
          </a:p>
        </p:txBody>
      </p:sp>
      <p:sp>
        <p:nvSpPr>
          <p:cNvPr id="82"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DA was established in 1993 to set and support hardware and software standards which create infrared communications links. The Association's charter is to create an interoperable, low-cost, low-power, half-duplex, serial data interconnection standard that supports a walk-up, point-to-point user model that is adaptable to a wide range of applications and devices. IrDA standards support a broad range of computing, communications, and consumer dev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DA Serial Infrared Data Link Standard Specifications</a:t>
            </a:r>
            <a:endParaRPr b="0" lang="en-US" sz="4400" spc="-1" strike="noStrike">
              <a:solidFill>
                <a:srgbClr val="000000"/>
              </a:solidFill>
              <a:latin typeface="Times New Roman"/>
            </a:endParaRPr>
          </a:p>
        </p:txBody>
      </p:sp>
      <p:sp>
        <p:nvSpPr>
          <p:cNvPr id="84"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Serial Infrared (SIR) Physical LayerLink Specification (IrPHY) 1.1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Serial Infrared Link Access Protocol (IrLAP) 1.1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Infrared Link Management Protocol (IrLMP) 1.1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Infrared Communications Protocol (IrCOMM)1.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Infrared Tiny Transport Protocol (TinyTP) 1.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Infrared LAN Access Extensions for Link Management Protocol (Ir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Object Exchange Protocol (IrOBEX)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Minimal IrDA Protocol Implementation (IrDA Li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Plug &amp; Play Extensions to IrLMP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6"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2/2/97 meeting is the 3rd meeting of the Wearables Standards Ad-hoc committee</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7/16/97 meeting provided a very good IEEE Standards Process Overview</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N PAR form needs to be submitted to the NesCom (or the RevCom) 45 days prior to: 3/18/98 </a:t>
            </a:r>
            <a:r>
              <a:rPr b="0" lang="en-US" sz="2800" spc="-1" strike="noStrike">
                <a:solidFill>
                  <a:srgbClr val="000000"/>
                </a:solidFill>
                <a:latin typeface="Symbol"/>
                <a:ea typeface="Symbol"/>
              </a:rPr>
              <a:t></a:t>
            </a:r>
            <a:r>
              <a:rPr b="0" lang="en-US" sz="2800" spc="-1" strike="noStrike">
                <a:solidFill>
                  <a:srgbClr val="000000"/>
                </a:solidFill>
                <a:latin typeface="Times New Roman"/>
              </a:rPr>
              <a:t>2/6/98</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P802.11 has invited us to provide a tutorial 3/9-13/98</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received the Standards Starter Kit from IEE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DA Organization</a:t>
            </a:r>
            <a:endParaRPr b="0" lang="en-US" sz="4400" spc="-1" strike="noStrike">
              <a:solidFill>
                <a:srgbClr val="000000"/>
              </a:solidFill>
              <a:latin typeface="Times New Roman"/>
            </a:endParaRPr>
          </a:p>
        </p:txBody>
      </p:sp>
      <p:sp>
        <p:nvSpPr>
          <p:cNvPr id="86"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keting Committee is responsible for the strategic and tactical direction of the Association, as well as the development of market requirement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chnical Committee is responsible for the identification and resolution of all technical issues, both hardware and softwar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Committee is responsible for producing measurement requirements to ensure compliance with the IrDA standards specifications, and protecting the integrity of the IrDA trademark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ociation meetings are held quarterly. In between meetings, the members communicate via electronic m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ions</a:t>
            </a:r>
            <a:endParaRPr b="0" lang="en-US" sz="4400" spc="-1" strike="noStrike">
              <a:solidFill>
                <a:srgbClr val="000000"/>
              </a:solidFill>
              <a:latin typeface="Times New Roman"/>
            </a:endParaRPr>
          </a:p>
        </p:txBody>
      </p:sp>
      <p:sp>
        <p:nvSpPr>
          <p:cNvPr id="8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fontScale="95000"/>
          </a:bodyPr>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Com: IEEE Standards Board Administrative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 Advisory Group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SI: American National Standards Institut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om: IEEE Standards Board Awards and Recognition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C: Accredited Standards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Com: IEEE Standards Board Procedures Audit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SR: ANSI Board of Standards Review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N: Comité Européen de Normalisation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NELEC: Comité Européen de Normalisation Electrotechniqu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Com: IEEE Standards Board Finance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C: International Electrotechnical Commission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Institute of Electrical and Electronics Engineers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Com: IEEE Standards Board International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International Organization for Standardization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TC: Joint Technical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sCom: IEEE Standards Board New Standards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sCom: IEEE Standards Board New Opportunities in Standards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Organizational Representativ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 Project Authorization Request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om: IEEE Standards Board Procedures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Com: IEEE Standards Board Standards Review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mCom: IEEE Standards Board Seminars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B: Technical Advisory Board of the IE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G: Technical Advisory Group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 Technical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PAR: Transnational Project Authorization Request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 Sub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C: Standards Coordinating Committee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DO: Standards-Developing Organization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NC: United States National Committee of the IEC </a:t>
            </a:r>
            <a:endParaRPr b="0" lang="en-US" sz="1000" spc="-1" strike="noStrike">
              <a:solidFill>
                <a:srgbClr val="000000"/>
              </a:solidFill>
              <a:latin typeface="Times New Roman"/>
            </a:endParaRPr>
          </a:p>
          <a:p>
            <a:pPr marL="325800" indent="-325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Working Group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tandards Kit</a:t>
            </a:r>
            <a:endParaRPr b="0" lang="en-US" sz="4400" spc="-1" strike="noStrike">
              <a:solidFill>
                <a:srgbClr val="000000"/>
              </a:solidFill>
              <a:latin typeface="Times New Roman"/>
            </a:endParaRPr>
          </a:p>
        </p:txBody>
      </p:sp>
      <p:sp>
        <p:nvSpPr>
          <p:cNvPr id="4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Submission Process flow shee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Guide for Submittal of Project Authorization Request (PAR) and PAR For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Style Manu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Operations Manu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Board Bylaw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Products Catalo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Brochur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Bearer (Newsletter)</a:t>
            </a:r>
            <a:endParaRPr b="0" lang="en-US" sz="2400" spc="-1" strike="noStrike">
              <a:solidFill>
                <a:srgbClr val="000000"/>
              </a:solidFill>
              <a:latin typeface="Times New Roman"/>
            </a:endParaRPr>
          </a:p>
        </p:txBody>
      </p:sp>
      <p:sp>
        <p:nvSpPr>
          <p:cNvPr id="49" name=""/>
          <p:cNvSpPr/>
          <p:nvPr/>
        </p:nvSpPr>
        <p:spPr>
          <a:xfrm>
            <a:off x="415800" y="7086600"/>
            <a:ext cx="6067800" cy="155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your PAR is approved, the IEEE will s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n After-PAR-Approval Kit with use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to help you develop your draft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 with your final submission to Rev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ative Principles</a:t>
            </a:r>
            <a:endParaRPr b="0" lang="en-US" sz="4400" spc="-1" strike="noStrike">
              <a:solidFill>
                <a:srgbClr val="000000"/>
              </a:solidFill>
              <a:latin typeface="Times New Roman"/>
            </a:endParaRPr>
          </a:p>
        </p:txBody>
      </p:sp>
      <p:sp>
        <p:nvSpPr>
          <p:cNvPr id="51"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re are five imperative principles that drive the standards process: due process, openness, consensus, balance, and the right of appeal.</a:t>
            </a:r>
            <a:endParaRPr b="0" lang="en-US" sz="4000" spc="-1" strike="noStrike">
              <a:solidFill>
                <a:srgbClr val="000000"/>
              </a:solidFill>
              <a:latin typeface="Times New Roman"/>
            </a:endParaRPr>
          </a:p>
        </p:txBody>
      </p:sp>
      <p:sp>
        <p:nvSpPr>
          <p:cNvPr id="52" name=""/>
          <p:cNvSpPr/>
          <p:nvPr/>
        </p:nvSpPr>
        <p:spPr>
          <a:xfrm>
            <a:off x="412920" y="7086600"/>
            <a:ext cx="608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s Rules of Order will be used to guide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tandards Process</a:t>
            </a:r>
            <a:endParaRPr b="0" lang="en-US" sz="4400" spc="-1" strike="noStrike">
              <a:solidFill>
                <a:srgbClr val="000000"/>
              </a:solidFill>
              <a:latin typeface="Times New Roman"/>
            </a:endParaRPr>
          </a:p>
        </p:txBody>
      </p:sp>
      <p:pic>
        <p:nvPicPr>
          <p:cNvPr id="54" name="fig1" descr=""/>
          <p:cNvPicPr/>
          <p:nvPr/>
        </p:nvPicPr>
        <p:blipFill>
          <a:blip r:embed="rId1"/>
          <a:stretch/>
        </p:blipFill>
        <p:spPr>
          <a:xfrm>
            <a:off x="1771560" y="2119320"/>
            <a:ext cx="3427560" cy="702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tandards Process</a:t>
            </a:r>
            <a:endParaRPr b="0" lang="en-US" sz="4400" spc="-1" strike="noStrike">
              <a:solidFill>
                <a:srgbClr val="000000"/>
              </a:solidFill>
              <a:latin typeface="Times New Roman"/>
            </a:endParaRPr>
          </a:p>
        </p:txBody>
      </p:sp>
      <p:pic>
        <p:nvPicPr>
          <p:cNvPr id="56" name="fig2" descr=""/>
          <p:cNvPicPr/>
          <p:nvPr/>
        </p:nvPicPr>
        <p:blipFill>
          <a:blip r:embed="rId1"/>
          <a:stretch/>
        </p:blipFill>
        <p:spPr>
          <a:xfrm>
            <a:off x="571680" y="3149640"/>
            <a:ext cx="5841720" cy="427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ociety &amp; Technical Committees</a:t>
            </a:r>
            <a:endParaRPr b="0" lang="en-US" sz="4400" spc="-1" strike="noStrike">
              <a:solidFill>
                <a:srgbClr val="000000"/>
              </a:solidFill>
              <a:latin typeface="Times New Roman"/>
            </a:endParaRPr>
          </a:p>
        </p:txBody>
      </p:sp>
      <p:sp>
        <p:nvSpPr>
          <p:cNvPr id="58" name="PlaceHolder 2"/>
          <p:cNvSpPr>
            <a:spLocks noGrp="1"/>
          </p:cNvSpPr>
          <p:nvPr>
            <p:ph/>
          </p:nvPr>
        </p:nvSpPr>
        <p:spPr>
          <a:xfrm>
            <a:off x="514440" y="2641680"/>
            <a:ext cx="2838240" cy="5486400"/>
          </a:xfrm>
          <a:prstGeom prst="rect">
            <a:avLst/>
          </a:prstGeom>
          <a:noFill/>
          <a:ln w="0">
            <a:noFill/>
          </a:ln>
        </p:spPr>
        <p:txBody>
          <a:bodyPr lIns="90000" rIns="90000" tIns="46800" bIns="46800" anchor="t">
            <a:normAutofit fontScale="99000"/>
          </a:bodyPr>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Aerospace And Electronic Systems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Circuits and Systems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Communications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Components Packaging, And Manufacturing Technolog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Computer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Consumer Electronics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Control Systems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Dielectrics and Electrical Insulation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Education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Electromagnetic Compatibility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Electron Devices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Engineering Management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Engineering in Medicine and Biology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Environment, Health, and Safety Committee</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Geoscience &amp; Remote Sensing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ndustrial Electronics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ndustry Applications Society</a:t>
            </a:r>
            <a:endParaRPr b="0" lang="en-US" sz="1200" spc="-1" strike="noStrike">
              <a:solidFill>
                <a:srgbClr val="000000"/>
              </a:solidFill>
              <a:latin typeface="Times New Roman"/>
            </a:endParaRPr>
          </a:p>
          <a:p>
            <a:pPr marL="339480" indent="-3394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nformation Theory Society</a:t>
            </a:r>
            <a:endParaRPr b="0" lang="en-US" sz="1200" spc="-1" strike="noStrike">
              <a:solidFill>
                <a:srgbClr val="000000"/>
              </a:solidFill>
              <a:latin typeface="Times New Roman"/>
            </a:endParaRPr>
          </a:p>
        </p:txBody>
      </p:sp>
      <p:sp>
        <p:nvSpPr>
          <p:cNvPr id="59" name="PlaceHolder 3"/>
          <p:cNvSpPr>
            <a:spLocks noGrp="1"/>
          </p:cNvSpPr>
          <p:nvPr>
            <p:ph/>
          </p:nvPr>
        </p:nvSpPr>
        <p:spPr>
          <a:xfrm>
            <a:off x="3505320" y="2641680"/>
            <a:ext cx="2838240" cy="5486400"/>
          </a:xfrm>
          <a:prstGeom prst="rect">
            <a:avLst/>
          </a:prstGeom>
          <a:noFill/>
          <a:ln w="0">
            <a:noFill/>
          </a:ln>
        </p:spPr>
        <p:txBody>
          <a:bodyPr lIns="90000" rIns="90000" tIns="46800" bIns="46800" anchor="t">
            <a:normAutofit fontScale="98000"/>
          </a:bodyPr>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nstrumentation and Measurement Society </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Lasers &amp; Electro-Optics Society </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Magnetics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Microwave Theory and Techniques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Nuclear and Plasma Sciences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Neural Network Council</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Oceanic Engineering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Power Electronics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Power Engineering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Professional Communication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Reliability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Robotics &amp; Automation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Signal Processing</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Social Implications of Technolog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Solid-State Circuits Council/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Systems, Man, and Cybernetics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Ultrasonics, Ferroelectrics, Frequency Control Society</a:t>
            </a:r>
            <a:endParaRPr b="0" lang="en-US" sz="1200" spc="-1" strike="noStrike">
              <a:solidFill>
                <a:srgbClr val="000000"/>
              </a:solidFill>
              <a:latin typeface="Times New Roman"/>
            </a:endParaRPr>
          </a:p>
          <a:p>
            <a:pPr marL="335880" indent="-335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Vehicular Technology Socie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Society Standards Committee and Working Groups</a:t>
            </a:r>
            <a:endParaRPr b="0" lang="en-US" sz="4400" spc="-1" strike="noStrike">
              <a:solidFill>
                <a:srgbClr val="000000"/>
              </a:solidFill>
              <a:latin typeface="Times New Roman"/>
            </a:endParaRPr>
          </a:p>
        </p:txBody>
      </p:sp>
      <p:sp>
        <p:nvSpPr>
          <p:cNvPr id="61"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Architecture Standards Committee (BASC)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Automation Standards Committee (DASC)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Interactive Simulation Standards Committee (D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 Standards Committee (LMSC)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processor and Microcomputer Standards Committee (MMSC)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cal Disk and Multimedia Platforms Standards Committee (ODMMSC)</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ble Applications Standards Committee (PASC)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 Sponsored Standards (SSC)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Engineering Standards Committee (SESC)</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 Coordinating Committee (SCC)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stems Standards Committee (SSSC)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Technology Standards Committee (TTSC)</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610 Computer Diction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ociety Sponsor, Standards Published in 1995/Total To-Date, Standards Projects in Process</a:t>
            </a:r>
            <a:endParaRPr b="0" lang="en-US" sz="2800" spc="-1" strike="noStrike">
              <a:solidFill>
                <a:srgbClr val="000000"/>
              </a:solidFill>
              <a:latin typeface="Times New Roman"/>
            </a:endParaRPr>
          </a:p>
        </p:txBody>
      </p:sp>
      <p:sp>
        <p:nvSpPr>
          <p:cNvPr id="63"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Architecture, 4/16, 3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Automation, 0/2, 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Interactive Simulation, 0/2, 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amp; Metropolitan Area Networks, 5/59, 4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processor and Microcomputer, 1/32, 2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cal Disk &amp; Multimedia Platform, 0/0, 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ble Applications, 4/29, 3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 Sponsored Standards, 1/11,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Engineering, 1/30, 2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stems, 0/1, 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Technology, 1/5, 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Dictionary - P610, 0/13, 4</a:t>
            </a:r>
            <a:endParaRPr b="0" lang="en-US" sz="2000" spc="-1" strike="noStrike">
              <a:solidFill>
                <a:srgbClr val="000000"/>
              </a:solidFill>
              <a:latin typeface="Times New Roman"/>
            </a:endParaRPr>
          </a:p>
        </p:txBody>
      </p:sp>
      <p:sp>
        <p:nvSpPr>
          <p:cNvPr id="64" name=""/>
          <p:cNvSpPr/>
          <p:nvPr/>
        </p:nvSpPr>
        <p:spPr>
          <a:xfrm>
            <a:off x="502200" y="7642080"/>
            <a:ext cx="57722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 17 published in 1995, 200 To-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IN PROCESS = 20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28T16:10:56Z</dcterms:created>
  <dc:creator>Ian Christopher Gifford</dc:creator>
  <dc:description/>
  <dc:language>en-US</dc:language>
  <cp:lastModifiedBy>Ian Christopher Gifford</cp:lastModifiedBy>
  <dcterms:modified xsi:type="dcterms:W3CDTF">1997-12-02T05:37:04Z</dcterms:modified>
  <cp:revision>6</cp:revision>
  <dc:subject/>
  <dc:title>IEEE "Wearables" Standards Ad Hoc Committee Meeting</dc:title>
</cp:coreProperties>
</file>