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06F6-86DB-4F81-8C60-3547781D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FB2D-61F2-4C5E-BE12-80AF3A24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C1E-C555-472D-A639-9C4C4EC1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0413-F40C-4F49-A742-18FF9D3C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F82-7197-489A-AF04-41068EC3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528-5DFC-4381-A548-A7208F9A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57E0-849D-46BE-B19D-5143A5B1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256E-BF32-4900-9DE8-8D90B2FE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881-031B-480F-9436-CAB7B1A2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3AC1-112D-489F-BE80-A5FB4512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4DC2-70FB-453F-BFF2-89F45EE1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68ED-B83F-4ACC-807C-207FB692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24D58EF-7758-4725-A74F-5DF103EE4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3716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7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Coordination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7C2-1A1E-4547-8E25-0324D4BC225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SIG Functional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Draf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CD9-519F-4FD5-8939-466111786B1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Functional Organization (abstrac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620720" y="1996920"/>
          <a:ext cx="5923080" cy="34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996920"/>
                    <a:ext cx="592308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6F32-FC0B-40B1-A85A-B9CC5442EF9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Bluetooth SIG is set u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5680" y="2529000"/>
            <a:ext cx="8456040" cy="3174840"/>
            <a:chOff x="535680" y="2529000"/>
            <a:chExt cx="8456040" cy="3174840"/>
          </a:xfrm>
        </p:grpSpPr>
        <p:sp>
          <p:nvSpPr>
            <p:cNvPr id="54" name=""/>
            <p:cNvSpPr/>
            <p:nvPr/>
          </p:nvSpPr>
          <p:spPr>
            <a:xfrm>
              <a:off x="838080" y="3124080"/>
              <a:ext cx="2895840" cy="1676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locking IPR’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ross Licens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1520" y="2529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36080" y="49528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59760" y="2529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5680" y="4952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24280" y="3124080"/>
              <a:ext cx="2286000" cy="152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6640" y="457200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QR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Bluetooth%20logo%20(tm)" descr=""/>
            <p:cNvPicPr/>
            <p:nvPr/>
          </p:nvPicPr>
          <p:blipFill>
            <a:blip r:embed="rId1"/>
            <a:stretch/>
          </p:blipFill>
          <p:spPr>
            <a:xfrm>
              <a:off x="7227720" y="3583080"/>
              <a:ext cx="176400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809880" y="388620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46480" y="5335560"/>
              <a:ext cx="230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stricted to Bluetoo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523880" y="4495680"/>
              <a:ext cx="4572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81480" y="357192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99/0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E65-C4B4-40D7-B53A-7FF4C67012F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BSIG should perceive the IEEE Process of Sub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Program Management will review their derived Draft; this takes two (2)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approved the Draft will be submitted to the TG1 for thei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3124080"/>
            <a:ext cx="5715000" cy="2921040"/>
            <a:chOff x="3352680" y="3124080"/>
            <a:chExt cx="5715000" cy="2921040"/>
          </a:xfrm>
        </p:grpSpPr>
        <p:sp>
          <p:nvSpPr>
            <p:cNvPr id="69" name=""/>
            <p:cNvSpPr/>
            <p:nvPr/>
          </p:nvSpPr>
          <p:spPr>
            <a:xfrm flipV="1">
              <a:off x="6667200" y="4330080"/>
              <a:ext cx="0" cy="7621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508600" y="3352680"/>
              <a:ext cx="0" cy="304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876560" y="4495680"/>
              <a:ext cx="0" cy="1054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90760" y="3733560"/>
              <a:ext cx="1371600" cy="7621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-IE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o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orking 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360" y="4267080"/>
              <a:ext cx="380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6560" y="5549760"/>
              <a:ext cx="3657600" cy="12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11880" y="5397120"/>
              <a:ext cx="41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5880" y="509256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solv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gative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43240" y="3733560"/>
              <a:ext cx="1371600" cy="762120"/>
            </a:xfrm>
            <a:prstGeom prst="flowChartMultidocumen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uetooth S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er 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llots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19360" y="4724280"/>
              <a:ext cx="914400" cy="76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ges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btain B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M Appro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45240" y="5397120"/>
              <a:ext cx="366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52680" y="3581280"/>
              <a:ext cx="4724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64360" y="3428640"/>
              <a:ext cx="645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/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89080" y="604512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8508600" y="4038120"/>
              <a:ext cx="0" cy="1523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Bluetooth%20logo%20(tm)" descr=""/>
            <p:cNvPicPr/>
            <p:nvPr/>
          </p:nvPicPr>
          <p:blipFill>
            <a:blip r:embed="rId1"/>
            <a:stretch/>
          </p:blipFill>
          <p:spPr>
            <a:xfrm>
              <a:off x="5410080" y="3160440"/>
              <a:ext cx="1600200" cy="3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924680" y="312408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 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cision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b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F4B-C4A7-4083-A752-A0BD17EEAB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92120" y="25146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1520" y="1803240"/>
            <a:ext cx="3733920" cy="4572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e Draft Submission Process Process w/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4686480"/>
            <a:ext cx="4648320" cy="1676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4660920"/>
            <a:ext cx="1522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21193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193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133720" y="2908440"/>
            <a:ext cx="19810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6365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ieee-ntw" descr=""/>
          <p:cNvPicPr/>
          <p:nvPr/>
        </p:nvPicPr>
        <p:blipFill>
          <a:blip r:embed="rId3"/>
          <a:stretch/>
        </p:blipFill>
        <p:spPr>
          <a:xfrm>
            <a:off x="2514600" y="1828800"/>
            <a:ext cx="762120" cy="65736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3276720" y="1765440"/>
            <a:ext cx="5715000" cy="2921040"/>
            <a:chOff x="3276720" y="1765440"/>
            <a:chExt cx="5715000" cy="2921040"/>
          </a:xfrm>
        </p:grpSpPr>
        <p:sp>
          <p:nvSpPr>
            <p:cNvPr id="97" name=""/>
            <p:cNvSpPr/>
            <p:nvPr/>
          </p:nvSpPr>
          <p:spPr>
            <a:xfrm flipV="1">
              <a:off x="6591240" y="2971440"/>
              <a:ext cx="0" cy="7621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32640" y="1994040"/>
              <a:ext cx="0" cy="304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800600" y="3137040"/>
              <a:ext cx="0" cy="1054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4800" y="2374920"/>
              <a:ext cx="1371600" cy="7621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-IE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o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orking 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2908440"/>
              <a:ext cx="380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00600" y="4191120"/>
              <a:ext cx="3657600" cy="12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5920" y="4038480"/>
              <a:ext cx="41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19920" y="373392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solv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gative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2374920"/>
              <a:ext cx="1371600" cy="762120"/>
            </a:xfrm>
            <a:prstGeom prst="flowChartMultidocumen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uetooth S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er 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llots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43400" y="3365640"/>
              <a:ext cx="914400" cy="76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ges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btain B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M Appro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69280" y="4038480"/>
              <a:ext cx="366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76720" y="2222640"/>
              <a:ext cx="4724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88400" y="2070000"/>
              <a:ext cx="645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/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3120" y="46864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432640" y="2679480"/>
              <a:ext cx="0" cy="1523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Bluetooth%20logo%20(tm)" descr=""/>
            <p:cNvPicPr/>
            <p:nvPr/>
          </p:nvPicPr>
          <p:blipFill>
            <a:blip r:embed="rId4"/>
            <a:stretch/>
          </p:blipFill>
          <p:spPr>
            <a:xfrm>
              <a:off x="5334120" y="1801800"/>
              <a:ext cx="1600200" cy="3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848720" y="176544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 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cision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b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6197-8DC5-4C1D-A962-8D5DE8A2F27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to follow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F200-2B2E-4DC0-8FD6-C233C16DA64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ey UR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bluetooth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B83C-357F-40EE-8608-851A40E155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4:06:10Z</dcterms:created>
  <dc:creator>Ian C. Gifford</dc:creator>
  <dc:description>079r0</dc:description>
  <dc:language>en-US</dc:language>
  <cp:lastModifiedBy>Ian C. Gifford</cp:lastModifiedBy>
  <cp:lastPrinted>1998-02-10T13:28:06Z</cp:lastPrinted>
  <dcterms:modified xsi:type="dcterms:W3CDTF">1999-09-15T14:53:31Z</dcterms:modified>
  <cp:revision>8</cp:revision>
  <dc:subject>IEEE 802.15 Planning</dc:subject>
  <dc:title>Bluetooth Coordination Planning</dc:title>
</cp:coreProperties>
</file>