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248-ADD9-4912-825A-1121723E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9EB-BE08-4007-9F8A-88F3028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9E5-1FA4-4D94-94CA-B16CF0CD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E7B-1554-4714-B2E9-D34FF03F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ED6-CB6B-4984-93DC-075B736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D39-7A65-49B6-B943-2E06DB1B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7A8-570F-4976-A125-85C6352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E44-2451-4187-A432-09C15E26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EEA-29B4-4AF2-9D11-B2DF9FA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07E-27C3-4ECD-B1C0-1342E0F2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10E-38E5-495F-9F85-0A41936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782-B3B2-4E41-ABAA-B171B733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8404BE-53E7-4571-A849-6A8BFA9F1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to Vot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Slate of Officers-Term is through 802 Plenary Meeting, March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802.11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to develop recommended Marketing Activities for the 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position relative to NPRM on WB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858-526C-4619-A3B2-3453037F61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960" y="23814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9920" y="41148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4B9-C0E4-4FB2-90F0-C6379691CD8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BA3-D266-497B-B4C7-32F3F264E8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5920" y="6132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99/031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928-F188-4706-B197-29AA0FE078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C16-B4ED-43BC-8736-99B16659D7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Marketing Committee to implement recommendations in Doc #99/031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124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f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245-194D-4918-A995-A4EAD8FF01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7000" y="1843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411-006C-41C3-BE2B-9F182C126E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118-5329-4A0A-AC5F-D0540A775C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FFE-58D8-44B0-9CF8-F0C43F7CA80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EFB-C285-4188-88CE-7C07FD0FB3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egulatory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0F1-F884-47DF-BB70-437F368EFBD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1480" y="3643200"/>
            <a:ext cx="149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CF7-2BFE-41ED-8765-EDC7CD358C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3CE-C48F-479B-B905-52E41E20E2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133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of Gro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existence/Interopera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PAR defining work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D3C-F9CD-4477-9B72-25859F09A1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81080"/>
            <a:ext cx="763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800" y="4038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46483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CF2-D155-44A3-B325-79D336B0EC4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13T13:00:44Z</dcterms:modified>
  <cp:revision>54</cp:revision>
  <dc:subject>IEEE 802.15 Marketing</dc:subject>
  <dc:title>IEEE P802.15 Working Group for Wireless Personal Area Networks</dc:title>
</cp:coreProperties>
</file>