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436-1C51-431B-8798-50C63AC2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1A9-C7F7-45BC-9CCA-CC232A18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140-FD14-4A83-9827-936E60DA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52B-94AC-46D7-A807-9308BDD3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BDE-FC69-4A01-9B9A-826487F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8E1-78BD-4DE4-B528-CF282B9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7D8-B69B-4E02-A49C-1C09C454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DA4-C177-45AA-B30B-E36BA40E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B98-EBE5-44B0-9D44-09692EB2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0B6-CA8D-4319-AA5B-85787FB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5B7-336D-436B-8F51-4B9CEDC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5A2-B017-431B-9DA7-81B9CAB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B20FD1-4A31-43C1-A8DA-E74CFEAFE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Liaison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 and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s for Li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uetooth (at least) will have LLC and bridging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o will be able to help with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ere work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5 Task Gro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 and 80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appro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iginating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39A-6EDD-4DC3-ABB9-D2280D2AE8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ACB-29A7-46ED-804B-A60E1DD50B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F8D-9AC7-48FA-9345-263DBED13E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1:08Z</dcterms:modified>
  <cp:revision>7</cp:revision>
  <dc:subject>IEEE 802.15 &lt;subject&gt;</dc:subject>
  <dc:title>IEEE P802.15 Operating Rules</dc:title>
</cp:coreProperties>
</file>