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291D5-89D2-4471-BC19-413D1B5E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6960" y="609480"/>
            <a:ext cx="776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6960" y="6477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5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8-11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in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PAN Study Group session starts on Monday, March 8,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1960" y="5556240"/>
            <a:ext cx="7632720" cy="774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" y="1676520"/>
            <a:ext cx="89852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  Wednesday  |  Thursday 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 !TGb!SG |     !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m.!   !   | TGb !  SG |  TGa !  SG  |  TGb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rev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Pl!TGb!SG |           | Full 802.11 |  Tga ! S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 SG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IETF Tutorial|           |      !      | Full 802.11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. . . . . | TGb  !  SG  |Reports/Outp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TGa  ! SG |      !      | Next mtn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Tga      |Tut. BTSIG |. . . . . . .|Exec. |Ml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. . . . . . | . . . . . |Social       | Comm.|Prep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ut.Elctr.blt|Tut. HomeRF|      Event  |      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2905200"/>
            <a:ext cx="1371600" cy="182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Rol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Other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Orlando, Florida Minutes -99/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eview Objectives o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Review of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Approval of Agenda -99/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Review Action Plan and Strategy for 802.11,ExCom and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 Liaison Conference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Review gam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 Review/Approve WPAN Tutorial/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Review results of Letter Ballot 17 and begin commen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Continued: “Comments received on WPAN's PAR and 5 Criteria in Letter Ballot 17” -99/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 Develop Recommendation for on-going Leadership of the WP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 Prepare Report to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 Open Session for WPAN, Bluetooth &amp; HomeR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 Discuss feedback from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2 Discussion of Relationship/Affiliation to IEEE WPA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 Develop Recommendation for On-Going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 Finalize 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Draft motions, as appropriate, for W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 Review and Approve Final SG Report to 802.11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 Review Recommended Report to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 Prepare for Interim Meeting in Japan May 3-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 Summarize W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 PAR &amp; 5C Review/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3 WPAN Disposition, Scenarios, and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4 WPAN Attendance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-7 - Shinagawa? Prince Hotel, Tokyo, Japan, Interim (NTT, Clarion, 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13-17 - Hilton, Santa Rosa, CA, Interim (Alan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TBD - Israel?, Interim (Breez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6-10 - Hyatt Regency, Albuquerque, NM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-14 - Hyatt Regency La Jolla, San Diego, CA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6-10 - Hyatt Regency, Tampa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F. Heile</dc:creator>
  <dc:description>Robert F. Heile, GTE</dc:description>
  <dc:language>en-US</dc:language>
  <cp:lastModifiedBy>Ian C. Gifford</cp:lastModifiedBy>
  <cp:revision>0</cp:revision>
  <dc:subject>Tentative Agenda</dc:subject>
  <dc:title>doc.: IEEE 802.11-99/xxx</dc:title>
</cp:coreProperties>
</file>