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D3C-5A8F-4E26-A28D-E7931A3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75-6695-4F70-B816-C8A5DBD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F57-9EF0-4996-8294-62502E5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BF8-FA8A-40CF-92CD-A1E4CE33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ABE-A7FA-43F0-B993-759948E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839-C7AC-4A69-A202-E9E66AF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98D-86FC-4C37-8D52-091ED0B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53D-C75A-424C-BDAA-572D026B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22B-7D68-4042-A9C4-08FE0F3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EBB-7701-4FD9-A7F9-6E68935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050-7E14-4587-806C-5409C76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0E7-11BF-477A-94E0-D2EF032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B2253A-D68C-48CB-BEF0-6F9FE3AA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Ian C. Gifford</cp:lastModifiedBy>
  <cp:lastPrinted>1998-02-10T13:28:06Z</cp:lastPrinted>
  <dcterms:modified xsi:type="dcterms:W3CDTF">1999-09-13T05:35:39Z</dcterms:modified>
  <cp:revision>2</cp:revision>
  <dc:subject>IEEE 802.15 Tutorial</dc:subject>
  <dc:title>Reliability of IEEE 802.11 WLANs in Presence of Bluetooth Radios</dc:title>
</cp:coreProperties>
</file>