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8824-B177-494C-B7D0-715276660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837C-3C61-4E90-860B-54FCFD068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8E79-40AF-410E-AE19-AAECEB34C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A12C-175B-4978-86BB-A0B0D04A80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BFBC-A176-41D4-B6EE-DF390FA91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BDCB-D864-4BC9-BCB8-896EE7BA1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DC6C-549B-4968-8103-FEEDED891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B184-F7C0-4CCD-8A2A-9A2ABD887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7C02-5CF0-4D0E-B804-5A1487B67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AE28-014B-4B2D-9768-B68282A3A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A66A-49CA-4B18-9655-00AD3059B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D350-11BB-4C82-9363-3EDC315FF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57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FA1-226A-4CA8-A799-9FC5D04EB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90360"/>
            <a:ext cx="6019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luetooth / IEEE 802.11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98600" y="655200"/>
            <a:ext cx="6291000" cy="18000"/>
            <a:chOff x="498600" y="655200"/>
            <a:chExt cx="6291000" cy="18000"/>
          </a:xfrm>
        </p:grpSpPr>
        <p:sp>
          <p:nvSpPr>
            <p:cNvPr id="5" name=""/>
            <p:cNvSpPr/>
            <p:nvPr/>
          </p:nvSpPr>
          <p:spPr>
            <a:xfrm flipV="1">
              <a:off x="498600" y="655200"/>
              <a:ext cx="6291000" cy="324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0040" y="673200"/>
              <a:ext cx="625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457200" y="6362640"/>
            <a:ext cx="8229600" cy="38160"/>
            <a:chOff x="457200" y="6362640"/>
            <a:chExt cx="8229600" cy="38160"/>
          </a:xfrm>
        </p:grpSpPr>
        <p:sp>
          <p:nvSpPr>
            <p:cNvPr id="8" name=""/>
            <p:cNvSpPr/>
            <p:nvPr/>
          </p:nvSpPr>
          <p:spPr>
            <a:xfrm flipV="1">
              <a:off x="457200" y="6362640"/>
              <a:ext cx="8229600" cy="792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640" y="6400800"/>
              <a:ext cx="81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200664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zyren@harri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174204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4132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BT interference depends 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propagation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ity of BT pico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susceptibility to BT interference increases as a function of range from DSSS node to DSSS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Hi Rate systems retain high throughput and have graceful degradation in the presence of 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se user models, DSSS Hi Rate WLANs are very reliable in the presence of significant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are preliminary.  Must be verified by lab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9040" y="1523880"/>
          <a:ext cx="77454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523880"/>
                    <a:ext cx="77454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71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3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80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7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6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8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5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2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using a narrower occupied channel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minimizing transmit time (ie transmit at higher data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fficient Interferenc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energy can be redu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s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r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3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7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2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6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2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81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4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udy of impact of Bluetooth on IEEE 802.11 DSS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DSSS WLAN @ 11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environment of BT pico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DSSS WLAN node per 25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off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co-located with each DSS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dBm BT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0 dBm DSSS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90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91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7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5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4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3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2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1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3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0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9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40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682640" y="4976640"/>
              <a:ext cx="1016280" cy="244800"/>
              <a:chOff x="1682640" y="4976640"/>
              <a:chExt cx="1016280" cy="244800"/>
            </a:xfrm>
          </p:grpSpPr>
          <p:sp>
            <p:nvSpPr>
              <p:cNvPr id="246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9648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450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03240" y="4470480"/>
          <a:ext cx="731520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470480"/>
                    <a:ext cx="731520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5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8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7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8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91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568840" y="3376440"/>
              <a:ext cx="1016280" cy="244800"/>
              <a:chOff x="5568840" y="3376440"/>
              <a:chExt cx="1016280" cy="244800"/>
            </a:xfrm>
          </p:grpSpPr>
          <p:sp>
            <p:nvSpPr>
              <p:cNvPr id="294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8268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10968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5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1816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ames Zyren</dc:creator>
  <dc:description/>
  <dc:language>en-US</dc:language>
  <cp:lastModifiedBy>Ian C. Gifford</cp:lastModifiedBy>
  <cp:lastPrinted>1999-08-02T20:34:40Z</cp:lastPrinted>
  <dcterms:modified xsi:type="dcterms:W3CDTF">1999-09-13T05:16:38Z</dcterms:modified>
  <cp:revision>25</cp:revision>
  <dc:subject/>
  <dc:title>No Slide Title</dc:title>
</cp:coreProperties>
</file>