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AE1A69-1B25-4F3A-99AE-FCFE89908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1D9-195C-4252-AD87-B055A5F5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0EC-EEC6-426F-8B21-65EFD210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F06-3D2E-44AE-8D01-942B4F69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384-E8F5-4F9B-BFD5-1FAA75D0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CF4-A170-4304-A130-7C32C0BB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4D5-6DB3-4A40-A04B-6F1BF11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580-AB96-43C4-A0B7-86B943CA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8AD-AD39-423A-8874-F68334E8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6A2-07F2-48BB-96D2-649746E8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DAE-FD7D-43F2-AF49-DF495A9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F19-F407-417D-AD70-A6085F5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85E-2AF6-425B-BB16-836C144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0318D8-EF52-4591-B2D9-CD6CEC13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189-AE03-4C74-8ECB-CA59A8AB58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F61-434F-4EB1-9954-59A82E4E61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741-93DF-4CD1-9B4C-A294C2F624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EB9-47FD-49CA-848D-7E389A1C35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63E-E8FE-42E4-93EB-94165A8294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AE4-2C12-4F75-BAEA-1252944D8D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265-68E9-4859-B68E-A0CADCA6E6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18B-D2B5-4E45-8EB8-DE4193AF9E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1:00pm and processed all of our Agenda Items and adjourned at xx:yy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URSDAY DRAFT TG1 REPORT TO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982-14FE-4263-92CC-36AC2D37F7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Comment Form in MS Word, -99/116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533-F922-4828-8583-4AA74F98DD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47r0</dc:description>
  <dc:language>en-US</dc:language>
  <cp:lastModifiedBy>Ian C. Gifford</cp:lastModifiedBy>
  <cp:lastPrinted>1998-02-10T13:28:06Z</cp:lastPrinted>
  <dcterms:modified xsi:type="dcterms:W3CDTF">1999-11-11T23:06:12Z</dcterms:modified>
  <cp:revision>54</cp:revision>
  <dc:subject>IEEE 802.15 TG1 Report #3</dc:subject>
  <dc:title>IEEE P802.15 Working Group for Wireless Personal Area Networks</dc:title>
</cp:coreProperties>
</file>