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06F7-412F-4D56-A328-739253B3E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"/>
          <p:cNvSpPr/>
          <p:nvPr/>
        </p:nvSpPr>
        <p:spPr>
          <a:xfrm>
            <a:off x="3884760" y="-3240"/>
            <a:ext cx="29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884760" y="868212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0" y="868212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0" y="-3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8840" y="68256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914400" y="4341600"/>
            <a:ext cx="50277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"/>
          <p:cNvSpPr/>
          <p:nvPr/>
        </p:nvSpPr>
        <p:spPr>
          <a:xfrm>
            <a:off x="3884760" y="-3240"/>
            <a:ext cx="29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884760" y="868212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0" y="868212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0" y="-3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8840" y="68256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914400" y="4341600"/>
            <a:ext cx="50277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390F-02B7-4F29-A0EF-DE6F75794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3CDF-1950-44C4-A63B-E4C5FD67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CF20-C89B-40AB-8ADA-995587F22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403D-F942-4AFC-B68E-16D63C41B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02C0-8390-4F55-B1B6-AB3F8B59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C150-59C0-4410-9BC1-19B8D4DA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C050-2139-49A6-8AAD-5EEF4D62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0611-899D-419E-93DC-F881F92A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F222-36F6-4389-A1E9-76E85A26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4264-DA2E-462A-A395-75972A3D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EDCF-BF08-4D61-95B5-BA62C508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C3EC-2E84-4CE7-8D90-E4C34844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2DD7-7D58-4EB2-AB53-C519D014E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19720" y="1066680"/>
            <a:ext cx="4038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3040" y="828720"/>
            <a:ext cx="1257120" cy="2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antom 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70600" y="981000"/>
            <a:ext cx="384012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hematics &amp; Computing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429000" y="5562720"/>
            <a:ext cx="2496960" cy="53640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7FC4-D7EA-4BDA-BBA5-8985E7552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606240" y="39600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7233120" y="6475320"/>
            <a:ext cx="137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ard Paine, Boe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05D690D-3ED7-4EF1-838A-B475B9619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16240" y="6010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3160" y="1858680"/>
            <a:ext cx="8636400" cy="7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oeing Bluetooth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3200400"/>
            <a:ext cx="1981080" cy="1114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772400" y="3200400"/>
            <a:ext cx="876240" cy="1219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400800" y="5181480"/>
            <a:ext cx="809640" cy="1257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7924680" y="4952880"/>
            <a:ext cx="895320" cy="1343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5562720" y="2971800"/>
            <a:ext cx="1085760" cy="1171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3581280" y="3429000"/>
            <a:ext cx="1390680" cy="1028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380880" y="4495680"/>
            <a:ext cx="2886120" cy="18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"/>
          <p:cNvSpPr/>
          <p:nvPr/>
        </p:nvSpPr>
        <p:spPr>
          <a:xfrm>
            <a:off x="2438280" y="2192400"/>
            <a:ext cx="4572000" cy="2743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7010280" y="2192400"/>
            <a:ext cx="1143000" cy="27432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H="1">
            <a:off x="1294560" y="2192400"/>
            <a:ext cx="1143000" cy="27432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276720" y="533520"/>
            <a:ext cx="54864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Emerging Technolo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t 4: Client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ions in Client Hard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438280" y="2198520"/>
            <a:ext cx="0" cy="273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581280" y="2198520"/>
            <a:ext cx="0" cy="273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724280" y="2198520"/>
            <a:ext cx="0" cy="273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5867280" y="2198520"/>
            <a:ext cx="0" cy="273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010280" y="2198520"/>
            <a:ext cx="0" cy="273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736640" y="4950000"/>
            <a:ext cx="598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9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231560" y="2178000"/>
            <a:ext cx="3664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Unix clients (i.e. RS-6000, Sun, etc.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853160" y="26049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 rot="13200000">
            <a:off x="3033720" y="2730240"/>
            <a:ext cx="644760" cy="745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H="1" rot="13200000">
            <a:off x="3528720" y="3161880"/>
            <a:ext cx="681120" cy="745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H="1" rot="7800000">
            <a:off x="2253960" y="4371120"/>
            <a:ext cx="959040" cy="77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281240" y="4740120"/>
            <a:ext cx="3423960" cy="7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105440" y="3083040"/>
            <a:ext cx="2818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NT Workstation 5 </a:t>
            </a:r>
            <a:r>
              <a:rPr b="1" lang="en-US" sz="1600" spc="-1" strike="noStrike" u="sng">
                <a:solidFill>
                  <a:srgbClr val="3333cc"/>
                </a:solidFill>
                <a:uFillTx/>
                <a:latin typeface="Arial"/>
              </a:rPr>
              <a:t>Deskt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295280" y="2938320"/>
            <a:ext cx="3683160" cy="7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295280" y="2516040"/>
            <a:ext cx="3668760" cy="7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805120" y="4389480"/>
            <a:ext cx="4845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Windows 9x and NT Workstation 4 &amp; 5 </a:t>
            </a:r>
            <a:r>
              <a:rPr b="1" lang="en-US" sz="1600" spc="-1" strike="noStrike" u="sng">
                <a:solidFill>
                  <a:srgbClr val="3333cc"/>
                </a:solidFill>
                <a:uFillTx/>
                <a:latin typeface="Arial"/>
              </a:rPr>
              <a:t>Port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H="1" rot="10800000">
            <a:off x="6248880" y="3421080"/>
            <a:ext cx="1616040" cy="604800"/>
          </a:xfrm>
          <a:prstGeom prst="parallelogram">
            <a:avLst>
              <a:gd name="adj" fmla="val 99285"/>
            </a:avLst>
          </a:prstGeom>
          <a:gradFill rotWithShape="0">
            <a:gsLst>
              <a:gs pos="0">
                <a:srgbClr val="3333cc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181960" y="3689280"/>
            <a:ext cx="447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Ultra-portable fusion* devices (Windows 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9" name=""/>
          <p:cNvGrpSpPr/>
          <p:nvPr/>
        </p:nvGrpSpPr>
        <p:grpSpPr>
          <a:xfrm>
            <a:off x="1271520" y="3419640"/>
            <a:ext cx="6872400" cy="642600"/>
            <a:chOff x="1271520" y="3419640"/>
            <a:chExt cx="6872400" cy="642600"/>
          </a:xfrm>
        </p:grpSpPr>
        <p:sp>
          <p:nvSpPr>
            <p:cNvPr id="1250" name=""/>
            <p:cNvSpPr/>
            <p:nvPr/>
          </p:nvSpPr>
          <p:spPr>
            <a:xfrm>
              <a:off x="3003480" y="3419640"/>
              <a:ext cx="514044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271520" y="4062240"/>
              <a:ext cx="685008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2" name=""/>
          <p:cNvSpPr/>
          <p:nvPr/>
        </p:nvSpPr>
        <p:spPr>
          <a:xfrm>
            <a:off x="971280" y="2049480"/>
            <a:ext cx="331200" cy="14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977760" y="3600360"/>
            <a:ext cx="31932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316160" y="5197320"/>
            <a:ext cx="7056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Fusion devices combine elements of portable computers, personal digital assistants (PDAs), 2 way pagers, and cellular phones.  There will be thin clients that bring elements of fusion hardware technology to at least some desktop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883240" y="2603520"/>
            <a:ext cx="446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</a:rPr>
              <a:t>Windows 9x and NT Workstation 4 </a:t>
            </a:r>
            <a:r>
              <a:rPr b="1" lang="en-US" sz="1600" spc="-1" strike="noStrike" u="sng">
                <a:solidFill>
                  <a:srgbClr val="ccccff"/>
                </a:solidFill>
                <a:uFillTx/>
                <a:latin typeface="Arial"/>
              </a:rPr>
              <a:t>Deskt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654440" y="4603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Sun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930920" y="281304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ccff"/>
                </a:solidFill>
                <a:latin typeface="Arial"/>
              </a:rPr>
              <a:t>Sun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916520" y="238140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Sun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301760" y="4921200"/>
            <a:ext cx="685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1301760" y="2192400"/>
            <a:ext cx="685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"/>
          <p:cNvSpPr/>
          <p:nvPr/>
        </p:nvSpPr>
        <p:spPr>
          <a:xfrm>
            <a:off x="3276720" y="304920"/>
            <a:ext cx="5867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676520" y="2133720"/>
            <a:ext cx="5867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aggressively work coexist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95800" y="304920"/>
            <a:ext cx="584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oeing Iss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1600200"/>
            <a:ext cx="7620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existence of 802.11 and 802.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733400" y="457200"/>
            <a:ext cx="7410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oeing Wireless Mobility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271760" y="3043080"/>
            <a:ext cx="1836000" cy="2211480"/>
            <a:chOff x="4271760" y="3043080"/>
            <a:chExt cx="1836000" cy="2211480"/>
          </a:xfrm>
        </p:grpSpPr>
        <p:sp>
          <p:nvSpPr>
            <p:cNvPr id="78" name=""/>
            <p:cNvSpPr/>
            <p:nvPr/>
          </p:nvSpPr>
          <p:spPr>
            <a:xfrm>
              <a:off x="4479840" y="3139920"/>
              <a:ext cx="1452600" cy="1765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71760" y="4941720"/>
              <a:ext cx="18360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9080" bIns="19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oeing Camp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672160" y="3855960"/>
              <a:ext cx="146160" cy="108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68920" y="3854520"/>
              <a:ext cx="16884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9080" bIns="19080" anchor="t">
              <a:spAutoFit/>
            </a:bodyPr>
            <a:p>
              <a:pPr>
                <a:lnSpc>
                  <a:spcPct val="9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402160" y="3201840"/>
              <a:ext cx="60336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489640" y="3932280"/>
              <a:ext cx="16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003640" y="3778200"/>
              <a:ext cx="346320" cy="26352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81640" y="362592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381640" y="4253040"/>
              <a:ext cx="612720" cy="47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870440" y="4253040"/>
              <a:ext cx="612720" cy="47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16480" y="420840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870440" y="452124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381640" y="452124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16480" y="452124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27680" y="362592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416480" y="362592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381640" y="3938760"/>
              <a:ext cx="612720" cy="480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27680" y="3938760"/>
              <a:ext cx="612720" cy="480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416480" y="3938760"/>
              <a:ext cx="612720" cy="480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27680" y="304308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16480" y="3311640"/>
              <a:ext cx="612720" cy="47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27680" y="3311640"/>
              <a:ext cx="612720" cy="47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81640" y="3311640"/>
              <a:ext cx="612720" cy="47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16480" y="304308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38880" y="304308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205240" y="3260880"/>
              <a:ext cx="0" cy="492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94400" y="3260880"/>
              <a:ext cx="1022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51280" y="3575160"/>
              <a:ext cx="102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751280" y="3887640"/>
              <a:ext cx="2271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51280" y="4156200"/>
              <a:ext cx="102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51280" y="4470480"/>
              <a:ext cx="102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51280" y="4782960"/>
              <a:ext cx="102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05240" y="4067280"/>
              <a:ext cx="0" cy="71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375160" y="3887640"/>
              <a:ext cx="284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177920" y="1434960"/>
            <a:ext cx="7816680" cy="5273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78080" y="2151000"/>
            <a:ext cx="336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2 - Regional L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Wir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743200" y="3743280"/>
            <a:ext cx="1628640" cy="11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4915080"/>
            <a:ext cx="37152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71360" y="4943520"/>
            <a:ext cx="11430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0120" y="5680080"/>
            <a:ext cx="328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1 - Campus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Wireless 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572080" y="1824120"/>
          <a:ext cx="1461960" cy="9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080" y="1824120"/>
                    <a:ext cx="146196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6961320" y="3564000"/>
          <a:ext cx="1409400" cy="133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61320" y="3564000"/>
                    <a:ext cx="1409400" cy="13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401840" y="3516480"/>
          <a:ext cx="205416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1840" y="3516480"/>
                    <a:ext cx="20541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4245120" y="5513400"/>
          <a:ext cx="1985760" cy="77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45120" y="5513400"/>
                    <a:ext cx="198576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01680" y="1303200"/>
          <a:ext cx="2403360" cy="166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1680" y="1303200"/>
                    <a:ext cx="2403360" cy="16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30240" y="1001880"/>
            <a:ext cx="369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3 - National/Intl 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103360" y="-5202360"/>
            <a:ext cx="889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3720" y="492120"/>
            <a:ext cx="88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03720" y="35244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03720" y="285840"/>
            <a:ext cx="88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46640" y="42696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89560" y="566640"/>
            <a:ext cx="889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46640" y="42696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89560" y="566640"/>
            <a:ext cx="889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31080" y="706320"/>
            <a:ext cx="9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13160" y="1692360"/>
            <a:ext cx="547560" cy="536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917440" y="1622520"/>
            <a:ext cx="95400" cy="1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41520" y="1692360"/>
            <a:ext cx="119160" cy="1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13200" y="2112840"/>
            <a:ext cx="118800" cy="46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488680" y="2182680"/>
            <a:ext cx="95400" cy="46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35440" y="2176560"/>
            <a:ext cx="77292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714840" y="2936520"/>
            <a:ext cx="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714840" y="2866680"/>
            <a:ext cx="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20960" y="2878200"/>
            <a:ext cx="34452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69120" y="1762200"/>
            <a:ext cx="2333520" cy="4043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03280" y="6087960"/>
            <a:ext cx="1738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Campu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512040" y="4427640"/>
            <a:ext cx="190440" cy="185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26240" y="4556160"/>
            <a:ext cx="190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84360" y="3584520"/>
            <a:ext cx="1833480" cy="2782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33040" y="6369120"/>
            <a:ext cx="1738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Campu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84480" y="4637160"/>
            <a:ext cx="190440" cy="18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01400" y="4656240"/>
            <a:ext cx="15336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28600" y="4446720"/>
            <a:ext cx="15336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67280" y="1809720"/>
            <a:ext cx="9169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6000" y="1455840"/>
            <a:ext cx="12412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eing Of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mpus Port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ice/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708440" y="1897200"/>
            <a:ext cx="155520" cy="75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35600" y="1897200"/>
            <a:ext cx="129960" cy="75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63960" y="2036880"/>
            <a:ext cx="13032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4792680" y="2025360"/>
            <a:ext cx="13032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57840" y="168588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92680" y="2176560"/>
            <a:ext cx="20160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780080" y="2176560"/>
            <a:ext cx="22680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92680" y="2387520"/>
            <a:ext cx="27288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708080" y="2387520"/>
            <a:ext cx="29844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08720" y="1109520"/>
            <a:ext cx="60444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63960" y="1679400"/>
            <a:ext cx="63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422680" y="1685880"/>
            <a:ext cx="8388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35640" y="1751040"/>
            <a:ext cx="70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63920" y="1405080"/>
            <a:ext cx="34452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565160" y="1609560"/>
            <a:ext cx="15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8480" y="1616040"/>
            <a:ext cx="27288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493880" y="1685880"/>
            <a:ext cx="36972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06840" y="1890720"/>
            <a:ext cx="130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350960" y="1897200"/>
            <a:ext cx="29844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851360" y="1890720"/>
            <a:ext cx="8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35640" y="2668680"/>
            <a:ext cx="558720" cy="47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64800" y="2722680"/>
            <a:ext cx="54792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63960" y="1685880"/>
            <a:ext cx="41616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5286240" y="1954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1967040"/>
            <a:ext cx="701640" cy="68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12040" y="3865680"/>
            <a:ext cx="190440" cy="18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391800" y="3584520"/>
            <a:ext cx="50976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nt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26240" y="3989520"/>
            <a:ext cx="476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78000" y="2106720"/>
            <a:ext cx="1416240" cy="40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4351320" y="2527200"/>
            <a:ext cx="15552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63920" y="2597040"/>
            <a:ext cx="1059120" cy="33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09560" y="2527200"/>
            <a:ext cx="22536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22160" y="2592360"/>
            <a:ext cx="3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923760" y="2515680"/>
            <a:ext cx="15408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7320" y="2387520"/>
            <a:ext cx="0" cy="4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01880" y="2387520"/>
            <a:ext cx="0" cy="4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30240" y="2317680"/>
            <a:ext cx="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30240" y="259704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25280" y="2862360"/>
            <a:ext cx="8816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ellul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58960" y="2597040"/>
            <a:ext cx="0" cy="11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30240" y="2597040"/>
            <a:ext cx="0" cy="11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34960" y="2597040"/>
            <a:ext cx="1774800" cy="33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995560" y="2948040"/>
            <a:ext cx="22536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06720" y="3017880"/>
            <a:ext cx="105876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78440" y="3089160"/>
            <a:ext cx="701640" cy="47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39920" y="3071880"/>
            <a:ext cx="74628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mer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63800" y="3649680"/>
            <a:ext cx="488880" cy="40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64520" y="3703680"/>
            <a:ext cx="52668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352680" y="3510000"/>
            <a:ext cx="725760" cy="33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34280" y="3089160"/>
            <a:ext cx="488880" cy="408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35000" y="3143160"/>
            <a:ext cx="52668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792680" y="3363840"/>
            <a:ext cx="163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05520" y="3159000"/>
            <a:ext cx="488880" cy="82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565160" y="1685880"/>
            <a:ext cx="298440" cy="61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578480" y="2234880"/>
            <a:ext cx="12996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4422600" y="2246400"/>
            <a:ext cx="29880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22160" y="1897200"/>
            <a:ext cx="5904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787320" y="1954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93800" y="1967040"/>
            <a:ext cx="5868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63920" y="3719520"/>
            <a:ext cx="105912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92680" y="4210200"/>
            <a:ext cx="987480" cy="900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5520" y="3930480"/>
            <a:ext cx="1201680" cy="1040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86160" y="3854520"/>
            <a:ext cx="1143000" cy="981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49920" y="4264200"/>
            <a:ext cx="16758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Intern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Dat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92560" y="4765680"/>
            <a:ext cx="76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779800" y="4556160"/>
            <a:ext cx="72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14760" y="14050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720880" y="1533240"/>
            <a:ext cx="6048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86040" y="154620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38400" y="1174680"/>
            <a:ext cx="12412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eing Of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mpus Port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ice/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89520" y="496800"/>
            <a:ext cx="889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03720" y="35712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20880" y="4351320"/>
            <a:ext cx="773280" cy="758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06600" y="526248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720880" y="5753160"/>
            <a:ext cx="77328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005600" y="3017880"/>
            <a:ext cx="1060560" cy="966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19840" y="2317680"/>
            <a:ext cx="105912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219720" y="161604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05600" y="498168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91480" y="4351320"/>
            <a:ext cx="10587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005600" y="435132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19720" y="428148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6738840" y="2072880"/>
            <a:ext cx="736560" cy="50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499520" y="2124000"/>
            <a:ext cx="0" cy="1567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23280" y="2797200"/>
            <a:ext cx="809640" cy="4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38840" y="4835520"/>
            <a:ext cx="159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499520" y="4087800"/>
            <a:ext cx="0" cy="1355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934320" y="3510000"/>
            <a:ext cx="34596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06600" y="484200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49560" y="3438360"/>
            <a:ext cx="774720" cy="760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792520" y="3438360"/>
            <a:ext cx="772920" cy="760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00200" y="3807000"/>
            <a:ext cx="0" cy="795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02000" y="3780000"/>
            <a:ext cx="336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54080" y="5181480"/>
            <a:ext cx="522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82800" y="5673600"/>
            <a:ext cx="593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23960" y="6164280"/>
            <a:ext cx="667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00200" y="4995720"/>
            <a:ext cx="0" cy="1149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940120" y="4765680"/>
            <a:ext cx="108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934320" y="1458720"/>
            <a:ext cx="27468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235280" y="1314360"/>
            <a:ext cx="14335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ireless Cel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083360" y="3720960"/>
            <a:ext cx="833400" cy="327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84400" y="4632480"/>
            <a:ext cx="833400" cy="326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69160" y="533520"/>
            <a:ext cx="767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ireless LANs minus Cell Hando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103360" y="-5318280"/>
            <a:ext cx="889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46640" y="63324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89560" y="773280"/>
            <a:ext cx="889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46640" y="63324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89560" y="773280"/>
            <a:ext cx="889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31080" y="912960"/>
            <a:ext cx="9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13160" y="1898640"/>
            <a:ext cx="547560" cy="53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917440" y="1827360"/>
            <a:ext cx="95400" cy="11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41520" y="1898640"/>
            <a:ext cx="119160" cy="1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13200" y="2319480"/>
            <a:ext cx="118800" cy="45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2488680" y="2389320"/>
            <a:ext cx="95400" cy="46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935440" y="2382840"/>
            <a:ext cx="77292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714840" y="3142800"/>
            <a:ext cx="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714840" y="3071520"/>
            <a:ext cx="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20960" y="3084480"/>
            <a:ext cx="344520" cy="40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67280" y="2016000"/>
            <a:ext cx="9169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6000" y="1660680"/>
            <a:ext cx="12412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eing Of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mpus Port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ice/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4708440" y="2101680"/>
            <a:ext cx="155520" cy="76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935600" y="2101680"/>
            <a:ext cx="129960" cy="76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863960" y="2243160"/>
            <a:ext cx="13032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4792680" y="2230200"/>
            <a:ext cx="130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857840" y="1892160"/>
            <a:ext cx="0" cy="19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92680" y="2382840"/>
            <a:ext cx="20160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780080" y="2382840"/>
            <a:ext cx="22680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792680" y="2593800"/>
            <a:ext cx="272880" cy="26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708080" y="2593800"/>
            <a:ext cx="298440" cy="26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608720" y="1314360"/>
            <a:ext cx="60444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63960" y="1886040"/>
            <a:ext cx="63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5422680" y="1892160"/>
            <a:ext cx="83880" cy="5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35640" y="1955880"/>
            <a:ext cx="70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363920" y="1611360"/>
            <a:ext cx="34452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4565160" y="1816200"/>
            <a:ext cx="15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8480" y="1822320"/>
            <a:ext cx="272880" cy="5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4493880" y="1892160"/>
            <a:ext cx="369720" cy="19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06840" y="2097000"/>
            <a:ext cx="130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4350960" y="2101680"/>
            <a:ext cx="298440" cy="128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4851360" y="2097000"/>
            <a:ext cx="8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35640" y="2873520"/>
            <a:ext cx="558720" cy="47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64800" y="2927520"/>
            <a:ext cx="54792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3960" y="1892160"/>
            <a:ext cx="41616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5286240" y="2160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92720" y="2173320"/>
            <a:ext cx="701640" cy="6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78000" y="2313000"/>
            <a:ext cx="141624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4351320" y="2733840"/>
            <a:ext cx="15552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63920" y="2803680"/>
            <a:ext cx="1059120" cy="33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709560" y="2733840"/>
            <a:ext cx="22536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22160" y="2797200"/>
            <a:ext cx="3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923760" y="2722320"/>
            <a:ext cx="15408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87320" y="2593800"/>
            <a:ext cx="0" cy="4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01880" y="2593800"/>
            <a:ext cx="0" cy="4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30240" y="252252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30240" y="280368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25280" y="3068640"/>
            <a:ext cx="8816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ellul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58960" y="2803680"/>
            <a:ext cx="0" cy="11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30240" y="2803680"/>
            <a:ext cx="0" cy="11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434960" y="2803680"/>
            <a:ext cx="1774800" cy="33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2995560" y="3154320"/>
            <a:ext cx="22536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06720" y="3224160"/>
            <a:ext cx="105876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078440" y="3294000"/>
            <a:ext cx="701640" cy="47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039920" y="3278160"/>
            <a:ext cx="74628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mer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3352680" y="3714840"/>
            <a:ext cx="725760" cy="33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792680" y="3282840"/>
            <a:ext cx="1542960" cy="28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05520" y="3365640"/>
            <a:ext cx="488880" cy="82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4565160" y="1892160"/>
            <a:ext cx="298440" cy="61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4578480" y="2441160"/>
            <a:ext cx="12996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422600" y="2452680"/>
            <a:ext cx="29880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22160" y="2101680"/>
            <a:ext cx="5904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787320" y="2160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93800" y="2173320"/>
            <a:ext cx="5868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363920" y="3925800"/>
            <a:ext cx="105912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792680" y="4416480"/>
            <a:ext cx="987480" cy="900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935520" y="4135320"/>
            <a:ext cx="1201680" cy="10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86160" y="4060800"/>
            <a:ext cx="1143000" cy="981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949920" y="4470480"/>
            <a:ext cx="16758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Intern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Dat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92560" y="5041800"/>
            <a:ext cx="84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 flipV="1">
            <a:off x="5779800" y="4761000"/>
            <a:ext cx="647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14760" y="161136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2720880" y="1739520"/>
            <a:ext cx="6048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86040" y="175104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38400" y="1380960"/>
            <a:ext cx="12412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eing Of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mpus Port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ice/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889520" y="703440"/>
            <a:ext cx="889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103720" y="561960"/>
            <a:ext cx="88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500120" y="3639960"/>
            <a:ext cx="2058840" cy="3220560"/>
            <a:chOff x="1500120" y="3639960"/>
            <a:chExt cx="2058840" cy="3220560"/>
          </a:xfrm>
        </p:grpSpPr>
        <p:sp>
          <p:nvSpPr>
            <p:cNvPr id="344" name=""/>
            <p:cNvSpPr/>
            <p:nvPr/>
          </p:nvSpPr>
          <p:spPr>
            <a:xfrm>
              <a:off x="1577160" y="3785760"/>
              <a:ext cx="1833120" cy="2782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732320" y="6570000"/>
              <a:ext cx="17258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480" bIns="15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Boeing Campu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076920" y="4838040"/>
              <a:ext cx="190440" cy="18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099960" y="4857120"/>
              <a:ext cx="14112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480" bIns="15480" anchor="t">
              <a:spAutoFit/>
            </a:bodyPr>
            <a:p>
              <a:pPr>
                <a:lnSpc>
                  <a:spcPct val="99000"/>
                </a:lnSpc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856960" y="3850200"/>
              <a:ext cx="487800" cy="40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863440" y="3904560"/>
              <a:ext cx="5144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480" bIns="15480" anchor="t">
              <a:spAutoFit/>
            </a:bodyPr>
            <a:p>
              <a:pPr algn="ctr">
                <a:lnSpc>
                  <a:spcPct val="99000"/>
                </a:lnSpc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Boein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9000"/>
                </a:lnSpc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Telephon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9000"/>
                </a:lnSpc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14040" y="4551840"/>
              <a:ext cx="773640" cy="759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500120" y="5463720"/>
              <a:ext cx="773640" cy="759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714040" y="5954400"/>
              <a:ext cx="773640" cy="759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00120" y="5042880"/>
              <a:ext cx="773640" cy="759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42720" y="3639960"/>
              <a:ext cx="773640" cy="759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785320" y="3639960"/>
              <a:ext cx="773640" cy="759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494080" y="4008240"/>
              <a:ext cx="0" cy="794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495160" y="3980520"/>
              <a:ext cx="3362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5383080"/>
              <a:ext cx="523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874880" y="5874480"/>
              <a:ext cx="595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17480" y="6365520"/>
              <a:ext cx="666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494080" y="5196240"/>
              <a:ext cx="0" cy="1149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932920" y="4966920"/>
              <a:ext cx="108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77200" y="4833720"/>
              <a:ext cx="833040" cy="327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 flipH="1">
            <a:off x="2285640" y="4552920"/>
            <a:ext cx="21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43080" y="448308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784600" y="574524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14720" y="3990960"/>
            <a:ext cx="14256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641680" y="441180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714680" y="3921120"/>
            <a:ext cx="14256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714680" y="469260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55880" y="476244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785960" y="602460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00160" y="595476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28880" y="511344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14720" y="616572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27520" y="609588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927520" y="504360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855880" y="532440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641680" y="539424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855880" y="553392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70080" y="567540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357280" y="6235560"/>
            <a:ext cx="1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998800" y="623556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498760" y="581508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498760" y="546408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98760" y="560376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98760" y="5745240"/>
            <a:ext cx="57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1857240" y="588492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2071800" y="5884920"/>
            <a:ext cx="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000160" y="5253120"/>
            <a:ext cx="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57240" y="4762440"/>
            <a:ext cx="64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498400" y="448308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357280" y="4062240"/>
            <a:ext cx="1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857240" y="3990960"/>
            <a:ext cx="64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2498760" y="539424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269040" y="1774800"/>
            <a:ext cx="2333520" cy="4044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704280" y="6100920"/>
            <a:ext cx="1738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Campu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411960" y="4738680"/>
            <a:ext cx="190440" cy="185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626160" y="4867200"/>
            <a:ext cx="190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429600" y="4757760"/>
            <a:ext cx="15336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11960" y="3878280"/>
            <a:ext cx="190440" cy="18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292800" y="3597120"/>
            <a:ext cx="50976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nt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626160" y="4003560"/>
            <a:ext cx="476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335640" y="3102120"/>
            <a:ext cx="487440" cy="40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334920" y="3156120"/>
            <a:ext cx="52668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907240" y="3171960"/>
            <a:ext cx="48708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905520" y="3032280"/>
            <a:ext cx="1060560" cy="965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620120" y="2330280"/>
            <a:ext cx="106020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21440" y="1628640"/>
            <a:ext cx="10587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905520" y="4995720"/>
            <a:ext cx="10605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691400" y="4363920"/>
            <a:ext cx="10605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905520" y="4363920"/>
            <a:ext cx="10605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121440" y="4294080"/>
            <a:ext cx="10587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6570720" y="2085480"/>
            <a:ext cx="806400" cy="17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400880" y="2136600"/>
            <a:ext cx="0" cy="1567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424640" y="2811600"/>
            <a:ext cx="808200" cy="2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638760" y="4849920"/>
            <a:ext cx="159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7377120" y="4100400"/>
            <a:ext cx="23760" cy="1363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34240" y="3522600"/>
            <a:ext cx="34596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834240" y="1473120"/>
            <a:ext cx="274680" cy="22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135920" y="1328760"/>
            <a:ext cx="14335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ireless Cel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983280" y="3733920"/>
            <a:ext cx="833400" cy="328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1077840" y="4054320"/>
            <a:ext cx="657360" cy="42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92240" y="4575240"/>
            <a:ext cx="11811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evic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710480" y="462276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781760" y="420228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567560" y="42721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781760" y="441180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994520" y="45529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424640" y="469260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424640" y="434196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424640" y="448308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424640" y="4622760"/>
            <a:ext cx="56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7424640" y="427212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691400" y="254016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763040" y="2119320"/>
            <a:ext cx="14256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548480" y="219060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763040" y="2330280"/>
            <a:ext cx="142560" cy="140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977240" y="247032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405560" y="261144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405560" y="226044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405560" y="2400480"/>
            <a:ext cx="35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405560" y="254016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7405200" y="2190600"/>
            <a:ext cx="35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7173720" y="3014640"/>
            <a:ext cx="21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031160" y="294336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102440" y="245268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602400" y="238284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602400" y="31543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745320" y="3224160"/>
            <a:ext cx="64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245360" y="252252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745320" y="2452680"/>
            <a:ext cx="64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7162560" y="4745160"/>
            <a:ext cx="21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020000" y="46753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91280" y="418464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591240" y="411480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591240" y="488628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734160" y="4956120"/>
            <a:ext cx="64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234200" y="425448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734160" y="4184640"/>
            <a:ext cx="64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875600" y="533520"/>
            <a:ext cx="726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ireless LANs plus Cell Hando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103360" y="-5318280"/>
            <a:ext cx="889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246640" y="63324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389560" y="773280"/>
            <a:ext cx="889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246640" y="63324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389560" y="773280"/>
            <a:ext cx="889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031080" y="912960"/>
            <a:ext cx="9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513160" y="1898640"/>
            <a:ext cx="547560" cy="53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2917440" y="1827360"/>
            <a:ext cx="95400" cy="11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41520" y="1898640"/>
            <a:ext cx="119160" cy="1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013200" y="2319480"/>
            <a:ext cx="118800" cy="45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2488680" y="2389320"/>
            <a:ext cx="95400" cy="46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35440" y="2382840"/>
            <a:ext cx="77292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3714840" y="3142800"/>
            <a:ext cx="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3714840" y="3071520"/>
            <a:ext cx="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720960" y="3084480"/>
            <a:ext cx="344520" cy="40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369120" y="1968480"/>
            <a:ext cx="2333520" cy="4043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03280" y="6294600"/>
            <a:ext cx="1738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Campu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512040" y="4632480"/>
            <a:ext cx="190440" cy="18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6726240" y="4328640"/>
            <a:ext cx="547560" cy="44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584360" y="3790800"/>
            <a:ext cx="1833480" cy="2783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733040" y="6573960"/>
            <a:ext cx="1738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Campu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084480" y="4913280"/>
            <a:ext cx="190440" cy="18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101400" y="4932360"/>
            <a:ext cx="15336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528600" y="4651200"/>
            <a:ext cx="15336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67280" y="2016000"/>
            <a:ext cx="9169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96000" y="1660680"/>
            <a:ext cx="12412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eing Of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mpus Port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ice/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08440" y="2101680"/>
            <a:ext cx="155520" cy="76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935600" y="2101680"/>
            <a:ext cx="129960" cy="76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863960" y="2243160"/>
            <a:ext cx="13032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4792680" y="2230200"/>
            <a:ext cx="130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857840" y="1892160"/>
            <a:ext cx="0" cy="19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792680" y="2382840"/>
            <a:ext cx="20160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4780080" y="2382840"/>
            <a:ext cx="22680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792680" y="2593800"/>
            <a:ext cx="272880" cy="26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4708080" y="2593800"/>
            <a:ext cx="298440" cy="26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608720" y="1314360"/>
            <a:ext cx="60444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863960" y="1886040"/>
            <a:ext cx="63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5422680" y="1892160"/>
            <a:ext cx="83880" cy="5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435640" y="1955880"/>
            <a:ext cx="70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363920" y="1611360"/>
            <a:ext cx="34452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4565160" y="1816200"/>
            <a:ext cx="15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578480" y="1822320"/>
            <a:ext cx="272880" cy="5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4493880" y="1892160"/>
            <a:ext cx="369720" cy="19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506840" y="2097000"/>
            <a:ext cx="130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4350960" y="2101680"/>
            <a:ext cx="298440" cy="128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4851360" y="2097000"/>
            <a:ext cx="8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35640" y="2873520"/>
            <a:ext cx="558720" cy="47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464800" y="2927520"/>
            <a:ext cx="54792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863960" y="1892160"/>
            <a:ext cx="41616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5286240" y="2160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292720" y="2173320"/>
            <a:ext cx="701640" cy="6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512040" y="4071960"/>
            <a:ext cx="190440" cy="18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391800" y="3789360"/>
            <a:ext cx="50976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nt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726240" y="4200480"/>
            <a:ext cx="547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078000" y="2313000"/>
            <a:ext cx="141624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4351320" y="2733840"/>
            <a:ext cx="15552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363920" y="2803680"/>
            <a:ext cx="1059120" cy="33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709560" y="2733840"/>
            <a:ext cx="22536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22160" y="2797200"/>
            <a:ext cx="3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923760" y="2722320"/>
            <a:ext cx="15408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87320" y="2593800"/>
            <a:ext cx="0" cy="4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001880" y="2593800"/>
            <a:ext cx="0" cy="4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30240" y="252252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930240" y="280368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025280" y="3068640"/>
            <a:ext cx="8816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ellul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58960" y="2803680"/>
            <a:ext cx="0" cy="11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930240" y="2803680"/>
            <a:ext cx="0" cy="11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434960" y="2803680"/>
            <a:ext cx="1774800" cy="33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2995560" y="3154320"/>
            <a:ext cx="22536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006720" y="3224160"/>
            <a:ext cx="105876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078440" y="3294000"/>
            <a:ext cx="701640" cy="47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039920" y="3278160"/>
            <a:ext cx="74628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mer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863800" y="3855960"/>
            <a:ext cx="488880" cy="408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864520" y="3909960"/>
            <a:ext cx="52668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3352680" y="3714840"/>
            <a:ext cx="725760" cy="33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34280" y="3294000"/>
            <a:ext cx="488880" cy="40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435000" y="3348000"/>
            <a:ext cx="52668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792680" y="3568680"/>
            <a:ext cx="163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005520" y="3365640"/>
            <a:ext cx="488880" cy="82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4565160" y="1892160"/>
            <a:ext cx="298440" cy="61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4578480" y="2441160"/>
            <a:ext cx="12996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4422600" y="2452680"/>
            <a:ext cx="29880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22160" y="2101680"/>
            <a:ext cx="5904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787320" y="2160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93800" y="2173320"/>
            <a:ext cx="5868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363920" y="3925800"/>
            <a:ext cx="105912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792680" y="4416480"/>
            <a:ext cx="987480" cy="900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935520" y="4135320"/>
            <a:ext cx="1201680" cy="10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286160" y="4060800"/>
            <a:ext cx="1143000" cy="981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949920" y="4470480"/>
            <a:ext cx="16758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Intern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Dat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92560" y="5041800"/>
            <a:ext cx="84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779800" y="4761000"/>
            <a:ext cx="72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714760" y="161136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2720880" y="1739520"/>
            <a:ext cx="6048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786040" y="175104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863800" y="5041800"/>
            <a:ext cx="20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038400" y="1380960"/>
            <a:ext cx="12412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eing Of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mpus Port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ice/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889520" y="703440"/>
            <a:ext cx="889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103720" y="561960"/>
            <a:ext cx="88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238480" y="4784760"/>
            <a:ext cx="452160" cy="444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2781360" y="4276800"/>
            <a:ext cx="225360" cy="5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720880" y="4556160"/>
            <a:ext cx="77328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720880" y="5538960"/>
            <a:ext cx="77328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77920" y="553896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506600" y="5468760"/>
            <a:ext cx="774720" cy="758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077920" y="595944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20880" y="5959440"/>
            <a:ext cx="77328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06600" y="595944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791480" y="1822320"/>
            <a:ext cx="10587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791480" y="3224160"/>
            <a:ext cx="10587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005600" y="322416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19720" y="315432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719840" y="2522520"/>
            <a:ext cx="105912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005600" y="252252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291360" y="2522520"/>
            <a:ext cx="106020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005600" y="1822320"/>
            <a:ext cx="10605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219720" y="1822320"/>
            <a:ext cx="10605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005600" y="518796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862760" y="5187960"/>
            <a:ext cx="105912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219720" y="518796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791480" y="4556160"/>
            <a:ext cx="1058760" cy="97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005600" y="4556160"/>
            <a:ext cx="1060560" cy="97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219720" y="448632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791480" y="3925800"/>
            <a:ext cx="10587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005600" y="3855960"/>
            <a:ext cx="10605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219720" y="3855960"/>
            <a:ext cx="10605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738840" y="2306520"/>
            <a:ext cx="159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499520" y="2330280"/>
            <a:ext cx="0" cy="1495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38840" y="3008160"/>
            <a:ext cx="159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738840" y="3710160"/>
            <a:ext cx="159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738840" y="4410000"/>
            <a:ext cx="159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738840" y="5041800"/>
            <a:ext cx="159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10480" y="5673600"/>
            <a:ext cx="1593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499520" y="4363920"/>
            <a:ext cx="0" cy="1285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934320" y="3714840"/>
            <a:ext cx="34596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149560" y="455616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506600" y="455616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720880" y="5048280"/>
            <a:ext cx="773280" cy="758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149560" y="5048280"/>
            <a:ext cx="774720" cy="758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506600" y="5048280"/>
            <a:ext cx="774720" cy="758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149560" y="364500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506600" y="4065480"/>
            <a:ext cx="774720" cy="760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149560" y="4065480"/>
            <a:ext cx="774720" cy="760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720880" y="4065480"/>
            <a:ext cx="773280" cy="760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506600" y="364500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792520" y="3645000"/>
            <a:ext cx="7729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500200" y="4013280"/>
            <a:ext cx="0" cy="725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82800" y="3989520"/>
            <a:ext cx="1236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954080" y="4481640"/>
            <a:ext cx="1236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954080" y="4971960"/>
            <a:ext cx="2365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954080" y="5392800"/>
            <a:ext cx="1236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954080" y="5883120"/>
            <a:ext cx="1236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954080" y="6373800"/>
            <a:ext cx="1236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500200" y="5275440"/>
            <a:ext cx="0" cy="1076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738520" y="4971960"/>
            <a:ext cx="309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308720" y="3873600"/>
            <a:ext cx="452520" cy="4442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783560" y="28051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854840" y="238428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40640" y="24541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854840" y="259380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8069400" y="273528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497720" y="287496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497720" y="252396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497720" y="266544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497720" y="280512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7497720" y="245412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783560" y="357660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854840" y="31561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640640" y="322596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854840" y="336564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8069400" y="350676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497720" y="364644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497720" y="329580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497720" y="343692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497720" y="357660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7497720" y="322596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783560" y="490860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854840" y="448776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40640" y="455760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854840" y="469908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8069400" y="483876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497720" y="497844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497720" y="462924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497720" y="476892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497720" y="490860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7497720" y="455760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7284600" y="3086280"/>
            <a:ext cx="21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142040" y="3016080"/>
            <a:ext cx="142920" cy="140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213680" y="2523960"/>
            <a:ext cx="1411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13640" y="24541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354800" y="259380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6560" y="252396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7284600" y="5049720"/>
            <a:ext cx="21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142040" y="497844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213680" y="4629240"/>
            <a:ext cx="1411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713640" y="455760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354800" y="469908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856560" y="462924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2285640" y="4699080"/>
            <a:ext cx="21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143080" y="462924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784600" y="5891040"/>
            <a:ext cx="142920" cy="140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214720" y="4137120"/>
            <a:ext cx="14256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641680" y="455760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714680" y="4067280"/>
            <a:ext cx="14256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714680" y="483876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855880" y="490860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927520" y="624204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927520" y="518940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855880" y="547056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641680" y="554040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855880" y="568008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070080" y="5821200"/>
            <a:ext cx="142920" cy="140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357280" y="6381720"/>
            <a:ext cx="1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998800" y="638172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498760" y="596124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498760" y="561024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498760" y="574992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498760" y="5891040"/>
            <a:ext cx="57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857240" y="4908600"/>
            <a:ext cx="64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2498400" y="462924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357280" y="4208400"/>
            <a:ext cx="1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857240" y="4137120"/>
            <a:ext cx="64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2498760" y="554040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875600" y="533520"/>
            <a:ext cx="726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ireless LANs plus Cell Hando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6" name=""/>
          <p:cNvGrpSpPr/>
          <p:nvPr/>
        </p:nvGrpSpPr>
        <p:grpSpPr>
          <a:xfrm>
            <a:off x="3205080" y="2392200"/>
            <a:ext cx="960120" cy="2430360"/>
            <a:chOff x="3205080" y="2392200"/>
            <a:chExt cx="960120" cy="2430360"/>
          </a:xfrm>
        </p:grpSpPr>
        <p:sp>
          <p:nvSpPr>
            <p:cNvPr id="687" name=""/>
            <p:cNvSpPr/>
            <p:nvPr/>
          </p:nvSpPr>
          <p:spPr>
            <a:xfrm flipH="1">
              <a:off x="3205080" y="2916360"/>
              <a:ext cx="395280" cy="19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793680" y="2916360"/>
              <a:ext cx="371520" cy="19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533400" y="3179520"/>
              <a:ext cx="394200" cy="41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3474000" y="3185280"/>
              <a:ext cx="367200" cy="41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594600" y="2392200"/>
              <a:ext cx="0" cy="51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463560" y="3616200"/>
              <a:ext cx="567720" cy="52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3347640" y="3625200"/>
              <a:ext cx="591840" cy="50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368520" y="4139280"/>
              <a:ext cx="796680" cy="68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3205080" y="4139280"/>
              <a:ext cx="829440" cy="68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3588480" y="2910600"/>
              <a:ext cx="20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204840" y="2492280"/>
            <a:ext cx="2712600" cy="2473200"/>
            <a:chOff x="204840" y="2492280"/>
            <a:chExt cx="2712600" cy="2473200"/>
          </a:xfrm>
        </p:grpSpPr>
        <p:sp>
          <p:nvSpPr>
            <p:cNvPr id="698" name=""/>
            <p:cNvSpPr/>
            <p:nvPr/>
          </p:nvSpPr>
          <p:spPr>
            <a:xfrm>
              <a:off x="204840" y="2777040"/>
              <a:ext cx="1446480" cy="147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5680" y="2492280"/>
              <a:ext cx="1645920" cy="1530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33800" y="3577320"/>
              <a:ext cx="1559520" cy="1388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357920" y="3301560"/>
              <a:ext cx="1559520" cy="1387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42520" y="2770920"/>
              <a:ext cx="1772640" cy="182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029320" y="3342240"/>
              <a:ext cx="599760" cy="571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80160" y="3552480"/>
              <a:ext cx="599760" cy="571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961920" y="2619360"/>
              <a:ext cx="599760" cy="570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304280" y="4161960"/>
              <a:ext cx="599760" cy="571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7" name=""/>
          <p:cNvSpPr/>
          <p:nvPr/>
        </p:nvSpPr>
        <p:spPr>
          <a:xfrm>
            <a:off x="309240" y="3105000"/>
            <a:ext cx="2520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ecommun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7640640" y="4565520"/>
            <a:ext cx="1495080" cy="2283840"/>
            <a:chOff x="7640640" y="4565520"/>
            <a:chExt cx="1495080" cy="2283840"/>
          </a:xfrm>
        </p:grpSpPr>
        <p:sp>
          <p:nvSpPr>
            <p:cNvPr id="709" name=""/>
            <p:cNvSpPr/>
            <p:nvPr/>
          </p:nvSpPr>
          <p:spPr>
            <a:xfrm>
              <a:off x="7640640" y="4568400"/>
              <a:ext cx="9540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7904880" y="5174640"/>
              <a:ext cx="54612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917480" y="5402520"/>
              <a:ext cx="749520" cy="143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8678880" y="6609960"/>
              <a:ext cx="44496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 flipV="1">
              <a:off x="8439480" y="5162400"/>
              <a:ext cx="696240" cy="145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8210520" y="51688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7753320" y="5174640"/>
              <a:ext cx="46872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765560" y="5402520"/>
              <a:ext cx="749520" cy="143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527680" y="6844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765560" y="53967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993080" y="5402520"/>
              <a:ext cx="14112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8146440" y="5468040"/>
              <a:ext cx="368640" cy="16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 flipV="1">
              <a:off x="8361720" y="5238360"/>
              <a:ext cx="165240" cy="24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7980840" y="5250600"/>
              <a:ext cx="392760" cy="14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603280" y="6546240"/>
              <a:ext cx="13968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8754840" y="6610320"/>
              <a:ext cx="29304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 flipV="1">
              <a:off x="8896320" y="6381360"/>
              <a:ext cx="1634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8591400" y="6392880"/>
              <a:ext cx="31680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298000" y="5935680"/>
              <a:ext cx="293040" cy="52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8603280" y="6304680"/>
              <a:ext cx="29304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 flipV="1">
              <a:off x="8591400" y="5771880"/>
              <a:ext cx="316800" cy="54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8286120" y="5783760"/>
              <a:ext cx="316800" cy="14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373960" y="5935680"/>
              <a:ext cx="65160" cy="65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527680" y="5859360"/>
              <a:ext cx="6372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451720" y="6089040"/>
              <a:ext cx="6372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603280" y="6012720"/>
              <a:ext cx="6408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527680" y="6240600"/>
              <a:ext cx="6372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678880" y="6165000"/>
              <a:ext cx="6408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603280" y="6392880"/>
              <a:ext cx="64080" cy="65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754840" y="6316920"/>
              <a:ext cx="6516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8069040" y="5468040"/>
              <a:ext cx="44640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8210160" y="5707800"/>
              <a:ext cx="46836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527680" y="5479920"/>
              <a:ext cx="13968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765560" y="4641480"/>
              <a:ext cx="36864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688160" y="4565520"/>
              <a:ext cx="6516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6870240" y="5786280"/>
            <a:ext cx="1003320" cy="763560"/>
            <a:chOff x="6870240" y="5786280"/>
            <a:chExt cx="1003320" cy="763560"/>
          </a:xfrm>
        </p:grpSpPr>
        <p:sp>
          <p:nvSpPr>
            <p:cNvPr id="745" name=""/>
            <p:cNvSpPr/>
            <p:nvPr/>
          </p:nvSpPr>
          <p:spPr>
            <a:xfrm>
              <a:off x="7105680" y="6015600"/>
              <a:ext cx="0" cy="52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7111440" y="6385680"/>
              <a:ext cx="750240" cy="16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7868160" y="5928120"/>
              <a:ext cx="0" cy="46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7099560" y="5939640"/>
              <a:ext cx="774000" cy="6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947640" y="6544080"/>
              <a:ext cx="16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6953760" y="6004080"/>
              <a:ext cx="0" cy="54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959880" y="60102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181640" y="6091920"/>
              <a:ext cx="0" cy="14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7187400" y="6156000"/>
              <a:ext cx="59832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7792200" y="6003720"/>
              <a:ext cx="0" cy="16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7187400" y="6004080"/>
              <a:ext cx="598320" cy="8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644600" y="6244200"/>
              <a:ext cx="65160" cy="6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568640" y="6244200"/>
              <a:ext cx="64080" cy="6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722000" y="6244200"/>
              <a:ext cx="64080" cy="6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644600" y="6320160"/>
              <a:ext cx="65160" cy="65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6959880" y="5927760"/>
              <a:ext cx="67248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644600" y="5933880"/>
              <a:ext cx="21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6870240" y="6473880"/>
              <a:ext cx="165240" cy="6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6876360" y="5850000"/>
              <a:ext cx="0" cy="69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870600" y="5786280"/>
              <a:ext cx="6408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7232760" y="2803320"/>
            <a:ext cx="1898640" cy="1231560"/>
            <a:chOff x="7232760" y="2803320"/>
            <a:chExt cx="1898640" cy="1231560"/>
          </a:xfrm>
        </p:grpSpPr>
        <p:sp>
          <p:nvSpPr>
            <p:cNvPr id="766" name=""/>
            <p:cNvSpPr/>
            <p:nvPr/>
          </p:nvSpPr>
          <p:spPr>
            <a:xfrm>
              <a:off x="7851600" y="3502080"/>
              <a:ext cx="6408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613640" y="3881880"/>
              <a:ext cx="673920" cy="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7613640" y="3412440"/>
              <a:ext cx="826920" cy="46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452800" y="3424320"/>
              <a:ext cx="672480" cy="6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13640" y="3959280"/>
              <a:ext cx="673920" cy="6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8299440" y="3490560"/>
              <a:ext cx="825840" cy="46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8299440" y="3565800"/>
              <a:ext cx="825840" cy="46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232760" y="3272760"/>
              <a:ext cx="292680" cy="59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7308360" y="2803320"/>
              <a:ext cx="826920" cy="46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7232760" y="2803320"/>
              <a:ext cx="825480" cy="46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308360" y="3272760"/>
              <a:ext cx="292680" cy="59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7383960" y="2879280"/>
              <a:ext cx="751320" cy="39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7613640" y="3336480"/>
              <a:ext cx="749880" cy="39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383960" y="3272760"/>
              <a:ext cx="217080" cy="44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147880" y="2891160"/>
              <a:ext cx="215640" cy="44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147880" y="2815560"/>
              <a:ext cx="292680" cy="59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537680" y="387612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607520" y="3881880"/>
              <a:ext cx="0" cy="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855920" y="3586680"/>
              <a:ext cx="0" cy="36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232760" y="326664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9131400" y="3502080"/>
              <a:ext cx="0" cy="6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7" name=""/>
          <p:cNvSpPr/>
          <p:nvPr/>
        </p:nvSpPr>
        <p:spPr>
          <a:xfrm>
            <a:off x="6356160" y="4871880"/>
            <a:ext cx="14515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gital  Voice, Paging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d Messag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8062920" y="1109520"/>
            <a:ext cx="966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 Termin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428160" y="2693880"/>
            <a:ext cx="1102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book Digi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993640" y="6111720"/>
            <a:ext cx="748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wo 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ging &amp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3606840" y="1422000"/>
            <a:ext cx="3758760" cy="960480"/>
            <a:chOff x="3606840" y="1422000"/>
            <a:chExt cx="3758760" cy="960480"/>
          </a:xfrm>
        </p:grpSpPr>
        <p:sp>
          <p:nvSpPr>
            <p:cNvPr id="792" name=""/>
            <p:cNvSpPr/>
            <p:nvPr/>
          </p:nvSpPr>
          <p:spPr>
            <a:xfrm flipV="1">
              <a:off x="3606840" y="1751040"/>
              <a:ext cx="1701720" cy="63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339520" y="1760040"/>
              <a:ext cx="83160" cy="30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5434920" y="1422000"/>
              <a:ext cx="1930680" cy="65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3567240" y="2422440"/>
            <a:ext cx="3341160" cy="3417480"/>
            <a:chOff x="3567240" y="2422440"/>
            <a:chExt cx="3341160" cy="3417480"/>
          </a:xfrm>
        </p:grpSpPr>
        <p:sp>
          <p:nvSpPr>
            <p:cNvPr id="796" name=""/>
            <p:cNvSpPr/>
            <p:nvPr/>
          </p:nvSpPr>
          <p:spPr>
            <a:xfrm>
              <a:off x="3567240" y="2422440"/>
              <a:ext cx="1809000" cy="19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5087160" y="4375800"/>
              <a:ext cx="30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099400" y="4381920"/>
              <a:ext cx="1809000" cy="145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9" name=""/>
          <p:cNvSpPr/>
          <p:nvPr/>
        </p:nvSpPr>
        <p:spPr>
          <a:xfrm>
            <a:off x="2720880" y="4664160"/>
            <a:ext cx="301680" cy="3315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463840" y="4633920"/>
            <a:ext cx="24588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044880" y="4829040"/>
            <a:ext cx="14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606840" y="2406600"/>
            <a:ext cx="2473200" cy="156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5594040" y="3971880"/>
            <a:ext cx="49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605560" y="3978360"/>
            <a:ext cx="2104920" cy="61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606840" y="2406600"/>
            <a:ext cx="2446200" cy="41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7302600" y="1355400"/>
            <a:ext cx="1550520" cy="927000"/>
            <a:chOff x="7302600" y="1355400"/>
            <a:chExt cx="1550520" cy="927000"/>
          </a:xfrm>
        </p:grpSpPr>
        <p:sp>
          <p:nvSpPr>
            <p:cNvPr id="807" name=""/>
            <p:cNvSpPr/>
            <p:nvPr/>
          </p:nvSpPr>
          <p:spPr>
            <a:xfrm>
              <a:off x="8758080" y="1637640"/>
              <a:ext cx="9504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448040" y="1521000"/>
              <a:ext cx="0" cy="67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7454160" y="1355400"/>
              <a:ext cx="1207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525440" y="1596960"/>
              <a:ext cx="0" cy="67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7531560" y="1431720"/>
              <a:ext cx="120564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7531560" y="2118960"/>
              <a:ext cx="120564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454160" y="1521000"/>
              <a:ext cx="65160" cy="6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454160" y="2206800"/>
              <a:ext cx="65160" cy="6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8743320" y="1443600"/>
              <a:ext cx="0" cy="67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673480" y="1367640"/>
              <a:ext cx="63720" cy="6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601040" y="1672920"/>
              <a:ext cx="0" cy="36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7607160" y="1509120"/>
              <a:ext cx="105408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667360" y="152100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7595640" y="1901160"/>
              <a:ext cx="1077840" cy="14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7683120" y="1661040"/>
              <a:ext cx="52200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7683120" y="1737360"/>
              <a:ext cx="749160" cy="8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759080" y="1895040"/>
              <a:ext cx="21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7759080" y="1888920"/>
              <a:ext cx="52200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72080" y="1443600"/>
              <a:ext cx="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78200" y="1895040"/>
              <a:ext cx="14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02600" y="1367640"/>
              <a:ext cx="6372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8" name=""/>
          <p:cNvSpPr/>
          <p:nvPr/>
        </p:nvSpPr>
        <p:spPr>
          <a:xfrm>
            <a:off x="1257480" y="133200"/>
            <a:ext cx="7743600" cy="8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429000" y="533520"/>
            <a:ext cx="53737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Regional Low Spe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5708520" y="2833560"/>
            <a:ext cx="355680" cy="16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721480" y="3006720"/>
            <a:ext cx="2158920" cy="50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95120" y="6257880"/>
            <a:ext cx="1209960" cy="0"/>
          </a:xfrm>
          <a:prstGeom prst="line">
            <a:avLst/>
          </a:prstGeom>
          <a:ln w="507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546200" y="6022800"/>
            <a:ext cx="417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ed Encryption Envel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498720" y="1789200"/>
            <a:ext cx="6483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 C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CMC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631560" y="3670200"/>
            <a:ext cx="6483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 C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CMC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148960" y="4576680"/>
            <a:ext cx="6483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 C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CMC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8624880" y="2333520"/>
            <a:ext cx="428400" cy="771120"/>
            <a:chOff x="8624880" y="2333520"/>
            <a:chExt cx="428400" cy="771120"/>
          </a:xfrm>
        </p:grpSpPr>
        <p:sp>
          <p:nvSpPr>
            <p:cNvPr id="838" name=""/>
            <p:cNvSpPr/>
            <p:nvPr/>
          </p:nvSpPr>
          <p:spPr>
            <a:xfrm>
              <a:off x="9009000" y="2435760"/>
              <a:ext cx="0" cy="7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9" name=""/>
            <p:cNvGrpSpPr/>
            <p:nvPr/>
          </p:nvGrpSpPr>
          <p:grpSpPr>
            <a:xfrm>
              <a:off x="8624880" y="2333520"/>
              <a:ext cx="428400" cy="771120"/>
              <a:chOff x="8624880" y="2333520"/>
              <a:chExt cx="428400" cy="771120"/>
            </a:xfrm>
          </p:grpSpPr>
          <p:sp>
            <p:nvSpPr>
              <p:cNvPr id="840" name=""/>
              <p:cNvSpPr/>
              <p:nvPr/>
            </p:nvSpPr>
            <p:spPr>
              <a:xfrm flipH="1">
                <a:off x="8688240" y="2539440"/>
                <a:ext cx="16164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692560" y="2616480"/>
                <a:ext cx="22176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V="1">
                <a:off x="8918280" y="3024000"/>
                <a:ext cx="131760" cy="8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 flipV="1">
                <a:off x="8846640" y="2535120"/>
                <a:ext cx="206640" cy="49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8778960" y="2537280"/>
                <a:ext cx="71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8643600" y="2539440"/>
                <a:ext cx="13896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647200" y="2616480"/>
                <a:ext cx="22212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8872920" y="3102840"/>
                <a:ext cx="41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647200" y="2614320"/>
                <a:ext cx="41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8714880" y="2616480"/>
                <a:ext cx="4104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V="1">
                <a:off x="8760240" y="2637720"/>
                <a:ext cx="109080" cy="5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 flipV="1">
                <a:off x="8823960" y="2560680"/>
                <a:ext cx="48960" cy="8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>
                <a:off x="8711280" y="2565000"/>
                <a:ext cx="116640" cy="4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895600" y="3002760"/>
                <a:ext cx="4104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V="1">
                <a:off x="8940960" y="3023640"/>
                <a:ext cx="86400" cy="5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 flipV="1">
                <a:off x="8982360" y="2946960"/>
                <a:ext cx="48960" cy="8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8891640" y="2951280"/>
                <a:ext cx="93960" cy="4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8805240" y="2796840"/>
                <a:ext cx="86400" cy="17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V="1">
                <a:off x="8895600" y="2920680"/>
                <a:ext cx="86400" cy="5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 flipV="1">
                <a:off x="8891640" y="2741040"/>
                <a:ext cx="93960" cy="18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8801280" y="2745360"/>
                <a:ext cx="93960" cy="4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8827920" y="279684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8872920" y="277092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8850600" y="284832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8895600" y="282240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8872920" y="289980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8918280" y="287388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8895600" y="295128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8940960" y="292536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V="1">
                <a:off x="8737560" y="2638080"/>
                <a:ext cx="131760" cy="8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>
                <a:off x="8778960" y="2719440"/>
                <a:ext cx="13896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8872920" y="2642400"/>
                <a:ext cx="4104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8624880" y="233352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3" name=""/>
            <p:cNvSpPr/>
            <p:nvPr/>
          </p:nvSpPr>
          <p:spPr>
            <a:xfrm>
              <a:off x="8647200" y="2359080"/>
              <a:ext cx="90000" cy="20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8526600" y="4965480"/>
            <a:ext cx="500040" cy="350280"/>
            <a:chOff x="8526600" y="4965480"/>
            <a:chExt cx="500040" cy="350280"/>
          </a:xfrm>
        </p:grpSpPr>
        <p:sp>
          <p:nvSpPr>
            <p:cNvPr id="875" name=""/>
            <p:cNvSpPr/>
            <p:nvPr/>
          </p:nvSpPr>
          <p:spPr>
            <a:xfrm>
              <a:off x="8577360" y="5028120"/>
              <a:ext cx="0" cy="25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>
              <a:off x="8579520" y="4965480"/>
              <a:ext cx="418320" cy="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602560" y="5056560"/>
              <a:ext cx="0" cy="25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8604720" y="4994280"/>
              <a:ext cx="41940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>
              <a:off x="8604720" y="5253480"/>
              <a:ext cx="419400" cy="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579520" y="5028120"/>
              <a:ext cx="2088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579520" y="5287680"/>
              <a:ext cx="2088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9026640" y="4999320"/>
              <a:ext cx="0" cy="25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9002520" y="4970520"/>
              <a:ext cx="2196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629200" y="5085720"/>
              <a:ext cx="0" cy="13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8631360" y="5023080"/>
              <a:ext cx="366480" cy="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9000360" y="5028120"/>
              <a:ext cx="0" cy="13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8626320" y="5172480"/>
              <a:ext cx="375480" cy="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8658360" y="5080680"/>
              <a:ext cx="18072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V="1">
              <a:off x="8658360" y="5109480"/>
              <a:ext cx="26028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684640" y="5169960"/>
              <a:ext cx="7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8684640" y="5167080"/>
              <a:ext cx="18072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8550720" y="4999320"/>
              <a:ext cx="0" cy="16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8552880" y="5169960"/>
              <a:ext cx="4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8526600" y="4970520"/>
              <a:ext cx="21960" cy="23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6066000" y="1262160"/>
            <a:ext cx="785520" cy="377640"/>
            <a:chOff x="6066000" y="1262160"/>
            <a:chExt cx="785520" cy="377640"/>
          </a:xfrm>
        </p:grpSpPr>
        <p:sp>
          <p:nvSpPr>
            <p:cNvPr id="896" name=""/>
            <p:cNvSpPr/>
            <p:nvPr/>
          </p:nvSpPr>
          <p:spPr>
            <a:xfrm>
              <a:off x="6724080" y="1309680"/>
              <a:ext cx="25920" cy="19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224040" y="1593000"/>
              <a:ext cx="27756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6224040" y="1449000"/>
              <a:ext cx="34056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570360" y="1452960"/>
              <a:ext cx="2782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224040" y="1616400"/>
              <a:ext cx="27756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6507360" y="147240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6507360" y="149580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066000" y="1406160"/>
              <a:ext cx="121320" cy="1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6097320" y="126216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6066000" y="126216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097320" y="1406160"/>
              <a:ext cx="121320" cy="1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6129000" y="1285920"/>
              <a:ext cx="309960" cy="12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6224040" y="1425240"/>
              <a:ext cx="30924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129000" y="1406160"/>
              <a:ext cx="90000" cy="13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444360" y="1289880"/>
              <a:ext cx="89280" cy="13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444360" y="1266120"/>
              <a:ext cx="120600" cy="1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192720" y="1591200"/>
              <a:ext cx="2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221520" y="159300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725520" y="133596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066000" y="1404360"/>
              <a:ext cx="2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412680" y="1263960"/>
              <a:ext cx="2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851520" y="147636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7284960" y="3997440"/>
            <a:ext cx="497880" cy="350280"/>
            <a:chOff x="7284960" y="3997440"/>
            <a:chExt cx="497880" cy="350280"/>
          </a:xfrm>
        </p:grpSpPr>
        <p:sp>
          <p:nvSpPr>
            <p:cNvPr id="919" name=""/>
            <p:cNvSpPr/>
            <p:nvPr/>
          </p:nvSpPr>
          <p:spPr>
            <a:xfrm>
              <a:off x="7401600" y="410256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7404840" y="4272120"/>
              <a:ext cx="37260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7780320" y="4061160"/>
              <a:ext cx="0" cy="21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7398000" y="4067280"/>
              <a:ext cx="384840" cy="2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7322400" y="4345200"/>
              <a:ext cx="8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7325640" y="4096440"/>
              <a:ext cx="0" cy="25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328880" y="4099680"/>
              <a:ext cx="6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440480" y="4137480"/>
              <a:ext cx="0" cy="6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7443360" y="4166640"/>
              <a:ext cx="295920" cy="4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7742520" y="409608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>
              <a:off x="7443360" y="4096080"/>
              <a:ext cx="295920" cy="4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669800" y="4207680"/>
              <a:ext cx="3132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632000" y="4207680"/>
              <a:ext cx="3132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707960" y="4207680"/>
              <a:ext cx="3132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669800" y="4242960"/>
              <a:ext cx="3132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V="1">
              <a:off x="7328880" y="4061160"/>
              <a:ext cx="334440" cy="4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669800" y="4064400"/>
              <a:ext cx="10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>
              <a:off x="7284960" y="4313160"/>
              <a:ext cx="82080" cy="2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>
              <a:off x="7287840" y="4026240"/>
              <a:ext cx="0" cy="32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291080" y="3997440"/>
              <a:ext cx="31320" cy="29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5570640" y="5470560"/>
            <a:ext cx="785880" cy="553680"/>
            <a:chOff x="5570640" y="5470560"/>
            <a:chExt cx="785880" cy="553680"/>
          </a:xfrm>
        </p:grpSpPr>
        <p:graphicFrame>
          <p:nvGraphicFramePr>
            <p:cNvPr id="940" name=""/>
            <p:cNvGraphicFramePr/>
            <p:nvPr/>
          </p:nvGraphicFramePr>
          <p:xfrm>
            <a:off x="5570640" y="5576760"/>
            <a:ext cx="785880" cy="447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4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70640" y="5576760"/>
                      <a:ext cx="78588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2" name=""/>
            <p:cNvSpPr/>
            <p:nvPr/>
          </p:nvSpPr>
          <p:spPr>
            <a:xfrm>
              <a:off x="6186600" y="5499360"/>
              <a:ext cx="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171840" y="5470560"/>
              <a:ext cx="26640" cy="20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4" name=""/>
          <p:cNvSpPr/>
          <p:nvPr/>
        </p:nvSpPr>
        <p:spPr>
          <a:xfrm>
            <a:off x="3016080" y="1052640"/>
            <a:ext cx="6299280" cy="5715000"/>
          </a:xfrm>
          <a:custGeom>
            <a:avLst/>
            <a:gdLst/>
            <a:ahLst/>
            <a:rect l="l" t="t" r="r" b="b"/>
            <a:pathLst>
              <a:path w="4234" h="3912">
                <a:moveTo>
                  <a:pt x="397" y="912"/>
                </a:moveTo>
                <a:cubicBezTo>
                  <a:pt x="416" y="817"/>
                  <a:pt x="459" y="739"/>
                  <a:pt x="541" y="684"/>
                </a:cubicBezTo>
                <a:cubicBezTo>
                  <a:pt x="577" y="630"/>
                  <a:pt x="620" y="588"/>
                  <a:pt x="673" y="552"/>
                </a:cubicBezTo>
                <a:cubicBezTo>
                  <a:pt x="715" y="490"/>
                  <a:pt x="782" y="453"/>
                  <a:pt x="841" y="408"/>
                </a:cubicBezTo>
                <a:cubicBezTo>
                  <a:pt x="857" y="396"/>
                  <a:pt x="871" y="381"/>
                  <a:pt x="889" y="372"/>
                </a:cubicBezTo>
                <a:cubicBezTo>
                  <a:pt x="945" y="344"/>
                  <a:pt x="974" y="320"/>
                  <a:pt x="1033" y="300"/>
                </a:cubicBezTo>
                <a:cubicBezTo>
                  <a:pt x="1060" y="291"/>
                  <a:pt x="1129" y="280"/>
                  <a:pt x="1153" y="264"/>
                </a:cubicBezTo>
                <a:cubicBezTo>
                  <a:pt x="1194" y="237"/>
                  <a:pt x="1304" y="215"/>
                  <a:pt x="1357" y="204"/>
                </a:cubicBezTo>
                <a:cubicBezTo>
                  <a:pt x="1386" y="190"/>
                  <a:pt x="1412" y="169"/>
                  <a:pt x="1441" y="156"/>
                </a:cubicBezTo>
                <a:cubicBezTo>
                  <a:pt x="1498" y="131"/>
                  <a:pt x="1551" y="124"/>
                  <a:pt x="1609" y="108"/>
                </a:cubicBezTo>
                <a:cubicBezTo>
                  <a:pt x="1750" y="69"/>
                  <a:pt x="1735" y="62"/>
                  <a:pt x="1897" y="48"/>
                </a:cubicBezTo>
                <a:cubicBezTo>
                  <a:pt x="1913" y="44"/>
                  <a:pt x="1929" y="41"/>
                  <a:pt x="1945" y="36"/>
                </a:cubicBezTo>
                <a:cubicBezTo>
                  <a:pt x="1969" y="29"/>
                  <a:pt x="2017" y="12"/>
                  <a:pt x="2017" y="12"/>
                </a:cubicBezTo>
                <a:cubicBezTo>
                  <a:pt x="2261" y="26"/>
                  <a:pt x="2306" y="35"/>
                  <a:pt x="2593" y="12"/>
                </a:cubicBezTo>
                <a:cubicBezTo>
                  <a:pt x="2593" y="12"/>
                  <a:pt x="2743" y="18"/>
                  <a:pt x="2761" y="12"/>
                </a:cubicBezTo>
                <a:cubicBezTo>
                  <a:pt x="2773" y="8"/>
                  <a:pt x="2893" y="0"/>
                  <a:pt x="2893" y="0"/>
                </a:cubicBezTo>
                <a:cubicBezTo>
                  <a:pt x="3257" y="15"/>
                  <a:pt x="3489" y="20"/>
                  <a:pt x="3853" y="36"/>
                </a:cubicBezTo>
                <a:cubicBezTo>
                  <a:pt x="3900" y="38"/>
                  <a:pt x="3931" y="90"/>
                  <a:pt x="3961" y="120"/>
                </a:cubicBezTo>
                <a:cubicBezTo>
                  <a:pt x="3973" y="156"/>
                  <a:pt x="3985" y="192"/>
                  <a:pt x="3997" y="228"/>
                </a:cubicBezTo>
                <a:cubicBezTo>
                  <a:pt x="4001" y="240"/>
                  <a:pt x="4005" y="252"/>
                  <a:pt x="4009" y="264"/>
                </a:cubicBezTo>
                <a:cubicBezTo>
                  <a:pt x="4013" y="276"/>
                  <a:pt x="4021" y="300"/>
                  <a:pt x="4021" y="300"/>
                </a:cubicBezTo>
                <a:cubicBezTo>
                  <a:pt x="4077" y="911"/>
                  <a:pt x="4033" y="381"/>
                  <a:pt x="4021" y="1872"/>
                </a:cubicBezTo>
                <a:cubicBezTo>
                  <a:pt x="4018" y="2293"/>
                  <a:pt x="4234" y="3239"/>
                  <a:pt x="3889" y="3756"/>
                </a:cubicBezTo>
                <a:cubicBezTo>
                  <a:pt x="3889" y="3756"/>
                  <a:pt x="3799" y="3786"/>
                  <a:pt x="3781" y="3792"/>
                </a:cubicBezTo>
                <a:cubicBezTo>
                  <a:pt x="3689" y="3823"/>
                  <a:pt x="3602" y="3864"/>
                  <a:pt x="3505" y="3888"/>
                </a:cubicBezTo>
                <a:cubicBezTo>
                  <a:pt x="3388" y="3878"/>
                  <a:pt x="3284" y="3871"/>
                  <a:pt x="3169" y="3900"/>
                </a:cubicBezTo>
                <a:cubicBezTo>
                  <a:pt x="2891" y="3894"/>
                  <a:pt x="2619" y="3846"/>
                  <a:pt x="2353" y="3912"/>
                </a:cubicBezTo>
                <a:cubicBezTo>
                  <a:pt x="2289" y="3908"/>
                  <a:pt x="2224" y="3910"/>
                  <a:pt x="2161" y="3900"/>
                </a:cubicBezTo>
                <a:cubicBezTo>
                  <a:pt x="2126" y="3894"/>
                  <a:pt x="2120" y="3862"/>
                  <a:pt x="2101" y="3840"/>
                </a:cubicBezTo>
                <a:cubicBezTo>
                  <a:pt x="2041" y="3773"/>
                  <a:pt x="2048" y="3780"/>
                  <a:pt x="1993" y="3744"/>
                </a:cubicBezTo>
                <a:cubicBezTo>
                  <a:pt x="1971" y="3679"/>
                  <a:pt x="1940" y="3597"/>
                  <a:pt x="1861" y="3588"/>
                </a:cubicBezTo>
                <a:cubicBezTo>
                  <a:pt x="1805" y="3581"/>
                  <a:pt x="1809" y="3472"/>
                  <a:pt x="1753" y="3468"/>
                </a:cubicBezTo>
                <a:cubicBezTo>
                  <a:pt x="1663" y="3408"/>
                  <a:pt x="1462" y="3438"/>
                  <a:pt x="1357" y="3420"/>
                </a:cubicBezTo>
                <a:cubicBezTo>
                  <a:pt x="1213" y="3396"/>
                  <a:pt x="1118" y="3384"/>
                  <a:pt x="973" y="3360"/>
                </a:cubicBezTo>
                <a:cubicBezTo>
                  <a:pt x="942" y="3339"/>
                  <a:pt x="884" y="3303"/>
                  <a:pt x="853" y="3276"/>
                </a:cubicBezTo>
                <a:cubicBezTo>
                  <a:pt x="786" y="3219"/>
                  <a:pt x="762" y="3186"/>
                  <a:pt x="673" y="3168"/>
                </a:cubicBezTo>
                <a:cubicBezTo>
                  <a:pt x="619" y="3132"/>
                  <a:pt x="591" y="3109"/>
                  <a:pt x="541" y="3084"/>
                </a:cubicBezTo>
                <a:cubicBezTo>
                  <a:pt x="503" y="3065"/>
                  <a:pt x="459" y="3031"/>
                  <a:pt x="421" y="3012"/>
                </a:cubicBezTo>
                <a:cubicBezTo>
                  <a:pt x="385" y="2994"/>
                  <a:pt x="359" y="2951"/>
                  <a:pt x="325" y="2928"/>
                </a:cubicBezTo>
                <a:cubicBezTo>
                  <a:pt x="321" y="2908"/>
                  <a:pt x="312" y="2909"/>
                  <a:pt x="301" y="2892"/>
                </a:cubicBezTo>
                <a:cubicBezTo>
                  <a:pt x="290" y="2875"/>
                  <a:pt x="268" y="2869"/>
                  <a:pt x="253" y="2856"/>
                </a:cubicBezTo>
                <a:cubicBezTo>
                  <a:pt x="192" y="2803"/>
                  <a:pt x="239" y="2840"/>
                  <a:pt x="193" y="2784"/>
                </a:cubicBezTo>
                <a:cubicBezTo>
                  <a:pt x="182" y="2771"/>
                  <a:pt x="170" y="2758"/>
                  <a:pt x="157" y="2748"/>
                </a:cubicBezTo>
                <a:cubicBezTo>
                  <a:pt x="134" y="2730"/>
                  <a:pt x="85" y="2616"/>
                  <a:pt x="85" y="2616"/>
                </a:cubicBezTo>
                <a:cubicBezTo>
                  <a:pt x="59" y="2537"/>
                  <a:pt x="47" y="2543"/>
                  <a:pt x="37" y="2460"/>
                </a:cubicBezTo>
                <a:cubicBezTo>
                  <a:pt x="43" y="2173"/>
                  <a:pt x="0" y="2020"/>
                  <a:pt x="73" y="1800"/>
                </a:cubicBezTo>
                <a:cubicBezTo>
                  <a:pt x="84" y="1689"/>
                  <a:pt x="101" y="1574"/>
                  <a:pt x="121" y="1464"/>
                </a:cubicBezTo>
                <a:cubicBezTo>
                  <a:pt x="129" y="1421"/>
                  <a:pt x="136" y="1430"/>
                  <a:pt x="157" y="1392"/>
                </a:cubicBezTo>
                <a:cubicBezTo>
                  <a:pt x="174" y="1361"/>
                  <a:pt x="193" y="1248"/>
                  <a:pt x="193" y="1248"/>
                </a:cubicBezTo>
                <a:cubicBezTo>
                  <a:pt x="197" y="1188"/>
                  <a:pt x="234" y="1164"/>
                  <a:pt x="241" y="1104"/>
                </a:cubicBezTo>
                <a:cubicBezTo>
                  <a:pt x="248" y="1044"/>
                  <a:pt x="312" y="945"/>
                  <a:pt x="361" y="912"/>
                </a:cubicBezTo>
                <a:cubicBezTo>
                  <a:pt x="378" y="886"/>
                  <a:pt x="404" y="866"/>
                  <a:pt x="421" y="840"/>
                </a:cubicBezTo>
                <a:cubicBezTo>
                  <a:pt x="448" y="800"/>
                  <a:pt x="416" y="804"/>
                  <a:pt x="445" y="804"/>
                </a:cubicBezTo>
              </a:path>
            </a:pathLst>
          </a:custGeom>
          <a:noFill/>
          <a:ln w="63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784920" y="1332000"/>
            <a:ext cx="569880" cy="71280"/>
          </a:xfrm>
          <a:custGeom>
            <a:avLst/>
            <a:gdLst/>
            <a:ahLst/>
            <a:rect l="l" t="t" r="r" b="b"/>
            <a:pathLst>
              <a:path w="576" h="48">
                <a:moveTo>
                  <a:pt x="0" y="0"/>
                </a:moveTo>
                <a:lnTo>
                  <a:pt x="336" y="0"/>
                </a:lnTo>
                <a:lnTo>
                  <a:pt x="240" y="48"/>
                </a:lnTo>
                <a:lnTo>
                  <a:pt x="576" y="4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926480" y="2314440"/>
            <a:ext cx="714240" cy="1192320"/>
          </a:xfrm>
          <a:custGeom>
            <a:avLst/>
            <a:gdLst/>
            <a:ahLst/>
            <a:rect l="l" t="t" r="r" b="b"/>
            <a:pathLst>
              <a:path w="480" h="816">
                <a:moveTo>
                  <a:pt x="0" y="816"/>
                </a:moveTo>
                <a:lnTo>
                  <a:pt x="144" y="528"/>
                </a:lnTo>
                <a:lnTo>
                  <a:pt x="144" y="624"/>
                </a:lnTo>
                <a:lnTo>
                  <a:pt x="48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284960" y="3506760"/>
            <a:ext cx="569880" cy="490680"/>
          </a:xfrm>
          <a:custGeom>
            <a:avLst/>
            <a:gdLst/>
            <a:ahLst/>
            <a:rect l="l" t="t" r="r" b="b"/>
            <a:pathLst>
              <a:path w="384" h="336">
                <a:moveTo>
                  <a:pt x="0" y="336"/>
                </a:moveTo>
                <a:lnTo>
                  <a:pt x="240" y="48"/>
                </a:lnTo>
                <a:lnTo>
                  <a:pt x="192" y="240"/>
                </a:lnTo>
                <a:lnTo>
                  <a:pt x="3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711920" y="4557600"/>
            <a:ext cx="857520" cy="420840"/>
          </a:xfrm>
          <a:custGeom>
            <a:avLst/>
            <a:gdLst/>
            <a:ahLst/>
            <a:rect l="l" t="t" r="r" b="b"/>
            <a:pathLst>
              <a:path w="576" h="288">
                <a:moveTo>
                  <a:pt x="0" y="0"/>
                </a:moveTo>
                <a:lnTo>
                  <a:pt x="336" y="144"/>
                </a:lnTo>
                <a:lnTo>
                  <a:pt x="240" y="192"/>
                </a:lnTo>
                <a:lnTo>
                  <a:pt x="576" y="28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141960" y="5470560"/>
            <a:ext cx="785880" cy="350640"/>
          </a:xfrm>
          <a:custGeom>
            <a:avLst/>
            <a:gdLst/>
            <a:ahLst/>
            <a:rect l="l" t="t" r="r" b="b"/>
            <a:pathLst>
              <a:path w="528" h="240">
                <a:moveTo>
                  <a:pt x="0" y="0"/>
                </a:moveTo>
                <a:lnTo>
                  <a:pt x="288" y="96"/>
                </a:lnTo>
                <a:lnTo>
                  <a:pt x="192" y="144"/>
                </a:lnTo>
                <a:lnTo>
                  <a:pt x="528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726960" y="1192320"/>
            <a:ext cx="8542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726960" y="3506760"/>
            <a:ext cx="8542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511760" y="2454120"/>
            <a:ext cx="8542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8011800" y="4417920"/>
            <a:ext cx="8542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584040" y="5470560"/>
            <a:ext cx="8542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4317840" y="112392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601000" y="609480"/>
            <a:ext cx="6156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Wireless LAN + WPAN Servi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428920" y="1822320"/>
            <a:ext cx="0" cy="4405320"/>
          </a:xfrm>
          <a:prstGeom prst="line">
            <a:avLst/>
          </a:prstGeom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94400" y="1262160"/>
            <a:ext cx="299880" cy="47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4578480" y="1120680"/>
            <a:ext cx="1355400" cy="2101680"/>
            <a:chOff x="4578480" y="1120680"/>
            <a:chExt cx="1355400" cy="2101680"/>
          </a:xfrm>
        </p:grpSpPr>
        <p:sp>
          <p:nvSpPr>
            <p:cNvPr id="960" name=""/>
            <p:cNvSpPr/>
            <p:nvPr/>
          </p:nvSpPr>
          <p:spPr>
            <a:xfrm flipH="1">
              <a:off x="4780440" y="1681560"/>
              <a:ext cx="51120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792320" y="1891800"/>
              <a:ext cx="701640" cy="13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5505840" y="3002040"/>
              <a:ext cx="416160" cy="22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 flipV="1">
              <a:off x="5279760" y="1669680"/>
              <a:ext cx="65412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5065560" y="1675800"/>
              <a:ext cx="22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4637520" y="1681560"/>
              <a:ext cx="43992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649400" y="1891800"/>
              <a:ext cx="701640" cy="13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363280" y="3216600"/>
              <a:ext cx="13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649400" y="1886040"/>
              <a:ext cx="13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863600" y="1891800"/>
              <a:ext cx="13068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V="1">
              <a:off x="5006520" y="1950120"/>
              <a:ext cx="34488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 flipV="1">
              <a:off x="5208120" y="1739880"/>
              <a:ext cx="154440" cy="22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>
              <a:off x="4851720" y="1751400"/>
              <a:ext cx="36864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434560" y="2943720"/>
              <a:ext cx="13068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V="1">
              <a:off x="5577480" y="3002040"/>
              <a:ext cx="27324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 flipV="1">
              <a:off x="5707800" y="2791800"/>
              <a:ext cx="154440" cy="22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5422680" y="2803320"/>
              <a:ext cx="29736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149080" y="2382480"/>
              <a:ext cx="273240" cy="47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flipV="1">
              <a:off x="5434560" y="2721240"/>
              <a:ext cx="27324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 flipV="1">
              <a:off x="5422680" y="2230560"/>
              <a:ext cx="297360" cy="50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>
              <a:off x="5137200" y="2242440"/>
              <a:ext cx="29736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220720" y="2382480"/>
              <a:ext cx="5904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363280" y="2312640"/>
              <a:ext cx="59040" cy="57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291640" y="2522880"/>
              <a:ext cx="59400" cy="57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434560" y="2452680"/>
              <a:ext cx="59040" cy="57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363280" y="2662920"/>
              <a:ext cx="59040" cy="57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505840" y="2592720"/>
              <a:ext cx="5940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434560" y="2803320"/>
              <a:ext cx="5904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577480" y="2733480"/>
              <a:ext cx="59040" cy="57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V="1">
              <a:off x="4934880" y="1950120"/>
              <a:ext cx="416160" cy="22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>
              <a:off x="5065920" y="2172240"/>
              <a:ext cx="439920" cy="19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363280" y="1962000"/>
              <a:ext cx="130680" cy="19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578480" y="1120680"/>
              <a:ext cx="5904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6864480" y="1809720"/>
            <a:ext cx="1349280" cy="853920"/>
            <a:chOff x="6864480" y="1809720"/>
            <a:chExt cx="1349280" cy="853920"/>
          </a:xfrm>
        </p:grpSpPr>
        <p:sp>
          <p:nvSpPr>
            <p:cNvPr id="994" name=""/>
            <p:cNvSpPr/>
            <p:nvPr/>
          </p:nvSpPr>
          <p:spPr>
            <a:xfrm>
              <a:off x="7001280" y="1961640"/>
              <a:ext cx="0" cy="62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V="1">
              <a:off x="7007400" y="1809720"/>
              <a:ext cx="112896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069680" y="2030400"/>
              <a:ext cx="0" cy="62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7075800" y="1879200"/>
              <a:ext cx="113148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V="1">
              <a:off x="7075800" y="2511360"/>
              <a:ext cx="113148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007400" y="1961640"/>
              <a:ext cx="56160" cy="5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007400" y="2593440"/>
              <a:ext cx="56160" cy="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213760" y="1891440"/>
              <a:ext cx="0" cy="61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8148240" y="1821240"/>
              <a:ext cx="59040" cy="5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141320" y="2102040"/>
              <a:ext cx="0" cy="33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>
              <a:off x="7147080" y="1949400"/>
              <a:ext cx="98928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142120" y="1961640"/>
              <a:ext cx="0" cy="33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7134840" y="2313000"/>
              <a:ext cx="101268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V="1">
              <a:off x="7219800" y="2089800"/>
              <a:ext cx="487800" cy="8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V="1">
              <a:off x="7219800" y="2160360"/>
              <a:ext cx="702000" cy="8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291440" y="2306880"/>
              <a:ext cx="20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7291440" y="2300400"/>
              <a:ext cx="487440" cy="8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929640" y="1891440"/>
              <a:ext cx="0" cy="40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935760" y="2306880"/>
              <a:ext cx="12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864480" y="1821240"/>
              <a:ext cx="5940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4" name=""/>
          <p:cNvGrpSpPr/>
          <p:nvPr/>
        </p:nvGrpSpPr>
        <p:grpSpPr>
          <a:xfrm>
            <a:off x="6565680" y="5257800"/>
            <a:ext cx="939240" cy="701280"/>
            <a:chOff x="6565680" y="5257800"/>
            <a:chExt cx="939240" cy="701280"/>
          </a:xfrm>
        </p:grpSpPr>
        <p:sp>
          <p:nvSpPr>
            <p:cNvPr id="1015" name=""/>
            <p:cNvSpPr/>
            <p:nvPr/>
          </p:nvSpPr>
          <p:spPr>
            <a:xfrm>
              <a:off x="6786000" y="5468040"/>
              <a:ext cx="0" cy="47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6791760" y="5807160"/>
              <a:ext cx="701640" cy="15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7499520" y="5386320"/>
              <a:ext cx="0" cy="43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6779520" y="5397840"/>
              <a:ext cx="725400" cy="5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6637320" y="5953680"/>
              <a:ext cx="15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V="1">
              <a:off x="6643080" y="5455800"/>
              <a:ext cx="0" cy="50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649200" y="5462280"/>
              <a:ext cx="13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858720" y="5538240"/>
              <a:ext cx="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V="1">
              <a:off x="6864480" y="5596560"/>
              <a:ext cx="557280" cy="8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7428240" y="545616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V="1">
              <a:off x="6864480" y="5455800"/>
              <a:ext cx="557280" cy="8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291440" y="5678640"/>
              <a:ext cx="59040" cy="58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219800" y="5678640"/>
              <a:ext cx="59400" cy="58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362720" y="5678640"/>
              <a:ext cx="59040" cy="58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291440" y="5748840"/>
              <a:ext cx="59040" cy="58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V="1">
              <a:off x="6649200" y="5385960"/>
              <a:ext cx="630360" cy="8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291440" y="5392080"/>
              <a:ext cx="20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>
              <a:off x="6565680" y="5889240"/>
              <a:ext cx="154440" cy="5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V="1">
              <a:off x="6571800" y="5316120"/>
              <a:ext cx="0" cy="64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577560" y="5257800"/>
              <a:ext cx="5940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5" name=""/>
          <p:cNvSpPr/>
          <p:nvPr/>
        </p:nvSpPr>
        <p:spPr>
          <a:xfrm flipH="1">
            <a:off x="3850920" y="4200480"/>
            <a:ext cx="29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V="1">
            <a:off x="4143240" y="3843360"/>
            <a:ext cx="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3149640" y="3984480"/>
            <a:ext cx="27288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435480" y="3989520"/>
            <a:ext cx="55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3708000" y="3995640"/>
            <a:ext cx="298440" cy="26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H="1">
            <a:off x="3138480" y="4270320"/>
            <a:ext cx="58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3720960" y="4194000"/>
            <a:ext cx="27324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000680" y="399564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714840" y="4276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078440" y="3786120"/>
            <a:ext cx="5868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127320" y="4278240"/>
            <a:ext cx="6364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436680" y="3703320"/>
            <a:ext cx="27288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722160" y="3710160"/>
            <a:ext cx="55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995040" y="3714840"/>
            <a:ext cx="297000" cy="26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423360" y="3989520"/>
            <a:ext cx="58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36680" y="4200480"/>
            <a:ext cx="55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V="1">
            <a:off x="1006560" y="3914640"/>
            <a:ext cx="27468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287360" y="371484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001880" y="399564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149480" y="3919680"/>
            <a:ext cx="63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H="1">
            <a:off x="500040" y="3365640"/>
            <a:ext cx="1719360" cy="22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61520" y="3979800"/>
            <a:ext cx="5403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238400" y="3068640"/>
            <a:ext cx="9669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383480" y="1244520"/>
            <a:ext cx="5464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L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577880" y="4200480"/>
            <a:ext cx="163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6648480" y="3563640"/>
            <a:ext cx="1779480" cy="1133280"/>
            <a:chOff x="6648480" y="3563640"/>
            <a:chExt cx="1779480" cy="1133280"/>
          </a:xfrm>
        </p:grpSpPr>
        <p:sp>
          <p:nvSpPr>
            <p:cNvPr id="1061" name=""/>
            <p:cNvSpPr/>
            <p:nvPr/>
          </p:nvSpPr>
          <p:spPr>
            <a:xfrm>
              <a:off x="8139240" y="3706920"/>
              <a:ext cx="5904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007040" y="4556880"/>
              <a:ext cx="628920" cy="5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7007040" y="4124880"/>
              <a:ext cx="77184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791120" y="4136400"/>
              <a:ext cx="630360" cy="5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007040" y="4627080"/>
              <a:ext cx="628920" cy="5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7648200" y="4194360"/>
              <a:ext cx="773640" cy="43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7648200" y="4264920"/>
              <a:ext cx="77364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648480" y="3996360"/>
              <a:ext cx="275040" cy="54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V="1">
              <a:off x="6719760" y="3563640"/>
              <a:ext cx="773640" cy="43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V="1">
              <a:off x="6648480" y="3563640"/>
              <a:ext cx="773640" cy="43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719760" y="3996360"/>
              <a:ext cx="275040" cy="54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V="1">
              <a:off x="6791040" y="3635280"/>
              <a:ext cx="702360" cy="36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V="1">
              <a:off x="7007040" y="4054680"/>
              <a:ext cx="70056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791040" y="3996360"/>
              <a:ext cx="204120" cy="40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505280" y="3647160"/>
              <a:ext cx="202320" cy="40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505280" y="3575880"/>
              <a:ext cx="273600" cy="54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935400" y="4551120"/>
              <a:ext cx="5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000920" y="4556880"/>
              <a:ext cx="0" cy="5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8142120" y="3786120"/>
              <a:ext cx="0" cy="33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648480" y="3990240"/>
              <a:ext cx="5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433640" y="3569760"/>
              <a:ext cx="5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8427960" y="4206600"/>
              <a:ext cx="0" cy="5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3" name=""/>
          <p:cNvSpPr/>
          <p:nvPr/>
        </p:nvSpPr>
        <p:spPr>
          <a:xfrm>
            <a:off x="430200" y="399564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334120" y="1595520"/>
            <a:ext cx="136476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gital  Digital Voice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ging, and Messag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7037640" y="2717640"/>
            <a:ext cx="88020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 Termin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801040" y="4557600"/>
            <a:ext cx="100080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book Digit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751720" y="5452920"/>
            <a:ext cx="68220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wo 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ging &amp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4078440" y="2722680"/>
            <a:ext cx="129960" cy="113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221000" y="2733840"/>
            <a:ext cx="13032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4363920" y="1109520"/>
            <a:ext cx="27324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V="1">
            <a:off x="4149720" y="2932200"/>
            <a:ext cx="2130480" cy="9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 flipV="1">
            <a:off x="6066000" y="2862000"/>
            <a:ext cx="22536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flipV="1">
            <a:off x="6076800" y="1809360"/>
            <a:ext cx="847800" cy="106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V="1">
            <a:off x="4149720" y="3422520"/>
            <a:ext cx="263052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6566040" y="3435480"/>
            <a:ext cx="22536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576840" y="3575160"/>
            <a:ext cx="156060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149720" y="3855960"/>
            <a:ext cx="1344600" cy="82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H="1">
            <a:off x="5280120" y="4691160"/>
            <a:ext cx="22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292720" y="4697280"/>
            <a:ext cx="1344600" cy="61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0" name=""/>
          <p:cNvGrpSpPr/>
          <p:nvPr/>
        </p:nvGrpSpPr>
        <p:grpSpPr>
          <a:xfrm>
            <a:off x="3149640" y="4481640"/>
            <a:ext cx="2087280" cy="1557000"/>
            <a:chOff x="3149640" y="4481640"/>
            <a:chExt cx="2087280" cy="1557000"/>
          </a:xfrm>
        </p:grpSpPr>
        <p:sp>
          <p:nvSpPr>
            <p:cNvPr id="1101" name=""/>
            <p:cNvSpPr/>
            <p:nvPr/>
          </p:nvSpPr>
          <p:spPr>
            <a:xfrm>
              <a:off x="3149640" y="4481640"/>
              <a:ext cx="55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02" name=""/>
            <p:cNvGraphicFramePr/>
            <p:nvPr/>
          </p:nvGraphicFramePr>
          <p:xfrm>
            <a:off x="3457440" y="4808520"/>
            <a:ext cx="1779480" cy="1230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57440" y="4808520"/>
                      <a:ext cx="1779480" cy="12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4" name=""/>
            <p:cNvSpPr/>
            <p:nvPr/>
          </p:nvSpPr>
          <p:spPr>
            <a:xfrm>
              <a:off x="4851720" y="4596840"/>
              <a:ext cx="0" cy="19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818960" y="4516200"/>
              <a:ext cx="5904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8467560" y="1611360"/>
            <a:ext cx="426960" cy="771120"/>
            <a:chOff x="8467560" y="1611360"/>
            <a:chExt cx="426960" cy="771120"/>
          </a:xfrm>
        </p:grpSpPr>
        <p:sp>
          <p:nvSpPr>
            <p:cNvPr id="1107" name=""/>
            <p:cNvSpPr/>
            <p:nvPr/>
          </p:nvSpPr>
          <p:spPr>
            <a:xfrm>
              <a:off x="8850240" y="1713600"/>
              <a:ext cx="0" cy="7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8" name=""/>
            <p:cNvGrpSpPr/>
            <p:nvPr/>
          </p:nvGrpSpPr>
          <p:grpSpPr>
            <a:xfrm>
              <a:off x="8467560" y="1611360"/>
              <a:ext cx="426960" cy="771120"/>
              <a:chOff x="8467560" y="1611360"/>
              <a:chExt cx="426960" cy="771120"/>
            </a:xfrm>
          </p:grpSpPr>
          <p:sp>
            <p:nvSpPr>
              <p:cNvPr id="1109" name=""/>
              <p:cNvSpPr/>
              <p:nvPr/>
            </p:nvSpPr>
            <p:spPr>
              <a:xfrm flipH="1">
                <a:off x="8530920" y="1817280"/>
                <a:ext cx="16128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8534880" y="1894320"/>
                <a:ext cx="22104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V="1">
                <a:off x="8759880" y="2301840"/>
                <a:ext cx="131040" cy="8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flipH="1" flipV="1">
                <a:off x="8688240" y="1812960"/>
                <a:ext cx="206280" cy="49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flipH="1">
                <a:off x="8620920" y="1815120"/>
                <a:ext cx="70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H="1">
                <a:off x="8485560" y="1817280"/>
                <a:ext cx="13860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8489880" y="1894320"/>
                <a:ext cx="22104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8714880" y="2380680"/>
                <a:ext cx="41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8489880" y="1892160"/>
                <a:ext cx="41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8557200" y="1894320"/>
                <a:ext cx="4104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flipV="1">
                <a:off x="8602560" y="1915560"/>
                <a:ext cx="108720" cy="5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flipH="1" flipV="1">
                <a:off x="8665920" y="1838520"/>
                <a:ext cx="48600" cy="8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flipH="1">
                <a:off x="8553240" y="1842840"/>
                <a:ext cx="116280" cy="4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8737560" y="2280600"/>
                <a:ext cx="4104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flipV="1">
                <a:off x="8782560" y="2301480"/>
                <a:ext cx="86040" cy="5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flipH="1" flipV="1">
                <a:off x="8823240" y="2224800"/>
                <a:ext cx="48600" cy="8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flipH="1">
                <a:off x="8733600" y="2229120"/>
                <a:ext cx="93600" cy="4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8647560" y="2074680"/>
                <a:ext cx="86040" cy="17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V="1">
                <a:off x="8737560" y="2198520"/>
                <a:ext cx="86040" cy="5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flipH="1" flipV="1">
                <a:off x="8733600" y="2018880"/>
                <a:ext cx="93600" cy="18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flipH="1">
                <a:off x="8643600" y="2023200"/>
                <a:ext cx="93600" cy="4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8669880" y="2074680"/>
                <a:ext cx="183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8714880" y="2048760"/>
                <a:ext cx="183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8692560" y="212616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8737560" y="2100240"/>
                <a:ext cx="183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8714880" y="2177640"/>
                <a:ext cx="183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8759880" y="215172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737560" y="2229120"/>
                <a:ext cx="183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782560" y="2203200"/>
                <a:ext cx="183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V="1">
                <a:off x="8579880" y="1915920"/>
                <a:ext cx="131040" cy="8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flipH="1">
                <a:off x="8620920" y="1997280"/>
                <a:ext cx="13860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8714880" y="1920240"/>
                <a:ext cx="4104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8467560" y="1611360"/>
                <a:ext cx="183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2" name=""/>
            <p:cNvSpPr/>
            <p:nvPr/>
          </p:nvSpPr>
          <p:spPr>
            <a:xfrm>
              <a:off x="8489880" y="1636920"/>
              <a:ext cx="89640" cy="20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8497800" y="3785760"/>
            <a:ext cx="500040" cy="350640"/>
            <a:chOff x="8497800" y="3785760"/>
            <a:chExt cx="500040" cy="350640"/>
          </a:xfrm>
        </p:grpSpPr>
        <p:sp>
          <p:nvSpPr>
            <p:cNvPr id="1144" name=""/>
            <p:cNvSpPr/>
            <p:nvPr/>
          </p:nvSpPr>
          <p:spPr>
            <a:xfrm>
              <a:off x="8548560" y="3848400"/>
              <a:ext cx="0" cy="25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8550720" y="3785760"/>
              <a:ext cx="418320" cy="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8573760" y="3876840"/>
              <a:ext cx="0" cy="2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V="1">
              <a:off x="8575920" y="3814560"/>
              <a:ext cx="41940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8575920" y="4074120"/>
              <a:ext cx="419400" cy="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550720" y="3848400"/>
              <a:ext cx="2088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550720" y="4108320"/>
              <a:ext cx="20880" cy="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8997840" y="3819600"/>
              <a:ext cx="0" cy="25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973720" y="3790800"/>
              <a:ext cx="2196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600400" y="3906360"/>
              <a:ext cx="0" cy="13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V="1">
              <a:off x="8602560" y="3843360"/>
              <a:ext cx="366480" cy="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8971560" y="3848400"/>
              <a:ext cx="0" cy="13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8597520" y="3992760"/>
              <a:ext cx="375480" cy="5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8629560" y="3900960"/>
              <a:ext cx="18072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V="1">
              <a:off x="8629560" y="3929760"/>
              <a:ext cx="26028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8655840" y="3990240"/>
              <a:ext cx="7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V="1">
              <a:off x="8655840" y="3987720"/>
              <a:ext cx="18072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8521920" y="3819600"/>
              <a:ext cx="0" cy="16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8524080" y="3990240"/>
              <a:ext cx="4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8497800" y="3790800"/>
              <a:ext cx="21960" cy="23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6066000" y="1262160"/>
            <a:ext cx="785520" cy="377640"/>
            <a:chOff x="6066000" y="1262160"/>
            <a:chExt cx="785520" cy="377640"/>
          </a:xfrm>
        </p:grpSpPr>
        <p:sp>
          <p:nvSpPr>
            <p:cNvPr id="1165" name=""/>
            <p:cNvSpPr/>
            <p:nvPr/>
          </p:nvSpPr>
          <p:spPr>
            <a:xfrm>
              <a:off x="6724080" y="1309680"/>
              <a:ext cx="25920" cy="19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224040" y="1593000"/>
              <a:ext cx="27756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V="1">
              <a:off x="6224040" y="1449000"/>
              <a:ext cx="34056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570360" y="1452960"/>
              <a:ext cx="2782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224040" y="1616400"/>
              <a:ext cx="27756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V="1">
              <a:off x="6507360" y="147240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6507360" y="149580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066000" y="1406160"/>
              <a:ext cx="121320" cy="1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V="1">
              <a:off x="6097320" y="126216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V="1">
              <a:off x="6066000" y="126216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097320" y="1406160"/>
              <a:ext cx="121320" cy="1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V="1">
              <a:off x="6129000" y="1285920"/>
              <a:ext cx="309960" cy="12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V="1">
              <a:off x="6224040" y="1425240"/>
              <a:ext cx="30924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129000" y="1406160"/>
              <a:ext cx="90000" cy="13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444360" y="1289880"/>
              <a:ext cx="89280" cy="13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444360" y="1266120"/>
              <a:ext cx="120600" cy="1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192720" y="1591200"/>
              <a:ext cx="2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221520" y="159300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725520" y="133596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066000" y="1404360"/>
              <a:ext cx="2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412680" y="1263960"/>
              <a:ext cx="2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851520" y="147636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2935440" y="5189400"/>
            <a:ext cx="499680" cy="351000"/>
            <a:chOff x="2935440" y="5189400"/>
            <a:chExt cx="499680" cy="351000"/>
          </a:xfrm>
        </p:grpSpPr>
        <p:sp>
          <p:nvSpPr>
            <p:cNvPr id="1188" name=""/>
            <p:cNvSpPr/>
            <p:nvPr/>
          </p:nvSpPr>
          <p:spPr>
            <a:xfrm>
              <a:off x="3052440" y="529452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3055680" y="5464080"/>
              <a:ext cx="37368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3432240" y="5253120"/>
              <a:ext cx="0" cy="21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H="1">
              <a:off x="3049200" y="5259600"/>
              <a:ext cx="385920" cy="2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H="1">
              <a:off x="2973240" y="5537520"/>
              <a:ext cx="8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V="1">
              <a:off x="2976480" y="5288400"/>
              <a:ext cx="0" cy="25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979720" y="5291640"/>
              <a:ext cx="6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091320" y="5329800"/>
              <a:ext cx="0" cy="6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V="1">
              <a:off x="3094200" y="5358600"/>
              <a:ext cx="296640" cy="4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V="1">
              <a:off x="3394440" y="52884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V="1">
              <a:off x="3094200" y="5288400"/>
              <a:ext cx="296640" cy="4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321360" y="5400000"/>
              <a:ext cx="3132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283560" y="5400000"/>
              <a:ext cx="3168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359520" y="5400000"/>
              <a:ext cx="3132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321360" y="5434920"/>
              <a:ext cx="3132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V="1">
              <a:off x="2979720" y="5253120"/>
              <a:ext cx="335520" cy="4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321360" y="5256360"/>
              <a:ext cx="10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>
              <a:off x="2935440" y="5505480"/>
              <a:ext cx="82080" cy="2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V="1">
              <a:off x="2938320" y="5218560"/>
              <a:ext cx="0" cy="32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941560" y="5189400"/>
              <a:ext cx="31680" cy="29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6848640" y="6039000"/>
            <a:ext cx="785520" cy="553680"/>
            <a:chOff x="6848640" y="6039000"/>
            <a:chExt cx="785520" cy="553680"/>
          </a:xfrm>
        </p:grpSpPr>
        <p:graphicFrame>
          <p:nvGraphicFramePr>
            <p:cNvPr id="1209" name=""/>
            <p:cNvGraphicFramePr/>
            <p:nvPr/>
          </p:nvGraphicFramePr>
          <p:xfrm>
            <a:off x="6848640" y="6145200"/>
            <a:ext cx="785520" cy="447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848640" y="6145200"/>
                      <a:ext cx="78552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11" name=""/>
            <p:cNvSpPr/>
            <p:nvPr/>
          </p:nvSpPr>
          <p:spPr>
            <a:xfrm>
              <a:off x="7464240" y="6067800"/>
              <a:ext cx="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449480" y="6039000"/>
              <a:ext cx="26640" cy="20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3" name=""/>
          <p:cNvSpPr/>
          <p:nvPr/>
        </p:nvSpPr>
        <p:spPr>
          <a:xfrm>
            <a:off x="4641840" y="1122480"/>
            <a:ext cx="2143080" cy="209520"/>
          </a:xfrm>
          <a:custGeom>
            <a:avLst/>
            <a:gdLst/>
            <a:ahLst/>
            <a:rect l="l" t="t" r="r" b="b"/>
            <a:pathLst>
              <a:path w="1440" h="144">
                <a:moveTo>
                  <a:pt x="0" y="0"/>
                </a:moveTo>
                <a:lnTo>
                  <a:pt x="864" y="144"/>
                </a:lnTo>
                <a:lnTo>
                  <a:pt x="816" y="48"/>
                </a:lnTo>
                <a:lnTo>
                  <a:pt x="1440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298840" y="981000"/>
            <a:ext cx="85428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6908760" y="1612800"/>
            <a:ext cx="1589040" cy="211320"/>
          </a:xfrm>
          <a:custGeom>
            <a:avLst/>
            <a:gdLst/>
            <a:ahLst/>
            <a:rect l="l" t="t" r="r" b="b"/>
            <a:pathLst>
              <a:path w="1068" h="144">
                <a:moveTo>
                  <a:pt x="0" y="144"/>
                </a:moveTo>
                <a:cubicBezTo>
                  <a:pt x="43" y="115"/>
                  <a:pt x="23" y="126"/>
                  <a:pt x="60" y="108"/>
                </a:cubicBezTo>
                <a:lnTo>
                  <a:pt x="588" y="0"/>
                </a:lnTo>
                <a:lnTo>
                  <a:pt x="492" y="96"/>
                </a:lnTo>
                <a:lnTo>
                  <a:pt x="106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8211960" y="3716280"/>
            <a:ext cx="285840" cy="69840"/>
          </a:xfrm>
          <a:custGeom>
            <a:avLst/>
            <a:gdLst/>
            <a:ahLst/>
            <a:rect l="l" t="t" r="r" b="b"/>
            <a:pathLst>
              <a:path w="252" h="48">
                <a:moveTo>
                  <a:pt x="0" y="0"/>
                </a:moveTo>
                <a:cubicBezTo>
                  <a:pt x="56" y="0"/>
                  <a:pt x="112" y="0"/>
                  <a:pt x="168" y="0"/>
                </a:cubicBezTo>
                <a:lnTo>
                  <a:pt x="108" y="48"/>
                </a:lnTo>
                <a:lnTo>
                  <a:pt x="252" y="4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155280" y="6031080"/>
            <a:ext cx="85428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8083440" y="3365640"/>
            <a:ext cx="8542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7368840" y="1473120"/>
            <a:ext cx="85428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570720" y="5259240"/>
            <a:ext cx="855720" cy="771840"/>
          </a:xfrm>
          <a:custGeom>
            <a:avLst/>
            <a:gdLst/>
            <a:ahLst/>
            <a:rect l="l" t="t" r="r" b="b"/>
            <a:pathLst>
              <a:path w="576" h="528">
                <a:moveTo>
                  <a:pt x="0" y="0"/>
                </a:moveTo>
                <a:lnTo>
                  <a:pt x="384" y="336"/>
                </a:lnTo>
                <a:lnTo>
                  <a:pt x="288" y="336"/>
                </a:lnTo>
                <a:lnTo>
                  <a:pt x="576" y="52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941560" y="4699080"/>
            <a:ext cx="8542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2927520" y="4557600"/>
            <a:ext cx="1928520" cy="631800"/>
          </a:xfrm>
          <a:custGeom>
            <a:avLst/>
            <a:gdLst/>
            <a:ahLst/>
            <a:rect l="l" t="t" r="r" b="b"/>
            <a:pathLst>
              <a:path w="1296" h="432">
                <a:moveTo>
                  <a:pt x="0" y="432"/>
                </a:moveTo>
                <a:lnTo>
                  <a:pt x="768" y="144"/>
                </a:lnTo>
                <a:lnTo>
                  <a:pt x="720" y="240"/>
                </a:lnTo>
                <a:lnTo>
                  <a:pt x="1296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141800" y="3786120"/>
            <a:ext cx="714240" cy="771480"/>
          </a:xfrm>
          <a:custGeom>
            <a:avLst/>
            <a:gdLst/>
            <a:ahLst/>
            <a:rect l="l" t="t" r="r" b="b"/>
            <a:pathLst>
              <a:path w="480" h="528">
                <a:moveTo>
                  <a:pt x="0" y="0"/>
                </a:moveTo>
                <a:lnTo>
                  <a:pt x="192" y="336"/>
                </a:lnTo>
                <a:lnTo>
                  <a:pt x="192" y="240"/>
                </a:lnTo>
                <a:lnTo>
                  <a:pt x="480" y="52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755800" y="1000080"/>
            <a:ext cx="6413760" cy="5826240"/>
          </a:xfrm>
          <a:custGeom>
            <a:avLst/>
            <a:gdLst/>
            <a:ahLst/>
            <a:rect l="l" t="t" r="r" b="b"/>
            <a:pathLst>
              <a:path w="4311" h="3988">
                <a:moveTo>
                  <a:pt x="1244" y="108"/>
                </a:moveTo>
                <a:cubicBezTo>
                  <a:pt x="1223" y="115"/>
                  <a:pt x="1185" y="124"/>
                  <a:pt x="1172" y="144"/>
                </a:cubicBezTo>
                <a:cubicBezTo>
                  <a:pt x="1163" y="158"/>
                  <a:pt x="1165" y="176"/>
                  <a:pt x="1160" y="192"/>
                </a:cubicBezTo>
                <a:cubicBezTo>
                  <a:pt x="1148" y="235"/>
                  <a:pt x="1150" y="225"/>
                  <a:pt x="1124" y="264"/>
                </a:cubicBezTo>
                <a:cubicBezTo>
                  <a:pt x="1079" y="443"/>
                  <a:pt x="1002" y="607"/>
                  <a:pt x="944" y="780"/>
                </a:cubicBezTo>
                <a:cubicBezTo>
                  <a:pt x="912" y="877"/>
                  <a:pt x="899" y="979"/>
                  <a:pt x="884" y="1080"/>
                </a:cubicBezTo>
                <a:cubicBezTo>
                  <a:pt x="873" y="1152"/>
                  <a:pt x="847" y="1227"/>
                  <a:pt x="824" y="1296"/>
                </a:cubicBezTo>
                <a:cubicBezTo>
                  <a:pt x="803" y="1442"/>
                  <a:pt x="793" y="1529"/>
                  <a:pt x="812" y="1692"/>
                </a:cubicBezTo>
                <a:cubicBezTo>
                  <a:pt x="815" y="1717"/>
                  <a:pt x="828" y="1740"/>
                  <a:pt x="836" y="1764"/>
                </a:cubicBezTo>
                <a:cubicBezTo>
                  <a:pt x="840" y="1776"/>
                  <a:pt x="848" y="1800"/>
                  <a:pt x="848" y="1800"/>
                </a:cubicBezTo>
                <a:cubicBezTo>
                  <a:pt x="852" y="1840"/>
                  <a:pt x="853" y="1880"/>
                  <a:pt x="860" y="1920"/>
                </a:cubicBezTo>
                <a:cubicBezTo>
                  <a:pt x="865" y="1945"/>
                  <a:pt x="884" y="1992"/>
                  <a:pt x="884" y="1992"/>
                </a:cubicBezTo>
                <a:cubicBezTo>
                  <a:pt x="880" y="2068"/>
                  <a:pt x="887" y="2145"/>
                  <a:pt x="872" y="2220"/>
                </a:cubicBezTo>
                <a:cubicBezTo>
                  <a:pt x="855" y="2307"/>
                  <a:pt x="780" y="2324"/>
                  <a:pt x="728" y="2376"/>
                </a:cubicBezTo>
                <a:cubicBezTo>
                  <a:pt x="691" y="2413"/>
                  <a:pt x="659" y="2416"/>
                  <a:pt x="620" y="2448"/>
                </a:cubicBezTo>
                <a:cubicBezTo>
                  <a:pt x="534" y="2519"/>
                  <a:pt x="430" y="2554"/>
                  <a:pt x="320" y="2568"/>
                </a:cubicBezTo>
                <a:cubicBezTo>
                  <a:pt x="263" y="2606"/>
                  <a:pt x="298" y="2587"/>
                  <a:pt x="212" y="2616"/>
                </a:cubicBezTo>
                <a:cubicBezTo>
                  <a:pt x="185" y="2625"/>
                  <a:pt x="140" y="2664"/>
                  <a:pt x="140" y="2664"/>
                </a:cubicBezTo>
                <a:cubicBezTo>
                  <a:pt x="111" y="2707"/>
                  <a:pt x="76" y="2735"/>
                  <a:pt x="56" y="2784"/>
                </a:cubicBezTo>
                <a:cubicBezTo>
                  <a:pt x="47" y="2807"/>
                  <a:pt x="40" y="2832"/>
                  <a:pt x="32" y="2856"/>
                </a:cubicBezTo>
                <a:cubicBezTo>
                  <a:pt x="28" y="2868"/>
                  <a:pt x="20" y="2892"/>
                  <a:pt x="20" y="2892"/>
                </a:cubicBezTo>
                <a:cubicBezTo>
                  <a:pt x="23" y="2943"/>
                  <a:pt x="0" y="3170"/>
                  <a:pt x="80" y="3240"/>
                </a:cubicBezTo>
                <a:cubicBezTo>
                  <a:pt x="102" y="3259"/>
                  <a:pt x="140" y="3344"/>
                  <a:pt x="164" y="3360"/>
                </a:cubicBezTo>
                <a:cubicBezTo>
                  <a:pt x="237" y="3408"/>
                  <a:pt x="220" y="3423"/>
                  <a:pt x="284" y="3444"/>
                </a:cubicBezTo>
                <a:cubicBezTo>
                  <a:pt x="359" y="3557"/>
                  <a:pt x="334" y="3474"/>
                  <a:pt x="452" y="3552"/>
                </a:cubicBezTo>
                <a:cubicBezTo>
                  <a:pt x="476" y="3568"/>
                  <a:pt x="508" y="3560"/>
                  <a:pt x="536" y="3564"/>
                </a:cubicBezTo>
                <a:cubicBezTo>
                  <a:pt x="725" y="3627"/>
                  <a:pt x="1073" y="3603"/>
                  <a:pt x="1196" y="3600"/>
                </a:cubicBezTo>
                <a:cubicBezTo>
                  <a:pt x="1212" y="3588"/>
                  <a:pt x="1064" y="3612"/>
                  <a:pt x="1412" y="3624"/>
                </a:cubicBezTo>
                <a:cubicBezTo>
                  <a:pt x="1416" y="3624"/>
                  <a:pt x="1568" y="3610"/>
                  <a:pt x="1604" y="3612"/>
                </a:cubicBezTo>
                <a:cubicBezTo>
                  <a:pt x="1732" y="3619"/>
                  <a:pt x="1860" y="3620"/>
                  <a:pt x="1988" y="3624"/>
                </a:cubicBezTo>
                <a:cubicBezTo>
                  <a:pt x="2078" y="3654"/>
                  <a:pt x="1979" y="3589"/>
                  <a:pt x="2072" y="3636"/>
                </a:cubicBezTo>
                <a:cubicBezTo>
                  <a:pt x="2089" y="3645"/>
                  <a:pt x="2129" y="3680"/>
                  <a:pt x="2144" y="3684"/>
                </a:cubicBezTo>
                <a:cubicBezTo>
                  <a:pt x="2175" y="3715"/>
                  <a:pt x="2281" y="3843"/>
                  <a:pt x="2324" y="3864"/>
                </a:cubicBezTo>
                <a:cubicBezTo>
                  <a:pt x="2364" y="3884"/>
                  <a:pt x="2434" y="3884"/>
                  <a:pt x="2468" y="3888"/>
                </a:cubicBezTo>
                <a:cubicBezTo>
                  <a:pt x="2617" y="3988"/>
                  <a:pt x="2744" y="3918"/>
                  <a:pt x="2960" y="3912"/>
                </a:cubicBezTo>
                <a:cubicBezTo>
                  <a:pt x="3112" y="3861"/>
                  <a:pt x="3007" y="3889"/>
                  <a:pt x="3284" y="3876"/>
                </a:cubicBezTo>
                <a:cubicBezTo>
                  <a:pt x="3349" y="3854"/>
                  <a:pt x="3369" y="3815"/>
                  <a:pt x="3416" y="3768"/>
                </a:cubicBezTo>
                <a:cubicBezTo>
                  <a:pt x="3428" y="3707"/>
                  <a:pt x="3485" y="3709"/>
                  <a:pt x="3500" y="3648"/>
                </a:cubicBezTo>
                <a:cubicBezTo>
                  <a:pt x="3505" y="3628"/>
                  <a:pt x="3553" y="3559"/>
                  <a:pt x="3560" y="3540"/>
                </a:cubicBezTo>
                <a:cubicBezTo>
                  <a:pt x="3570" y="3513"/>
                  <a:pt x="3601" y="3427"/>
                  <a:pt x="3620" y="3408"/>
                </a:cubicBezTo>
                <a:cubicBezTo>
                  <a:pt x="3646" y="3331"/>
                  <a:pt x="3634" y="3298"/>
                  <a:pt x="3692" y="3240"/>
                </a:cubicBezTo>
                <a:cubicBezTo>
                  <a:pt x="3717" y="3166"/>
                  <a:pt x="3647" y="3225"/>
                  <a:pt x="3740" y="3132"/>
                </a:cubicBezTo>
                <a:cubicBezTo>
                  <a:pt x="3752" y="3120"/>
                  <a:pt x="3776" y="3096"/>
                  <a:pt x="3776" y="3096"/>
                </a:cubicBezTo>
                <a:cubicBezTo>
                  <a:pt x="3808" y="3000"/>
                  <a:pt x="3820" y="3012"/>
                  <a:pt x="3872" y="2940"/>
                </a:cubicBezTo>
                <a:cubicBezTo>
                  <a:pt x="3913" y="2882"/>
                  <a:pt x="3888" y="2864"/>
                  <a:pt x="3944" y="2808"/>
                </a:cubicBezTo>
                <a:cubicBezTo>
                  <a:pt x="3958" y="2751"/>
                  <a:pt x="3962" y="2719"/>
                  <a:pt x="4004" y="2664"/>
                </a:cubicBezTo>
                <a:cubicBezTo>
                  <a:pt x="4020" y="2642"/>
                  <a:pt x="4082" y="2562"/>
                  <a:pt x="4088" y="2544"/>
                </a:cubicBezTo>
                <a:cubicBezTo>
                  <a:pt x="4109" y="2481"/>
                  <a:pt x="4111" y="2420"/>
                  <a:pt x="4148" y="2364"/>
                </a:cubicBezTo>
                <a:cubicBezTo>
                  <a:pt x="4152" y="2332"/>
                  <a:pt x="4173" y="2322"/>
                  <a:pt x="4184" y="2292"/>
                </a:cubicBezTo>
                <a:cubicBezTo>
                  <a:pt x="4194" y="2265"/>
                  <a:pt x="4211" y="2223"/>
                  <a:pt x="4220" y="2196"/>
                </a:cubicBezTo>
                <a:cubicBezTo>
                  <a:pt x="4224" y="2184"/>
                  <a:pt x="4228" y="2004"/>
                  <a:pt x="4232" y="1992"/>
                </a:cubicBezTo>
                <a:cubicBezTo>
                  <a:pt x="4311" y="1440"/>
                  <a:pt x="4250" y="2409"/>
                  <a:pt x="4208" y="828"/>
                </a:cubicBezTo>
                <a:cubicBezTo>
                  <a:pt x="4207" y="782"/>
                  <a:pt x="4196" y="816"/>
                  <a:pt x="4160" y="672"/>
                </a:cubicBezTo>
                <a:cubicBezTo>
                  <a:pt x="4140" y="652"/>
                  <a:pt x="4124" y="588"/>
                  <a:pt x="4124" y="588"/>
                </a:cubicBezTo>
                <a:cubicBezTo>
                  <a:pt x="4096" y="546"/>
                  <a:pt x="4079" y="510"/>
                  <a:pt x="4040" y="480"/>
                </a:cubicBezTo>
                <a:cubicBezTo>
                  <a:pt x="3968" y="372"/>
                  <a:pt x="3896" y="324"/>
                  <a:pt x="3896" y="324"/>
                </a:cubicBezTo>
                <a:cubicBezTo>
                  <a:pt x="3856" y="264"/>
                  <a:pt x="3887" y="294"/>
                  <a:pt x="3824" y="252"/>
                </a:cubicBezTo>
                <a:cubicBezTo>
                  <a:pt x="3800" y="236"/>
                  <a:pt x="3780" y="209"/>
                  <a:pt x="3752" y="204"/>
                </a:cubicBezTo>
                <a:cubicBezTo>
                  <a:pt x="3648" y="187"/>
                  <a:pt x="3236" y="75"/>
                  <a:pt x="3116" y="60"/>
                </a:cubicBezTo>
                <a:cubicBezTo>
                  <a:pt x="2540" y="36"/>
                  <a:pt x="2877" y="33"/>
                  <a:pt x="2360" y="24"/>
                </a:cubicBezTo>
                <a:cubicBezTo>
                  <a:pt x="2132" y="20"/>
                  <a:pt x="1976" y="28"/>
                  <a:pt x="1748" y="24"/>
                </a:cubicBezTo>
                <a:cubicBezTo>
                  <a:pt x="1656" y="28"/>
                  <a:pt x="1736" y="0"/>
                  <a:pt x="1556" y="0"/>
                </a:cubicBezTo>
                <a:cubicBezTo>
                  <a:pt x="1533" y="4"/>
                  <a:pt x="1374" y="24"/>
                  <a:pt x="1364" y="36"/>
                </a:cubicBezTo>
                <a:cubicBezTo>
                  <a:pt x="1335" y="72"/>
                  <a:pt x="1278" y="74"/>
                  <a:pt x="1244" y="108"/>
                </a:cubicBezTo>
                <a:close/>
              </a:path>
            </a:pathLst>
          </a:custGeom>
          <a:noFill/>
          <a:ln w="63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"/>
          <p:cNvSpPr/>
          <p:nvPr/>
        </p:nvSpPr>
        <p:spPr>
          <a:xfrm>
            <a:off x="3083040" y="380880"/>
            <a:ext cx="606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ireless Implemen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430000" y="1473120"/>
            <a:ext cx="5038200" cy="44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ireless LA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5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get Sound - ~40 access poin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5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5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chita  -  90 access poi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5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ng Beach - 130 access po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5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 Louis - 100 access po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5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tropolitan Area Netwo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5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D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05:31:18Z</dcterms:created>
  <dc:creator>Mathematics &amp; Computing Technology</dc:creator>
  <dc:description/>
  <dc:language>en-US</dc:language>
  <cp:lastModifiedBy>Mathematics &amp; Computing Technology</cp:lastModifiedBy>
  <dcterms:modified xsi:type="dcterms:W3CDTF">1999-09-13T21:55:07Z</dcterms:modified>
  <cp:revision>8</cp:revision>
  <dc:subject/>
  <dc:title>No Slide Title</dc:title>
</cp:coreProperties>
</file>