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301-BC05-467B-BEA0-7FCC4B6E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AB8-B218-4624-8B0C-4F388ED6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18D-A0CF-4E33-A149-04205AF8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BD9-D5FF-49A4-A766-F8743AB1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2F3-3DAB-4C65-87B4-BE844D5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ABF-FDCB-42CC-AE3F-8DAB989C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C38-AE5E-4335-9674-57A5393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DBA-4590-4323-9BDD-789BD6D5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34B-BD20-4B14-A164-1328F600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082-F065-42F5-9C36-E2DFEA10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C6D-0792-4187-B4E8-92F9728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07F-80C7-47C5-9491-F9899ED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87DC6A-0370-460C-8BED-CB32ADCB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--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Feb 2000 with rewritten arit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Dr. Dobb’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Mobile Computing and Communications Review (M2CR) Feb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5C5-CDDA-449F-BD3A-CEC7DEBBC6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797-58B7-4DD0-B13E-1E8DCFB578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ob Heile</dc:creator>
  <dc:description/>
  <dc:language>en-US</dc:language>
  <cp:lastModifiedBy>Rober F. Heile</cp:lastModifiedBy>
  <dcterms:modified xsi:type="dcterms:W3CDTF">1999-11-08T18:50:20Z</dcterms:modified>
  <cp:revision>4</cp:revision>
  <dc:subject/>
  <dc:title>Nov Marcom update</dc:title>
</cp:coreProperties>
</file>