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92D0-03CE-418F-A98F-A816913E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3E2-C0BF-4D90-A480-5A0BAF3A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D4B-A0F0-4F7C-B380-EA947AB5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CCA-9E2C-4211-B6AE-CECE78DC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C7F-89EC-487B-ABAF-3E980A41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C42-467D-4918-8FEF-1DC2117D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679-4D3B-452F-8F6A-A61A9A92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D55-4FE8-4C38-A204-DDF8F07E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D7F-D08E-4CBB-8572-6A37491A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6EE-4FF3-4CA8-B929-117146E4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03A-7D77-4A30-9895-B94B0FA1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E91-660B-480B-8BEC-46CA45CE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6EF95EB-1F43-4E44-9C3D-94A253DD7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3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Operating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found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\\venus\802.15 wpan\rules\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99001r6P802-15_Working-Group-Operating-Rules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19C-8512-4C55-8FFB-BCDC5FBB127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ing Sch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18148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lanks added for clarity in this slide</a:t>
            </a:r>
            <a:br>
              <a:rPr sz="2000"/>
            </a:b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to be included in fil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09520" y="2000160"/>
          <a:ext cx="872496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2000160"/>
                    <a:ext cx="87249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B0C-8C76-4389-AF23-64678C529C0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4:39:52Z</dcterms:created>
  <dc:creator>Tom Siep</dc:creator>
  <dc:description>&lt;doc#&gt;</dc:description>
  <dc:language>en-US</dc:language>
  <cp:lastModifiedBy>Bridget Labrode</cp:lastModifiedBy>
  <cp:lastPrinted>1998-02-10T13:28:06Z</cp:lastPrinted>
  <dcterms:modified xsi:type="dcterms:W3CDTF">1999-07-06T16:35:17Z</dcterms:modified>
  <cp:revision>5</cp:revision>
  <dc:subject>IEEE 802.15 &lt;subject&gt;</dc:subject>
  <dc:title>IEEE P802.15 Operating Rules</dc:title>
</cp:coreProperties>
</file>