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9.png" ContentType="image/png"/>
  <Override PartName="/ppt/media/image11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35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34200" cy="9078913"/>
  <p:custShowLst>
    <p:custShow name="ieee802.11" id="0">
      <p:sldLst>
        <p:sld r:id="rId3"/>
        <p:sld r:id="rId4"/>
        <p:sld r:id="rId5"/>
        <p:sld r:id="rId6"/>
        <p:sld r:id="rId8"/>
        <p:sld r:id="rId9"/>
        <p:sld r:id="rId10"/>
        <p:sld r:id="rId12"/>
        <p:sld r:id="rId13"/>
        <p:sld r:id="rId14"/>
        <p:sld r:id="rId15"/>
        <p:sld r:id="rId16"/>
        <p:sld r:id="rId18"/>
        <p:sld r:id="rId19"/>
        <p:sld r:id="rId22"/>
        <p:sld r:id="rId23"/>
        <p:sld r:id="rId24"/>
        <p:sld r:id="rId25"/>
        <p:sld r:id="rId26"/>
        <p:sld r:id="rId27"/>
        <p:sld r:id="rId30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1D3-6BA6-44C1-95D1-BECFD79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FA0-F6AC-4557-AF6C-5E385FEF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E32-A854-4A19-B880-D6BA26E7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91C-1423-4FA8-A921-8A99BE2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FD1-FB68-49B6-837C-544BAAE2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F37-04F0-4E89-884E-4FA50E0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700-DAD2-4EE9-BE10-8440364E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BBE-6588-451C-865D-7D83A97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F00-EFE0-4836-80F1-795C6A1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2FE-4B86-45FE-92E4-8FD299A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B91-7351-4A0E-A35B-1AA1088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515-F43E-490E-B881-06C84AC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.: IEEE 802.15-0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66D0F944-CCC6-4E94-AEDF-A44D06F5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4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6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5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64E-A4D6-4619-9C54-6B300FEAAC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038480"/>
            <a:ext cx="426960" cy="1524240"/>
          </a:xfrm>
          <a:custGeom>
            <a:avLst/>
            <a:gdLst>
              <a:gd name="textAreaLeft" fmla="*/ 0 w 426960"/>
              <a:gd name="textAreaRight" fmla="*/ 154080 w 426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3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722-3462-4555-BA0E-6EA08BDAB0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5BD-879D-4114-B1A9-F7B6F45F91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7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inactive (parked)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b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9BD-D090-4FD2-B7BE-6B491AC533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1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62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63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63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F33-B5DE-4796-9349-54A810B534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(TDD)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63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66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69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57F-6C2F-4AC3-B371-846ADABA8A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7A7-B052-4B5C-8DC2-8C68B9E5FD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CF1-9970-408D-B18D-324ADCA6BE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73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1F9-982E-4E63-A69F-54070D4FE5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49A-98B5-4F64-8235-7CE1B8FCB5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AD0-33E9-4F6B-B251-38D9B05BD9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D59-6569-468B-9D37-3C3BAC381A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D96-7D97-4410-A38E-EF136316C7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CA2-0AFF-4C1E-AE12-A8111CC5F3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759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64C-7A65-4469-AFD2-A592934910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DAC-053D-4742-BB4B-61C7B7EE10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902-BC14-4E70-AB58-FA47792368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799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8E5-BD12-4906-A97B-DF215C37381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841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3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5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7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F1A-31BD-4A31-A4BF-64ADCA8C90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876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4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26C-61BC-4FAB-841C-42EB18BFD4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338-AB59-44EE-A3C1-8F6EF4110F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63868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78D-6CC3-4543-A403-1EE751E1EC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3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8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0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1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3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6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2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3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726-9D23-4044-BBA2-98B0555EB6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1100+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16E-D701-4DD2-86E2-FEBA511A9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8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C2E-A996-4451-925C-78E31B412C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3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41C-6B17-4DF4-9D9E-E87214188C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7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2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095560" y="566892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70D-1753-4C39-9FDD-31E52538DF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24160" y="566892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8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7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8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89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B17-2339-4433-859E-F46B80AEE3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11-10T05:24:09Z</dcterms:modified>
  <cp:revision>207</cp:revision>
  <dc:subject/>
  <dc:title>No Slide Title</dc:title>
</cp:coreProperties>
</file>