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F625-FF8C-4C3C-BBFA-508B210F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E795-A275-4895-B1C2-B5D5A885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04A5-C44D-4FCE-988A-3F807054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3598-385F-4181-93CB-71F1F387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889B-905A-418B-A3DD-2BCB0D75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3D72-CDFC-4092-A256-86DE193D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74B3-9175-47C7-A8E1-17EA3D43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599A-7DE2-4E1B-B370-F9E0158E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462D-8ECE-4944-9F0A-EFF1EC4F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2C87-20C7-4685-B681-E108F08A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BEF8-31A2-41CB-89CD-5484A6EC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2218-C9BB-4E72-A8B8-2FFCAFDC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89BB520-6464-41AC-8878-72D5755D8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5 Working Group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ughts on Project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772A-98AB-4233-B396-AF9B80E2030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AN Project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est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ation vs.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C5A6-B6DD-4F98-8D5D-D2D51CB738A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estone - Project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Authorization Request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s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For Proposals (CF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Unapproved WPAN Draft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Specification approved by 802.15 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Specification approved by IEEE S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124-0060-44B4-9411-F4D8FCEF1C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estone - Gantt Char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ort 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day cycles from receipt of draft to WG LB and Sponsor L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roject1" descr=""/>
          <p:cNvPicPr/>
          <p:nvPr/>
        </p:nvPicPr>
        <p:blipFill>
          <a:blip r:embed="rId1"/>
          <a:stretch/>
        </p:blipFill>
        <p:spPr>
          <a:xfrm>
            <a:off x="685800" y="4411800"/>
            <a:ext cx="7772400" cy="13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2BD0-5747-4BDC-A8B6-34443613B5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estone - Gantt Chart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ort &amp; Event 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day cycles from receipt of draft to WG LB and Sponsor 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roject2" descr=""/>
          <p:cNvPicPr/>
          <p:nvPr/>
        </p:nvPicPr>
        <p:blipFill>
          <a:blip r:embed="rId1"/>
          <a:stretch/>
        </p:blipFill>
        <p:spPr>
          <a:xfrm>
            <a:off x="685800" y="4411800"/>
            <a:ext cx="7772400" cy="13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902B-FF21-45EB-BFCB-7FA3045912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estone - Gantt Chart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day cycles from receipt of draft to WG LB and Sponsor 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roject3" descr=""/>
          <p:cNvPicPr/>
          <p:nvPr/>
        </p:nvPicPr>
        <p:blipFill>
          <a:blip r:embed="rId1"/>
          <a:stretch/>
        </p:blipFill>
        <p:spPr>
          <a:xfrm>
            <a:off x="685800" y="4411800"/>
            <a:ext cx="7772400" cy="13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DE0E-2A2E-443C-9639-66BB891AAB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estone - ~50 Meeting D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NU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AY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R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ba Jap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d 5/5/9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 5/6/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, Eng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 6/7/9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 6/7/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ntreal, Canada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d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n 7/5/99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i 7/9/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ver, Colora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 8/5/9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 8/6/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ta Rosa, Califor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 9/13/9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 9/17/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auai, Hawaii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d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n 11/8/99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i 11/12/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ra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 1/10/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 1/14/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buquerque, NM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d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n 3/6/00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i 3/10/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 5/15/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 5/19/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aJolla, California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d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n 7/10/00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i 7/14/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 9/18/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 9/22/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mpa, Florida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d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n 11/6/00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i 11/10/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0760" y="156060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EEE 802 Ple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9C2D-3C52-4083-B7E3-A804F559EE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estone - Gantt Chart #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roject4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739360" cy="421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C35D-DDC1-401B-BD77-98B45248280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ration vs. Effort Driven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ation is the length of time (calendar time) the task is scheduled to occ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ember 2000 is ~17 months a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ort is the amount of work (resource assignments) to be done on the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ortia do not have time to work both in Industry and S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G has limited technical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0DC-B841-47D3-83E7-72A4F1E8EED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Ian C. Gifford</cp:lastModifiedBy>
  <cp:lastPrinted>1998-02-10T13:28:06Z</cp:lastPrinted>
  <dcterms:modified xsi:type="dcterms:W3CDTF">1999-05-05T12:12:56Z</dcterms:modified>
  <cp:revision>21</cp:revision>
  <dc:subject/>
  <dc:title>No Slide Title</dc:title>
</cp:coreProperties>
</file>