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A1622C-3F53-4A63-A9CE-A7CEAEF68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84D262-CD82-4843-BA79-FA4F10B20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842-531B-4702-BAA5-75AFAAA9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84A-A186-4D10-9DE7-0FEEF2B8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1FE-7D6C-476F-8481-498BC0CD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322-B258-416F-8D4B-8377178D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0B4-6492-4A45-A33F-0A5ABA31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D37-15A4-428F-9EF6-28630F2C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F28-3489-4D47-ADB1-E2DBBEA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58D-F3C6-4CE9-9F4F-531A390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797-E4E6-4CDA-8B27-D809BFB6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F91-AC0E-4FC4-9B78-12B00FE6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5E9-A265-4C60-9D1E-3AC9EB47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A69-4315-487A-85C9-D784505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CDCCD6-92C5-4753-A667-FCBDC3311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1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181160"/>
            <a:ext cx="7772400" cy="307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63504" dir="2216091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1039680" y="1409760"/>
            <a:ext cx="73656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802" descr=""/>
          <p:cNvPicPr/>
          <p:nvPr/>
        </p:nvPicPr>
        <p:blipFill>
          <a:blip r:embed="rId2"/>
          <a:stretch/>
        </p:blipFill>
        <p:spPr>
          <a:xfrm>
            <a:off x="7242120" y="1360440"/>
            <a:ext cx="947880" cy="97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45E-D460-468B-B2B3-897A6ADD1E0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PAN Project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3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rted in 1997 as ‘ad hoc’ group within IEEE Portable Applications Standards Committee (PAS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 the time, no other Groups or Standards Bodies dealing with the probl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March 1998 a Study Group was formed within 802.11 to develop a Project Authorization Request (PA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March 1999, IEEE 802.15 Working Group for WPANs establish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85E-F9A7-4CEB-A2BE-01D3D1D438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PAN:  Other Groups Developing Similar Specific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121896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1673280" cy="2501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13160" y="457200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4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40680" y="571500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7640" y="53341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120" y="6289560"/>
            <a:ext cx="28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doc.: IEEE 802.11-98/58 (Bob Heile, G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mllieee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95076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99" name=""/>
          <p:cNvGraphicFramePr/>
          <p:nvPr/>
        </p:nvGraphicFramePr>
        <p:xfrm>
          <a:off x="6858000" y="5334120"/>
          <a:ext cx="144792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5334120"/>
                    <a:ext cx="1447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F -formed March 4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-formed May 20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Data A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7FE-E045-4288-8EF7-5E6655A1E8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luetooth Mission/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lobal specification for wireless technolog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answers the need for short-range wireless connectivity within three are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and Voice access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ble replac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 hoc networ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is a system solution comprising hardware, software and interoperability requirements. The Bluetooth specifications specify the complete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operates in a globally available 2.4 Ghz ISM band, ensuring communication compatibility worldw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35720" y="6240600"/>
            <a:ext cx="161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Bluetooth Web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109-DB1F-4763-83F5-53D61FC721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meRF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sion of the HomeRF Working Group is to enable the existence of a broad range of interoperable consumer devices, by establishing an open industry specification for unlicensed RF digital communications for PCs and consumer devices anywhere, in and around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93320" y="621036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HomeRF Web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19C-2DE6-425C-90A0-D3DFC8C1F6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560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ny Participation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 WPAN Related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92520" y="1785960"/>
            <a:ext cx="4952880" cy="461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96920" y="463392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70040" y="3657600"/>
            <a:ext cx="28382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504 Bluetooth Adopter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7640" y="2057400"/>
            <a:ext cx="1660320" cy="3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50 Attend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9440" y="373392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82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mllieee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95112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17" name=""/>
          <p:cNvGraphicFramePr/>
          <p:nvPr/>
        </p:nvGraphicFramePr>
        <p:xfrm>
          <a:off x="5943600" y="4800600"/>
          <a:ext cx="23623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80060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74360" y="211140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BFE-9AEA-491E-934E-62A1AE8962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65440" y="5486400"/>
            <a:ext cx="654048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um Access Control Sub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5791320"/>
            <a:ext cx="65534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 focuses only on the Lower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8400" y="57913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8400" y="525780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400" y="472428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8400" y="41911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8400" y="365760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8400" y="312408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0" y="25909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1360080" y="41680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/OSI Reference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429000" y="25905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1432080" cy="1157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5562720" y="25905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543800" y="54864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802" descr=""/>
          <p:cNvPicPr/>
          <p:nvPr/>
        </p:nvPicPr>
        <p:blipFill>
          <a:blip r:embed="rId2"/>
          <a:stretch/>
        </p:blipFill>
        <p:spPr>
          <a:xfrm>
            <a:off x="6858000" y="3962520"/>
            <a:ext cx="1417680" cy="14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8504280" y="557064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15200" y="5318280"/>
            <a:ext cx="5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343400" y="3809880"/>
          <a:ext cx="23623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80988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A68-C373-43DE-A5B1-0139BF54B5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64960" y="1955880"/>
            <a:ext cx="887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WPAN functional 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n open forum to debate and critique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MAC and PHY standards for short range embedded wireless networking of PCs, PDAs, peripherals, cell phones, pagers, consumer electronic devices, sensors, actuators, and the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9320" y="709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Working 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545-B827-4762-B3AC-B62C0FD901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42720" y="1905120"/>
            <a:ext cx="84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closely with and build consensus among groups having an interest in WPANs like Bluetooth, HomeRF, and 802.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Standards that meet the requirements of WPANs and have broad market appe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 effectively with coexistence and interoperability in a shared med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09480" y="622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Working  Group 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831-9246-421A-BFA3-03C9E65422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8960" y="865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A” Li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2600" y="2174760"/>
            <a:ext cx="927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orldwide spectrum allocations for unlicensed bands such as 2.4GH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w Cost: i.e., relative to target dev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mall Size e.g., ~.5 cubic inches( excludes antenna &amp; batter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wer Management: Very Low current consumption (Average 20mw or less @ 10% Tx/Rx loa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3AE-55FC-4539-A3EA-81E2D34611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3040" y="799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A” List (cont.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2876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or connection-less data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oexistence of multiple Wireless PAN’s in the same area (20 within 400 square fe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oexistence of multiple Wireless Systems such as  P802.11 in the sam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Network Access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D76-7A8E-4CD6-B7BF-02DA401EE6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Wireless Vision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Market Need/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Project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Func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D23-4566-492D-9169-9269A58601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224784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: 0-10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ing support for a minimum of 16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: within one (1) second, once within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e or Gateway connectivity to other dat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B” Li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13D-EA30-42E5-A869-614F4159C8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24289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ed Data Throughput at the MAC SAP: (19.2 - 100) kbit/s (actual 1 device to 1 dev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evices within a WPAN must be able to communicate with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QoS to support a variety of traff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ous, and connection-oriented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8360" y="817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B” Lis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830-1A9F-40A5-BE9F-9222EFFE4A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C”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12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element of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ming: hand-off to another 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553-D47E-4338-A6B1-6B0B962A23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800" y="437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PAN Interoperabil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398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4 - Full Compliance to the 802.11 MAC &amp; PHY P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lass 3 - Partial Interoperability: there is a way on the medium to exchange data without an intermediate de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a Transmit and Rece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b Receive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c Detect Ener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2 - Bridge-like (1 MAC/2 PHY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1 - Gateway-like (&gt; 1 MA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0 - Non Interop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FA1-F6E8-494A-BC24-1F10071B65A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58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oexistence/Interoperability Continuu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320" y="1733400"/>
            <a:ext cx="8684640" cy="4743720"/>
            <a:chOff x="76320" y="1733400"/>
            <a:chExt cx="8684640" cy="4743720"/>
          </a:xfrm>
        </p:grpSpPr>
        <p:sp>
          <p:nvSpPr>
            <p:cNvPr id="163" name=""/>
            <p:cNvSpPr/>
            <p:nvPr/>
          </p:nvSpPr>
          <p:spPr>
            <a:xfrm>
              <a:off x="3352680" y="1905120"/>
              <a:ext cx="17640" cy="4410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33000" y="5108400"/>
              <a:ext cx="337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ckground White noi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83000" y="5367240"/>
              <a:ext cx="453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427560" y="1733400"/>
              <a:ext cx="3187440" cy="458280"/>
              <a:chOff x="3427560" y="1733400"/>
              <a:chExt cx="3187440" cy="458280"/>
            </a:xfrm>
          </p:grpSpPr>
          <p:sp>
            <p:nvSpPr>
              <p:cNvPr id="167" name=""/>
              <p:cNvSpPr/>
              <p:nvPr/>
            </p:nvSpPr>
            <p:spPr>
              <a:xfrm>
                <a:off x="4453200" y="1733400"/>
                <a:ext cx="2161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ull compli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27560" y="1998720"/>
                <a:ext cx="9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395960" y="5649840"/>
              <a:ext cx="31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tructive 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gnificant Degra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9560" y="1947960"/>
              <a:ext cx="0" cy="315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20" y="3657600"/>
              <a:ext cx="1638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600" y="3703680"/>
              <a:ext cx="164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ex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48240" y="2833560"/>
              <a:ext cx="30128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31800" y="2581200"/>
              <a:ext cx="299844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ptable to 802.11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13120" y="3968640"/>
              <a:ext cx="30146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43320" y="3713040"/>
              <a:ext cx="284328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 proposal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4440" y="3241800"/>
              <a:ext cx="0" cy="145548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09800" y="526572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2040" y="5565600"/>
              <a:ext cx="176256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74560" y="518148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0160" y="194796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76040" y="2362320"/>
              <a:ext cx="220284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ope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523160" y="3809880"/>
              <a:ext cx="1456200" cy="1371600"/>
              <a:chOff x="1523160" y="3809880"/>
              <a:chExt cx="1456200" cy="1371600"/>
            </a:xfrm>
          </p:grpSpPr>
          <p:sp>
            <p:nvSpPr>
              <p:cNvPr id="184" name=""/>
              <p:cNvSpPr/>
              <p:nvPr/>
            </p:nvSpPr>
            <p:spPr>
              <a:xfrm>
                <a:off x="2270160" y="3809880"/>
                <a:ext cx="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23160" y="4091040"/>
                <a:ext cx="1456200" cy="96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tru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r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tiquet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52440" y="3022560"/>
              <a:ext cx="6254640" cy="652680"/>
              <a:chOff x="352440" y="3022560"/>
              <a:chExt cx="6254640" cy="652680"/>
            </a:xfrm>
          </p:grpSpPr>
          <p:sp>
            <p:nvSpPr>
              <p:cNvPr id="187" name=""/>
              <p:cNvSpPr/>
              <p:nvPr/>
            </p:nvSpPr>
            <p:spPr>
              <a:xfrm>
                <a:off x="3867120" y="3349800"/>
                <a:ext cx="2739960" cy="0"/>
              </a:xfrm>
              <a:prstGeom prst="line">
                <a:avLst/>
              </a:prstGeom>
              <a:ln w="25560">
                <a:solidFill>
                  <a:srgbClr val="ff00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2440" y="3022560"/>
                <a:ext cx="3786120" cy="652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236840" y="3139920"/>
              <a:ext cx="3053160" cy="45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transfer cap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9320" y="1752480"/>
              <a:ext cx="1074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33360" y="2241720"/>
              <a:ext cx="1227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31200" y="5257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84440" y="5889600"/>
              <a:ext cx="454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320" y="3200400"/>
              <a:ext cx="1137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WPAN GO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05320" y="2057400"/>
              <a:ext cx="0" cy="145584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3D5-09D9-488F-BB64-32EBD9F19F5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3240" y="414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- Proposed Liai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93920"/>
            <a:ext cx="891540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Radio Frequency Working Group (HRFW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Data Association (Ir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P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/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SI Broadband Radio Access Networks (BRAN)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Engineering Task Force (IETF), Mobile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Forum Wireless ATM (WATM)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LAN Alliance (WL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BF8-F9AC-48DB-A26B-4E7F5EDA35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6951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of 802.15 WPAN Requirements with 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3920" y="3782880"/>
            <a:ext cx="157788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9400" y="3728880"/>
            <a:ext cx="1725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. Ho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78120" y="3782880"/>
            <a:ext cx="163656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8160" y="3728880"/>
            <a:ext cx="17132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37080" y="3782880"/>
            <a:ext cx="73800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57520" y="4137120"/>
            <a:ext cx="8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-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77840" y="3497400"/>
            <a:ext cx="5059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94280" y="3532320"/>
            <a:ext cx="0" cy="2095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6800" y="3352680"/>
            <a:ext cx="0" cy="1494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3524400"/>
            <a:ext cx="0" cy="2394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19440" y="3532320"/>
            <a:ext cx="0" cy="2397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1120" y="5259240"/>
            <a:ext cx="79848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0920" y="5257800"/>
            <a:ext cx="753480" cy="4575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30280" y="5259240"/>
            <a:ext cx="80028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2240" y="5257800"/>
            <a:ext cx="753480" cy="4575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7080" y="5259240"/>
            <a:ext cx="73800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28800" y="5256360"/>
            <a:ext cx="753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800" y="5883120"/>
            <a:ext cx="2630520" cy="2750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=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76560" y="3532320"/>
            <a:ext cx="0" cy="2476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32600" y="3532320"/>
            <a:ext cx="0" cy="2095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8920" y="3782880"/>
            <a:ext cx="1036800" cy="139860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27520" y="3782880"/>
            <a:ext cx="1098720" cy="139860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02240" y="5259240"/>
            <a:ext cx="852480" cy="53352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2760" y="5259240"/>
            <a:ext cx="798480" cy="77652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3780000"/>
            <a:ext cx="1137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r data rate extension in 2.4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780000"/>
            <a:ext cx="11383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r data rate extension in 5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38880" y="5245200"/>
            <a:ext cx="860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&amp; 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19760" y="5262480"/>
            <a:ext cx="792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-12-18...54 Mbit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1440" y="2435400"/>
            <a:ext cx="6483240" cy="9205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96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708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70840" y="3733920"/>
            <a:ext cx="1137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er data rate extension in 2.4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468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2616120"/>
            <a:ext cx="1676520" cy="536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6932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0F0-F402-410F-A5DB-BCC72BA4EE2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854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 WPAN Timeline Compared to Other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1868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0800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2480" y="42242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52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57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10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625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149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198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722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531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056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580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524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48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573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38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90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3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1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471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2804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29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384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9580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7632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7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377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43000" y="421308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242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047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100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905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951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77080" y="4191120"/>
            <a:ext cx="27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8092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6324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434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988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51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32800" y="41990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404040" y="209088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96080" y="31320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532720" y="32083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523000" y="3962520"/>
            <a:ext cx="53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5240" y="3184560"/>
            <a:ext cx="118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32018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23560" y="3184560"/>
            <a:ext cx="117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F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0400" y="3184560"/>
            <a:ext cx="1858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-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 Provi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2716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037040" y="5866920"/>
            <a:ext cx="5106960" cy="9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520" y="5876640"/>
            <a:ext cx="304920" cy="12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0" y="4822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2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A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31669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60080" y="4637160"/>
            <a:ext cx="144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4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PAR to 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WG LB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8080" y="48229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4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96248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115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9500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449568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136600" y="213372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521360" y="5943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91440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73392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381880" y="586656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001000" y="2133720"/>
            <a:ext cx="947520" cy="1018440"/>
            <a:chOff x="8001000" y="2133720"/>
            <a:chExt cx="947520" cy="1018440"/>
          </a:xfrm>
        </p:grpSpPr>
        <p:pic>
          <p:nvPicPr>
            <p:cNvPr id="307" name="802" descr=""/>
            <p:cNvPicPr/>
            <p:nvPr/>
          </p:nvPicPr>
          <p:blipFill>
            <a:blip r:embed="rId3"/>
            <a:stretch/>
          </p:blipFill>
          <p:spPr>
            <a:xfrm>
              <a:off x="8001000" y="2133720"/>
              <a:ext cx="94752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148960" y="284508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9" name=""/>
          <p:cNvGraphicFramePr/>
          <p:nvPr/>
        </p:nvGraphicFramePr>
        <p:xfrm>
          <a:off x="3886200" y="2514600"/>
          <a:ext cx="23623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51460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5008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677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20640" y="518328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73880" y="500688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Draft of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03920" y="518940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5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6364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D55-FFB4-44CB-B276-4E4A0A23C99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orking Group for WPANs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2240" y="1752480"/>
            <a:ext cx="88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ed to develop PAN standards for short distance wireless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zant of emerging industry specifications and the importance of building on the work of these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role in providing an open forum to debate these proposals, identify issues, and build consen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create standards having broad market appeal and deal effectively with coexistence and interoper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frame for first standard is November,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957-67A7-4045-92AF-EAF65983A8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5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5562720"/>
            <a:ext cx="76201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new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7768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9B9-1891-4B34-933E-4EF6B9063C45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728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EEE 802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ireless Vision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1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Bas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Frequency Hopping Spread Spectrum (1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Direct Sequence Spread Spectrum (2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(1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a 5GHz Extension (&gt;20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b 2.4GHz Extension (&gt;8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5 Wireless Personal Area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6 Broadband Wireless LANs (L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680080"/>
            <a:ext cx="8610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802 is the focal point for Wireless LAN standards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im C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6960" y="6289560"/>
            <a:ext cx="755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Jim Carlo, 802 Chair [JC-802-Consortium.PDF] can be downloaded from the following URL: ftp://ftp.flexipc.com/wearablesgroup/802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781-7D7B-4901-BC1B-B35B64609F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interconnect portable computers and/or devices like peripherals and se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devices may be carried or worn by a person and/or may be located near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/Office computers, printers,  phones, LANs, GPS or other car resources can be connected a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: The N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74F-E1A2-4DCF-8B21-98B4754D29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res are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in th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misconn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329-A4FD-43D4-91B1-A8F40829C0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9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who carry a watch, pager, cell phone, PDA, and personal stereo have at l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nput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icro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long range communications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AFF-BF88-4082-9C03-85855ADB2E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necessary Duplic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I/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74D-1A1B-4345-A0E3-B27A19E53D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3808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ffective and efficient embedded wireless connectivity for devices within an area of about 10 meters of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ea is defined as a Personal Area Network (P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N is the next domain in the WAN-MAN-LAN hierarc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831-FC7F-489E-BD75-8B07C4A44C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3880" y="431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PAN Vi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79916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um of needs for wireless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ne product which can fill al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of complementary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49200" y="2666880"/>
            <a:ext cx="65739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78960" y="1930320"/>
            <a:ext cx="80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080" y="191628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26920" y="1930320"/>
            <a:ext cx="107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36232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77840" y="1219320"/>
          <a:ext cx="6745320" cy="357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9320"/>
                    <a:ext cx="67453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222960" y="1674720"/>
            <a:ext cx="224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e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267080"/>
            <a:ext cx="2463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822-D36D-423D-9D70-2B0210AAB0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8:44:56Z</dcterms:created>
  <dc:creator>Robert F. Heile</dc:creator>
  <dc:description>Robert F. Heile, GTE </dc:description>
  <dc:language>en-US</dc:language>
  <cp:lastModifiedBy>GTE Internetworking</cp:lastModifiedBy>
  <cp:lastPrinted>1999-04-26T19:47:02Z</cp:lastPrinted>
  <dcterms:modified xsi:type="dcterms:W3CDTF">1999-05-25T18:01:16Z</dcterms:modified>
  <cp:revision>9</cp:revision>
  <dc:subject>doc.: P802.15-99017R0WG PRESENTATION</dc:subject>
  <dc:title>802.15 Working Group for  Wireless Personal Area Networks </dc:title>
</cp:coreProperties>
</file>