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D03-C8B7-48CF-924F-83FCF1EC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D87-2F5C-49C1-83AD-C5AF0D9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0D4-471D-41CE-9776-1D2CDE3C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7C8-7448-40C6-9130-2325A1C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C59-F41D-48EF-ADB5-91447B8E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B81-C666-42F3-A788-44C4F4A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26F-EDF5-4160-8636-4BC7B34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198-E0BA-4F3E-8FCB-6A194B7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D16-2E69-48AD-B384-1FEEEEC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622-D8AE-49D1-8202-E651BF7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2CF-CE43-4FF0-9A6E-D79BEBA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4B8-D0CB-4682-95F6-15AA583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06064F-6805-407E-9538-21CB0DB9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26B-C1E9-4568-9C8E-91D20CB07E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7880" y="563400"/>
            <a:ext cx="76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upon action items for Ad-hoc Membership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membership into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ussion leader/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main room for reports from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Busi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477-9410-4ECA-9929-0FADA632C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 Marketing Work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392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pics will be discussed in Grand 5 meeting room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aft by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initions, audience, content, format, commercial pubs; draft by 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Trademark “WPAN” , protect URL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nerate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website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uggest website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upport High Rate effort 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convene in Grand 5 from 9:45 to 10:00 to consolid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B6A-A27F-4631-AE96-7B8F2BCF7E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838080"/>
            <a:ext cx="86868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an Gifford will prepare the initial draft and distribute via the reflector. Further discussion will be scheduled for the January interim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a liaison letter through WG to BT SIG, request starting material from BT SIG that could be used in an introductory document to complement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commercial companion publications that might be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preparing tutorial material for the Ex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Pursue resoution within ETSI as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Explore completion of standard within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As a back up, consider using IETF but don’t pursue immediately, wait to see how previous two options evol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 Trademark “WPAN”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other key terms and  UR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website more extensively to post status and solicit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Support High Rate eff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to reflector; Generate press release; Details Contained in doc:IEEE802.15-9914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5335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2D5-D60F-425D-B6E2-433D4D5B06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1T23:08:33Z</dcterms:modified>
  <cp:revision>81</cp:revision>
  <dc:subject>IEEE 802.15 Marketing</dc:subject>
  <dc:title>IEEE P802.15 Working Group for Wireless Personal Area Networks</dc:title>
</cp:coreProperties>
</file>