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D88-FA7C-41C1-B6BC-1C5BCD83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5E4-B4DA-40E0-A3F4-CE7EF9DB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4E2-2DD6-4CED-8ED3-3B96E20F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D97-B760-4AD9-9F1B-59E9D756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CF3-7BC7-49E5-8253-BF219CA2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322-19EE-47FB-B5E5-A4ABE453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670-CF4D-4D86-8485-626A4F6A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19B-2605-4C85-B3BB-AF29EF66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AE4-9036-4769-9D9C-56C6A2CB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077-DCF2-4C6E-8CC0-0057CD34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BEA-7EB3-4549-AD10-A72D2612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8A8-32CE-4EF5-967B-3D017EC2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Bisdikian-</a:t>
            </a:r>
            <a:fld id="{64403447-65A5-4F28-AD14-0518C831D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luetooth Architecture Overview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r. Chatschik Bisdikia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BM Research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.J. Watson Research Cente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awthorne, NY 10532, USA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isdik@us.ibm.com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60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2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5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9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1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9BC-3C70-4AA0-B649-A7C7EF999A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81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3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5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6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0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491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2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ple device acces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phone benefi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nd’s free oper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4CB-B85A-4C6E-8648-249456D611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97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3940200" y="2441520"/>
            <a:ext cx="4460760" cy="1521000"/>
            <a:chOff x="3940200" y="2441520"/>
            <a:chExt cx="4460760" cy="1521000"/>
          </a:xfrm>
        </p:grpSpPr>
        <p:pic>
          <p:nvPicPr>
            <p:cNvPr id="499" name="" descr=""/>
            <p:cNvPicPr/>
            <p:nvPr/>
          </p:nvPicPr>
          <p:blipFill>
            <a:blip r:embed="rId3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0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1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6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940200" y="2671920"/>
              <a:ext cx="860400" cy="1054080"/>
              <a:chOff x="3940200" y="2671920"/>
              <a:chExt cx="860400" cy="1054080"/>
            </a:xfrm>
          </p:grpSpPr>
          <p:sp>
            <p:nvSpPr>
              <p:cNvPr id="511" name=""/>
              <p:cNvSpPr/>
              <p:nvPr/>
            </p:nvSpPr>
            <p:spPr>
              <a:xfrm rot="20846400">
                <a:off x="4006080" y="2741760"/>
                <a:ext cx="529200" cy="491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2" name="tosh50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40200" y="2671920"/>
                <a:ext cx="860400" cy="105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3" name="globe3" descr=""/>
            <p:cNvPicPr/>
            <p:nvPr/>
          </p:nvPicPr>
          <p:blipFill>
            <a:blip r:embed="rId5"/>
            <a:srcRect l="13639" t="0" r="12661" b="0"/>
            <a:stretch/>
          </p:blipFill>
          <p:spPr>
            <a:xfrm>
              <a:off x="6994440" y="2441520"/>
              <a:ext cx="1406520" cy="15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4" name="" descr=""/>
          <p:cNvPicPr/>
          <p:nvPr/>
        </p:nvPicPr>
        <p:blipFill>
          <a:blip r:embed="rId6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4338000" y="1036800"/>
            <a:ext cx="2643120" cy="988560"/>
            <a:chOff x="4338000" y="1036800"/>
            <a:chExt cx="2643120" cy="988560"/>
          </a:xfrm>
        </p:grpSpPr>
        <p:pic>
          <p:nvPicPr>
            <p:cNvPr id="516" name="" descr=""/>
            <p:cNvPicPr/>
            <p:nvPr/>
          </p:nvPicPr>
          <p:blipFill>
            <a:blip r:embed="rId7"/>
            <a:stretch/>
          </p:blipFill>
          <p:spPr>
            <a:xfrm>
              <a:off x="5351400" y="1547640"/>
              <a:ext cx="973080" cy="4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"/>
            <p:cNvGrpSpPr/>
            <p:nvPr/>
          </p:nvGrpSpPr>
          <p:grpSpPr>
            <a:xfrm>
              <a:off x="4338000" y="1547640"/>
              <a:ext cx="919080" cy="477720"/>
              <a:chOff x="4338000" y="1547640"/>
              <a:chExt cx="919080" cy="477720"/>
            </a:xfrm>
          </p:grpSpPr>
          <p:sp>
            <p:nvSpPr>
              <p:cNvPr id="518" name=""/>
              <p:cNvSpPr/>
              <p:nvPr/>
            </p:nvSpPr>
            <p:spPr>
              <a:xfrm>
                <a:off x="433800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48956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4220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80924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4964040" y="1036800"/>
              <a:ext cx="1633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PSTN, ISDN,</a:t>
              </a:r>
              <a:br>
                <a:rPr sz="1200"/>
              </a:b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, WAN, x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6062040" y="1547640"/>
              <a:ext cx="919080" cy="477720"/>
              <a:chOff x="6062040" y="1547640"/>
              <a:chExt cx="919080" cy="477720"/>
            </a:xfrm>
          </p:grpSpPr>
          <p:sp>
            <p:nvSpPr>
              <p:cNvPr id="524" name=""/>
              <p:cNvSpPr/>
              <p:nvPr/>
            </p:nvSpPr>
            <p:spPr>
              <a:xfrm>
                <a:off x="606204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1360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36624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53328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ata access poi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more connector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y internet ac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connection experie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EA7-FEC2-4116-AFDA-6423B9C7B0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133720" y="5367240"/>
            <a:ext cx="2898720" cy="424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33720" y="484668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33720" y="386856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01960" y="435780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01960" y="386856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33720" y="256716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33720" y="204480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06720" y="204480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13320" y="204480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40240" y="204480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1523880"/>
            <a:ext cx="3786120" cy="42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18840" y="2957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7809800">
            <a:off x="4582440" y="2977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5486400" y="373392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19920" y="429732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075-7FC2-4ED3-8605-37F2A2AA18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adi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y synthesis: frequency hopp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ersion bits into symbols: modul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mit pow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eiver sensitiv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A3F-72F2-4594-9FD5-D51A6920DD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50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network topolog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dio desig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ed radios can be master or  sla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are symmetric (same radio can be 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o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 can connect to 7 simultaneous or 200+ active slaves per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piconet has maximum capacity (1 MSp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que hopping pattern/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tter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capacity sys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imal impact with up to 10 piconets within ran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can share piconets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254-52EB-4CFA-8999-E86F8CC97B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picon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89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1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3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4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 devices in a piconet hop togeth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 form a piconet: master gives slaves its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loc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evice 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pping pattern determined by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device ID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48-bit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hase in hopping pattern determined by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n-piconet devices are in 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conet Address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 Member Address (AMA, 3-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ked Member Address (PMA, 8-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32E-DA17-4ADA-8FE5-1F6B029102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rotocol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ing to join a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qui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 about radios to connect 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to a specific radi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ly on a piconet (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k/Hol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-power connected sta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7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7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10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3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C51-56C6-49CF-80FD-CAA64DB621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ower consciousnes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 current &lt; 0.3 m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months(*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ce mode 8-30 m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5 hou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mode average 5 mA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.3-30mA, 20 kbps, 25%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0 hou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-power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grammable data length (else radio slee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 and Park modes: 60 µ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vices connected but not participa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 retains AMA address, Park releases AMA, gets PMA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vice can participate within 2 m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timates calculated with 600 mAh battery and internal amplifier, power will vary with implementation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209-9471-46D7-B5C2-316C453A4B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link typ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ling-based packet transmiss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slot: 0.625msec (max 1600 slots/se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/slave slots (even-/odd-numbered slo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lling: master always “polls” slav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chronous connection-oriented (SCO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rcuit-switched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iodic single-slot packet assignm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mmetric 64Kbps full-duple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ynchronous connection-less (ACL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mmetric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iable packet size (1-5 slots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. 721 kbps (57.6 kbps return channel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8.8 - 432.6 kbps (symmetric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21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3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7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61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5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79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5D8-6207-44DC-8929-00B66B78D0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Acknowledgement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1" lang="en-US" sz="1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2BD-C2CE-49B2-9E90-ADF2A19B23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rror handl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ward-error correction (FEC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ers are protected with 1/3 rate FEC and HEC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yloads may be FEC protecte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/3 rate: simple bit repetition (SCO packets only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/3 rate: (10,15) shortened Hamming c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/3 rate: no FE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Q (ACL packets onl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-bit CRC (CRC-CCITT) &amp; 1-bit ACK/NACK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-bit sequence numb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108576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400040" y="108576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97200" y="108576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43000" y="172260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43920" y="172260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10960" y="172080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12800" y="78588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882880" y="78588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853960" y="76212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4C8-CD13-44D3-A562-E91784934DD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security featur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st frequency hopping (79 channel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 transmit power (range &lt;= 10m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 of remote devi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sed on link key (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 be performed in both direc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cryption of payload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 cipher algorith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ffects all traffic on a link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 entry by us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E81-C72D-4628-AB9F-309D3619D8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6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3" name=""/>
            <p:cNvCxnSpPr>
              <a:stCxn id="800" idx="5"/>
              <a:endCxn id="798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4" name=""/>
            <p:cNvCxnSpPr>
              <a:stCxn id="801" idx="3"/>
              <a:endCxn id="798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5" name=""/>
            <p:cNvCxnSpPr>
              <a:stCxn id="800" idx="6"/>
              <a:endCxn id="801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6" name=""/>
            <p:cNvCxnSpPr>
              <a:stCxn id="798" idx="5"/>
              <a:endCxn id="799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7" name=""/>
            <p:cNvCxnSpPr>
              <a:stCxn id="802" idx="7"/>
              <a:endCxn id="798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08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ink keys in a picon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keys are generated via a PIN entr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different link key for each pair of devices is allow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manent storage of link key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4C8-115A-4B4C-805D-A292E2431E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Key generation and usag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1060560" y="1079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81200" y="20001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03480" y="1452600"/>
            <a:ext cx="350640" cy="547560"/>
          </a:xfrm>
          <a:prstGeom prst="downArrow">
            <a:avLst>
              <a:gd name="adj1" fmla="val 50000"/>
              <a:gd name="adj2" fmla="val 3904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69880" y="29894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17440" y="51865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81200" y="40845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01680" y="35434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01680" y="24861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01680" y="45705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74840" y="3083040"/>
            <a:ext cx="2743200" cy="304560"/>
          </a:xfrm>
          <a:prstGeom prst="leftRightArrow">
            <a:avLst>
              <a:gd name="adj1" fmla="val 50000"/>
              <a:gd name="adj2" fmla="val 179308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679840" y="53625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751480" y="498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539800" y="27432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560920" y="1066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80120" y="19875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03840" y="14400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070600" y="297648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718160" y="51832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280120" y="40719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702400" y="353052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702400" y="247320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02400" y="4557600"/>
            <a:ext cx="352440" cy="625680"/>
          </a:xfrm>
          <a:prstGeom prst="downArrow">
            <a:avLst>
              <a:gd name="adj1" fmla="val 50000"/>
              <a:gd name="adj2" fmla="val 44382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370920" y="1116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285320" y="28242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437600" y="511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CF3-ED9C-4C59-9C3D-BB217FECC0C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pplication level securit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ilds on-top of link-level secur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eates trusted device group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urity levels for ser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oriza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entica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cryp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fferent or higher security requirements could be added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sonal authentica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igher security leve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ke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91A-011C-47C2-9A4C-1AEC626BCC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676520" y="1219320"/>
            <a:ext cx="6324480" cy="4266720"/>
            <a:chOff x="1676520" y="1219320"/>
            <a:chExt cx="6324480" cy="4266720"/>
          </a:xfrm>
        </p:grpSpPr>
        <p:sp>
          <p:nvSpPr>
            <p:cNvPr id="850" name=""/>
            <p:cNvSpPr/>
            <p:nvPr/>
          </p:nvSpPr>
          <p:spPr>
            <a:xfrm>
              <a:off x="1676520" y="335268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52840" y="506232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52840" y="454176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52840" y="356364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30720" y="405288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30720" y="356364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52840" y="226224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52840" y="173988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22520" y="173988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56040" y="173988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86480" y="173988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752840" y="121932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98280" y="2652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17809800">
              <a:off x="3866760" y="26834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39040" y="137160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8520" y="2506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517640" y="388620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94400" y="3581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D65-3C3D-48DA-978E-2C2FCF1DBD3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oftware architecture goa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the target usage scenari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a variety of hardware platfor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od out of box user experie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able legacy applic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tilize existing protocols where possib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A0C-86CF-43A1-A2EB-580F88D51F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"/>
          <p:cNvGrpSpPr/>
          <p:nvPr/>
        </p:nvGrpSpPr>
        <p:grpSpPr>
          <a:xfrm>
            <a:off x="380880" y="1295280"/>
            <a:ext cx="8404200" cy="4495680"/>
            <a:chOff x="380880" y="1295280"/>
            <a:chExt cx="8404200" cy="4495680"/>
          </a:xfrm>
        </p:grpSpPr>
        <p:sp>
          <p:nvSpPr>
            <p:cNvPr id="871" name=""/>
            <p:cNvSpPr/>
            <p:nvPr/>
          </p:nvSpPr>
          <p:spPr>
            <a:xfrm>
              <a:off x="2614680" y="44704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604960" y="445932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08520" y="198108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08520" y="19810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55680" y="198108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55680" y="198108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765520" y="3352680"/>
              <a:ext cx="360" cy="6858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765520" y="4037760"/>
              <a:ext cx="60948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66100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rin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12880" y="533376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ost Control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70280" y="4943520"/>
              <a:ext cx="360" cy="314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08520" y="129528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vCard/v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5126760" y="2438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94320" y="24382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75000" y="2666880"/>
              <a:ext cx="9907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365720" y="26668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99080" y="5086080"/>
              <a:ext cx="360" cy="17172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70480" y="40384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505560" y="5092560"/>
              <a:ext cx="16002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8098560" y="1751760"/>
              <a:ext cx="360" cy="33526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5680" y="129528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75000" y="2438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75000" y="40384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60800" y="3962160"/>
              <a:ext cx="360" cy="4572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13280" y="3340080"/>
              <a:ext cx="360" cy="1079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70280" y="1752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917800" y="1752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08520" y="12952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155680" y="129528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320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0320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6100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13480" y="1295280"/>
              <a:ext cx="137160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13480" y="129528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65560" y="2901960"/>
              <a:ext cx="15811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255840" y="2895480"/>
              <a:ext cx="1581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76720" y="2873160"/>
              <a:ext cx="16272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78520" y="2857320"/>
              <a:ext cx="1623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64120" y="3574800"/>
              <a:ext cx="163836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54760" y="3557520"/>
              <a:ext cx="1650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12880" y="533376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27480" y="2666880"/>
              <a:ext cx="5335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61000" y="26668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65320" y="4190760"/>
              <a:ext cx="18288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94120" y="419076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65320" y="4038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444680" y="2908080"/>
              <a:ext cx="150480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44680" y="2908080"/>
              <a:ext cx="150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28840" y="3524040"/>
              <a:ext cx="1663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28840" y="3524040"/>
              <a:ext cx="1663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0880" y="3557520"/>
              <a:ext cx="220824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ervice Dis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740-092F-4141-90CF-9916AA27B46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st Controller Interface (HCI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Layer Control &amp; Adaptation (L2CA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23B-E797-4D5C-99DD-DC07EF24DF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rvice Discovery Protocol (SD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925-CC26-4FC0-8B12-C7ED366F92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A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o is Bluetooth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 is Bluetooth and what does it do for you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usage scenarios examp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operability &amp;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B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EEE802.15 and Bluetooth spec mapp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71D-D1E4-4966-9B61-0F662F2AFE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FCOMM (based on GSM TS07.10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ephony Control Protocol Spec (TC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gacy protocol reus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791-7B70-406F-8455-3DFB65534CA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teroperability &amp; 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4653000" y="1219320"/>
            <a:ext cx="3857760" cy="3672720"/>
            <a:chOff x="4653000" y="1219320"/>
            <a:chExt cx="3857760" cy="3672720"/>
          </a:xfrm>
        </p:grpSpPr>
        <p:sp>
          <p:nvSpPr>
            <p:cNvPr id="932" name=""/>
            <p:cNvSpPr/>
            <p:nvPr/>
          </p:nvSpPr>
          <p:spPr>
            <a:xfrm>
              <a:off x="5072040" y="2152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72040" y="32986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72040" y="27255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2040" y="3871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45160" y="12924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218280" y="12924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791400" y="12924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364520" y="25938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935840" y="12924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32560" y="46036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60640" y="46022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53000" y="24400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6200000">
              <a:off x="4325400" y="287244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72040" y="12193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024600" y="13716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791400" y="37288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791400" y="25830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935840" y="37288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resents default solution for a usage mod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tical slice through the protocol st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s for interoperability and logo requireme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ch Bluetooth device supports one or more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2D43-0E36-4267-93B5-EBFF10FFFB6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1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3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9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3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A24-E3D9-4026-A1C6-19E9448C24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609480" y="1025640"/>
            <a:ext cx="8020080" cy="4612680"/>
            <a:chOff x="609480" y="1025640"/>
            <a:chExt cx="8020080" cy="4612680"/>
          </a:xfrm>
        </p:grpSpPr>
        <p:sp>
          <p:nvSpPr>
            <p:cNvPr id="970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2" name=""/>
            <p:cNvGraphicFramePr/>
            <p:nvPr/>
          </p:nvGraphicFramePr>
          <p:xfrm>
            <a:off x="3903480" y="1488600"/>
            <a:ext cx="855720" cy="78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1488600"/>
                      <a:ext cx="855720" cy="78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4" name=""/>
            <p:cNvGraphicFramePr/>
            <p:nvPr/>
          </p:nvGraphicFramePr>
          <p:xfrm>
            <a:off x="609480" y="2063520"/>
            <a:ext cx="1414440" cy="135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063520"/>
                      <a:ext cx="1414440" cy="13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6" name=""/>
            <p:cNvGraphicFramePr/>
            <p:nvPr/>
          </p:nvGraphicFramePr>
          <p:xfrm>
            <a:off x="2266920" y="1966680"/>
            <a:ext cx="1315800" cy="36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1966680"/>
                      <a:ext cx="131580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8" name=""/>
            <p:cNvGraphicFramePr/>
            <p:nvPr/>
          </p:nvGraphicFramePr>
          <p:xfrm>
            <a:off x="2371680" y="3012840"/>
            <a:ext cx="1271520" cy="40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012840"/>
                      <a:ext cx="127152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1320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13200" y="53528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6835680" y="50666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358040" y="53528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35804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48016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713200" y="49240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864040" y="49240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6835680" y="49240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7358040" y="49240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8480160" y="49240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508520" y="49240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11880" y="47811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078320" y="372888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78320" y="2998440"/>
              <a:ext cx="0" cy="24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318000" y="4775040"/>
              <a:ext cx="801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05320" y="445104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092720" y="2204640"/>
              <a:ext cx="0" cy="29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692480" y="1461960"/>
              <a:ext cx="3240" cy="25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9"/>
            <a:stretch/>
          </p:blipFill>
          <p:spPr>
            <a:xfrm>
              <a:off x="4047840" y="3404880"/>
              <a:ext cx="65880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F58-6385-4072-B4E9-E3C38D02E05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"/>
          <p:cNvGrpSpPr/>
          <p:nvPr/>
        </p:nvGrpSpPr>
        <p:grpSpPr>
          <a:xfrm>
            <a:off x="609480" y="1092240"/>
            <a:ext cx="7910280" cy="4013280"/>
            <a:chOff x="609480" y="1092240"/>
            <a:chExt cx="7910280" cy="4013280"/>
          </a:xfrm>
        </p:grpSpPr>
        <p:sp>
          <p:nvSpPr>
            <p:cNvPr id="1012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4" name=""/>
            <p:cNvGraphicFramePr/>
            <p:nvPr/>
          </p:nvGraphicFramePr>
          <p:xfrm>
            <a:off x="609480" y="4114800"/>
            <a:ext cx="114300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114800"/>
                      <a:ext cx="11430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6" name=""/>
            <p:cNvGraphicFramePr/>
            <p:nvPr/>
          </p:nvGraphicFramePr>
          <p:xfrm>
            <a:off x="2750760" y="1092240"/>
            <a:ext cx="116676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092240"/>
                      <a:ext cx="1166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8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0376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03760" y="44308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672588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48240" y="44308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4824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37072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603760" y="40017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754240" y="40021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725880" y="40017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7248240" y="40017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8370720" y="40017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399080" y="40021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0208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202080" y="31449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84656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87680" y="2287800"/>
              <a:ext cx="6480" cy="34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92720" y="1573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70120" y="128736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4" name="" descr=""/>
            <p:cNvPicPr/>
            <p:nvPr/>
          </p:nvPicPr>
          <p:blipFill>
            <a:blip r:embed="rId5"/>
            <a:stretch/>
          </p:blipFill>
          <p:spPr>
            <a:xfrm>
              <a:off x="1333080" y="2530440"/>
              <a:ext cx="1744920" cy="15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7EA-37EB-4F60-B24E-EBE6A257A87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685800" y="1219320"/>
            <a:ext cx="7994160" cy="4284720"/>
            <a:chOff x="685800" y="1219320"/>
            <a:chExt cx="7994160" cy="4284720"/>
          </a:xfrm>
        </p:grpSpPr>
        <p:sp>
          <p:nvSpPr>
            <p:cNvPr id="1047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9" name=""/>
            <p:cNvGraphicFramePr/>
            <p:nvPr/>
          </p:nvGraphicFramePr>
          <p:xfrm>
            <a:off x="4343040" y="238752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38752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1" name=""/>
            <p:cNvGraphicFramePr/>
            <p:nvPr/>
          </p:nvGraphicFramePr>
          <p:xfrm>
            <a:off x="2590560" y="261612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261612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" name=""/>
            <p:cNvGraphicFramePr/>
            <p:nvPr/>
          </p:nvGraphicFramePr>
          <p:xfrm>
            <a:off x="685800" y="223524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23524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5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6396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63960" y="521820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688644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408800" y="521820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0880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53092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763960" y="478908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914800" y="478944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6886440" y="478908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7408800" y="478908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8530920" y="478908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559280" y="478944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135560" y="359424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129080" y="271620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62640" y="464652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68760" y="464040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156080" y="43164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521400" y="479268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930720" y="164448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N access poin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65F-2559-4B51-B90E-4F7EB72950B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1085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1088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1091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1094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1097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9AA-FE73-4CE6-A8C9-6F285BD12C1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luetooth is a global, RF-based (ISM band: 2.4GHz), short-range, connectivity technology &amp; solution for portable, personal de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pec compris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Discover Magazine Awards finali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 learn more: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http://www.bluetooth.com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E84-C4EC-4E41-90C7-4F1A936334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spec and IEEE802.15 (1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is not only a link (connectivity) solution but an end-to-end (e2e)solu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Bluetooth e2e solution is built on-top of a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r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f low level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rans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otocol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Bluetooth “brand-name” is highly dependent on the presence of the core protocols in all devices claiming to be Bluetooth devic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Courier New"/>
              </a:rPr>
              <a:t>The draft standard must contain: RF, BB, LM, &amp; L2CAP Bluetooth protocol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er level services (including LLC) can/shall be built on top of L2CA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GAP (Generic Access Profile) can serve as a guideline for establishing Bluetooth links between host devi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B5C-835D-4ACA-B905-E9DE236D0A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5563440" y="367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rot="10800000">
            <a:off x="5257440" y="38858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440240" y="18921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7809800">
            <a:off x="4582440" y="2824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133720" y="24145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spec and IEEE802.15 (2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3318840" y="28051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905120" y="3276720"/>
            <a:ext cx="6324480" cy="2590560"/>
            <a:chOff x="1905120" y="3276720"/>
            <a:chExt cx="6324480" cy="2590560"/>
          </a:xfrm>
        </p:grpSpPr>
        <p:sp>
          <p:nvSpPr>
            <p:cNvPr id="1111" name=""/>
            <p:cNvSpPr/>
            <p:nvPr/>
          </p:nvSpPr>
          <p:spPr>
            <a:xfrm>
              <a:off x="1905120" y="32767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62720" y="36576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095880" y="43736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2133720" y="37162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33720" y="18921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006720" y="18921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613320" y="18921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13716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133720" y="52149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46944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901960" y="42051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01960" y="37162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5B1-93BD-4DA4-9D92-2E2CD840593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o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rald Blaatand “Bluetooth” I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ng of Denmark 940-981 A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one of two Runic stones erected in his capital city of Jell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tone’s inscription (“runes”) says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hristianiz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ontroll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believes that devices shall seamlessly communicate [wirelessly]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7BE-9DFC-47C1-B9B4-8D9D681D35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otocol layer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2898720" y="13953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898720" y="21286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71920" y="21286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671920" y="28623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78400" y="28623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575160" y="28623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0320" y="28623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664000" y="24620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664000" y="25369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64000" y="26114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64000" y="26859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4000" y="27622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664000" y="28368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057480" y="2403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57480" y="24796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57480" y="25560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057480" y="2630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57480" y="27068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57480" y="27813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62160" y="24606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137040" y="25192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213000" y="25765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286080" y="263520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362400" y="26938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436920" y="27525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13240" y="28116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57440" y="24606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530520" y="25113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606840" y="25653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681360" y="2617920"/>
            <a:ext cx="42840" cy="3492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57680" y="26701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832200" y="27226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908520" y="2776680"/>
            <a:ext cx="410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83040" y="28288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57440" y="24606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532320" y="24890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608280" y="2519280"/>
            <a:ext cx="39960" cy="2088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683160" y="25462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759120" y="25765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33640" y="2604960"/>
            <a:ext cx="39960" cy="241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08520" y="26337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983040" y="26654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059360" y="26938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135320" y="27226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210200" y="2752560"/>
            <a:ext cx="39600" cy="24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286160" y="27813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361040" y="28098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437000" y="2838600"/>
            <a:ext cx="39600" cy="2376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338800" y="2838600"/>
            <a:ext cx="39600" cy="2376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264280" y="28098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87960" y="27813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111640" y="2752560"/>
            <a:ext cx="41400" cy="24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038560" y="27226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962600" y="26938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888080" y="26654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811760" y="26337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37240" y="2604960"/>
            <a:ext cx="39600" cy="241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60920" y="25765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586400" y="25462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510080" y="2519280"/>
            <a:ext cx="41400" cy="2088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37000" y="24890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361040" y="24606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149800" y="246060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226120" y="2479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300640" y="2498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76960" y="25192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451480" y="2540160"/>
            <a:ext cx="39600" cy="2052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527800" y="25606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603760" y="25797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676840" y="26002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53160" y="26208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827680" y="2641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904000" y="2660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978520" y="26827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54840" y="27018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29360" y="2722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05680" y="2743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78400" y="27637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54720" y="2782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29240" y="28051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505560" y="2824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580080" y="28447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299280" y="28447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222960" y="2824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148440" y="28051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72120" y="2782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996160" y="27637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923080" y="2743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848200" y="2722680"/>
            <a:ext cx="3816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772240" y="27018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695920" y="26827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621400" y="2660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545080" y="2641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470560" y="2620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394240" y="26002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21160" y="25797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245200" y="25606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70320" y="2540160"/>
            <a:ext cx="39960" cy="2052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094360" y="25192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019840" y="24987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943520" y="2479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867200" y="246060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889360" y="2089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889360" y="2014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89360" y="19382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89360" y="1863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89360" y="17892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89360" y="1728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46560" y="1728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146560" y="18018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46560" y="1878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46560" y="1952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46560" y="2028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46560" y="21049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71920" y="35956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057480" y="3556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057480" y="34797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57480" y="34052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57480" y="33307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57480" y="3255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57480" y="3193920"/>
            <a:ext cx="111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66400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400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400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6400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502000" y="35956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575160" y="35956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02000" y="43275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49408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49408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9408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9408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9408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9408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05748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05748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5748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5748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05748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5748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33352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78400" y="35956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340320" y="35956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56724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56724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6724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6724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56724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56724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017960" y="3556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017960" y="34797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17960" y="34052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17960" y="33307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17960" y="3255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17960" y="3193920"/>
            <a:ext cx="111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332400" y="3556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332400" y="34797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332400" y="3405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32400" y="33307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32400" y="3255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32400" y="3193920"/>
            <a:ext cx="9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615000" y="3556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615000" y="34797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15000" y="3405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15000" y="33307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15000" y="3255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15000" y="3193920"/>
            <a:ext cx="9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39732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39732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9732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39732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9732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9732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06680" y="43275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406680" y="35956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308480" y="35956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170760" y="35956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3532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01796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01796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1796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01796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1796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796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6428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16428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16428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16428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16428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6428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15000" y="42879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15000" y="4213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15000" y="41371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15000" y="40640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15000" y="39877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15000" y="39276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308480" y="43275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4036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0228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370160" y="26892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370160" y="40989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990720" y="48769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1484280" y="20602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438200" y="25462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38200" y="19558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1484280" y="27936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438200" y="3954600"/>
            <a:ext cx="90720" cy="14436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438200" y="26892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1484280" y="42033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47451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438200" y="40989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484280" y="127296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11667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484280" y="4887720"/>
            <a:ext cx="1800" cy="401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52513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1720" y="10825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41960" y="24382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55560" y="32004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16400" y="46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98040" y="50338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283720" y="14796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246640" y="22114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39200" y="2944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39200" y="3678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1240" y="19731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361040" y="20336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81760" y="20034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946240" y="20336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94040" y="20034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39200" y="4410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5748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5748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5748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5748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5748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57800" y="2455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357800" y="24192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357800" y="23050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357800" y="22669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57800" y="223056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21938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2155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8639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8639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639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639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8639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488200" y="29653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221160" y="41720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5998680" y="42321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097680" y="420228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6671880" y="42321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618240" y="420228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160720" y="17859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595600" y="21686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160720" y="17859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65360" y="35146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60720" y="17859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03360" y="42512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15120" y="15955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441800" y="1706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69680" y="52135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597640" y="521352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56720" y="53928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713560" y="53942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0760" y="43275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430960" y="3697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472720" y="44308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1219320" y="1981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990720" y="19810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rot="16200000">
            <a:off x="503280" y="32443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7B8-3727-4BB0-8941-82802A5D96B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838080" y="214164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2CAP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643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832920" y="133992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2CA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2CAP payloa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48" name=""/>
          <p:cNvGraphicFramePr/>
          <p:nvPr/>
        </p:nvGraphicFramePr>
        <p:xfrm>
          <a:off x="1371600" y="229392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9392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753120" y="367200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52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32D-3963-4857-BFD3-AF384DA07E5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838080" y="207180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CL PDU (ACLP)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57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643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42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LP payloa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L_CH=‘b11’ the ACLP payload is generated and interpreted by the ACLP layer itsel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k Manager (LM) PDU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the payload is passed to the appropriate higher layer (L2CA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1295280" y="214776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776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4" name=""/>
          <p:cNvSpPr/>
          <p:nvPr/>
        </p:nvSpPr>
        <p:spPr>
          <a:xfrm>
            <a:off x="757080" y="374796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66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4D9-A3E4-4FEB-8C2C-1857608DE8E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838080" y="2133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131560" y="13399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42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 header (encoded with 1/3-rate FEC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 payloa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+CRC encoded with {1,2,3}/3-rate FEC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DU_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Dxy, HVx, DV, AUX1 the BB payload is passed to the appropriate higher layer (LM for ACL packets, an application for SCO packets, AUX1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header information or in the FHS payload is used to facilitate &amp; manage baseband transmiss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C: present only in non-AUX, ACL packe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76" name=""/>
          <p:cNvGraphicFramePr/>
          <p:nvPr/>
        </p:nvGraphicFramePr>
        <p:xfrm>
          <a:off x="1295280" y="220968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8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79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2" name=""/>
          <p:cNvSpPr/>
          <p:nvPr/>
        </p:nvSpPr>
        <p:spPr>
          <a:xfrm>
            <a:off x="7324560" y="990720"/>
            <a:ext cx="99072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241760" y="13399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747-C6A4-4465-BACD-00248097C9A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type alternativ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85" name=""/>
          <p:cNvSpPr/>
          <p:nvPr/>
        </p:nvSpPr>
        <p:spPr>
          <a:xfrm>
            <a:off x="1724040" y="3733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994120" y="3733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390920" y="37339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083320" y="4083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942280" y="4083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009400" y="408312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738440" y="28638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390920" y="286380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083320" y="1568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185440" y="320040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33520" y="1584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752480" y="1219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38440" y="20574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063960" y="205740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097360" y="2374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851560" y="24066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249920" y="1263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95280" y="2101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097360" y="3200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127520" y="28954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56640" y="3778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752480" y="4648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024360" y="4648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419720" y="46483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111760" y="4997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972520" y="49975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762120" y="5257800"/>
            <a:ext cx="761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202440" y="4648320"/>
            <a:ext cx="19047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045400" y="4997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157440" y="499752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249920" y="469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517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3024360" y="286380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972520" y="3200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C9B-5CD5-49FB-9E95-23C0E271406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23" name=""/>
          <p:cNvSpPr/>
          <p:nvPr/>
        </p:nvSpPr>
        <p:spPr>
          <a:xfrm>
            <a:off x="1066680" y="1219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425960" y="1568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124080" y="1219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91120" y="1219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019920" y="12193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286000" y="14097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468960" y="156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863960" y="1568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363000" y="156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096920" y="1981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991440" y="23302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2408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191120" y="19810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25780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32448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46896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53420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60268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66756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438280" y="2171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092240" y="28717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149640" y="28717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743200" y="3062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043080" y="32004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092240" y="39625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124080" y="39625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191120" y="39625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019920" y="39625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043800" y="43434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743200" y="4152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8D4-9A02-4A74-8562-10053EAE18B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process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1" name=""/>
          <p:cNvCxnSpPr>
            <a:stCxn id="1554" idx="3"/>
            <a:endCxn id="1555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2" name=""/>
          <p:cNvCxnSpPr>
            <a:stCxn id="1555" idx="3"/>
            <a:endCxn id="1556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3" name=""/>
          <p:cNvCxnSpPr>
            <a:stCxn id="1559" idx="3"/>
            <a:endCxn id="1558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4" name=""/>
          <p:cNvCxnSpPr>
            <a:stCxn id="1558" idx="3"/>
            <a:endCxn id="1557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5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0" name=""/>
          <p:cNvCxnSpPr>
            <a:stCxn id="1567" idx="3"/>
            <a:endCxn id="1568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1" name=""/>
          <p:cNvCxnSpPr>
            <a:stCxn id="1568" idx="0"/>
            <a:endCxn id="1569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2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6" name=""/>
          <p:cNvCxnSpPr>
            <a:stCxn id="1574" idx="3"/>
            <a:endCxn id="1573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7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9" name=""/>
          <p:cNvCxnSpPr>
            <a:stCxn id="1577" idx="3"/>
            <a:endCxn id="1578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0" name=""/>
          <p:cNvCxnSpPr>
            <a:stCxn id="1573" idx="2"/>
            <a:endCxn id="1577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1" name=""/>
          <p:cNvCxnSpPr>
            <a:stCxn id="1569" idx="3"/>
            <a:endCxn id="1572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2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7" name=""/>
          <p:cNvCxnSpPr>
            <a:stCxn id="1586" idx="0"/>
            <a:endCxn id="1584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8" name=""/>
          <p:cNvCxnSpPr>
            <a:stCxn id="1586" idx="0"/>
            <a:endCxn id="1585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9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F3F-6EC1-4091-8B9D-DCBA293E2A2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does Bluetooth do for you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4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69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1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0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6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2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4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7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6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9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3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4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6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1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3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F11-6228-409E-999E-442CF88B942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little bit of histo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(Special Interest Group) was formed in Februar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icss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ki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 are over 1036 adopter compani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ent “public” in Ma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ork (the spec: &gt;1,500 pages) became public on July 26, 1999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2F2-D86A-411B-8C53-D7FB463BDA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419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422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425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428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431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F68-D1C6-4704-853E-D024135578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484200" y="990720"/>
            <a:ext cx="8278560" cy="4267080"/>
            <a:chOff x="484200" y="990720"/>
            <a:chExt cx="8278560" cy="4267080"/>
          </a:xfrm>
        </p:grpSpPr>
        <p:sp>
          <p:nvSpPr>
            <p:cNvPr id="434" name=""/>
            <p:cNvSpPr/>
            <p:nvPr/>
          </p:nvSpPr>
          <p:spPr>
            <a:xfrm>
              <a:off x="5262480" y="15548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22680" y="10666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24120" y="33836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36880" y="33526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44798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42670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5160" y="25437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531600" y="29718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4200" y="48340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4200" y="43131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33354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2440" y="38242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52440" y="33354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200" y="20336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4200" y="15112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57200" y="15112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63800" y="15112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90720" y="15112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4200" y="9907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69320" y="24242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7809800">
              <a:off x="2932920" y="24440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hardware/software descrip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 application frame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95E-63CD-4408-A971-58607727E3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 examp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 Transf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 Access Poin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nchron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ads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idden Comput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ference Tabl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rdless Comput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siness Card Exchang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ant Postcar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e-in-one Phon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r Speakerphon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A60-AA65-49CD-8ABF-75E146FE1E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2T01:34:02Z</dcterms:created>
  <dc:creator>Chatschik Bisdikian</dc:creator>
  <dc:description/>
  <dc:language>en-US</dc:language>
  <cp:lastModifiedBy>Ian C. Gifford</cp:lastModifiedBy>
  <cp:lastPrinted>1999-07-23T14:05:54Z</cp:lastPrinted>
  <dcterms:modified xsi:type="dcterms:W3CDTF">1999-09-09T17:57:01Z</dcterms:modified>
  <cp:revision>185</cp:revision>
  <dc:subject/>
  <dc:title>No Slide Title</dc:title>
</cp:coreProperties>
</file>