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857-DF1A-4138-9BFE-DE0F5546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060-BD65-4D0E-8A2C-A72F93ED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1B5-7E0D-43C8-97B9-472E2761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B28-CB7B-4285-AC12-F9A30C92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4C6-3600-45FE-8BDB-445FA785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C9F-56B2-4BF4-A5A3-EB6A5FE6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1EA-3561-41AB-B4CF-512E7A1C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824-5A4B-4FBF-BA95-BC0D4112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17A-DC9C-4768-8EB2-2B2ABE25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994-CE6B-4CD6-9FDB-61E23157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AD1-F7F0-4C41-8371-2B00DCD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47D-47BA-472C-9E2B-9B774236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82CD8E-03EC-4A6C-A700-6F4944EEB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1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Session of meetings of the IEEE P802.15 Task Group 1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13 - 17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ton Hotel, Sonoma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55 Round Barn Bl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a Rosa, CA  95403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A49-741C-4C9F-B68F-87E55A266F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Schedule -99/56r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320" y="1600200"/>
            <a:ext cx="896328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  Wednesday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! SG1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! 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MC  ! SG1  |           |      !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!      |           |      !     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Joint.11/.15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DL Mode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.............|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...........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SG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Bluetoo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utoria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|             |      &amp;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6:30-9: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|             |Doc.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1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BE1-823D-4FA1-9300-ADDB71D913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10552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94360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486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63244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A42-6ED5-4DA0-9C17-52F0E7B894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 was Liaison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04B-D8E3-4770-8453-419607A7A7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Need to Consider Draft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ig5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36080" cy="490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D58-7627-4733-91DD-B73F1477453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o be add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BE9-08CD-4414-A598-A787D242DE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 3.11 Review Bluetooth 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F12-4C33-47B9-91EB-AAE77B37FB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con &amp;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Aug99 Örjan Johansson, Chatschik Bisdikian, ETSI &amp; IEEE-SA Liaison Meeting in Washington DC -99/0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Sep99 Jim Kardach &amp; Ian Gifford discussed Bluetooth and the FCC NP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’s to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Sep99 Ian Gifford forwarded Jim Kardach the IEEE Letter to F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’s from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5, 1999 Letter of Intent #2, Copyright License Agreement, CD-ROM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31, 1999 Bluetooth Proposal to IEEE and ETSI -99/0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3, 1999 CD-ROM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1999 Signed &amp; Initialed Copyright License 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to submit the approved Draft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going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618-9715-4451-A37A-BBD25A7218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been reviewing the Bluetooth Specification, via Liaison &amp; Public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Special Interest Group Formed May 20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 07Jul98 -98/2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2 15Sep98 -98/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3 26Oct98 -98/350 (Minute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4 14Dec98 J. Carlo 802 Overview to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5 09Mar99 -99/053 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6 01Jul99 -99/028 Letter Of I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7 15Jul99 -99/028r1 LOI #2, License, CD-ROM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8 26Jul99 Bluetooth v1.0A Foundation Specification Available via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9 31Aug99 -99/085 IEEE/ETSI/Bluetooth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0 31Aug99 -99/085 Proposal to IEEE &amp; ET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1 3Sep99 CD-ROM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2 9Sep99 Signed &amp; Initialed Copyright License Agre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3 13Sep99 -99/068 BT-IEEE Editorial WG Report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4 14Sep99 -99/069 to 073 Overview of the Bluetoot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E5F-A3C1-4DF8-9B5C-D0B5085328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4T17:33:09Z</dcterms:created>
  <dc:creator>Ian C. Gifford</dc:creator>
  <dc:description>061r1</dc:description>
  <dc:language>en-US</dc:language>
  <cp:lastModifiedBy>Ian C. Gifford</cp:lastModifiedBy>
  <cp:lastPrinted>1998-02-10T13:28:06Z</cp:lastPrinted>
  <dcterms:modified xsi:type="dcterms:W3CDTF">1999-09-14T22:04:16Z</dcterms:modified>
  <cp:revision>21</cp:revision>
  <dc:subject>IEEE 802.15 &lt;subject&gt;</dc:subject>
  <dc:title>1st Session of meetings of the IEEE P802.15 Task Group 1 for Wireless Personal Area Networks</dc:title>
</cp:coreProperties>
</file>