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70D-872A-4A71-8B61-755253E0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430-C3CF-4034-9FD1-9109C01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925-8BB9-4A94-A522-D63F0EB1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E33-071D-4623-BCD3-1CEC7CF7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2D8-9F2A-470D-9477-3A1D7528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691-8F44-4764-9F16-4BB575CD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479-83FB-4B50-B6D0-EF5275A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B82-1996-4D2C-B364-F7FE8A8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B81-AD83-4510-A361-3A47F4D7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B8C-0B51-4109-9816-3630EF4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BEB-AC7E-4C45-8FBA-0052AAC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5F6-0750-4614-81E9-45BDA49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9623F2-44C8-42AD-AAC8-F38BBC28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Ballo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177-5CF7-4BAF-85EA-5F4CE07CB3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Considers Draft Comments In The Following Mann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ig5" descr=""/>
          <p:cNvPicPr/>
          <p:nvPr/>
        </p:nvPicPr>
        <p:blipFill>
          <a:blip r:embed="rId1"/>
          <a:stretch/>
        </p:blipFill>
        <p:spPr>
          <a:xfrm>
            <a:off x="1220760" y="1936800"/>
            <a:ext cx="685656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791320"/>
            <a:ext cx="3429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1360" y="6019920"/>
            <a:ext cx="55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IEEE Companion, http://standards.ieee.org/guides/companion/part5.html#bal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64E-CD2D-4659-9A99-E5462FFF11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urrent P802.15 Working Group is comprised of 40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0E7-8209-429A-B242-0D1139AC655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802 Reporting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1895400"/>
            <a:ext cx="503712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EC5-554D-4E65-8E4F-213245653E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265720" y="1981080"/>
            <a:ext cx="3344760" cy="308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64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Organiz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and Sponsor Ballot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64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y of .1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Organizational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83440" y="3774960"/>
            <a:ext cx="1066680" cy="990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791320"/>
            <a:ext cx="8382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802.15 WG needs to understand How To become an IEEE-SA Memb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P802.15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117-4442-4010-8DAF-66DB7356ED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/Mil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lectronic Letter Ballot - 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1AE-640E-484C-905A-380E2B8977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64767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78F-099D-4EF9-8744-EA0EB223A7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line/Mile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15Ka" descr=""/>
          <p:cNvPicPr/>
          <p:nvPr/>
        </p:nvPicPr>
        <p:blipFill>
          <a:blip r:embed="rId1"/>
          <a:stretch/>
        </p:blipFill>
        <p:spPr>
          <a:xfrm>
            <a:off x="63360" y="2117880"/>
            <a:ext cx="900432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990720" y="4191120"/>
            <a:ext cx="7048440" cy="1411200"/>
            <a:chOff x="990720" y="4191120"/>
            <a:chExt cx="7048440" cy="1411200"/>
          </a:xfrm>
        </p:grpSpPr>
        <p:sp>
          <p:nvSpPr>
            <p:cNvPr id="55" name=""/>
            <p:cNvSpPr/>
            <p:nvPr/>
          </p:nvSpPr>
          <p:spPr>
            <a:xfrm>
              <a:off x="990720" y="5257800"/>
              <a:ext cx="76176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12600" y="523404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Ballo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7560" y="4191120"/>
              <a:ext cx="137160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037-53C6-4396-AEDC-6E70BD3E26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Electronic Letter Ballot - 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 PDF of the Draft P802.1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Letter Ballot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LB and Commen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Letter Ballo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, Compile, and distribute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B1C-97AB-433E-88F0-61E0FF7A5E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Finish P802.15.1 Draft on or before 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09B-0E49-4932-8B17-6D18B7D12C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or before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8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LB#1 and release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B05-E00D-4E8A-9302-07B605EE1E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3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3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533-65F9-449D-99F9-F58373E7DB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4: Issue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Recirculation Letter Ballot? If yes, Pre Tel-Aviv or Post Tel-Av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-Aviv Interim Meeting Quo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Tel-Aviv Interim Meeting Balloting vs. Letter Bal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onsor Ballot submission is 18Feb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360" y="5257800"/>
            <a:ext cx="81532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sk Group 1 suggest that we identify the Post LB #1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after the Comments are receiv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27C-4248-4590-89EB-30903960FB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0:42:59Z</dcterms:created>
  <dc:creator>Ian C. Gifford</dc:creator>
  <dc:description>076r0</dc:description>
  <dc:language>en-US</dc:language>
  <cp:lastModifiedBy>Ian C. Gifford</cp:lastModifiedBy>
  <cp:lastPrinted>1998-02-10T13:28:06Z</cp:lastPrinted>
  <dcterms:modified xsi:type="dcterms:W3CDTF">1999-09-14T22:03:41Z</dcterms:modified>
  <cp:revision>15</cp:revision>
  <dc:subject>IEEE 802.15 WG Balloting Planning</dc:subject>
  <dc:title>IEEE 802.15 Working Group for Wireless Personal Area Networks</dc:title>
</cp:coreProperties>
</file>