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7F3C-D5B5-4385-B7A9-EBA48E29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4351-448D-4A7C-9F64-205FB205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FB13-A736-45E6-B32C-648C3899F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04A4-F041-441F-8751-02FC2A70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3F0C-3BAD-4366-B504-356BA53E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53B8-0F9D-4391-A225-06E160B8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31CD-FAB4-4565-9A99-3EEBE92A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B461-6D96-4CBC-9B78-9D35C548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3BF1-CDDB-4237-B6A2-2D7533C2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4E79-F20A-4058-BB5F-64448E53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E916-8909-4585-A792-5182E34E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BA62-7BB2-4642-90A5-5FD8A753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632E9D2-E136-47AB-9666-4600CE2F0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04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and IEEE 80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280" y="1905120"/>
          <a:ext cx="8724960" cy="46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05120"/>
                    <a:ext cx="8724960" cy="46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3124080" y="4267080"/>
          <a:ext cx="2538360" cy="11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4267080"/>
                    <a:ext cx="253836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2743200" y="2895480"/>
          <a:ext cx="3224160" cy="159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2895480"/>
                    <a:ext cx="322416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200400" y="1371600"/>
          <a:ext cx="4952880" cy="1380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1371600"/>
                    <a:ext cx="495288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80880" y="685800"/>
          <a:ext cx="5513400" cy="2895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685800"/>
                    <a:ext cx="55134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2514600" y="1981080"/>
          <a:ext cx="5738760" cy="2163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14600" y="1981080"/>
                    <a:ext cx="5738760" cy="21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6F28-0EE2-4A8E-A842-3B18ECD8B2B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raf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Functional Organization Ch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447920" y="1676520"/>
          <a:ext cx="587988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76520"/>
                    <a:ext cx="587988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ED22-88AD-4972-A7FE-889DD39178B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9093-6F23-4050-AF36-93E6FFFE75D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4:39:52Z</dcterms:created>
  <dc:creator>Tom Siep</dc:creator>
  <dc:description>&lt;doc#&gt;</dc:description>
  <dc:language>en-US</dc:language>
  <cp:lastModifiedBy>Bridget Labrode</cp:lastModifiedBy>
  <cp:lastPrinted>1998-02-10T13:28:06Z</cp:lastPrinted>
  <dcterms:modified xsi:type="dcterms:W3CDTF">1999-07-06T16:42:20Z</dcterms:modified>
  <cp:revision>5</cp:revision>
  <dc:subject>IEEE 802.15 &lt;subject&gt;</dc:subject>
  <dc:title>IEEE P802.15 Operating Rules</dc:title>
</cp:coreProperties>
</file>