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E3B-5520-409A-AAEA-8D6692A8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1E0-1390-4661-911D-3AAA74D7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13F-C1B4-4EB3-8D4D-F6563802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5F5-5AE5-44F9-93E4-E0F3F7E6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941-878C-476B-9E9C-19BD79C1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836-F82B-4E95-A772-95D1C254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EC5-0303-4599-B9CA-FC730E80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9C3-33CD-4226-848E-D958D695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4A3-8DAA-440C-B222-31A0511C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D5D-C63F-447E-BE5A-EC60D795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8AC-4D83-4D10-AA6C-48C7FFC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708-D262-4442-A124-3F39111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DE6EC82-B515-4339-972A-D026F5C08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5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Making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Personal Area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62C-13D9-46CF-929E-32E0AF4890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5880" y="5867280"/>
            <a:ext cx="60984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Chang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lasses of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ial: does not effect the implementation of the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: effect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echn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may ha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 made in revie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du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8CC-4FA2-46EF-BBD9-A3F8EA303F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48320" y="58672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Confirmation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s that any changes made do not invalidate previous “Approve” votes of those not a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B5E-A542-4430-8A3F-194EBB1588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705720" y="58672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nsor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rs qualified from a Sponsor Ballot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IEEE-SA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is room should be Sponsor Ball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E39-CA86-4E20-9E12-1CFC653925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38880" y="5867280"/>
            <a:ext cx="60984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Negative Vo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entered into Resolu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“Do Not Approve” votes must be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specific reasons for disapproval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would tak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vote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294-072B-4026-99A4-723153402A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772400" y="5867280"/>
            <a:ext cx="8380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ed to Standards Board Appro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made if possible to change draft to satisfy comment and not get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70% approval to pro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Boar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follow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sor Ballo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0D0-7478-4656-9701-C458B8785C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09480" y="16765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124080" y="2286000"/>
            <a:ext cx="2362320" cy="1066680"/>
          </a:xfrm>
          <a:prstGeom prst="leftArrow">
            <a:avLst>
              <a:gd name="adj1" fmla="val 50000"/>
              <a:gd name="adj2" fmla="val 5536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D3B-021B-4F29-8F75-B007F142894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76920" y="42670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rou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roup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to ExC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EEE 802 Exec Committ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riteria (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om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Auth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0B9-9149-4EDC-AB79-270E005AC7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10080" y="4267080"/>
            <a:ext cx="533520" cy="3812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ablish Criteria for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propos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or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258-6494-421A-AAA2-5C9ACDAC7E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4120" y="4648320"/>
            <a:ext cx="6858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 Draft for Circu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or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outline (next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to Wor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437-4738-48E3-A68F-1ED864B628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410080" y="502920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Letter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all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not outstand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available only to voting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o 4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D9C-EFFA-41E0-88B0-8EA5CC3492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541008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Review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urned Ball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entered into Resolu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“Do Not Approve” votes must be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specific reasons for disapproval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would tak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vote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9B7-C773-41FD-867A-2385FB6F4B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410080" y="586728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vable Negativ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made if possible to change draft to satisfy comment and not get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70% approval to pro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178-AB35-40A6-9876-6752B839AE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952880" y="502920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e Changes to Obtain WG Appro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only items that are effected by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 to avoid creating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447-1AA9-4C62-BBDD-7B51133BBA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18:09:33Z</dcterms:created>
  <dc:creator>Tom Siep</dc:creator>
  <dc:description>99/0xxr0</dc:description>
  <dc:language>en-US</dc:language>
  <cp:lastModifiedBy>Tom Siep</cp:lastModifiedBy>
  <cp:lastPrinted>1999-07-21T21:36:07Z</cp:lastPrinted>
  <dcterms:modified xsi:type="dcterms:W3CDTF">1999-07-27T22:28:58Z</dcterms:modified>
  <cp:revision>5</cp:revision>
  <dc:subject>IEEE 802.15 Steps to Making an IEEE 802 Standard</dc:subject>
  <dc:title>No Slide Title</dc:title>
</cp:coreProperties>
</file>