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D53F7-1790-4862-B707-DC3D2BBCC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3A962-026C-440E-8727-EAB16E384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5062A-AEA6-42AD-BB30-A75F06E4F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C5B82-9A3F-48B6-86D0-861C55335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BE02C-1A7A-4702-8CD1-83757E4FC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1C131-1472-45B5-B2A6-D9A6093A3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252F5-3D02-47B3-B19E-255BE4081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361D2-9E01-4BF0-A3D5-06167E8C7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3FD81-C059-4575-90C4-78AF560A0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99FF9-B55B-4F29-8F5C-112E3A63B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951C3-6DF1-4B76-AEBE-18383BED7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2A042-5D19-4056-82BA-C387B22BE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89A9CD-F9D4-47AF-BF74-EFEF40BE4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990720"/>
            <a:ext cx="8991720" cy="423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Ad Hoc WPAN-High Rate meeting Agend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im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genda for Ad Hoc Meeting on High Rate WAP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im Allen, Eastman Kodak</a:t>
            </a:r>
          </a:p>
        </p:txBody>
      </p:sp>
      <p:sp>
        <p:nvSpPr>
          <p:cNvPr id="3" name="PlaceHolder 2"/>
          <p:cNvSpPr>
            <a:spLocks noGrp="1"/>
          </p:cNvSpPr>
          <p:nvPr>
            <p:ph type="sldNum" idx="3"/>
          </p:nvPr>
        </p:nvSpPr>
        <p:spPr/>
        <p:txBody>
          <a:bodyPr/>
          <a:p>
            <a:fld id="{E40AD222-ED86-4B1E-BBDF-B7949B87E136}"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da</a:t>
            </a:r>
            <a:br>
              <a:rPr sz="2800"/>
            </a:br>
            <a:r>
              <a:rPr b="0" lang="en-US" sz="2800" spc="-1" strike="noStrike">
                <a:solidFill>
                  <a:srgbClr val="000000"/>
                </a:solidFill>
                <a:latin typeface="Times New Roman"/>
              </a:rPr>
              <a:t>WPAN - High Rate SG (Ad Hoc)</a:t>
            </a:r>
            <a:br>
              <a:rPr sz="2800"/>
            </a:br>
            <a:r>
              <a:rPr b="0" lang="en-US" sz="1600" spc="-1" strike="noStrike">
                <a:solidFill>
                  <a:srgbClr val="000000"/>
                </a:solidFill>
                <a:latin typeface="Times New Roman"/>
              </a:rPr>
              <a:t>Tuesday Nov. 9, 1999</a:t>
            </a:r>
            <a:endParaRPr b="0" lang="en-US" sz="1600" spc="-1" strike="noStrike">
              <a:solidFill>
                <a:srgbClr val="000000"/>
              </a:solidFill>
              <a:latin typeface="Times New Roman"/>
            </a:endParaRPr>
          </a:p>
        </p:txBody>
      </p:sp>
      <p:sp>
        <p:nvSpPr>
          <p:cNvPr id="47"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to ord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s and collection of nam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of Wednesday’s present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 Sess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k discussion on merits/problems/concer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sub-teams and lead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actions and meetings for SG (for next 4 month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ourn</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Jim Allen, Eastman Kodak</a:t>
            </a:r>
          </a:p>
        </p:txBody>
      </p:sp>
      <p:sp>
        <p:nvSpPr>
          <p:cNvPr id="3" name="PlaceHolder 2"/>
          <p:cNvSpPr>
            <a:spLocks noGrp="1"/>
          </p:cNvSpPr>
          <p:nvPr>
            <p:ph type="sldNum" idx="3"/>
          </p:nvPr>
        </p:nvSpPr>
        <p:spPr/>
        <p:txBody>
          <a:bodyPr/>
          <a:p>
            <a:fld id="{F41691D0-21CE-4ECF-9557-EC984EA7AFB4}"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01:41:43Z</dcterms:created>
  <dc:creator>Jim Allen</dc:creator>
  <dc:description>99/133r0</dc:description>
  <dc:language>en-US</dc:language>
  <cp:lastModifiedBy>Rober F. Heile</cp:lastModifiedBy>
  <cp:lastPrinted>1998-02-10T13:28:06Z</cp:lastPrinted>
  <dcterms:modified xsi:type="dcterms:W3CDTF">1999-11-09T15:36:26Z</dcterms:modified>
  <cp:revision>2</cp:revision>
  <dc:subject>IEEE 802.15 &lt;subject&gt;</dc:subject>
  <dc:title>Ad Hoc WPAN-High Rate Agenda-Nov 9, 1999</dc:title>
</cp:coreProperties>
</file>