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77B-89DB-453F-959D-84CF5CA0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AAB-FCEB-4C85-B73F-55D5654F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482-298C-4879-9895-BCF4A9E7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0A7-28DA-431A-AB61-72542F61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00E-A859-4FFB-AC85-7511C5DD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B24-A0E1-48EA-B7F4-53751B61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984-ADBE-434F-8E87-FC016CF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CB0-DD58-4CA5-B1DB-28058B9B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0BF-AB68-47AF-9001-3E45C19A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B06-9193-4A45-9071-323BC739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F3E-26CF-49DE-A35F-A1224DF4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6A1-500B-45E3-93FF-1295CB34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D373F2-4519-4EA3-98CD-13CD7688D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26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81280"/>
            <a:ext cx="6993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b Heile, 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7621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802.15 Working Group Status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5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458-3EF8-43B6-86B4-4CC6395638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July 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-  Begin formal voting on Officers and rules,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73F-F3E0-4B79-A9A0-73FFCBBA584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5 Proposed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is common with revised 802.11, which is based on 80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lined a few procedures to make meetings go more smoo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recommended procedures as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BBC-F635-4D58-B234-4BBF035FDB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DF2-FA1F-47FF-859A-9D0748C8FC6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Working Group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 Since March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the wor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/Missions/Tim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for July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9FB-1176-45BA-A50B-4A3A5C60F0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CA6-2C91-4954-8F13-4DA96C4476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WG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 Telecons for the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GAC Meeting in Chiba, Japan ( with 802.11), Ma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ized draft of 802.15 rules and document structure, reviewed Marcom activities, set liaison agenda,  established meeting schedule and proposed project time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GAC Meeting in London,UK,  Jun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ed gameplan for July plenary, established meeting objectives for joint session with Bluetooth, finalized Call for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 with Bluetooth in London, UK, Jun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standards process and agree on a proposed working relationship/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DEF-58D8-433B-A308-128D2F2F5B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P802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D6C-527A-4F4A-89D3-1C725C6165F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aison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Bluetooth Special Intere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Home Radio Frequency Working Group (HRF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Internet Engineering Task Force (IE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Access Protocol (WAP)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Data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ATM Forum Wireless ATM (WATM) 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ETSI Broadband Radio Access Networks (BRAN)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Infrared Data Association (Ir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LAN Alliance (WL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Department of Transportation, Federal Highway Agency and Intelligent Transport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Dedicated Short Range Communications Task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were s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A92-6D75-4F09-B335-21FD2BA7E5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ongoing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 IPR and Copy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 mutual timeline, circulate to SIG for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plan to recast version1.0 L2CAP and below into a draft standard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 HRF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ongoing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eeting Date July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B12-CD96-4232-9F30-79F8CD1819C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ghts on Objectives/Missions/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120" y="23623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048120"/>
            <a:ext cx="70261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recognized by companies as the place to go for WPAN functionality in their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have users demand P802.15 compliance as a minimum requirement of product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402-F3A4-41FE-9BE2-AFFA1FB5BD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ghts on Objectives/Missions/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sponsor ballot approved standard sooner than later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hould be Nov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be recognized by Bluetooth, HomeRF and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nough(meets market need for functionality) vs perfect is an acceptable trade-off for speed in delivery of a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ly need coex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more flexibility on interoperability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ARs are likel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/Kod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 low power/low cost/low data rat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6EF-192C-4B5A-A641-2DF3A4F9255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Robert F. Heile, GTE</dc:description>
  <dc:language>en-US</dc:language>
  <cp:lastModifiedBy>Bridget Labrode</cp:lastModifiedBy>
  <cp:lastPrinted>1998-11-06T19:39:09Z</cp:lastPrinted>
  <dcterms:modified xsi:type="dcterms:W3CDTF">1999-07-05T01:16:31Z</dcterms:modified>
  <cp:revision>34</cp:revision>
  <dc:subject>doc.: IEEE 802.11-99/026r0</dc:subject>
  <dc:title>P802.15-ExCom Report</dc:title>
</cp:coreProperties>
</file>