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70040" y="91080"/>
            <a:ext cx="2817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1080"/>
            <a:ext cx="27399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5200" y="4314960"/>
            <a:ext cx="5089320" cy="4086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4600" y="8791200"/>
            <a:ext cx="251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6520" y="879120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69793A-1568-4A8E-9DB1-57871099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791560"/>
            <a:ext cx="712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790120"/>
            <a:ext cx="549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290520"/>
            <a:ext cx="564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936520" y="879120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056CF5-914D-45AA-824C-110FEA815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774600" y="8791200"/>
            <a:ext cx="251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70040" y="91080"/>
            <a:ext cx="2817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3760" y="91080"/>
            <a:ext cx="27399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0240" y="679320"/>
            <a:ext cx="4541760" cy="3407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5200" y="4314960"/>
            <a:ext cx="508932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9292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ence of Bluetooth to the ISO Open Standards Interface (OSI) model and how the IEEE standards map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IEEE has only two layers of the ISO-OSI while Bluetooth (as you well know) covers all of them.  What is not indicated by this graph is that the normal place for the LLC layer is in a separate committee, 802.2.  This standard is common to 802 stacks, but each MAC may have some medium-specific clauses in the 802.2 standard.  Due to the unique nature of the wireless medium, we will need to evaluate if there is sufficient flexibility for a Bluetooth-based standard to follow this model.  Other options can be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9292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to be a fairly good correspondence, except for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scuss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5560" y="3993840"/>
            <a:ext cx="509256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are performed via Service Access Points (SA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Logical Link Control -- Three types of operation: connectionless with no ACK; connection-oriented; and connectionless with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s with upper layers via a set of primi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In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s with MAC via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Media Access Control -- Performs access control functions for the shared medium in support of the LL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ddressing and recognition of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rame check sequence generation and ch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LLC protocol data unit (PDU) deli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MAC Management -- managed objects and controls for MAC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Physical Layer Convergence Procedure -- Medium-independent physical layer: receives Messages, hands over bits to P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Physical Medium Dependent layer takes bits and (in our case) turns them into radio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PHY Management  -- managed objects and controls for PHY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Station Management -- Set of tools that allow performance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figura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aul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erforman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Security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ccounting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993-5228-4B0D-9138-F90BC53B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C93-5208-4D31-B8B7-656420EC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B7A-B2E8-432C-B809-4051894B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EF4-3602-44D0-8245-A98B098A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4EC-F00D-40E3-8B82-A3242258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8A0-538C-4C4A-8062-B0F95E6D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902-6503-43E9-8BA6-05CBCC15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AA7-9AB6-49BC-B3FA-35FF73A9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E27-DF7E-4287-9042-23DE0103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347-44B1-44BE-BE50-F1F54BC4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5F2-ADD9-47A8-BE87-1ED9520B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93F-2FCC-4633-A90C-62220DD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0ACD18-DC26-43AB-97DC-DB896179C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Proposed Struc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MAC and PHY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F2D-9A5E-4289-8628-6847BF442D5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reviations and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3F3-45D4-4853-B0F7-82559E7743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5A8-D546-43F4-B579-72A172ECF0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um Access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495680"/>
            <a:ext cx="182880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009-7DFA-47B4-8E01-C6ED05980E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Servic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4419720"/>
            <a:ext cx="1905120" cy="30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0D1-AB44-448E-B14B-8E730F8034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Fram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General 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ormat of Individual Fram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648320"/>
            <a:ext cx="1828800" cy="5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A55-5D96-44DB-BE20-0A0E30CB4F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Layer Function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/De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Exchange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4648320"/>
            <a:ext cx="1828800" cy="5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AB7-9FF4-4693-9ED8-3986551495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105520"/>
            <a:ext cx="175248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345-A3B1-459B-8323-5D5509A6F16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0000"/>
                </a:solidFill>
                <a:latin typeface="Arial"/>
              </a:rPr>
              <a:t>PHY Servic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105520"/>
            <a:ext cx="1752480" cy="228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AA0-AF61-4639-ADA2-72F1A6AAD3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 Fram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of Individual Fram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16002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A5A-F130-4BBE-B9AC-61C27B9583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 Layer Function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5257800"/>
            <a:ext cx="16002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7BB-C920-4116-990E-7EA4C40E10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28800"/>
            <a:ext cx="74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71600" y="1600200"/>
          <a:ext cx="65530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553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A19-80C8-4D64-B904-C8B6AA21C0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C Layer Management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Layer Management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3886200"/>
            <a:ext cx="2514600" cy="2362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453-6224-4032-BE87-5D524547BB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endi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Protocol Implementation Conformance Statement (PICS) pro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5F3-FE74-4FC6-89AD-8827838164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rotocol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mplementation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nformace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atement pro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S is a description of an implementation claim.  It specif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capabilities were 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ptions were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482-7702-4112-BA98-E2C7E6E5A8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l Defini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finitions are represented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ificatio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uage (S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Recommendation Z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berger, J., </a:t>
            </a:r>
            <a:r>
              <a:rPr b="1" i="1" lang="en-US" sz="2800" spc="-1" strike="noStrike">
                <a:solidFill>
                  <a:srgbClr val="000000"/>
                </a:solidFill>
                <a:latin typeface="AmericanTypewriter Cn"/>
              </a:rPr>
              <a:t>SDL Formal Object-Oriented Language for Communicating System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tfordshire, Prentice Hall Europe, 199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SBN 0-13-621384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9CC-B7E9-4D0A-8AE3-E2EF954D14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gemen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Bs are abstract represen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represented in ANS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yntax Notatio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-T Recommend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680-6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1" i="1" lang="en-US" sz="3200" spc="-1" strike="noStrike">
                <a:solidFill>
                  <a:srgbClr val="000000"/>
                </a:solidFill>
                <a:latin typeface="AmericanTypewriter Cn"/>
              </a:rPr>
              <a:t>SDL Formal Object-Oriented Language for Communic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748-FFC4-487E-8C04-913305B64C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Work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752480"/>
          <a:ext cx="7848720" cy="45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8487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DF7-BAE2-4063-B025-6F4D012A71B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ckup slides fol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3D0-5DF3-457D-8E1D-7DF9F68118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and IEE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828800"/>
            <a:ext cx="74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Bluetooth%20OSI%2080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8196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F9C-9EF3-4B2C-AF59-B110322461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52280" y="1905120"/>
          <a:ext cx="87249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249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to IEEE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124080" y="4267080"/>
          <a:ext cx="2538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267080"/>
                    <a:ext cx="2538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743200" y="2895480"/>
          <a:ext cx="32241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32241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1371600"/>
          <a:ext cx="495288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1371600"/>
                    <a:ext cx="49528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80880" y="685800"/>
          <a:ext cx="55134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85800"/>
                    <a:ext cx="5513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38280" y="2057400"/>
          <a:ext cx="3224160" cy="204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057400"/>
                    <a:ext cx="322416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EC5-3FF0-49BB-BAB8-D03E5759CD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luetoot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960" y="-344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14560" y="1179360"/>
            <a:ext cx="6933960" cy="947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8124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y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972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Brid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180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8028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H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0212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till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0760" y="1484280"/>
            <a:ext cx="47448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omm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Port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3104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05160" y="6200640"/>
            <a:ext cx="2147760" cy="2095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05160" y="5486400"/>
            <a:ext cx="371520" cy="671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948280"/>
            <a:ext cx="1719000" cy="2095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5695920"/>
            <a:ext cx="1719000" cy="2113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5486400"/>
            <a:ext cx="1719000" cy="1681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L</a:t>
            </a:r>
            <a:r>
              <a:rPr b="1" lang="en-GB" sz="1000" spc="-1" strike="noStrike" baseline="30000">
                <a:solidFill>
                  <a:srgbClr val="ffffff"/>
                </a:solidFill>
                <a:latin typeface="News Gothic MT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38440" y="4608360"/>
            <a:ext cx="6764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7760" y="4532400"/>
            <a:ext cx="676080" cy="49356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TS0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60880" y="4532400"/>
            <a:ext cx="676440" cy="493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1760" y="4532400"/>
            <a:ext cx="674640" cy="493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H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33520" y="3541680"/>
            <a:ext cx="4748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rOB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7760" y="354168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7056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164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till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66880" y="2550960"/>
            <a:ext cx="4730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v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33520" y="2550960"/>
            <a:ext cx="4748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v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776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U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82" idx="2"/>
            <a:endCxn id="194" idx="3"/>
          </p:cNvCxnSpPr>
          <p:nvPr/>
        </p:nvCxnSpPr>
        <p:spPr>
          <a:xfrm rot="5400000">
            <a:off x="5685120" y="2948760"/>
            <a:ext cx="2802600" cy="8611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3" name=""/>
          <p:cNvCxnSpPr>
            <a:stCxn id="197" idx="2"/>
          </p:cNvCxnSpPr>
          <p:nvPr/>
        </p:nvCxnSpPr>
        <p:spPr>
          <a:xfrm rot="5400000">
            <a:off x="5568480" y="2847960"/>
            <a:ext cx="842040" cy="1235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4" name=""/>
          <p:cNvCxnSpPr>
            <a:stCxn id="181" idx="2"/>
            <a:endCxn id="193" idx="0"/>
          </p:cNvCxnSpPr>
          <p:nvPr/>
        </p:nvCxnSpPr>
        <p:spPr>
          <a:xfrm rot="5400000">
            <a:off x="4330800" y="3045240"/>
            <a:ext cx="2554920" cy="420120"/>
          </a:xfrm>
          <a:prstGeom prst="bentConnector3">
            <a:avLst>
              <a:gd name="adj1" fmla="val 49957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5" name=""/>
          <p:cNvCxnSpPr>
            <a:stCxn id="178" idx="2"/>
            <a:endCxn id="191" idx="1"/>
          </p:cNvCxnSpPr>
          <p:nvPr/>
        </p:nvCxnSpPr>
        <p:spPr>
          <a:xfrm flipH="1" rot="16200000">
            <a:off x="664560" y="2881800"/>
            <a:ext cx="2878560" cy="107064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6" name=""/>
          <p:cNvCxnSpPr>
            <a:stCxn id="179" idx="2"/>
            <a:endCxn id="199" idx="0"/>
          </p:cNvCxnSpPr>
          <p:nvPr/>
        </p:nvCxnSpPr>
        <p:spPr>
          <a:xfrm rot="5400000">
            <a:off x="1923480" y="2057040"/>
            <a:ext cx="573480" cy="41508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7" name=""/>
          <p:cNvCxnSpPr>
            <a:stCxn id="179" idx="2"/>
            <a:endCxn id="200" idx="0"/>
          </p:cNvCxnSpPr>
          <p:nvPr/>
        </p:nvCxnSpPr>
        <p:spPr>
          <a:xfrm flipH="1" rot="16200000">
            <a:off x="2208240" y="2187000"/>
            <a:ext cx="573480" cy="1548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8" name=""/>
          <p:cNvCxnSpPr>
            <a:stCxn id="199" idx="2"/>
            <a:endCxn id="195" idx="0"/>
          </p:cNvCxnSpPr>
          <p:nvPr/>
        </p:nvCxnSpPr>
        <p:spPr>
          <a:xfrm flipH="1" rot="16200000">
            <a:off x="2037960" y="3008880"/>
            <a:ext cx="497520" cy="56880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9" name=""/>
          <p:cNvCxnSpPr>
            <a:stCxn id="200" idx="2"/>
            <a:endCxn id="195" idx="0"/>
          </p:cNvCxnSpPr>
          <p:nvPr/>
        </p:nvCxnSpPr>
        <p:spPr>
          <a:xfrm flipV="1" rot="10800000">
            <a:off x="2571120" y="3044520"/>
            <a:ext cx="1080" cy="497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0" name=""/>
          <p:cNvCxnSpPr>
            <a:stCxn id="195" idx="2"/>
            <a:endCxn id="192" idx="0"/>
          </p:cNvCxnSpPr>
          <p:nvPr/>
        </p:nvCxnSpPr>
        <p:spPr>
          <a:xfrm flipH="1" rot="16200000">
            <a:off x="3134520" y="3471840"/>
            <a:ext cx="497520" cy="162468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1" name=""/>
          <p:cNvCxnSpPr>
            <a:stCxn id="198" idx="2"/>
          </p:cNvCxnSpPr>
          <p:nvPr/>
        </p:nvCxnSpPr>
        <p:spPr>
          <a:xfrm rot="5400000">
            <a:off x="2800800" y="2799720"/>
            <a:ext cx="232560" cy="722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2" name=""/>
          <p:cNvCxnSpPr>
            <a:stCxn id="183" idx="2"/>
            <a:endCxn id="198" idx="0"/>
          </p:cNvCxnSpPr>
          <p:nvPr/>
        </p:nvCxnSpPr>
        <p:spPr>
          <a:xfrm rot="5400000">
            <a:off x="3021480" y="2234160"/>
            <a:ext cx="573480" cy="612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3" name=""/>
          <p:cNvCxnSpPr>
            <a:stCxn id="180" idx="2"/>
            <a:endCxn id="201" idx="0"/>
          </p:cNvCxnSpPr>
          <p:nvPr/>
        </p:nvCxnSpPr>
        <p:spPr>
          <a:xfrm rot="5400000">
            <a:off x="3818160" y="2253240"/>
            <a:ext cx="573480" cy="2268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4" name=""/>
          <p:cNvCxnSpPr>
            <a:stCxn id="201" idx="2"/>
            <a:endCxn id="196" idx="0"/>
          </p:cNvCxnSpPr>
          <p:nvPr/>
        </p:nvCxnSpPr>
        <p:spPr>
          <a:xfrm flipV="1" rot="10800000">
            <a:off x="4093560" y="3044520"/>
            <a:ext cx="1080" cy="497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5" name=""/>
          <p:cNvCxnSpPr>
            <a:stCxn id="196" idx="2"/>
            <a:endCxn id="192" idx="0"/>
          </p:cNvCxnSpPr>
          <p:nvPr/>
        </p:nvCxnSpPr>
        <p:spPr>
          <a:xfrm flipH="1" rot="16200000">
            <a:off x="3896640" y="4232880"/>
            <a:ext cx="497520" cy="10224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6" name=""/>
          <p:cNvCxnSpPr>
            <a:stCxn id="184" idx="2"/>
            <a:endCxn id="192" idx="3"/>
          </p:cNvCxnSpPr>
          <p:nvPr/>
        </p:nvCxnSpPr>
        <p:spPr>
          <a:xfrm rot="5400000">
            <a:off x="3349800" y="3161520"/>
            <a:ext cx="2802600" cy="43560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7" name=""/>
          <p:cNvCxnSpPr>
            <a:stCxn id="185" idx="2"/>
            <a:endCxn id="197" idx="0"/>
          </p:cNvCxnSpPr>
          <p:nvPr/>
        </p:nvCxnSpPr>
        <p:spPr>
          <a:xfrm rot="5400000">
            <a:off x="6350400" y="2234160"/>
            <a:ext cx="573480" cy="612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8" name=""/>
          <p:cNvCxnSpPr>
            <a:stCxn id="191" idx="2"/>
            <a:endCxn id="190" idx="0"/>
          </p:cNvCxnSpPr>
          <p:nvPr/>
        </p:nvCxnSpPr>
        <p:spPr>
          <a:xfrm flipH="1" rot="16200000">
            <a:off x="3593160" y="4484880"/>
            <a:ext cx="384840" cy="16185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9" name=""/>
          <p:cNvCxnSpPr>
            <a:stCxn id="192" idx="2"/>
            <a:endCxn id="190" idx="0"/>
          </p:cNvCxnSpPr>
          <p:nvPr/>
        </p:nvCxnSpPr>
        <p:spPr>
          <a:xfrm flipH="1" rot="16200000">
            <a:off x="4163760" y="5056560"/>
            <a:ext cx="461160" cy="3992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20" name=""/>
          <p:cNvCxnSpPr>
            <a:stCxn id="193" idx="2"/>
            <a:endCxn id="190" idx="0"/>
          </p:cNvCxnSpPr>
          <p:nvPr/>
        </p:nvCxnSpPr>
        <p:spPr>
          <a:xfrm rot="5400000">
            <a:off x="4765680" y="4853520"/>
            <a:ext cx="461160" cy="8053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21" name=""/>
          <p:cNvCxnSpPr>
            <a:stCxn id="194" idx="2"/>
            <a:endCxn id="190" idx="0"/>
          </p:cNvCxnSpPr>
          <p:nvPr/>
        </p:nvCxnSpPr>
        <p:spPr>
          <a:xfrm rot="5400000">
            <a:off x="5226120" y="4393080"/>
            <a:ext cx="461160" cy="1726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22D-40CF-4C9F-AE5D-6A22AC76E9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 Pa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1447920"/>
          <a:ext cx="6784920" cy="47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78492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C09-C957-457B-BB4D-0EEF831399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xonomy of an 802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2133720"/>
          <a:ext cx="674388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74388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81680" y="1828800"/>
          <a:ext cx="160020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1828800"/>
                    <a:ext cx="16002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66D-14DD-4CAA-A76D-A289176AAF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Standard Main 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26A-81C4-47B4-9A35-C1BB941729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Standard Appendi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ocol Implementation Conformance       Statement (PICS) pro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C79-EDD3-41B3-AA11-E671BA66C0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38480" y="3505320"/>
            <a:ext cx="4648320" cy="2895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D17-CECD-4FE2-ACEB-7A6AD4525C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ocuments (IEEE, ISO, ITU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505320"/>
            <a:ext cx="4648320" cy="2895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C2B-5D1F-4F58-9F69-1E6CE97044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specific to this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C1D-B88C-4A8C-8F79-1B4EF2EE5B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Tom Siep</dc:creator>
  <dc:description>Tom Siep, Texas Instruments</dc:description>
  <dc:language>en-US</dc:language>
  <cp:lastModifiedBy>Tom Siep</cp:lastModifiedBy>
  <cp:lastPrinted>1999-04-23T19:19:31Z</cp:lastPrinted>
  <dcterms:modified xsi:type="dcterms:W3CDTF">1999-07-07T18:47:54Z</dcterms:modified>
  <cp:revision>72</cp:revision>
  <dc:subject>doc.: IEEE 802.11-99/055r1</dc:subject>
  <dc:title>WPAN SG Tutorial</dc:title>
</cp:coreProperties>
</file>