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73B0-719E-4C6C-806A-EFD905324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574F-D2DB-4B4E-95B8-3DADC5F10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EBF9-6539-48D9-9C47-E28E86E6B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01FF-F4C0-48E5-8175-22DEA0B69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9ACB-D48D-43C5-94E7-129C0FE80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9D69-4DCC-4864-9AC2-3B6BB86A0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ADAF-1C38-4AC4-8F63-3C15965B0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D136-43AA-4AC2-B9CB-F6DBA8C92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458D-ADFF-4E99-AA39-15F6B50CF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9E02-0898-4E42-B197-503EAF843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DFC4-ABD8-4D98-B3C6-02C4FE34B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F7E9-5D19-44E6-8D28-50351DA97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20E1C7-26D1-477A-A4ED-54AA937F9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0800" y="643896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Al Petrick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350E-B0BF-4394-9928-E5BE7F3A82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32E4-8D64-4304-A93F-A006C44003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10CD-BD45-47A2-A721-480394E2AC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4466-91FC-40E5-ADE1-99DBF50AAF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8BF6-85C0-44E7-91C7-E0F056E4B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Al Petrick</cp:lastModifiedBy>
  <dcterms:modified xsi:type="dcterms:W3CDTF">1999-07-07T21:08:22Z</dcterms:modified>
  <cp:revision>19</cp:revision>
  <dc:subject/>
  <dc:title>No Slide Title</dc:title>
</cp:coreProperties>
</file>