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085-DEA6-45E0-A8D0-29D69C7B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360-2758-44FA-89E8-1852E565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E43-017D-4DA2-946B-D1D11B34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C03-ECF6-4331-8B72-FB97C23C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24B-7A46-46EC-B965-3FA0C00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196-8D90-4A19-9E04-58E65DA1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634-73BB-44D1-A18C-A3101C19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99F-24C9-4D4C-986C-D03FAA42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022-5F6E-4586-BDE7-972C9B07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8E3-43C8-403E-B1A0-9BC4575C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CF0-2B89-4D8C-8C07-803522E9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B08-4D97-4FE9-AD69-F26B7F7B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A9A803-5551-4A0C-9D4B-A13A42F5D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0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Study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B41-86F8-4472-9A49-9A4430E47F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Cha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Authorization Re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Cri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eing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COM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i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035-A0B0-4801-BB8B-7FCC108DEB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the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has voted to submit the PAR to the Working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ove that the Working Group vote to submit  the Coexistence Study Group PAR and Five Criteria to the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99/086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E70-9918-4B84-9447-909F24B84E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100r1</dc:description>
  <dc:language>en-US</dc:language>
  <cp:lastModifiedBy>Bridget Labrode</cp:lastModifiedBy>
  <cp:lastPrinted>1998-02-10T13:28:06Z</cp:lastPrinted>
  <dcterms:modified xsi:type="dcterms:W3CDTF">1999-09-16T17:54:55Z</dcterms:modified>
  <cp:revision>12</cp:revision>
  <dc:subject>IEEE 802.15 &lt;subject&gt;</dc:subject>
  <dc:title>IEEE P802.15 Working Group for Wireless Personal Area Networks</dc:title>
</cp:coreProperties>
</file>