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DB67-EE7B-45BB-96B6-41EDB56F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55AC-D0B7-4365-AB17-FA88A3F9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B5D7-D567-42CA-BB0F-6791D1BA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7B4F-6F3F-4676-9889-537135C7B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3DA7-C006-46AC-B742-26FE2C50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0DAB-76CF-4B8E-81D4-10FFE07B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8883-FC47-44CD-B38D-0E720D35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408B-27FA-4872-A6D4-F06F2DAF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7F79-57A2-423D-97DC-D2FDAC3A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5B3B-C68D-4C9E-97D3-40CBC4FF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2EFE-29D6-4E3A-9DCA-F22F0525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82F9-2EA2-413F-999F-2F03865C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15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4C4BC7B-6B0C-4891-B616-4B965874D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00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existence Study Group Report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B8CC-562B-498D-997B-04071877692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xistence Char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9/0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Authorization Requ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9/0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Crite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9/0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eing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9/0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COM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9/0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sil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9/0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F8A7-4748-49CD-9348-DF054FFB4EC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tion to the Working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Group has voted to submit the PAR to the Working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ove that the Working Group vote to submit  the Coexistence Study Group PAR and Five Criteria to the Executive Committ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.15-99/086r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C433-B45E-429B-9AC9-564ED6C3AF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Steve Shellhammer</dc:creator>
  <dc:description>100r1</dc:description>
  <dc:language>en-US</dc:language>
  <cp:lastModifiedBy>Bridget Labrode</cp:lastModifiedBy>
  <cp:lastPrinted>1998-02-10T13:28:06Z</cp:lastPrinted>
  <dcterms:modified xsi:type="dcterms:W3CDTF">1999-09-16T17:54:55Z</dcterms:modified>
  <cp:revision>12</cp:revision>
  <dc:subject>IEEE 802.15 &lt;subject&gt;</dc:subject>
  <dc:title>IEEE P802.15 Working Group for Wireless Personal Area Networks</dc:title>
</cp:coreProperties>
</file>