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1DE-152D-43E2-9602-450C4875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6F5-97C0-48D9-81F0-616A6D4A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D3D-75C4-4121-B4B5-939A7A12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23C-3F74-482E-BF96-75E2EB1C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FE3-E6A7-482F-9C9A-2E76BB8C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C97-1D83-4386-823A-D3B83A10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AAA-B45C-4AA3-BCED-F722F591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F14-F8E2-42A8-93C6-924DC811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EB2-A1AE-436B-A0D9-3765B676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65E-B518-4618-9AFE-9D4ED942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485-CC3B-4FA8-8010-CE4CEA4F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8CA-CCF5-42E0-972D-BC8F9A02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C941B2-CCE2-4203-99DD-0138DCB14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Session of meetings of the IEEE P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5-9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Elizabeth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0 Rene-Levesque Blvd.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real, PQ H3B 4A5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1A5-F816-4C7F-A073-839871EF683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WG Meet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Telecons for the Advisor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WGAC Meeting in Chiba, Japan ( with 802.11), May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d draft of 802.15 rules and document structure, reviewed Marcom activities, set liaison agenda,  established meeting schedule and proposed project time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WGAC Meeting in London,UK,  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gameplan for July plenary, established meeting objectives for joint session with Bluetooth, finalized Call for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Bluetooth in London, UK, 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standards process and agree on a proposed working relationship/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296-50FA-413E-B953-A679C5BC08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all Objectives of the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ize Working Group Leadership a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committees for initial d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682-6325-4359-A775-8F98077C08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ily Objectives for July 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-  Begin formal voting on Officers and rules,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7EF-36A2-4BD5-B4BB-AD9BD84969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421-76C3-41C3-96D1-A840D96477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grouper.ieee.org/groups/802/11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A15-4CE5-4AF6-8C42-06C5426BB99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Ian C. Gifford</dc:creator>
  <dc:description>&lt;doc#&gt;</dc:description>
  <dc:language>en-US</dc:language>
  <cp:lastModifiedBy>Bridget Labrode</cp:lastModifiedBy>
  <cp:lastPrinted>1999-07-05T17:36:41Z</cp:lastPrinted>
  <dcterms:modified xsi:type="dcterms:W3CDTF">1999-07-05T22:44:03Z</dcterms:modified>
  <cp:revision>29</cp:revision>
  <dc:subject>IEEE 802.15 &lt;subject&gt;</dc:subject>
  <dc:title>IEEE P802.15 Working Group for Wireless Personal Area Networks</dc:title>
</cp:coreProperties>
</file>