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BC80C-59BB-41D3-BB65-FA226A9CB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2C42A-D834-4F64-875C-139AAC588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2BED8-FB90-4A43-87B8-D58A43271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13C44-7BA0-47B0-B837-6254A0929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CFB07-CF5D-4960-A472-15CA51954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FE69B-8D3E-4C81-AB0F-228A9590D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4C87C-63FB-4D17-88E6-18FE2AB16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1B6ED-E07F-4634-A53F-6C450A76E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CF86D-0699-456F-A3AE-2143C1814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F3B07-1F02-4B40-8CC5-180339916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08BEB-D254-4E9E-B556-28543602E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5F1C8-8718-489C-8261-52A302ACE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1C6935-EF01-49D4-87EF-8A31FFA7E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3716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P802.15 Working Group for Wireless Personal Area Networks</a:t>
            </a:r>
            <a:endParaRPr b="0" lang="en-US" sz="32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 #3 Overview</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Specification v1.0A, a Basis For Standards-Making</a:t>
            </a:r>
            <a:endParaRPr b="0" lang="en-US" sz="2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Nov99 to 12Nov99</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att Regency Kaua'i, 1571 Poipu Road Koloa, HI USA</a:t>
            </a:r>
            <a:endParaRPr b="0" lang="en-US" sz="1800" spc="-1" strike="noStrike">
              <a:solidFill>
                <a:srgbClr val="000000"/>
              </a:solidFill>
              <a:latin typeface="Arial"/>
            </a:endParaRPr>
          </a:p>
        </p:txBody>
      </p:sp>
      <p:pic>
        <p:nvPicPr>
          <p:cNvPr id="47" name="802" descr=""/>
          <p:cNvPicPr/>
          <p:nvPr/>
        </p:nvPicPr>
        <p:blipFill>
          <a:blip r:embed="rId1"/>
          <a:stretch/>
        </p:blipFill>
        <p:spPr>
          <a:xfrm>
            <a:off x="3753000" y="657360"/>
            <a:ext cx="1581120" cy="162864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505785D-A244-47C3-A754-82E97E4D91AF}"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torial Agenda</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the P802.15.1 v0.6 Draft Standard - Gifford</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Architecture Overview -99/069r0 - Bisdikian</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the Bluetooth Specification to P802.15.1 -99/071r3 - Siep</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802.15.1 V1.0 Draft Standard Overview -99/125r0 - Siep</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mp; Answers - Bisdikian</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ing Remarks - Giffor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F92C6A5-EDF0-430A-BB8F-EF1F522861EF}" type="slidenum">
              <a:t>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utorial Objective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EE Working Group for Wireless Personal Area Networks will initiate their first Working Group Electronic Letter Ballot during the IEEE 802 November 1999 Plenary. This Conference Tutorial has been prepared to assist the Working Group as well as the potential WPAN Sponsor Ballot Pool attendees on the content of the draft standard submission, and the source of the technology. Additionally, we will describe how the IEEE P802.15 WPAN technology complements the 802 Family.</a:t>
            </a:r>
            <a:endParaRPr b="0" lang="en-US" sz="2000" spc="-1" strike="noStrike">
              <a:solidFill>
                <a:srgbClr val="000000"/>
              </a:solidFill>
              <a:latin typeface="Arial"/>
            </a:endParaRPr>
          </a:p>
          <a:p>
            <a:pPr marL="329040" indent="-3290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he fast track nature of this standards making process the November Conference Tutorial will provide the necessary baseline for the up and coming Working Group and Sponsor Ballot voti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1D18667-6BC2-4E5A-AA03-EB488159C2FE}"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keaway or Careabouts</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 v0.6 will enter the first Working Group Letter Ballot (LB #1) 11Nov99 to Friday 10Dec99 (30 days)</a:t>
            </a:r>
            <a:endParaRPr b="0" lang="en-US" sz="3600" spc="-1" strike="noStrike">
              <a:solidFill>
                <a:srgbClr val="000000"/>
              </a:solidFill>
              <a:latin typeface="Arial"/>
            </a:endParaRPr>
          </a:p>
          <a:p>
            <a:pPr marL="31896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B #1 Comment Resolution 10-14Jan99</a:t>
            </a:r>
            <a:endParaRPr b="0" lang="en-US" sz="3600" spc="-1" strike="noStrike">
              <a:solidFill>
                <a:srgbClr val="000000"/>
              </a:solidFill>
              <a:latin typeface="Arial"/>
            </a:endParaRPr>
          </a:p>
          <a:p>
            <a:pPr marL="31896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 ready for Sponsor Ballot Mar99</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639FDC7-20BC-4B64-8A48-9B2098D2162F}"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IEEE Proposed Timeline</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 1999 - Initial Discussion on Proposal submissions </a:t>
            </a:r>
            <a:endParaRPr b="0" lang="en-US" sz="2400" spc="-1" strike="noStrike">
              <a:solidFill>
                <a:srgbClr val="000000"/>
              </a:solidFill>
              <a:latin typeface="Arial"/>
            </a:endParaRPr>
          </a:p>
          <a:p>
            <a:pPr marL="332640" indent="-3326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 1999 - IEEE initial vote of support to draft 802.15 based on Bluetooth specificat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 1999 - Overview the draft 802.15.1 based on the current  Bluetooth specification to the time line</a:t>
            </a:r>
            <a:endParaRPr b="0" lang="en-US" sz="2400" spc="-1" strike="noStrike">
              <a:solidFill>
                <a:srgbClr val="000000"/>
              </a:solidFill>
              <a:latin typeface="Arial"/>
            </a:endParaRPr>
          </a:p>
          <a:p>
            <a:pPr marL="332640" indent="-3326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 1999 - Initial draft ready for WG ballo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 2000 - First Ballot complete, second ballot kicked off.</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 2000 - Draft ready for IEEE sponsor ballo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 2000</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 2000</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 2000 - Approval by IEEE Standards Bo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F96CA39-930C-4B66-AC9B-907123A61A7F}" type="slidenum">
              <a:t>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Key IEEE802 Date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h 1999 </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802.15 Working Group for Wireless Personal Area Networks (WPAN) was formed</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1999</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802.15 Task Group 1 was formed</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 1999 Kaua'i, HI</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Standard submitted to WG from TG1</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 2000 Albuquerque</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ready for Sponsor Ball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F02084D-6F90-4C3E-AFA9-8D5DAC148AC4}"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RL For Tutorial</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ftcopy</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grouper.ieee.org/groups/802/15/pub/Tutorials.htm</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ing in 4 hours or less</a:t>
            </a:r>
            <a:endParaRPr b="0" lang="en-US" sz="32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rdcopy</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the IEEE Registration Office or see Ian Gifford, IEEE P802.15 Mee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5B265FF-BBF4-48EE-B071-C69927AD9ED3}"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torial #3 Speaker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n Gifford - IEEE 802.15.1 Chair</a:t>
            </a:r>
            <a:endParaRPr b="0" lang="en-US" sz="32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ffordi@amp.com</a:t>
            </a:r>
            <a:endParaRPr b="0" lang="en-US" sz="28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1 978 442 4650</a:t>
            </a:r>
            <a:endParaRPr b="0" lang="en-US" sz="28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schik Bisdikian - IEEE 802.15.1 VC</a:t>
            </a:r>
            <a:endParaRPr b="0" lang="en-US" sz="32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sdik@us.ibm.com </a:t>
            </a:r>
            <a:endParaRPr b="0" lang="en-US" sz="28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1 914 784 7439 </a:t>
            </a:r>
            <a:endParaRPr b="0" lang="en-US" sz="28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 - IEEE 802.15.1 TechEditor</a:t>
            </a:r>
            <a:endParaRPr b="0" lang="en-US" sz="32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ep@ti.com</a:t>
            </a:r>
            <a:endParaRPr b="0" lang="en-US" sz="28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1 972 480 6786</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79CDE65-2AA2-43F4-83E3-40BF78C93F58}" type="slidenum">
              <a:t>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9T19:31:17Z</dcterms:created>
  <dc:creator>Ian C. Gifford</dc:creator>
  <dc:description>&lt;doc#&gt;</dc:description>
  <dc:language>en-US</dc:language>
  <cp:lastModifiedBy>Ian C. Gifford</cp:lastModifiedBy>
  <cp:lastPrinted>1998-02-10T13:28:06Z</cp:lastPrinted>
  <dcterms:modified xsi:type="dcterms:W3CDTF">1999-11-10T06:07:59Z</dcterms:modified>
  <cp:revision>9</cp:revision>
  <dc:subject>IEEE 802.15 &lt;subject&gt;</dc:subject>
  <dc:title>IEEE P802.15 Working Group for Wireless Personal Area Networks</dc:title>
</cp:coreProperties>
</file>