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98B-3396-4342-B31B-EBE46E8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EC3-E686-4BA0-818E-289D7F5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96B-0D62-406A-8A7B-4F7320D9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85B-0F46-4BBA-BA24-2D21E76C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C12-D930-4530-9F56-EE2DA8D3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548-777A-4342-8E01-B93EA9BC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49D-8457-4190-A2BE-D648B463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3A7-B8FB-4709-A877-672C4E63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CAF-2312-4C41-BD93-F1E57DD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28F-BFA6-41CA-A399-1A6F7CF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98A-718E-4395-B80C-F1D518A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680-B4E7-4791-8103-08C9750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8D8F04-F158-4190-B273-45BE1099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and Interoperability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F36-ABF6-44CA-9BCC-36B93A4822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think about what to include in PAR over the nex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send out material via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AR at Santa R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anta Rosa we will decide if we should include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work starts in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4E4-4F92-40E3-AA81-33347F1307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of 802.15 WPAN and 802.11 WLAN was mandated by the 802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WPAN and WLAN devices will operate in the same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N devices are likely to operate in locations where WLANs are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CED-2D7D-4047-83B7-F9D37CDB9B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two devices that conform to the 802.15 standard interoperate with one another at the Physical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so be desirable to have WPAN and WLAN devices interoperate at some higher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160-3BEB-46E8-91D2-3863CD31F2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pose the formation of a Coexistence and Interoperability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write a Project Authorization Request (PAR) defining the objectives and scope of the Coexistence and Interoperability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exist from July 1999 to November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DBB-D0D8-46A6-BCB2-403C3E75D4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evices with which a WPAN must coexist.  The following is a partial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5.5 &amp; 11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802.15 WPAN devices, of potentially a different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721-0FF7-4DE4-A10F-73A732449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deliverables of th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reports describing the impact of a WPAN on a WLAN in the same vicinity, and visa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recommended practices for both the WPAN and WLAN to maximize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, some recommended modifications or extensions to the WPAN and/or WLAN standards to improve co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A49-726F-4CBA-8C17-28B2224836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5 devices (PHY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1 devices (high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ill define what type of interoperability to address as a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W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7F5-0DF8-4BB1-8B56-52CAA79212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eems likely that the Task Group would likely set up a liaison with 802.11 to facilitate communication on the topics of coexistence and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C1C-C033-49E4-998B-31CB5749A8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t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los 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viz Ker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rt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thias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man Albor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on Ba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l Batliw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ke Paczo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dwell Cross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E15-5F4C-42ED-A9AA-1813629769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46:37Z</dcterms:created>
  <dc:creator>Stephen J. Shellhammer</dc:creator>
  <dc:description>&lt;doc#&gt;</dc:description>
  <dc:language>en-US</dc:language>
  <cp:lastModifiedBy>Bridget Labrode</cp:lastModifiedBy>
  <cp:lastPrinted>1998-02-10T13:28:06Z</cp:lastPrinted>
  <dcterms:modified xsi:type="dcterms:W3CDTF">1999-07-08T17:21:14Z</dcterms:modified>
  <cp:revision>26</cp:revision>
  <dc:subject>IEEE 802.15 &lt;subject&gt;</dc:subject>
  <dc:title>IEEE P802.15 Working Group for Wireless Personal Area Networks</dc:title>
</cp:coreProperties>
</file>