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B68377-312B-474C-845D-AA250B904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B96-69F6-4304-9D57-F8A207DB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22F-E09F-489E-AC25-15C17531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E1B-DD44-42B4-93A1-1EC4317C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AA7-BC3F-4D2F-A6CC-3FB72943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EF6-5657-4AE3-B3B3-4D8672E1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5BA-1749-4C6C-A1E4-C1979E7A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60F-57FD-4352-8229-E4A9F74F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CA6-40ED-47A6-9FCE-1761A0AB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366-C2C8-481F-ABB5-3CF3B7DD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565-9FEE-46B7-8F4A-E2198692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5CB-8DB0-4EE5-8ACA-D23954C0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5E8-AEB7-4369-8361-93F95247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6E3BB5-34E8-4199-9D04-45895496E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4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B87-E79B-492E-8A28-611158C5C7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Timeline - Plan A 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G1 activities from 9Jul99 to 13Sep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Santa 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76F-F155-4431-990F-85C70E22A1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Timeline - Plan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60Ka" descr=""/>
          <p:cNvPicPr/>
          <p:nvPr/>
        </p:nvPicPr>
        <p:blipFill>
          <a:blip r:embed="rId1"/>
          <a:stretch/>
        </p:blipFill>
        <p:spPr>
          <a:xfrm>
            <a:off x="77760" y="2076480"/>
            <a:ext cx="897732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411480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52480" y="41911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320" y="5133960"/>
            <a:ext cx="828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1.4.2.2 Voting by Letter Ballots... The [WG] letter ballot response time must be at least forty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the time of “sending” postmark to the postmark of the returned bal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6FE-B04A-4FFC-9306-3BC3908B43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Timeline - Plan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30Kb" descr=""/>
          <p:cNvPicPr/>
          <p:nvPr/>
        </p:nvPicPr>
        <p:blipFill>
          <a:blip r:embed="rId1"/>
          <a:stretch/>
        </p:blipFill>
        <p:spPr>
          <a:xfrm>
            <a:off x="101520" y="2076480"/>
            <a:ext cx="8931240" cy="270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48040" y="416556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95480" y="426708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2360" y="5130720"/>
            <a:ext cx="72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would like to consider a rapid turn around on the Letter Ballot e.g., 14 vs. 40 d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2EF-130C-411A-9001-FCC3EA1771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tre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anks to your spirited involvement, it was quite a successful kick-off meeting. Over 60 people attended the meeting.  39 achieved voting status...and we formed a Task Group, headed by Ian Gifford, to begin the work of rapidly developing our first draft standard.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b H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2D1-41C2-4A3C-8E5D-9644976B2F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TG1 activities from 9Jul99 to 13Sep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effort driven work in TG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d contact w/ Bluetooth-IEEE Editorial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d in IEEE/ETSI/Bluetooth Liaison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submissions for Santa 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AC during weekly tele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2E2-C24E-417F-96A3-C6CEEFC336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6B3-53BC-4B27-BFED-754F2BF886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8AF-9EEE-41B6-B7CD-56BF7219F6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5428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612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16520" y="2514600"/>
            <a:ext cx="157500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41680" y="3200400"/>
            <a:ext cx="71100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27000" y="4216320"/>
            <a:ext cx="170208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56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C5E-43BF-4E52-B677-6F3F41324B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64r1</dc:description>
  <dc:language>en-US</dc:language>
  <cp:lastModifiedBy>Ian C. Gifford</cp:lastModifiedBy>
  <cp:lastPrinted>1998-02-10T13:28:06Z</cp:lastPrinted>
  <dcterms:modified xsi:type="dcterms:W3CDTF">1999-09-13T02:40:44Z</dcterms:modified>
  <cp:revision>12</cp:revision>
  <dc:subject>IEEE 802.15 TG1 Report #1</dc:subject>
  <dc:title>IEEE P802.15 Working Group for Wireless Personal Area Networks</dc:title>
</cp:coreProperties>
</file>