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A56-B4E1-4FD2-B966-ED9EF15E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D7E-2E2B-4F6F-9428-9094FCD1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0A4-F460-4419-807F-949DF938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F4D-9DF1-4191-8E02-337E5638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01B-B763-488C-8858-AE199340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835-2B0E-4C1A-9F8F-F4528176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898-6812-4C51-84FB-1DD7FE6F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9AD-5013-4559-9F8F-9A4EB6D5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8D7-5508-4923-B032-BFE50518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E7A-DBD7-4115-BC47-B3E81268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C16-C0CA-4B66-BFAE-46009629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D84-10F0-4B4A-9F18-91E5F49D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26088D-CAA0-4ABB-8425-494862034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31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the IEEE P802.15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0F4-A216-4E9B-B7D3-B65BF4DF7AB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Communication Systems by Network Class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 (Wide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s interconnect facilities in different parts of a country or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 (Metropolitan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s shall be capable of operating over an area up to 50 Km in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 (Local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 shall be capable of supporting segments at least 100 meters in leng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 composed of segments connected by physical layer inter-networking devices, shall be capable of operating over a physical medium that is at least 2 Km in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 (Personal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s shall be capable of supporting segments at least 10 meters in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E69-9A32-45C5-9149-97CD590D8D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Vision Stat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 Bas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Frequency Hopping Spread Spectrum (1Mbit/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Direct Sequence Spread Spectrum (2Mbit/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red (1Mbit/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a 5GHz Extension (&gt;20Mbit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b 2.4GHz Extension (&gt;8Mbit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5 Wireless Personal Area Networks (WPANs) -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uetoot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RF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6 Broadband Wireless LANs (LMDS) -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828800"/>
            <a:ext cx="8610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EEE 802 is the focal point for Wireless LAN standards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im Ca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005-AA71-4F79-96AD-DAB301B514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WPAN Marketing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maintain the application and usage scenarios generated by the CF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formulation of documentation that clearly &amp; distinctly differentiates the purposes and services of the various IEEE WP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issemination of information about IEEE 802.15 Working Group activities internally (among 802 working groups) and externally (among the electronics indus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802.15 task groups in reaching convergence and consensus on technical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how best to promote the public demonstration of interoperability between products built using 802.15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aintain liaisons with other selected industry marketing groups (e.g. Bluetooth, HomeRF) and standards bodies (e.g ET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two-way communications between suppliers and consumers of WPAN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nd foster creation of value-added industry marketing groups as appropriate (e.g. Gigabit Ethernet Alliance, http://www.gigabit-Ethernet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05D-6467-442B-B859-15C4659CD8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2425680"/>
            <a:ext cx="5359680" cy="3060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W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Network Positi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96960" y="5482800"/>
            <a:ext cx="5830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8400" y="2470320"/>
            <a:ext cx="870120" cy="21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8400" y="4502160"/>
            <a:ext cx="870120" cy="9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494080" y="2282760"/>
            <a:ext cx="0" cy="31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93720" y="4998960"/>
            <a:ext cx="70488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3720" y="4076640"/>
            <a:ext cx="70488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93720" y="3537000"/>
            <a:ext cx="70488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93720" y="2470320"/>
            <a:ext cx="704880" cy="104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7180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95720" y="240624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594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67800" y="2441520"/>
            <a:ext cx="0" cy="3043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93720" y="4502160"/>
            <a:ext cx="70488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m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4760" y="193356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240" y="55008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5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9960" y="55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2040" y="55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6400" y="55008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038480"/>
            <a:ext cx="350532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89040" y="4038480"/>
            <a:ext cx="18417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4495680"/>
            <a:ext cx="25146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2DAF-0568-40DB-9344-640026F7D16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89040" y="2425680"/>
            <a:ext cx="5359680" cy="1600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 Wireless Family Positi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96960" y="5482800"/>
            <a:ext cx="5830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8400" y="2470320"/>
            <a:ext cx="870120" cy="21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8400" y="4502160"/>
            <a:ext cx="870120" cy="9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94080" y="2282760"/>
            <a:ext cx="0" cy="31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93720" y="4998960"/>
            <a:ext cx="70488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93720" y="4076640"/>
            <a:ext cx="70488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93720" y="3537000"/>
            <a:ext cx="70488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93720" y="2470320"/>
            <a:ext cx="704880" cy="104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7180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995720" y="240624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4594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867800" y="2441520"/>
            <a:ext cx="0" cy="3043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93720" y="4502160"/>
            <a:ext cx="70488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m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4760" y="193356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29240" y="55008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5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9960" y="55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2040" y="55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6400" y="55008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4025880"/>
            <a:ext cx="3505320" cy="1447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2.16 B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9040" y="4025880"/>
            <a:ext cx="18417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2.15 WP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1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483080"/>
            <a:ext cx="2514600" cy="990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2.11, 11a &amp; 11b W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-54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381-8890-4941-8071-EE4C5DB2ED6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ntreal, determine interest level in the WG to form a limited duration Marketing Study Group [Jul99 to Nov9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G agrees to formation, Marketing Study Group to be tasked to study actionable “Objectives”  and provide an initial report with clearly identified deliverables by Sept 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72A-E626-4C54-AEBD-C26251DA88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 Functional Organization 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19200" y="1676520"/>
          <a:ext cx="610236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676520"/>
                    <a:ext cx="610236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80880" y="5791320"/>
            <a:ext cx="8305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y Group can help provide focus on overall WG iss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943-0AEC-4A65-A7BE-B39CDEEC44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make the following mo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802.15 WG will form a Study Group to investigate how to successfully market WPAN standar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rketing study group will initially be commissioned between July ‘99 and Nov ‘99 and report findings and recommendations  at each 802.15 mee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areas to be studied 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and Value of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of requirements as embodied in C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able “Objectives”, priorities, deliverables, assignments and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4A8-F3A8-4750-91A0-29DC4613A2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ing Study Group Offi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man: Bruce Kra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ma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4AB-E272-41D6-8C09-5E40C8AAC3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idget Labrode</cp:lastModifiedBy>
  <cp:lastPrinted>1998-02-10T13:28:06Z</cp:lastPrinted>
  <dcterms:modified xsi:type="dcterms:W3CDTF">1999-07-08T12:22:56Z</dcterms:modified>
  <cp:revision>39</cp:revision>
  <dc:subject>IEEE 802.15 Marketing</dc:subject>
  <dc:title>IEEE P802.15 Working Group for Wireless Personal Area Networks</dc:title>
</cp:coreProperties>
</file>