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AF9-A4E8-4550-ABC2-967397FD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EA4-D0A8-4578-8F8F-37768AD3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400-E70E-490D-A5C4-7F0AD46F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794-26D7-424C-B699-67215C73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3E6-7DE1-4500-8911-FAD7E31C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4EE-2716-42EA-9EF5-DCD9608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A6E-6B69-42E9-9F87-E6606770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BAD-C75D-4950-A0A1-026494A9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492-3A7F-4670-BB88-4D0E770E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80E-FD49-4AC9-B540-C3BC64D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7D4-057A-4786-BD3A-D1258DA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E37-8B82-47F1-BF89-E3A0D9B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88AEBE-3DC2-4F60-91B6-50C98FC6A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of Meeting Available on 802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 Attendance 467 vs 488 plan but with a $5600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voted to increase munchies budget by $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802.16 PAR on Coexistence of Broadband Wireless Access Systems with a project number of 802.16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f 802.16 to 802.16.1 was tab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EC0-29DF-4039-93CF-37135BB89C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letter to FCC regarding RF 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Comments to FCC on Wideband FH proposal subject to approval  by US Activities 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encouraged to work with HomeRF at Sept Meeting to resolve a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802.11 a&amp;b to RevCom subject to compliance with conditional approval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2B2-3759-49C5-8D4E-43635224C1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letters to ETSI requesting consideration of 802.11a as a member of the HIPERLAN family of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1 SG on isochronous service and other enhancements--John Fakatselis, ch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rmed Officers of 802.15 through March 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530-B297-45C2-ADBD-35E319526C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5 SG on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es did not see need for separate SG, covered by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thought it important, but scope beyond dot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le promised strong liaisons, especially with dot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s did not understand need for including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carried to strik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would like to see specific recommendations, by November, why this activity should stay within dot15 rather than being elevated to 802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98C-A885-49A2-9078-A226653496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art Kerry appointed chair of SEC subcommittee to prepare a recommendation on Network Access and Services by Sept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Multiple MACs and Multiple Standards per WG was socialized.  No Action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802 Plenary Meeting moved to 11-12 timeslot allowing WGs to begin work at 1p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adjourned at mid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0CB-D829-40E2-9A24-188C686DDD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2:42:31Z</dcterms:created>
  <dc:creator>Bridget Labrode</dc:creator>
  <dc:description/>
  <dc:language>en-US</dc:language>
  <cp:lastModifiedBy>Bridget Labrode</cp:lastModifiedBy>
  <dcterms:modified xsi:type="dcterms:W3CDTF">1999-09-13T13:24:29Z</dcterms:modified>
  <cp:revision>5</cp:revision>
  <dc:subject/>
  <dc:title>No Slide Title</dc:title>
</cp:coreProperties>
</file>