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832A5-E26C-498D-99A4-46F472A1D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67A6-1431-4E19-B540-37F430A00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20C08-953D-41D7-A20A-83D73C131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9E404-8980-421F-B942-70387E83E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1F3E-2BF9-4877-98A5-D5B826EAE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5C3C7-549D-4C5B-A077-E8E599DE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7F5A2-BCA6-4700-9245-03E8CA6D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8760C-4F4D-4142-A116-16819D5C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AC5B5-04C5-425F-9C9C-B2257254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4BF8F-AA96-4DC3-99EA-72A22ED19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0A37-3C60-461D-B885-A9DC158C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2157-FE5D-406C-9EB9-774781C34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B2DA2-3866-4455-99D9-62E0B9758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0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5, 1999 Chiba, Jap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8B4E24-AF16-4F31-AA03-F2038D81B79A}" type="slidenum">
              <a:t>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orola - Pian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ola is working within the SIG to add the Piano "service discovery" architecture to the Bluetooth specification.  Motorola also plans to make the Piano software widely available to software and application developers as an open specif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Jini, we see the Piano technology as an enabling platform," says David Leeper, Vice President of Technical Staff and Director of Personal Area Networking, Motorola Internet Connectivity Solutions Group (ING). </a:t>
            </a:r>
            <a:endParaRPr b="0" lang="en-US" sz="2400" spc="-1" strike="noStrike">
              <a:solidFill>
                <a:srgbClr val="000000"/>
              </a:solidFill>
              <a:latin typeface="Times New Roman"/>
            </a:endParaRPr>
          </a:p>
        </p:txBody>
      </p:sp>
      <p:sp>
        <p:nvSpPr>
          <p:cNvPr id="67"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July 1998 IEEE 802 Plenary Rich Ditch from Motorola present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ano to the SG ref: doc.: IEEE 802.11-98/25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4E019FB-136A-4971-894B-08671F488053}" type="slidenum">
              <a:t>10</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n - Jini</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Jini system is a Java™-centric distributed system designed for simplicity, flexibility, and federation. The Jini architecture provides mechanisms for machines or programs to enter into a federation where each machine or program offers resources to other members of the federation and uses resources as needed. The design of the Jini architecture exploits the ability to move Java language code from machine to machine and unifies under the notion of a service everything from the user of a Jini system to the software available on the machines to the hardware components of the machines themselve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art of the Jini system is a pair protocols called discovery and lookup, which occur at different times. Discovery occurs when a service joins a Jini lookup service, for example, when a device is plugged in; lookup occurs when a client or user needs to locate and invoke a service described by its attributes and possibly, other attribut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E196996-83A8-48F4-B390-CBA80A50A558}" type="slidenum">
              <a:t>1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P802.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B9C0245-0BD0-4157-A44B-67C4D3B330FD}" type="slidenum">
              <a:t>1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 IPR and Copyrigh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a mutual timeline, circulate to SIG for approv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June 7, 199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HRF-Lit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 199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S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May 21, 1999</a:t>
            </a:r>
            <a:endParaRPr b="0" lang="en-US" sz="1800" spc="-1" strike="noStrike">
              <a:solidFill>
                <a:srgbClr val="000000"/>
              </a:solidFill>
              <a:latin typeface="Times New Roman"/>
            </a:endParaRPr>
          </a:p>
        </p:txBody>
      </p:sp>
      <p:sp>
        <p:nvSpPr>
          <p:cNvPr id="74"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ne action that the IEEE P802.15 WG can take is to draft a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a Call For Proposal (CFP) for a draft WPAN Stand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0D59C3-2B91-4ACB-98F0-8E28CF78EE54}" type="slidenum">
              <a:t>13</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ms - There is an emerging view of the Mobile Data Terminal sporting Voice, Data, and Imag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P - Links Intern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 Links Dev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ian - Links Applications</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4732200" y="2319480"/>
            <a:ext cx="4030920" cy="3090600"/>
          </a:xfrm>
          <a:prstGeom prst="rect">
            <a:avLst/>
          </a:prstGeom>
          <a:ln w="0">
            <a:noFill/>
          </a:ln>
        </p:spPr>
      </p:pic>
      <p:sp>
        <p:nvSpPr>
          <p:cNvPr id="78"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of May 5, 1999 there were 639 Bluetooth Adopt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ADD2355-999D-4DAF-A6F3-224993B70CD6}" type="slidenum">
              <a:t>14</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2</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ETF (MobileIP WG) is starting to receive Ad Hoc Network requ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1000"/>
          </a:bodyPr>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Mon, 3 May 1999 18:35:43 +0200</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Thomas Eklund &lt;thomas.eklund@BROADSWITCH.COM&gt;</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      Re: FW: Draft new charter for mobile IP</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OBILE-IP@STANDARDS.NORTELNETWORKS.CO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do NOT agree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would like to add this on the mobile IP charter a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Define interoperability between the ad hoc network routing protocol and</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bile IPv4/v6</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that is a very logical thing to do when we are speaking about mobil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uters (i.e. cellular phone with a n IP stack) because they will hav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luetooth interfaces and it would be nice to have this work include in th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ter...</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st Regard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omas Eklund, SwitchCore Inc.</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iginal Messag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Joel Halpern [mailto:joel@MCQUILLAN.CO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t: Wednesday, April 28, 1999 7:04 P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OBILE-IP@STANDARDS.NORTELNETWORKS.CO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 Re: FW: Draft new charter for mobile IP</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oyd asks if the Mobile-IP group is covering Ad Hoc network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will remind people that there is a separate working group focussed</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ifically on AdHoc and extremely dynamic networks.  Please, let them do</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ir work, and keep Mobile-IP focussed on its work.</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el M. Halpern</a:t>
            </a:r>
            <a:endParaRPr b="0" lang="en-US" sz="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0FDF9EAD-F602-4265-94ED-98A16E9DDCE4}" type="slidenum">
              <a:t>15</a:t>
            </a:fld>
          </a:p>
        </p:txBody>
      </p:sp>
      <p:sp>
        <p:nvSpPr>
          <p:cNvPr id="7" name="PlaceHolder 6"/>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 #3 WG needs to</a:t>
            </a:r>
            <a:br>
              <a:rPr sz="4400"/>
            </a:br>
            <a:r>
              <a:rPr b="0" lang="en-US" sz="4400" spc="-1" strike="noStrike">
                <a:solidFill>
                  <a:srgbClr val="000000"/>
                </a:solidFill>
                <a:latin typeface="Times New Roman"/>
              </a:rPr>
              <a:t>Manage the Standards Proces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1981440"/>
          </a:xfrm>
          <a:prstGeom prst="rect">
            <a:avLst/>
          </a:prstGeom>
          <a:noFill/>
          <a:ln w="0">
            <a:noFill/>
          </a:ln>
        </p:spPr>
        <p:txBody>
          <a:bodyPr lIns="92160" rIns="92160" tIns="46080" bIns="46080" anchor="t">
            <a:normAutofit fontScale="83000"/>
          </a:bodyPr>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asks need to be into a timeline or milestone plan so we can manage:</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99 SIG will approves forwarding v1.0 L2CAP and Below to IEEE 802.15</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99 Specification v0.9 available to Adopters May 7, 1999</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99 Specification v1.0 available to Adopters June 8, 1999</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99 SIG forwards v1.0 L2CAP and Below to IEEE 802.15</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99 SIG Publishes v1.0 "Good Looking Copy (GLC)"</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99 SIG forwards v1.0 "GLC" L2CAP and Below to IEEE 802.15</a:t>
            </a:r>
            <a:endParaRPr b="0" lang="en-US" sz="1800" spc="-1" strike="noStrike">
              <a:solidFill>
                <a:srgbClr val="000000"/>
              </a:solidFill>
              <a:latin typeface="Times New Roman"/>
            </a:endParaRPr>
          </a:p>
        </p:txBody>
      </p:sp>
      <p:pic>
        <p:nvPicPr>
          <p:cNvPr id="84" name="Project1" descr=""/>
          <p:cNvPicPr/>
          <p:nvPr/>
        </p:nvPicPr>
        <p:blipFill>
          <a:blip r:embed="rId1"/>
          <a:stretch/>
        </p:blipFill>
        <p:spPr>
          <a:xfrm>
            <a:off x="685800" y="4411800"/>
            <a:ext cx="7772400" cy="1385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575B93B-2440-4704-AA72-F881B4EE03C5}" type="slidenum">
              <a:t>1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Contacts</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Radio Frequency Working Group (HRFWG)</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 Manny</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 Corporation, Intel Architecture Labs</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ineering Manager for Residential Networking</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F3-206</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11 N.E. 25th Avenue</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llsboro, Oregon 97124-5961</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 503/264-7752</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X: 503/264-3483</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 ben.manny@intel.com</a:t>
            </a:r>
            <a:endParaRPr b="0" lang="en-US" sz="1800" spc="-1" strike="noStrike">
              <a:solidFill>
                <a:srgbClr val="000000"/>
              </a:solidFill>
              <a:latin typeface="Times New Roman"/>
            </a:endParaRPr>
          </a:p>
        </p:txBody>
      </p:sp>
      <p:sp>
        <p:nvSpPr>
          <p:cNvPr id="8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SIG)</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on Ellis</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 Corporation, Mobile &amp; Handheld Product Group</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Communications Marketing Manager</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9-22</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0 Mission College Blvd.</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nta Clara, CA 95052 USA</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 408/765-4461</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X: 408/765-5634</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 simon.c.ellis@intel.com and simon_c_ellis@ccm.sc.intel.com</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3A0B4A95-D92D-403C-B160-4ADD52E3063C}" type="slidenum">
              <a:t>17</a:t>
            </a:fld>
          </a:p>
        </p:txBody>
      </p:sp>
      <p:sp>
        <p:nvSpPr>
          <p:cNvPr id="7" name="PlaceHolder 6"/>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Contacts (cont.)</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3000"/>
          </a:bodyPr>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red Data Association (IrDA)</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hael Watson, President IrDA &amp; Founder Calibre Inc.</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62 Technology Drive</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ite 226</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 Jose, CA 95110-1308</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 408-573-3890</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 408-573-3899</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t>
            </a:r>
            <a:endParaRPr b="0" lang="en-US" sz="1400" spc="-1" strike="noStrike">
              <a:solidFill>
                <a:srgbClr val="000000"/>
              </a:solidFill>
              <a:latin typeface="Times New Roman"/>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hn LaRoche</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DA Executive Director</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 Box 3883</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lnut Creek, CA 94598 </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 925-943-6546</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 925-943-5600 </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 john@irda.org</a:t>
            </a:r>
            <a:endParaRPr b="0" lang="en-US" sz="1400" spc="-1" strike="noStrike">
              <a:solidFill>
                <a:srgbClr val="000000"/>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Access Protocol (WAP) Foru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uck Parris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man, WAP Foru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wired Plan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 Chesapeake Driv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wood City, CA 9406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 +1.650.562.02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X: +1.650.817.14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 chuck@uplanet.com</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27C4BE23-2829-4EA8-94D2-4E32858DA8B4}" type="slidenum">
              <a:t>18</a:t>
            </a:fld>
          </a:p>
        </p:txBody>
      </p:sp>
      <p:sp>
        <p:nvSpPr>
          <p:cNvPr id="7" name="PlaceHolder 6"/>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Contac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1F97AB-950D-4840-AECC-EC13D4C5B8BA}" type="slidenum">
              <a:t>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Loughr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 (Carlo)</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ichael Wat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ano - Motorola Internet and Networking Group</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i - Su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05B3A36-EBD5-44DF-9028-9E320CCC0B2A}" type="slidenum">
              <a:t>3</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5/21/99 Meeting Loughry/Ellis</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Don Loughry, who is Director of IEEE-SA Standards. Don is on an IEEE marketing fact finding mission on how to improve the value of IEEE standards to the industry and would like your comments on how Bluetooth was formed and what are your key care-abouts.  In addition, I want Don to be familiar on what you are looking for from the IEEE on the Bluetooth interaction.”</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articular, Don is trying to understand:</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onsortiums view as their strategic advantag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What the IEEE-SA needs to do to be receptive to consortium? There are several plans in place to create a better environment where the features of a consortium could be mirrored into the IEEE-SA standards proces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How you see Bluetooth-IEEE 802.15 relationship and what IEEE could do so that you can see very clear values within the IEEE Consensus pro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F7397CB-17C2-40E1-8986-42009A781210}" type="slidenum">
              <a:t>4</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Repor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15 PAR</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4/16/99 Meeting Carlo/Kardach</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Clarify Liaison E-Mails, discuss how to...</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s: Jim Carlo &amp; Jim Kardach met on 4/16 and had a good meeting.  </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The SIGs IPR question revolves around the v1.0 Royalty Free position vs. an 802.15 "L2CAP and Below" MAC &amp; PHY Layer...does or will the Royalty Free flow to the 802.15 version?  Carlo to hand-off to IEEE and Intel Lawyers to resolve.</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ssuming (1) gets resolved to the positive the BT SIG WILL forward as-is L2CAP and Below for editing to IEEE Format - Carlo said Siep and a four others (both BT &amp; IEEE) should be tasked to  draft into a standards format...and submit into WPAN CFP Process…</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BT SIG continues to be interested in having the IEEE generate Conformance Test Specifications.  Carlo has changed our 30% Las Vegas odds to something high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C465F80-053F-4218-8A44-100AB8120869}" type="slidenum">
              <a:t>5</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1 Report</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ocated Meetings</a:t>
            </a:r>
            <a:endParaRPr b="0" lang="en-US" sz="3200" spc="-1" strike="noStrike">
              <a:solidFill>
                <a:srgbClr val="000000"/>
              </a:solidFill>
              <a:latin typeface="Times New Roman"/>
            </a:endParaRPr>
          </a:p>
        </p:txBody>
      </p:sp>
      <p:sp>
        <p:nvSpPr>
          <p:cNvPr id="57"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needs to better understand 802.11 TGa and TGb organizational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well as the precedents set in choosing Radio Transmission Technologi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BE3C1D7-DCC1-4A11-859E-BAB9FA535FCB}" type="slidenum">
              <a:t>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22, 1999 Tim Blaney, no minut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HomeRF</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8, 1999 Tutorial Thank You and request for March 22, 1999 Telecon from 802.1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 1999 RAWCON ‘99 Workshop Reques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HomeRF</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 1999 Positive Response to RAWCON ‘99</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to Ben Manny w/ Press Release, 802 Perspectives,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10 &amp; 11, 1999 HomeRF Participant's Meeting in Vancouver, BC Canad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2, 1999 RAWCON ‘99 Workshop, confirm attenda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2A0AECD-F4F4-4274-AD73-3C244BB47698}" type="slidenum">
              <a:t>7</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2, 1999 Jim Kardach, no minute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16, 1999 Jim Carlo &amp; JimK, no minutes</a:t>
            </a:r>
            <a:endParaRPr b="0" lang="en-US" sz="14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Bluetooth SIG</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8, 1999 Tutorial Thank You and request for March 22, 1999 Telecon from 802.15</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0, 1999 RAWCON ‘99 Workshop Request</a:t>
            </a:r>
            <a:endParaRPr b="0" lang="en-US" sz="14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Bluetooth SIG</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0, 1999 BT Sublicense “RE: IEEE Information as applied to Bluetooth”</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1999 BT IP Policy “IEEE 802.15/Bluetooth Issue Summary”</a:t>
            </a:r>
            <a:endParaRPr b="0" lang="en-US" sz="14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to Simon Ellis w/ Press Release, 802 Perspectives, etc.</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21, 1999 Meeting Jim Carlo, Don Loughry &amp; Simon Elli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8-11, 1999 Bluetooth ‘99 Meeting in London Timeline Signoff, “L2CAP &amp; Below” to ISO/OSI RF/802 RM</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y 5-9, 1999 secure BT SIG attendance for “L2CAP &amp; Below” Experts, etc.</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gust 2, 1999 RAWCON ‘99 Workshop</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5557552-8290-49DA-9E31-84FB14E43CE1}" type="slidenum">
              <a:t>8</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m Carlo 5/1/99 wro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2) Regarding the projects for FHWA and Intelligent Transportation Systems, I have heard of a need for profiles and test cases to be developed for ITS.  There are several wireless projects within 802 that might be applicable, particularly 802.15 (WPANS, which is a 10meter wireless LAN that has applications for toll taking and vehicle conne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Regarding item 2), I have copied this note to Bob Heile, chair of 802.15.  Suggest you work with him on this. As always, someone from a company with a financial product motive, needs to see the value here. This person would need to attend the 802.15 meeting and see how what is being developed there could be applicable. Alternatively, we could arrange for a seminar on 802.15 to be given at an FHWA or ITS meeting.”</a:t>
            </a:r>
            <a:endParaRPr b="0" lang="en-US" sz="1800" spc="-1" strike="noStrike">
              <a:solidFill>
                <a:srgbClr val="000000"/>
              </a:solidFill>
              <a:latin typeface="Times New Roman"/>
            </a:endParaRPr>
          </a:p>
        </p:txBody>
      </p:sp>
      <p:sp>
        <p:nvSpPr>
          <p:cNvPr id="64"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A Intelligent Transportation Systems (ITS) and more specifically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icated Short Range Communications (DSRC)  will be at 5850-5925MHz.</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B17935-1376-4263-B0FF-4980B023B5B0}" type="slidenum">
              <a:t>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May 1999</cp:keywords>
  <dc:language>en-US</dc:language>
  <cp:lastModifiedBy>Ian C. Gifford</cp:lastModifiedBy>
  <cp:lastPrinted>1998-02-10T13:28:06Z</cp:lastPrinted>
  <dcterms:modified xsi:type="dcterms:W3CDTF">1999-05-05T12:11:21Z</dcterms:modified>
  <cp:revision>51</cp:revision>
  <dc:subject/>
  <dc:title>Liaison Report</dc:title>
</cp:coreProperties>
</file>