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A98-3BE1-40E8-A376-2F91E45F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80F-9ABC-40E0-9B7F-44297C53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071-571B-4524-B4ED-25B26211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1F8-2F76-4B9C-B8E7-07DADBC7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164-D138-4E27-A527-BFB10659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45A-4E81-42A2-BA36-92199EF1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860-1971-4087-AEB7-5278BF8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780-56F9-460B-BA22-503377DF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36A-1572-4F23-8D22-42EDB58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585-4394-485E-B519-1C712E6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83A-E1B8-4351-BF51-C784452D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0EA-567E-44CD-98B2-613241D4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0E1114-5C8C-4FF6-ADF9-91CA308C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Performance Evaluation Process in a Coexistenc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48A-D320-4D3A-A3A2-00119AEC6C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Gener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 that describe the distribution of the message size and interarrival time are derived from the application set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ffic models exist in the literature for voice, data (FTP, HTTP), video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67080" y="3581280"/>
          <a:ext cx="48769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48769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4343400"/>
          <a:ext cx="43434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4343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62485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s from IEEE 802.14/96-083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615-AE59-4DB9-A366-812592745D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mong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ico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395-34C2-429C-9BEB-CCD1D02CBE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Parameters and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723-578B-4EF2-94BC-3877741BEF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Parame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n slo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t schedul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: Flush,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size/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window size (max,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B6A-066E-4283-8C8B-68BFA133DB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elay (mean, variance, P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ransmit a mes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per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collisions per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traffic presented to the network for transmission in 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 bits/s of the successful traffic transmitted excluding MAC and PHY overh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502-7E12-4456-8A12-80B1A9CA7A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ethodology for MAC coexistence model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major components and provide examples for parameters, user situations, and performance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within each components are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8A0-8095-466A-B874-351DF9DC1E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tart the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on this evalu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3640" y="48769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032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42900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91320" y="4389480"/>
            <a:ext cx="129528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06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017880"/>
            <a:ext cx="1981440" cy="1219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4313160"/>
            <a:ext cx="1981440" cy="1067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06A-B992-410B-9138-7DCD731403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erformance levels will lead to different levels of coexis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could mean an “acceptable” performance level to be quantif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C layer coexistence translates into a performance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interfering devices all sharing the 2.45 GHz ISM band on the MAC performa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to evaluate and quantify WPAN MAC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F55-F0D9-498D-8549-DD980CD927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goal of this contribution is to propose a methodology for conducting a performance evaluation of the WPAN MAC in presence of other wireless devices sharing the same ai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ation is to agree on an evaluation process so that simulation/ experimental/ analysis results can be conducted independently by different parties and presented to the IEEE 802.15 S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F72-FE13-4567-8F63-48F0D4B7F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erformance Evaluation S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144756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81480"/>
            <a:ext cx="14475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191120"/>
            <a:ext cx="1447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286000"/>
            <a:ext cx="3352680" cy="2362320"/>
          </a:xfrm>
          <a:prstGeom prst="cloudCallout">
            <a:avLst>
              <a:gd name="adj1" fmla="val 23199"/>
              <a:gd name="adj2" fmla="val 320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00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93560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392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4020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4478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0115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46876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92240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379600"/>
            <a:ext cx="14479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389240"/>
            <a:ext cx="14479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465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1998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0512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6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44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a Coexistenc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09680"/>
            <a:ext cx="3581280" cy="3030480"/>
          </a:xfrm>
          <a:custGeom>
            <a:avLst/>
            <a:gdLst/>
            <a:ahLst/>
            <a:rect l="l" t="t" r="r" b="b"/>
            <a:pathLst>
              <a:path w="2496" h="1888">
                <a:moveTo>
                  <a:pt x="0" y="0"/>
                </a:moveTo>
                <a:cubicBezTo>
                  <a:pt x="276" y="172"/>
                  <a:pt x="552" y="344"/>
                  <a:pt x="816" y="624"/>
                </a:cubicBezTo>
                <a:cubicBezTo>
                  <a:pt x="1080" y="904"/>
                  <a:pt x="1304" y="1472"/>
                  <a:pt x="1584" y="1680"/>
                </a:cubicBezTo>
                <a:cubicBezTo>
                  <a:pt x="1864" y="1888"/>
                  <a:pt x="2180" y="1880"/>
                  <a:pt x="2496" y="18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676520"/>
            <a:ext cx="3962520" cy="367020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 performance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1523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dentify  MAC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251460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ke assumptions on the PHY layer (interference/ propagation models) and traff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83E-58E1-4739-9195-F5FE1818D3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Evalu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proces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C layer protocol in a shared environment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g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gener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 lay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9E3-A3E3-48EE-8A8E-598A72A352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er Situations 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less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set/Portabl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case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Synchro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ww.bluetoot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nteract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automati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0DA-9BF0-41A2-8ECA-833C6DE680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Service Set (BSS) consists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(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Stations (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sider 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 density p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nsity per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s per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efer to IEEE 802.15-99/073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4BD-0088-44A1-8106-2F1FF74A01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spac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, interactive conf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synchronizer, hea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ituations (anywhere e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481-3751-48B9-98D2-C630154437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28A-D528-485B-B6CE-1C916485F8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Nada Golmie</cp:lastModifiedBy>
  <cp:lastPrinted>1999-11-04T14:50:30Z</cp:lastPrinted>
  <dcterms:modified xsi:type="dcterms:W3CDTF">1999-11-04T15:04:05Z</dcterms:modified>
  <cp:revision>15</cp:revision>
  <dc:subject>IEEE 802.15 &lt;subject&gt;</dc:subject>
  <dc:title>IEEE P802.15 Working Group for Wireless Personal Area Networks</dc:title>
</cp:coreProperties>
</file>