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2EF-C448-458C-9367-4D7386EB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7D0-2271-4A02-A4BA-511843A2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201-ED90-4BE3-BC6D-4A678FA0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2AF-2FBD-4A55-A22C-E34180F2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58A-8259-41D8-8206-2FEC03A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22-7F6A-4186-ABB1-C3C1F19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621-954C-429C-A343-D5533BD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4BB-C741-4C33-B841-815853A1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878-6DFF-4634-8C43-449164A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022-B4C6-45D6-A7FE-6AE7601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5EB-F685-4D66-A5A8-521933A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6AC-4119-4B7D-80CD-9C6D894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219F5A-EB8C-49CC-BBE2-55536B82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Ian C. Gifford</cp:lastModifiedBy>
  <cp:lastPrinted>1998-02-10T13:28:06Z</cp:lastPrinted>
  <dcterms:modified xsi:type="dcterms:W3CDTF">1999-09-13T05:35:39Z</dcterms:modified>
  <cp:revision>2</cp:revision>
  <dc:subject>IEEE 802.15 Tutorial</dc:subject>
  <dc:title>Reliability of IEEE 802.11 WLANs in Presence of Bluetooth Radios</dc:title>
</cp:coreProperties>
</file>