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200840"/>
            <a:ext cx="89154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040" y="129528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20084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8040" y="420084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14280" y="129528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8920" y="129528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20084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14280" y="420084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8920" y="420084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8040" y="129528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2286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8040" y="129528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20084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8040" y="129528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040" y="420084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040" y="129528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200840"/>
            <a:ext cx="89154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95840" y="6524640"/>
            <a:ext cx="1452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ETF - </a:t>
            </a:r>
            <a:fld id="{1D9513AE-CBBD-425A-90D0-F8B0FC838E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1143000"/>
            <a:ext cx="89154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94040" y="654516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1999 Scott Brad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IETF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ndards and non-Stand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tt Brad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vard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b@harvard.e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tocol Defin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infrastructure protocols since 198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P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SP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 1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rastructure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uting and addre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6 addr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work address trans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GP policy ro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SEC authent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SEC 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AKMP key ex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rastructure Issues, contd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 generation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/A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bel switc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lity of service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ser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SV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ser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880" y="380520"/>
            <a:ext cx="9101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elationship Between the IETF and Other Standards Bod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90313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U-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M fo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E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3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Stand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 jure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 facto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porate consor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vidual eff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 Jure Bod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U-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E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sed Industry Consort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3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M Fo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 Relay Fo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cLuhan’s global vill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87280" indent="0">
              <a:spcBef>
                <a:spcPts val="1001"/>
              </a:spcBef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ET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ETF “Standards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s only because people use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formal recogni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ubmitting to “traditional” bo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lationship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aisons / representativ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U-T, ISO study groups, ATM Forum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re people with other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effective than formal liai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confuse other standards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wing area but culture cl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ETF is mostly bottoms 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-work mailing li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 announce new working groups and BO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representatives of other standards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ETF ov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ETF IP Qo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rt wi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IETF Standards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p Level View of Organiz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81240" y="3586320"/>
            <a:ext cx="3209760" cy="473040"/>
          </a:xfrm>
          <a:custGeom>
            <a:avLst/>
            <a:gdLst/>
            <a:ahLst/>
            <a:rect l="l" t="t" r="r" b="b"/>
            <a:pathLst>
              <a:path w="2022" h="298">
                <a:moveTo>
                  <a:pt x="2022" y="0"/>
                </a:moveTo>
                <a:lnTo>
                  <a:pt x="2022" y="227"/>
                </a:lnTo>
                <a:lnTo>
                  <a:pt x="0" y="227"/>
                </a:lnTo>
                <a:lnTo>
                  <a:pt x="0" y="298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2840" y="4035600"/>
            <a:ext cx="136440" cy="315720"/>
          </a:xfrm>
          <a:custGeom>
            <a:avLst/>
            <a:gdLst/>
            <a:ahLst/>
            <a:rect l="l" t="t" r="r" b="b"/>
            <a:pathLst>
              <a:path w="86" h="199">
                <a:moveTo>
                  <a:pt x="43" y="199"/>
                </a:moveTo>
                <a:lnTo>
                  <a:pt x="0" y="0"/>
                </a:lnTo>
                <a:lnTo>
                  <a:pt x="43" y="0"/>
                </a:lnTo>
                <a:lnTo>
                  <a:pt x="86" y="0"/>
                </a:lnTo>
                <a:lnTo>
                  <a:pt x="43" y="19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51320" y="3586320"/>
            <a:ext cx="1039680" cy="473040"/>
          </a:xfrm>
          <a:custGeom>
            <a:avLst/>
            <a:gdLst/>
            <a:ahLst/>
            <a:rect l="l" t="t" r="r" b="b"/>
            <a:pathLst>
              <a:path w="655" h="298">
                <a:moveTo>
                  <a:pt x="655" y="0"/>
                </a:moveTo>
                <a:lnTo>
                  <a:pt x="655" y="227"/>
                </a:lnTo>
                <a:lnTo>
                  <a:pt x="0" y="227"/>
                </a:lnTo>
                <a:lnTo>
                  <a:pt x="0" y="298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82920" y="4035600"/>
            <a:ext cx="136440" cy="315720"/>
          </a:xfrm>
          <a:custGeom>
            <a:avLst/>
            <a:gdLst/>
            <a:ahLst/>
            <a:rect l="l" t="t" r="r" b="b"/>
            <a:pathLst>
              <a:path w="86" h="199">
                <a:moveTo>
                  <a:pt x="43" y="199"/>
                </a:moveTo>
                <a:lnTo>
                  <a:pt x="0" y="0"/>
                </a:lnTo>
                <a:lnTo>
                  <a:pt x="43" y="0"/>
                </a:lnTo>
                <a:lnTo>
                  <a:pt x="86" y="0"/>
                </a:lnTo>
                <a:lnTo>
                  <a:pt x="43" y="19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91000" y="3586320"/>
            <a:ext cx="1106640" cy="473040"/>
          </a:xfrm>
          <a:custGeom>
            <a:avLst/>
            <a:gdLst/>
            <a:ahLst/>
            <a:rect l="l" t="t" r="r" b="b"/>
            <a:pathLst>
              <a:path w="697" h="298">
                <a:moveTo>
                  <a:pt x="0" y="0"/>
                </a:moveTo>
                <a:lnTo>
                  <a:pt x="0" y="227"/>
                </a:lnTo>
                <a:lnTo>
                  <a:pt x="697" y="227"/>
                </a:lnTo>
                <a:lnTo>
                  <a:pt x="697" y="298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30680" y="4035600"/>
            <a:ext cx="135000" cy="315720"/>
          </a:xfrm>
          <a:custGeom>
            <a:avLst/>
            <a:gdLst/>
            <a:ahLst/>
            <a:rect l="l" t="t" r="r" b="b"/>
            <a:pathLst>
              <a:path w="85" h="199">
                <a:moveTo>
                  <a:pt x="42" y="199"/>
                </a:moveTo>
                <a:lnTo>
                  <a:pt x="0" y="0"/>
                </a:lnTo>
                <a:lnTo>
                  <a:pt x="42" y="0"/>
                </a:lnTo>
                <a:lnTo>
                  <a:pt x="85" y="0"/>
                </a:lnTo>
                <a:lnTo>
                  <a:pt x="42" y="19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3581280"/>
            <a:ext cx="3300480" cy="473040"/>
          </a:xfrm>
          <a:custGeom>
            <a:avLst/>
            <a:gdLst/>
            <a:ahLst/>
            <a:rect l="l" t="t" r="r" b="b"/>
            <a:pathLst>
              <a:path w="2079" h="298">
                <a:moveTo>
                  <a:pt x="0" y="0"/>
                </a:moveTo>
                <a:lnTo>
                  <a:pt x="0" y="227"/>
                </a:lnTo>
                <a:lnTo>
                  <a:pt x="2079" y="227"/>
                </a:lnTo>
                <a:lnTo>
                  <a:pt x="2079" y="298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23080" y="4035600"/>
            <a:ext cx="135000" cy="315720"/>
          </a:xfrm>
          <a:custGeom>
            <a:avLst/>
            <a:gdLst/>
            <a:ahLst/>
            <a:rect l="l" t="t" r="r" b="b"/>
            <a:pathLst>
              <a:path w="85" h="199">
                <a:moveTo>
                  <a:pt x="43" y="199"/>
                </a:moveTo>
                <a:lnTo>
                  <a:pt x="0" y="0"/>
                </a:lnTo>
                <a:lnTo>
                  <a:pt x="43" y="0"/>
                </a:lnTo>
                <a:lnTo>
                  <a:pt x="85" y="0"/>
                </a:lnTo>
                <a:lnTo>
                  <a:pt x="43" y="19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33800" y="1919160"/>
            <a:ext cx="2894040" cy="1689120"/>
          </a:xfrm>
          <a:prstGeom prst="ellipse">
            <a:avLst/>
          </a:prstGeom>
          <a:solidFill>
            <a:srgbClr val="f57b49"/>
          </a:solidFill>
          <a:ln w="22320">
            <a:solidFill>
              <a:srgbClr val="0000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67200" y="1851120"/>
            <a:ext cx="2892240" cy="168912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28160" y="2178000"/>
            <a:ext cx="1998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nternet 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0" y="2741760"/>
            <a:ext cx="17899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1920" y="4419720"/>
            <a:ext cx="2057400" cy="968400"/>
          </a:xfrm>
          <a:prstGeom prst="ellipse">
            <a:avLst/>
          </a:prstGeom>
          <a:solidFill>
            <a:srgbClr val="f57b49"/>
          </a:solidFill>
          <a:ln w="22320">
            <a:solidFill>
              <a:srgbClr val="0000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3520" y="4351320"/>
            <a:ext cx="2057400" cy="96840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46000" y="4610160"/>
            <a:ext cx="12747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ANA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2360" y="4419720"/>
            <a:ext cx="1876320" cy="968400"/>
          </a:xfrm>
          <a:prstGeom prst="ellipse">
            <a:avLst/>
          </a:prstGeom>
          <a:solidFill>
            <a:srgbClr val="f57b49"/>
          </a:solidFill>
          <a:ln w="22320">
            <a:solidFill>
              <a:srgbClr val="0000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23960" y="4351320"/>
            <a:ext cx="1876680" cy="96840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91400" y="4610160"/>
            <a:ext cx="8802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AB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72080" y="4419720"/>
            <a:ext cx="1989000" cy="968400"/>
          </a:xfrm>
          <a:prstGeom prst="ellipse">
            <a:avLst/>
          </a:prstGeom>
          <a:solidFill>
            <a:srgbClr val="f57b49"/>
          </a:solidFill>
          <a:ln w="22320">
            <a:solidFill>
              <a:srgbClr val="0000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03680" y="4351320"/>
            <a:ext cx="1989360" cy="96840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37920" y="4610160"/>
            <a:ext cx="12139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RTF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86440" y="4419720"/>
            <a:ext cx="1967040" cy="968400"/>
          </a:xfrm>
          <a:prstGeom prst="ellipse">
            <a:avLst/>
          </a:prstGeom>
          <a:solidFill>
            <a:srgbClr val="f57b49"/>
          </a:solidFill>
          <a:ln w="22320">
            <a:solidFill>
              <a:srgbClr val="0000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18400" y="4351320"/>
            <a:ext cx="1966680" cy="96840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56240" y="4610160"/>
            <a:ext cx="11833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ETF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880" y="228240"/>
            <a:ext cx="9101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net Research Task Force (IRTF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90313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ed on long term problems in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iable multic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cast ro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gestion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d to end protoc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880" y="380520"/>
            <a:ext cx="9101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net Assigned Number Authority (IAN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960" y="1218960"/>
            <a:ext cx="90313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s numbers and keeps them from colli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col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 addr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ly delegated to IP Address registr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ly delegated to DNS name regis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ing out relationship between ICANN &amp; IETF over IANA protocol related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tocol numb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protocol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l known TCP/UDP 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protocol 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M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FC Edi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 Jon Postel et 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et 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fc-ed@isi.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ed by the Internet Soc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ETF Chai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ir of IES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ed by nom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or of General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 officio member of IA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ef Talking (and traveling) Offi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1371600"/>
            <a:ext cx="6629400" cy="533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ETF Are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12760" y="1460520"/>
            <a:ext cx="638676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ea Direc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ed by nom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year te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Areas have 2 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sible for setting direction in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sible for managing process in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 BOFs &amp; working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O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precede formation of a Working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 of people interested in a top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ince an AD that they have a good idea - one worth explo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description and agenda before a BOF can be schedu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Fs generally only meet o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lead to a W_x0008_G or can be a one time 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IETF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ngineering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oup of people who solve Internet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ing Grou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where the IETF primarily get its work d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ed by charter agreed between chair and area dir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c deliver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uments and time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ved by IESG with IAB guid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 with IESG has final say on ch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ETF Are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s Ar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Ar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 Ar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s and Management Ar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uting Ar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urity Ar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 Ar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r Services Ar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re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 director(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d Baker &lt;fred@cisco.com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group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hentication, Authorization and Accounting (aaa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y Framework (policy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 for Organization of Internet Standards ONgoing (poisson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plications Are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1055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 director(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eith Moore &lt;moore@cs.utk.edu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trik Faltstrom &lt;paf@swip.net&gt;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group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plication Configuration Access Protocol (acap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plication MIB (applmib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endaring and Scheduling (calsch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mmon Indexing Protocol (fin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tent Negotiation (conne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AV Searching and Locating (dasl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tailed Revision/Update of Message Standards (drums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lectronic Data Interchange-Internet Integration (ediint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xtensions to FTP (ftpext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yperText Transfer Protocol (http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stant Messaging and Presence Protocol (impp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ternet Fax (fax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43400" y="1294920"/>
            <a:ext cx="464832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ternet Open Trading Protocol (trade)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ternet Printing Protocol (ipp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DAP Duplication/Replication/Update Protocols (ldup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DAP Extension (ldapext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arge Scale Multicast Applications (lsma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ME Encapsulation of Aggregate HTML Documents (mhtml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il and Directory Management (madman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ssage Tracking Protocol (msgtrk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NTP Extensions (nntpext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inter MIB (printmib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hema Registration (schema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elnet TN3270 Enhancements (tn3270e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iform Resource Locator Registration Procedures (urlre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iform Resource Names (urn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net Article Standard Update (usefo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WW Distributed Authoring and Versioning (webdav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Replication and Caching (wrec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net Are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5105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 director(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effrey Burgan &lt;burgan@corp.home.net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omas Narten &lt;narten@raleigh.ibm.com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group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ToM MIB (atommib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NS IXFR, Notification, and Dynamic Update (dnsind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ynamic Host Configuration (dhc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ame Relay Service MIB (frnetmib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P Over Fibre Channel (ipfc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P Over IEEE 1394 (ip1394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P over Cable Data Network (ipcd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P over VBI (ipvbi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03760" y="2895480"/>
            <a:ext cx="4440240" cy="334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PNG (ipngwg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faces MIB (ifmib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networking Over NBMA (io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cketWay (pktway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int-to-Point Protocol Extensions (pppex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rvice Location Protocol (svrloc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perations and Management Are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38156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 director(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ndy Bush &lt; randy@psg.com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rt Wijnen &lt;wijnen@vnet.ibm.com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group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SL MIB (adslmib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nchmarking Methodology (bmwg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ridge MIB (bridge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tributed Management (disma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tity MIB (entmib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thernet Interfaces and Hub MIB (hubmib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 and R for Security Incident Processing (grip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BONE Deployment (mboned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twork Access Server Requirements (nasreq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xt Generation Transition (ngtran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13080" y="2719080"/>
            <a:ext cx="4662720" cy="38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ysical Topology MIB (ptopomib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mote Authentication Dial-In User Service (radiu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mote Network Monitoring (rmonmib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aming Operations (roamop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uting Policy System (rp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NMP Agent Extensibility (agentx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NMP Version 3 (snmpv3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Internet and the Millennium Problem (2000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nterruptible Power Supply (upsmib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uting Are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66416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 director(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b Coltun &lt;rcoltun@lightera.com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B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group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 Link Switching MIB (dlswmib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neral Switch Management Protocol (gsmp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P Routing for Wireless/Mobile Hosts (mobileip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-IS for IP Internets (isi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-Domain Multicast Routing (idm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-Domain Routing (id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bile Ad-hoc Networks (mane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lticast Extensions to OSPF (mospf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362120" y="2800080"/>
            <a:ext cx="4383000" cy="360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lticast Source Discovery Protocol (msd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ltiprotocol Label Switching (mpl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en Shortest Path First IGP (ospf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tocol Independent Multicast (pi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oS Routing (qos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uting Information Protocol (rip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NA DLC Services MIB (snadlc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NA NAU Services MIB (snanau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Directional Link Routing (udl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curity Are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226880"/>
            <a:ext cx="4800600" cy="47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 director(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effrey Schiller &lt;jis@mit.edu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cus Leech &lt;mleech@nortel.ca&gt;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group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 Open Specification for Pretty Good Privacy (openpgp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uthenticated Firewall Traversal (af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mon Authentication Technology (ca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main Name System Security (dnssec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P Security Protocol (ipsec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rusion Detection Exchange Format (idwg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e Time Password Authentication (otp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19360" y="2895480"/>
            <a:ext cx="48006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ublic-Key Infrastructure (X.509) (pkix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e Time Password Authentication (otp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ublic-Key Infrastructure (X.509) (pki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/MIME Mail Security (smime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cure Shell (secsh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mple Public Key Infrastructure (spki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ansport Layer Security (tl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b Transaction Security (wts)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nsport Are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3815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 director(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ott Bradner &lt;sob@harvard.edu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n Paxson &lt;vern@ee.lbl.gov&gt;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group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udio/Video Transport (av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ferentiated Services (diffserv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P Performance Metrics (ipp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P Telephony (iptel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grated Services (intserv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grated Services over Specific Link Layers (issll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dia Gateway Control (megaco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lticast-Address Allocation (malloc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ltiparty Multimedia Session Control (mmusic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962160" y="2819520"/>
            <a:ext cx="51814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twork Address Translators (na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twork File System Version 4 (nfsv4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C Remote Procedure Call (oncrpc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TN and Internet Internetworking (pin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SVP Admission Policy (rap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ltime Traffic Flow Measurement (rtf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source Reservation Setup Protocol (rsvp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gnaling Transport (sigtra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CP Implementation (tcpimpl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CP Over Satellite (tcpsat)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er Services Are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a director(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ril Marine &lt;amarine@globe.arc.nasa.gov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ing group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ponsible Use of the Network (run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Services (usw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 Engineering Organiz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d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work ope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adem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as 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memb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ETF Secretari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ed physical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poration for National Research Initiatives (CNR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ton Virginia (Washington D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nary mee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draft direc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y to day work of IESG and working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880" y="380520"/>
            <a:ext cx="9101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a “Request For Comments” (RFC)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90313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RFCs are standard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ugh some vendors imply otherw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types of RF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FC Repository Contain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73868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P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olete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Pv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t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less InterDomain Ro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ril fool’s day jo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 on Avian Car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19360" y="1379160"/>
            <a:ext cx="4800600" cy="479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e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as the night before start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te pap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packet switches with infinite 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pora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cend multilink protocol (mp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mental his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b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ing Pap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-D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ndom or non-random thou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put to th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pped after 6 mon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RFCs must pre-exist as 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ETF Approval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ugh consens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nimous agreement not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ing Group “last-cal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week comment period in working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ETF “last-cal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week IETF-wide comment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ESG 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ndards Track Level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Current Practices (BC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ly policies or proced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osed Standard (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idea, no known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ft Standard (D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e interoperable implem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 (ST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y before bu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chi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al (FY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ment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880" y="304920"/>
            <a:ext cx="910116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nsport Area QoS Working Grou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Services (intser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anteed and controlled load servi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Services over Specific Link Layers (iss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serv for various link types, including A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ource Reservation Setup Protocol (rsv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gnaling protocol for Integrated Services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become general IETF signaling protoc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880" y="228240"/>
            <a:ext cx="92660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SV Area QoS Working Groups, contd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960" y="1218960"/>
            <a:ext cx="90313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SVP Admission Policy (ra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ter &lt;-&gt; policy server protocol for RSV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iated Services (diffser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flow based QoS protoc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Performance Metrics (ipp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 performance of network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EEE Related IETF Wor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over foo” - started in 198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948 - Two methods for the transmission of IP datagrams over IEEE 802.3 networks (OB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1042 - Standard for the transmission of IP datagrams over IEEE 802 networks (ST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1390 - Transmission of IP and ARP over FDDI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2464 - Transmission of IPv6 Packets over Ethernet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2470 - Transmission of IPv6 Packets over Token Ring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2467 - Transmission of IPv6 Packets over FDDI Network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Short History of the IET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DARPA research in 1970's using NC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 transf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ic 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ion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 of Internet Activities Board (IA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4 and TCP deployed 1981-198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LNET/ARPANET division 198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EEE Related IETF Work, contd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1230 - IEEE 802.4 Token Bus MI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1231 - IEEE 802.5 Token Ring MI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1368 - Definition of Managed Objects for IEEE 802.3 Repeater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1512 - FDDI Management Information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1515 - Definitions of Managed Objects for IEEE 802.3 Medium Attachment Units (MAU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1516 - Definitions of Managed Objects for IEEE 802.3 Repeater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1743 - IEEE 802.5 MIB using SMIv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EEE Related IETF Work, contd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MI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1749 - IEEE 802.5 Station Source Routing MIB using SMIv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2108 - Definitions of Managed Objects for IEEE 802.3 Repeater Devices using SMIv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2239 - Definitions of Managed Objects for IEEE 802.3 Medium Attachment Units (MAUs) using SMIv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2266 - Definitions of Managed Objects for IEEE 802.12 Repeater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ETF QoS IEEE-Related Wor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sll working group is prime focus of Qo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Internet-D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ramework for Providing Integrated Services Over Shared and Switched IEEE 802 LAN Technolo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BM (Subnet Bandwidth Manager): A Protocol for RSVP-based Admission Control over IEEE 802-style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d Service Mappings on IEEE 802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e of IEEE MAC Addresses in IPv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FC 2374 - An IPv6 Aggregatable Global Unicast Address Forma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at pref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L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p-level aggregation identif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erved for future 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L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xt-level aggregation identif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L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te-level aggregation identif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face 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face identif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2971800"/>
            <a:ext cx="8381880" cy="533520"/>
          </a:xfrm>
          <a:prstGeom prst="rect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971800"/>
            <a:ext cx="0" cy="533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2971800"/>
            <a:ext cx="0" cy="533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2971800"/>
            <a:ext cx="0" cy="533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2971800"/>
            <a:ext cx="0" cy="533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2971800"/>
            <a:ext cx="0" cy="533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916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6560" y="258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40440" y="258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200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59760" y="258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50680" y="258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4120" y="3043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9400" y="3043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6400" y="304308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3560" y="3043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8200" y="3043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82400" y="30430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Pv6 Interface 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4 b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-byte (or expanded 6-byte) MAC address  of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also use DHCPv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st 3 bytes of interface 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50840" y="4267080"/>
            <a:ext cx="1096920" cy="533520"/>
          </a:xfrm>
          <a:prstGeom prst="rect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c c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47760" y="4267080"/>
            <a:ext cx="1096920" cy="533520"/>
          </a:xfrm>
          <a:prstGeom prst="rect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c u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44680" y="4267080"/>
            <a:ext cx="1098720" cy="533520"/>
          </a:xfrm>
          <a:prstGeom prst="rect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c c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4267080"/>
            <a:ext cx="1096920" cy="533520"/>
          </a:xfrm>
          <a:prstGeom prst="rect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c c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40320" y="4267080"/>
            <a:ext cx="1096920" cy="533520"/>
          </a:xfrm>
          <a:prstGeom prst="rect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c c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37240" y="4267080"/>
            <a:ext cx="1096920" cy="533520"/>
          </a:xfrm>
          <a:prstGeom prst="rect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c c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47120" y="5013360"/>
            <a:ext cx="50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bit of company 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= universal / local bit (complement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 = individual / group b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9880" y="380520"/>
            <a:ext cx="9101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operation with Other Standards Grou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90313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al - multiple groups work on one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shed by one group to prevent out of sync ver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 Internet FAX, R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l - does not always happ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 many groups working in telephony a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groups finding IETF’s area impor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ces in architectural 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ETF has a “stupid network” b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mart Wi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n end to end world, smart link-layers are a conc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os” has different meanings in link-lay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itization - e.g. 802.1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 control - e.g. ATM AB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itization can be very helpful if packet mapping can cooperate with end-to-end signa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 RSVP &amp; intser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sll is802 work an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mart Wires Which Know Bet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k-level flow control can be an 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layered control systems with different characteristics at the different lay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effect on end-to-end flow management of random (to the  ends) changes in apparent link latenc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answer offered is 1 RTT worth of buffering per session at entry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deal with loss but far from clear effect on flow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d-to-End is TC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h of current data traffic is TCP/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wing, but still small, amount of UDP (e.g. RT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other protocols being worked 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 flow control developed over many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e phas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st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gestion avoid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ss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 of a link-layer flow-control has to be understood for each ph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di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cal control system theory recommends against layered control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 on TCP not well kn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for other end-to-end rate control protoc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ms to be more of a research rather than  a standards i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diction - data systems will make little use of link-level flow control systems when end-to-end is longer than a li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ess interconnection devices are part of end to end signaling mechanis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AB Oversight Peri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8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Assigned Number Authority (IAN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Research Task Force (IRT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Engineering Task Force (IET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other task fo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8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Engineering Steering Group (IES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AB Oversight Period, contd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8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solution of other task fo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9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ship redef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B =&gt; "Internet Architecture Board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ESG: manages the IETF &amp; approve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992: Internet Society Oversigh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 evolution (poised/poiss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s track detailed - RFC 20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llectual property rights (IP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ling of appe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 Society: interface to outside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porate / legal umbr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ngelism - INET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icy ar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9101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ole of IETF in the Development of the Inter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2320" y="1218960"/>
            <a:ext cx="9031320" cy="55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col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rastructure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9:16:05Z</dcterms:created>
  <dc:creator>Scott Bradner</dc:creator>
  <dc:description/>
  <dc:language>en-US</dc:language>
  <cp:lastModifiedBy>Scott Bradner</cp:lastModifiedBy>
  <dcterms:modified xsi:type="dcterms:W3CDTF">1999-03-08T20:10:02Z</dcterms:modified>
  <cp:revision>32</cp:revision>
  <dc:subject/>
  <dc:title>Outline</dc:title>
</cp:coreProperties>
</file>