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047-38DD-4A0C-9AC4-271B00FF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AA9-262E-4AA0-B3F4-37D9241D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7B0-7A88-447A-A155-F65F05F7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699-85B4-4A5E-B834-3ED4A48E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93B-1C0B-4F2A-9D32-C1E8EE54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BBF-C64B-4490-9881-04F71D92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707-A392-4D83-AC8E-93267122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F14-A317-43C0-A9E7-27E321B1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8A8-75D8-480F-BAF9-2B173A39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AEB-B62C-4FB5-BBD5-A200BE8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8A8-78DC-444B-921A-5FB84069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2F1-00D7-4381-A9A7-64AE13E1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101208-0056-48D7-83BC-A9F124152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Report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, 1999 Kaua'i Koloa, HI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8880" y="5181480"/>
            <a:ext cx="694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1 -99/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05r0P802-15_Liaison-Report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2 -99/02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29r0P802-15_Liaison-Report-2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3 -99/0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63r1P802-15_Liaison-Report-3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erver &amp; Flash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2F6-60A1-4D7A-A65F-082FC022E9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/IEEE Propose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nitial Discussion on Proposal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EEE initial vote of support to draft 802.15 based on Bluetooth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 1999 - Overview the draft 802.15.1 based on the current  Bluetooth specification to the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1999 - Initial draft ready for WG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000 - First Ballot complete, second ballot kick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000 - Draft ready for IEEE sponso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2000 - Approval by IEEE Standards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EBD-0E15-4F4A-919F-5EDBDB0FD0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EE and Bluetooth SIG have a very strong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 Special Interest Group Formed May 20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 07Jul98 -98/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2 15Sep98 -98/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3 26Oct98 -98/350 (Minute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4 14Dec98 J. Carlo 802 Overview to Bluetooth S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5 09Mar99 -99/053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6 01Jul99 -99/028 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7 15Jul99 -99/028r1 LOI #2, License, CD-ROM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8 26Jul99 Bluetooth v1.0A Foundation Specification Available via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9 31Aug99 -99/085 IEEE/ETSI/Bluetoo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0 31Aug99 -99/085 Proposal to IEEE &amp; ET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1 3Sep99 CD-ROM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2 9Sep99 Signed &amp; Initialed Copyright Licens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3 13Sep99 -99/068 BT-IEEE Editorial WG Repor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4 14Sep99 -99/069 to 073 Overview of the Bluetoo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5 16Sep99 -99/082r1 Outline and Technical Over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6 4Nov99 -99/028r2 #3 Letter of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7 4Nov99 -99/xxx Draft Standard v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8 8Nov99 -99/xxx BT-IEEE Editorial WG Repor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9 9Nov99 -99/xxx Using Bluetooth v1.0A Basis For Standard, Tutorial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D31-D6A8-4E05-ABDB-97F1D022E0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SI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n &amp;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ov99 Lou Delaverson to P802.15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to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from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99 Lou Delav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#16 30Nov99 to 3Dec99 Athen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40C-9AEB-4A15-BC30-629623A778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463-874B-4EAC-A7F7-FEE7F3F6E4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1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ocated Meetings/Various both Informal/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ing May00 Interim Meeting, Ven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Sep00 Interim Meeting Sub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791320"/>
            <a:ext cx="83059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ruce Kraemer, Stuart Kerry &amp; Peter Murray for mor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77F-CE02-4AA8-8AB3-585E312AC5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e on LB #1 Sta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Date?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160-CD67-4A40-9E5B-C7EEE6900F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num7" descr=""/>
          <p:cNvPicPr/>
          <p:nvPr/>
        </p:nvPicPr>
        <p:blipFill>
          <a:blip r:embed="rId1"/>
          <a:stretch/>
        </p:blipFill>
        <p:spPr>
          <a:xfrm>
            <a:off x="3708360" y="2895480"/>
            <a:ext cx="1800360" cy="5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96920" y="478620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96640" y="4622760"/>
            <a:ext cx="302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00 Bluetooth Prom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opters or 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4720" y="1752480"/>
            <a:ext cx="2477160" cy="100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V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1 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x WPAN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040" y="408924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90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luetooth%20logo%20(tm)" descr=""/>
          <p:cNvPicPr/>
          <p:nvPr/>
        </p:nvPicPr>
        <p:blipFill>
          <a:blip r:embed="rId3"/>
          <a:stretch/>
        </p:blipFill>
        <p:spPr>
          <a:xfrm>
            <a:off x="4968720" y="5372280"/>
            <a:ext cx="2651400" cy="57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95760" y="3441600"/>
            <a:ext cx="904680" cy="85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A7D-4DCC-4FE2-B94C-5CE170FF31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REL" descr=""/>
          <p:cNvPicPr/>
          <p:nvPr/>
        </p:nvPicPr>
        <p:blipFill>
          <a:blip r:embed="rId1"/>
          <a:stretch/>
        </p:blipFill>
        <p:spPr>
          <a:xfrm>
            <a:off x="1328760" y="1828800"/>
            <a:ext cx="6481800" cy="3236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5486400"/>
            <a:ext cx="8305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8Nov99 we are not aware of any progress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and ETSI…IEEE may want to consider BT Upp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C11-F8B8-40E9-84EB-EC75BA7BBF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7162920" y="1752480"/>
            <a:ext cx="1752480" cy="4419720"/>
            <a:chOff x="7162920" y="1752480"/>
            <a:chExt cx="1752480" cy="4419720"/>
          </a:xfrm>
        </p:grpSpPr>
        <p:sp>
          <p:nvSpPr>
            <p:cNvPr id="221" name=""/>
            <p:cNvSpPr/>
            <p:nvPr/>
          </p:nvSpPr>
          <p:spPr>
            <a:xfrm>
              <a:off x="7162920" y="1752480"/>
              <a:ext cx="1752480" cy="441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-H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0920" y="3736800"/>
              <a:ext cx="1098360" cy="1398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1720" y="5213520"/>
              <a:ext cx="1067040" cy="776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1720" y="3733920"/>
              <a:ext cx="11383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er data rate enhancement in 2.4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2.15.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8040" y="5216400"/>
              <a:ext cx="990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1Mbit/s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Mbit/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73720" y="3124080"/>
              <a:ext cx="3240" cy="606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2514600"/>
            <a:ext cx="4971960" cy="2799720"/>
            <a:chOff x="285840" y="2514600"/>
            <a:chExt cx="4971960" cy="2799720"/>
          </a:xfrm>
        </p:grpSpPr>
        <p:sp>
          <p:nvSpPr>
            <p:cNvPr id="229" name=""/>
            <p:cNvSpPr/>
            <p:nvPr/>
          </p:nvSpPr>
          <p:spPr>
            <a:xfrm>
              <a:off x="341640" y="3525480"/>
              <a:ext cx="118368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840" y="3483720"/>
              <a:ext cx="1292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. Ho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2560" y="3525480"/>
              <a:ext cx="122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2680" y="3483720"/>
              <a:ext cx="128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 Sequ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1960" y="3525480"/>
              <a:ext cx="55332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2560" y="3791160"/>
              <a:ext cx="660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2080" y="3311280"/>
              <a:ext cx="3795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040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840" y="3202560"/>
              <a:ext cx="0" cy="111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6160" y="3331440"/>
              <a:ext cx="0" cy="1792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13640" y="3337560"/>
              <a:ext cx="0" cy="1796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720" y="4633200"/>
              <a:ext cx="59868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6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1680" y="4633200"/>
              <a:ext cx="6001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50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1960" y="4633200"/>
              <a:ext cx="5533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2240" y="4631040"/>
              <a:ext cx="56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0320" y="5100120"/>
              <a:ext cx="1823400" cy="2142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: 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and </a:t>
              </a: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re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) = op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840" y="3337560"/>
              <a:ext cx="0" cy="1857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7432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48520" y="3525480"/>
              <a:ext cx="77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5240" y="3525480"/>
              <a:ext cx="82404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26280" y="4633200"/>
              <a:ext cx="639360" cy="39996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9440" y="4633200"/>
              <a:ext cx="598680" cy="58248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120" y="3521880"/>
              <a:ext cx="853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2.4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03880" y="3521880"/>
              <a:ext cx="85392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5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79480" y="4622400"/>
              <a:ext cx="6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1 &amp; 5.5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bit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9600" y="4635720"/>
              <a:ext cx="594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-12-18...54 Mbit/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4960" y="2514600"/>
              <a:ext cx="3434760" cy="69048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880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92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9240" y="3733920"/>
            <a:ext cx="1137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752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438280"/>
            <a:ext cx="3429000" cy="7146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16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96480" y="5105520"/>
            <a:ext cx="7995240" cy="1143000"/>
            <a:chOff x="996480" y="5105520"/>
            <a:chExt cx="7995240" cy="1143000"/>
          </a:xfrm>
        </p:grpSpPr>
        <p:sp>
          <p:nvSpPr>
            <p:cNvPr id="266" name=""/>
            <p:cNvSpPr/>
            <p:nvPr/>
          </p:nvSpPr>
          <p:spPr>
            <a:xfrm>
              <a:off x="5334120" y="5105520"/>
              <a:ext cx="36576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6480" y="5867280"/>
              <a:ext cx="3347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802.15 Coexistence Stud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43400" y="571464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6320" y="4572000"/>
            <a:ext cx="2971800" cy="1294920"/>
            <a:chOff x="76320" y="4572000"/>
            <a:chExt cx="2971800" cy="1294920"/>
          </a:xfrm>
        </p:grpSpPr>
        <p:sp>
          <p:nvSpPr>
            <p:cNvPr id="270" name=""/>
            <p:cNvSpPr/>
            <p:nvPr/>
          </p:nvSpPr>
          <p:spPr>
            <a:xfrm>
              <a:off x="76320" y="4572000"/>
              <a:ext cx="2971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600200" y="480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8D6-3137-40CD-BF16-70A2C69BC6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Timeline Overview &amp;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3EC-5E1A-464C-821E-1E4B07A10B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BC6-81DB-4BB6-AFA2-E689C6A670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672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3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09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788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480" y="167616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40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6386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1 Stud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0481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5 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76520" y="23623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29714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3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485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8288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Ad Hoc “Wearabl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21080" y="3733920"/>
            <a:ext cx="1927440" cy="2448000"/>
            <a:chOff x="4321080" y="3733920"/>
            <a:chExt cx="1927440" cy="2448000"/>
          </a:xfrm>
        </p:grpSpPr>
        <p:sp>
          <p:nvSpPr>
            <p:cNvPr id="72" name=""/>
            <p:cNvSpPr/>
            <p:nvPr/>
          </p:nvSpPr>
          <p:spPr>
            <a:xfrm>
              <a:off x="4533840" y="39625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7720" y="3733920"/>
              <a:ext cx="1720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1 5/6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210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08720" y="4038480"/>
            <a:ext cx="1639800" cy="2145240"/>
            <a:chOff x="4608720" y="4038480"/>
            <a:chExt cx="1639800" cy="2145240"/>
          </a:xfrm>
        </p:grpSpPr>
        <p:sp>
          <p:nvSpPr>
            <p:cNvPr id="76" name=""/>
            <p:cNvSpPr/>
            <p:nvPr/>
          </p:nvSpPr>
          <p:spPr>
            <a:xfrm>
              <a:off x="4800600" y="40384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8720" y="590724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0600" y="4038480"/>
              <a:ext cx="14479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A #1 7/24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89040" y="4495680"/>
            <a:ext cx="691200" cy="1906920"/>
            <a:chOff x="6089040" y="4495680"/>
            <a:chExt cx="691200" cy="1906920"/>
          </a:xfrm>
        </p:grpSpPr>
        <p:sp>
          <p:nvSpPr>
            <p:cNvPr id="80" name=""/>
            <p:cNvSpPr/>
            <p:nvPr/>
          </p:nvSpPr>
          <p:spPr>
            <a:xfrm>
              <a:off x="6118200" y="612612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438960" y="49528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89040" y="4495680"/>
              <a:ext cx="691200" cy="650520"/>
              <a:chOff x="6089040" y="4495680"/>
              <a:chExt cx="691200" cy="6505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6091200" y="4536360"/>
                <a:ext cx="6858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9040" y="449568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708960" y="4343400"/>
            <a:ext cx="682560" cy="1838520"/>
            <a:chOff x="6708960" y="4343400"/>
            <a:chExt cx="682560" cy="1838520"/>
          </a:xfrm>
        </p:grpSpPr>
        <p:sp>
          <p:nvSpPr>
            <p:cNvPr id="86" name=""/>
            <p:cNvSpPr/>
            <p:nvPr/>
          </p:nvSpPr>
          <p:spPr>
            <a:xfrm>
              <a:off x="670896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968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/14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7/1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616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469280" y="4343400"/>
            <a:ext cx="682560" cy="1838520"/>
            <a:chOff x="7469280" y="4343400"/>
            <a:chExt cx="682560" cy="1838520"/>
          </a:xfrm>
        </p:grpSpPr>
        <p:sp>
          <p:nvSpPr>
            <p:cNvPr id="90" name=""/>
            <p:cNvSpPr/>
            <p:nvPr/>
          </p:nvSpPr>
          <p:spPr>
            <a:xfrm>
              <a:off x="74692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000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I #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/13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9/17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648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81240" y="1447920"/>
            <a:ext cx="569520" cy="4495320"/>
            <a:chOff x="7581240" y="1447920"/>
            <a:chExt cx="569520" cy="4495320"/>
          </a:xfrm>
        </p:grpSpPr>
        <p:sp>
          <p:nvSpPr>
            <p:cNvPr id="94" name=""/>
            <p:cNvSpPr/>
            <p:nvPr/>
          </p:nvSpPr>
          <p:spPr>
            <a:xfrm flipV="1">
              <a:off x="7883280" y="1676160"/>
              <a:ext cx="0" cy="4267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1240" y="14479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683-909F-48BE-858A-273D8A7673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39840" y="3833640"/>
            <a:ext cx="8559000" cy="801720"/>
            <a:chOff x="339840" y="3833640"/>
            <a:chExt cx="8559000" cy="801720"/>
          </a:xfrm>
        </p:grpSpPr>
        <p:sp>
          <p:nvSpPr>
            <p:cNvPr id="97" name=""/>
            <p:cNvSpPr/>
            <p:nvPr/>
          </p:nvSpPr>
          <p:spPr>
            <a:xfrm>
              <a:off x="49212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28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320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46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840" y="4102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8280" y="3833640"/>
              <a:ext cx="22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. November 13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28600" y="685800"/>
            <a:ext cx="0" cy="5549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9840" y="5410080"/>
            <a:ext cx="8229600" cy="801720"/>
            <a:chOff x="339840" y="5410080"/>
            <a:chExt cx="8229600" cy="801720"/>
          </a:xfrm>
        </p:grpSpPr>
        <p:sp>
          <p:nvSpPr>
            <p:cNvPr id="105" name=""/>
            <p:cNvSpPr/>
            <p:nvPr/>
          </p:nvSpPr>
          <p:spPr>
            <a:xfrm>
              <a:off x="4921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320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/20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39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672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83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840" y="5678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5410080"/>
              <a:ext cx="18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 May 22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828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/4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9840" y="3071880"/>
            <a:ext cx="8424360" cy="801720"/>
            <a:chOff x="339840" y="3071880"/>
            <a:chExt cx="8424360" cy="801720"/>
          </a:xfrm>
        </p:grpSpPr>
        <p:sp>
          <p:nvSpPr>
            <p:cNvPr id="114" name=""/>
            <p:cNvSpPr/>
            <p:nvPr/>
          </p:nvSpPr>
          <p:spPr>
            <a:xfrm>
              <a:off x="49212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28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20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46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3340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6120" y="30718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. January 15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64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9840" y="4572000"/>
            <a:ext cx="8229600" cy="801720"/>
            <a:chOff x="339840" y="4572000"/>
            <a:chExt cx="8229600" cy="801720"/>
          </a:xfrm>
        </p:grpSpPr>
        <p:sp>
          <p:nvSpPr>
            <p:cNvPr id="122" name=""/>
            <p:cNvSpPr/>
            <p:nvPr/>
          </p:nvSpPr>
          <p:spPr>
            <a:xfrm>
              <a:off x="4921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828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39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46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450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840" y="4840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6480" y="4572000"/>
              <a:ext cx="183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 July 10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57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3123720" y="4559040"/>
            <a:ext cx="27781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4483080"/>
            <a:ext cx="37335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95480" y="4559400"/>
            <a:ext cx="9907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9840" y="2297160"/>
            <a:ext cx="8246160" cy="801720"/>
            <a:chOff x="339840" y="2297160"/>
            <a:chExt cx="8246160" cy="801720"/>
          </a:xfrm>
        </p:grpSpPr>
        <p:sp>
          <p:nvSpPr>
            <p:cNvPr id="135" name=""/>
            <p:cNvSpPr/>
            <p:nvPr/>
          </p:nvSpPr>
          <p:spPr>
            <a:xfrm>
              <a:off x="49212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828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320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46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84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67920" y="2297160"/>
              <a:ext cx="191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. March 8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6440" y="256392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33720" y="76320"/>
            <a:ext cx="487656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reless Personal Area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70080" y="6418440"/>
            <a:ext cx="1400040" cy="2764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1840" y="6323040"/>
            <a:ext cx="665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622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240" y="63547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5080" y="634824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2080" y="63482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Conv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1676520"/>
            <a:ext cx="8229600" cy="801720"/>
            <a:chOff x="343080" y="1676520"/>
            <a:chExt cx="8229600" cy="801720"/>
          </a:xfrm>
        </p:grpSpPr>
        <p:sp>
          <p:nvSpPr>
            <p:cNvPr id="150" name=""/>
            <p:cNvSpPr/>
            <p:nvPr/>
          </p:nvSpPr>
          <p:spPr>
            <a:xfrm>
              <a:off x="2476440" y="19447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080" y="19447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9360" y="1676520"/>
              <a:ext cx="17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. July 1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0" y="6629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6629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080" y="1015920"/>
            <a:ext cx="8584560" cy="801720"/>
            <a:chOff x="343080" y="1015920"/>
            <a:chExt cx="8584560" cy="801720"/>
          </a:xfrm>
        </p:grpSpPr>
        <p:sp>
          <p:nvSpPr>
            <p:cNvPr id="156" name=""/>
            <p:cNvSpPr/>
            <p:nvPr/>
          </p:nvSpPr>
          <p:spPr>
            <a:xfrm>
              <a:off x="2476440" y="12841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080" y="1284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71160" y="101592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 September 13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3080" y="254160"/>
            <a:ext cx="8482680" cy="801000"/>
            <a:chOff x="343080" y="254160"/>
            <a:chExt cx="8482680" cy="801000"/>
          </a:xfrm>
        </p:grpSpPr>
        <p:grpSp>
          <p:nvGrpSpPr>
            <p:cNvPr id="160" name=""/>
            <p:cNvGrpSpPr/>
            <p:nvPr/>
          </p:nvGrpSpPr>
          <p:grpSpPr>
            <a:xfrm>
              <a:off x="343080" y="254160"/>
              <a:ext cx="8482680" cy="801000"/>
              <a:chOff x="343080" y="254160"/>
              <a:chExt cx="8482680" cy="80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2476440" y="522000"/>
                <a:ext cx="91440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Bluetoo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080" y="5220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71520" y="254160"/>
                <a:ext cx="215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. November 8, 1999 or soo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29680" y="520560"/>
              <a:ext cx="9144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540560" y="6008760"/>
            <a:ext cx="1299960" cy="30600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3560" y="163440"/>
            <a:ext cx="6221160" cy="1438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EEE P802.15.1 Draft 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tter Ballot Issued to W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FFD-C4A3-4924-B5CA-84B9DBA5D33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gent WPAN Usage Models Are Starting to 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x = WPAN-HR (High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y = WPAN-LR (Low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52680" y="35812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5800" y="2514600"/>
            <a:ext cx="13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8480" y="46483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WPAN-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480" y="36212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58880" y="2362320"/>
            <a:ext cx="691200" cy="1906560"/>
            <a:chOff x="5258880" y="2362320"/>
            <a:chExt cx="691200" cy="1906560"/>
          </a:xfrm>
        </p:grpSpPr>
        <p:sp>
          <p:nvSpPr>
            <p:cNvPr id="174" name=""/>
            <p:cNvSpPr/>
            <p:nvPr/>
          </p:nvSpPr>
          <p:spPr>
            <a:xfrm>
              <a:off x="5288040" y="399240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08800" y="28188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58880" y="2362320"/>
              <a:ext cx="691200" cy="650160"/>
              <a:chOff x="5258880" y="2362320"/>
              <a:chExt cx="691200" cy="6501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261040" y="2403360"/>
                <a:ext cx="685800" cy="609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58880" y="236232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216000" y="5715000"/>
            <a:ext cx="871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WPAN Draft v0.6 was received 4Nov99.  WPAN-HR Call For Interest submission -99/115r0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2Nov99.  The WPAN-LR Usage Model has not yet been addressed via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45800" y="3137040"/>
            <a:ext cx="2302920" cy="1358640"/>
            <a:chOff x="5545800" y="3137040"/>
            <a:chExt cx="2302920" cy="13586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618160" y="3137040"/>
              <a:ext cx="22305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45800" y="36338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99C-A969-46EA-A559-8591C85846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Liaison List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Special Interest Group (Kardach/Bisdiki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 (Hayes/Kerry/Mur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SI BRAN Project (Khun-Jush/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Forum WATM (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PAN-High Rate (Allen/Heber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active Liaiso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 (Lindinsk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2 (Carl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RF Working Group (Man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 MobileIP 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RC (Kuriha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P Forum (Parri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DA (McK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Liais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" descr=""/>
          <p:cNvPicPr/>
          <p:nvPr/>
        </p:nvPicPr>
        <p:blipFill>
          <a:blip r:embed="rId1"/>
          <a:stretch/>
        </p:blipFill>
        <p:spPr>
          <a:xfrm>
            <a:off x="698400" y="29973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7" name="new" descr=""/>
          <p:cNvPicPr/>
          <p:nvPr/>
        </p:nvPicPr>
        <p:blipFill>
          <a:blip r:embed="rId2"/>
          <a:stretch/>
        </p:blipFill>
        <p:spPr>
          <a:xfrm>
            <a:off x="698400" y="32907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8" name="new" descr=""/>
          <p:cNvPicPr/>
          <p:nvPr/>
        </p:nvPicPr>
        <p:blipFill>
          <a:blip r:embed="rId3"/>
          <a:stretch/>
        </p:blipFill>
        <p:spPr>
          <a:xfrm>
            <a:off x="698400" y="3557520"/>
            <a:ext cx="520920" cy="2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EBA-706E-43B4-BA23-D923543C08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E6E-FF39-4AFD-A246-0AD3E1E2A7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Nov99 Jim Kardach to Ian Gifford -99/028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e on LB #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Telecon’s &amp;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B61-3C24-4239-8AE2-93FC92D9AA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cp:keywords>November 1999</cp:keywords>
  <dc:language>en-US</dc:language>
  <cp:lastModifiedBy>Ian C. Gifford</cp:lastModifiedBy>
  <cp:lastPrinted>1998-02-10T13:28:06Z</cp:lastPrinted>
  <dcterms:modified xsi:type="dcterms:W3CDTF">1999-11-08T23:08:33Z</dcterms:modified>
  <cp:revision>153</cp:revision>
  <dc:subject>#4</dc:subject>
  <dc:title>Liaison Report</dc:title>
</cp:coreProperties>
</file>