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D67-351E-4D70-B56C-0529ABA5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510-D228-476C-B2AF-A10AB51B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154-ADF2-4F90-AF0D-26902FAA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959-8A11-40D8-BF6E-FEABF8B7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2D1-BB7E-4B60-AC7D-A020DA96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1EC-17BF-4CED-90C5-3595114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AC3-A7B1-482B-9CC5-BFB6F80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409-C675-45A2-BEBC-0701A6D7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4DB-FCB0-47BA-9AF4-3ED667FF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E40-E80C-451D-9FD7-3B07436F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028-A427-41CF-838C-BE0536DC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777-125D-4F2C-ACB6-69182945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912A1F-FBE7-4443-B908-DE6BBB97B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Architecture Overvi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Chatschik Bisdik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Resear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J. Watson Research Cen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wthorne, NY 10532, U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sdik@us.ib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039-A154-41E0-B62C-3149D561C36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2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7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419220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D00-42A1-48B0-BBD5-B599772DC0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3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8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2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grpSp>
        <p:nvGrpSpPr>
          <p:cNvPr id="493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4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device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dless phon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’s fre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A0A-B2BC-4619-86EF-AF59B13F09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pic>
        <p:nvPicPr>
          <p:cNvPr id="499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3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4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9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ccess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40082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re conn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connectio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727-0EAC-4171-9BF8-869B3071AF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133720" y="551988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4998960"/>
            <a:ext cx="2898720" cy="4557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4021200"/>
            <a:ext cx="709560" cy="912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01960" y="451008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4021200"/>
            <a:ext cx="1360440" cy="423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271944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219708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06720" y="219708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13320" y="219708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40240" y="219708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167652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18840" y="3110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7809800">
            <a:off x="4582440" y="3129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6400" y="388620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4496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DC2-9A0D-4C0A-9550-34C7644786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synthesis: frequency 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bits into symbols: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776-48AC-4F83-819C-21B27866E0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2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radios can be master or  sl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are symmetric (same radio can be 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can connect to 7 simultaneous or 200+ active slaves per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iconet has maximum capacity (1 MS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hopping pattern/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apac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al impact with up to 10 piconets within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can share picone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234-BE80-4E40-8ADA-04F2FE5D73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91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6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vices in a piconet hop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 a piconet: master gives slaves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8-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n 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iconet devices are in stand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onet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ber Address (AMA, 3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ed Member Address (PMA, 8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2A0-9527-4DEC-9218-E793DF12B5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o join a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about radios to connec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o a specific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ly on a piconet (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/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power connec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9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9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2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5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4AC-9006-47B9-87D8-2306D76B7D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 conscious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 current &lt; 0.3 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months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mode 8-3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 average 5 m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3-30mA, 20 kbps, 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pow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data length (else radio slee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and Park modes: 60 µ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s connected but not particip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retains AMA address, Park releases AMA, gets PMA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can participate within 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imates calculated with 600 mAh battery and internal amplifier, power will vary with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78D-16F7-4AA8-A536-EB583FBEA6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link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g-based packet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lot: 0.625msec (max 1600 slots/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/slave slots (even-/odd-numbered sl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ling: master always “polls”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connection-oriented (SCO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-switch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single-slot packet 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metric 64Kbps full-du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connection-less (ACL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swi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mmetric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packet size (1-5 sl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. 721 kbps (57.6 kbps return chann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.8 - 432.6 kbps (symmetr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3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5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3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7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81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5A8-5121-4B20-8CDB-132AD0B18C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knowledgement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529-943D-4740-9B87-EE19696D56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-error correction (F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re protected with 1/3 rate FEC and H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s may be FEC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3 rate: simple bit repetition (SCO packe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3 rate: (10,15) shortened Hamming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3 rate: no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 (ACL packets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bit CRC (CRC-CCITT) &amp; 1-bit ACK/N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bit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6200" y="215424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0040" y="215424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97200" y="215424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279072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920" y="279072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10960" y="278928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2800" y="185436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82880" y="185436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53960" y="183024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7B3-D2A3-4EA7-BD49-FA0F9CE9A0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frequency hopping (79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ransmit power (range &lt;= 10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remot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link key (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performed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paylo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cipher algorith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all traffic on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entry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954-7754-4F8C-93F1-B9F1BDEE5B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8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2" idx="5"/>
              <a:endCxn id="800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803" idx="3"/>
              <a:endCxn id="800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6"/>
              <a:endCxn id="803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8" name=""/>
            <p:cNvCxnSpPr>
              <a:stCxn id="800" idx="5"/>
              <a:endCxn id="801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9" name=""/>
            <p:cNvCxnSpPr>
              <a:stCxn id="804" idx="7"/>
              <a:endCxn id="800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0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 keys in a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keys are generated via a PI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link key for each pair of devices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torage of link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FF4-5048-4915-8616-0E1FB1D3C6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generation and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60560" y="1441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200" y="23623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3480" y="1814400"/>
            <a:ext cx="350640" cy="547920"/>
          </a:xfrm>
          <a:prstGeom prst="downArrow">
            <a:avLst>
              <a:gd name="adj1" fmla="val 50000"/>
              <a:gd name="adj2" fmla="val 3906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9880" y="33512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7440" y="55483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1200" y="44467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39052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01680" y="28479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01680" y="49323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74840" y="3444840"/>
            <a:ext cx="2743200" cy="304920"/>
          </a:xfrm>
          <a:prstGeom prst="leftRightArrow">
            <a:avLst>
              <a:gd name="adj1" fmla="val 50000"/>
              <a:gd name="adj2" fmla="val 179096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79840" y="57243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51480" y="5349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39800" y="3105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60920" y="142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80120" y="23493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03840" y="18018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70600" y="333864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8160" y="55450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80120" y="44337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38926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02400" y="28353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02400" y="49197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70920" y="14778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85320" y="31860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37600" y="5472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316-B48B-4D7F-B2D3-A739C27729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leve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on-top of link-leve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trusted devi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levels f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r higher security requirements could be ad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ecur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9A1-304D-4CE8-8D92-5F91AF83AB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676520" y="1828800"/>
            <a:ext cx="6324480" cy="4266720"/>
            <a:chOff x="1676520" y="1828800"/>
            <a:chExt cx="6324480" cy="4266720"/>
          </a:xfrm>
        </p:grpSpPr>
        <p:sp>
          <p:nvSpPr>
            <p:cNvPr id="852" name=""/>
            <p:cNvSpPr/>
            <p:nvPr/>
          </p:nvSpPr>
          <p:spPr>
            <a:xfrm>
              <a:off x="1676520" y="396216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567180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2840" y="515124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52840" y="417312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30720" y="466236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30720" y="417312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2840" y="287172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2840" y="234936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22520" y="234936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234936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86480" y="234936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52840" y="182880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98280" y="32619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7809800">
              <a:off x="3866760" y="32929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39040" y="198108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8520" y="3116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517640" y="449568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4400" y="419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448-74CD-4279-B736-6ED4F2FFA33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architectur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target usag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 variety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ut of box 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legac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isting protocols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56F-7E01-42B8-B5B1-9E146B174C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380880" y="1828800"/>
            <a:ext cx="8404200" cy="4495680"/>
            <a:chOff x="380880" y="1828800"/>
            <a:chExt cx="8404200" cy="4495680"/>
          </a:xfrm>
        </p:grpSpPr>
        <p:sp>
          <p:nvSpPr>
            <p:cNvPr id="873" name=""/>
            <p:cNvSpPr/>
            <p:nvPr/>
          </p:nvSpPr>
          <p:spPr>
            <a:xfrm>
              <a:off x="2614680" y="500400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04960" y="499284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65520" y="388620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765520" y="457128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70280" y="547704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12676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94320" y="29718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75000" y="320040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6572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99080" y="561960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7048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05560" y="562608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8098560" y="228528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00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500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60800" y="449568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13280" y="387360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7028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1780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65560" y="343548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55840" y="342900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76720" y="340668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78520" y="339084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64120" y="410832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54760" y="409104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27480" y="320040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6100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72428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94120" y="4724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65320" y="4572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0880" y="409104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C65-FC97-4A61-9F6E-5141C32AFD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Controller Interface (H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Layer Control &amp; Adaptation (L2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17A-782A-416B-A68B-36B10733EC1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 Protocol (S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67D-A56E-416C-96BB-BBC4DCCF73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Blueto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luetooth and what does it do 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usage scenarios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&amp;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.15 and Bluetooth spec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830-0ED5-4CBC-B3E4-9C93ADBA41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OMM (based on GSM TS07.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y Control Protocol Spec (T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protocol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219-71AC-4242-BBCF-B12120FA92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 &amp;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53000" y="1662120"/>
            <a:ext cx="3857760" cy="3672720"/>
            <a:chOff x="4653000" y="1662120"/>
            <a:chExt cx="3857760" cy="3672720"/>
          </a:xfrm>
        </p:grpSpPr>
        <p:sp>
          <p:nvSpPr>
            <p:cNvPr id="934" name=""/>
            <p:cNvSpPr/>
            <p:nvPr/>
          </p:nvSpPr>
          <p:spPr>
            <a:xfrm>
              <a:off x="5072040" y="2595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7414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2040" y="31683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314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45160" y="17352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18280" y="17352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91400" y="17352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64520" y="30366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35840" y="17352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32560" y="50464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60640" y="50450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53000" y="28828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4330080" y="331056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72040" y="16621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24600" y="18144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1716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91400" y="30258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35840" y="41716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default solution for a 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lice through the 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interoperability and log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luetooth device supports one or more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3F1-E27A-4934-8F1B-193052DDED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5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419256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4CD-BD71-4BA8-9F37-C4E77512095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609480" y="1635120"/>
            <a:ext cx="8020080" cy="4613400"/>
            <a:chOff x="609480" y="1635120"/>
            <a:chExt cx="8020080" cy="4613400"/>
          </a:xfrm>
        </p:grpSpPr>
        <p:sp>
          <p:nvSpPr>
            <p:cNvPr id="972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4" name=""/>
            <p:cNvGraphicFramePr/>
            <p:nvPr/>
          </p:nvGraphicFramePr>
          <p:xfrm>
            <a:off x="3903480" y="2098440"/>
            <a:ext cx="855720" cy="78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2098440"/>
                      <a:ext cx="85572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609480" y="2673360"/>
            <a:ext cx="141444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673360"/>
                      <a:ext cx="141444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266920" y="2576520"/>
            <a:ext cx="1315800" cy="3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2576520"/>
                      <a:ext cx="131580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0" name=""/>
            <p:cNvGraphicFramePr/>
            <p:nvPr/>
          </p:nvGraphicFramePr>
          <p:xfrm>
            <a:off x="2371680" y="3622680"/>
            <a:ext cx="1271520" cy="40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622680"/>
                      <a:ext cx="1271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2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320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13200" y="59626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83568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8040" y="59626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5804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48016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713200" y="55335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64040" y="55339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835680" y="55335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7358040" y="55335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8480160" y="55335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08520" y="55339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11880" y="539100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78320" y="433872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78320" y="3608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18000" y="5384880"/>
              <a:ext cx="80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05320" y="50608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92720" y="2814480"/>
              <a:ext cx="0" cy="29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7692480" y="2071800"/>
              <a:ext cx="324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9"/>
            <a:stretch/>
          </p:blipFill>
          <p:spPr>
            <a:xfrm>
              <a:off x="4047840" y="4014720"/>
              <a:ext cx="658800" cy="4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10C-D0F2-4120-870E-09ABA494C00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609480" y="1625760"/>
            <a:ext cx="7910280" cy="4012560"/>
            <a:chOff x="609480" y="1625760"/>
            <a:chExt cx="7910280" cy="4012560"/>
          </a:xfrm>
        </p:grpSpPr>
        <p:sp>
          <p:nvSpPr>
            <p:cNvPr id="1014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6" name=""/>
            <p:cNvGraphicFramePr/>
            <p:nvPr/>
          </p:nvGraphicFramePr>
          <p:xfrm>
            <a:off x="609480" y="4647960"/>
            <a:ext cx="1143000" cy="99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647960"/>
                      <a:ext cx="114300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8" name=""/>
            <p:cNvGraphicFramePr/>
            <p:nvPr/>
          </p:nvGraphicFramePr>
          <p:xfrm>
            <a:off x="2750760" y="1625760"/>
            <a:ext cx="1166760" cy="12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625760"/>
                      <a:ext cx="116676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376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03760" y="49640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725880" y="46778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48240" y="49640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4824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37072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603760" y="45352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4240" y="45352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725880" y="45352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7248240" y="45352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8370720" y="45352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99080" y="45352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0208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080" y="367812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656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87680" y="2820960"/>
              <a:ext cx="648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92720" y="2106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70120" y="182052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6" name="" descr=""/>
            <p:cNvPicPr/>
            <p:nvPr/>
          </p:nvPicPr>
          <p:blipFill>
            <a:blip r:embed="rId5"/>
            <a:stretch/>
          </p:blipFill>
          <p:spPr>
            <a:xfrm>
              <a:off x="1333080" y="3063600"/>
              <a:ext cx="1744920" cy="15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EFE-C578-42F1-86CB-BE2E6C03FEC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685800" y="1658880"/>
            <a:ext cx="7994160" cy="4284720"/>
            <a:chOff x="685800" y="1658880"/>
            <a:chExt cx="7994160" cy="4284720"/>
          </a:xfrm>
        </p:grpSpPr>
        <p:sp>
          <p:nvSpPr>
            <p:cNvPr id="1049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1" name=""/>
            <p:cNvGraphicFramePr/>
            <p:nvPr/>
          </p:nvGraphicFramePr>
          <p:xfrm>
            <a:off x="4343040" y="282708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82708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2590560" y="305568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305568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5" name=""/>
            <p:cNvGraphicFramePr/>
            <p:nvPr/>
          </p:nvGraphicFramePr>
          <p:xfrm>
            <a:off x="685800" y="267480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67480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6396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63960" y="565776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88644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08800" y="565776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0880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53092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763960" y="522864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14800" y="522900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886440" y="522864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7408800" y="522864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8530920" y="522864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559280" y="522900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35560" y="40338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29080" y="315576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2640" y="508608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68760" y="507996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56080" y="475596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1400" y="523224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930720" y="208404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 access poin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A4F-E5AC-42B7-B627-5D13C7FBB66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1087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1090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1093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1096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1099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5AC-483D-448C-B075-499FFEB6EC6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is a global, RF-based (ISM band: 2.4GHz), short-range, connectivity technology &amp; solution for portable, personal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tooth spec com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Discover Magazine Awards fi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mo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BD9-67CC-4F20-89BB-B0BBFB9414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is not only a link (connectivity) solution but an end-to-end (e2e)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e2e solution is built on-top of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low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“brand-name” is highly dependent on the presence of the core protocols in all devices claiming to be Bluetooth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The draft standard must contain: RF, BB, LM, &amp; L2CAP Bluetooth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evel services (including LLC) can/shall be built on top of L2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P (Generic Access Profile) can serve as a guideline for establishing Bluetooth links between hos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6E0-CF51-433C-A1CC-805BBD7BF5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5563440" y="412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257440" y="43430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40240" y="23493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7809800">
            <a:off x="4582440" y="32821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28717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18840" y="32623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905120" y="3733920"/>
            <a:ext cx="6324480" cy="2590560"/>
            <a:chOff x="1905120" y="3733920"/>
            <a:chExt cx="6324480" cy="2590560"/>
          </a:xfrm>
        </p:grpSpPr>
        <p:sp>
          <p:nvSpPr>
            <p:cNvPr id="1113" name=""/>
            <p:cNvSpPr/>
            <p:nvPr/>
          </p:nvSpPr>
          <p:spPr>
            <a:xfrm>
              <a:off x="1905120" y="37339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62720" y="41148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4830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133720" y="41734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23493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06720" y="23493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13320" y="23493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8288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56721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51516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01960" y="46623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1960" y="41734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977-A34C-49D7-92FF-919EE619D04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ald Blaatand “Bluetooth”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f Denmark 940-981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e of two Runic stones erected in his capital city of J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ne’s inscription (“runes”)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hristianiz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ontroll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believes that devices shall seamlessly communicate [wireless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115-BE39-4A57-B1B6-0084C27333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ocol lay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8720" y="21891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98720" y="29224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71920" y="29224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71920" y="36561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78400" y="36561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75160" y="36561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340320" y="36561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32558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33307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664000" y="35560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4000" y="3630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3197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32734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33498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34243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3500280"/>
            <a:ext cx="111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7480" y="35751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62160" y="32544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137040" y="33130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13000" y="33703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86080" y="34290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62400" y="34876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36920" y="35463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13240" y="360504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457440" y="32544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30520" y="3305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06840" y="3359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81360" y="3411360"/>
            <a:ext cx="42840" cy="352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57680" y="34639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32200" y="35164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08520" y="3570120"/>
            <a:ext cx="410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83040" y="36226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57440" y="32544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3232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08280" y="3313080"/>
            <a:ext cx="3996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83160" y="33400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7591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3640" y="3398760"/>
            <a:ext cx="3996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08520" y="34275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983040" y="34592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5936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35320" y="35164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210200" y="354636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286160" y="35751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61040" y="36036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4370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88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64280" y="36036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7960" y="35751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11640" y="3546360"/>
            <a:ext cx="414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38560" y="35164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96260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888080" y="34592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11760" y="34275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37240" y="339876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609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586400" y="33400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10080" y="3313080"/>
            <a:ext cx="4140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3700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361040" y="32544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498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261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00640" y="3292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769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51480" y="3333600"/>
            <a:ext cx="3960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278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603760" y="33735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768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53160" y="34146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276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040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9785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548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29360" y="3516480"/>
            <a:ext cx="3960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2056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78400" y="35575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547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29240" y="35989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055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80080" y="36385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99280" y="36385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2229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48440" y="35989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721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996160" y="35575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9230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48200" y="3516480"/>
            <a:ext cx="3816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722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6959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6214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5450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70560" y="34146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942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21160" y="33735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452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170320" y="3333600"/>
            <a:ext cx="3996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943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19840" y="32925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435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672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2882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2808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2732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2657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89360" y="258300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9360" y="25225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2522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25956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671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7464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46560" y="28224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46560" y="28987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71920" y="43894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05748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5748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434988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42735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41990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41241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4000" y="40496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64000" y="398772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894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75160" y="43894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02000" y="51213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940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940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0574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574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335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78400" y="43894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40320" y="43894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434988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42735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41990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41241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567240" y="40496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567240" y="398772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1796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1796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324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324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6150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150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50817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50068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49309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4857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97320" y="47815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97320" y="47214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406680" y="51213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06680" y="43894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0848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353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01796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1796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50817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50068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49309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4857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64280" y="47815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64280" y="47214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50817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50068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49309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4857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615000" y="47815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615000" y="47214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08480" y="51213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4036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0228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370160" y="34830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70160" y="48927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90720" y="56707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484280" y="28540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438200" y="33400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27496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484280" y="35874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38200" y="4748040"/>
            <a:ext cx="90720" cy="1447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34830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484280" y="49971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5538960"/>
            <a:ext cx="90720" cy="14256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48927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206640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19605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484280" y="5681520"/>
            <a:ext cx="1800" cy="401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60451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1720" y="18763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41960" y="32320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55560" y="39942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16400" y="5432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98040" y="58276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283720" y="22734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46640" y="3005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39200" y="37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39200" y="44719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711240" y="27669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61040" y="28274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8176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946240" y="28274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9404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39200" y="5203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5748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5748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32497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32130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30988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30607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3024360"/>
            <a:ext cx="93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357800" y="29876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57800" y="2949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6396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6396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488200" y="3759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21160" y="49658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998680" y="50259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097680" y="499572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6671880" y="50259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18240" y="499572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25797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5600" y="29624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25797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65360" y="43084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160720" y="25797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03360" y="50450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15120" y="23893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441800" y="2500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69680" y="600696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97640" y="600696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256720" y="61866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713560" y="61880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70760" y="51213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30960" y="4491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72720" y="52243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219320" y="2774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90720" y="27748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6200000">
            <a:off x="503280" y="40381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C4E-9331-4105-AA82-A425A8DB759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838080" y="2925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2CAP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35200" y="17748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643760" y="21240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7600" y="17748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32920" y="212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header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0" name=""/>
          <p:cNvGraphicFramePr/>
          <p:nvPr/>
        </p:nvGraphicFramePr>
        <p:xfrm>
          <a:off x="1371600" y="307800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7800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>
            <a:off x="753120" y="445608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221480" y="1523880"/>
            <a:ext cx="6520320" cy="337320"/>
            <a:chOff x="1221480" y="1523880"/>
            <a:chExt cx="6520320" cy="337320"/>
          </a:xfrm>
        </p:grpSpPr>
        <p:sp>
          <p:nvSpPr>
            <p:cNvPr id="1454" name=""/>
            <p:cNvSpPr/>
            <p:nvPr/>
          </p:nvSpPr>
          <p:spPr>
            <a:xfrm>
              <a:off x="122148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9532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00360" y="16920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C7E-1294-42AF-88F8-0A68F23447C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838080" y="268128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L PDU (ACLP)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35200" y="16002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43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57600" y="16002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42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L_CH=‘b11’ the ACLP payload is generated and interpreted by the ACLP layer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Manager (LM) P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 (L2C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1295280" y="2757600"/>
          <a:ext cx="7162920" cy="190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57600"/>
                    <a:ext cx="71629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"/>
          <p:cNvSpPr/>
          <p:nvPr/>
        </p:nvSpPr>
        <p:spPr>
          <a:xfrm>
            <a:off x="757080" y="435780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1221480" y="1371600"/>
            <a:ext cx="6520320" cy="337320"/>
            <a:chOff x="1221480" y="1371600"/>
            <a:chExt cx="6520320" cy="337320"/>
          </a:xfrm>
        </p:grpSpPr>
        <p:sp>
          <p:nvSpPr>
            <p:cNvPr id="1468" name=""/>
            <p:cNvSpPr/>
            <p:nvPr/>
          </p:nvSpPr>
          <p:spPr>
            <a:xfrm>
              <a:off x="122148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9532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00360" y="15397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686-5898-4AC6-B96D-36817DC46B7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838080" y="266688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35200" y="1523880"/>
            <a:ext cx="1828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1560" y="187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57600" y="15238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42760" y="18730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229068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 (encoded with 1/3-rate FEC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+CRC encoded with {1,2,3}/3-rate F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U_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Dxy, HVx, DV, AUX1 the BB payload is passed to the appropriate higher layer (LM for ACL packets, an application for SCO packets, AUX1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header information or in the FHS payload is used to facilitate &amp; manage baseb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C: present only in non-AUX, ACL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1295280" y="274320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0" name=""/>
          <p:cNvGrpSpPr/>
          <p:nvPr/>
        </p:nvGrpSpPr>
        <p:grpSpPr>
          <a:xfrm>
            <a:off x="1221480" y="1289160"/>
            <a:ext cx="6520320" cy="337320"/>
            <a:chOff x="1221480" y="1289160"/>
            <a:chExt cx="6520320" cy="337320"/>
          </a:xfrm>
        </p:grpSpPr>
        <p:sp>
          <p:nvSpPr>
            <p:cNvPr id="1481" name=""/>
            <p:cNvSpPr/>
            <p:nvPr/>
          </p:nvSpPr>
          <p:spPr>
            <a:xfrm>
              <a:off x="122148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9532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00360" y="14572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7324560" y="1523880"/>
            <a:ext cx="99072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241760" y="1873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474-8F8A-4D59-B389-E1DC837D812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type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24040" y="42670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94120" y="4267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90920" y="4267080"/>
            <a:ext cx="3657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83320" y="4616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942280" y="4616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009400" y="461628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38440" y="3397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90920" y="33973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83320" y="2101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85440" y="373392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33520" y="211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52480" y="17524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738440" y="2590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63960" y="2590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97360" y="2908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51560" y="294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249920" y="179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95280" y="26352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097360" y="3733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27520" y="342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56640" y="4311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752480" y="51814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024360" y="51814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419720" y="5181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1176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972520" y="553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62120" y="5791320"/>
            <a:ext cx="7619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202440" y="5181480"/>
            <a:ext cx="19047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04540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57440" y="553068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249920" y="522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1221480" y="1492200"/>
            <a:ext cx="6520320" cy="337320"/>
            <a:chOff x="1221480" y="1492200"/>
            <a:chExt cx="6520320" cy="337320"/>
          </a:xfrm>
        </p:grpSpPr>
        <p:sp>
          <p:nvSpPr>
            <p:cNvPr id="1519" name=""/>
            <p:cNvSpPr/>
            <p:nvPr/>
          </p:nvSpPr>
          <p:spPr>
            <a:xfrm>
              <a:off x="122148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9532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00360" y="1660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024360" y="3397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2520" y="3733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7FD-A1C3-4B1B-9AB1-19A6CA3BB28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066680" y="19051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25960" y="2254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124080" y="1905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91120" y="19051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9920" y="19051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286000" y="2095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46896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863960" y="2254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36300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96920" y="26668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91440" y="30160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1240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91120" y="26668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25780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3244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689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53420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60268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675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438280" y="2857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922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496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743200" y="3747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043080" y="38862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92240" y="46483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124080" y="4648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1120" y="4648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019920" y="46483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3800" y="50292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743200" y="483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09A-EECB-455E-8068-0A1D7BC9AA4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6" idx="3"/>
            <a:endCxn id="1557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7" idx="3"/>
            <a:endCxn id="1558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5" name=""/>
          <p:cNvCxnSpPr>
            <a:stCxn id="1561" idx="3"/>
            <a:endCxn id="1560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560" idx="3"/>
            <a:endCxn id="1559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7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2" name=""/>
          <p:cNvCxnSpPr>
            <a:stCxn id="1569" idx="3"/>
            <a:endCxn id="1570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70" idx="0"/>
            <a:endCxn id="1571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6" idx="3"/>
            <a:endCxn id="1575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79" idx="3"/>
            <a:endCxn id="1580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75" idx="2"/>
            <a:endCxn id="1579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71" idx="3"/>
            <a:endCxn id="1574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8" idx="0"/>
            <a:endCxn id="1586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0" name=""/>
          <p:cNvCxnSpPr>
            <a:stCxn id="1588" idx="0"/>
            <a:endCxn id="1587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1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A82-2FFA-4345-AE01-15461888BB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6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71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3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4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6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9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3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5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6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3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BE0-A0B5-4808-B071-322EFAAE73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ttle bit of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(Special Interest Group) was formed in Februar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1036 adopte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ent “public” in Ma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ork (the spec: &gt;1,500 pages) became public on July 26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4A6-A4EB-4575-AAC8-80C63E0492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433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465-C35A-46C6-894A-30A433532A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484200" y="1447920"/>
            <a:ext cx="8278560" cy="4267080"/>
            <a:chOff x="484200" y="1447920"/>
            <a:chExt cx="8278560" cy="4267080"/>
          </a:xfrm>
        </p:grpSpPr>
        <p:sp>
          <p:nvSpPr>
            <p:cNvPr id="436" name=""/>
            <p:cNvSpPr/>
            <p:nvPr/>
          </p:nvSpPr>
          <p:spPr>
            <a:xfrm>
              <a:off x="5262480" y="20120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2680" y="15238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38408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38098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24120" y="49370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36880" y="47242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75160" y="30009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531600" y="34290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52912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4200" y="47703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37926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52440" y="42814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52440" y="37926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200" y="24908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4200" y="19684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7200" y="19684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3800" y="19684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0720" y="19684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" y="14479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69320" y="28814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7809800">
              <a:off x="2932920" y="29012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rdware/softwar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B81-2061-41E2-ABD8-62C9888CE5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ge scenarios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den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less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rd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-in-on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peaker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0A5-38AD-415A-BA58-52F8059C36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7:09:06Z</dcterms:created>
  <dc:creator>Dr. Chatschik Bisdikian</dc:creator>
  <dc:description>69</dc:description>
  <dc:language>en-US</dc:language>
  <cp:lastModifiedBy>Ian C. Gifford</cp:lastModifiedBy>
  <cp:lastPrinted>1998-02-10T13:28:06Z</cp:lastPrinted>
  <dcterms:modified xsi:type="dcterms:W3CDTF">1999-09-09T18:35:42Z</dcterms:modified>
  <cp:revision>2</cp:revision>
  <dc:subject>Bluetooth Architecture Overview</dc:subject>
  <dc:title>Overview of the Bluetooth System</dc:title>
</cp:coreProperties>
</file>