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878-9963-451E-8D2A-06EE06C8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382-93E5-4181-B62D-3FB5FB2B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0F0-5B8D-4C91-8826-1C1D7E72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CA2-B1C1-4A3B-BA84-A2EC7EFF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AE9-0D8F-4B39-802A-4C46D1FA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96B-1177-4701-8EE5-EA3C54DA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7ED-E8DD-494D-8C37-7CFF2BBE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5B9-0F1D-4100-90F8-DCF6D813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5CE-6842-4A69-8EF7-70512ABD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5D4-0518-4910-BEC8-F13272AF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F94-4E96-46B8-B9F5-1CCDC977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705-CEB9-4F45-9326-4FF880EB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8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CAB1E18-474C-4AA3-A21B-44175EAD9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and Interoperability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C87-5022-4CEE-93D5-28D867FCFD4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y Group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think about what to include in PAR over the next two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send out material via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PAR at Santa R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anta Rosa we will decide if we should include Interoper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work starts in Hawa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427-D05C-4939-8F83-E8FE174C16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mportance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of 802.15 WPAN and 802.11 WLAN was mandated by the 802 Executive Committ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likely that WPAN and WLAN devices will operate in the same ISM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N devices are likely to operate in locations where WLANs are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6D8-C0E6-414E-8766-10CF6472E6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mportance of 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hat two devices that conform to the 802.15 standard interoperate with one another at the Physical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also be desirable to have WPAN and WLAN devices interoperate at some higher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492-64A2-4ED1-8C1E-5DD2F08D3C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pose the formation of a Coexistence and Interoperability Study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ould write a Project Authorization Request (PAR) defining the objectives and scope of the Coexistence and Interoperability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ould exist from July 1999 to November 19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F873-F93C-4B46-9B94-3ECEA46FD1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devices with which a WPAN must coexist.  The following is a partial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1 &amp; 2 Mbps FH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1 &amp; 2 Mbps D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5.5 &amp; 11 Mbps D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802.15 WPAN devices, of potentially a different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2B8-F802-44A1-B768-A6F723EDB8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deliverables of th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es of reports describing the impact of a WPAN on a WLAN in the same vicinity, and visa ve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recommended practices for both the WPAN and WLAN to maximize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, some recommended modifications or extensions to the WPAN and/or WLAN standards to improve coexis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E72-0170-451C-BD64-A1FA3569A5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vel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 to 802.15 devices (PHY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 to 802.11 devices (higher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ill define what type of interoperability to address as a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from the W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3CA-2D90-4368-8E60-F6DB477F20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eems likely that the Task Group would likely set up a liaison with 802.11 to facilitate communication on the topics of coexistence and interoper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F0E-D871-4166-88BA-149CFE6097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ested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los 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viz Kerma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urt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thias F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man Alborz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on Ba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l Batliwa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ke Paczon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an Ree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dwell Cross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E70-EABF-41B0-B3AC-BFA78CB4DD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9:46:37Z</dcterms:created>
  <dc:creator>Stephen J. Shellhammer</dc:creator>
  <dc:description>&lt;doc#&gt;</dc:description>
  <dc:language>en-US</dc:language>
  <cp:lastModifiedBy>Bridget Labrode</cp:lastModifiedBy>
  <cp:lastPrinted>1998-02-10T13:28:06Z</cp:lastPrinted>
  <dcterms:modified xsi:type="dcterms:W3CDTF">1999-07-08T17:21:14Z</dcterms:modified>
  <cp:revision>26</cp:revision>
  <dc:subject>IEEE 802.15 &lt;subject&gt;</dc:subject>
  <dc:title>IEEE P802.15 Working Group for Wireless Personal Area Networks</dc:title>
</cp:coreProperties>
</file>