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9336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3467160" y="97200"/>
            <a:ext cx="28144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654120" y="97200"/>
            <a:ext cx="27367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52000" y="701280"/>
            <a:ext cx="4629240" cy="346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3771720" y="8984880"/>
            <a:ext cx="2509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2933280" y="8984880"/>
            <a:ext cx="8017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F107C04-DB2A-47F9-9206-9FCC0879B7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23960" y="8985240"/>
            <a:ext cx="711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23960" y="8983800"/>
            <a:ext cx="5486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640" y="29700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nks for pitching this report -99/64r0 on Monday at 9:19am to the P802.15 Full W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itch is specifically for the following agenda -99/54r2  ite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3.3 II REPORT ON TG1 ACTIVITIES AND PLANS - GIFFORD 10 09:19 A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will update this report to r1 and r2 for Wednesday &amp; Friday Full WG Updates.  I will need help on the Friday Report to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st Regard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CD84-EAFF-47F8-B6AA-14BB7A1A1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32BC-9CB6-46FA-B1FA-E236CE563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4CC7-2344-4F08-8D18-035FFC0A4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9856-F9A9-4763-A122-1EE9A370F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443C-E3C3-4D79-9096-6E71CA017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DA9F-DF57-4B39-A6E1-01247C4B1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15E0-1EBE-4336-975A-EE394B946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D2CF-0496-42C6-8A09-89FDE2091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C777-AB36-4B9F-BA2D-51EACB120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E744-01C8-4A4A-94B1-4168AE389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2FBA-7608-4B6E-9AB4-35DEA60C3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B8B9-BF57-47E9-A085-DCD60FCB8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92EA7876-E06A-4C00-AAEF-54DB78A487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99/083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EEE P802.15 Working Group for Wireless Personal Area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G1 Report #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 &amp; 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CF3C-C8F5-491D-A155-2DC4B965EF0F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anta Rosa - Objectiv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KICK OFF WORK ON TG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X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VOTE ON REMAINING TG1 OFFIC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PROVIDE AN UPDATE ON TG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PROVIDE AN OVERVIEW OF THE BLUETOOTH SPECIFICATION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PLAN FOR or OVERVIEW INITIAL DRAFT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X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 VOTE TO SUBMIT THE DRAFT TO WG LETTER BALLOT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X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 VOTE TO REVIEW THE COMMENTS FROM WG LB #1 IN NOV99 PLEN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048120" y="4343400"/>
            <a:ext cx="20574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 &amp; 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F54E-DE80-435D-82C7-D9A98070898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anta Rosa - Submiss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enty-four (24) Submis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 (6) Bluetooth Liais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sting an Interim Conference Tutorial on Tuesday 14Sep99 from 6:30 to 9:00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ing a detailed overview of the “Mapping the Bluetooth Specification to IEEE 802.15.1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 &amp; 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015B-30BF-458C-B627-C4C6DC3DF1B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571840" y="4648320"/>
            <a:ext cx="1460520" cy="99036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533680" y="1968480"/>
            <a:ext cx="2463840" cy="12193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734080" y="2514600"/>
            <a:ext cx="1574640" cy="21463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558880" y="3200400"/>
            <a:ext cx="711360" cy="14479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44560" y="4216320"/>
            <a:ext cx="1701720" cy="4320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anta Rosa - TG1 Session OL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7120" y="1314360"/>
            <a:ext cx="8963280" cy="52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----|-------------|-----------|-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Monday    |  Tuesday  |Wednesday    |   Thursday |   Friday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----|-------------|-----------|-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Full 802.15 |    TG1    | TG1   ! SG  |    MC      |Full 802.15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AM |.............|           |       !     |............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MC  ! SG  |           |       !     |          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   !     |           |       !     |    TG1     |............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----|-------------|-----------|-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  SG     | TG1 ! SG  | Joint.11/.15|    TG1   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         |     !     |.............|          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PM |             |     !     |             |          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.............|     !     | Full 802.15 |          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 TG1     |     !     |             |          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----|-------------|-----------|-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Eve-|             | Bluetooth |   Social    | Pizza Party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ning|             |  Tutorial |             |     &amp;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         |6:30p-8:00p|             | Doc Editing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----|-------------|-----------|-------------|------------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egend:   ......... = flexible adjournment/Sta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G1 = Bluetooth Submission, SG = Coexistence, MC = Mark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762120"/>
            <a:ext cx="228600" cy="2286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59720" y="762120"/>
            <a:ext cx="177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Task Group 1 in se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 &amp; Ian Gifford, M/A-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CE59-2DAA-4299-AA87-DB3FDD4A0F0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740560" y="2514600"/>
            <a:ext cx="1574640" cy="6858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038480" y="1981080"/>
            <a:ext cx="16765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77960" y="4648320"/>
            <a:ext cx="1460520" cy="99036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51040" y="4216320"/>
            <a:ext cx="1701720" cy="4320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540160" y="1981080"/>
            <a:ext cx="1498320" cy="175284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anta Rosa - TG1 Session NE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7120" y="1327320"/>
            <a:ext cx="8963280" cy="52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----|-------------|-----------|-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Monday    |  Tuesday  |Wednesday    |   Thursday |   Friday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----|-------------|-----------|-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Full 802.15 |    TG1    |     TG1     |    MC      |Full 802.15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AM |.............|           |.............|............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MC  ! SG  |           |             |          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   !     |           |      SG     |    TG1     |............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----|-------------|-----------|-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  SG     |    TG1    | Joint.11/.15| SDL Model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         |...........|.............|   Class  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PM |             |           |             |          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.............|           | Full 802.15 |          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 TG1     |     SG    |             |          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----|-------------|-----------|-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Eve-|             | Bluetooth |   Social    | Pizza Party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ning|             |  Tutorial |             |     &amp;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         |6:30p-8:00p|             | Doc Editing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----|-------------|-----------|-------------|------------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egend:   ......... = flexible adjournment/Sta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G1 = Bluetooth Submission, SG = Coexistence, MC = Mark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762120"/>
            <a:ext cx="228600" cy="2286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9720" y="762120"/>
            <a:ext cx="177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Task Group 1 in se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 &amp; Ian Gifford, M/A-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6A89-E78C-43F9-82C7-481CBC2D0169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ext Steps -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G1 Tas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802.15 Authorize P802.15 WG LB #1 between the Sep99 - Nov99 (B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802.15 Compose P802.15 WG Electronic Letter #1 Ballot (B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802.15 Upload Draft Standard to the private Web Site (I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802.15 WG Letter Ballot #1 Package Distribution (B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802.15 Letter Balloting (W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802.15 Process and Consolidation Comments (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802.15 WG LB #1 Comment Resolution (WG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4160" y="2476440"/>
            <a:ext cx="8305560" cy="1295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14480" y="762120"/>
            <a:ext cx="761760" cy="3045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54360" y="730080"/>
            <a:ext cx="125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 TG1 Foc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 &amp; 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0921-D4A1-4A32-8A01-58515F916F8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ext Steps -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n TG1 Tasks (Monito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T-IEEE WG Finalize Draft Standard (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T-IEEE WG Submit Draft Standard to BSIG Program Management (C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SIG Review Derivative Draft Standard Submission (BSI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SIG Disposition Draft Standard/Submit to IEEE P802.15, if ok (J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54160" y="1752480"/>
            <a:ext cx="8305560" cy="1295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4480" y="762120"/>
            <a:ext cx="761760" cy="3045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54360" y="730080"/>
            <a:ext cx="125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 TG1 Foc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 &amp; 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4B23-CD65-4A55-9CCE-57575C476C0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G1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s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e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erview of Santa Ro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nday, 13Sep9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uesday, 14Sep9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dnesday, 15Sep9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ursday, 16Sep9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date for Santa Ros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bmi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 &amp; 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060A-97DB-4232-AD97-70868DFCCAD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verview of the TG1 Tasks - 14Sep9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luetooth SIG Letter of Intent (J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ing #1 July 5-9, 1999 Montreal, PQ, Cana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802.15 Finalize the Copyright License Agreement (I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ing #2 September 13-17, 1999 Santa Rosa, CA USA Hilton 802.15 Interim Meeting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T-IEEE WG Finalize Draft Standard (T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T-IEEE WG Submit Draft Standard to BSIG Program Management (C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SIG Review Derivative Draft Standard Submission (BSI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SIG Disposition Draft Standard/Submit to IEEE P802.15, if ok (J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ing #3 November 8-12, 1999 Kauai, Hawaii Hyatt Regency, 802 Plenary Meeti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802.15 Authorize P802.15 WG LB #1 between the Sep99 - Nov99 (B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802.15 Compose P802.15 WG Electronic Letter #1 Ballot (B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802.15 Upload Draft Standard to the private Web Site (I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802.15 WG Letter Ballot #1 Package Distribution (B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802.15 Letter Balloting (W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802.15 Process and Consolidation Comments (?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802.15 WG LB #1 Comment Resolution (W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ing #4 January 10-14, 2000 Tel-Aviv, IL InterContinental, 802.15 Interim Meeting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ing #5 March 6-10, 2000 Albuquerque, NM Hyatt Regency, 802 Plenary Meeti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960" y="4292640"/>
            <a:ext cx="71629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 &amp; 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063C-0AE3-4F2C-9478-7F72323F8B6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verview of the TG1 Timeline - 14Sep9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15Ka" descr=""/>
          <p:cNvPicPr/>
          <p:nvPr/>
        </p:nvPicPr>
        <p:blipFill>
          <a:blip r:embed="rId1"/>
          <a:stretch/>
        </p:blipFill>
        <p:spPr>
          <a:xfrm>
            <a:off x="63360" y="1819440"/>
            <a:ext cx="9004320" cy="2835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5664240" y="3314880"/>
            <a:ext cx="762120" cy="3045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137960" y="5043600"/>
            <a:ext cx="65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TG1 had an offline discussion with Vic Hayes Tuesday, 14Sep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help us understand the WG LB Proces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52880" y="3428640"/>
            <a:ext cx="91440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 &amp; Ian Gifford, M/A-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47B0-7310-4595-9D7B-053899E952AE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verview of Monday, 13Sep9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opened our meeting at 4:15pm and processed all of our Agenda Items.  The key items we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 FROM BT-IEEE EDITORIAL WORKING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VIEW OF WG &amp; SPONSOR BALLOT RULE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 &amp; 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F06D-A3B1-4311-BC50-11B443051B3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verview of Tuesday, 14Sep9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opened our meeting at 8:32am and processed most of our Agenda Items.  The key items we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VIEW OF THE BLUETOOTH SYSTEM (Morning &amp; Even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EW BLUETOOTH LIAIS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G1 MILESTONE/TIME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NING FOR WG BAL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 &amp; 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A85F-CF49-444E-A6C1-E5DCD7A87A7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verview of Wednesday, 14Sep9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opened our meeting at 8:33am and processed most of our Agenda Items.  The key items we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G1 FUNCTIONAL ORGA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G1 RESOURCE RECRUI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LANNING FOR SPONSOR BALLOT -99/7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NING FOR 802 COORDINATION -99/7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NING FOR BLUETOOTH COORDINATION -99/7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NING FOR ETSI COORDINATION -99/[80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 FOR INITIAL DRAFT STAND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USS NEXT STEP WITH DRA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TION #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EWED AND APPROVED WEDNESDAY DRAFT TG1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257800"/>
            <a:ext cx="2210040" cy="53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793120" y="2611440"/>
            <a:ext cx="312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} siep@ti.co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 &amp; 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6D98-41F7-4256-918C-EED6A94AA14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974880" y="1619280"/>
            <a:ext cx="7951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tion: To empower the TG1 Chair and Vice Chair to release the Bluetooth submission on behalf of TG1 to the 802.15 WG and to make a motion to the 802.15 WG to submit the Draft to Letter Bal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130040" y="3643200"/>
            <a:ext cx="24804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ved:Tom Sie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cond:Chatschik Bisdiki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in Favor: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Opposed: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bstaining: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ote on TG1 Draft Process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201680" y="3138480"/>
            <a:ext cx="161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quires 7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165320" y="5478480"/>
            <a:ext cx="348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 &amp; Ian Gifford, M/A-COM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85DE-AB1A-4EE0-B5A9-49A08471906D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verview of Thursday, 14Sep9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opened our meeting at X:XXam and processed most of our Agenda Items.  The key items we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?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NING FOR STANDARD MAINTEN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?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NING FOR STANDARD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?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NING FOR STANDARD UP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?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NING FOR STANDARD ENHANC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X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TE TO SUBMIT THE DRAFT TO WG LETTER BALLOT #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X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TE TO REVIEW THE COMMENTS FROM WG LB #1 IN NOV99 PLEN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EW FRIDAY DRAFT TG1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ROVE TG1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EW NEXT STEPS/ACTIONS OF THE 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164720" y="2666880"/>
            <a:ext cx="1748880" cy="14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Times New Roman"/>
              </a:rPr>
              <a:t>}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I w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via .15 Re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 &amp; 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7324-3224-4624-A6CD-335615341F9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2T05:58:24Z</dcterms:created>
  <dc:creator>Ian C. Gifford</dc:creator>
  <dc:description>083r0</dc:description>
  <dc:language>en-US</dc:language>
  <cp:lastModifiedBy>Bridget Labrode</cp:lastModifiedBy>
  <cp:lastPrinted>1998-02-10T13:28:06Z</cp:lastPrinted>
  <dcterms:modified xsi:type="dcterms:W3CDTF">1999-09-16T17:47:22Z</dcterms:modified>
  <cp:revision>22</cp:revision>
  <dc:subject>IEEE 802.15 TG1 Report #2</dc:subject>
  <dc:title>IEEE P802.15 Working Group for Wireless Personal Area Networks</dc:title>
</cp:coreProperties>
</file>