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C2A0D-2926-4E7A-8BCC-8F3193E3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006D-93A9-41D9-8C04-03F1EF1B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D51B4-22CD-441D-8F8A-DB389FEB8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853D6-38DB-41AC-A87D-6B188816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D84B-037B-4C49-BD93-E814E1AE0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D4EA1-014D-4ED4-A6C7-559A46125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A13C-CF77-41A3-8E12-0B394039C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6B33-6708-42B6-A2E2-2C30CC55E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E13F-6746-4B2A-A39B-67958285D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5157-EAA2-4E21-AB9E-52F44E019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2959B-23BF-4B1C-8E83-064E07511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6C01-C201-4227-94D8-4C86B5191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218A45-D57C-4F6F-AE31-EFC02F3C6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23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Ad Hoc WPAN-High Rate meeting Agend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genda for Ad Hoc Meeting on High Rate WAP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F0304084-410D-4D31-991E-DB229538386E}"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a:t>
            </a:r>
            <a:br>
              <a:rPr sz="2800"/>
            </a:br>
            <a:r>
              <a:rPr b="0" lang="en-US" sz="2800" spc="-1" strike="noStrike">
                <a:solidFill>
                  <a:srgbClr val="000000"/>
                </a:solidFill>
                <a:latin typeface="Times New Roman"/>
              </a:rPr>
              <a:t>WPAN - High Rate SG (Ad Hoc)</a:t>
            </a:r>
            <a:br>
              <a:rPr sz="2800"/>
            </a:br>
            <a:r>
              <a:rPr b="0" lang="en-US" sz="1600" spc="-1" strike="noStrike">
                <a:solidFill>
                  <a:srgbClr val="000000"/>
                </a:solidFill>
                <a:latin typeface="Times New Roman"/>
              </a:rPr>
              <a:t>Tuesday Nov. 9, 1999</a:t>
            </a:r>
            <a:endParaRPr b="0" lang="en-US" sz="1600" spc="-1" strike="noStrike">
              <a:solidFill>
                <a:srgbClr val="000000"/>
              </a:solidFill>
              <a:latin typeface="Times New Roman"/>
            </a:endParaRPr>
          </a:p>
        </p:txBody>
      </p:sp>
      <p:sp>
        <p:nvSpPr>
          <p:cNvPr id="4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o ord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and collection of n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Wednesday’s present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 discussion on merits/problems/concer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ub-teams and lea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ctions and meetings for SG (for next 4 month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ourn</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491CDC0C-4EE1-4E16-B190-FA5C37625E29}"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01:41:43Z</dcterms:created>
  <dc:creator>Jim Allen</dc:creator>
  <dc:description>99/133r0</dc:description>
  <dc:language>en-US</dc:language>
  <cp:lastModifiedBy>Rober F. Heile</cp:lastModifiedBy>
  <cp:lastPrinted>1998-02-10T13:28:06Z</cp:lastPrinted>
  <dcterms:modified xsi:type="dcterms:W3CDTF">1999-11-09T15:36:26Z</dcterms:modified>
  <cp:revision>2</cp:revision>
  <dc:subject>IEEE 802.15 &lt;subject&gt;</dc:subject>
  <dc:title>Ad Hoc WPAN-High Rate Agenda-Nov 9, 1999</dc:title>
</cp:coreProperties>
</file>