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9.png" ContentType="image/png"/>
  <Override PartName="/ppt/media/image11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35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34200" cy="9078913"/>
  <p:custShowLst>
    <p:custShow name="ieee802.11" id="0">
      <p:sldLst>
        <p:sld r:id="rId3"/>
        <p:sld r:id="rId4"/>
        <p:sld r:id="rId5"/>
        <p:sld r:id="rId6"/>
        <p:sld r:id="rId8"/>
        <p:sld r:id="rId9"/>
        <p:sld r:id="rId10"/>
        <p:sld r:id="rId12"/>
        <p:sld r:id="rId13"/>
        <p:sld r:id="rId14"/>
        <p:sld r:id="rId15"/>
        <p:sld r:id="rId16"/>
        <p:sld r:id="rId18"/>
        <p:sld r:id="rId19"/>
        <p:sld r:id="rId22"/>
        <p:sld r:id="rId23"/>
        <p:sld r:id="rId24"/>
        <p:sld r:id="rId25"/>
        <p:sld r:id="rId26"/>
        <p:sld r:id="rId27"/>
        <p:sld r:id="rId30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814-FD62-4D8C-B254-D2F91D0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222-D855-47A2-8BBF-33FD15B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D32-E784-450C-955F-CDE7AD19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9EB-B5F9-4954-B5B7-1B5F8E5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C54-05F0-4DE2-B582-CE9B57A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072-BA5E-4D62-9053-47DFAB31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C51-EE4C-4B98-8784-3CFD063B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080-556A-4855-BB9C-0B298B5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9D9-6C99-44CD-9EE2-D58FF2C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7D3-A6D3-49D6-9497-5D418B4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62F-98BD-4957-8C4A-3715066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4E9-6183-4548-A13F-4194178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.: IEEE 802.15-0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B3A9AD78-97D4-4C6B-9151-7FDC5BBD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4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6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5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05C-0340-4796-A0A3-9FB013FB1E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038480"/>
            <a:ext cx="426960" cy="1524240"/>
          </a:xfrm>
          <a:custGeom>
            <a:avLst/>
            <a:gdLst>
              <a:gd name="textAreaLeft" fmla="*/ 0 w 426960"/>
              <a:gd name="textAreaRight" fmla="*/ 154080 w 426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3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726-0CBE-4226-AAC9-180A25588C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F05-E361-4E99-8CDF-F9BDE6FAEB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7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inactive (parked)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b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2D0-36E5-491C-9C96-786EE32FDC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1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62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63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63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9D1-021E-4757-8FCE-46E8A96B0A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(TDD)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63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66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69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743-4637-4D3A-AF35-E5201A5E2C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D9B-414B-46C1-9A76-253416B161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C06-6979-4281-9252-2E9ACC6442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73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CA7-CD64-4428-99C6-C173AF639B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1B3-7374-4DC3-B8DD-8091B9DAE9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4B3-874F-46F6-973A-4AC58C5EAA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187-7023-4073-A4AF-8B02A4AED5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DE1-7288-4720-879A-6707D03B34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A00-6EBE-4AF1-A839-823C6D0E8E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759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FF0-3F9A-49A0-AC57-E583C4805F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D67-FC4F-42B5-B8B4-BA497F3A15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4E3-7326-432C-9DE3-D4D0A151E3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799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AAD-8B09-44FD-B011-E6D5023CF5B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841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3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5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7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B99-51ED-4C43-B3EF-A11B4A196E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876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4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6DC-BC5F-4553-B0C3-92D58A665B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2B3-1CD5-46CA-8501-9896E2111C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63868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881-8EEF-48F3-BC99-6241331C65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3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8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0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1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3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6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2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3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93E-DFCC-4E9E-93CF-740406FFD7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1100+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1D-A2CF-49B4-AB26-D9D7627B2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8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072-5376-483E-B32A-ED594DC182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3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786-45AF-4E70-8D23-427CFEF86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7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2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095560" y="566892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F4A-8139-4004-A3BB-1340F13E9B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24160" y="566892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8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7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8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89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572-E2E3-4CCB-B10B-C3BDDABAFA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Kevin Marquess</cp:lastModifiedBy>
  <cp:lastPrinted>1999-07-23T14:05:54Z</cp:lastPrinted>
  <dcterms:modified xsi:type="dcterms:W3CDTF">1999-11-10T19:30:50Z</dcterms:modified>
  <cp:revision>208</cp:revision>
  <dc:subject/>
  <dc:title>No Slide Title</dc:title>
</cp:coreProperties>
</file>