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918-51F6-48D2-997B-BA0550C8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6AD-2DAA-46C3-88E3-1984111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62D-FFAC-4B76-AFC8-7EC7097F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57B-91F2-41EC-BA15-342C6DD4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AB3-9B58-494E-8D53-875ACF8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B87-5E69-428B-A804-37A0DB0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919-5681-44CE-9941-3D6E2BC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8D5-0274-4215-BD52-9FF6658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DB2-2265-4355-AFAD-A1B357B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8C-E586-4DFB-97F7-F361539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5B6-30D3-4947-A98F-349C426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C6B-970B-45FF-8715-93D6FCD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BA7A-BDDD-49C2-B421-E630BBCB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71520"/>
            <a:ext cx="769608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29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617400"/>
            <a:ext cx="8229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14:15Z</dcterms:created>
  <dc:creator>Ivan Reede</dc:creator>
  <dc:description/>
  <dc:language>en-US</dc:language>
  <cp:lastModifiedBy>Ivan Reede</cp:lastModifiedBy>
  <dcterms:modified xsi:type="dcterms:W3CDTF">1999-07-07T19:47:33Z</dcterms:modified>
  <cp:revision>1</cp:revision>
  <dc:subject/>
  <dc:title>No Slide Title</dc:title>
</cp:coreProperties>
</file>