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357-1C17-49DC-899A-580AC692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CC4-0194-40EF-824E-69FC94E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51A-3F90-409B-8807-FF046ED4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D20-8581-4FD1-A86F-3D56E1CF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BF2-ABB6-4EAC-B155-C5706DFD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0B5-863B-4D21-A831-BF502FD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AA2-2DF3-47C8-9F64-297797C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DA1-DA75-4A6D-A0FC-887FDD02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A32-381B-498C-905B-C2D1DD0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5C6-9400-4F55-AF25-4A79680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B5E-6E18-4CC5-8650-256BD285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5AA-345F-4901-97F7-40AFC07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10375A-0FEE-458B-9FB9-4E305D1E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Seattle Hot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Joint 802.11 and 802.15 Interim Mee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y 8-12, 20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2362320"/>
            <a:ext cx="7861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48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500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29.00 per nigh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3000.00 per 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85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1175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744-F2E5-4B27-9758-29DC409C281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40" y="2590920"/>
            <a:ext cx="9138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Renaissance Ho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5 Madiso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ttle, WA 98104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renaissancehotels.com/seasm/fastfac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heart of downtown, The Madison Hotel is ideally located minutes from Seattle's major financial, medical, retail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usiness districts, just three blocks from the Washington State Convention and Trade Center and 20 min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Sea - Tac International Airport. A recipient of the AAA 4 Diamond award, The Madison treats guests to delux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ccommodations and exquisite personal ser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a-Tac International Airport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 miles/25 minutes South Taxi @ $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irport Expr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Airport Shuttle Service $7.50 one way of $13 roundtrip runs every 20 minutes 5am - 11:30 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7051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160956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5DA-B2FA-45E4-9D1A-8C6DDB3852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91440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anaughs on Fifth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5 Fif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avanaugh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vanaughs on the corner of Fifth and Pike Avenues is located in the heart of downtown Seattle and offers 297 delu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accommodations with spectacular views of Puget Sound  and convention facilities in the city's most vib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town neighborhood. Cavanaughs 12,000 square feet of meeting space has state-of-the-art presentation system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ansive views  that complement rich decor. Our professional catering staff ensures a rewarding experience fo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pecial events from 10 person board meetings to banquets for 600 in our Emerald Ball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0480" cy="29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7720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877-8AE0-4F11-9965-2C7E47D06C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7980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2 Four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hotels.com/cities/seatt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hotel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as a beacon in the thriving heart of Seattle, W SEATTLE will rise as a premier destination for the savvy traveler. Reminiscent of some of Seattle's classic towers, W SEATTLE combines elements of the city's architectural history in a modern interpretation of the Northwestern Regional Style. Crowned with a steel and mesh pyramid, its magical glow 26 stories above the street will make you feel the energy of this city on the cutt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was conceived by Starwood Hotels and Resorts Worldwide with one purpose in mind. To inspire the business traveler and provide solace and refuge in a hectic world. Throughout our 419 large, modern rooms and 16 suites, pillow top beds and luxurious linens, down-cushioned banquettes, a great desk, and custom furnishings await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is all about service and amenities. Whatever you want, whenever you wan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is located in the center of Seattle's burgeoning downtown, close to all th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 the famous Space Needle. Savor a cup of coffee or catch a fresh fish at the 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Market. Lose yourself in a sublime performance at the new Benaroya Symphony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B0B-B2B0-47FD-A281-9FD756DD0D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32:38Z</dcterms:created>
  <dc:creator>Mike McInnis</dc:creator>
  <dc:description/>
  <dc:language>en-US</dc:language>
  <cp:lastModifiedBy>Standard Software Service</cp:lastModifiedBy>
  <dcterms:modified xsi:type="dcterms:W3CDTF">1999-09-15T15:22:11Z</dcterms:modified>
  <cp:revision>10</cp:revision>
  <dc:subject/>
  <dc:title>May 2000  Seattle Hotels</dc:title>
</cp:coreProperties>
</file>