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png" ContentType="image/png"/>
  <Override PartName="/ppt/media/image2.jpeg" ContentType="image/jpeg"/>
  <Override PartName="/ppt/media/image3.wmf" ContentType="image/x-wmf"/>
  <Override PartName="/ppt/media/image12.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335400" y="114840"/>
            <a:ext cx="270648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28560" y="114840"/>
            <a:ext cx="263376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888840" y="741240"/>
            <a:ext cx="4894560" cy="36705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25560" y="9507240"/>
            <a:ext cx="241596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822040" y="9507240"/>
            <a:ext cx="77004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5EF7A45E-953C-41D9-9470-3F5C18BDD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96960" y="9507600"/>
            <a:ext cx="1155600" cy="18288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 </a:t>
            </a:r>
            <a:endParaRPr b="0" lang="en-US" sz="1200" spc="-1" strike="noStrike">
              <a:solidFill>
                <a:srgbClr val="000000"/>
              </a:solidFill>
              <a:latin typeface="Times New Roman"/>
            </a:endParaRPr>
          </a:p>
        </p:txBody>
      </p:sp>
      <p:sp>
        <p:nvSpPr>
          <p:cNvPr id="53" name=""/>
          <p:cNvSpPr/>
          <p:nvPr/>
        </p:nvSpPr>
        <p:spPr>
          <a:xfrm>
            <a:off x="696960" y="9505800"/>
            <a:ext cx="527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23880" y="314280"/>
            <a:ext cx="54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822040" y="9507240"/>
            <a:ext cx="77004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C32DEA2F-4F96-43BD-8F18-301E84577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25560" y="9507240"/>
            <a:ext cx="241596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335400" y="114840"/>
            <a:ext cx="270648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8" name=""/>
          <p:cNvSpPr txBox="1"/>
          <p:nvPr/>
        </p:nvSpPr>
        <p:spPr>
          <a:xfrm>
            <a:off x="628560" y="114840"/>
            <a:ext cx="263376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9" name=""/>
          <p:cNvSpPr/>
          <p:nvPr/>
        </p:nvSpPr>
        <p:spPr>
          <a:xfrm>
            <a:off x="3780000" y="0"/>
            <a:ext cx="288900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780000" y="9329760"/>
            <a:ext cx="2889000" cy="4906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1" name=""/>
          <p:cNvSpPr/>
          <p:nvPr/>
        </p:nvSpPr>
        <p:spPr>
          <a:xfrm>
            <a:off x="0" y="9329760"/>
            <a:ext cx="288756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0"/>
            <a:ext cx="288756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sldImg"/>
          </p:nvPr>
        </p:nvSpPr>
        <p:spPr>
          <a:xfrm>
            <a:off x="888840" y="741240"/>
            <a:ext cx="4894560" cy="3670560"/>
          </a:xfrm>
          <a:prstGeom prst="rect">
            <a:avLst/>
          </a:prstGeom>
          <a:ln w="0">
            <a:noFill/>
          </a:ln>
        </p:spPr>
      </p:sp>
      <p:sp>
        <p:nvSpPr>
          <p:cNvPr id="204" name="PlaceHolder 2"/>
          <p:cNvSpPr>
            <a:spLocks noGrp="1"/>
          </p:cNvSpPr>
          <p:nvPr>
            <p:ph type="body"/>
          </p:nvPr>
        </p:nvSpPr>
        <p:spPr>
          <a:xfrm>
            <a:off x="888480" y="4665240"/>
            <a:ext cx="4891320" cy="4419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88840" y="741240"/>
            <a:ext cx="4894560" cy="3670560"/>
          </a:xfrm>
          <a:prstGeom prst="rect">
            <a:avLst/>
          </a:prstGeom>
          <a:ln w="0">
            <a:noFill/>
          </a:ln>
        </p:spPr>
      </p:sp>
      <p:sp>
        <p:nvSpPr>
          <p:cNvPr id="206"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task at hand:</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ree on proces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dentify commonaltie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dentify conflict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fine work area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sign resource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tegrate result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esent Draft Standar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88840" y="741240"/>
            <a:ext cx="4894560" cy="3670560"/>
          </a:xfrm>
          <a:prstGeom prst="rect">
            <a:avLst/>
          </a:prstGeom>
          <a:ln w="0">
            <a:noFill/>
          </a:ln>
        </p:spPr>
      </p:sp>
      <p:sp>
        <p:nvSpPr>
          <p:cNvPr id="208"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88840" y="741240"/>
            <a:ext cx="4894560" cy="3670560"/>
          </a:xfrm>
          <a:prstGeom prst="rect">
            <a:avLst/>
          </a:prstGeom>
          <a:ln w="0">
            <a:noFill/>
          </a:ln>
        </p:spPr>
      </p:sp>
      <p:sp>
        <p:nvSpPr>
          <p:cNvPr id="210"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dular with defined interface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ove</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low</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e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mal Layering with specific excep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the IP Layer (Network) down</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ttom line:an IEEE standard is a description of the interfaces between modules and the algorithms performed inside the modules.  It is a description of what must be done, not how it must be done.  However, many 802 standards have “recommended practices” that describe how things might best be do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88840" y="741240"/>
            <a:ext cx="4894560" cy="3670560"/>
          </a:xfrm>
          <a:prstGeom prst="rect">
            <a:avLst/>
          </a:prstGeom>
          <a:ln w="0">
            <a:noFill/>
          </a:ln>
        </p:spPr>
      </p:sp>
      <p:sp>
        <p:nvSpPr>
          <p:cNvPr id="212"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we will need to evaluate if there is sufficient flexibility for a Bluetooth-based standard to follow this model.  Other options can be conside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88840" y="741240"/>
            <a:ext cx="4894560" cy="3670560"/>
          </a:xfrm>
          <a:prstGeom prst="rect">
            <a:avLst/>
          </a:prstGeom>
          <a:ln w="0">
            <a:noFill/>
          </a:ln>
        </p:spPr>
      </p:sp>
      <p:sp>
        <p:nvSpPr>
          <p:cNvPr id="214"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ears to be a fairly good correspondence, except for Aud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io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8840" y="741240"/>
            <a:ext cx="4894560" cy="3670560"/>
          </a:xfrm>
          <a:prstGeom prst="rect">
            <a:avLst/>
          </a:prstGeom>
          <a:ln w="0">
            <a:noFill/>
          </a:ln>
        </p:spPr>
      </p:sp>
      <p:sp>
        <p:nvSpPr>
          <p:cNvPr id="216" name="PlaceHolder 2"/>
          <p:cNvSpPr>
            <a:spLocks noGrp="1"/>
          </p:cNvSpPr>
          <p:nvPr>
            <p:ph type="body"/>
          </p:nvPr>
        </p:nvSpPr>
        <p:spPr>
          <a:xfrm>
            <a:off x="888840" y="4320720"/>
            <a:ext cx="4894560" cy="4418280"/>
          </a:xfrm>
          <a:prstGeom prst="rect">
            <a:avLst/>
          </a:prstGeom>
          <a:noFill/>
          <a:ln w="0">
            <a:noFill/>
          </a:ln>
        </p:spPr>
        <p:txBody>
          <a:bodyPr lIns="92520" rIns="92520" tIns="45360" bIns="4536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unications are performed via Service Access Points (SAP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Logical Link Control -- Three types of operation: connectionless with no ACK; connection-oriented; and connectionless with ACK</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upper layers via a set of primiti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ques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Indication</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sponse</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rm</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MAC via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Media Access Control -- Performs access control functions for the shared medium in support of the LLC.</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ddressing and recognition of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rame check sequence generation and check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LLC protocol data unit (PDU) delimit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MAC Management -- managed objects and controls for MAC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 Physical Layer Convergence Procedure -- Medium-independent physical layer: receives Messages, hands over bits to PMD</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 Physical Medium Dependent layer takes bits and (in our case) turns them into radio wa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6) PHY Management  -- managed objects and controls for PHY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 Station Management -- Set of tools that allow performance  of</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guration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ault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Performance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Security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ccounting manag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88840" y="741240"/>
            <a:ext cx="4894560" cy="3670560"/>
          </a:xfrm>
          <a:prstGeom prst="rect">
            <a:avLst/>
          </a:prstGeom>
          <a:ln w="0">
            <a:noFill/>
          </a:ln>
        </p:spPr>
      </p:sp>
      <p:sp>
        <p:nvSpPr>
          <p:cNvPr id="218"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we must do to create the standa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88840" y="741240"/>
            <a:ext cx="4894560" cy="3670560"/>
          </a:xfrm>
          <a:prstGeom prst="rect">
            <a:avLst/>
          </a:prstGeom>
          <a:ln w="0">
            <a:noFill/>
          </a:ln>
        </p:spPr>
      </p:sp>
      <p:sp>
        <p:nvSpPr>
          <p:cNvPr id="220"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will be a transliteration of what will be the state of the spec in November 1999.  This means that we will have to have advance information on changes that are made between now and t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for a draft standard to be voted upon, it must be presented at a Plenary.  That means crafting a first pass after the July meeting if we are going to make N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802.15 committee will not officially exist until July: it could not sponsor the study group necessary to create the draft spec.  In any case, for expeditious creation of a Draft Standard, it should be created offline and presented as a whole to the 802.15 WG.  The only question seems to be will this task group be an official part of the Bluetooth SI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believe there is too much to do in too short a time for any one individual or small group of individuals to complete the Draft standard i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need to decide what the logistics are for doing our work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F206-4CA9-43B3-9C66-6436A0E7D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2CF6C-9339-426A-81D4-96785496F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24832-8599-4689-A6FA-E743612E4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64F2D-A5EB-4E6A-8A06-03EE30EAB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B75EF-9D3B-41D8-844C-E12BFBD3F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7C76-DE40-492B-A09C-C0EB44D9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3D507-B465-4F00-B5D3-970E31AAB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C12C1-FCEA-46F0-BE66-9CD52C8AC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AC170-CD62-4B6D-9B12-13619861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C753-6C47-4B62-B8D8-6D01545BA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A3B63-382C-487A-A515-097E12E3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E279-AF72-46C2-8A2B-3AF3E8FF6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3F57E5-018E-4D88-ACAD-6426ABF21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4r8</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5.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ABFF62D-44CE-4AC5-98E6-5400CAC396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58" name="num7" descr=""/>
          <p:cNvPicPr/>
          <p:nvPr/>
        </p:nvPicPr>
        <p:blipFill>
          <a:blip r:embed="rId1"/>
          <a:stretch/>
        </p:blipFill>
        <p:spPr>
          <a:xfrm>
            <a:off x="457200" y="1981080"/>
            <a:ext cx="8305920" cy="232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81" name="BT-STACK" descr=""/>
          <p:cNvPicPr/>
          <p:nvPr/>
        </p:nvPicPr>
        <p:blipFill>
          <a:blip r:embed="rId1"/>
          <a:stretch/>
        </p:blipFill>
        <p:spPr>
          <a:xfrm>
            <a:off x="228600" y="1828800"/>
            <a:ext cx="4753080" cy="3678120"/>
          </a:xfrm>
          <a:prstGeom prst="rect">
            <a:avLst/>
          </a:prstGeom>
          <a:ln w="0">
            <a:noFill/>
          </a:ln>
        </p:spPr>
      </p:pic>
      <p:grpSp>
        <p:nvGrpSpPr>
          <p:cNvPr id="82" name=""/>
          <p:cNvGrpSpPr/>
          <p:nvPr/>
        </p:nvGrpSpPr>
        <p:grpSpPr>
          <a:xfrm>
            <a:off x="5409000" y="4572000"/>
            <a:ext cx="3200040" cy="1746000"/>
            <a:chOff x="5409000" y="4572000"/>
            <a:chExt cx="3200040" cy="1746000"/>
          </a:xfrm>
        </p:grpSpPr>
        <p:sp>
          <p:nvSpPr>
            <p:cNvPr id="83"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1"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2"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3"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4"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100"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101"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102"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103"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104"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106"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108"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109"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0" name="" descr=""/>
          <p:cNvPicPr/>
          <p:nvPr/>
        </p:nvPicPr>
        <p:blipFill>
          <a:blip r:embed="rId2"/>
          <a:stretch/>
        </p:blipFill>
        <p:spPr>
          <a:xfrm>
            <a:off x="4114800" y="2438280"/>
            <a:ext cx="1620720" cy="3934080"/>
          </a:xfrm>
          <a:prstGeom prst="rect">
            <a:avLst/>
          </a:prstGeom>
          <a:ln w="0">
            <a:noFill/>
          </a:ln>
        </p:spPr>
      </p:pic>
      <p:grpSp>
        <p:nvGrpSpPr>
          <p:cNvPr id="111" name=""/>
          <p:cNvGrpSpPr/>
          <p:nvPr/>
        </p:nvGrpSpPr>
        <p:grpSpPr>
          <a:xfrm>
            <a:off x="7543800" y="1774800"/>
            <a:ext cx="804960" cy="2796840"/>
            <a:chOff x="7543800" y="1774800"/>
            <a:chExt cx="804960" cy="2796840"/>
          </a:xfrm>
        </p:grpSpPr>
        <p:sp>
          <p:nvSpPr>
            <p:cNvPr id="112"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13"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14"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15"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16"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17"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18"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19"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120"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15475F7-4F33-48E2-A663-2BE92662DF58}"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279360" y="1828800"/>
            <a:ext cx="8583480" cy="37195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446469A-CAB7-45AF-8890-883A5829B9F5}"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456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IEEE P802 Standards</a:t>
            </a:r>
            <a:endParaRPr b="0" lang="en-US" sz="4400" spc="-1" strike="noStrike">
              <a:solidFill>
                <a:srgbClr val="000000"/>
              </a:solidFill>
              <a:latin typeface="Times New Roman"/>
            </a:endParaRPr>
          </a:p>
        </p:txBody>
      </p:sp>
      <p:graphicFrame>
        <p:nvGraphicFramePr>
          <p:cNvPr id="125" name=""/>
          <p:cNvGraphicFramePr/>
          <p:nvPr/>
        </p:nvGraphicFramePr>
        <p:xfrm>
          <a:off x="1295280" y="1523880"/>
          <a:ext cx="6553440" cy="4583160"/>
        </p:xfrm>
        <a:graphic>
          <a:graphicData uri="http://schemas.openxmlformats.org/presentationml/2006/ole">
            <p:oleObj r:id="rId1" spid="">
              <p:embed/>
              <p:pic>
                <p:nvPicPr>
                  <p:cNvPr id="126" name="" descr=""/>
                  <p:cNvPicPr/>
                  <p:nvPr/>
                </p:nvPicPr>
                <p:blipFill>
                  <a:blip r:embed="rId2"/>
                  <a:stretch/>
                </p:blipFill>
                <p:spPr>
                  <a:xfrm>
                    <a:off x="1295280" y="1523880"/>
                    <a:ext cx="6553440" cy="45831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1FEB29B-1439-40EE-B773-859D3D17F386}" type="slidenum">
              <a:t>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Structure</a:t>
            </a:r>
            <a:endParaRPr b="0" lang="en-US" sz="4000" spc="-1" strike="noStrike">
              <a:solidFill>
                <a:srgbClr val="000000"/>
              </a:solidFill>
              <a:latin typeface="Times New Roman"/>
            </a:endParaRPr>
          </a:p>
        </p:txBody>
      </p:sp>
      <p:sp>
        <p:nvSpPr>
          <p:cNvPr id="128"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9" name=""/>
          <p:cNvGraphicFramePr/>
          <p:nvPr/>
        </p:nvGraphicFramePr>
        <p:xfrm>
          <a:off x="685800" y="1523880"/>
          <a:ext cx="7924680" cy="4761000"/>
        </p:xfrm>
        <a:graphic>
          <a:graphicData uri="http://schemas.openxmlformats.org/presentationml/2006/ole">
            <p:oleObj r:id="rId1" spid="">
              <p:embed/>
              <p:pic>
                <p:nvPicPr>
                  <p:cNvPr id="130" name="" descr=""/>
                  <p:cNvPicPr/>
                  <p:nvPr/>
                </p:nvPicPr>
                <p:blipFill>
                  <a:blip r:embed="rId2"/>
                  <a:stretch/>
                </p:blipFill>
                <p:spPr>
                  <a:xfrm>
                    <a:off x="685800" y="1523880"/>
                    <a:ext cx="7924680" cy="47610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DABF685-EE01-4BFD-8D79-8A0606DA1AF8}" type="slidenum">
              <a:t>1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152280" y="1905120"/>
          <a:ext cx="8724960" cy="4659120"/>
        </p:xfrm>
        <a:graphic>
          <a:graphicData uri="http://schemas.openxmlformats.org/presentationml/2006/ole">
            <p:oleObj r:id="rId1" spid="">
              <p:embed/>
              <p:pic>
                <p:nvPicPr>
                  <p:cNvPr id="132" name="" descr=""/>
                  <p:cNvPicPr/>
                  <p:nvPr/>
                </p:nvPicPr>
                <p:blipFill>
                  <a:blip r:embed="rId2"/>
                  <a:stretch/>
                </p:blipFill>
                <p:spPr>
                  <a:xfrm>
                    <a:off x="152280" y="1905120"/>
                    <a:ext cx="8724960" cy="4659120"/>
                  </a:xfrm>
                  <a:prstGeom prst="rect">
                    <a:avLst/>
                  </a:prstGeom>
                  <a:ln w="0">
                    <a:noFill/>
                  </a:ln>
                </p:spPr>
              </p:pic>
            </p:oleObj>
          </a:graphicData>
        </a:graphic>
      </p:graphicFrame>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to IEEE 802.15</a:t>
            </a:r>
            <a:endParaRPr b="0" lang="en-US" sz="4400" spc="-1" strike="noStrike">
              <a:solidFill>
                <a:srgbClr val="000000"/>
              </a:solidFill>
              <a:latin typeface="Times New Roman"/>
            </a:endParaRPr>
          </a:p>
        </p:txBody>
      </p:sp>
      <p:graphicFrame>
        <p:nvGraphicFramePr>
          <p:cNvPr id="134" name=""/>
          <p:cNvGraphicFramePr/>
          <p:nvPr/>
        </p:nvGraphicFramePr>
        <p:xfrm>
          <a:off x="3124080" y="4267080"/>
          <a:ext cx="2538360" cy="1152720"/>
        </p:xfrm>
        <a:graphic>
          <a:graphicData uri="http://schemas.openxmlformats.org/presentationml/2006/ole">
            <p:oleObj r:id="rId3" spid="">
              <p:embed/>
              <p:pic>
                <p:nvPicPr>
                  <p:cNvPr id="135"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136" name=""/>
          <p:cNvGraphicFramePr/>
          <p:nvPr/>
        </p:nvGraphicFramePr>
        <p:xfrm>
          <a:off x="2743200" y="2895480"/>
          <a:ext cx="3224160" cy="1592280"/>
        </p:xfrm>
        <a:graphic>
          <a:graphicData uri="http://schemas.openxmlformats.org/presentationml/2006/ole">
            <p:oleObj r:id="rId5" spid="">
              <p:embed/>
              <p:pic>
                <p:nvPicPr>
                  <p:cNvPr id="137"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138" name=""/>
          <p:cNvGraphicFramePr/>
          <p:nvPr/>
        </p:nvGraphicFramePr>
        <p:xfrm>
          <a:off x="3200400" y="1371600"/>
          <a:ext cx="4952880" cy="1380960"/>
        </p:xfrm>
        <a:graphic>
          <a:graphicData uri="http://schemas.openxmlformats.org/presentationml/2006/ole">
            <p:oleObj r:id="rId7" spid="">
              <p:embed/>
              <p:pic>
                <p:nvPicPr>
                  <p:cNvPr id="139"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140" name=""/>
          <p:cNvGraphicFramePr/>
          <p:nvPr/>
        </p:nvGraphicFramePr>
        <p:xfrm>
          <a:off x="380880" y="685800"/>
          <a:ext cx="5513400" cy="2895480"/>
        </p:xfrm>
        <a:graphic>
          <a:graphicData uri="http://schemas.openxmlformats.org/presentationml/2006/ole">
            <p:oleObj r:id="rId9" spid="">
              <p:embed/>
              <p:pic>
                <p:nvPicPr>
                  <p:cNvPr id="141"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142" name=""/>
          <p:cNvGraphicFramePr/>
          <p:nvPr/>
        </p:nvGraphicFramePr>
        <p:xfrm>
          <a:off x="2438280" y="2057400"/>
          <a:ext cx="3224160" cy="2049480"/>
        </p:xfrm>
        <a:graphic>
          <a:graphicData uri="http://schemas.openxmlformats.org/presentationml/2006/ole">
            <p:oleObj r:id="rId11" spid="">
              <p:embed/>
              <p:pic>
                <p:nvPicPr>
                  <p:cNvPr id="143" name="" descr=""/>
                  <p:cNvPicPr/>
                  <p:nvPr/>
                </p:nvPicPr>
                <p:blipFill>
                  <a:blip r:embed="rId12"/>
                  <a:stretch/>
                </p:blipFill>
                <p:spPr>
                  <a:xfrm>
                    <a:off x="2438280" y="2057400"/>
                    <a:ext cx="3224160" cy="20494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DB7A7EC-1F8F-42FD-A806-4053A6DAFCBF}" type="slidenum">
              <a:t>1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an 802 Standard</a:t>
            </a:r>
            <a:endParaRPr b="0" lang="en-US" sz="4400" spc="-1" strike="noStrike">
              <a:solidFill>
                <a:srgbClr val="000000"/>
              </a:solidFill>
              <a:latin typeface="Times New Roman"/>
            </a:endParaRPr>
          </a:p>
        </p:txBody>
      </p:sp>
      <p:graphicFrame>
        <p:nvGraphicFramePr>
          <p:cNvPr id="145" name=""/>
          <p:cNvGraphicFramePr/>
          <p:nvPr/>
        </p:nvGraphicFramePr>
        <p:xfrm>
          <a:off x="533520" y="1774800"/>
          <a:ext cx="8153280" cy="4467240"/>
        </p:xfrm>
        <a:graphic>
          <a:graphicData uri="http://schemas.openxmlformats.org/presentationml/2006/ole">
            <p:oleObj r:id="rId1" spid="">
              <p:embed/>
              <p:pic>
                <p:nvPicPr>
                  <p:cNvPr id="146" name="" descr=""/>
                  <p:cNvPicPr/>
                  <p:nvPr/>
                </p:nvPicPr>
                <p:blipFill>
                  <a:blip r:embed="rId2"/>
                  <a:stretch/>
                </p:blipFill>
                <p:spPr>
                  <a:xfrm>
                    <a:off x="533520" y="1774800"/>
                    <a:ext cx="8153280" cy="44672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9B7B6BB-6D3A-4BD5-BA8F-0A0F19B1DC18}" type="slidenum">
              <a:t>1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P802.15 </a:t>
            </a:r>
            <a:br>
              <a:rPr sz="4400"/>
            </a:br>
            <a:r>
              <a:rPr b="0" lang="en-US" sz="4400" spc="-1" strike="noStrike">
                <a:solidFill>
                  <a:srgbClr val="000000"/>
                </a:solidFill>
                <a:latin typeface="Times New Roman"/>
              </a:rPr>
              <a:t>Proposed Draft Standard</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 on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ommonal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work are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Draft Standard at the July Mee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0604D1C-AD0D-48F0-B576-F187BBF68BE0}" type="slidenum">
              <a:t>1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ree on proces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transliteration of where the Bluetooth spec will be in Nov99.</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line agree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auspices</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ivide and Conquer” -- Form teams to accomplish task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for team interaction?</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e-to-fac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conferenc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F1E8AB8-3828-4FB9-9805-BA9290F2E5C8}"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 Commonaltie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ment on which pieces fit whe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ution on LLC and LMP/L2C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7314CE3-119D-4760-BC8B-CD46F83620E4}"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 Issues</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981080"/>
            <a:ext cx="815328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zation of Audio and how it will fit into 802</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ication of L2CAP and below information from “Profile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y of Documentation</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1: Parts A, B, C, D…</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2: Generic…</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Req’s</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xistence require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ssue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1F05B1B-F51C-4533-9571-4D5C272B9046}" type="slidenum">
              <a:t>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Working Sessio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7, 1999</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d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AD0941D-8ADA-46FE-B67B-5D38223CD670}"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42900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952880" y="525780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G is here</a:t>
            </a: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59" name="fig1" descr=""/>
          <p:cNvPicPr/>
          <p:nvPr/>
        </p:nvPicPr>
        <p:blipFill>
          <a:blip r:embed="rId1"/>
          <a:stretch/>
        </p:blipFill>
        <p:spPr>
          <a:xfrm>
            <a:off x="5029200" y="1600200"/>
            <a:ext cx="3801960" cy="43848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E4B4EBD-ADDC-43D2-88DE-23D370FF6F2B}" type="slidenum">
              <a:t>2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791320" y="327672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5800" y="426708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164" name="fig4" descr=""/>
          <p:cNvPicPr/>
          <p:nvPr/>
        </p:nvPicPr>
        <p:blipFill>
          <a:blip r:embed="rId1"/>
          <a:stretch/>
        </p:blipFill>
        <p:spPr>
          <a:xfrm>
            <a:off x="6019920" y="1619280"/>
            <a:ext cx="1523880" cy="4933800"/>
          </a:xfrm>
          <a:prstGeom prst="rect">
            <a:avLst/>
          </a:prstGeom>
          <a:ln w="0">
            <a:noFill/>
          </a:ln>
        </p:spPr>
      </p:pic>
      <p:sp>
        <p:nvSpPr>
          <p:cNvPr id="165" name=""/>
          <p:cNvSpPr/>
          <p:nvPr/>
        </p:nvSpPr>
        <p:spPr>
          <a:xfrm>
            <a:off x="7853040" y="31543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166" name=""/>
          <p:cNvSpPr/>
          <p:nvPr/>
        </p:nvSpPr>
        <p:spPr>
          <a:xfrm flipH="1">
            <a:off x="7772400" y="34290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4B40577-0894-48DF-AE39-D604D352B6C4}" type="slidenum">
              <a:t>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15 Draft Standard Functional Org Chart</a:t>
            </a:r>
            <a:endParaRPr b="0" lang="en-US" sz="4400" spc="-1" strike="noStrike">
              <a:solidFill>
                <a:srgbClr val="000000"/>
              </a:solidFill>
              <a:latin typeface="Times New Roman"/>
            </a:endParaRPr>
          </a:p>
        </p:txBody>
      </p:sp>
      <p:graphicFrame>
        <p:nvGraphicFramePr>
          <p:cNvPr id="168" name=""/>
          <p:cNvGraphicFramePr/>
          <p:nvPr/>
        </p:nvGraphicFramePr>
        <p:xfrm>
          <a:off x="1239840" y="2063880"/>
          <a:ext cx="6661080" cy="2500200"/>
        </p:xfrm>
        <a:graphic>
          <a:graphicData uri="http://schemas.openxmlformats.org/presentationml/2006/ole">
            <p:oleObj r:id="rId1" spid="">
              <p:embed/>
              <p:pic>
                <p:nvPicPr>
                  <p:cNvPr id="169" name="" descr=""/>
                  <p:cNvPicPr/>
                  <p:nvPr/>
                </p:nvPicPr>
                <p:blipFill>
                  <a:blip r:embed="rId2"/>
                  <a:stretch/>
                </p:blipFill>
                <p:spPr>
                  <a:xfrm>
                    <a:off x="1239840" y="2063880"/>
                    <a:ext cx="6661080" cy="2500200"/>
                  </a:xfrm>
                  <a:prstGeom prst="rect">
                    <a:avLst/>
                  </a:prstGeom>
                  <a:ln w="0">
                    <a:noFill/>
                  </a:ln>
                </p:spPr>
              </p:pic>
            </p:oleObj>
          </a:graphicData>
        </a:graphic>
      </p:graphicFrame>
      <p:pic>
        <p:nvPicPr>
          <p:cNvPr id="170" name="BT-Siep" descr=""/>
          <p:cNvPicPr/>
          <p:nvPr/>
        </p:nvPicPr>
        <p:blipFill>
          <a:blip r:embed="rId3"/>
          <a:stretch/>
        </p:blipFill>
        <p:spPr>
          <a:xfrm>
            <a:off x="5813280" y="5562720"/>
            <a:ext cx="3254400" cy="804600"/>
          </a:xfrm>
          <a:prstGeom prst="rect">
            <a:avLst/>
          </a:prstGeom>
          <a:ln w="0">
            <a:noFill/>
          </a:ln>
        </p:spPr>
      </p:pic>
      <p:pic>
        <p:nvPicPr>
          <p:cNvPr id="171" name="" descr=""/>
          <p:cNvPicPr/>
          <p:nvPr/>
        </p:nvPicPr>
        <p:blipFill>
          <a:blip r:embed="rId4"/>
          <a:stretch/>
        </p:blipFill>
        <p:spPr>
          <a:xfrm>
            <a:off x="5181480" y="3925800"/>
            <a:ext cx="1051200" cy="2551320"/>
          </a:xfrm>
          <a:prstGeom prst="rect">
            <a:avLst/>
          </a:prstGeom>
          <a:ln w="0">
            <a:noFill/>
          </a:ln>
        </p:spPr>
      </p:pic>
      <p:sp>
        <p:nvSpPr>
          <p:cNvPr id="172" name=""/>
          <p:cNvSpPr/>
          <p:nvPr/>
        </p:nvSpPr>
        <p:spPr>
          <a:xfrm>
            <a:off x="338040" y="5924520"/>
            <a:ext cx="80496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73" name=""/>
          <p:cNvSpPr/>
          <p:nvPr/>
        </p:nvSpPr>
        <p:spPr>
          <a:xfrm>
            <a:off x="338040" y="5526000"/>
            <a:ext cx="80496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74" name=""/>
          <p:cNvSpPr/>
          <p:nvPr/>
        </p:nvSpPr>
        <p:spPr>
          <a:xfrm>
            <a:off x="228600" y="5049720"/>
            <a:ext cx="804960" cy="400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75" name=""/>
          <p:cNvSpPr/>
          <p:nvPr/>
        </p:nvSpPr>
        <p:spPr>
          <a:xfrm>
            <a:off x="228600" y="4649760"/>
            <a:ext cx="80496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76" name=""/>
          <p:cNvSpPr/>
          <p:nvPr/>
        </p:nvSpPr>
        <p:spPr>
          <a:xfrm>
            <a:off x="228600" y="4249800"/>
            <a:ext cx="80496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77" name=""/>
          <p:cNvSpPr/>
          <p:nvPr/>
        </p:nvSpPr>
        <p:spPr>
          <a:xfrm>
            <a:off x="228600" y="3851280"/>
            <a:ext cx="80496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78" name=""/>
          <p:cNvSpPr/>
          <p:nvPr/>
        </p:nvSpPr>
        <p:spPr>
          <a:xfrm>
            <a:off x="228600" y="3451320"/>
            <a:ext cx="80496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79" name=""/>
          <p:cNvSpPr/>
          <p:nvPr/>
        </p:nvSpPr>
        <p:spPr>
          <a:xfrm flipV="1">
            <a:off x="1295280" y="5029200"/>
            <a:ext cx="1905120" cy="91440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6324480" y="3581280"/>
            <a:ext cx="2175120" cy="1719360"/>
            <a:chOff x="6324480" y="3581280"/>
            <a:chExt cx="2175120" cy="1719360"/>
          </a:xfrm>
        </p:grpSpPr>
        <p:sp>
          <p:nvSpPr>
            <p:cNvPr id="181" name=""/>
            <p:cNvSpPr/>
            <p:nvPr/>
          </p:nvSpPr>
          <p:spPr>
            <a:xfrm>
              <a:off x="6324480" y="3581280"/>
              <a:ext cx="2175120" cy="171936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724800" y="3868920"/>
              <a:ext cx="1617480" cy="13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 1</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A Radio Specification</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B Baseband Specification</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C Link Manager Protocol</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D L2CAP</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 2</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l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RD</a:t>
              </a:r>
              <a:endParaRPr b="0" lang="en-US" sz="9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89F428E-4872-4A42-9934-138E55424E3B}" type="slidenum">
              <a:t>2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4915080"/>
            <a:ext cx="3886200" cy="647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34320" y="48006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G can be done here but we need additional resourc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99 - Develop draft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99 - Ballot draft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0 - Approve draft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0 - Publish approved standard</a:t>
            </a:r>
            <a:endParaRPr b="0" lang="en-US" sz="2000" spc="-1" strike="noStrike">
              <a:solidFill>
                <a:srgbClr val="000000"/>
              </a:solidFill>
              <a:latin typeface="Times New Roman"/>
            </a:endParaRPr>
          </a:p>
        </p:txBody>
      </p:sp>
      <p:pic>
        <p:nvPicPr>
          <p:cNvPr id="187" name="fig1" descr=""/>
          <p:cNvPicPr/>
          <p:nvPr/>
        </p:nvPicPr>
        <p:blipFill>
          <a:blip r:embed="rId1"/>
          <a:stretch/>
        </p:blipFill>
        <p:spPr>
          <a:xfrm>
            <a:off x="5029200" y="1981080"/>
            <a:ext cx="3801960" cy="43848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9BF4E3E-CAB1-499D-AB7F-585F2965127F}"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Time Line</a:t>
            </a:r>
            <a:endParaRPr b="0" lang="en-US" sz="4400" spc="-1" strike="noStrike">
              <a:solidFill>
                <a:srgbClr val="000000"/>
              </a:solidFill>
              <a:latin typeface="Times New Roman"/>
            </a:endParaRPr>
          </a:p>
        </p:txBody>
      </p:sp>
      <p:graphicFrame>
        <p:nvGraphicFramePr>
          <p:cNvPr id="189" name=""/>
          <p:cNvGraphicFramePr/>
          <p:nvPr/>
        </p:nvGraphicFramePr>
        <p:xfrm>
          <a:off x="533520" y="2362320"/>
          <a:ext cx="7619760" cy="3355920"/>
        </p:xfrm>
        <a:graphic>
          <a:graphicData uri="http://schemas.openxmlformats.org/presentationml/2006/ole">
            <p:oleObj r:id="rId1" spid="">
              <p:embed/>
              <p:pic>
                <p:nvPicPr>
                  <p:cNvPr id="190" name="" descr=""/>
                  <p:cNvPicPr/>
                  <p:nvPr/>
                </p:nvPicPr>
                <p:blipFill>
                  <a:blip r:embed="rId2"/>
                  <a:stretch/>
                </p:blipFill>
                <p:spPr>
                  <a:xfrm>
                    <a:off x="533520" y="2362320"/>
                    <a:ext cx="7619760" cy="33559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75B6A30-3EE0-4668-8E0B-DB41A2249DD1}" type="slidenum">
              <a:t>2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14400"/>
            <a:ext cx="7772400" cy="133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Presentation of </a:t>
            </a:r>
            <a:br>
              <a:rPr sz="4400"/>
            </a:br>
            <a:r>
              <a:rPr b="0" lang="en-US" sz="4400" spc="-1" strike="noStrike">
                <a:solidFill>
                  <a:srgbClr val="000000"/>
                </a:solidFill>
                <a:latin typeface="Times New Roman"/>
              </a:rPr>
              <a:t>Candidate Draft Standard at IEEE P802.15 Meeting</a:t>
            </a:r>
            <a:endParaRPr b="0" lang="en-US" sz="4400" spc="-1" strike="noStrike">
              <a:solidFill>
                <a:srgbClr val="000000"/>
              </a:solidFill>
              <a:latin typeface="Times New Roman"/>
            </a:endParaRPr>
          </a:p>
        </p:txBody>
      </p:sp>
      <p:sp>
        <p:nvSpPr>
          <p:cNvPr id="192" name="PlaceHolder 2"/>
          <p:cNvSpPr>
            <a:spLocks noGrp="1"/>
          </p:cNvSpPr>
          <p:nvPr>
            <p:ph/>
          </p:nvPr>
        </p:nvSpPr>
        <p:spPr>
          <a:xfrm>
            <a:off x="609480" y="3200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official” involvement of IE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should pres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to have a Bluetooth Promoter make present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BEC830F-300B-455B-9D39-B8EE9DE30849}" type="slidenum">
              <a:t>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HAT</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WHO</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W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Teleconfere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T Specification Vol. 1&amp;2 v1.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im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d Montreal Plenar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eam</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9Jul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orking sessions for P802.15 and 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ssue resolution mee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sentation to P802.1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fy Bluetooth SIG Technical Team(s) with authorization to recast the Bluetooth specification to IEEE forma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B0E3EE1-BA71-415C-AA22-803EDA8C8248}" type="slidenum">
              <a:t>2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2438280"/>
            <a:ext cx="7848720" cy="3276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0</a:t>
            </a:r>
            <a:r>
              <a:rPr b="0" lang="en-US" sz="1400" spc="-1" strike="noStrike">
                <a:solidFill>
                  <a:srgbClr val="000000"/>
                </a:solidFill>
                <a:latin typeface="Times New Roman"/>
              </a:rPr>
              <a:t>	</a:t>
            </a:r>
            <a:r>
              <a:rPr b="0" lang="en-US" sz="1400" spc="-1" strike="noStrike">
                <a:solidFill>
                  <a:srgbClr val="000000"/>
                </a:solidFill>
                <a:latin typeface="Times New Roman"/>
              </a:rPr>
              <a:t>Bluetooth Special Interest Group Provide a Bluetooth Protocol Overview, focus on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L2CAP and Below”</a:t>
            </a:r>
            <a:endParaRPr b="0" lang="en-US" sz="14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45 </a:t>
            </a:r>
            <a:r>
              <a:rPr b="0" lang="en-US" sz="1400" spc="-1" strike="noStrike">
                <a:solidFill>
                  <a:srgbClr val="000000"/>
                </a:solidFill>
                <a:latin typeface="Times New Roman"/>
              </a:rPr>
              <a:t>	</a:t>
            </a:r>
            <a:r>
              <a:rPr b="0" lang="en-US" sz="1400" spc="-1" strike="noStrike">
                <a:solidFill>
                  <a:srgbClr val="000000"/>
                </a:solidFill>
                <a:latin typeface="Times New Roman"/>
              </a:rPr>
              <a:t>IEEE 802 </a:t>
            </a:r>
            <a:endParaRPr b="0" lang="en-US" sz="14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Promote the Standards Process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an IEEE 802 Architecture Overview focusing on OSI Reference Model and discussing the various components and interrelationships of the standards.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the 802 terms focusing on the Medium Access Control (MAC) Sub Layer and Physical Layer (PHY)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xamples of 802 Standards e.g., 802.3, 802.11, etc. Outline form only and focusing on contents page </a:t>
            </a:r>
            <a:endParaRPr b="0" lang="en-US" sz="12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a:t>
            </a:r>
            <a:r>
              <a:rPr b="0" lang="en-US" sz="1400" spc="-1" strike="noStrike">
                <a:solidFill>
                  <a:srgbClr val="000000"/>
                </a:solidFill>
                <a:latin typeface="Times New Roman"/>
              </a:rPr>
              <a:t>	</a:t>
            </a:r>
            <a:r>
              <a:rPr b="0" lang="en-US" sz="1400" spc="-1" strike="noStrike">
                <a:solidFill>
                  <a:srgbClr val="000000"/>
                </a:solidFill>
                <a:latin typeface="Times New Roman"/>
              </a:rPr>
              <a:t>Break</a:t>
            </a:r>
            <a:endParaRPr b="0" lang="en-US" sz="14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5</a:t>
            </a:r>
            <a:r>
              <a:rPr b="0" lang="en-US" sz="1400" spc="-1" strike="noStrike">
                <a:solidFill>
                  <a:srgbClr val="000000"/>
                </a:solidFill>
                <a:latin typeface="Times New Roman"/>
              </a:rPr>
              <a:t>	</a:t>
            </a:r>
            <a:r>
              <a:rPr b="0" lang="en-US" sz="1400" spc="-1" strike="noStrike">
                <a:solidFill>
                  <a:srgbClr val="000000"/>
                </a:solidFill>
                <a:latin typeface="Times New Roman"/>
              </a:rPr>
              <a:t>Open Discussion and Q&amp;A </a:t>
            </a:r>
            <a:endParaRPr b="0" lang="en-US" sz="14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 roadmap on how to rewrite the pending Bluetooth Foundation v1.0 "L2CAP and Below chapters" into an IEEE format without losing anything in the translation.  Feedback mechanism?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to deal with suggestions for proposed changes to the Bluetooth spec. (such as coexistence and interoperability)</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 joint timeline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e importance of Montreal Meeting (July 5-9) to the process.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teps </a:t>
            </a:r>
            <a:endParaRPr b="0" lang="en-US" sz="12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45</a:t>
            </a:r>
            <a:r>
              <a:rPr b="0" lang="en-US" sz="1400" spc="-1" strike="noStrike">
                <a:solidFill>
                  <a:srgbClr val="000000"/>
                </a:solidFill>
                <a:latin typeface="Times New Roman"/>
              </a:rPr>
              <a:t>	</a:t>
            </a:r>
            <a:r>
              <a:rPr b="0" lang="en-US" sz="1400" spc="-1" strike="noStrike">
                <a:solidFill>
                  <a:srgbClr val="000000"/>
                </a:solidFill>
                <a:latin typeface="Times New Roman"/>
              </a:rPr>
              <a:t>Conclusion and action item summary</a:t>
            </a:r>
            <a:endParaRPr b="0" lang="en-US" sz="14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a:t>
            </a:r>
            <a:r>
              <a:rPr b="0" lang="en-US" sz="1400" spc="-1" strike="noStrike">
                <a:solidFill>
                  <a:srgbClr val="000000"/>
                </a:solidFill>
                <a:latin typeface="Times New Roman"/>
              </a:rPr>
              <a:t>	</a:t>
            </a:r>
            <a:r>
              <a:rPr b="0" lang="en-US" sz="1400" spc="-1" strike="noStrike">
                <a:solidFill>
                  <a:srgbClr val="000000"/>
                </a:solidFill>
                <a:latin typeface="Times New Roman"/>
              </a:rPr>
              <a:t>Adjourn Meeting</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5BEFDF1-5229-47D3-A512-CAFFC9654CBC}" type="slidenum">
              <a:t>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description of the IEEE and IEEE 802</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IEEE “MAC &amp; PHY”?</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 Standard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a P802.15 Proposed Draft Standard</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ine</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5C10037-3A1B-4926-89BA-B1B55596AA72}"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plan to process the Bluetooth Specification v1.0 into an IEEE Draft Standard, Layer 1 &amp;2 we need participation from the key Bluetooth document contributors.  We suggest the following:</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IEEE Plenary &amp; Interim Meeting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IEEE Ad Hoc &amp; Liaison Meeting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 Teleconference Calls &amp; E-Mails</a:t>
            </a:r>
            <a:endParaRPr b="0" lang="en-US" sz="24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 will be that the:</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Derivative Standard will be rock soli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Derivative Standard will be maintain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B8C3A43-FF81-422B-8C72-C68D6F8426A5}" type="slidenum">
              <a:t>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Plenary &amp; Interim Meetings</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70"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71"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07E49A7-B5B4-49AA-ACA0-FB87C206A7BF}" type="slidenum">
              <a:t>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IEEE?</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e of Electrical and Electronics Engineers, Inc.</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a not-for-profit association and has more than 340,000 individual members in 150 countries. Through its technical publishing, conferences and consensus-based standards activities, the IEEE</a:t>
            </a:r>
            <a:endParaRPr b="0"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s 30 percent of the world's published literature in electrical engineering, computers and control technology, </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lds annually more than 300 major conferences and </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more than 800 active standards with 700 under development.</a:t>
            </a:r>
            <a:endParaRPr b="0" lang="en-US" sz="20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made up of 10 Regions, 36 Technical Societies, two Technical Councils, 1,400 Society Chapters, and 300 S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E99FF1F-9273-4531-9D5A-2EBE14685D36}" type="slidenum">
              <a:t>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EEE Vision Statement</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sion of the IEEE is to advance global prosperity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stering technological innov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ing Members’ care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ng community worldwid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vision is summarized by the slog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Networking the World</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74AF6FD-9D24-468D-B167-3F9163E7593D}" type="slidenum">
              <a:t>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a:t>
            </a:r>
            <a:br>
              <a:rPr sz="4400"/>
            </a:br>
            <a:r>
              <a:rPr b="0" lang="en-US" sz="4400" spc="-1" strike="noStrike">
                <a:solidFill>
                  <a:srgbClr val="000000"/>
                </a:solidFill>
                <a:latin typeface="Times New Roman"/>
              </a:rPr>
              <a:t>Wireless Vision Statement</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as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Frequency Hopping Spread Spectrum (1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Direct Sequence Spread Spectrum (2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red (1Mbi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 5GHz Extension (&gt;20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2.4GHz Extension (&gt;8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6 Broadband Wireless LANs (LMDS) - W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 Wireless Personal Area Networks - W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a:t>
            </a:r>
            <a:endParaRPr b="0" lang="en-US" sz="2000" spc="-1" strike="noStrike">
              <a:solidFill>
                <a:srgbClr val="000000"/>
              </a:solidFill>
              <a:latin typeface="Times New Roman"/>
            </a:endParaRPr>
          </a:p>
        </p:txBody>
      </p:sp>
      <p:sp>
        <p:nvSpPr>
          <p:cNvPr id="78" name=""/>
          <p:cNvSpPr/>
          <p:nvPr/>
        </p:nvSpPr>
        <p:spPr>
          <a:xfrm>
            <a:off x="228600" y="556272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79"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0455F4E-FEBD-4AEE-A210-2D8A0E5C7F9D}" type="slidenum">
              <a:t>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Tom Siep, Texas Insturments</dc:description>
  <cp:keywords>April 1999</cp:keywords>
  <dc:language>en-US</dc:language>
  <cp:lastModifiedBy>Ian C. Gifford</cp:lastModifiedBy>
  <cp:lastPrinted>1999-06-07T11:39:25Z</cp:lastPrinted>
  <dcterms:modified xsi:type="dcterms:W3CDTF">1999-06-07T12:43:25Z</dcterms:modified>
  <cp:revision>38</cp:revision>
  <dc:subject>Bluetooth / IEEE Working Session</dc:subject>
  <dc:title>IEEE 802.15 Working Group for Wireless Personal Area Networks</dc:title>
</cp:coreProperties>
</file>