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772C40-B739-4AF1-BAE5-531B4892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7075B1-255B-4398-9D8B-DF9DB015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77C-F710-4A27-9DFE-6A86BA59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7F9-F8DA-4896-8640-E26157B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E52-477A-4666-804E-137B2ED5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A9A-F824-476D-9409-761C070E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AFB-DA3B-4E07-9577-A512AB3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F04-7DA9-4087-AA70-1B342051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3B8-9D39-4E4F-9CB3-8219E62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2A8-5FBF-4DC9-8824-A26E75E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E35-17C5-418D-88EF-5EBF2601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A6E-6DDC-4B0B-99D1-83AF0D0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E7D-A2C5-4306-B9E0-DC263F2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D29-9DF2-49B6-AD44-C67658E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57A2F7-F603-449C-BD9C-45BBB57AA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07B-6180-4493-9B22-9D8D21C612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G and the WPAN S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need for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that there is a strong market demand for a consumer-cost, low pow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a PAR to accomplish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importance of Coexistence and the need for etiquette  in the use of a shared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venue to best create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420-8DA7-4537-8734-5F4E80EDE5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Relat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4 Companies Participa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-Jun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F/Firefly--  ~84 Compani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Dec 98/Dec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SG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 Companies Particip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tandard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c, Motorola, Butterfly, Kod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ADD-00CE-4F6D-9E0C-C784B73DDA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PAN Standard that does not involve Bluetooth as a participant will have a tough time gaining market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dependent efforts will aggravate coexistence and interferenc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FD5-8057-42BE-A42C-FBB9EC5DF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atives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that can attract members who feel they have equal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get active participation from Members of Bluetooth, HomeRF/Firefly, 802.11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which can take a fresh look, evaluate different proposals and find compromise solutions that address broad market applicability as well as technical me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is of the essence--1-2year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938-0618-4F8B-A2FD-64E33D5D8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 as a 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 of one MAC per WG eliminates a large class of potential solutions for developing a WPAN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erception that 802.11 has invested interests and will block non .11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G it is harder for non .11 participants to feel that they have equal standing, assuming they can be attract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ursue direct liaison with important outside interests/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CA1-EBB5-43E6-87EE-FAB7D5B2D4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tages of a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tature required to work more effectively with significant exter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ct as the agent of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freedom of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urpose promotes speed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EBA-2FFF-424B-9E05-D6EBBF4D7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ly urge the SEC to pass a motion to form a WPAN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effective compromise solutions is imperative to shared use, interoperability, success and accep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ption of balance needs to be as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is not whether a lite version of .11 can do the job, more important is market acceptance of a standard that does the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40B-2C92-4466-A346-6AE6D939C0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March 1999</cp:keywords>
  <dc:language>en-US</dc:language>
  <cp:lastModifiedBy>Ian C. Gifford</cp:lastModifiedBy>
  <cp:lastPrinted>1998-02-10T13:28:06Z</cp:lastPrinted>
  <dcterms:modified xsi:type="dcterms:W3CDTF">1999-03-11T23:01:47Z</dcterms:modified>
  <cp:revision>7</cp:revision>
  <dc:subject>WPAN SG ExCom Report</dc:subject>
  <dc:title>doc.: IEEE 802.11-98/58</dc:title>
</cp:coreProperties>
</file>