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639A36-81DB-4543-BF2E-7720DD4BC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2A9C5D-7A31-4F4C-8B45-936D34239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476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4760" y="87296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8729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2960" y="4363920"/>
            <a:ext cx="50306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6680" cy="3432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5F6-259A-4C9B-83D9-74C48ED1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5E6-8D3B-499D-B94D-DA5BCF40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CF5-6373-4EDE-82E2-32459EA4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C56-B99D-48D2-A208-8C619560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B38-3CBF-4C9B-A534-16D8842E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2CC-FEF8-448C-A61C-B5539999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408-1177-4EA9-A7BE-F59C728A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82D-1EFE-4433-9877-C459BBAF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782-5B90-440B-9097-FA2B4FD7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C81-B7A4-4C5D-BB73-FC60CE86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544-B2A9-4DA2-A6F1-7D3F28C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7E4-EDC4-4112-8168-230970E4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EDB650-6E47-433C-975F-86ECC68FF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Working Group Report to Ex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March 11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2F8-5E21-4BAE-B08B-CCBC0696A6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coexistence and effective use of a shared medium is so critical to success, the WPAN Study Group suggests that the new WPAN Working Group keep very close ties with 802.11 including joint interactive meetings whenever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o recommend the formation of a Working Group rather than a Task Group under 802.11 required the Study Group to modify Rev8 of the WPAN PAR in the following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092-5DB8-4DB0-83D0-5AC7264002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6) Motion made to approve the WPAN PAR “Rev 9” -98/162r9   Bob Heile/Tom Si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7) Motion made to amend the WPAN PAR to replace all occurrences indicating the formation of a Working Group with those forming a Task Group of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O’Hara/Naftali Chay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 Call Vote on the amend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- 8 - 5  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 on Amended Motion:  31/9/4 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014-34E1-4198-A822-9148DE5CAA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-Rev 7 to Rev 10(9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Name of WG (Rev 9):  Change from ‘WPAN Study Group’ to ‘Sponsor:  IEEE 802.11 WG for WLAN, Proposed Task Group:   Wireless Personal Area Networks” 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greater clarit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5c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hange from Trial Use to Full Use. (Rev 8)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erical err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Delete from Scope (Rev 9) : “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erivative versions of the 802.11” Reason: Flexi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Add to Scope (Rev 8): “A goal of the WPAN group will be to achieve a level of interoperability (see -99/5) which could allow the transfer of data between a WPAN device and an 802.11 device”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of int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A6C-B951-4E8A-8DD2-50BF0054F9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to Scope (Rev 9): “standard” and repair grammar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9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following footnote (Rev 9) “These groups are not standards organizations, but they have similar charters and the Task Group intends to establish liaisons with these groups as appropriate.”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and int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12b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(Rev 9) “[ISO/IEC JTC1/SC6] by [DR]”.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erical err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 under Additional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hange as follows (Rev 9): A Personal Operating Space (POS) is the space about a pers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or obj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that typically extends up to 10 meters in all directions and envelops the person whether stationary or in motion.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of int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-Rev 7 to Rev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F2C-6818-4733-B158-EA96B1AD2E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9) Motion made to request for the ExCom to interpret rules that allow for significantly different multiple MACs in the Working Group. Dean/Tom Si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21) Motion made To amend the Motion to request from ExCom a ruling that allows for multiple MACs within a Working Group if required.  Tom Siep/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-10-14 on the amendment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-13-14 on the amended motion--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52B-4203-4D74-B9B8-156B1063C5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99/55P23)  move that the 802.11 WLAN Working Group recommends that The Executive Committee of 802 submit the WPAN PAR, “Rev 9” -98/162r9 amended, to NesCOM for appro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./Greg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: 36/0/7,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E59-53C2-4009-8FBB-65E7CFF0B9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on the PAR Ve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the  802.11 W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the 802.11 WGSG Wireless Personal Area Networks (WPAN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ob He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A7C-CB2B-486A-BEC7-BD7B4DF3B4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Letter Ballots 16 and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PAR rev7 and 5 Criteria Rev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Actions this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edits to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W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798-A6E0-4600-9895-F1CAE11546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vis a vis a Specification(s) or a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1868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0800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62480" y="42242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52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57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10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625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149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198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22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531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056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580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24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48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8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90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3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1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471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804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29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384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580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632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57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377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43000" y="4213080"/>
            <a:ext cx="30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42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047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00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905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951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7080" y="4191120"/>
            <a:ext cx="27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092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6324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434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988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32800" y="41990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04040" y="209088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96080" y="313200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32720" y="32083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23000" y="3962520"/>
            <a:ext cx="53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240" y="3184560"/>
            <a:ext cx="118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018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5120" y="1905120"/>
            <a:ext cx="1320840" cy="141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23560" y="3184560"/>
            <a:ext cx="117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F-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0400" y="3184560"/>
            <a:ext cx="1858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-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 Provi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716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37040" y="5866920"/>
            <a:ext cx="5106960" cy="9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4520" y="5876640"/>
            <a:ext cx="304920" cy="12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mllieee" descr=""/>
          <p:cNvPicPr/>
          <p:nvPr/>
        </p:nvPicPr>
        <p:blipFill>
          <a:blip r:embed="rId3"/>
          <a:stretch/>
        </p:blipFill>
        <p:spPr>
          <a:xfrm>
            <a:off x="8001000" y="2079720"/>
            <a:ext cx="95076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20" y="4822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2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AN 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1669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9240" y="4822920"/>
            <a:ext cx="144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4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PAR to 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WG LB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080" y="482292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4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96248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115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9500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49568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36600" y="213372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1360" y="5943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91440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3392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381880" y="586656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F1A-F643-4417-9F45-6CB00627022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er Ballots 16 and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Letter Ballot 16, ending Jan 7,1999, Approved PAR rev 7 and Five Criteria Rev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-14-4 or 8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Letter Ballot 17, ending Mar 3, 1999, Approved PAR rev 8 and Five Criteria rev 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-5-2 or 92% on  recircul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-8-3 or 90% over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FCE-B145-4C58-B543-F116F82F04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PAR and Five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on 7 of the WPAN PAR and Revision 4 of the Five Criteria submitted to ExCom on Feb 4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BA6-B33B-40C4-A093-80438287FE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 Objectives for this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Up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Futur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6B5-1E5B-40CF-B9DF-574EE1A677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SG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revised recommended  direction regarding the Wireless PAN initiative for approval by 802.11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Rev 9 of the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supporting cover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ught 3 motions to the 802.11 WG for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336-1522-44D4-9F93-A0B918E2A6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ed Dire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9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The WPAN Study Group recommends that it become a Task Group of 802.11 with the understanding that this will likely require a change in the 802.11 charter and a rule change within 802 to allow multiple MAC Layers within a Working Group.  The motivation for becoming a Task Group within 802.11 is to ensure the best use of a shared medium.  If this is not feasible the SG recommends the formation of a separate Working Group under 802 which would include all PAN-related activity including Bluetooth, HomeRF, etc. should they also submit PAR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9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SG recommends the formation of a separat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04D-3770-4B84-91ED-FB96F0114F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PAN Study Group respectfully submits, for approval, Rev 9 of the PAR and Rev 5 of the 5 Criteria for Wireless Personal Area Networks and recommends the formation of a separate Working Group under 802 that would include all PAN-related standards activ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to create a Working Group is to independently consider technologically acceptable approaches that have broad market appeal.  We believe this is more efficiently and effectively done as a peer of 802.11 rather than as a Task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517-261E-48F0-BB9D-33F5BE4F55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dc:language>en-US</dc:language>
  <cp:lastModifiedBy>Ian C. Gifford</cp:lastModifiedBy>
  <cp:lastPrinted>1999-03-08T22:00:07Z</cp:lastPrinted>
  <dcterms:modified xsi:type="dcterms:W3CDTF">1999-03-11T22:49:08Z</dcterms:modified>
  <cp:revision>67</cp:revision>
  <dc:subject>doc.: IEEE 802.11-99/057</dc:subject>
  <dc:title>WPAN WG ExCom Report</dc:title>
</cp:coreProperties>
</file>