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9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3470040" y="91080"/>
            <a:ext cx="2817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53760" y="91080"/>
            <a:ext cx="273996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208160" y="685800"/>
            <a:ext cx="4525920" cy="3394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25200" y="4314960"/>
            <a:ext cx="5089320" cy="4086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3774600" y="8791200"/>
            <a:ext cx="25131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0720" indent="0" algn="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0720" indent="0" algn="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2936520" y="879120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6DEE514-9219-4654-9D66-987295ADEB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3960" y="8791560"/>
            <a:ext cx="712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3960" y="8790120"/>
            <a:ext cx="5492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290520"/>
            <a:ext cx="5641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2936520" y="879120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D7695E1-2F17-4777-8C04-D82845D465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774600" y="8791200"/>
            <a:ext cx="25131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0720"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470040" y="91080"/>
            <a:ext cx="2817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53760" y="91080"/>
            <a:ext cx="273996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00240" y="679320"/>
            <a:ext cx="4541760" cy="34070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25200" y="4314960"/>
            <a:ext cx="5089320" cy="40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08160" y="68580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23400" y="4312800"/>
            <a:ext cx="5092920" cy="4087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spondence of Bluetooth to the ISO Open Standards Interface (OSI) model and how the IEEE standards map to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IEEE has only two layers of the ISO-OSI while Bluetooth (as you well know) covers all of them.  What is not indicated by this graph is that the normal place for the LLC layer is in a separate committee, 802.2.  This standard is common to 802 stacks, but each MAC may have some medium-specific clauses in the 802.2 standard.  Due to the unique nature of the wireless medium, we will need to evaluate if there is sufficient flexibility for a Bluetooth-based standard to follow this model.  Other options can be conside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208160" y="68580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23400" y="4312800"/>
            <a:ext cx="5092920" cy="4087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ears to be a fairly good correspondence, except for Audi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discussion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208160" y="68580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25560" y="3993840"/>
            <a:ext cx="5092560" cy="4087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s are performed via Service Access Points (SAP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Logical Link Control -- Three types of operation: connectionless with no ACK; connection-oriented; and connectionless with 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es with upper layers via a set of primitiv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Ind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Confi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es with MAC via fr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Media Access Control -- Performs access control functions for the shared medium in support of the LL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Addressing and recognition of fr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frame check sequence generation and chec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LLC protocol data unit (PDU) delim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MAC Management -- managed objects and controls for MAC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Physical Layer Convergence Procedure -- Medium-independent physical layer: receives Messages, hands over bits to PM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) Physical Medium Dependent layer takes bits and (in our case) turns them into radio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) PHY Management  -- managed objects and controls for PHY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) Station Management -- Set of tools that allow performance 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Configuration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Fault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Performance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Security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Accounting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5AF7-C6DF-4C14-BB40-03C1AE983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76C0-DD9B-4416-9CE3-152AF277C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9A60-C67C-4B8C-A95D-93F8D958E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D5E6-4617-4E99-8683-14621D399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1132-07FD-4B9D-A36A-336A1D310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3926-E100-4799-9439-93A8505EC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685F-BCF7-4F16-AE79-3D7260B59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D6D5-2C04-4C58-BDFE-5AA83A64D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01C2-74C7-48BB-9F71-99E704C10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C0E8-3A66-43DB-955A-335D8FB85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E4E2-F2B8-4AA1-9A98-B91C48778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0872-CC3E-412A-B971-807557718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D97DF6E-4EB0-44A1-8B64-2D5D239901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042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.wmf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ption of Proposed Structur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ft MAC and PHY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ireless Personal Area Net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smllieee" descr=""/>
          <p:cNvPicPr/>
          <p:nvPr/>
        </p:nvPicPr>
        <p:blipFill>
          <a:blip r:embed="rId1"/>
          <a:stretch/>
        </p:blipFill>
        <p:spPr>
          <a:xfrm>
            <a:off x="3276720" y="1143000"/>
            <a:ext cx="628560" cy="714240"/>
          </a:xfrm>
          <a:prstGeom prst="rect">
            <a:avLst/>
          </a:prstGeom>
          <a:ln w="0">
            <a:noFill/>
          </a:ln>
        </p:spPr>
      </p:pic>
      <p:pic>
        <p:nvPicPr>
          <p:cNvPr id="58" name="IEEE%20802" descr=""/>
          <p:cNvPicPr/>
          <p:nvPr/>
        </p:nvPicPr>
        <p:blipFill>
          <a:blip r:embed="rId2"/>
          <a:stretch/>
        </p:blipFill>
        <p:spPr>
          <a:xfrm>
            <a:off x="5029200" y="1066680"/>
            <a:ext cx="739800" cy="762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4E72-B483-4A1A-9A75-917E3013A20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ause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breviations and Acrony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038480" y="4495680"/>
            <a:ext cx="4648320" cy="19051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495680" y="3886200"/>
          <a:ext cx="4057920" cy="22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3886200"/>
                    <a:ext cx="4057920" cy="22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8322-3243-441F-946B-D6D1E50D310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ause 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neral 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38480" y="4495680"/>
            <a:ext cx="4648320" cy="19051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495680" y="3886200"/>
          <a:ext cx="4057920" cy="22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3886200"/>
                    <a:ext cx="4057920" cy="22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F155-4B65-4557-B9EE-5A057DDDDE8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ause 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dium Access Contro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038480" y="4495680"/>
            <a:ext cx="1828800" cy="6858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495680" y="3886200"/>
          <a:ext cx="4057920" cy="22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3886200"/>
                    <a:ext cx="4057920" cy="22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17E3-D023-4A90-8082-63296DE6667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ause 6.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AC Service 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 Spec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038480" y="4419720"/>
            <a:ext cx="1905120" cy="3045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495680" y="3886200"/>
          <a:ext cx="4057920" cy="22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3886200"/>
                    <a:ext cx="4057920" cy="22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5F49-1A33-4F1C-B0A0-969FBD21AD1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ause 6.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5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AC Frame Form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Conv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General Frame Form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Format of Individual Frame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38480" y="4648320"/>
            <a:ext cx="1828800" cy="5331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495680" y="3886200"/>
          <a:ext cx="4057920" cy="22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3886200"/>
                    <a:ext cx="4057920" cy="22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3C1C-7C0B-4C6D-83F8-77E3ECDBFF5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ause 6.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AC Layer Functional 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entication and Priv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gmentation/Defra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me Exchange Sequ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038480" y="4648320"/>
            <a:ext cx="1828800" cy="5331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495680" y="3886200"/>
          <a:ext cx="4057920" cy="22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3886200"/>
                    <a:ext cx="4057920" cy="22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74EF-6C09-4FCD-9426-2A17CAD7627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ause 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Arial"/>
              </a:rPr>
              <a:t>Physical 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114800" y="5105520"/>
            <a:ext cx="1752480" cy="6858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495680" y="3886200"/>
          <a:ext cx="4057920" cy="22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3886200"/>
                    <a:ext cx="4057920" cy="22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B058-9414-4513-8A48-7BC92E3D79C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ause 7.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3200" spc="-1" strike="noStrike">
                <a:solidFill>
                  <a:srgbClr val="000000"/>
                </a:solidFill>
                <a:latin typeface="Arial"/>
              </a:rPr>
              <a:t>PHY Service Spec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Service Spec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191120" y="5105520"/>
            <a:ext cx="1752480" cy="2286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495680" y="3886200"/>
          <a:ext cx="4057920" cy="22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3886200"/>
                    <a:ext cx="4057920" cy="22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7514-E018-46F9-8A05-EE8755A4D0B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ause 7.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HY Frame Form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Frame Form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t of Individual Frame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267080" y="5257800"/>
            <a:ext cx="1600200" cy="5335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495680" y="3886200"/>
          <a:ext cx="4057920" cy="22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3886200"/>
                    <a:ext cx="4057920" cy="22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5671-DF38-46AC-ADB1-83F32A1E2E6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ause 7.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HY Layer Functional 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267080" y="5257800"/>
            <a:ext cx="1600200" cy="5335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495680" y="3886200"/>
          <a:ext cx="4057920" cy="22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3886200"/>
                    <a:ext cx="4057920" cy="22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39CE-F136-4EDA-9C77-0EBF9DF571B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802 Stru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66680" y="1828800"/>
            <a:ext cx="7467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371600" y="1600200"/>
          <a:ext cx="6553080" cy="487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600200"/>
                    <a:ext cx="655308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BA17-49A9-4DF2-9D88-89B44CB7E2B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ause 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yer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C Layer Management Ent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hysical Layer Management Ent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943600" y="3886200"/>
            <a:ext cx="2514600" cy="23623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4495680" y="3886200"/>
          <a:ext cx="4057920" cy="22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3886200"/>
                    <a:ext cx="4057920" cy="22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ABB6-5FBE-4959-8BEE-26D4620AE75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ppendic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919080"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.</a:t>
            </a:r>
            <a:r>
              <a:rPr b="1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Arial"/>
              </a:rPr>
              <a:t>Protocol Implementation Conformance Statement (PICS) profor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9080"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.</a:t>
            </a:r>
            <a:r>
              <a:rPr b="1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Arial"/>
              </a:rPr>
              <a:t>Formal Description of MAC 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9080"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.</a:t>
            </a:r>
            <a:r>
              <a:rPr b="1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Arial"/>
              </a:rPr>
              <a:t>Formal Description of PHY 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9080"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.</a:t>
            </a:r>
            <a:r>
              <a:rPr b="1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Arial"/>
              </a:rPr>
              <a:t>MAC Management Information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9080"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.</a:t>
            </a:r>
            <a:r>
              <a:rPr b="1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Arial"/>
              </a:rPr>
              <a:t>PHY Management Information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9080"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.</a:t>
            </a:r>
            <a:r>
              <a:rPr b="1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Arial"/>
              </a:rPr>
              <a:t>Bibliograp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908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77E1-F76F-4453-BC82-95AB4720546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160" y="68580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rotocol </a:t>
            </a:r>
            <a:r>
              <a:rPr b="0" sz="32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mplementation </a:t>
            </a:r>
            <a:r>
              <a:rPr b="0" sz="32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onformace </a:t>
            </a:r>
            <a:r>
              <a:rPr b="0" sz="32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tatement profor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ICS is a description of an implementation claim.  It specif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implem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as implem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datory capabilities were satis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options were cho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2D63-3E89-4E43-A191-5CCCE15EAB9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rmal Definiti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l definitions are represented i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cification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criptio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guage (SD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U-T Recommendation Z.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: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lsberger, J., </a:t>
            </a:r>
            <a:r>
              <a:rPr b="1" i="1" lang="en-US" sz="2800" spc="-1" strike="noStrike">
                <a:solidFill>
                  <a:srgbClr val="000000"/>
                </a:solidFill>
                <a:latin typeface="AmericanTypewriter Cn"/>
              </a:rPr>
              <a:t>SDL Formal Object-Oriented Language for Communicating System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tfordshire, Prentice Hall Europe, 1997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ISBN 0-13-621384-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C206-8F3A-4190-B871-3114EB4C707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agement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formation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Bs are abstract representation of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re represented in ANS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tract Syntax Notation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U-T Recommend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09440" indent="-2124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.2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9440" indent="-2124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.680-68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9440" indent="-2124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.1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: </a:t>
            </a:r>
            <a:r>
              <a:rPr b="1" i="1" lang="en-US" sz="3200" spc="-1" strike="noStrike">
                <a:solidFill>
                  <a:srgbClr val="000000"/>
                </a:solidFill>
                <a:latin typeface="AmericanTypewriter Cn"/>
              </a:rPr>
              <a:t>SDL Formal Object-Oriented Language for Communicating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0193-C90B-4F05-9BE2-36D3BF3CC2A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posed Work Are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685800" y="1752480"/>
          <a:ext cx="7848720" cy="453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848720" cy="453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1B30-F3CE-4291-81AD-69C0F1A44F72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D OF PRESEN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ackup slides follo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CE2D-8ECC-40A2-878A-839CDEC59CE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uetooth and IEEE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66680" y="1828800"/>
            <a:ext cx="7467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Bluetooth%20OSI%20802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581960" cy="4593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BD98-984C-47AF-A6A1-9C33DAE4EA4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152280" y="1905120"/>
          <a:ext cx="8724960" cy="465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905120"/>
                    <a:ext cx="8724960" cy="46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luetooth to IEEE 802.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124080" y="4267080"/>
          <a:ext cx="2538360" cy="115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4080" y="4267080"/>
                    <a:ext cx="2538360" cy="11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2743200" y="2895480"/>
          <a:ext cx="3224160" cy="1592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43200" y="2895480"/>
                    <a:ext cx="3224160" cy="15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3200400" y="1371600"/>
          <a:ext cx="4952880" cy="1380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00400" y="1371600"/>
                    <a:ext cx="4952880" cy="13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380880" y="685800"/>
          <a:ext cx="5513400" cy="2895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0880" y="685800"/>
                    <a:ext cx="551340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2438280" y="2057400"/>
          <a:ext cx="3224160" cy="2049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438280" y="2057400"/>
                    <a:ext cx="3224160" cy="204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F386-DEF9-4AF5-967C-7B041EC6479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680" y="609480"/>
            <a:ext cx="6477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Bluetooth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lasses of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37960" y="-3445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14560" y="1179360"/>
            <a:ext cx="6933960" cy="947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332000" y="1484280"/>
            <a:ext cx="473040" cy="493920"/>
          </a:xfrm>
          <a:prstGeom prst="rect">
            <a:avLst/>
          </a:prstGeom>
          <a:solidFill>
            <a:srgbClr val="00f4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Au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181240" y="1484280"/>
            <a:ext cx="473040" cy="493920"/>
          </a:xfrm>
          <a:prstGeom prst="rect">
            <a:avLst/>
          </a:prstGeom>
          <a:solidFill>
            <a:srgbClr val="00f4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Sy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79720" y="1484280"/>
            <a:ext cx="473040" cy="493920"/>
          </a:xfrm>
          <a:prstGeom prst="rect">
            <a:avLst/>
          </a:prstGeom>
          <a:solidFill>
            <a:srgbClr val="00f4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Bridg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581800" y="1484280"/>
            <a:ext cx="473040" cy="493920"/>
          </a:xfrm>
          <a:prstGeom prst="rect">
            <a:avLst/>
          </a:prstGeom>
          <a:solidFill>
            <a:srgbClr val="00f4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Net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280280" y="1484280"/>
            <a:ext cx="473040" cy="493920"/>
          </a:xfrm>
          <a:prstGeom prst="rect">
            <a:avLst/>
          </a:prstGeom>
          <a:solidFill>
            <a:srgbClr val="00f4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H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02120" y="1484280"/>
            <a:ext cx="473040" cy="493920"/>
          </a:xfrm>
          <a:prstGeom prst="rect">
            <a:avLst/>
          </a:prstGeom>
          <a:solidFill>
            <a:srgbClr val="00f4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Still</a:t>
            </a:r>
            <a:br>
              <a:rPr sz="1000"/>
            </a:b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Im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730760" y="1484280"/>
            <a:ext cx="474480" cy="493920"/>
          </a:xfrm>
          <a:prstGeom prst="rect">
            <a:avLst/>
          </a:prstGeom>
          <a:solidFill>
            <a:srgbClr val="00f4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Comm</a:t>
            </a:r>
            <a:br>
              <a:rPr sz="1000"/>
            </a:b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Port</a:t>
            </a:r>
            <a:br>
              <a:rPr sz="1000"/>
            </a:b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App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431040" y="1484280"/>
            <a:ext cx="473040" cy="493920"/>
          </a:xfrm>
          <a:prstGeom prst="rect">
            <a:avLst/>
          </a:prstGeom>
          <a:solidFill>
            <a:srgbClr val="00f4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W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305160" y="6200640"/>
            <a:ext cx="2147760" cy="209520"/>
          </a:xfrm>
          <a:prstGeom prst="rect">
            <a:avLst/>
          </a:prstGeom>
          <a:solidFill>
            <a:srgbClr val="ff5b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R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305160" y="5486400"/>
            <a:ext cx="371520" cy="671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5948280"/>
            <a:ext cx="1719000" cy="209520"/>
          </a:xfrm>
          <a:prstGeom prst="rect">
            <a:avLst/>
          </a:prstGeom>
          <a:solidFill>
            <a:srgbClr val="ff5b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B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733920" y="5695920"/>
            <a:ext cx="1719000" cy="211320"/>
          </a:xfrm>
          <a:prstGeom prst="rect">
            <a:avLst/>
          </a:prstGeom>
          <a:solidFill>
            <a:srgbClr val="ff5b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L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733920" y="5486400"/>
            <a:ext cx="1719000" cy="168120"/>
          </a:xfrm>
          <a:prstGeom prst="rect">
            <a:avLst/>
          </a:prstGeom>
          <a:solidFill>
            <a:srgbClr val="ff5b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L</a:t>
            </a:r>
            <a:r>
              <a:rPr b="1" lang="en-GB" sz="1000" spc="-1" strike="noStrike" baseline="30000">
                <a:solidFill>
                  <a:srgbClr val="ffffff"/>
                </a:solidFill>
                <a:latin typeface="News Gothic MT"/>
              </a:rPr>
              <a:t>2</a:t>
            </a: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C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638440" y="4608360"/>
            <a:ext cx="676440" cy="493920"/>
          </a:xfrm>
          <a:prstGeom prst="rect">
            <a:avLst/>
          </a:prstGeom>
          <a:solidFill>
            <a:srgbClr val="fd4bd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Au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Ctr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57760" y="4532400"/>
            <a:ext cx="676080" cy="493560"/>
          </a:xfrm>
          <a:prstGeom prst="rect">
            <a:avLst/>
          </a:prstGeom>
          <a:solidFill>
            <a:srgbClr val="fd4bd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TS07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060880" y="4532400"/>
            <a:ext cx="676440" cy="49356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TCP/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981760" y="4532400"/>
            <a:ext cx="674640" cy="49356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H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333520" y="3541680"/>
            <a:ext cx="474840" cy="493920"/>
          </a:xfrm>
          <a:prstGeom prst="rect">
            <a:avLst/>
          </a:prstGeom>
          <a:solidFill>
            <a:srgbClr val="fd4bd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IrOB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57760" y="3541680"/>
            <a:ext cx="473040" cy="4939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370560" y="2550960"/>
            <a:ext cx="473040" cy="4939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W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41640" y="2550960"/>
            <a:ext cx="473040" cy="4939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Still</a:t>
            </a:r>
            <a:br>
              <a:rPr sz="1000"/>
            </a:b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Ima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766880" y="2550960"/>
            <a:ext cx="473040" cy="493920"/>
          </a:xfrm>
          <a:prstGeom prst="rect">
            <a:avLst/>
          </a:prstGeom>
          <a:solidFill>
            <a:srgbClr val="fd4bd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vC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333520" y="2550960"/>
            <a:ext cx="474840" cy="493920"/>
          </a:xfrm>
          <a:prstGeom prst="rect">
            <a:avLst/>
          </a:prstGeom>
          <a:solidFill>
            <a:srgbClr val="fd4bd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v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57760" y="2550960"/>
            <a:ext cx="473040" cy="4939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UD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82" idx="2"/>
            <a:endCxn id="194" idx="3"/>
          </p:cNvCxnSpPr>
          <p:nvPr/>
        </p:nvCxnSpPr>
        <p:spPr>
          <a:xfrm rot="5400000">
            <a:off x="5685120" y="2948760"/>
            <a:ext cx="2802600" cy="861120"/>
          </a:xfrm>
          <a:prstGeom prst="bentConnector2">
            <a:avLst/>
          </a:prstGeom>
          <a:ln w="28440">
            <a:solidFill>
              <a:srgbClr val="000000"/>
            </a:solidFill>
            <a:prstDash val="sysDot"/>
            <a:miter/>
          </a:ln>
        </p:spPr>
      </p:cxnSp>
      <p:cxnSp>
        <p:nvCxnSpPr>
          <p:cNvPr id="203" name=""/>
          <p:cNvCxnSpPr>
            <a:stCxn id="197" idx="2"/>
          </p:cNvCxnSpPr>
          <p:nvPr/>
        </p:nvCxnSpPr>
        <p:spPr>
          <a:xfrm rot="5400000">
            <a:off x="5568480" y="2847960"/>
            <a:ext cx="842040" cy="1235520"/>
          </a:xfrm>
          <a:prstGeom prst="bentConnector2">
            <a:avLst/>
          </a:prstGeom>
          <a:ln w="28440">
            <a:solidFill>
              <a:srgbClr val="000000"/>
            </a:solidFill>
            <a:prstDash val="sysDot"/>
            <a:miter/>
          </a:ln>
        </p:spPr>
      </p:cxnSp>
      <p:cxnSp>
        <p:nvCxnSpPr>
          <p:cNvPr id="204" name=""/>
          <p:cNvCxnSpPr>
            <a:stCxn id="181" idx="2"/>
            <a:endCxn id="193" idx="0"/>
          </p:cNvCxnSpPr>
          <p:nvPr/>
        </p:nvCxnSpPr>
        <p:spPr>
          <a:xfrm rot="5400000">
            <a:off x="4330800" y="3045240"/>
            <a:ext cx="2554920" cy="420120"/>
          </a:xfrm>
          <a:prstGeom prst="bentConnector3">
            <a:avLst>
              <a:gd name="adj1" fmla="val 49957"/>
            </a:avLst>
          </a:prstGeom>
          <a:ln w="28440">
            <a:solidFill>
              <a:srgbClr val="000000"/>
            </a:solidFill>
            <a:prstDash val="sysDot"/>
            <a:miter/>
          </a:ln>
        </p:spPr>
      </p:cxnSp>
      <p:cxnSp>
        <p:nvCxnSpPr>
          <p:cNvPr id="205" name=""/>
          <p:cNvCxnSpPr>
            <a:stCxn id="178" idx="2"/>
            <a:endCxn id="191" idx="1"/>
          </p:cNvCxnSpPr>
          <p:nvPr/>
        </p:nvCxnSpPr>
        <p:spPr>
          <a:xfrm flipH="1" rot="16200000">
            <a:off x="664560" y="2881800"/>
            <a:ext cx="2878560" cy="1070640"/>
          </a:xfrm>
          <a:prstGeom prst="bentConnector2">
            <a:avLst/>
          </a:prstGeom>
          <a:ln w="28440">
            <a:solidFill>
              <a:srgbClr val="000000"/>
            </a:solidFill>
            <a:prstDash val="sysDot"/>
            <a:miter/>
          </a:ln>
        </p:spPr>
      </p:cxnSp>
      <p:cxnSp>
        <p:nvCxnSpPr>
          <p:cNvPr id="206" name=""/>
          <p:cNvCxnSpPr>
            <a:stCxn id="179" idx="2"/>
            <a:endCxn id="199" idx="0"/>
          </p:cNvCxnSpPr>
          <p:nvPr/>
        </p:nvCxnSpPr>
        <p:spPr>
          <a:xfrm rot="5400000">
            <a:off x="1923480" y="2057040"/>
            <a:ext cx="573480" cy="415080"/>
          </a:xfrm>
          <a:prstGeom prst="bentConnector3">
            <a:avLst>
              <a:gd name="adj1" fmla="val 49811"/>
            </a:avLst>
          </a:prstGeom>
          <a:ln w="28440">
            <a:solidFill>
              <a:srgbClr val="000000"/>
            </a:solidFill>
            <a:prstDash val="sysDot"/>
            <a:miter/>
          </a:ln>
        </p:spPr>
      </p:cxnSp>
      <p:cxnSp>
        <p:nvCxnSpPr>
          <p:cNvPr id="207" name=""/>
          <p:cNvCxnSpPr>
            <a:stCxn id="179" idx="2"/>
            <a:endCxn id="200" idx="0"/>
          </p:cNvCxnSpPr>
          <p:nvPr/>
        </p:nvCxnSpPr>
        <p:spPr>
          <a:xfrm flipH="1" rot="16200000">
            <a:off x="2208240" y="2187000"/>
            <a:ext cx="573480" cy="154800"/>
          </a:xfrm>
          <a:prstGeom prst="bentConnector3">
            <a:avLst>
              <a:gd name="adj1" fmla="val 49811"/>
            </a:avLst>
          </a:prstGeom>
          <a:ln w="28440">
            <a:solidFill>
              <a:srgbClr val="000000"/>
            </a:solidFill>
            <a:prstDash val="sysDot"/>
            <a:miter/>
          </a:ln>
        </p:spPr>
      </p:cxnSp>
      <p:cxnSp>
        <p:nvCxnSpPr>
          <p:cNvPr id="208" name=""/>
          <p:cNvCxnSpPr>
            <a:stCxn id="199" idx="2"/>
            <a:endCxn id="195" idx="0"/>
          </p:cNvCxnSpPr>
          <p:nvPr/>
        </p:nvCxnSpPr>
        <p:spPr>
          <a:xfrm flipH="1" rot="16200000">
            <a:off x="2037960" y="3008880"/>
            <a:ext cx="497520" cy="568800"/>
          </a:xfrm>
          <a:prstGeom prst="bentConnector3">
            <a:avLst>
              <a:gd name="adj1" fmla="val 49818"/>
            </a:avLst>
          </a:prstGeom>
          <a:ln w="28440">
            <a:solidFill>
              <a:srgbClr val="000000"/>
            </a:solidFill>
            <a:prstDash val="sysDot"/>
            <a:miter/>
          </a:ln>
        </p:spPr>
      </p:cxnSp>
      <p:cxnSp>
        <p:nvCxnSpPr>
          <p:cNvPr id="209" name=""/>
          <p:cNvCxnSpPr>
            <a:stCxn id="200" idx="2"/>
            <a:endCxn id="195" idx="0"/>
          </p:cNvCxnSpPr>
          <p:nvPr/>
        </p:nvCxnSpPr>
        <p:spPr>
          <a:xfrm flipV="1" rot="10800000">
            <a:off x="2571120" y="3044520"/>
            <a:ext cx="1080" cy="497520"/>
          </a:xfrm>
          <a:prstGeom prst="bentConnector2">
            <a:avLst/>
          </a:prstGeom>
          <a:ln w="28440">
            <a:solidFill>
              <a:srgbClr val="000000"/>
            </a:solidFill>
            <a:prstDash val="sysDot"/>
            <a:miter/>
          </a:ln>
        </p:spPr>
      </p:cxnSp>
      <p:cxnSp>
        <p:nvCxnSpPr>
          <p:cNvPr id="210" name=""/>
          <p:cNvCxnSpPr>
            <a:stCxn id="195" idx="2"/>
            <a:endCxn id="192" idx="0"/>
          </p:cNvCxnSpPr>
          <p:nvPr/>
        </p:nvCxnSpPr>
        <p:spPr>
          <a:xfrm flipH="1" rot="16200000">
            <a:off x="3134520" y="3471840"/>
            <a:ext cx="497520" cy="1624680"/>
          </a:xfrm>
          <a:prstGeom prst="bentConnector3">
            <a:avLst>
              <a:gd name="adj1" fmla="val 49818"/>
            </a:avLst>
          </a:prstGeom>
          <a:ln w="28440">
            <a:solidFill>
              <a:srgbClr val="000000"/>
            </a:solidFill>
            <a:prstDash val="sysDot"/>
            <a:miter/>
          </a:ln>
        </p:spPr>
      </p:cxnSp>
      <p:cxnSp>
        <p:nvCxnSpPr>
          <p:cNvPr id="211" name=""/>
          <p:cNvCxnSpPr>
            <a:stCxn id="198" idx="2"/>
          </p:cNvCxnSpPr>
          <p:nvPr/>
        </p:nvCxnSpPr>
        <p:spPr>
          <a:xfrm rot="5400000">
            <a:off x="2800800" y="2799720"/>
            <a:ext cx="232560" cy="722520"/>
          </a:xfrm>
          <a:prstGeom prst="bentConnector2">
            <a:avLst/>
          </a:prstGeom>
          <a:ln w="28440">
            <a:solidFill>
              <a:srgbClr val="000000"/>
            </a:solidFill>
            <a:prstDash val="sysDot"/>
            <a:miter/>
          </a:ln>
        </p:spPr>
      </p:cxnSp>
      <p:cxnSp>
        <p:nvCxnSpPr>
          <p:cNvPr id="212" name=""/>
          <p:cNvCxnSpPr>
            <a:stCxn id="183" idx="2"/>
            <a:endCxn id="198" idx="0"/>
          </p:cNvCxnSpPr>
          <p:nvPr/>
        </p:nvCxnSpPr>
        <p:spPr>
          <a:xfrm rot="5400000">
            <a:off x="3021480" y="2234160"/>
            <a:ext cx="573480" cy="61200"/>
          </a:xfrm>
          <a:prstGeom prst="bentConnector3">
            <a:avLst>
              <a:gd name="adj1" fmla="val 49811"/>
            </a:avLst>
          </a:prstGeom>
          <a:ln w="28440">
            <a:solidFill>
              <a:srgbClr val="000000"/>
            </a:solidFill>
            <a:prstDash val="sysDot"/>
            <a:miter/>
          </a:ln>
        </p:spPr>
      </p:cxnSp>
      <p:cxnSp>
        <p:nvCxnSpPr>
          <p:cNvPr id="213" name=""/>
          <p:cNvCxnSpPr>
            <a:stCxn id="180" idx="2"/>
            <a:endCxn id="201" idx="0"/>
          </p:cNvCxnSpPr>
          <p:nvPr/>
        </p:nvCxnSpPr>
        <p:spPr>
          <a:xfrm rot="5400000">
            <a:off x="3818160" y="2253240"/>
            <a:ext cx="573480" cy="22680"/>
          </a:xfrm>
          <a:prstGeom prst="bentConnector3">
            <a:avLst>
              <a:gd name="adj1" fmla="val 49811"/>
            </a:avLst>
          </a:prstGeom>
          <a:ln w="28440">
            <a:solidFill>
              <a:srgbClr val="000000"/>
            </a:solidFill>
            <a:prstDash val="sysDot"/>
            <a:miter/>
          </a:ln>
        </p:spPr>
      </p:cxnSp>
      <p:cxnSp>
        <p:nvCxnSpPr>
          <p:cNvPr id="214" name=""/>
          <p:cNvCxnSpPr>
            <a:stCxn id="201" idx="2"/>
            <a:endCxn id="196" idx="0"/>
          </p:cNvCxnSpPr>
          <p:nvPr/>
        </p:nvCxnSpPr>
        <p:spPr>
          <a:xfrm flipV="1" rot="10800000">
            <a:off x="4093560" y="3044520"/>
            <a:ext cx="1080" cy="497520"/>
          </a:xfrm>
          <a:prstGeom prst="bentConnector2">
            <a:avLst/>
          </a:prstGeom>
          <a:ln w="28440">
            <a:solidFill>
              <a:srgbClr val="000000"/>
            </a:solidFill>
            <a:prstDash val="sysDot"/>
            <a:miter/>
          </a:ln>
        </p:spPr>
      </p:cxnSp>
      <p:cxnSp>
        <p:nvCxnSpPr>
          <p:cNvPr id="215" name=""/>
          <p:cNvCxnSpPr>
            <a:stCxn id="196" idx="2"/>
            <a:endCxn id="192" idx="0"/>
          </p:cNvCxnSpPr>
          <p:nvPr/>
        </p:nvCxnSpPr>
        <p:spPr>
          <a:xfrm flipH="1" rot="16200000">
            <a:off x="3896640" y="4232880"/>
            <a:ext cx="497520" cy="102240"/>
          </a:xfrm>
          <a:prstGeom prst="bentConnector3">
            <a:avLst>
              <a:gd name="adj1" fmla="val 49818"/>
            </a:avLst>
          </a:prstGeom>
          <a:ln w="28440">
            <a:solidFill>
              <a:srgbClr val="000000"/>
            </a:solidFill>
            <a:prstDash val="sysDot"/>
            <a:miter/>
          </a:ln>
        </p:spPr>
      </p:cxnSp>
      <p:cxnSp>
        <p:nvCxnSpPr>
          <p:cNvPr id="216" name=""/>
          <p:cNvCxnSpPr>
            <a:stCxn id="184" idx="2"/>
            <a:endCxn id="192" idx="3"/>
          </p:cNvCxnSpPr>
          <p:nvPr/>
        </p:nvCxnSpPr>
        <p:spPr>
          <a:xfrm rot="5400000">
            <a:off x="3349800" y="3161520"/>
            <a:ext cx="2802600" cy="435600"/>
          </a:xfrm>
          <a:prstGeom prst="bentConnector2">
            <a:avLst/>
          </a:prstGeom>
          <a:ln w="28440">
            <a:solidFill>
              <a:srgbClr val="000000"/>
            </a:solidFill>
            <a:prstDash val="sysDot"/>
            <a:miter/>
          </a:ln>
        </p:spPr>
      </p:cxnSp>
      <p:cxnSp>
        <p:nvCxnSpPr>
          <p:cNvPr id="217" name=""/>
          <p:cNvCxnSpPr>
            <a:stCxn id="185" idx="2"/>
            <a:endCxn id="197" idx="0"/>
          </p:cNvCxnSpPr>
          <p:nvPr/>
        </p:nvCxnSpPr>
        <p:spPr>
          <a:xfrm rot="5400000">
            <a:off x="6350400" y="2234160"/>
            <a:ext cx="573480" cy="61200"/>
          </a:xfrm>
          <a:prstGeom prst="bentConnector3">
            <a:avLst>
              <a:gd name="adj1" fmla="val 49811"/>
            </a:avLst>
          </a:prstGeom>
          <a:ln w="28440">
            <a:solidFill>
              <a:srgbClr val="000000"/>
            </a:solidFill>
            <a:prstDash val="sysDot"/>
            <a:miter/>
          </a:ln>
        </p:spPr>
      </p:cxnSp>
      <p:cxnSp>
        <p:nvCxnSpPr>
          <p:cNvPr id="218" name=""/>
          <p:cNvCxnSpPr>
            <a:stCxn id="191" idx="2"/>
            <a:endCxn id="190" idx="0"/>
          </p:cNvCxnSpPr>
          <p:nvPr/>
        </p:nvCxnSpPr>
        <p:spPr>
          <a:xfrm flipH="1" rot="16200000">
            <a:off x="3593160" y="4484880"/>
            <a:ext cx="384840" cy="16185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prstDash val="sysDot"/>
            <a:miter/>
          </a:ln>
        </p:spPr>
      </p:cxnSp>
      <p:cxnSp>
        <p:nvCxnSpPr>
          <p:cNvPr id="219" name=""/>
          <p:cNvCxnSpPr>
            <a:stCxn id="192" idx="2"/>
            <a:endCxn id="190" idx="0"/>
          </p:cNvCxnSpPr>
          <p:nvPr/>
        </p:nvCxnSpPr>
        <p:spPr>
          <a:xfrm flipH="1" rot="16200000">
            <a:off x="4163760" y="5056560"/>
            <a:ext cx="461160" cy="39924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prstDash val="sysDot"/>
            <a:miter/>
          </a:ln>
        </p:spPr>
      </p:cxnSp>
      <p:cxnSp>
        <p:nvCxnSpPr>
          <p:cNvPr id="220" name=""/>
          <p:cNvCxnSpPr>
            <a:stCxn id="193" idx="2"/>
            <a:endCxn id="190" idx="0"/>
          </p:cNvCxnSpPr>
          <p:nvPr/>
        </p:nvCxnSpPr>
        <p:spPr>
          <a:xfrm rot="5400000">
            <a:off x="4765680" y="4853520"/>
            <a:ext cx="461160" cy="80532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prstDash val="sysDot"/>
            <a:miter/>
          </a:ln>
        </p:spPr>
      </p:cxnSp>
      <p:cxnSp>
        <p:nvCxnSpPr>
          <p:cNvPr id="221" name=""/>
          <p:cNvCxnSpPr>
            <a:stCxn id="194" idx="2"/>
            <a:endCxn id="190" idx="0"/>
          </p:cNvCxnSpPr>
          <p:nvPr/>
        </p:nvCxnSpPr>
        <p:spPr>
          <a:xfrm rot="5400000">
            <a:off x="5226120" y="4393080"/>
            <a:ext cx="461160" cy="172620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prstDash val="sysDot"/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8FCC-6A7C-4ED1-8515-96AD443895EC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unication Path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219320" y="1447920"/>
          <a:ext cx="6784920" cy="474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447920"/>
                    <a:ext cx="6784920" cy="47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6789-96C3-41D9-BF71-B474B25ECB9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axonomy of an 802 Standar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295280" y="2133720"/>
          <a:ext cx="6743880" cy="427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133720"/>
                    <a:ext cx="6743880" cy="42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6781680" y="1828800"/>
          <a:ext cx="1600200" cy="998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1680" y="1828800"/>
                    <a:ext cx="1600200" cy="9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53DF-ED9D-4662-BCB8-98D98AE9477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utline of Standard Main Tex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1)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Overview</a:t>
            </a:r>
            <a:r>
              <a:rPr b="0" sz="32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2)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Normative 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3)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Defin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4)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Abbreviations and Acrony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5)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General 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um Access Control (MA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7)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Physical Layer (PHY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yer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F6F8-EABF-4B57-A71F-E0A3E52199C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utline of Standard Appendix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A.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Protocol Implementation Conformance       Statement (PICS) profor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l Description of MAC 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l Description of PHY 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 Management Information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 Management Information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F.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Bibli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F10E-5377-43A2-9504-89776CD2498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038480" y="3505320"/>
            <a:ext cx="4648320" cy="28954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ause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view</a:t>
            </a:r>
            <a:r>
              <a:rPr b="1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Sc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495680" y="3886200"/>
          <a:ext cx="4057920" cy="22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3886200"/>
                    <a:ext cx="4057920" cy="22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2423-ED71-475B-AB4F-011CDD3A588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ause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rmative 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documents (IEEE, ISO, ITU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038480" y="3505320"/>
            <a:ext cx="4648320" cy="28954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4495680" y="3886200"/>
          <a:ext cx="4057920" cy="22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3886200"/>
                    <a:ext cx="4057920" cy="22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0B29-0D99-418A-A9FE-02E97E84D75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ause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specific to this 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038480" y="4495680"/>
            <a:ext cx="4648320" cy="19051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495680" y="3886200"/>
          <a:ext cx="4057920" cy="22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3886200"/>
                    <a:ext cx="4057920" cy="22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0FD3-0E8B-41B9-9C55-A648E995F76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Tom Siep</dc:creator>
  <dc:description>Tom Siep, Texas Instruments</dc:description>
  <dc:language>en-US</dc:language>
  <cp:lastModifiedBy>Tom Siep</cp:lastModifiedBy>
  <cp:lastPrinted>1999-04-23T19:19:31Z</cp:lastPrinted>
  <dcterms:modified xsi:type="dcterms:W3CDTF">1999-07-07T18:47:54Z</dcterms:modified>
  <cp:revision>72</cp:revision>
  <dc:subject>doc.: IEEE 802.11-99/055r1</dc:subject>
  <dc:title>WPAN SG Tutorial</dc:title>
</cp:coreProperties>
</file>