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1B7A-A98B-4F58-B809-E2D6F083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4A43-5AF1-498A-9908-E80514F1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9E92-4B12-483A-A1E7-78A73632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6197-81FD-419C-A0BE-83F63CF3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5440-4468-48A7-88AD-65A9AFFF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55B9-C9B6-43B9-880A-941FB964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A314-FA1C-419C-8A94-CE88C9BE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2586-25C8-461D-BDFE-A02A2392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A9EE-6F13-438E-92DA-68733D9F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ED00-3265-42FF-B787-CF8CFDB3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E2A8-5262-4469-8A9B-550A8DD2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D624-8E9C-47DF-B5DB-4512ADD6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376DA55-9FDA-44A7-9420-4C5027835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5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to Making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802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05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 Personal Area Net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mllieee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628560" cy="714240"/>
          </a:xfrm>
          <a:prstGeom prst="rect">
            <a:avLst/>
          </a:prstGeom>
          <a:ln w="0">
            <a:noFill/>
          </a:ln>
        </p:spPr>
      </p:pic>
      <p:pic>
        <p:nvPicPr>
          <p:cNvPr id="48" name="IEEE%20802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739800" cy="76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426B-54FF-4698-933D-DAA9AF9CCA2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5880" y="5867280"/>
            <a:ext cx="60984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chnical Chang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lasses of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ial: does not effect the implementation of the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: effect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echni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may ha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en made in review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dur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24E5-EEFC-472E-B2AF-6B58432C275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48320" y="5867280"/>
            <a:ext cx="53316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king Group Confirmation Ball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Bal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s that any changes made do not invalidate previous “Approve” votes of those not a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DAD5-020A-4DEF-924C-399F266B53B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705720" y="5867280"/>
            <a:ext cx="53316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onsor Ball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rs qualified from a Sponsor Ballot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IEEE-SA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very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is room should be Sponsor Ballo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295B-E441-415F-9DC9-5C68CD21E01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238880" y="5867280"/>
            <a:ext cx="60984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Negative Vot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s entered into Resolu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“Do Not Approve” votes must be answ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have specific reasons for disapproval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t would tak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ange vote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Appro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06B5-08F3-4AB1-BDC9-1458D7138A7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772400" y="5867280"/>
            <a:ext cx="83808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ceed to Standards Board Appro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ation made if possible to change draft to satisfy comment and not get new “Do Not Approve” v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70% approval to pro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 Boar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follow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sor Ballo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745B-C136-489E-9060-20870E9F12D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09480" y="16765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124080" y="2286000"/>
            <a:ext cx="2362320" cy="1066680"/>
          </a:xfrm>
          <a:prstGeom prst="leftArrow">
            <a:avLst>
              <a:gd name="adj1" fmla="val 50000"/>
              <a:gd name="adj2" fmla="val 55366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81E2-1769-4E9C-ADE9-3E3024FE03F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876920" y="4267080"/>
            <a:ext cx="53316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Group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Group Recomme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ssion to ExC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EEE 802 Exec Committ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Criteria (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om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 Bo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Author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1EA0-B92C-4F14-94B8-76EE8F8432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410080" y="4267080"/>
            <a:ext cx="533520" cy="38124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ablish Criteria for Stand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for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d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proposa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or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A2E3-15C5-4A57-88A8-CB5222197E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4120" y="4648320"/>
            <a:ext cx="6858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are Draft for Circul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Group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or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outline (next pres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 to Work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084F-EDAF-4661-8B3D-BB2E8E963B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410080" y="5029200"/>
            <a:ext cx="53352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king Group Letter Ball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Ball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not outstanding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available only to voting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to 45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s can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ai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Appro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A0B8-87C6-4DCD-91A8-22214F48C2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410080" y="5410080"/>
            <a:ext cx="53352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king Group Review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turned Ballo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s entered into Resolu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“Do Not Approve” votes must be answ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have specific reasons for disapproval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t would tak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ange vote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Appro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00E4-33A8-4D58-BBA0-046B42264F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410080" y="5867280"/>
            <a:ext cx="53352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vable Negativ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ation made if possible to change draft to satisfy comment and not get new “Do Not Approve” v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70% approval to pro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514C-AFA4-4B47-A5B0-EFAAE9EF9E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952880" y="5029200"/>
            <a:ext cx="53352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ke Changes to Obtain WG Appro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Group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only items that are effected by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s to avoid creating new “Do Not Approve” v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8C99-40CB-4907-BC76-585420EA6E2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1T18:09:33Z</dcterms:created>
  <dc:creator>Tom Siep</dc:creator>
  <dc:description>99/0xxr0</dc:description>
  <dc:language>en-US</dc:language>
  <cp:lastModifiedBy>Tom Siep</cp:lastModifiedBy>
  <cp:lastPrinted>1999-07-21T21:36:07Z</cp:lastPrinted>
  <dcterms:modified xsi:type="dcterms:W3CDTF">1999-07-27T22:28:58Z</dcterms:modified>
  <cp:revision>5</cp:revision>
  <dc:subject>IEEE 802.15 Steps to Making an IEEE 802 Standard</dc:subject>
  <dc:title>No Slide Title</dc:title>
</cp:coreProperties>
</file>