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9C9-7BB7-4829-A480-830B32FC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DD0-3F7A-44A4-9683-132687F4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A0A-4563-429A-BBC1-2D80228B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33A-83AE-4C7B-9200-E2FAEC07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192-B45C-4C76-8856-5C445D93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94E-50A6-4684-B0B1-0C57FBE9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E8B-C137-45FD-BF26-2CC2CA86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B9D-ADE9-43AB-A7CB-F83FBB83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5F4-5A14-40A5-BC8B-6FFBE410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863-0D41-4CBC-A3A1-2E7B7B80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AA1-09BB-457E-9FCA-18F3CED2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B50-71C5-4BA9-A739-5973546B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D805612-09F8-48B1-A9CE-AA6456619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st Session of meetings of the IEEE P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5-9,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Elizabeth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0 Rene-Levesque Blvd.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real, PQ H3B 4A5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F4E-A5A7-43A1-8599-7DBCC7097C1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WG Meet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Telecons for the Advisory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WGAC Meeting in Chiba, Japan ( with 802.11), May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d draft of 802.15 rules and document structure, reviewed Marcom activities, set liaison agenda,  established meeting schedule and proposed project time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WGAC Meeting in London,UK,  June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gameplan for July plenary, established meeting objectives for joint session with Bluetooth, finalized Call for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eeting with Bluetooth in London, UK, June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standards process and agree on a proposed working relationship/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ED5-BAEB-4DC7-9B7C-98944B1439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all Objectives of the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ize Working Group Leadership an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committees for initial dra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1FF-0E4D-4F53-97FA-77366D084A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ily Objectives for July 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-  Begin formal voting on Officers and rules,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CA2-9871-4EA1-9EC2-BA84C53E74A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667-61B7-4421-8B83-37172C9DC7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grouper.ieee.org/groups/802/11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486400"/>
            <a:ext cx="76201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2A3-72B9-4C7F-AF6F-B1B08A5423B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Ian C. Gifford</dc:creator>
  <dc:description>&lt;doc#&gt;</dc:description>
  <dc:language>en-US</dc:language>
  <cp:lastModifiedBy>Bridget Labrode</cp:lastModifiedBy>
  <cp:lastPrinted>1999-07-05T17:36:41Z</cp:lastPrinted>
  <dcterms:modified xsi:type="dcterms:W3CDTF">1999-07-05T22:44:03Z</dcterms:modified>
  <cp:revision>29</cp:revision>
  <dc:subject>IEEE 802.15 &lt;subject&gt;</dc:subject>
  <dc:title>IEEE P802.15 Working Group for Wireless Personal Area Networks</dc:title>
</cp:coreProperties>
</file>