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96B-B691-46C2-8D88-77F8B60B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C3D-AC87-4E4C-901D-17336D5D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0E3-1EE5-4D48-8333-A8B63C6D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2BE-1520-4300-BC02-4E71135C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34F-F2C6-4666-8F85-AB76517A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F2B-AFC8-4C3F-B2D0-8BE62A34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976-3C1B-434F-9648-52718D11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B19-6DD5-4FFB-90F0-D29FF17A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F81-DA63-4778-99F9-AE00839A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37E-31C8-4688-BF18-C3AD5C2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BC6-BF6C-40A3-A330-7F3F85CD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C0C-BF05-4130-98A1-DB8ED418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685CDD-1AA1-4F8F-BF2B-01FFCA3E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9CB-CD78-4A11-85E8-CEB2AA5C85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8BC-B8CA-4834-8EA0-87771A2722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ridget Labrode</dc:creator>
  <dc:description/>
  <dc:language>en-US</dc:language>
  <cp:lastModifiedBy>Bridget Labrode</cp:lastModifiedBy>
  <dcterms:modified xsi:type="dcterms:W3CDTF">1999-09-13T13:38:08Z</dcterms:modified>
  <cp:revision>2</cp:revision>
  <dc:subject/>
  <dc:title>No Slide Title</dc:title>
</cp:coreProperties>
</file>