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5A2-AC2F-4DC0-B2DC-470297D9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616-A98C-419A-9FDA-BEE4B56E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F95-6969-4D69-A5F0-5660965D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536-2F38-4913-9508-10C8D246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A9D-1671-4DB4-B25E-43B45E7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DE1-9807-47E3-8276-7EE9D4F4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672-2C0E-49D4-942B-F3380F7D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528-35A4-4DED-8F69-28FA48E1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F9D-7237-45E4-B464-38B251DA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C20-9A79-44BA-B585-23A77D5A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C48-8931-488E-8E48-2998EB3C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9CF-9C27-42B7-9293-312BB05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69DDCD-AEC6-4DA6-BF45-837841A97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5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 Plenary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9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307-ACE1-4157-BD6E-102FD1E268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2560" y="3643200"/>
            <a:ext cx="207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BA1-CF12-4739-95DB-586FFF4B7A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981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1120" y="3643200"/>
            <a:ext cx="212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7520" y="28195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1AD-4CD1-4FB2-BC36-780A0FAE33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ADB-ADC5-41F4-846F-CCF7E2ECF93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E2B-5E57-4560-AD7D-C60E2007808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621-9BE4-474C-8488-C7862BB479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ADD-79F2-4686-AB59-05D794EF6F0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F7E-5ED8-410B-9BF8-6556CD94EC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F2E-5075-4AF0-8CF1-A610AB4C0F8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, rules, etc.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048-0A3D-473B-A531-24E8D852F4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ial Voter Count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57E-77E3-4DFA-ACF0-2B7DE7C206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We Vot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 Slate of Officers-Term is through 802 Plenary Meeting, March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802.11 Inter-meeting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e a position relative to NPRM on WBFH and RF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83A-11F4-41EA-9188-D390EC27F3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i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84B-6909-461A-B62F-2CAFFAA670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EB1-2FA8-4735-BCA7-2B3A4B8C78E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EED-00E1-48A1-985D-BE0E55954E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6240" y="3962520"/>
            <a:ext cx="185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E68-A27A-4DAF-9991-2341217042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Intermeeting Regulatory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8760" y="3962520"/>
            <a:ext cx="205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C35-5C0B-45C3-A0A1-A6E1E1411E1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/>
  <dc:language>en-US</dc:language>
  <cp:lastModifiedBy>Bridget Labrode</cp:lastModifiedBy>
  <cp:lastPrinted>1998-02-10T13:28:06Z</cp:lastPrinted>
  <dcterms:modified xsi:type="dcterms:W3CDTF">1999-07-13T12:35:29Z</dcterms:modified>
  <cp:revision>24</cp:revision>
  <dc:subject/>
  <dc:title>No Slide Title</dc:title>
</cp:coreProperties>
</file>