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C1B2-3A51-4B83-A47D-C14BEFA5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3436-939B-4291-8AF7-3C82FB14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015D-5669-4D34-B209-C703C852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3F22-3BEB-4DCF-8C51-CF352491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E2C6-98D3-4550-834A-ACFB45BB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15A5-3FEA-424D-9D00-9825FC67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BD39-02F2-4C19-9DA5-F9400F55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114B-5B6B-4CE8-BD87-DAE9CC38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E0B3-F529-49C4-88B4-2D6E21DB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150C-60AC-4FCB-B27F-762570FB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93A3-960E-4785-88AF-62F570F8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6318-6AFF-4D10-B416-9085C86E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5E370DA-96A0-4D0D-8D67-F5AF7CC94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14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Committee Summar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uai, H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mber 10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7BEE-9729-4ABC-AD55-6C6A1195FBA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 of Marketing Committe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ed MC Purpose, Objectives and Exis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ed Plans to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Marcom campa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  marketing of 802.15 with Bluetooth S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Position paper to the IEEE on the proposed Publishing procedure for a TG1 Join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 “Marketing Material” to support the IEEE Draft, e.g., Handbook, Companion, Pocket Guide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liaison with ETSI but also determine if there are alternate SDO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relevant “WPAN” terms and U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joint 802 and BT Press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High Rat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1400" y="5791320"/>
            <a:ext cx="63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quested membership as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5484-D398-4BB1-886A-B082867F420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2920" y="990720"/>
            <a:ext cx="8772480" cy="161856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ion #1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that the charter of the 802.15 Marketing Committ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extended to the March’00 Plen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:________    Against:_________    Abstain: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8760" y="2819520"/>
            <a:ext cx="8680320" cy="161856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ion #2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that 802.15 request the IEEE  to immediately proceed with tradema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 of WPAN and WP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:________    Against:_________    Abstain: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8760" y="4695840"/>
            <a:ext cx="8680320" cy="161856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ion #3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that the 802.15 Executive Committee be empowered to  proceed with additional trademark and URL registrations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:________    Against:_________    Abstain: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D69E-F9D4-4B25-B10C-D4AF3FD361F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6:56:24Z</dcterms:created>
  <dc:creator>Ian Gifford, M/A-COM &amp; Bruce Kraemer, Harris</dc:creator>
  <dc:description>031r1</dc:description>
  <dc:language>en-US</dc:language>
  <cp:lastModifiedBy>Bruce Kraemer</cp:lastModifiedBy>
  <cp:lastPrinted>1998-02-10T13:28:06Z</cp:lastPrinted>
  <dcterms:modified xsi:type="dcterms:W3CDTF">1999-11-10T22:59:31Z</dcterms:modified>
  <cp:revision>82</cp:revision>
  <dc:subject>IEEE 802.15 Marketing</dc:subject>
  <dc:title>IEEE P802.15 Working Group for Wireless Personal Area Networks</dc:title>
</cp:coreProperties>
</file>