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90F-16F3-49BB-A932-2E3D70F5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3E9-833C-4E3E-852D-43E0023B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4F8-AEE7-4A73-90EB-71BBD415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DEC-96E0-4EF5-9072-EB60338D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C18-E8DA-4C91-A9A3-B3E7FBB2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6A9-4B85-4A2D-AA2E-1AB05532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5EC-4595-4C20-8024-F6F492F4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66A-F73C-46DB-9EFE-7B29B51A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FEA-4D4D-4F3A-A1F6-FC8066EC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FE9-256F-4EF4-8ED0-D43D4E0D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525-DF07-43C1-B408-B4E85A5C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5B3-E5D6-434D-AD25-C32B1593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76F298A-4A5F-4FFA-A2ED-5E94BF12A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31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the IEEE P802.15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D53-33D7-4041-A351-F5EA23ACDD8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Communication Systems by Network Class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 (Wide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s interconnect facilities in different parts of a country or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 (Metropolitan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s shall be capable of operating over an area up to 50 Km in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 (Local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 shall be capable of supporting segments at least 100 meters in leng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 composed of segments connected by physical layer inter-networking devices, shall be capable of operating over a physical medium that is at least 2 Km in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 (Personal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s shall be capable of supporting segments at least 10 meters in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B51-7A89-4790-A80B-E93C581F1D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Vision Stat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 Bas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Frequency Hopping Spread Spectrum (1Mbit/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Direct Sequence Spread Spectrum (2Mbit/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red (1Mbit/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a 5GHz Extension (&gt;20Mbit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b 2.4GHz Extension (&gt;8Mbit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5 Wireless Personal Area Networks (WPANs) -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uetoot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RF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6 Broadband Wireless LANs (LMDS) -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828800"/>
            <a:ext cx="8610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EEE 802 is the focal point for Wireless LAN standards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im Ca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1E0-DB66-4EAE-8200-7110926E5F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WPAN Marketing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maintain the application and usage scenarios generated by the CF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formulation of documentation that clearly &amp; distinctly differentiates the purposes and services of the various IEEE WP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issemination of information about IEEE 802.15 Working Group activities internally (among 802 working groups) and externally (among the electronics indus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802.15 task groups in reaching convergence and consensus on technical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how best to promote the public demonstration of interoperability between products built using 802.15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aintain liaisons with other selected industry marketing groups (e.g. Bluetooth, HomeRF) and standards bodies (e.g ET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two-way communications between suppliers and consumers of WPAN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nd foster creation of value-added industry marketing groups as appropriate (e.g. Gigabit Ethernet Alliance, http://www.gigabit-Ethernet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8BD-9CEE-43EA-B548-5C43E3FF71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2425680"/>
            <a:ext cx="5359680" cy="3060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W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Network Positi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96960" y="5482800"/>
            <a:ext cx="5830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8400" y="2470320"/>
            <a:ext cx="870120" cy="21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8400" y="4502160"/>
            <a:ext cx="870120" cy="9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494080" y="2282760"/>
            <a:ext cx="0" cy="31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93720" y="4998960"/>
            <a:ext cx="70488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3720" y="4076640"/>
            <a:ext cx="70488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93720" y="3537000"/>
            <a:ext cx="70488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93720" y="2470320"/>
            <a:ext cx="704880" cy="104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7180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95720" y="240624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594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67800" y="2441520"/>
            <a:ext cx="0" cy="3043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93720" y="4502160"/>
            <a:ext cx="70488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m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4760" y="193356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240" y="55008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5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9960" y="55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2040" y="55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6400" y="55008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038480"/>
            <a:ext cx="350532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89040" y="4038480"/>
            <a:ext cx="18417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4495680"/>
            <a:ext cx="25146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6B9-3AB4-436D-9192-251729C803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89040" y="2425680"/>
            <a:ext cx="5359680" cy="1600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 Wireless Family Positi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96960" y="5482800"/>
            <a:ext cx="5830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8400" y="2470320"/>
            <a:ext cx="870120" cy="21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8400" y="4502160"/>
            <a:ext cx="870120" cy="9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94080" y="2282760"/>
            <a:ext cx="0" cy="31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93720" y="4998960"/>
            <a:ext cx="70488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93720" y="4076640"/>
            <a:ext cx="70488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93720" y="3537000"/>
            <a:ext cx="70488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93720" y="2470320"/>
            <a:ext cx="704880" cy="104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7180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995720" y="240624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4594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867800" y="2441520"/>
            <a:ext cx="0" cy="3043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93720" y="4502160"/>
            <a:ext cx="70488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m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4760" y="193356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29240" y="55008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5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9960" y="55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2040" y="55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6400" y="55008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4025880"/>
            <a:ext cx="3505320" cy="1447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2.16 B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9040" y="4025880"/>
            <a:ext cx="18417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2.15 WP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1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483080"/>
            <a:ext cx="2514600" cy="990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2.11, 11a &amp; 11b W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-54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9D1-1EBA-4E77-A53E-DFE8778181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ntreal, determine interest level in the WG to form a limited duration Marketing Study Group [Jul99 to Nov9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G agrees to formation, Marketing Study Group to be tasked to study actionable “Objectives”  and provide an initial report with clearly identified deliverables by Sept 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D6D-BF64-493C-AD36-B79B795FCD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 Functional Organization 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19200" y="1676520"/>
          <a:ext cx="610236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676520"/>
                    <a:ext cx="610236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80880" y="5791320"/>
            <a:ext cx="8305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y Group can help provide focus on overall WG iss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8F1-35D1-40B1-B842-929FE6228EC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make the following mo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802.15 WG will form a Study Group to investigate how to successfully market WPAN standar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rketing study group will initially be commissioned between July ‘99 and Nov ‘99 and report findings and recommendations  at each 802.15 mee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areas to be studied 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and Value of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of requirements as embodied in C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able “Objectives”, priorities, deliverables, assignments and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279-FEF5-4CD4-BDE7-DAB9B7D1DA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ing Study Group Offi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man: Bruce Kra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ma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8A7-D801-43FC-BCBC-0210A02639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idget Labrode</cp:lastModifiedBy>
  <cp:lastPrinted>1998-02-10T13:28:06Z</cp:lastPrinted>
  <dcterms:modified xsi:type="dcterms:W3CDTF">1999-07-08T12:22:56Z</dcterms:modified>
  <cp:revision>39</cp:revision>
  <dc:subject>IEEE 802.15 Marketing</dc:subject>
  <dc:title>IEEE P802.15 Working Group for Wireless Personal Area Networks</dc:title>
</cp:coreProperties>
</file>