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F783-DF6E-4891-9D8C-98802B84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202-A179-40F2-8913-65293B50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92400" y="79380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D90-55D6-4EED-926B-9EF7866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647-9CCD-4E70-A1D1-821AA7B1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366-5556-4754-88F5-B3E558D1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E00-2B47-4F37-993F-B5B191A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A15-38FD-4B51-B714-F3CFCE8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54B-9FD4-45E4-BC21-EF7E60F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B0E-44A4-4E35-BD39-259BCAB9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AC2-A818-49F3-9CBA-84E9B0A5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1AB-DC11-4EE1-9B22-8571F0BA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57B-9361-4A26-9D60-31725F7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0B8-CF6D-40A6-904C-E924283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FA0-2E7D-4402-A5DD-8913C5EA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9CCA8B-9EE5-4B18-B7E7-0C66F206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53920" y="219240"/>
            <a:ext cx="773748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pression for Probability of Error for Binary-FS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D.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, 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2A7-5284-4790-B7D5-F3EDA9225B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1447920"/>
                <a:ext cx="79250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</m:e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llision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93640" y="357012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3951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29000" y="4381560"/>
                <a:ext cx="21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30400" y="51814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29000" y="5638680"/>
                <a:ext cx="21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2438280"/>
                <a:ext cx="246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82000" y="2465280"/>
            <a:ext cx="4367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ortion of interferring energy in desired signal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8600" y="3075120"/>
            <a:ext cx="241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Brick Wall Fil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F52-4DB3-4B54-A63F-0BAD7E1465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9320" y="231300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6938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14680" y="3124080"/>
                <a:ext cx="21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6080" y="3924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28800" y="4419720"/>
                <a:ext cx="5683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47360" y="1893960"/>
            <a:ext cx="4075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3 MHz Wide Impact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EF0-4A57-44B1-A302-10C2D60656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280" y="155088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0520" y="193212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2362320"/>
                <a:ext cx="21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82680" y="316224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3160" y="3733920"/>
                <a:ext cx="6602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C7A-E7F1-4699-8C58-0CF3FDAC3F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62276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800520" cy="236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726000" cy="229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13716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09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9528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57150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92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600" y="342900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066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CB6-CF5F-4AF5-8BD4-FA92AF595A1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5:53:13Z</dcterms:created>
  <dc:creator>Bridget Labrode</dc:creator>
  <dc:description/>
  <dc:language>en-US</dc:language>
  <cp:lastModifiedBy>Bridget Labrode</cp:lastModifiedBy>
  <dcterms:modified xsi:type="dcterms:W3CDTF">1999-07-18T16:12:34Z</dcterms:modified>
  <cp:revision>1</cp:revision>
  <dc:subject/>
  <dc:title>No Slide Title</dc:title>
</cp:coreProperties>
</file>