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8E13FD-67FA-41D6-AE04-E01AE111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580190-E54C-4390-B838-78F2052D5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445-7635-4AD6-A2CA-0ED5265E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FB2-DAA8-4BDF-AD72-19EDB396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C69-C23D-405D-9C4A-5D221BB4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E46-CBF4-42FA-A533-D144EA93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D5C-E0A3-4564-AE95-253C3C1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07C-31F7-4861-AB4A-10E6B888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3A2-CAA0-4B1C-9F01-7910396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3F2-9A50-4247-9237-4322D241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D26-B537-4406-B811-FFEEEB67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AAC-8F73-4B34-B668-3F1A032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CC6-BF7E-4ECA-B3DE-9EB6527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B39-C2DB-4905-BBEC-071561F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44EC31-5C7D-4B0A-B793-8199E317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181160"/>
            <a:ext cx="7772400" cy="307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63504" dir="2216091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15520" y="4259160"/>
            <a:ext cx="5254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Robert F. He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E Technolog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man, IEEE 802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E7E-5895-464D-B1C5-CD6AA43B244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 Project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ed in 1997 as ‘ad hoc’ group within IEEE Portable Applications Standards Committee (PAS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 the time, no other Groups or Standards Bodies dealing with the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8 a Study Group was formed within 802.11 to develop a Project Authorization Request (P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9, IEEE 802.15 Working Group for WPANs establish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A15-FC07-41B0-8F36-2FF363D81A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:  Other Groups Developing Similar Specific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2189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673280" cy="2501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013160" y="457200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4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40680" y="57150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7640" y="53341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120" y="6289560"/>
            <a:ext cx="28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doc.: IEEE 802.11-98/58 (Bob Heile, G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mllieee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98" name=""/>
          <p:cNvGraphicFramePr/>
          <p:nvPr/>
        </p:nvGraphicFramePr>
        <p:xfrm>
          <a:off x="6858000" y="5334120"/>
          <a:ext cx="1447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5334120"/>
                    <a:ext cx="1447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-formed March 4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-formed May 20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A3B-7E24-477D-986F-C7DD93D1B8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uetooth Mission/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lobal specification for wireless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answers the need for short-range wireless connectivity within three are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and Voice access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is a system solution comprising hardware, software and interoperability requirements. The Bluetooth specifications specify the complet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operates in a globally available 2.4 Ghz ISM band, ensuring communication compatibility worldw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5720" y="6240600"/>
            <a:ext cx="161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Bluetooth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AD4-7653-49B6-9B17-02EBF093B9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meRF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sion of the HomeRF Working Group is to enable the existence of a broad range of interoperable consumer devices, by establishing an open industry specification for unlicensed RF digital communications for PCs and consumer devices anywhere, in and around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3320" y="621036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HomeRF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EA2-3EA6-4140-BA68-7BA00C9AC2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4920" y="506160"/>
            <a:ext cx="8072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ny Participation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 of March 1999 in WPAN Relate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96920" y="463392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70040" y="3657600"/>
            <a:ext cx="28382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4 Bluetooth Adopte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7640" y="2057400"/>
            <a:ext cx="1660320" cy="3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 Attend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440" y="373392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82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mllieee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95112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6" name=""/>
          <p:cNvGraphicFramePr/>
          <p:nvPr/>
        </p:nvGraphicFramePr>
        <p:xfrm>
          <a:off x="5943600" y="480060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800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3B6-EDA7-42D7-8CB1-DB2F1BF32B6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5440" y="5486400"/>
            <a:ext cx="65404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um Access Control Sub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791320"/>
            <a:ext cx="6553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 focuses only on the Lower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8400" y="57913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8400" y="52578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0" y="47242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0" y="41911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0" y="36576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0" y="31240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400" y="25909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1360080" y="41680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/OSI Referenc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42900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1432080" cy="115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556272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43800" y="5486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802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1417680" cy="14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504280" y="557064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15200" y="531828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43400" y="380988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80988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B94-4F4A-4EA7-85F3-88651738BD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64960" y="1603440"/>
            <a:ext cx="88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WPAN functional 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n open forum to debate and critiqu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AC and PHY standards for short range embedded wireless networking of PCs, PDAs, peripherals, cell phones, pagers, consumer electronic devices, sensors, actuators, and th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64600" y="603000"/>
            <a:ext cx="879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7FD-7A89-483C-8DC7-1AEB616780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42720" y="19051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closely with and build consensus among groups having an interest in WPANs like Bluetooth, HomeRF, and 802.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Standards that meet the requirements of WPANs and have broad market appe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 effectively with coexistence and interoperability in a shared med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48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8AE-AFD8-4EDE-A6A7-9B786BB8DE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4040" y="88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2600" y="2174760"/>
            <a:ext cx="92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ldwide spectrum allocations for unlicensed bands such as 2.4GH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w Cost: i.e., relative to target dev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mall Size e.g., ~.5 cubic inches( excludes antenna &amp; batter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wer Management: Very Low current consumption (Average 20mw or less @ 10% Tx/Rx loa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1AC-4C43-4101-AD7B-764AC4A134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3040" y="799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 (cont.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22876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or connection-less data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PAN’s in the same area (20 within 400 square f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Systems such as  P802.11 in the sam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Network Acces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E0A-021E-43FF-A7A1-BBFDECC4A6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Wireless Vi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Market Need/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Proj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ECC-FD3B-4084-9517-2B14A69EA5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4784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: 0-10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ing support for a minimum of 16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: within one (1) second, once withi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or Gateway connectivity to other dat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4A8-B475-4664-B0CE-B92B7C926C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ed Data Throughput at the MAC SAP: (19.2 - 100) kbit/s (actual 1 device to 1 dev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evices within a WPAN must be able to communicate with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QoS to support a variety of traff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 or connection-oriented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65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A7C-910D-4C5F-AF09-CBD55D5590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C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812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element of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: hand-off to another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901-812B-47D9-AC40-C350A4FDB8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398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4 - Full Compliance to the 802.11 MAC &amp; PHY P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lass 3 - Partial Interoperability: there is a way on the medium to exchange data without an intermediate de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a Transmit and Rece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b Receive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c Detect Ener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2 - Bridge-like (1 MAC/2 PHY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1 - Gateway-like (&gt; 1 MA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0 - Non Interop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7CB-4BC6-4192-8417-F5B882D749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oexistence/Interoperability Continuu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6320" y="1733400"/>
            <a:ext cx="8684640" cy="4743720"/>
            <a:chOff x="76320" y="1733400"/>
            <a:chExt cx="8684640" cy="4743720"/>
          </a:xfrm>
        </p:grpSpPr>
        <p:sp>
          <p:nvSpPr>
            <p:cNvPr id="161" name=""/>
            <p:cNvSpPr/>
            <p:nvPr/>
          </p:nvSpPr>
          <p:spPr>
            <a:xfrm>
              <a:off x="3352680" y="1905120"/>
              <a:ext cx="17640" cy="4410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3000" y="510840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ckground White noi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3000" y="5367240"/>
              <a:ext cx="453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427560" y="1733400"/>
              <a:ext cx="3187440" cy="458280"/>
              <a:chOff x="3427560" y="1733400"/>
              <a:chExt cx="3187440" cy="4582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53200" y="1733400"/>
                <a:ext cx="216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ull compli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7560" y="1998720"/>
                <a:ext cx="9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395960" y="5649840"/>
              <a:ext cx="31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ructive 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gnificant Degra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79560" y="1947960"/>
              <a:ext cx="0" cy="315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320" y="3657600"/>
              <a:ext cx="1638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600" y="3703680"/>
              <a:ext cx="164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48240" y="2833560"/>
              <a:ext cx="30128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1800" y="2581200"/>
              <a:ext cx="299844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ptable to 802.1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3120" y="396864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43320" y="3713040"/>
              <a:ext cx="284328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 proposal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4440" y="3241800"/>
              <a:ext cx="0" cy="145548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09800" y="526572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2040" y="5565600"/>
              <a:ext cx="176256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74560" y="518148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70160" y="194796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6040" y="2362320"/>
              <a:ext cx="220284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op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523160" y="3809880"/>
              <a:ext cx="1456200" cy="1371600"/>
              <a:chOff x="1523160" y="3809880"/>
              <a:chExt cx="1456200" cy="137160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0160" y="380988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23160" y="4091040"/>
                <a:ext cx="1456200" cy="96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tr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iquet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52440" y="3022560"/>
              <a:ext cx="6254640" cy="652680"/>
              <a:chOff x="352440" y="3022560"/>
              <a:chExt cx="6254640" cy="652680"/>
            </a:xfrm>
          </p:grpSpPr>
          <p:sp>
            <p:nvSpPr>
              <p:cNvPr id="185" name=""/>
              <p:cNvSpPr/>
              <p:nvPr/>
            </p:nvSpPr>
            <p:spPr>
              <a:xfrm>
                <a:off x="3867120" y="3349800"/>
                <a:ext cx="2739960" cy="0"/>
              </a:xfrm>
              <a:prstGeom prst="line">
                <a:avLst/>
              </a:prstGeom>
              <a:ln w="25560">
                <a:solidFill>
                  <a:srgbClr val="ff00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2440" y="3022560"/>
                <a:ext cx="3786120" cy="65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236840" y="3139920"/>
              <a:ext cx="305316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nsfer cap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19320" y="175248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3360" y="2241720"/>
              <a:ext cx="1227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31200" y="5257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84440" y="5889600"/>
              <a:ext cx="45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6320" y="3200400"/>
              <a:ext cx="113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WPAN GO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2057400"/>
              <a:ext cx="0" cy="14558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5D5-7CED-444F-84F0-C0E616ED2C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-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osed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Liai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9392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Radio Frequency Working Group (HRFW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 (Ir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/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SI Broadband Radio Access Networks (BRAN)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ngineering Task Force (IETF), Mobile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Forum Wireless ATM (WATM)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LAN Alliance (WL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C38-3B6D-4F3E-B87F-2B25D904A4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72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 802.15 WPAN Requirements with 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3920" y="3782880"/>
            <a:ext cx="157788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9400" y="3728880"/>
            <a:ext cx="1725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. 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78120" y="3782880"/>
            <a:ext cx="163656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8160" y="3728880"/>
            <a:ext cx="17132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37080" y="3782880"/>
            <a:ext cx="73800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57520" y="4137120"/>
            <a:ext cx="8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-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77840" y="3497400"/>
            <a:ext cx="5059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428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6800" y="3352680"/>
            <a:ext cx="0" cy="14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3524400"/>
            <a:ext cx="0" cy="23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19440" y="3532320"/>
            <a:ext cx="0" cy="2397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120" y="5259240"/>
            <a:ext cx="7984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092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30280" y="5259240"/>
            <a:ext cx="8002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5224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37080" y="5259240"/>
            <a:ext cx="73800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28800" y="5256360"/>
            <a:ext cx="753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800" y="5883120"/>
            <a:ext cx="2630520" cy="2750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=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532320"/>
            <a:ext cx="0" cy="247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3260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8920" y="3782880"/>
            <a:ext cx="103680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27520" y="3782880"/>
            <a:ext cx="109872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02240" y="5259240"/>
            <a:ext cx="852480" cy="533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2760" y="5259240"/>
            <a:ext cx="798480" cy="776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378000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3780000"/>
            <a:ext cx="1138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5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38880" y="5245200"/>
            <a:ext cx="860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&amp; 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19760" y="5262480"/>
            <a:ext cx="79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-12-18...54 Mbit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1440" y="2435400"/>
            <a:ext cx="6483240" cy="9205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596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708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70840" y="373392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468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616120"/>
            <a:ext cx="1676520" cy="536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6932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2CF-CA53-4237-A13C-8BECFD965B9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854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WPAN Timeline Compared to Other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60080" y="463716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001000" y="2133720"/>
            <a:ext cx="947520" cy="1018440"/>
            <a:chOff x="8001000" y="2133720"/>
            <a:chExt cx="947520" cy="1018440"/>
          </a:xfrm>
        </p:grpSpPr>
        <p:pic>
          <p:nvPicPr>
            <p:cNvPr id="305" name="802" descr=""/>
            <p:cNvPicPr/>
            <p:nvPr/>
          </p:nvPicPr>
          <p:blipFill>
            <a:blip r:embed="rId3"/>
            <a:stretch/>
          </p:blipFill>
          <p:spPr>
            <a:xfrm>
              <a:off x="8001000" y="2133720"/>
              <a:ext cx="94752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8148960" y="28450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3886200" y="2514600"/>
          <a:ext cx="23623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514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55008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677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0640" y="51832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73880" y="500688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Draft of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03920" y="518940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5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364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47C-19E1-40D3-BBDF-BEB9386426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should be written between the two eleph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10800">
            <a:off x="-55800" y="41702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7150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505320"/>
            <a:ext cx="6553080" cy="2209680"/>
          </a:xfrm>
          <a:custGeom>
            <a:avLst/>
            <a:gdLst/>
            <a:ahLst/>
            <a:rect l="l" t="t" r="r" b="b"/>
            <a:pathLst>
              <a:path w="4128" h="1392">
                <a:moveTo>
                  <a:pt x="0" y="1392"/>
                </a:moveTo>
                <a:cubicBezTo>
                  <a:pt x="516" y="816"/>
                  <a:pt x="1032" y="240"/>
                  <a:pt x="1392" y="144"/>
                </a:cubicBezTo>
                <a:cubicBezTo>
                  <a:pt x="1752" y="48"/>
                  <a:pt x="1904" y="824"/>
                  <a:pt x="2160" y="816"/>
                </a:cubicBezTo>
                <a:cubicBezTo>
                  <a:pt x="2416" y="808"/>
                  <a:pt x="2600" y="0"/>
                  <a:pt x="2928" y="96"/>
                </a:cubicBezTo>
                <a:cubicBezTo>
                  <a:pt x="3256" y="192"/>
                  <a:pt x="3928" y="1176"/>
                  <a:pt x="4128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67600" y="396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3600" y="396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9040" y="3314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75120" y="5791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0200" y="6289560"/>
            <a:ext cx="337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“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pocalypse of the two Elephants”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avid Clark, 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3670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597040" y="4389480"/>
            <a:ext cx="1060560" cy="1249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959360" y="4389480"/>
            <a:ext cx="10605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3364560" y="2362320"/>
            <a:ext cx="596880" cy="3517920"/>
            <a:chOff x="3364560" y="2362320"/>
            <a:chExt cx="596880" cy="3517920"/>
          </a:xfrm>
        </p:grpSpPr>
        <p:sp>
          <p:nvSpPr>
            <p:cNvPr id="330" name=""/>
            <p:cNvSpPr/>
            <p:nvPr/>
          </p:nvSpPr>
          <p:spPr>
            <a:xfrm>
              <a:off x="3683160" y="2679840"/>
              <a:ext cx="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64560" y="2362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964760" y="2362320"/>
            <a:ext cx="596880" cy="3517920"/>
            <a:chOff x="4964760" y="2362320"/>
            <a:chExt cx="596880" cy="3517920"/>
          </a:xfrm>
        </p:grpSpPr>
        <p:sp>
          <p:nvSpPr>
            <p:cNvPr id="333" name=""/>
            <p:cNvSpPr/>
            <p:nvPr/>
          </p:nvSpPr>
          <p:spPr>
            <a:xfrm>
              <a:off x="5283360" y="2679840"/>
              <a:ext cx="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4760" y="2362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039200" y="2362320"/>
            <a:ext cx="596880" cy="3517920"/>
            <a:chOff x="4039200" y="2362320"/>
            <a:chExt cx="596880" cy="3517920"/>
          </a:xfrm>
        </p:grpSpPr>
        <p:sp>
          <p:nvSpPr>
            <p:cNvPr id="336" name=""/>
            <p:cNvSpPr/>
            <p:nvPr/>
          </p:nvSpPr>
          <p:spPr>
            <a:xfrm>
              <a:off x="4357800" y="2679840"/>
              <a:ext cx="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9200" y="2362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157-5050-472D-AB62-5FB2F35BBFC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orking Group for WPANs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82240" y="1752480"/>
            <a:ext cx="88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ed to develop PAN standards for short distance wireless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zant of emerging industry specifications and the importance of building on the work of thes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role in providing an open forum to debate these proposals, identify issues, and build cons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create standards having broad market appeal and deal effectively with coexistence and interope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frame for first standard is November,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307-A5AC-48D8-AF2C-AC4CFC2573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EEE 802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3000" y="171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Bas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Frequency Hopping Spread Spectrum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Direct Sequence Spread Spectrum (2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a 5GHz Extension (&gt;20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2.4GHz Extension (&gt;8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 Wireless Personal Area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6 Broadband Wireless LANs (L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56272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6960" y="6289560"/>
            <a:ext cx="75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Jim Carlo, 802 Chair [JC-802-Consortium.PDF] can be downloaded from the following URL: ftp://ftp.flexipc.com/wearablesgroup/80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156-D3C2-407B-AF84-C8141AFD56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5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D5D-3467-4F55-916B-B29C10245E31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-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8F6-6874-44F3-899D-BC7A7B7720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nterconnect portable computers and/or devices like peripherals and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evices may be carried or worn by a person and/or may be located near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/Office computers, printers,  phones, LANs, GPS or other car resources can be connected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: The 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CC3-2881-4283-9512-D204BB0F6E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res are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in th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misconn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66A-0C93-4BB6-81C2-D8D377D5D3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9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ho carry a watch, pager, cell phone, PDA, and personal stereo have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npu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icro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long range communications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6E5-8360-46D6-940C-1B43A381CD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necessary Duplic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I/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0B4-D5B9-4E0C-A573-449F96EBC4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3808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ffective and efficient embedded wireless connectivity for devices within an area of about 10 meters of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ea is defined as a Personal Area Network (P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N is the next domain in the WAN-MAN-LAN hierarc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578-A277-4BCF-B1C5-C54B796674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369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Vi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79916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um of needs for wireless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product which can fill al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of complementar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49200" y="2666880"/>
            <a:ext cx="65739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8960" y="1930320"/>
            <a:ext cx="80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080" y="191628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26920" y="1930320"/>
            <a:ext cx="107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236232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77840" y="1219320"/>
          <a:ext cx="6745320" cy="357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9320"/>
                    <a:ext cx="67453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222960" y="1674720"/>
            <a:ext cx="224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267080"/>
            <a:ext cx="2463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014-3DE8-4853-AB46-F062540F22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8:44:56Z</dcterms:created>
  <dc:creator>GTE Internetworking</dc:creator>
  <dc:description>Ian Gifford, M/A-COM</dc:description>
  <dc:language>en-US</dc:language>
  <cp:lastModifiedBy>GTE Internetworking</cp:lastModifiedBy>
  <cp:lastPrinted>1999-04-26T19:47:02Z</cp:lastPrinted>
  <dcterms:modified xsi:type="dcterms:W3CDTF">1999-05-25T18:16:10Z</dcterms:modified>
  <cp:revision>6</cp:revision>
  <dc:subject>doc.: IEEE 802.11-99/055r1</dc:subject>
  <dc:title>802.15 Working Group for  Wireless Personal Area Networks </dc:title>
</cp:coreProperties>
</file>