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6E5-DE78-4A6A-8AB2-1602EE67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9C5-EEA9-45B1-A846-8EA08802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663-DE92-4319-85D9-74F13224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CD2-923F-4A53-A650-7798DFB6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7D1-872F-42FE-B39C-DD97594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9EF-78F7-4391-8108-7AE87FE9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53F-CFB2-405F-A58F-A77DD23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55B-5AF2-4F13-B067-B96DC1D2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F15-C6D6-43B8-8144-BAAB3B61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0A7-0DE3-415C-9DA3-13FEAB75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DF4-C0EE-497B-AA17-0D7CAD7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799-C40C-4189-8224-98C424C7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5328D6-9829-43D7-B796-A4F6F2CA1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Functional Organization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F27-15F0-4224-A9E6-3725CA6518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TG1 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be FrameMaker v5.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 in Technical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2200" y="2116080"/>
          <a:ext cx="8491680" cy="16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116080"/>
                    <a:ext cx="849168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553080" y="1600200"/>
            <a:ext cx="1981440" cy="990720"/>
          </a:xfrm>
          <a:prstGeom prst="wedgeRectCallout">
            <a:avLst>
              <a:gd name="adj1" fmla="val -62259"/>
              <a:gd name="adj2" fmla="val 13669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help in wr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MAC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629400" y="4191120"/>
            <a:ext cx="2133720" cy="1218960"/>
          </a:xfrm>
          <a:prstGeom prst="wedgeRectCallout">
            <a:avLst>
              <a:gd name="adj1" fmla="val -48662"/>
              <a:gd name="adj2" fmla="val 100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HY Lay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be  folded into 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yer Editor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67280"/>
            <a:ext cx="822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want to help please talk to Tom Siep &lt;siep@ti.co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18D-DE90-41CE-8A5D-12C2292F8E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802.15 Functional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Functional Organization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-IEEE Editorial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175-BC22-4906-AB8A-7DF542D86D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720" y="1857240"/>
            <a:ext cx="82360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699-C566-4C3B-9F59-64A3F70D12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16120" y="1522440"/>
          <a:ext cx="75643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5224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795-2E34-4915-97BC-20BE24370A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480" y="2738520"/>
          <a:ext cx="88930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738520"/>
                    <a:ext cx="88930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94A-056C-4D05-9FF5-5106E5A3EF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CFE-ACC8-4FBE-8C48-A09F2C88AD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40120" y="2517840"/>
          <a:ext cx="424368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517840"/>
                    <a:ext cx="42436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2960" y="2516040"/>
          <a:ext cx="3357720" cy="19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960" y="2516040"/>
                    <a:ext cx="335772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181-A994-478B-B881-BA1D32D21D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1000" y="2066760"/>
          <a:ext cx="6638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2066760"/>
                    <a:ext cx="6638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81480" y="3925800"/>
            <a:ext cx="1051200" cy="2551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8040" y="59245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040" y="552600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049720"/>
            <a:ext cx="80496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64976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24980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5128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4513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5029200"/>
            <a:ext cx="1905120" cy="9144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324480" y="3581280"/>
            <a:ext cx="2175120" cy="1719360"/>
            <a:chOff x="6324480" y="3581280"/>
            <a:chExt cx="2175120" cy="1719360"/>
          </a:xfrm>
        </p:grpSpPr>
        <p:sp>
          <p:nvSpPr>
            <p:cNvPr id="81" name=""/>
            <p:cNvSpPr/>
            <p:nvPr/>
          </p:nvSpPr>
          <p:spPr>
            <a:xfrm>
              <a:off x="6324480" y="3581280"/>
              <a:ext cx="2175120" cy="1719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4800" y="3868920"/>
              <a:ext cx="16174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A Radio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B Baseband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C Link Manager Proto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D L2CA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Bluetooth%20logo%20(tm)" descr=""/>
          <p:cNvPicPr/>
          <p:nvPr/>
        </p:nvPicPr>
        <p:blipFill>
          <a:blip r:embed="rId4"/>
          <a:stretch/>
        </p:blipFill>
        <p:spPr>
          <a:xfrm>
            <a:off x="5959440" y="579132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2F6-FAED-4BB7-9837-47F927741D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Thoughts on Tim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743200"/>
          <a:ext cx="849780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49780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D57-9BFD-4315-9362-DC3B051C86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3:26:07Z</dcterms:created>
  <dc:creator>Tom Siep</dc:creator>
  <dc:description>075r0</dc:description>
  <dc:language>en-US</dc:language>
  <cp:lastModifiedBy>Tom Siep</cp:lastModifiedBy>
  <cp:lastPrinted>1998-02-10T13:28:06Z</cp:lastPrinted>
  <dcterms:modified xsi:type="dcterms:W3CDTF">1999-09-14T20:09:30Z</dcterms:modified>
  <cp:revision>11</cp:revision>
  <dc:subject>IEEE 802.15 Functional Organization/Recruitment</dc:subject>
  <dc:title>IEEE P802.15 Working Group for Wireless Personal Area Networks</dc:title>
</cp:coreProperties>
</file>