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502390-97C5-4DB0-93BA-FA6FE2A5D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9776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9632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37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49BEFB8-EDDC-4AF4-BD23-DE812A734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8476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4760" y="8729640"/>
            <a:ext cx="2973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729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2960" y="4363920"/>
            <a:ext cx="50306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141560" y="696960"/>
            <a:ext cx="4576680" cy="3432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1F4-5E0D-4F53-B68F-B0D6BB30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34C-BE85-4E1F-8CEA-EEBFB085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B8DC-B7BC-4AA9-872C-17B17E9A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B0E-6331-4441-8E54-00C563AC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73B-E918-46C0-BA7D-ACD09E1C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186-D4C3-4CEB-969C-83595849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D15-BD46-4A10-8F27-D94AAB69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64D-E4D3-45C1-91A0-32C059FD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1A9-8727-45DF-B424-BC6AB516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BD9-22BD-44FC-AC33-C8338692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B81-14C2-4875-AADF-E4864081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DF7-EA01-47B5-8555-C04B4061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7F2957C-7EEA-4934-96B6-316C3FEB0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March 10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 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4257720" y="1143000"/>
            <a:ext cx="62856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34B-522C-4317-81F7-1E673DBE4F2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 6 under Addit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hange as follows: A Personal Operating Space (POS) is the space about a pers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 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typically extends up to 10 meters in all directions and envelops the person whether stationary or in motion. Reason: Clarification of int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E41-532B-4E6E-BF47-552DFEE66EE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ove to approve the WPAN PAR “Rev 9” -98/162r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8B6-F5BB-4176-AC44-2F1B385D58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ove that the 802.11 WLAN Working Group recommends that The Executive Committee of 802 submit the WPAN PAR “Rev 9” -98/162r9 amended to NesCOM for appro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./Greg 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: 36/0/7, P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E5E-BDF4-4F76-BC38-675ADEAB97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802.11 WLAN Group recommends that The Executive Committee of 802 establish a new Working Group for Wireless Personal Area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C49-1C37-404B-BA44-4C0588D245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ftp://ftp.flexipc.com/wearablesgroup/Index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ftp://ftp.flexipc.com/wearablesgrou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grouper.ieee.org/groups/802/11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562720"/>
            <a:ext cx="762012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new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77680" cy="339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099-FB29-4905-AFA4-A229978858D5}" type="slidenum">
              <a:t>1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&amp; Backgro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resolution of WPAN PAR -98/162r8 &amp; Five Criteria -98/161r5 and submission to ExCom and Nes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Leadership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Updates and Futur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030-9C93-472E-A289-B0F8E73DE7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/PA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PAN Study Group respectfully submits, for approval, Rev 9 of the PAR and Rev 5 of the 5 Criteria for Wireless Personal Area Networks and recommends the formation of a separate Working Group under 802 that would include all PAN-related standards activ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tivation to create a Working Group is to independently consider technologically acceptable approaches that have broad market appeal.  We believe this is more efficiently and effectively done as a peer of 802.11 rather than as a Task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DC99-BC51-432E-9C75-1B67F521F7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/PA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coexistence and effective use of a shared medium is so critical to success, the WPAN Study Group suggests that the new WPAN Working Group keep very close ties with 802.11 including joint interactive meetings whenever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ision to recommend the formation of a Working Group rather than a Task Group under 802.11 required the Study Group to modify Rev8 of the WPAN PAR in the following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102-950A-4343-BAD5-33D5E43F98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ame of WG:  Change from ‘WPAN Study Group’ to ‘Sponsor:  IEEE 802.11 WG for WLAN, Proposed Working Group:  IEEE 802.xx WG for Wireless Personal Area Networks”   Reason: greater c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nge Name of Reporter and supporting info from Vic Hayes To Bob Heile.   Reason: reflects change of recommendation from TG to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F2D-684B-4120-ADB5-C36BCE6852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me of WG Chair.  Add Vic Hayes.  Reason: no longer same as Repor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 5b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hange from Supplement to New Standard. Reason:  reflects change of recommendation from TG to W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 5c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 7 Change from Trial Use to Full Use. Reason: clerical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317-E6BC-4435-A27A-00FDD3BB6E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M 6:  Change Scope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“[To define derivative versions of the 802.11 PHY and MAC specifications for wireless connectivity with fixed, portable and moving devices within or entering a Personal Operating Space (POS).  A goal of the WPAN Group will be to achieve a level of interoperability (see –99/5) sufficient to transfer data between a WPAN device and an 802.11 device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802.11 PHY and MAC have been reviewed to determine their suitability to meet the Functional Requirements of the WPAN Applications as specified in IEEE documents –98/295-298 and –98/352.  Detailed suggestions on proposed changes to the IEEE 802.11 MAC &amp; PHY Standard have been reported in documents –98/322r2, 323, 324.]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6BE-1AE4-43AA-AC48-D2D2EBEA76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M 6:  Change Scop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[To define PHY and MAC specifications for wireless connectivity with fixed, portable and moving devices within or entering a Personal Operating Space (POS).  A goal of the WPAN Group will be to achieve a level of interoperability (see –99/5) sufficient to transfer data between a WPAN device and an 802.11 device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802.11 PHY and MA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ndard h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en reviewed to determin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itability to meet the Functional Requirements of the WPAN Applications as specified in IEEE documents –98/295-298 and –98/352.  Detailed suggestions on proposed changes to the IEEE 802.11 MAC &amp; PHY Standard have been reported in documents –98/322r2, 323, 324.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: reflects change of recommendation from TG to W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B98-6412-47F9-B23F-6648536489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 7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rop word “supplemental”. Reason: reflects change of recommendation from TG to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 9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 following footnote “These groups are not standards organizations, but they have similar charters and the Working Group intends to establish liaisons with these groups as appropriate.” Reason: clarification and in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 12b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 “[ISO/IEC JTC1/SC6] by [DR]”.  Reason: clerical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BF8-AFD7-4FB1-973E-3386C0C422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Ian Gifford</dc:creator>
  <dc:description>Ian Gifford, M/A-COM</dc:description>
  <dc:language>en-US</dc:language>
  <cp:lastModifiedBy>Ian C. Gifford</cp:lastModifiedBy>
  <cp:lastPrinted>1999-03-08T22:00:07Z</cp:lastPrinted>
  <dcterms:modified xsi:type="dcterms:W3CDTF">1999-03-10T23:21:50Z</dcterms:modified>
  <cp:revision>48</cp:revision>
  <dc:subject>doc.: IEEE 802.11-99/056</dc:subject>
  <dc:title>WPAN SG WG Report</dc:title>
</cp:coreProperties>
</file>