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80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1440" y="4714560"/>
            <a:ext cx="495756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EAAFDA-B6BF-4BE5-8820-C9D020C9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ABED06-E54F-44FB-989B-5A2D3E541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1440" y="5268960"/>
            <a:ext cx="495756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tooth%20pick%20only%20-%20400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23880" y="166680"/>
            <a:ext cx="6096240" cy="60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IEEE 802.15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September 11 - 17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6369120"/>
            <a:ext cx="609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F435-9B37-4AA0-BF2D-4B7923953114}" type="slidenum">
              <a:rPr b="1" lang="en-U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luetooth%20logo%20(tm)" descr=""/>
          <p:cNvPicPr/>
          <p:nvPr/>
        </p:nvPicPr>
        <p:blipFill>
          <a:blip r:embed="rId3"/>
          <a:stretch/>
        </p:blipFill>
        <p:spPr>
          <a:xfrm>
            <a:off x="609480" y="6327720"/>
            <a:ext cx="175284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ore Common Bluetooth Interfaces needed 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rivers for common interfac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eded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tandard RF/BB Interface driver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endor-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F-architecture 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pin cou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uture proofnes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40040" y="1731960"/>
            <a:ext cx="5927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92640" y="150840"/>
            <a:ext cx="24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Module: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-Chips: RF ASIC, BB ASIC, Flas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ze: &lt; 500 mm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incl. Crystal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Height: 2 m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pletely shielde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ower supply: 3.0 .. 5.2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terfacing: 1.8 .. 3.3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Architectu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aditional high-IF RF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W oriented BB architect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W Block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68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99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1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07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09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15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18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 Pa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2030400" y="13320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2920" y="30481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12920" y="3047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12920" y="41148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4000" y="19652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778200" y="2108160"/>
            <a:ext cx="415440" cy="1381320"/>
            <a:chOff x="3778200" y="2108160"/>
            <a:chExt cx="415440" cy="1381320"/>
          </a:xfrm>
        </p:grpSpPr>
        <p:sp>
          <p:nvSpPr>
            <p:cNvPr id="127" name=""/>
            <p:cNvSpPr/>
            <p:nvPr/>
          </p:nvSpPr>
          <p:spPr>
            <a:xfrm>
              <a:off x="377820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892320" y="21081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2320" y="21081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031280" y="22528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312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78200" y="34876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657680" y="2108160"/>
            <a:ext cx="415440" cy="1381320"/>
            <a:chOff x="4657680" y="2108160"/>
            <a:chExt cx="415440" cy="1381320"/>
          </a:xfrm>
        </p:grpSpPr>
        <p:sp>
          <p:nvSpPr>
            <p:cNvPr id="134" name=""/>
            <p:cNvSpPr/>
            <p:nvPr/>
          </p:nvSpPr>
          <p:spPr>
            <a:xfrm flipH="1">
              <a:off x="495828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958640" y="21081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657680" y="21081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19680" y="22528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6576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819680" y="34876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64200" y="2006640"/>
            <a:ext cx="323280" cy="328680"/>
            <a:chOff x="4264200" y="2006640"/>
            <a:chExt cx="323280" cy="328680"/>
          </a:xfrm>
        </p:grpSpPr>
        <p:sp>
          <p:nvSpPr>
            <p:cNvPr id="141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80480" y="22525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380480" y="20271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621400" y="19652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1440" y="237636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2320" y="21686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75200" y="22129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2160" y="20638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2160" y="22078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686560" y="2043360"/>
            <a:ext cx="144360" cy="271080"/>
            <a:chOff x="5686560" y="2043360"/>
            <a:chExt cx="144360" cy="271080"/>
          </a:xfrm>
        </p:grpSpPr>
        <p:sp>
          <p:nvSpPr>
            <p:cNvPr id="156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16080" y="15638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8240" y="13795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487160" y="53341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84040" y="152388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3240" y="541008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5360" y="277164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5360" y="36147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665360" y="2771640"/>
            <a:ext cx="1206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771640"/>
            <a:ext cx="11772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3800" y="340668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3614760"/>
            <a:ext cx="230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57480" y="3406680"/>
            <a:ext cx="472680" cy="417600"/>
            <a:chOff x="2157480" y="3406680"/>
            <a:chExt cx="472680" cy="417600"/>
          </a:xfrm>
        </p:grpSpPr>
        <p:sp>
          <p:nvSpPr>
            <p:cNvPr id="180" name=""/>
            <p:cNvSpPr/>
            <p:nvPr/>
          </p:nvSpPr>
          <p:spPr>
            <a:xfrm>
              <a:off x="2157480" y="3406680"/>
              <a:ext cx="472680" cy="41760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221200" y="3459240"/>
              <a:ext cx="324720" cy="326880"/>
              <a:chOff x="2221200" y="3459240"/>
              <a:chExt cx="324720" cy="326880"/>
            </a:xfrm>
          </p:grpSpPr>
          <p:sp>
            <p:nvSpPr>
              <p:cNvPr id="182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2337120" y="3704760"/>
                <a:ext cx="110160" cy="58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2337120" y="3477960"/>
                <a:ext cx="110160" cy="601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2908800" y="354636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7800" y="2438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1160" y="2535120"/>
            <a:ext cx="3578040" cy="226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25416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3320" y="27432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93000" y="5105520"/>
            <a:ext cx="472680" cy="419040"/>
            <a:chOff x="4293000" y="5105520"/>
            <a:chExt cx="472680" cy="419040"/>
          </a:xfrm>
        </p:grpSpPr>
        <p:sp>
          <p:nvSpPr>
            <p:cNvPr id="196" name=""/>
            <p:cNvSpPr/>
            <p:nvPr/>
          </p:nvSpPr>
          <p:spPr>
            <a:xfrm rot="5400000">
              <a:off x="4319640" y="50785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4460040" y="52747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24560" y="52293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440240" y="52293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26000" y="53323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348800" y="53323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37832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28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06960" y="55627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86388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65680" y="51055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21280" y="53118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21280" y="53532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1120" y="52102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991120" y="53532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735520" y="5186160"/>
            <a:ext cx="145080" cy="271440"/>
            <a:chOff x="5735520" y="5186160"/>
            <a:chExt cx="145080" cy="271440"/>
          </a:xfrm>
        </p:grpSpPr>
        <p:sp>
          <p:nvSpPr>
            <p:cNvPr id="212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751360" y="4800600"/>
            <a:ext cx="180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4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2560" y="55627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20080" y="332568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094520" y="289548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42520" y="26146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42880" y="30481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28480" y="34527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593120" y="28195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74040" y="3249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87640" y="29336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87640" y="33764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62680" y="39099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59600" y="37306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59600" y="41911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51480" y="21938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/BB Interfac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Baseband ASIC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Chip pack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RM7 @ 13 MHz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32 kHz Sleep clock oscillato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level (MIPS consuming) protocols in HW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ntral buffer RAM (no dedicated buffer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19080" y="12081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aseband ASIC - Block Diagra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1192320" y="30337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75120"/>
            <a:ext cx="1433520" cy="8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6240" y="487044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256536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57960" y="143028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37080" y="27194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78560" y="34290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9280" y="50594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35863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4680" y="32497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640" y="54864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0" y="4710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3680" y="5164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5812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74800" y="32446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05040" y="54990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74800" y="51624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27440" y="3902040"/>
            <a:ext cx="293400" cy="983880"/>
            <a:chOff x="3727440" y="3902040"/>
            <a:chExt cx="293400" cy="983880"/>
          </a:xfrm>
        </p:grpSpPr>
        <p:sp>
          <p:nvSpPr>
            <p:cNvPr id="264" name=""/>
            <p:cNvSpPr/>
            <p:nvPr/>
          </p:nvSpPr>
          <p:spPr>
            <a:xfrm>
              <a:off x="37274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208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686480" y="28987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86480" y="30891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86480" y="34830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6480" y="367344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67400" y="51595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67400" y="53499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96160" y="3943440"/>
            <a:ext cx="511200" cy="177840"/>
            <a:chOff x="6896160" y="3943440"/>
            <a:chExt cx="511200" cy="177840"/>
          </a:xfrm>
        </p:grpSpPr>
        <p:sp>
          <p:nvSpPr>
            <p:cNvPr id="273" name=""/>
            <p:cNvSpPr/>
            <p:nvPr/>
          </p:nvSpPr>
          <p:spPr>
            <a:xfrm>
              <a:off x="6896160" y="39434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6160" y="41212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948280" y="2225520"/>
            <a:ext cx="473040" cy="486000"/>
          </a:xfrm>
          <a:prstGeom prst="upDownArrow">
            <a:avLst>
              <a:gd name="adj1" fmla="val 50000"/>
              <a:gd name="adj2" fmla="val 204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00480" y="460008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22480" y="42116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0160" y="275904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1440" y="4626000"/>
            <a:ext cx="276120" cy="24912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47960" y="39736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415360" y="3951360"/>
            <a:ext cx="511200" cy="177840"/>
            <a:chOff x="8415360" y="3951360"/>
            <a:chExt cx="511200" cy="177840"/>
          </a:xfrm>
        </p:grpSpPr>
        <p:sp>
          <p:nvSpPr>
            <p:cNvPr id="282" name=""/>
            <p:cNvSpPr/>
            <p:nvPr/>
          </p:nvSpPr>
          <p:spPr>
            <a:xfrm>
              <a:off x="8415360" y="39513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15360" y="41292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3:49:30Z</dcterms:created>
  <dc:creator>Ericsson User</dc:creator>
  <dc:description/>
  <dc:language>en-US</dc:language>
  <cp:lastModifiedBy>thmuller</cp:lastModifiedBy>
  <cp:lastPrinted>1999-09-06T11:06:15Z</cp:lastPrinted>
  <dcterms:modified xsi:type="dcterms:W3CDTF">1999-09-07T15:31:21Z</dcterms:modified>
  <cp:revision>41</cp:revision>
  <dc:subject/>
  <dc:title>No Slide Title</dc:title>
</cp:coreProperties>
</file>