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EC629-F274-469F-AF71-5A459D7E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DE1C-985C-4C41-9508-E7BCC4E3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F9D51-627D-4108-AA13-5D8C7ECC8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B1AA6-E2F9-4988-BE85-C4F460502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2713-6257-42E3-9CA5-BFCDFA662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487AF-51DC-41A1-82BA-EAFE5691B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D482-D410-4281-AB8A-9764C177A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42B7-B4FA-4B80-85F8-F04CFAFE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CC14-9AE0-4451-BEB5-975FAED1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17FB-BA80-4C76-8C76-ABCDE493C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F2BB-085E-40C4-B55C-F20DED8F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18A5-B55F-4539-BFB3-14B95FFE6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FD4716-00F2-48E9-B25F-A754224D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FCA4687-4E77-4D89-8618-541E72123E5A}"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3040" y="80028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3" name=""/>
          <p:cNvSpPr/>
          <p:nvPr/>
        </p:nvSpPr>
        <p:spPr>
          <a:xfrm>
            <a:off x="533520" y="2228760"/>
            <a:ext cx="8362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AD87246-D595-49A7-A956-F2F8F5CB96AA}"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47840"/>
            <a:ext cx="8763120" cy="28195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6" name=""/>
          <p:cNvSpPr/>
          <p:nvPr/>
        </p:nvSpPr>
        <p:spPr>
          <a:xfrm>
            <a:off x="609480" y="10666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10A9786-CB71-4A89-A52D-7652349C16E8}"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9" name=""/>
          <p:cNvSpPr/>
          <p:nvPr/>
        </p:nvSpPr>
        <p:spPr>
          <a:xfrm>
            <a:off x="738360" y="81756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548A75F-48C8-44D4-91DE-49146C67071D}"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2" name=""/>
          <p:cNvSpPr/>
          <p:nvPr/>
        </p:nvSpPr>
        <p:spPr>
          <a:xfrm>
            <a:off x="781200" y="234324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AB9089E-2B10-4F75-BDDC-F5D3DAA92B55}" type="slidenum">
              <a:t>1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8B387B7-835F-4433-9BDC-9ADB6F77A3D0}"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Spec-June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Spec Dec 98/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SG--</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C395DF2-F458-4CCE-B8D9-66B92B123F63}"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2A46BA7D-C61C-4EE8-98B9-69A1609D66B4}" type="slidenum">
              <a:t>1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112" name=""/>
          <p:cNvGrpSpPr/>
          <p:nvPr/>
        </p:nvGrpSpPr>
        <p:grpSpPr>
          <a:xfrm>
            <a:off x="339840" y="3376440"/>
            <a:ext cx="8559000" cy="801720"/>
            <a:chOff x="339840" y="3376440"/>
            <a:chExt cx="8559000" cy="801720"/>
          </a:xfrm>
        </p:grpSpPr>
        <p:sp>
          <p:nvSpPr>
            <p:cNvPr id="113"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4"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5"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6"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7"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19"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339840" y="5041800"/>
            <a:ext cx="8229600" cy="801720"/>
            <a:chOff x="339840" y="5041800"/>
            <a:chExt cx="8229600" cy="801720"/>
          </a:xfrm>
        </p:grpSpPr>
        <p:sp>
          <p:nvSpPr>
            <p:cNvPr id="121"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22"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23"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4"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5"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6"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28"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29" name=""/>
          <p:cNvGrpSpPr/>
          <p:nvPr/>
        </p:nvGrpSpPr>
        <p:grpSpPr>
          <a:xfrm>
            <a:off x="339840" y="2563920"/>
            <a:ext cx="8424360" cy="801720"/>
            <a:chOff x="339840" y="2563920"/>
            <a:chExt cx="8424360" cy="801720"/>
          </a:xfrm>
        </p:grpSpPr>
        <p:sp>
          <p:nvSpPr>
            <p:cNvPr id="130"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1"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2"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3"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4"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36"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37" name=""/>
          <p:cNvGrpSpPr/>
          <p:nvPr/>
        </p:nvGrpSpPr>
        <p:grpSpPr>
          <a:xfrm>
            <a:off x="339840" y="4203720"/>
            <a:ext cx="8229600" cy="801720"/>
            <a:chOff x="339840" y="4203720"/>
            <a:chExt cx="8229600" cy="801720"/>
          </a:xfrm>
        </p:grpSpPr>
        <p:sp>
          <p:nvSpPr>
            <p:cNvPr id="138"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9"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40"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1"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42"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43"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44"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46"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47"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339840" y="1574640"/>
            <a:ext cx="8246160" cy="992520"/>
            <a:chOff x="339840" y="1574640"/>
            <a:chExt cx="8246160" cy="992520"/>
          </a:xfrm>
        </p:grpSpPr>
        <p:sp>
          <p:nvSpPr>
            <p:cNvPr id="151"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52"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53"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4"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55"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57"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158"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159"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60"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61"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63"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64"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166"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37872D3-BADF-4E95-AFCD-1180483F8D51}" type="slidenum">
              <a:t>1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Group vs Working Group</a:t>
            </a: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76520"/>
            <a:ext cx="8686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1 WG and the WPAN S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need for a WPAN Standar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hat there is a strong market demand for a consumer-cost, low power solu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a PAR to accomplish that task</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importance of Coexistence and the need for etiquette  in the use of a shared medium</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gree </a:t>
            </a:r>
            <a:r>
              <a:rPr b="0" lang="en-US" sz="2800" spc="-1" strike="noStrike">
                <a:solidFill>
                  <a:srgbClr val="000000"/>
                </a:solidFill>
                <a:latin typeface="Times New Roman"/>
              </a:rPr>
              <a:t>on the venue to best create a WPAN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E337BCD-50EA-409A-9156-F9A86F8A71D4}"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Hypothese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PAN Standard that does not involve Bluetooth as a participant will have a tough time gaining market acceptan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efforts will aggravate coexistence and interference issu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51C7573-0098-4ADB-94F7-2DECEE1F9E81}"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as an Ad Hoc group under PASC in June 1997- led by Dick Braley, Fe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ed to a Study Group under 802.11 within LMSC in March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full Working Group of 802 in March 19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B5D481-E76B-4CDB-9569-553A75BDF242}"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s for Success</a:t>
            </a:r>
            <a:endParaRPr b="0" lang="en-US" sz="4400" spc="-1" strike="noStrike">
              <a:solidFill>
                <a:srgbClr val="000000"/>
              </a:solidFill>
              <a:latin typeface="Times New Roman"/>
            </a:endParaRPr>
          </a:p>
        </p:txBody>
      </p:sp>
      <p:sp>
        <p:nvSpPr>
          <p:cNvPr id="172"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8000"/>
          </a:bodyPr>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that can attract members who feel they have equal standing</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get active participation from Members of Bluetooth, HomeRF/Firefly, 802.11, etc</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which can take a fresh look, evaluate different proposals and find compromise solutions that address broad market applicability as well as technical merits</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is of the essence--1-2years maximum</a:t>
            </a:r>
            <a:endParaRPr b="0" lang="en-US" sz="2800" spc="-1" strike="noStrike">
              <a:solidFill>
                <a:srgbClr val="000000"/>
              </a:solidFill>
              <a:latin typeface="Times New Roman"/>
            </a:endParaRPr>
          </a:p>
          <a:p>
            <a:pPr lvl="1" marL="6537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5F858CA-783D-46F0-BB6D-E84B4CD4E16C}"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s of a WG</a:t>
            </a: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807696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stature required to work more effectively with significant external group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ct as the agent of compromi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freedom of ac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ular purpose promotes speed and efficienc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EBEC75B-BF8B-4A19-AFE9-F92101D4A2D4}"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ttom Line</a:t>
            </a:r>
            <a:endParaRPr b="0" lang="en-US" sz="4400" spc="-1" strike="noStrike">
              <a:solidFill>
                <a:srgbClr val="000000"/>
              </a:solidFill>
              <a:latin typeface="Times New Roman"/>
            </a:endParaRPr>
          </a:p>
        </p:txBody>
      </p:sp>
      <p:sp>
        <p:nvSpPr>
          <p:cNvPr id="176" name="PlaceHolder 2"/>
          <p:cNvSpPr>
            <a:spLocks noGrp="1"/>
          </p:cNvSpPr>
          <p:nvPr>
            <p:ph/>
          </p:nvPr>
        </p:nvSpPr>
        <p:spPr>
          <a:xfrm>
            <a:off x="228600" y="1447920"/>
            <a:ext cx="8686800" cy="4114800"/>
          </a:xfrm>
          <a:prstGeom prst="rect">
            <a:avLst/>
          </a:prstGeom>
          <a:noFill/>
          <a:ln w="0">
            <a:noFill/>
          </a:ln>
        </p:spPr>
        <p:txBody>
          <a:bodyPr lIns="92160" rIns="92160" tIns="46080" bIns="46080" anchor="t">
            <a:normAutofit fontScale="90000"/>
          </a:bodyPr>
          <a:p>
            <a:pPr marL="3085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ongly urge the SEC to pass a motion to form a WPAN Working Group</a:t>
            </a:r>
            <a:endParaRPr b="0" lang="en-US" sz="32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effective compromise solutions is imperative to shared use, interoperability, success and acceptance.</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ception of balance needs to be assured.</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 is not whether a lite version of .11 can do the job, more important is market acceptance of a standard that does the job.</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WPAN standards are likely to address this spa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739EEC-AFCE-482E-AD33-5A47EE515AA8}"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802.15 Working Group on Wireless Personal Area Networks approved March 18, 1999</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 TX, April 14, 1999 - IEEE P802 LAN/MAN Standards Committee (LMSC) is pleased to announce the formation of a new Working Group to develop standards for Wireless Personal Area Networks for portable and mobile computing devices. Portable and mobile computing devices are defined as unobtrusive computing devices, networking devices, software and peripherals which are worn or carried by individuals to enhance their ability to perform productive work as well as provide entertainmen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group is designated P802.15 Working Group on Wireless Personal Area Networks. The Standards created by P802.15 will address the requirements for Wireless Personal Area Networking (WPAN) of PCs, PDAs, peripherals, cell phones, pagers and consumer electronic devices to communicate and interoperate with one another. </a:t>
            </a:r>
            <a:endParaRPr b="0" lang="en-US" sz="2000" spc="-1" strike="noStrike">
              <a:solidFill>
                <a:srgbClr val="000000"/>
              </a:solidFill>
              <a:latin typeface="Times New Roman"/>
            </a:endParaRPr>
          </a:p>
        </p:txBody>
      </p:sp>
      <p:sp>
        <p:nvSpPr>
          <p:cNvPr id="179" name=""/>
          <p:cNvSpPr/>
          <p:nvPr/>
        </p:nvSpPr>
        <p:spPr>
          <a:xfrm>
            <a:off x="586800" y="6095880"/>
            <a:ext cx="66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announcements/802.15.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2B403EE-4FC0-43E3-8A1E-116C45942C45}"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52CC7E1-2F02-43B5-8B59-6F0D9F6851DE}"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5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517BBBB1-77BD-4EF5-9128-5E43AC48C88C}" type="slidenum">
              <a:t>4</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5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6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E221ABC-E4A5-4413-83B8-884CE7CF4DFC}"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6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CD66A93-C918-4AAF-A7AE-957D30520366}"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7559640" y="2057400"/>
            <a:ext cx="1432080" cy="1157400"/>
          </a:xfrm>
          <a:prstGeom prst="rect">
            <a:avLst/>
          </a:prstGeom>
          <a:ln w="0">
            <a:noFill/>
          </a:ln>
        </p:spPr>
      </p:pic>
      <p:pic>
        <p:nvPicPr>
          <p:cNvPr id="73" name="" descr=""/>
          <p:cNvPicPr/>
          <p:nvPr/>
        </p:nvPicPr>
        <p:blipFill>
          <a:blip r:embed="rId2"/>
          <a:stretch/>
        </p:blipFill>
        <p:spPr>
          <a:xfrm>
            <a:off x="7607160" y="4343400"/>
            <a:ext cx="1308240" cy="1405080"/>
          </a:xfrm>
          <a:prstGeom prst="rect">
            <a:avLst/>
          </a:prstGeom>
          <a:ln w="0">
            <a:noFill/>
          </a:ln>
        </p:spPr>
      </p:pic>
      <p:pic>
        <p:nvPicPr>
          <p:cNvPr id="74" name="" descr=""/>
          <p:cNvPicPr/>
          <p:nvPr/>
        </p:nvPicPr>
        <p:blipFill>
          <a:blip r:embed="rId3"/>
          <a:stretch/>
        </p:blipFill>
        <p:spPr>
          <a:xfrm>
            <a:off x="5794200" y="2755800"/>
            <a:ext cx="1673280" cy="2502000"/>
          </a:xfrm>
          <a:prstGeom prst="rect">
            <a:avLst/>
          </a:prstGeom>
          <a:ln w="0">
            <a:noFill/>
          </a:ln>
        </p:spPr>
      </p:pic>
      <p:sp>
        <p:nvSpPr>
          <p:cNvPr id="75"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76"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77"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78"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79"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AB7F352-DDAF-4B40-84F7-4639807C4084}"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81" name=""/>
          <p:cNvGraphicFramePr/>
          <p:nvPr/>
        </p:nvGraphicFramePr>
        <p:xfrm>
          <a:off x="426960" y="2128680"/>
          <a:ext cx="8336160" cy="1986120"/>
        </p:xfrm>
        <a:graphic>
          <a:graphicData uri="http://schemas.openxmlformats.org/presentationml/2006/ole">
            <p:oleObj progId="Excel.Sheet.12" r:id="rId1" spid="">
              <p:embed/>
              <p:pic>
                <p:nvPicPr>
                  <p:cNvPr id="82"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83" name=""/>
          <p:cNvGraphicFramePr/>
          <p:nvPr/>
        </p:nvGraphicFramePr>
        <p:xfrm>
          <a:off x="380880" y="4343400"/>
          <a:ext cx="8406000" cy="1913040"/>
        </p:xfrm>
        <a:graphic>
          <a:graphicData uri="http://schemas.openxmlformats.org/presentationml/2006/ole">
            <p:oleObj progId="Excel.Sheet.12" r:id="rId3" spid="">
              <p:embed/>
              <p:pic>
                <p:nvPicPr>
                  <p:cNvPr id="84" name="" descr=""/>
                  <p:cNvPicPr/>
                  <p:nvPr/>
                </p:nvPicPr>
                <p:blipFill>
                  <a:blip r:embed="rId4"/>
                  <a:stretch/>
                </p:blipFill>
                <p:spPr>
                  <a:xfrm>
                    <a:off x="380880" y="4343400"/>
                    <a:ext cx="8406000" cy="1913040"/>
                  </a:xfrm>
                  <a:prstGeom prst="rect">
                    <a:avLst/>
                  </a:prstGeom>
                  <a:ln w="0">
                    <a:noFill/>
                  </a:ln>
                </p:spPr>
              </p:pic>
            </p:oleObj>
          </a:graphicData>
        </a:graphic>
      </p:graphicFrame>
      <p:sp>
        <p:nvSpPr>
          <p:cNvPr id="85"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86"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87"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2D64F8A-FBBC-4C0F-BB4A-DD9338FF6E3A}"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09480" y="2057400"/>
            <a:ext cx="83059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1" name=""/>
          <p:cNvSpPr/>
          <p:nvPr/>
        </p:nvSpPr>
        <p:spPr>
          <a:xfrm>
            <a:off x="3265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C2BC8E-841F-49D5-82EC-80C275A42695}"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03T19:24:12Z</dcterms:modified>
  <cp:revision>54</cp:revision>
  <dc:subject>doc.: IEEE 802.15-99/027r0</dc:subject>
  <dc:title>WPAN Background</dc:title>
</cp:coreProperties>
</file>