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5FB14-534F-44A3-BD51-D20690FF8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E0257-991A-42E8-B913-DAEE89305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EEFB8-D876-4C41-8C41-A01792C0E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BD688-EE77-4887-A14A-8DCADC87E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1ADA-59CE-4FBB-BB65-808CBB455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E1AC1-464E-4836-B65C-8B85FF5F7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B2A9A-710C-4480-8FBF-A7D8D843C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9EBE2-33F1-40EC-9FD2-65837C9D5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CFB38-2A78-400E-9DAB-56FF58018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FA82-94F4-43CB-8AA8-F77C17DF3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AFC91-E652-4D36-9298-8DE625309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1540-A805-4AC4-9781-AB4E267E0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D0C1B8-8E7B-4F76-9DAA-6EE09BA29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46" name=""/>
          <p:cNvSpPr/>
          <p:nvPr/>
        </p:nvSpPr>
        <p:spPr>
          <a:xfrm>
            <a:off x="609480" y="2971800"/>
            <a:ext cx="8229600" cy="3352680"/>
          </a:xfrm>
          <a:prstGeom prst="rect">
            <a:avLst/>
          </a:prstGeom>
          <a:noFill/>
          <a:ln w="0">
            <a:noFill/>
          </a:ln>
        </p:spPr>
        <p:style>
          <a:lnRef idx="0"/>
          <a:fillRef idx="0"/>
          <a:effectRef idx="0"/>
          <a:fontRef idx="minor"/>
        </p:style>
        <p:txBody>
          <a:bodyPr lIns="92160" rIns="92160" tIns="46080" bIns="46080" anchor="t">
            <a:normAutofit/>
          </a:bodyPr>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on emerging industry specifica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pen forum to debate these proposal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substantive issue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consensus on solu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 is to create standards that have: </a:t>
            </a:r>
            <a:endParaRPr b="0" lang="en-US" sz="20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applicability </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l with the issues of coexistence and interoperability</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ly used</a:t>
            </a:r>
            <a:endParaRPr b="0" lang="en-US" sz="1800" spc="-1" strike="noStrike">
              <a:solidFill>
                <a:srgbClr val="000000"/>
              </a:solidFill>
              <a:latin typeface="Times New Roman"/>
            </a:endParaRPr>
          </a:p>
          <a:p>
            <a:pPr marL="455760" indent="-4557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55ED0140-E6E2-4B27-B566-22B9F5817201}" type="slidenum">
              <a:t>1</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graphicFrame>
        <p:nvGraphicFramePr>
          <p:cNvPr id="81" name=""/>
          <p:cNvGraphicFramePr/>
          <p:nvPr/>
        </p:nvGraphicFramePr>
        <p:xfrm>
          <a:off x="838080" y="2057400"/>
          <a:ext cx="7866360" cy="3967200"/>
        </p:xfrm>
        <a:graphic>
          <a:graphicData uri="http://schemas.openxmlformats.org/presentationml/2006/ole">
            <p:oleObj r:id="rId1" spid="">
              <p:embed/>
              <p:pic>
                <p:nvPicPr>
                  <p:cNvPr id="8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189827E3-B3ED-461F-8F29-5CC68085CF52}" type="slidenum">
              <a:t>10</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sp>
        <p:nvSpPr>
          <p:cNvPr id="84" name="PlaceHolder 2"/>
          <p:cNvSpPr>
            <a:spLocks noGrp="1"/>
          </p:cNvSpPr>
          <p:nvPr>
            <p:ph/>
          </p:nvPr>
        </p:nvSpPr>
        <p:spPr>
          <a:xfrm>
            <a:off x="485280" y="1981080"/>
            <a:ext cx="84423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s Groups may be organized along applications (WLANs, WPANs, BWA,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base standards vs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MAC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B5F34258-BA62-4250-A4F8-0DD88ABDA2F8}" type="slidenum">
              <a:t>11</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8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892DBB8E-4FA1-4DC8-906B-A4ACE3CA21A4}" type="slidenum">
              <a:t>12</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A27F507E-6515-4A96-B1B8-A1921AEAE358}" type="slidenum">
              <a:t>13</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8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9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9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9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9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9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9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9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9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9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2666880" y="3505320"/>
            <a:ext cx="1432080" cy="1157040"/>
          </a:xfrm>
          <a:prstGeom prst="rect">
            <a:avLst/>
          </a:prstGeom>
          <a:ln w="0">
            <a:noFill/>
          </a:ln>
        </p:spPr>
      </p:pic>
      <p:sp>
        <p:nvSpPr>
          <p:cNvPr id="10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03"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04"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05" name=""/>
          <p:cNvGraphicFramePr/>
          <p:nvPr/>
        </p:nvGraphicFramePr>
        <p:xfrm>
          <a:off x="4343400" y="3809880"/>
          <a:ext cx="2362320" cy="584280"/>
        </p:xfrm>
        <a:graphic>
          <a:graphicData uri="http://schemas.openxmlformats.org/presentationml/2006/ole">
            <p:oleObj r:id="rId3" spid="">
              <p:embed/>
              <p:pic>
                <p:nvPicPr>
                  <p:cNvPr id="106"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C2926AC0-1956-464F-96F6-05B9466D1CDF}" type="slidenum">
              <a:t>14</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108"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6A9BD98A-DA59-4E98-A0DD-76856D4A2432}" type="slidenum">
              <a:t>15</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11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0873A4EC-2B16-4585-BD49-C5242404F24A}" type="slidenum">
              <a:t>1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114"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E3F3B83F-77B1-4AA5-B0C5-684F68544595}" type="slidenum">
              <a:t>17</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117"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5CDDF265-4788-486F-AFFA-FE6F784F5B73}" type="slidenum">
              <a:t>18</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20"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4F980DAF-220D-4B1C-81D1-8FAB9C43F7A9}" type="slidenum">
              <a:t>1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64960" y="2390760"/>
            <a:ext cx="887904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WPAN functional  requirement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MAC and PHY standards for short range embedded wireless networking of PCs, PDAs, peripherals, cell phones, pagers, consumer electronic devices, sensors, actuators, and the like.</a:t>
            </a:r>
            <a:endParaRPr b="0" lang="en-US" sz="2800" spc="-1" strike="noStrike">
              <a:solidFill>
                <a:srgbClr val="000000"/>
              </a:solidFill>
              <a:latin typeface="Times New Roman"/>
            </a:endParaRPr>
          </a:p>
        </p:txBody>
      </p:sp>
      <p:sp>
        <p:nvSpPr>
          <p:cNvPr id="49" name="PlaceHolder 2"/>
          <p:cNvSpPr>
            <a:spLocks noGrp="1"/>
          </p:cNvSpPr>
          <p:nvPr>
            <p:ph type="title"/>
          </p:nvPr>
        </p:nvSpPr>
        <p:spPr>
          <a:xfrm>
            <a:off x="677880" y="9918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WPAN Working  Group</a:t>
            </a:r>
            <a:br>
              <a:rPr sz="4400"/>
            </a:br>
            <a:r>
              <a:rPr b="0" lang="en-US" sz="4400" spc="-1" strike="noStrike">
                <a:solidFill>
                  <a:srgbClr val="000000"/>
                </a:solidFill>
                <a:latin typeface="Times New Roman"/>
              </a:rPr>
              <a:t>Scope of First PAR</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8A7E8AC1-55A2-431A-B97B-012DB8150C97}" type="slidenum">
              <a:t>2</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123"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0954ECBD-6722-4853-B546-E5A280D48C66}" type="slidenum">
              <a:t>20</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5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FD88DA8F-D074-4E51-BD21-A820BB792844}" type="slidenum">
              <a:t>3</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a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F503487D-7DEA-46B2-9BCA-E19576043C0E}" type="slidenum">
              <a:t>4</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WPAN Vision Statement</a:t>
            </a:r>
            <a:endParaRPr b="0" lang="en-US" sz="4400" spc="-1" strike="noStrike">
              <a:solidFill>
                <a:srgbClr val="000000"/>
              </a:solidFill>
              <a:latin typeface="Times New Roman"/>
            </a:endParaRPr>
          </a:p>
        </p:txBody>
      </p:sp>
      <p:sp>
        <p:nvSpPr>
          <p:cNvPr id="56"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7"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2"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3"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4"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5" name=""/>
          <p:cNvGraphicFramePr/>
          <p:nvPr/>
        </p:nvGraphicFramePr>
        <p:xfrm>
          <a:off x="1077840" y="1219320"/>
          <a:ext cx="6745320" cy="3579840"/>
        </p:xfrm>
        <a:graphic>
          <a:graphicData uri="http://schemas.openxmlformats.org/presentationml/2006/ole">
            <p:oleObj progId="Word.Document.12" r:id="rId1" spid="">
              <p:embed/>
              <p:pic>
                <p:nvPicPr>
                  <p:cNvPr id="66"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67"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8"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7C2B7030-3446-48A3-A6EA-E07AA6FB8687}" type="slidenum">
              <a:t>5</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42720" y="1905120"/>
            <a:ext cx="847692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70" name="PlaceHolder 2"/>
          <p:cNvSpPr>
            <a:spLocks noGrp="1"/>
          </p:cNvSpPr>
          <p:nvPr>
            <p:ph type="title"/>
          </p:nvPr>
        </p:nvSpPr>
        <p:spPr>
          <a:xfrm>
            <a:off x="609480" y="6220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Working  Group Mission</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A0378353-6391-4B5C-BBAC-739E88CE0CB8}" type="slidenum">
              <a:t>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7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E1F531FA-5DB1-4D71-A37F-3C06D7C823B9}" type="slidenum">
              <a:t>7</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7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15F87F0B-6AB4-44F5-8BEB-4CADCA3500FE}" type="slidenum">
              <a:t>8</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240" y="4827240"/>
            <a:ext cx="8704440" cy="146844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 coverage through aggregation of networking capabilities rather than through power level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all mechanisms that will  promote coexistence (including CSMA)</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Coalescence of </a:t>
            </a:r>
            <a:r>
              <a:rPr b="0" lang="en-US" sz="3600" spc="-1" strike="noStrike">
                <a:solidFill>
                  <a:srgbClr val="000000"/>
                </a:solidFill>
                <a:latin typeface="Times New Roman"/>
              </a:rPr>
              <a:t>Standards</a:t>
            </a:r>
            <a:endParaRPr b="0" lang="en-US" sz="3600" spc="-1" strike="noStrike">
              <a:solidFill>
                <a:srgbClr val="000000"/>
              </a:solidFill>
              <a:latin typeface="Times New Roman"/>
            </a:endParaRPr>
          </a:p>
        </p:txBody>
      </p:sp>
      <p:pic>
        <p:nvPicPr>
          <p:cNvPr id="79" name="Convergence" descr=""/>
          <p:cNvPicPr/>
          <p:nvPr/>
        </p:nvPicPr>
        <p:blipFill>
          <a:blip r:embed="rId1"/>
          <a:stretch/>
        </p:blipFill>
        <p:spPr>
          <a:xfrm>
            <a:off x="1414440" y="1401840"/>
            <a:ext cx="6111720" cy="3186000"/>
          </a:xfrm>
          <a:prstGeom prst="rect">
            <a:avLst/>
          </a:prstGeom>
          <a:ln w="0">
            <a:noFill/>
          </a:ln>
        </p:spPr>
      </p:pic>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1973FBCC-BE89-46FD-AC35-B67A9B354511}" type="slidenum">
              <a:t>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5T08:44:56Z</dcterms:created>
  <dc:creator>Robert F. Heile</dc:creator>
  <dc:description>Robert F. Heile, GTE </dc:description>
  <dc:language>en-US</dc:language>
  <cp:lastModifiedBy>Bridget Labrode</cp:lastModifiedBy>
  <cp:lastPrinted>1999-04-26T19:47:02Z</cp:lastPrinted>
  <dcterms:modified xsi:type="dcterms:W3CDTF">1999-07-07T13:27:37Z</dcterms:modified>
  <cp:revision>29</cp:revision>
  <dc:subject>doc.: P802.15-99017R0WG PRESENTATION</dc:subject>
  <dc:title>802.15 Working Group for  Wireless Personal Area Networks </dc:title>
</cp:coreProperties>
</file>