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3608-D744-45F6-8201-088750BD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95F4-70F1-44F7-9D1E-88929FD0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723A-AD74-4593-B695-01DC771B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BA18-6DEF-4446-B038-D5A8AB9E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929D-CE45-4A5A-A6FF-09087DDE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6E64-22DF-4F2D-B51E-446EED89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1B4B-5C58-43B6-B57D-B1D3F1E5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A979-57D7-4021-A468-B01C038C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5303-B13D-4AA9-9780-FF7ADECD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4DA0-124D-48CC-BDA7-11D5F0D9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D896-F810-4867-9CD0-3C4AB23E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57BD-1C14-4146-8D46-FEC40898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9BE8168-D8B6-4439-866C-B810AE1F9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108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uai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 8-11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C002-D1C1-4E1B-96DA-16DB925B51F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74560" y="685800"/>
            <a:ext cx="576324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genda –Tuesday, November 9, 1999       Defer to new High Rate Grou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genda-Wednesday, November 10, 1999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8:30 - 10:30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Meeting to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endance check- introduc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view of Marketing committee charter/objectiv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ents and progress since July/September mee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osed tasks for the week in Kaua’i, Hawa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Discuss Submission -99/13xr0, An update on the  “ TG1 requests to MC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Discuss Submission -99/13xr0, An update on “P802.15.1 MARCO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g., SIG, Collateral, "Handbook to P802.15.1 Project", Un-plugfest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greement on tasks and individual/group assignments for Thurs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sub-committee meeting arrangements as nee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genda-Thursday, November 11, 1999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8:30 - 10:30 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Meeting to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inuation of above i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or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mmendation on MC cha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view preparations for Thursday .15 ful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F81B-A918-4679-B3A6-85F3DD28A0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 of the WPAN Marketing 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and maintain the application and usage scenarios generated by the CF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 the formulation of documentation that clearly &amp; distinctly differentiates the purposes and services of the various IEEE WPA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the dissemination of information about IEEE 802.15 Working Group activities internally (among 802 working groups) and externally (among the electronics indust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802.15 task groups in reaching convergence and consensus on technical require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how best to promote the public demonstration of interoperability between products built using 802.15 standa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nd maintain liaisons with other selected industry marketing groups (e.g. Bluetooth, HomeRF) and standards bodies (e.g ETS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ter two-way communications between suppliers and consumers of WPAN produ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 and foster creation of value-added industry marketing groups as appropriate (e.g. Gigabit Ethernet Alliance, http://www.gigabit-Ethernet.org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281B-6BF8-4CEC-8A5D-C9678B7134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6:56:24Z</dcterms:created>
  <dc:creator>Ian Gifford, M/A-COM &amp; Bruce Kraemer, Harris</dc:creator>
  <dc:description>031r1</dc:description>
  <dc:language>en-US</dc:language>
  <cp:lastModifiedBy>Ian C. Gifford</cp:lastModifiedBy>
  <cp:lastPrinted>1998-02-10T13:28:06Z</cp:lastPrinted>
  <dcterms:modified xsi:type="dcterms:W3CDTF">1999-11-08T23:08:28Z</dcterms:modified>
  <cp:revision>46</cp:revision>
  <dc:subject>IEEE 802.15 Marketing</dc:subject>
  <dc:title>IEEE P802.15 Working Group for Wireless Personal Area Networks</dc:title>
</cp:coreProperties>
</file>