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49C6-9642-4CB9-947B-F65CE4A87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EF14-1951-4EC0-9B76-41A647FD9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D64A-356F-43EF-86E8-1B68F85A9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90F5-6802-481C-8650-91B731604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2514-4F81-4574-9A56-2F50C84F1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8B0E-AAB3-4316-9DA9-034BB5A3D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00BE-9706-4012-AC7A-7B8D858BC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5BE4-B27F-4403-9F89-3314B37EE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F6C2-E2A3-407E-8CB7-7FD4D9615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CD9E-B8F1-47F8-8F63-FACB26EB4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786A-43D2-49FB-9851-29D6FADBC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BDE7-2713-4616-87CE-A5D18C3BB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4E3F3A3A-A14F-4410-B366-F329F6BDEF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99038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EEE P802.15 Operating Ru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5146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be found 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\\venus\802.15 wpan\rules\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99001r6P802-15_Working-Group-Operating-Rules.d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C850-66D6-46DA-A178-782811DC18B3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aming Sche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295280" y="5181480"/>
            <a:ext cx="6400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Blanks added for clarity in this slide</a:t>
            </a:r>
            <a:br>
              <a:rPr sz="2000"/>
            </a:br>
            <a:r>
              <a:rPr b="1" lang="en-US" sz="2000" spc="-1" strike="noStrike" u="sng">
                <a:solidFill>
                  <a:srgbClr val="3333cc"/>
                </a:solidFill>
                <a:uFillTx/>
                <a:latin typeface="Times New Roman"/>
              </a:rPr>
              <a:t>not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to be included in file 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209520" y="2000160"/>
          <a:ext cx="8724960" cy="285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2000160"/>
                    <a:ext cx="8724960" cy="285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536D-85A0-449A-86DC-154B0C8CAF3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5T14:39:52Z</dcterms:created>
  <dc:creator>Tom Siep</dc:creator>
  <dc:description>&lt;doc#&gt;</dc:description>
  <dc:language>en-US</dc:language>
  <cp:lastModifiedBy>Bridget Labrode</cp:lastModifiedBy>
  <cp:lastPrinted>1998-02-10T13:28:06Z</cp:lastPrinted>
  <dcterms:modified xsi:type="dcterms:W3CDTF">1999-07-06T16:35:17Z</dcterms:modified>
  <cp:revision>5</cp:revision>
  <dc:subject>IEEE 802.15 &lt;subject&gt;</dc:subject>
  <dc:title>IEEE P802.15 Operating Rules</dc:title>
</cp:coreProperties>
</file>