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B833-395B-45DD-BA02-48D65724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EF9B-BEDD-4A93-9BE9-A7B0B08D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6F08-BE69-4545-B549-6686855E8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E331-13D0-4429-A92E-6B4116CB3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936B-E38A-4EAF-A9CE-C171A8BE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8686-7EE2-4D1B-B254-C19A71A5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5110-BD06-4347-92AB-1B980FCF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5FD9-0468-4E51-8F65-9DBD1118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5AD8-3972-484A-809D-DA2F7CDD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799F-5D49-4B8E-8EE6-32799142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CFBA-05BE-43DB-BC4D-4DDF7214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18B4-22BD-4156-B7CF-6E68D734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45FA9B2-ED74-413C-805B-0A29A9ACC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8/049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752480" y="685800"/>
            <a:ext cx="5645160" cy="1711440"/>
            <a:chOff x="1752480" y="685800"/>
            <a:chExt cx="5645160" cy="1711440"/>
          </a:xfrm>
        </p:grpSpPr>
        <p:pic>
          <p:nvPicPr>
            <p:cNvPr id="46" name="802" descr=""/>
            <p:cNvPicPr/>
            <p:nvPr/>
          </p:nvPicPr>
          <p:blipFill>
            <a:blip r:embed="rId1"/>
            <a:stretch/>
          </p:blipFill>
          <p:spPr>
            <a:xfrm>
              <a:off x="5737320" y="685800"/>
              <a:ext cx="1660320" cy="171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" name=""/>
            <p:cNvGrpSpPr/>
            <p:nvPr/>
          </p:nvGrpSpPr>
          <p:grpSpPr>
            <a:xfrm>
              <a:off x="1752480" y="933480"/>
              <a:ext cx="5477040" cy="1114560"/>
              <a:chOff x="1752480" y="933480"/>
              <a:chExt cx="5477040" cy="1114560"/>
            </a:xfrm>
          </p:grpSpPr>
          <p:sp>
            <p:nvSpPr>
              <p:cNvPr id="48" name=""/>
              <p:cNvSpPr/>
              <p:nvPr/>
            </p:nvSpPr>
            <p:spPr>
              <a:xfrm>
                <a:off x="1752480" y="933480"/>
                <a:ext cx="4181760" cy="11145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630240" y="1028880"/>
                <a:ext cx="20674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66ff"/>
                    </a:solidFill>
                    <a:latin typeface="Times New Roman"/>
                  </a:rPr>
                  <a:t>802.15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1895400" y="976320"/>
                <a:ext cx="1595520" cy="1045800"/>
                <a:chOff x="1895400" y="976320"/>
                <a:chExt cx="1595520" cy="1045800"/>
              </a:xfrm>
            </p:grpSpPr>
            <p:grpSp>
              <p:nvGrpSpPr>
                <p:cNvPr id="51" name=""/>
                <p:cNvGrpSpPr/>
                <p:nvPr/>
              </p:nvGrpSpPr>
              <p:grpSpPr>
                <a:xfrm>
                  <a:off x="2165400" y="985680"/>
                  <a:ext cx="1325520" cy="1036440"/>
                  <a:chOff x="2165400" y="985680"/>
                  <a:chExt cx="1325520" cy="1036440"/>
                </a:xfrm>
              </p:grpSpPr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5400" y="1245960"/>
                    <a:ext cx="103824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53" name=""/>
                  <p:cNvGrpSpPr/>
                  <p:nvPr/>
                </p:nvGrpSpPr>
                <p:grpSpPr>
                  <a:xfrm>
                    <a:off x="2544840" y="985680"/>
                    <a:ext cx="946080" cy="944640"/>
                    <a:chOff x="2544840" y="985680"/>
                    <a:chExt cx="946080" cy="944640"/>
                  </a:xfrm>
                </p:grpSpPr>
                <p:sp>
                  <p:nvSpPr>
                    <p:cNvPr id="54" name=""/>
                    <p:cNvSpPr/>
                    <p:nvPr/>
                  </p:nvSpPr>
                  <p:spPr>
                    <a:xfrm>
                      <a:off x="2544840" y="985680"/>
                      <a:ext cx="946080" cy="9446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" name=""/>
                    <p:cNvSpPr/>
                    <p:nvPr/>
                  </p:nvSpPr>
                  <p:spPr>
                    <a:xfrm>
                      <a:off x="2616120" y="1056960"/>
                      <a:ext cx="804960" cy="8035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" name=""/>
                    <p:cNvSpPr/>
                    <p:nvPr/>
                  </p:nvSpPr>
                  <p:spPr>
                    <a:xfrm>
                      <a:off x="2690640" y="1133280"/>
                      <a:ext cx="654120" cy="6508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" name=""/>
                    <p:cNvSpPr/>
                    <p:nvPr/>
                  </p:nvSpPr>
                  <p:spPr>
                    <a:xfrm>
                      <a:off x="2776320" y="1211040"/>
                      <a:ext cx="482760" cy="4968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" name=""/>
                    <p:cNvSpPr/>
                    <p:nvPr/>
                  </p:nvSpPr>
                  <p:spPr>
                    <a:xfrm>
                      <a:off x="2865240" y="1306440"/>
                      <a:ext cx="304920" cy="3045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" name=""/>
                    <p:cNvSpPr/>
                    <p:nvPr/>
                  </p:nvSpPr>
                  <p:spPr>
                    <a:xfrm>
                      <a:off x="2935080" y="1376280"/>
                      <a:ext cx="165240" cy="166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" name=""/>
                    <p:cNvSpPr/>
                    <p:nvPr/>
                  </p:nvSpPr>
                  <p:spPr>
                    <a:xfrm>
                      <a:off x="2979720" y="1420560"/>
                      <a:ext cx="76320" cy="777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212920" y="1041120"/>
                    <a:ext cx="946080" cy="944640"/>
                    <a:chOff x="2212920" y="1041120"/>
                    <a:chExt cx="946080" cy="94464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212920" y="1041120"/>
                      <a:ext cx="946080" cy="9446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>
                      <a:off x="2286000" y="1110960"/>
                      <a:ext cx="801720" cy="8017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" name=""/>
                    <p:cNvSpPr/>
                    <p:nvPr/>
                  </p:nvSpPr>
                  <p:spPr>
                    <a:xfrm>
                      <a:off x="2360520" y="1185480"/>
                      <a:ext cx="652320" cy="652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" name=""/>
                    <p:cNvSpPr/>
                    <p:nvPr/>
                  </p:nvSpPr>
                  <p:spPr>
                    <a:xfrm>
                      <a:off x="2444760" y="1265040"/>
                      <a:ext cx="484200" cy="4953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2533680" y="1360440"/>
                      <a:ext cx="306360" cy="3045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2603520" y="1430280"/>
                      <a:ext cx="166680" cy="166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" name=""/>
                    <p:cNvSpPr/>
                    <p:nvPr/>
                  </p:nvSpPr>
                  <p:spPr>
                    <a:xfrm>
                      <a:off x="2647800" y="1473120"/>
                      <a:ext cx="77760" cy="777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1895400" y="976320"/>
                  <a:ext cx="946080" cy="942840"/>
                  <a:chOff x="1895400" y="976320"/>
                  <a:chExt cx="946080" cy="94284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1895400" y="976320"/>
                    <a:ext cx="946080" cy="9428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1965240" y="1045800"/>
                    <a:ext cx="804960" cy="8031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2041560" y="1122120"/>
                    <a:ext cx="654120" cy="6505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2127240" y="1201680"/>
                    <a:ext cx="482400" cy="494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2216160" y="1296720"/>
                    <a:ext cx="304560" cy="3027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286000" y="1366560"/>
                    <a:ext cx="164880" cy="1648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2330280" y="1409400"/>
                    <a:ext cx="76320" cy="774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7" name=""/>
              <p:cNvSpPr/>
              <p:nvPr/>
            </p:nvSpPr>
            <p:spPr>
              <a:xfrm>
                <a:off x="5924520" y="933480"/>
                <a:ext cx="1305000" cy="111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"/>
          <p:cNvSpPr/>
          <p:nvPr/>
        </p:nvSpPr>
        <p:spPr>
          <a:xfrm>
            <a:off x="228600" y="2362320"/>
            <a:ext cx="85424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orking Group Report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resentation to IEEE 802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andards Executive Committee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July 8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5181480"/>
            <a:ext cx="22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Heile,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C6DD-83BB-48B8-93C2-653D74C1CAB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 Two Motions to the S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600200"/>
            <a:ext cx="7559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1:  To affirm Bob Heile as Chair of 802.15 through the March 2000 plenary of 80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2:  To affirm Ian Gifford as Vice Chair of 802.15 through the March 2000 plenary of 80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4876920"/>
            <a:ext cx="6477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b He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: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ul Niko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es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bstain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2438280"/>
            <a:ext cx="7238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ul Niko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ll Lidinss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es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bstai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6415-5DEE-4785-861E-C39978A2235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s on Regulator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91440" y="1600200"/>
            <a:ext cx="53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and vote on motions in 802.11 doc 99/1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62120" y="2057400"/>
          <a:ext cx="7813440" cy="198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813440" cy="19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814320" y="4686480"/>
            <a:ext cx="70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gative vote was more for lack of understanding rather than disagre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9831-05F1-49DC-A9D0-043C8E53CD4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s on Regulator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91440" y="1600200"/>
            <a:ext cx="53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and vote on motions in 802.11 doc 99/1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33520" y="1981080"/>
          <a:ext cx="8270640" cy="278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827064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457200" y="4724280"/>
            <a:ext cx="84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ructions for vote: yes=support for letter, no=against letter, abstain=neutral on iss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5105520"/>
            <a:ext cx="824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utral position reaffirmed in separate v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tion: To stay neutral at this time on the subject of 802.11 letter to FCC re WBF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ed: Houman Alborz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tion passes 23-8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4EB7-DCE7-4A56-B26D-DE99661AD8F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762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te on Formation of SG for Coexistence/Interoper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98108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form a Coexistence/Interoperability Study Group to determine the need for a PAR and develop if necessar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99280" y="35434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70280" y="3886200"/>
            <a:ext cx="1832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Dick Eck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2EE0-6EC1-4360-9979-DD992BA1921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otion to the SEC for a Study Group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676520"/>
            <a:ext cx="7407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 To approve the formation of a Study Group within 802.15 to determine the need and if warranted, develop a PAR on coexistence/interoperability for submission to the SEC by the November 1999 Ple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7200" y="4495680"/>
            <a:ext cx="2445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Bob He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Paul Niko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tion as amended carri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48360" y="4405320"/>
            <a:ext cx="515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endment to Motion:  Move to strike word interoper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/second      russell/marks   vote 6-3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endment to Motion carr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1831-7094-4945-A2DD-87172602AA0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1676520"/>
            <a:ext cx="7407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 To approve the formation of a Study Group within 802.15 to determine the need and if warranted, develop a PAR on coexistence for submission to the SEC by the November 1999 Ple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tudy Group as Approved by SEC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F22A-0A05-452C-AFBF-372FEC1B403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te on Formation of SG for Coexistence/Interoper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98108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ffirm Steve Shellhammer as Study Group 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5120" y="32004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70640" y="3733920"/>
            <a:ext cx="2149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Allen Heber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5AD6-DCBA-430F-83CC-2FFF2C9AC05A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ate of Officers for 802.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Heile, G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n Gifford, M/A C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e 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 Kinney, Interme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 Siep, 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cal Ed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ke McInnes, Boe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t Tech Ed/S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EBC5-610B-4100-81DF-07EE022563D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74880" y="1619280"/>
            <a:ext cx="795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pprove the recommended slate of officers for 802.15 to serve the remainder of the current term which ends in March 00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32560" y="3643200"/>
            <a:ext cx="2113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Parviz Ker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 on the Offic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01680" y="313848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991D-04E2-45DF-A0AD-E4CFF0FBA95C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Bridget Labrode</cp:lastModifiedBy>
  <cp:lastPrinted>1998-02-10T13:28:06Z</cp:lastPrinted>
  <dcterms:modified xsi:type="dcterms:W3CDTF">1999-07-13T13:05:43Z</dcterms:modified>
  <cp:revision>23</cp:revision>
  <dc:subject/>
  <dc:title>No Slide Title</dc:title>
</cp:coreProperties>
</file>