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99F90-E280-422E-A70A-AF178C71A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6348-DD0A-483A-B6EB-67D9C9FC3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57657-9D5D-4387-8D44-04F8242BD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619A7-84E9-4063-8343-16AE7CF05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23B9-33FB-4296-8538-F337D0F9F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4183E-2A39-4524-8963-082476BD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03F2A-B114-4CFF-8399-297A5467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C585C-2092-4150-8CD7-BFA5B810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D4699-EC37-4952-B24C-D8DBDF828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87B91-36B5-44CE-A829-220B732D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096F5-64AF-4D26-90D3-3A8EC1C77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281F-160D-44F0-823B-A53F843F1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 Alfvin, Kod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31E202-B706-4DF9-9B4B-A89088913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4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a:t>
            </a: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ed 802.15 WPAN High Rate Study Group ad hoc marketing meeting summ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00 Dewey Avenue, M.C. 01829, Rochester, New York 14650-182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6166], FAX: [(716) 588-6322], E-Mail:[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If this is a proposed revision, cite the original documen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ed 802.15 WPAN High Rate Study Group ad hoc marketing meeting summar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his document is intended to provide a summary of the ad hoc marketing committee meeting which took place November, 11, 1999 coincident with the morning session of the 802.15 MC mee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DDD3A01-C468-487C-B2C9-9990DA1D7B88}"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rketing audience targets</a:t>
            </a:r>
            <a:endParaRPr b="0" lang="en-US" sz="32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G</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RF</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pplications</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and academic institu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2BE184C-AC4C-460B-89E9-88F1E596B08C}"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arketing strategy/message for each target audien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message</a:t>
            </a:r>
            <a:endParaRPr b="0" lang="en-US" sz="24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EEE</a:t>
            </a:r>
            <a:endParaRPr b="0" lang="en-US" sz="24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aisons into marketing audience targets</a:t>
            </a:r>
            <a:endParaRPr b="0" lang="en-US" sz="28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differential value-added application spa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applications from marketing targets</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06D2A94-06A0-4AFE-8329-76BB5979557E}"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marketing requirement specification document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velop press releases with 802.15</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brand identity for High 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CD8D33B-9FE7-45D8-8BBB-7087D6A8B8E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00:30:20Z</dcterms:created>
  <dc:creator>Rick Alfvin</dc:creator>
  <dc:description>&lt;doc#&gt;</dc:description>
  <dc:language>en-US</dc:language>
  <cp:lastModifiedBy>Rick Alfvin</cp:lastModifiedBy>
  <cp:lastPrinted>1998-02-10T13:28:06Z</cp:lastPrinted>
  <dcterms:modified xsi:type="dcterms:W3CDTF">1999-11-12T00:55:32Z</dcterms:modified>
  <cp:revision>2</cp:revision>
  <dc:subject>IEEE 802.15 &lt;subject&gt;</dc:subject>
  <dc:title>No Slide Title</dc:title>
</cp:coreProperties>
</file>