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ECB0EB-5E96-4C3C-A4FF-63C30626A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A4D-57B5-4C23-B85B-045C80D7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93C-CB8F-4BE8-B85B-79504FA4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706-E6DC-4293-8B17-27CCD1D1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8A9-F1BD-4434-A199-B6C4F26B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CCC-4859-4E71-976A-DB6A23A8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D40-2401-4054-9E42-A4EB10F7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5D6-4851-4A97-A0F1-19121245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257-D931-45AF-BAE7-B2C50F4D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D46-EA01-42AC-BB6D-EFE01F6D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208-BA2E-44A4-A99D-416C3013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EFF-2AA7-4546-BA8D-5B54C099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509-4AC6-43AC-820C-38DFAF04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9AD150F-D0BA-4F3F-AF9E-7A3D83B4C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412-AF08-41B5-9011-DFC94045F49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F050-6CEC-4588-8F94-B837C18797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-four (24)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(6) Bluetooth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an Interim Conference Tutorial on Tuesday 14Sep99 from 6:30 to 9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detailed overview of the “Mapping the Bluetooth Specification to IEEE 802.15.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7EE-ADA5-40FE-912F-C5A34AE088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7184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33680" y="1968480"/>
            <a:ext cx="2463840" cy="1219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34080" y="2514600"/>
            <a:ext cx="1574640" cy="214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58880" y="3200400"/>
            <a:ext cx="7113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456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120" y="131436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TG1   ! SG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 !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!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 !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TG1 ! SG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!     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!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82C-A99D-47C8-8A15-7E356003E30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740560" y="2514600"/>
            <a:ext cx="157464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981080"/>
            <a:ext cx="1676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104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0160" y="1981080"/>
            <a:ext cx="1498320" cy="1752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7120" y="132732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    TG1   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SG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   TG1    | Joint.11/.15| SDL Model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...........|.............|   Class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SG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606-8F9C-44D5-916B-520A001DA4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1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B #1 Comment Resolution (W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4160" y="247644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D3D-D613-4371-9931-D78417A488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TG1 Tasks (Moni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4160" y="175248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FC1-21C5-4236-8F16-57366A96FD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, 13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, 14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15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, 16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Santa Ro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1E9-91DA-40DB-AD78-65052C97FC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asks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429264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656-C1E4-43FA-AC0C-1EC6B766CF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imeline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5Ka" descr=""/>
          <p:cNvPicPr/>
          <p:nvPr/>
        </p:nvPicPr>
        <p:blipFill>
          <a:blip r:embed="rId1"/>
          <a:stretch/>
        </p:blipFill>
        <p:spPr>
          <a:xfrm>
            <a:off x="63360" y="1819440"/>
            <a:ext cx="9004320" cy="283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64240" y="3314880"/>
            <a:ext cx="7621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7960" y="5043600"/>
            <a:ext cx="65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G1 had an offline discussion with Vic Hayes Tuesday, 14Sep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help us understand the WG LB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4A9-8E50-43C8-B677-F72236F3B57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13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4:15pm and processed all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WG &amp; SPONSOR BALLOT RUL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132-1AED-4752-8054-50ACB70FB2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8:32am and processed most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BLUETOOTH SYSTEM (Morning &amp; Ev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BLUETOOTH LIA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1 MILESTONE/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FOR WG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160-6292-4F23-BAF1-CBEFF081AD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Wedn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8:33am and processed most of our Agenda Items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FUNCTION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RESOURCE RECR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NING FOR SPONSOR BALLOT -99/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802 COORDINATION -99/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BLUETOOTH COORDINATION -99/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ETSI COORDINATION -99/[8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FOR INITIAL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NEXT STEP WITH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AND APPROVED WEDNESDAY DRAFT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257800"/>
            <a:ext cx="22100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3120" y="2611440"/>
            <a:ext cx="31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} siep@ti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AE5-7694-4062-9DD6-F617E013CE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 Draft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F3B-B97C-467C-8C6D-669EF2E00AE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ur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X:XXam and processed most of our Agenda Items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FRIDAY DRAFT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NEXT STEPS/ACTIONS OF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4720" y="2666880"/>
            <a:ext cx="1748880" cy="14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I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ia .15 R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E7A7-DCC2-4A22-B9CD-A7A08F60D9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083r0</dc:description>
  <dc:language>en-US</dc:language>
  <cp:lastModifiedBy>Bridget Labrode</cp:lastModifiedBy>
  <cp:lastPrinted>1998-02-10T13:28:06Z</cp:lastPrinted>
  <dcterms:modified xsi:type="dcterms:W3CDTF">1999-09-16T17:47:22Z</dcterms:modified>
  <cp:revision>22</cp:revision>
  <dc:subject>IEEE 802.15 TG1 Report #2</dc:subject>
  <dc:title>IEEE P802.15 Working Group for Wireless Personal Area Networks</dc:title>
</cp:coreProperties>
</file>