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46429E-A3F7-4C24-80D3-50D5A7703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37A98E-14B8-4F42-8475-55B13343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E9AB99-B883-4A4A-84FB-7224A563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CD4C65-AE89-4275-AD77-02634B6E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D62FF8-B8A1-4FAE-B379-277B6024F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4E3799-439C-4E1D-8D9F-38A8919C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982-0D1E-4B0D-AA9D-E6B7A06F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397-8B39-4F77-A989-5EDEB452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027-7B9E-4142-8881-771BCBBF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8C1-33AC-4319-9159-38777B82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120-00AA-4C61-B121-5022602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861-B565-488E-8D89-1DEAF64B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862-71D2-4523-B5ED-5B8AE80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C9A-DA9A-4376-9E90-06814CBA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41C-6920-44F9-A5A2-FEC94CD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57D-4085-455C-B855-F24A2C8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7E9-1975-46B0-B434-3A47354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D30-4692-453D-A0C3-BC3CD9C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DC9C62-A656-4838-857B-7150E20C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-IEEE Editorial Working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635-104D-4066-9672-6F601F8899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343400"/>
            <a:ext cx="3886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80988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ig4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523880" cy="493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53040" y="37339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40086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BD8-1FDA-4F9B-BD44-7522F13214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510552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34340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- TG1 done by Dec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ig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02320" cy="438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4440" y="559260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24320" y="5333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0B3-2DEA-47BC-BEEE-2EDF274A27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life for BT Editorial W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T Editorial Group plans to finish its IEEE Editorial lower layer  (OSI 1&amp;2) work in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is interested in the upper layer (OSI 3-7) this work may require this same or another WG inside of B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4120" y="2513160"/>
          <a:ext cx="33638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13160"/>
                    <a:ext cx="33638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D85-8610-48CE-885A-3C09528F5E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pr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of pre Draft Standard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pre Draft Standard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ed approved Standard, available as early as Apr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FF9-48B8-4311-93C2-2204B920AB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20720" y="1995480"/>
          <a:ext cx="59230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5480"/>
                    <a:ext cx="59230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F59-81E4-445A-9631-243D461952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74720" y="1503360"/>
          <a:ext cx="7650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03360"/>
                    <a:ext cx="7650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212-8513-4FD5-B33A-65908A346F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124080" y="1981080"/>
            <a:ext cx="2362320" cy="1067040"/>
          </a:xfrm>
          <a:prstGeom prst="leftArrow">
            <a:avLst>
              <a:gd name="adj1" fmla="val 50000"/>
              <a:gd name="adj2" fmla="val 5534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06D-727C-4C5D-AABC-95B09977F0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80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6DD-2089-41FB-A20E-26BD63D181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32200" y="2514600"/>
          <a:ext cx="42595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2200" y="2514600"/>
                    <a:ext cx="42595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9720" y="2513160"/>
          <a:ext cx="336420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2513160"/>
                    <a:ext cx="3364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6BD-BE8D-4430-86F8-9BE1912967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1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F67-C2BE-4BF5-98A2-CCAEC685E0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8620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72480" y="200664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ig1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53040" y="14018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3280" y="1676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95C-B899-40CA-B5B0-0AF098610F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6:10:17Z</dcterms:created>
  <dc:creator>Ian C. Gifford</dc:creator>
  <dc:description>068r0</dc:description>
  <dc:language>en-US</dc:language>
  <cp:lastModifiedBy>Ian C. Gifford</cp:lastModifiedBy>
  <cp:lastPrinted>1998-02-10T13:28:06Z</cp:lastPrinted>
  <dcterms:modified xsi:type="dcterms:W3CDTF">1999-09-13T05:49:26Z</dcterms:modified>
  <cp:revision>24</cp:revision>
  <dc:subject>IEEE 802.15 Liaison</dc:subject>
  <dc:title>Bluetooth-IEEE Editorial Working Group Report #1</dc:title>
</cp:coreProperties>
</file>