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80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93" name="PlaceHolder 2"/>
          <p:cNvSpPr>
            <a:spLocks noGrp="1"/>
          </p:cNvSpPr>
          <p:nvPr>
            <p:ph type="dt" idx="3"/>
          </p:nvPr>
        </p:nvSpPr>
        <p:spPr>
          <a:xfrm>
            <a:off x="3957480" y="-1440"/>
            <a:ext cx="3027600" cy="465120"/>
          </a:xfrm>
          <a:prstGeom prst="rect">
            <a:avLst/>
          </a:prstGeom>
          <a:noFill/>
          <a:ln w="0">
            <a:noFill/>
          </a:ln>
        </p:spPr>
        <p:txBody>
          <a:bodyPr lIns="19080" rIns="19080" tIns="0" bIns="0" anchor="t">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94" name="PlaceHolder 3"/>
          <p:cNvSpPr>
            <a:spLocks noGrp="1"/>
          </p:cNvSpPr>
          <p:nvPr>
            <p:ph type="ftr" idx="4"/>
          </p:nvPr>
        </p:nvSpPr>
        <p:spPr>
          <a:xfrm>
            <a:off x="-360" y="8817120"/>
            <a:ext cx="3027240" cy="465120"/>
          </a:xfrm>
          <a:prstGeom prst="rect">
            <a:avLst/>
          </a:prstGeom>
          <a:noFill/>
          <a:ln w="0">
            <a:noFill/>
          </a:ln>
        </p:spPr>
        <p:txBody>
          <a:bodyPr lIns="19080" rIns="19080" tIns="0" bIns="0" anchor="b">
            <a:noAutofit/>
          </a:bodyPr>
          <a:lstStyle>
            <a:lvl1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5" name="PlaceHolder 4"/>
          <p:cNvSpPr>
            <a:spLocks noGrp="1"/>
          </p:cNvSpPr>
          <p:nvPr>
            <p:ph type="sldNum" idx="5"/>
          </p:nvPr>
        </p:nvSpPr>
        <p:spPr>
          <a:xfrm>
            <a:off x="3957480" y="8817120"/>
            <a:ext cx="3027600" cy="465120"/>
          </a:xfrm>
          <a:prstGeom prst="rect">
            <a:avLst/>
          </a:prstGeom>
          <a:noFill/>
          <a:ln w="0">
            <a:noFill/>
          </a:ln>
        </p:spPr>
        <p:txBody>
          <a:bodyPr lIns="19080" rIns="19080" tIns="0" bIns="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B5CFD4E-50BE-4803-A2F4-15310695FF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PlaceHolder 5"/>
          <p:cNvSpPr>
            <a:spLocks noGrp="1"/>
          </p:cNvSpPr>
          <p:nvPr>
            <p:ph type="sldImg"/>
          </p:nvPr>
        </p:nvSpPr>
        <p:spPr>
          <a:xfrm>
            <a:off x="1161720" y="741240"/>
            <a:ext cx="466092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97" name="PlaceHolder 6"/>
          <p:cNvSpPr>
            <a:spLocks noGrp="1"/>
          </p:cNvSpPr>
          <p:nvPr>
            <p:ph type="body"/>
          </p:nvPr>
        </p:nvSpPr>
        <p:spPr>
          <a:xfrm>
            <a:off x="926640" y="4483080"/>
            <a:ext cx="5131080" cy="4221360"/>
          </a:xfrm>
          <a:prstGeom prst="rect">
            <a:avLst/>
          </a:prstGeom>
          <a:noFill/>
          <a:ln w="0">
            <a:noFill/>
          </a:ln>
        </p:spPr>
        <p:txBody>
          <a:bodyPr lIns="93600" rIns="93600" tIns="47520" bIns="47520" anchor="t">
            <a:noAutofit/>
          </a:bodyPr>
          <a:p>
            <a:pPr indent="0">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957480" y="8817120"/>
            <a:ext cx="3027600" cy="465120"/>
          </a:xfrm>
          <a:prstGeom prst="rect">
            <a:avLst/>
          </a:prstGeom>
          <a:noFill/>
          <a:ln w="0">
            <a:noFill/>
          </a:ln>
        </p:spPr>
        <p:txBody>
          <a:bodyPr lIns="19080" rIns="19080" tIns="0" bIns="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CB74A70-34BD-4B23-AE6E-1ED2337B2D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7" name=""/>
          <p:cNvSpPr txBox="1"/>
          <p:nvPr/>
        </p:nvSpPr>
        <p:spPr>
          <a:xfrm>
            <a:off x="-360" y="8817120"/>
            <a:ext cx="3027240" cy="465120"/>
          </a:xfrm>
          <a:prstGeom prst="rect">
            <a:avLst/>
          </a:prstGeom>
          <a:noFill/>
          <a:ln w="0">
            <a:noFill/>
          </a:ln>
        </p:spPr>
        <p:txBody>
          <a:bodyPr lIns="19080" rIns="19080" tIns="0" bIns="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38" name=""/>
          <p:cNvSpPr txBox="1"/>
          <p:nvPr/>
        </p:nvSpPr>
        <p:spPr>
          <a:xfrm>
            <a:off x="-360" y="-1440"/>
            <a:ext cx="3027240" cy="465120"/>
          </a:xfrm>
          <a:prstGeom prst="rect">
            <a:avLst/>
          </a:prstGeom>
          <a:noFill/>
          <a:ln w="0">
            <a:noFill/>
          </a:ln>
        </p:spPr>
        <p:txBody>
          <a:bodyPr lIns="19080" rIns="19080" tIns="0" bIns="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39" name=""/>
          <p:cNvSpPr txBox="1"/>
          <p:nvPr/>
        </p:nvSpPr>
        <p:spPr>
          <a:xfrm>
            <a:off x="3957480" y="-1440"/>
            <a:ext cx="3027600" cy="465120"/>
          </a:xfrm>
          <a:prstGeom prst="rect">
            <a:avLst/>
          </a:prstGeom>
          <a:noFill/>
          <a:ln w="0">
            <a:noFill/>
          </a:ln>
        </p:spPr>
        <p:txBody>
          <a:bodyPr lIns="19080" rIns="19080" tIns="0" bIns="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0" name="PlaceHolder 1"/>
          <p:cNvSpPr>
            <a:spLocks noGrp="1"/>
          </p:cNvSpPr>
          <p:nvPr>
            <p:ph type="sldImg"/>
          </p:nvPr>
        </p:nvSpPr>
        <p:spPr>
          <a:xfrm>
            <a:off x="1181160" y="703440"/>
            <a:ext cx="4622760" cy="3466800"/>
          </a:xfrm>
          <a:prstGeom prst="rect">
            <a:avLst/>
          </a:prstGeom>
          <a:ln w="0">
            <a:noFill/>
          </a:ln>
        </p:spPr>
      </p:sp>
      <p:sp>
        <p:nvSpPr>
          <p:cNvPr id="441"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431280" y="160668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 name="PlaceHolder 2"/>
          <p:cNvSpPr>
            <a:spLocks noGrp="1"/>
          </p:cNvSpPr>
          <p:nvPr>
            <p:ph/>
          </p:nvPr>
        </p:nvSpPr>
        <p:spPr>
          <a:xfrm>
            <a:off x="4312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24036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0490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312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24036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60490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A2B209-95F0-418B-818F-1D031F209C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type="subTitle"/>
          </p:nvPr>
        </p:nvSpPr>
        <p:spPr>
          <a:xfrm>
            <a:off x="431280" y="1606680"/>
            <a:ext cx="8307720" cy="4556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E0C1C8-6587-4C26-ABEA-1644CF6A13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0E63FB-F7ED-4F6E-BA32-C0C2232AED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594592-57D3-46A3-8B39-B307A520A7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F36D35-C178-4754-91E3-CB2C0FDD53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776240" y="175680"/>
            <a:ext cx="69868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7CDA3E-3D76-46C5-99BD-F6FEECC095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9FBEC0-B755-4E3D-9073-9DFF31B9A6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type="subTitle"/>
          </p:nvPr>
        </p:nvSpPr>
        <p:spPr>
          <a:xfrm>
            <a:off x="431280" y="1606680"/>
            <a:ext cx="8307720" cy="4556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AAAA03-E011-4667-AA6A-4C7696C49C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22EE38-DEF5-44AA-A0EC-7AC4B69D2D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31280" y="160668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68F94E-C062-46DE-8D89-345348AAD8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46DB8F-7DEF-4323-BB8B-853F2B3B7B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2"/>
          <p:cNvSpPr>
            <a:spLocks noGrp="1"/>
          </p:cNvSpPr>
          <p:nvPr>
            <p:ph/>
          </p:nvPr>
        </p:nvSpPr>
        <p:spPr>
          <a:xfrm>
            <a:off x="4312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324036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p:nvPr>
        </p:nvSpPr>
        <p:spPr>
          <a:xfrm>
            <a:off x="60490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p:nvPr>
        </p:nvSpPr>
        <p:spPr>
          <a:xfrm>
            <a:off x="4312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6"/>
          <p:cNvSpPr>
            <a:spLocks noGrp="1"/>
          </p:cNvSpPr>
          <p:nvPr>
            <p:ph/>
          </p:nvPr>
        </p:nvSpPr>
        <p:spPr>
          <a:xfrm>
            <a:off x="324036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7"/>
          <p:cNvSpPr>
            <a:spLocks noGrp="1"/>
          </p:cNvSpPr>
          <p:nvPr>
            <p:ph/>
          </p:nvPr>
        </p:nvSpPr>
        <p:spPr>
          <a:xfrm>
            <a:off x="60490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BAC701-534C-40AC-B387-108B2A0E05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776240" y="175680"/>
            <a:ext cx="69868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 descr=""/>
          <p:cNvPicPr/>
          <p:nvPr/>
        </p:nvPicPr>
        <p:blipFill>
          <a:blip r:embed="rId2"/>
          <a:stretch/>
        </p:blipFill>
        <p:spPr>
          <a:xfrm>
            <a:off x="380880" y="533520"/>
            <a:ext cx="1067040" cy="838080"/>
          </a:xfrm>
          <a:prstGeom prst="rect">
            <a:avLst/>
          </a:prstGeom>
          <a:ln w="0">
            <a:noFill/>
          </a:ln>
        </p:spPr>
      </p:pic>
      <p:sp>
        <p:nvSpPr>
          <p:cNvPr id="3" name=""/>
          <p:cNvSpPr/>
          <p:nvPr/>
        </p:nvSpPr>
        <p:spPr>
          <a:xfrm>
            <a:off x="352440" y="6400800"/>
            <a:ext cx="8381880" cy="0"/>
          </a:xfrm>
          <a:prstGeom prst="line">
            <a:avLst/>
          </a:prstGeom>
          <a:ln w="57240">
            <a:solidFill>
              <a:srgbClr val="1e5c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20120" y="227880"/>
            <a:ext cx="9122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C7A4-3C1B-4FFF-B96D-D7DBEB1E066D}" type="datetime5">
              <a:rPr b="1" lang="en-US" sz="1400" spc="-1" strike="noStrike">
                <a:solidFill>
                  <a:srgbClr val="000000"/>
                </a:solidFill>
                <a:latin typeface="Times New Roman"/>
              </a:rPr>
              <a:t>Jul 29, 2026</a:t>
            </a:fld>
            <a:endParaRPr b="0" lang="en-US" sz="1400" spc="-1" strike="noStrike">
              <a:solidFill>
                <a:srgbClr val="000000"/>
              </a:solidFill>
              <a:latin typeface="Times New Roman"/>
            </a:endParaRPr>
          </a:p>
        </p:txBody>
      </p:sp>
      <p:sp>
        <p:nvSpPr>
          <p:cNvPr id="5" name=""/>
          <p:cNvSpPr/>
          <p:nvPr/>
        </p:nvSpPr>
        <p:spPr>
          <a:xfrm>
            <a:off x="4800600" y="22788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01</a:t>
            </a:r>
            <a:endParaRPr b="0" lang="en-US" sz="1400" spc="-1" strike="noStrike">
              <a:solidFill>
                <a:srgbClr val="000000"/>
              </a:solidFill>
              <a:latin typeface="Times New Roman"/>
            </a:endParaRPr>
          </a:p>
        </p:txBody>
      </p:sp>
      <p:sp>
        <p:nvSpPr>
          <p:cNvPr id="6" name=""/>
          <p:cNvSpPr/>
          <p:nvPr/>
        </p:nvSpPr>
        <p:spPr>
          <a:xfrm>
            <a:off x="380880" y="457200"/>
            <a:ext cx="838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E38F24-E90A-4E7D-8F3B-261BA0188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0"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36560" y="4082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8" name=""/>
          <p:cNvSpPr/>
          <p:nvPr/>
        </p:nvSpPr>
        <p:spPr>
          <a:xfrm>
            <a:off x="457200" y="6400800"/>
            <a:ext cx="8381880" cy="0"/>
          </a:xfrm>
          <a:prstGeom prst="line">
            <a:avLst/>
          </a:prstGeom>
          <a:ln w="57240">
            <a:solidFill>
              <a:srgbClr val="1e5c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2"/>
          <a:stretch/>
        </p:blipFill>
        <p:spPr>
          <a:xfrm>
            <a:off x="3465360" y="582480"/>
            <a:ext cx="2203560" cy="1735200"/>
          </a:xfrm>
          <a:prstGeom prst="rect">
            <a:avLst/>
          </a:prstGeom>
          <a:ln w="0">
            <a:noFill/>
          </a:ln>
        </p:spPr>
      </p:pic>
      <p:sp>
        <p:nvSpPr>
          <p:cNvPr id="50" name="PlaceHolder 2"/>
          <p:cNvSpPr>
            <a:spLocks noGrp="1"/>
          </p:cNvSpPr>
          <p:nvPr>
            <p:ph type="ftr" idx="1"/>
          </p:nvPr>
        </p:nvSpPr>
        <p:spPr>
          <a:xfrm>
            <a:off x="5486400" y="6474960"/>
            <a:ext cx="3124080" cy="1828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3"/>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419561-A650-45CB-9FF5-6D6A1B7EB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lick to edit the outline text format</a:t>
            </a:r>
            <a:endParaRPr b="0" lang="en-US" sz="2000" spc="-1" strike="noStrike">
              <a:solidFill>
                <a:srgbClr val="00669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spcBef>
                <a:spcPts val="451"/>
              </a:spcBef>
              <a:buClr>
                <a:srgbClr val="006699"/>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00240" algn="ctr">
              <a:spcBef>
                <a:spcPts val="400"/>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42960" algn="ctr">
              <a:spcBef>
                <a:spcPts val="349"/>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429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429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98" name=""/>
          <p:cNvSpPr/>
          <p:nvPr/>
        </p:nvSpPr>
        <p:spPr>
          <a:xfrm>
            <a:off x="685800" y="22860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336680" y="3946680"/>
            <a:ext cx="7467480" cy="1752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0" y="2596680"/>
            <a:ext cx="91440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ideband FH NPRM Discussion</a:t>
            </a:r>
            <a:endParaRPr b="1" lang="en-US" sz="4400" spc="-1" strike="noStrike">
              <a:solidFill>
                <a:srgbClr val="000000"/>
              </a:solidFill>
              <a:latin typeface="Arial"/>
            </a:endParaRPr>
          </a:p>
        </p:txBody>
      </p:sp>
      <p:sp>
        <p:nvSpPr>
          <p:cNvPr id="101" name="PlaceHolder 2"/>
          <p:cNvSpPr>
            <a:spLocks noGrp="1"/>
          </p:cNvSpPr>
          <p:nvPr>
            <p:ph type="subTitle"/>
          </p:nvPr>
        </p:nvSpPr>
        <p:spPr>
          <a:xfrm>
            <a:off x="1327320" y="4083120"/>
            <a:ext cx="6457680" cy="178416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en Manny </a:t>
            </a:r>
            <a:endParaRPr b="0" lang="en-US" sz="2000" spc="-1" strike="noStrike">
              <a:solidFill>
                <a:srgbClr val="006699"/>
              </a:solidFill>
              <a:latin typeface="Arial"/>
            </a:endParaRPr>
          </a:p>
          <a:p>
            <a:pPr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hair, HomeRF Working Group</a:t>
            </a:r>
            <a:endParaRPr b="0" lang="en-US" sz="2000" spc="-1" strike="noStrike">
              <a:solidFill>
                <a:srgbClr val="0066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 </a:t>
            </a:r>
            <a:r>
              <a:rPr b="0" lang="en-US" sz="2000" spc="-1" strike="noStrike">
                <a:solidFill>
                  <a:srgbClr val="006699"/>
                </a:solidFill>
                <a:latin typeface="Arial"/>
              </a:rPr>
              <a:t>Intel Corporation &lt; ben.manny@intel.com&gt;</a:t>
            </a:r>
            <a:endParaRPr b="0" lang="en-US" sz="2000" spc="-1" strike="noStrike">
              <a:solidFill>
                <a:srgbClr val="006699"/>
              </a:solidFill>
              <a:latin typeface="Arial"/>
            </a:endParaRPr>
          </a:p>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EEE 802.11&amp;15 Interim Meeting</a:t>
            </a:r>
            <a:endParaRPr b="0" lang="en-US" sz="2400" spc="-1" strike="noStrike">
              <a:solidFill>
                <a:srgbClr val="0066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ptember 13, 1999 - Santa Rosa, CA</a:t>
            </a:r>
            <a:endParaRPr b="0" lang="en-US" sz="2400" spc="-1" strike="noStrike">
              <a:solidFill>
                <a:srgbClr val="006699"/>
              </a:solidFill>
              <a:latin typeface="Arial"/>
            </a:endParaRPr>
          </a:p>
        </p:txBody>
      </p:sp>
      <p:sp>
        <p:nvSpPr>
          <p:cNvPr id="102" name=""/>
          <p:cNvSpPr/>
          <p:nvPr/>
        </p:nvSpPr>
        <p:spPr>
          <a:xfrm>
            <a:off x="567000" y="396000"/>
            <a:ext cx="9122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0F20-1C28-4A15-9EF0-4AEAA2FC9850}" type="datetime5">
              <a:rPr b="1" lang="en-US" sz="1400" spc="-1" strike="noStrike">
                <a:solidFill>
                  <a:srgbClr val="000000"/>
                </a:solidFill>
                <a:latin typeface="Times New Roman"/>
              </a:rPr>
              <a:t>Jul 29, 2026</a:t>
            </a:fld>
            <a:endParaRPr b="0" lang="en-US" sz="1400" spc="-1" strike="noStrike">
              <a:solidFill>
                <a:srgbClr val="000000"/>
              </a:solidFill>
              <a:latin typeface="Times New Roman"/>
            </a:endParaRPr>
          </a:p>
        </p:txBody>
      </p:sp>
      <p:sp>
        <p:nvSpPr>
          <p:cNvPr id="10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01</a:t>
            </a:r>
            <a:endParaRPr b="0" lang="en-US" sz="1400" spc="-1" strike="noStrike">
              <a:solidFill>
                <a:srgbClr val="000000"/>
              </a:solidFill>
              <a:latin typeface="Times New Roman"/>
            </a:endParaRPr>
          </a:p>
        </p:txBody>
      </p:sp>
      <p:sp>
        <p:nvSpPr>
          <p:cNvPr id="10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en Manny, Intel</a:t>
            </a:r>
          </a:p>
        </p:txBody>
      </p:sp>
      <p:sp>
        <p:nvSpPr>
          <p:cNvPr id="5" name="PlaceHolder 4"/>
          <p:cNvSpPr>
            <a:spLocks noGrp="1"/>
          </p:cNvSpPr>
          <p:nvPr>
            <p:ph type="sldNum" idx="2"/>
          </p:nvPr>
        </p:nvSpPr>
        <p:spPr/>
        <p:txBody>
          <a:bodyPr/>
          <a:p>
            <a:fld id="{FFB2A717-3E62-4226-9DA0-FD649D44A9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points (2)</a:t>
            </a:r>
            <a:endParaRPr b="1" lang="en-US" sz="3600" spc="-1" strike="noStrike">
              <a:solidFill>
                <a:srgbClr val="000000"/>
              </a:solidFill>
              <a:latin typeface="Arial"/>
            </a:endParaRPr>
          </a:p>
        </p:txBody>
      </p:sp>
      <p:sp>
        <p:nvSpPr>
          <p:cNvPr id="402"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We believe the FCC’s role is to foster competition when it is in the consumer’s best interest</a:t>
            </a:r>
            <a:endParaRPr b="0" lang="en-US" sz="24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t of WBFH is to allow FH systems to move to higher speeds just like rule wavers have allowed DS systems to move to higher speeds - §15.247 has always allowed both DS and FH to operate in the 2.4GHz ISM band, and our belief is that the FCC should allow both technologies to compete and drive down prices.</a:t>
            </a:r>
            <a:endParaRPr b="0" lang="en-US" sz="18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1 has both FH and DS standards - both types of systems have advantages and disadvantages and 802.11 has historically recognized that fact</a:t>
            </a:r>
            <a:endParaRPr b="0" lang="en-US" sz="18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avoring an imbalance in §15.247, IEEE 802.11 is abandoning its traditional impartiality</a:t>
            </a:r>
            <a:endParaRPr b="0" lang="en-US" sz="1800" spc="-1" strike="noStrike">
              <a:solidFill>
                <a:srgbClr val="000000"/>
              </a:solidFill>
              <a:latin typeface="Arial"/>
            </a:endParaRPr>
          </a:p>
        </p:txBody>
      </p:sp>
      <p:sp>
        <p:nvSpPr>
          <p:cNvPr id="403" name=""/>
          <p:cNvSpPr/>
          <p:nvPr/>
        </p:nvSpPr>
        <p:spPr>
          <a:xfrm>
            <a:off x="380880" y="5574240"/>
            <a:ext cx="830592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 believes FH technology is best for home use, and should be allowed to expand to higher speeds, like DS techn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to letter (a-1)</a:t>
            </a:r>
            <a:endParaRPr b="1" lang="en-US" sz="3600" spc="-1" strike="noStrike">
              <a:solidFill>
                <a:srgbClr val="000000"/>
              </a:solidFill>
              <a:latin typeface="Arial"/>
            </a:endParaRPr>
          </a:p>
        </p:txBody>
      </p:sp>
      <p:sp>
        <p:nvSpPr>
          <p:cNvPr id="405" name="PlaceHolder 2"/>
          <p:cNvSpPr>
            <a:spLocks noGrp="1"/>
          </p:cNvSpPr>
          <p:nvPr>
            <p:ph/>
          </p:nvPr>
        </p:nvSpPr>
        <p:spPr>
          <a:xfrm>
            <a:off x="431280" y="1606680"/>
            <a:ext cx="779796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pped channels cause “increased interferenc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BFH will likely use GMSK, which has most of its energy concentrated near the middle of the channel</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5Mb/s w/5MHz channels, WBFH will be -20dB@4MHz</a:t>
            </a:r>
            <a:endParaRPr b="0" lang="en-US" sz="18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10Mb/s w/5MHz channels, WBFH will be -20dB@5MHz, and -10dB at 3MHz</a:t>
            </a:r>
            <a:endParaRPr b="0" lang="en-US" sz="18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results show that DS systems can operate at 0dB C/I, as long as it has 10dB of processing gain (next slid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H systems such as Bluetooth use limiter/discriminators, and capture effect effectively blocks interference for C/I&gt;11dB (B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BFH is 5MHz hopping over the entire 83.5MHz band; 802.11b  occupies 22MHz continuously per subnet</a:t>
            </a:r>
            <a:endParaRPr b="0" lang="en-US" sz="2000" spc="-1" strike="noStrike">
              <a:solidFill>
                <a:srgbClr val="000000"/>
              </a:solidFill>
              <a:latin typeface="Arial"/>
            </a:endParaRPr>
          </a:p>
        </p:txBody>
      </p:sp>
      <p:sp>
        <p:nvSpPr>
          <p:cNvPr id="406" name=""/>
          <p:cNvSpPr/>
          <p:nvPr/>
        </p:nvSpPr>
        <p:spPr>
          <a:xfrm>
            <a:off x="380880" y="6031800"/>
            <a:ext cx="8534520" cy="36828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terference from WBFH is only significant when C/I is poor -  not uniq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2)</a:t>
            </a:r>
            <a:endParaRPr b="1" lang="en-US" sz="3600" spc="-1" strike="noStrike">
              <a:solidFill>
                <a:srgbClr val="000000"/>
              </a:solidFill>
              <a:latin typeface="Arial"/>
            </a:endParaRPr>
          </a:p>
        </p:txBody>
      </p:sp>
      <p:pic>
        <p:nvPicPr>
          <p:cNvPr id="408" name="" descr=""/>
          <p:cNvPicPr/>
          <p:nvPr/>
        </p:nvPicPr>
        <p:blipFill>
          <a:blip r:embed="rId1"/>
          <a:stretch/>
        </p:blipFill>
        <p:spPr>
          <a:xfrm>
            <a:off x="533520" y="1219320"/>
            <a:ext cx="8610480" cy="4647960"/>
          </a:xfrm>
          <a:prstGeom prst="rect">
            <a:avLst/>
          </a:prstGeom>
          <a:ln w="0">
            <a:noFill/>
          </a:ln>
        </p:spPr>
      </p:pic>
      <p:sp>
        <p:nvSpPr>
          <p:cNvPr id="409" name=""/>
          <p:cNvSpPr/>
          <p:nvPr/>
        </p:nvSpPr>
        <p:spPr>
          <a:xfrm>
            <a:off x="914400" y="5802840"/>
            <a:ext cx="723888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thological case: Matlab simulation of 22MHz DS signal with 5MHz WBFH signal, equal power in DS I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152280" y="3505320"/>
            <a:ext cx="8991720" cy="2057400"/>
          </a:xfrm>
          <a:prstGeom prst="rect">
            <a:avLst/>
          </a:prstGeom>
          <a:ln w="0">
            <a:noFill/>
          </a:ln>
        </p:spPr>
      </p:pic>
      <p:sp>
        <p:nvSpPr>
          <p:cNvPr id="41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3)</a:t>
            </a:r>
            <a:endParaRPr b="1" lang="en-US" sz="3600" spc="-1" strike="noStrike">
              <a:solidFill>
                <a:srgbClr val="000000"/>
              </a:solidFill>
              <a:latin typeface="Arial"/>
            </a:endParaRPr>
          </a:p>
        </p:txBody>
      </p:sp>
      <p:pic>
        <p:nvPicPr>
          <p:cNvPr id="412" name="" descr=""/>
          <p:cNvPicPr/>
          <p:nvPr/>
        </p:nvPicPr>
        <p:blipFill>
          <a:blip r:embed="rId2"/>
          <a:stretch/>
        </p:blipFill>
        <p:spPr>
          <a:xfrm>
            <a:off x="0" y="1066680"/>
            <a:ext cx="9144000" cy="2397240"/>
          </a:xfrm>
          <a:prstGeom prst="rect">
            <a:avLst/>
          </a:prstGeom>
          <a:ln w="0">
            <a:noFill/>
          </a:ln>
        </p:spPr>
      </p:pic>
      <p:sp>
        <p:nvSpPr>
          <p:cNvPr id="413" name=""/>
          <p:cNvSpPr/>
          <p:nvPr/>
        </p:nvSpPr>
        <p:spPr>
          <a:xfrm flipH="1" flipV="1">
            <a:off x="4800600" y="2819520"/>
            <a:ext cx="379440" cy="257040"/>
          </a:xfrm>
          <a:prstGeom prst="line">
            <a:avLst/>
          </a:prstGeom>
          <a:ln w="19080">
            <a:solidFill>
              <a:srgbClr val="00cc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5800" y="2914560"/>
            <a:ext cx="2586960" cy="2764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to post-detection correlator</a:t>
            </a:r>
            <a:endParaRPr b="0" lang="en-US" sz="1200" spc="-1" strike="noStrike">
              <a:solidFill>
                <a:srgbClr val="000000"/>
              </a:solidFill>
              <a:latin typeface="Times New Roman"/>
            </a:endParaRPr>
          </a:p>
        </p:txBody>
      </p:sp>
      <p:sp>
        <p:nvSpPr>
          <p:cNvPr id="415" name=""/>
          <p:cNvSpPr/>
          <p:nvPr/>
        </p:nvSpPr>
        <p:spPr>
          <a:xfrm>
            <a:off x="6860520" y="914400"/>
            <a:ext cx="1675800" cy="2764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reading sequence</a:t>
            </a:r>
            <a:endParaRPr b="0" lang="en-US" sz="1200" spc="-1" strike="noStrike">
              <a:solidFill>
                <a:srgbClr val="000000"/>
              </a:solidFill>
              <a:latin typeface="Times New Roman"/>
            </a:endParaRPr>
          </a:p>
        </p:txBody>
      </p:sp>
      <p:sp>
        <p:nvSpPr>
          <p:cNvPr id="416" name=""/>
          <p:cNvSpPr/>
          <p:nvPr/>
        </p:nvSpPr>
        <p:spPr>
          <a:xfrm flipH="1">
            <a:off x="8077320" y="1066680"/>
            <a:ext cx="380880" cy="762120"/>
          </a:xfrm>
          <a:prstGeom prst="line">
            <a:avLst/>
          </a:prstGeom>
          <a:ln w="1908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46280" y="5667840"/>
            <a:ext cx="7788240" cy="703800"/>
          </a:xfrm>
          <a:prstGeom prst="rect">
            <a:avLst/>
          </a:prstGeom>
          <a:solidFill>
            <a:srgbClr val="3333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ven at 0dB C/I, a DS system with 10dB processing gain can recover the bit stream</a:t>
            </a:r>
            <a:endParaRPr b="0" lang="en-US" sz="2000" spc="-1" strike="noStrike">
              <a:solidFill>
                <a:srgbClr val="000000"/>
              </a:solidFill>
              <a:latin typeface="Times New Roman"/>
            </a:endParaRPr>
          </a:p>
        </p:txBody>
      </p:sp>
      <p:sp>
        <p:nvSpPr>
          <p:cNvPr id="418" name=""/>
          <p:cNvSpPr/>
          <p:nvPr/>
        </p:nvSpPr>
        <p:spPr>
          <a:xfrm>
            <a:off x="6032520" y="3897720"/>
            <a:ext cx="1937880" cy="2764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llel corelator output</a:t>
            </a:r>
            <a:endParaRPr b="0" lang="en-US" sz="1200" spc="-1" strike="noStrike">
              <a:solidFill>
                <a:srgbClr val="000000"/>
              </a:solidFill>
              <a:latin typeface="Times New Roman"/>
            </a:endParaRPr>
          </a:p>
        </p:txBody>
      </p:sp>
      <p:sp>
        <p:nvSpPr>
          <p:cNvPr id="419" name=""/>
          <p:cNvSpPr/>
          <p:nvPr/>
        </p:nvSpPr>
        <p:spPr>
          <a:xfrm flipH="1">
            <a:off x="5714640" y="3962520"/>
            <a:ext cx="30492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20680" y="4812120"/>
            <a:ext cx="1863360" cy="2764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iginal data sequence</a:t>
            </a:r>
            <a:endParaRPr b="0" lang="en-US" sz="1200" spc="-1" strike="noStrike">
              <a:solidFill>
                <a:srgbClr val="000000"/>
              </a:solidFill>
              <a:latin typeface="Times New Roman"/>
            </a:endParaRPr>
          </a:p>
        </p:txBody>
      </p:sp>
      <p:sp>
        <p:nvSpPr>
          <p:cNvPr id="421" name=""/>
          <p:cNvSpPr/>
          <p:nvPr/>
        </p:nvSpPr>
        <p:spPr>
          <a:xfrm flipH="1" flipV="1">
            <a:off x="5105520" y="4648320"/>
            <a:ext cx="457200" cy="304560"/>
          </a:xfrm>
          <a:prstGeom prst="line">
            <a:avLst/>
          </a:prstGeom>
          <a:ln w="255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4)</a:t>
            </a:r>
            <a:endParaRPr b="1" lang="en-US" sz="3600" spc="-1" strike="noStrike">
              <a:solidFill>
                <a:srgbClr val="000000"/>
              </a:solidFill>
              <a:latin typeface="Arial"/>
            </a:endParaRPr>
          </a:p>
        </p:txBody>
      </p:sp>
      <p:sp>
        <p:nvSpPr>
          <p:cNvPr id="423"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BFH does not pose a significant interference threat to other FH systems</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r/discriminator systems capture at C/I&gt;10dB or so</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a:t>
            </a:r>
            <a:r>
              <a:rPr b="0" lang="en-US" sz="2000" spc="-1" strike="noStrike">
                <a:solidFill>
                  <a:srgbClr val="000000"/>
                </a:solidFill>
                <a:latin typeface="Arial"/>
              </a:rPr>
              <a:t>interferer will cause problems at C/I below captur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systems must revert to 1MHz channels under interference or impairments, so situation will be same as today</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tral density of WBFH will be lower since power is spread over as much as 5MHz</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5)</a:t>
            </a:r>
            <a:endParaRPr b="1" lang="en-US" sz="3600" spc="-1" strike="noStrike">
              <a:solidFill>
                <a:srgbClr val="000000"/>
              </a:solidFill>
              <a:latin typeface="Arial"/>
            </a:endParaRPr>
          </a:p>
        </p:txBody>
      </p:sp>
      <p:sp>
        <p:nvSpPr>
          <p:cNvPr id="425"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A issues are only relevant for 802.11 systems</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 can only do energy detection for today’s SWAP or BT system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in CCA between 802.11FH and D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doesn’t even do CCA of any type</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interference of WBFH is not an issue for 802.11 or FCC</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hopping sequences are a minimum of 10MHz between adjacent hop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AP devices must negotiate between themselves, like 802.11</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RF doesn’t consider self interference (802.11 with itself or WBFH with itself) as an FCC iss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b-1)</a:t>
            </a:r>
            <a:endParaRPr b="1" lang="en-US" sz="3600" spc="-1" strike="noStrike">
              <a:solidFill>
                <a:srgbClr val="000000"/>
              </a:solidFill>
              <a:latin typeface="Arial"/>
            </a:endParaRPr>
          </a:p>
        </p:txBody>
      </p:sp>
      <p:sp>
        <p:nvSpPr>
          <p:cNvPr id="427"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 general, a faster hop rate for FHSS systems represents a more severe interference threat than does an FHSS system employing a slower hop rat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statement, Bluetooth would seem to be the worst case, since it hops much faster than WBFH, BUT, according to a study by an 802.11 company:</a:t>
            </a:r>
            <a:endParaRPr b="0" lang="en-US" sz="2000" spc="-1" strike="noStrike">
              <a:solidFill>
                <a:srgbClr val="000000"/>
              </a:solidFill>
              <a:latin typeface="Arial"/>
            </a:endParaRPr>
          </a:p>
          <a:p>
            <a:pPr lvl="2" marL="1085760" indent="-228600" algn="just">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EEE 802.11 DSSS systems show graceful degradation in the presence of significant levels of BT interference”</a:t>
            </a:r>
            <a:endParaRPr b="0" lang="en-US" sz="1800" spc="-1" strike="noStrike">
              <a:solidFill>
                <a:srgbClr val="000000"/>
              </a:solidFill>
              <a:latin typeface="Arial"/>
            </a:endParaRPr>
          </a:p>
          <a:p>
            <a:pPr lvl="2" marL="1085760" indent="-228600" algn="just">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EEE 802.11 High Speed WLANs show good reliability even in an environment of fairly dense BT piconet usage”</a:t>
            </a:r>
            <a:endParaRPr b="0" lang="en-US" sz="1800" spc="-1" strike="noStrike">
              <a:solidFill>
                <a:srgbClr val="000000"/>
              </a:solidFill>
              <a:latin typeface="Arial"/>
            </a:endParaRPr>
          </a:p>
          <a:p>
            <a:pPr lvl="1" marL="743040" indent="-285840" algn="just">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statements are true, then the slower hop rate of WBFH should make it more benign to 802.11b </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c-1)</a:t>
            </a:r>
            <a:endParaRPr b="1" lang="en-US" sz="3600" spc="-1" strike="noStrike">
              <a:solidFill>
                <a:srgbClr val="000000"/>
              </a:solidFill>
              <a:latin typeface="Arial"/>
            </a:endParaRPr>
          </a:p>
        </p:txBody>
      </p:sp>
      <p:sp>
        <p:nvSpPr>
          <p:cNvPr id="429" name="PlaceHolder 2"/>
          <p:cNvSpPr>
            <a:spLocks noGrp="1"/>
          </p:cNvSpPr>
          <p:nvPr>
            <p:ph/>
          </p:nvPr>
        </p:nvSpPr>
        <p:spPr>
          <a:xfrm>
            <a:off x="380880" y="1219320"/>
            <a:ext cx="8307360" cy="4556160"/>
          </a:xfrm>
          <a:prstGeom prst="rect">
            <a:avLst/>
          </a:prstGeom>
          <a:noFill/>
          <a:ln w="0">
            <a:noFill/>
          </a:ln>
        </p:spPr>
        <p:txBody>
          <a:bodyPr lIns="92160" rIns="92160" tIns="46080" bIns="46080" anchor="t">
            <a:normAutofit fontScale="94000"/>
          </a:bodyPr>
          <a:p>
            <a:pPr marL="322200" indent="-3222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proportional reduction in maximum allowed transmitted RF power will not “effectively offset the impact of wider occupied channels”</a:t>
            </a:r>
            <a:endParaRPr b="0" lang="en-US" sz="24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imed detrimental impact of wider channels has not been substantiated</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WLAN vendors DO ship products with RF power &gt;100mW</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WBFH system at 200mW over 5MHz but hopping 50 times per second is bad, consider that FCC rules currently allow DS systems to transmit at a single frequency with an RF bandwidth of 5MHz (500kb/s w/10dB of processing gain) at up to 1 Watt, which would appear to be much worse for interference</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200mW WBFH system would have the same overall power spectral density over the 83.5MHz as allowed under today’s rules</a:t>
            </a:r>
            <a:endParaRPr b="0" lang="en-US" sz="2000" spc="-1" strike="noStrike">
              <a:solidFill>
                <a:srgbClr val="000000"/>
              </a:solidFill>
              <a:latin typeface="Arial"/>
            </a:endParaRPr>
          </a:p>
        </p:txBody>
      </p:sp>
      <p:sp>
        <p:nvSpPr>
          <p:cNvPr id="430" name=""/>
          <p:cNvSpPr/>
          <p:nvPr/>
        </p:nvSpPr>
        <p:spPr>
          <a:xfrm>
            <a:off x="152280" y="5955480"/>
            <a:ext cx="8763120" cy="36828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BFH offers many advantages - and doesn’t  increase PSD over today’s ru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d-1)</a:t>
            </a:r>
            <a:endParaRPr b="1" lang="en-US" sz="3600" spc="-1" strike="noStrike">
              <a:solidFill>
                <a:srgbClr val="000000"/>
              </a:solidFill>
              <a:latin typeface="Arial"/>
            </a:endParaRPr>
          </a:p>
        </p:txBody>
      </p:sp>
      <p:sp>
        <p:nvSpPr>
          <p:cNvPr id="432" name="PlaceHolder 2"/>
          <p:cNvSpPr>
            <a:spLocks noGrp="1"/>
          </p:cNvSpPr>
          <p:nvPr>
            <p:ph/>
          </p:nvPr>
        </p:nvSpPr>
        <p:spPr>
          <a:xfrm>
            <a:off x="228600" y="1606680"/>
            <a:ext cx="8686800" cy="4556160"/>
          </a:xfrm>
          <a:prstGeom prst="rect">
            <a:avLst/>
          </a:prstGeom>
          <a:noFill/>
          <a:ln w="0">
            <a:noFill/>
          </a:ln>
        </p:spPr>
        <p:txBody>
          <a:bodyPr lIns="92160" rIns="92160" tIns="46080" bIns="46080" anchor="t">
            <a:normAutofit/>
          </a:bodyPr>
          <a:p>
            <a:pPr marL="343080" indent="-343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Changing the 15.247 rules to allow WBFH is not necessary, since there is “already…a standard for high speed wireless networking” that will meet all of HomeRF’s objective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chose FH for SWAP because, compared to DS, FH offers:</a:t>
            </a:r>
            <a:endParaRPr b="0" lang="en-US" sz="20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power consumption</a:t>
            </a:r>
            <a:endParaRPr b="0" lang="en-US" sz="16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cost</a:t>
            </a:r>
            <a:endParaRPr b="0" lang="en-US" sz="16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graceful degradation in capacity with increasing network density, including multi-family dwellings</a:t>
            </a:r>
            <a:endParaRPr b="0" lang="en-US" sz="16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on, the HomeRF MRD requires a complete cordless telephony solution, which SWAP gets from DECT</a:t>
            </a:r>
            <a:endParaRPr b="0" lang="en-US" sz="2000" spc="-1" strike="noStrike">
              <a:solidFill>
                <a:srgbClr val="000000"/>
              </a:solidFill>
              <a:latin typeface="Arial"/>
            </a:endParaRPr>
          </a:p>
          <a:p>
            <a:pPr marL="343080" indent="-34308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802.11b does not meet the HomeRF MRD, or we would have chosen it</a:t>
            </a:r>
            <a:endParaRPr b="0" lang="en-US" sz="1800" spc="-1" strike="noStrike">
              <a:solidFill>
                <a:srgbClr val="000000"/>
              </a:solidFill>
              <a:latin typeface="Arial"/>
            </a:endParaRPr>
          </a:p>
          <a:p>
            <a:pPr marL="343080" indent="-343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WAP and 802.11b are competitive, that’s OK…competition is good!</a:t>
            </a:r>
            <a:endParaRPr b="0" lang="en-US" sz="2000" spc="-1" strike="noStrike">
              <a:solidFill>
                <a:srgbClr val="000000"/>
              </a:solidFill>
              <a:latin typeface="Arial"/>
            </a:endParaRPr>
          </a:p>
        </p:txBody>
      </p:sp>
      <p:sp>
        <p:nvSpPr>
          <p:cNvPr id="433" name=""/>
          <p:cNvSpPr/>
          <p:nvPr/>
        </p:nvSpPr>
        <p:spPr>
          <a:xfrm>
            <a:off x="380880" y="5421600"/>
            <a:ext cx="815364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SWAP was designed for its target market - the 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802.11b was designed for the enterpri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ll To Action</a:t>
            </a:r>
            <a:endParaRPr b="1" lang="en-US" sz="3600" spc="-1" strike="noStrike">
              <a:solidFill>
                <a:srgbClr val="000000"/>
              </a:solidFill>
              <a:latin typeface="Arial"/>
            </a:endParaRPr>
          </a:p>
        </p:txBody>
      </p:sp>
      <p:sp>
        <p:nvSpPr>
          <p:cNvPr id="435" name="PlaceHolder 2"/>
          <p:cNvSpPr>
            <a:spLocks noGrp="1"/>
          </p:cNvSpPr>
          <p:nvPr>
            <p:ph/>
          </p:nvPr>
        </p:nvSpPr>
        <p:spPr>
          <a:xfrm>
            <a:off x="431280" y="1600200"/>
            <a:ext cx="8712360" cy="4232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recall first letter and send in a letter of support for the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ligned with IEEE 802 goals of supporting regulations that permit greatest selection of best technology to meet specific market needs </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oes not impact the performance of existing Part 15 compliant products over current regulation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enable US consumers to benefit from new wireless devices that are currently allowed in most other countries but not in the US   </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recall first letter and remain neutral</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ndividual companies comment on rule ch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33160" y="228600"/>
            <a:ext cx="6986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oints</a:t>
            </a:r>
            <a:endParaRPr b="1" lang="en-US" sz="3600" spc="-1" strike="noStrike">
              <a:solidFill>
                <a:srgbClr val="000000"/>
              </a:solidFill>
              <a:latin typeface="Arial"/>
            </a:endParaRPr>
          </a:p>
        </p:txBody>
      </p:sp>
      <p:sp>
        <p:nvSpPr>
          <p:cNvPr id="106" name="PlaceHolder 2"/>
          <p:cNvSpPr>
            <a:spLocks noGrp="1"/>
          </p:cNvSpPr>
          <p:nvPr>
            <p:ph/>
          </p:nvPr>
        </p:nvSpPr>
        <p:spPr>
          <a:xfrm>
            <a:off x="837720" y="1752480"/>
            <a:ext cx="7844040" cy="46389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 for proposed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 Mission</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Usage Scenario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anded Usage Scenarios</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quested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Change</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ing to IEEE objections</a:t>
            </a:r>
            <a:endParaRPr b="0" lang="en-US" sz="24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 to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533160"/>
            <a:ext cx="7925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meRF™</a:t>
            </a:r>
            <a:r>
              <a:rPr b="0" lang="en-US" sz="3600" spc="-1" strike="noStrike">
                <a:solidFill>
                  <a:srgbClr val="000000"/>
                </a:solidFill>
                <a:latin typeface="Arial"/>
              </a:rPr>
              <a:t> </a:t>
            </a:r>
            <a:r>
              <a:rPr b="1" lang="en-US" sz="3600" spc="-1" strike="noStrike">
                <a:solidFill>
                  <a:srgbClr val="000000"/>
                </a:solidFill>
                <a:latin typeface="Arial"/>
              </a:rPr>
              <a:t>Working Group </a:t>
            </a:r>
            <a:br>
              <a:rPr sz="3600"/>
            </a:br>
            <a:r>
              <a:rPr b="1" lang="en-US" sz="3600" spc="-1" strike="noStrike">
                <a:solidFill>
                  <a:srgbClr val="000000"/>
                </a:solidFill>
                <a:latin typeface="Arial"/>
              </a:rPr>
              <a:t>Mission Statement</a:t>
            </a:r>
            <a:r>
              <a:rPr b="0" lang="en-US" sz="3600" spc="-1" strike="noStrike">
                <a:solidFill>
                  <a:srgbClr val="000000"/>
                </a:solidFill>
                <a:latin typeface="Arial"/>
              </a:rPr>
              <a:t> </a:t>
            </a:r>
            <a:endParaRPr b="1" lang="en-US" sz="3600" spc="-1" strike="noStrike">
              <a:solidFill>
                <a:srgbClr val="000000"/>
              </a:solidFill>
              <a:latin typeface="Arial"/>
            </a:endParaRPr>
          </a:p>
        </p:txBody>
      </p:sp>
      <p:sp>
        <p:nvSpPr>
          <p:cNvPr id="108" name="PlaceHolder 2"/>
          <p:cNvSpPr>
            <a:spLocks noGrp="1"/>
          </p:cNvSpPr>
          <p:nvPr>
            <p:ph/>
          </p:nvPr>
        </p:nvSpPr>
        <p:spPr>
          <a:xfrm>
            <a:off x="1066680" y="1676520"/>
            <a:ext cx="7391520" cy="36576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Arial"/>
            </a:endParaRPr>
          </a:p>
        </p:txBody>
      </p:sp>
      <p:sp>
        <p:nvSpPr>
          <p:cNvPr id="109" name=""/>
          <p:cNvSpPr/>
          <p:nvPr/>
        </p:nvSpPr>
        <p:spPr>
          <a:xfrm>
            <a:off x="1973160" y="5409000"/>
            <a:ext cx="4829040" cy="5814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4 Members as of 9/1/99</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10" name=""/>
          <p:cNvSpPr/>
          <p:nvPr/>
        </p:nvSpPr>
        <p:spPr>
          <a:xfrm>
            <a:off x="5024520" y="3659040"/>
            <a:ext cx="27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1752120" y="609480"/>
            <a:ext cx="4419720" cy="60984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s Broadband Pipes</a:t>
            </a:r>
            <a:br>
              <a:rPr sz="2000"/>
            </a:br>
            <a:r>
              <a:rPr b="1" lang="en-US" sz="2000" spc="-1" strike="noStrike">
                <a:solidFill>
                  <a:srgbClr val="000000"/>
                </a:solidFill>
                <a:latin typeface="Arial"/>
              </a:rPr>
              <a:t>to Home network</a:t>
            </a:r>
            <a:endParaRPr b="1" lang="en-US" sz="2000" spc="-1" strike="noStrike">
              <a:solidFill>
                <a:srgbClr val="000000"/>
              </a:solidFill>
              <a:latin typeface="Arial"/>
            </a:endParaRPr>
          </a:p>
        </p:txBody>
      </p:sp>
      <p:sp>
        <p:nvSpPr>
          <p:cNvPr id="112" name=""/>
          <p:cNvSpPr/>
          <p:nvPr/>
        </p:nvSpPr>
        <p:spPr>
          <a:xfrm>
            <a:off x="3935520" y="3429000"/>
            <a:ext cx="42552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44920" y="3695040"/>
            <a:ext cx="133740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ternet Pipe</a:t>
            </a:r>
            <a:endParaRPr b="0" lang="en-US" sz="1500" spc="-1" strike="noStrike">
              <a:solidFill>
                <a:srgbClr val="000000"/>
              </a:solidFill>
              <a:latin typeface="Times New Roman"/>
            </a:endParaRPr>
          </a:p>
        </p:txBody>
      </p:sp>
      <p:pic>
        <p:nvPicPr>
          <p:cNvPr id="114" name="" descr=""/>
          <p:cNvPicPr/>
          <p:nvPr/>
        </p:nvPicPr>
        <p:blipFill>
          <a:blip r:embed="rId1"/>
          <a:stretch/>
        </p:blipFill>
        <p:spPr>
          <a:xfrm>
            <a:off x="4151160" y="2973240"/>
            <a:ext cx="1017720" cy="1063800"/>
          </a:xfrm>
          <a:prstGeom prst="rect">
            <a:avLst/>
          </a:prstGeom>
          <a:ln w="0">
            <a:noFill/>
          </a:ln>
        </p:spPr>
      </p:pic>
      <p:grpSp>
        <p:nvGrpSpPr>
          <p:cNvPr id="115" name=""/>
          <p:cNvGrpSpPr/>
          <p:nvPr/>
        </p:nvGrpSpPr>
        <p:grpSpPr>
          <a:xfrm>
            <a:off x="4998960" y="3301200"/>
            <a:ext cx="2714760" cy="357840"/>
            <a:chOff x="4998960" y="3301200"/>
            <a:chExt cx="2714760" cy="357840"/>
          </a:xfrm>
        </p:grpSpPr>
        <p:sp>
          <p:nvSpPr>
            <p:cNvPr id="116" name=""/>
            <p:cNvSpPr/>
            <p:nvPr/>
          </p:nvSpPr>
          <p:spPr>
            <a:xfrm>
              <a:off x="4998960" y="3659040"/>
              <a:ext cx="2714760" cy="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347080" y="3301200"/>
              <a:ext cx="118512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adband</a:t>
              </a:r>
              <a:endParaRPr b="0" lang="en-US" sz="1500" spc="-1" strike="noStrike">
                <a:solidFill>
                  <a:srgbClr val="000000"/>
                </a:solidFill>
                <a:latin typeface="Times New Roman"/>
              </a:endParaRPr>
            </a:p>
          </p:txBody>
        </p:sp>
      </p:grpSp>
      <p:grpSp>
        <p:nvGrpSpPr>
          <p:cNvPr id="118" name=""/>
          <p:cNvGrpSpPr/>
          <p:nvPr/>
        </p:nvGrpSpPr>
        <p:grpSpPr>
          <a:xfrm>
            <a:off x="7397640" y="2860560"/>
            <a:ext cx="1581120" cy="1544760"/>
            <a:chOff x="7397640" y="2860560"/>
            <a:chExt cx="1581120" cy="1544760"/>
          </a:xfrm>
        </p:grpSpPr>
        <p:sp>
          <p:nvSpPr>
            <p:cNvPr id="119" name=""/>
            <p:cNvSpPr/>
            <p:nvPr/>
          </p:nvSpPr>
          <p:spPr>
            <a:xfrm>
              <a:off x="7397640" y="2860560"/>
              <a:ext cx="1581120" cy="1544760"/>
            </a:xfrm>
            <a:custGeom>
              <a:avLst/>
              <a:gdLst/>
              <a:ahLst/>
              <a:rect l="l" t="t" r="r" b="b"/>
              <a:pathLst>
                <a:path w="5874" h="5762">
                  <a:moveTo>
                    <a:pt x="3103" y="5760"/>
                  </a:moveTo>
                  <a:lnTo>
                    <a:pt x="3215" y="5749"/>
                  </a:lnTo>
                  <a:lnTo>
                    <a:pt x="3303" y="5743"/>
                  </a:lnTo>
                  <a:lnTo>
                    <a:pt x="3401" y="5731"/>
                  </a:lnTo>
                  <a:lnTo>
                    <a:pt x="3533" y="5698"/>
                  </a:lnTo>
                  <a:lnTo>
                    <a:pt x="3663" y="5667"/>
                  </a:lnTo>
                  <a:lnTo>
                    <a:pt x="3818" y="5625"/>
                  </a:lnTo>
                  <a:lnTo>
                    <a:pt x="3962" y="5574"/>
                  </a:lnTo>
                  <a:lnTo>
                    <a:pt x="4100" y="5526"/>
                  </a:lnTo>
                  <a:lnTo>
                    <a:pt x="4212" y="5481"/>
                  </a:lnTo>
                  <a:lnTo>
                    <a:pt x="4305" y="5419"/>
                  </a:lnTo>
                  <a:lnTo>
                    <a:pt x="4398" y="5369"/>
                  </a:lnTo>
                  <a:lnTo>
                    <a:pt x="4491" y="5312"/>
                  </a:lnTo>
                  <a:lnTo>
                    <a:pt x="4629" y="5233"/>
                  </a:lnTo>
                  <a:lnTo>
                    <a:pt x="4722" y="5171"/>
                  </a:lnTo>
                  <a:lnTo>
                    <a:pt x="4815" y="5089"/>
                  </a:lnTo>
                  <a:lnTo>
                    <a:pt x="4891" y="5021"/>
                  </a:lnTo>
                  <a:lnTo>
                    <a:pt x="5108" y="4814"/>
                  </a:lnTo>
                  <a:lnTo>
                    <a:pt x="5190" y="4721"/>
                  </a:lnTo>
                  <a:lnTo>
                    <a:pt x="5265" y="4628"/>
                  </a:lnTo>
                  <a:lnTo>
                    <a:pt x="5376" y="4472"/>
                  </a:lnTo>
                  <a:lnTo>
                    <a:pt x="5471" y="4329"/>
                  </a:lnTo>
                  <a:lnTo>
                    <a:pt x="5513" y="4255"/>
                  </a:lnTo>
                  <a:lnTo>
                    <a:pt x="5544" y="4191"/>
                  </a:lnTo>
                  <a:lnTo>
                    <a:pt x="5595" y="4098"/>
                  </a:lnTo>
                  <a:lnTo>
                    <a:pt x="5638" y="4017"/>
                  </a:lnTo>
                  <a:lnTo>
                    <a:pt x="5671" y="3912"/>
                  </a:lnTo>
                  <a:lnTo>
                    <a:pt x="5719" y="3788"/>
                  </a:lnTo>
                  <a:lnTo>
                    <a:pt x="5750" y="3701"/>
                  </a:lnTo>
                  <a:lnTo>
                    <a:pt x="5781" y="3594"/>
                  </a:lnTo>
                  <a:lnTo>
                    <a:pt x="5812" y="3456"/>
                  </a:lnTo>
                  <a:lnTo>
                    <a:pt x="5843" y="3313"/>
                  </a:lnTo>
                  <a:lnTo>
                    <a:pt x="5857" y="3138"/>
                  </a:lnTo>
                  <a:lnTo>
                    <a:pt x="5874" y="2983"/>
                  </a:lnTo>
                  <a:lnTo>
                    <a:pt x="5874" y="2735"/>
                  </a:lnTo>
                  <a:lnTo>
                    <a:pt x="5857" y="2529"/>
                  </a:lnTo>
                  <a:lnTo>
                    <a:pt x="5812" y="2349"/>
                  </a:lnTo>
                  <a:lnTo>
                    <a:pt x="5781" y="2155"/>
                  </a:lnTo>
                  <a:lnTo>
                    <a:pt x="5713" y="1949"/>
                  </a:lnTo>
                  <a:lnTo>
                    <a:pt x="5638" y="1769"/>
                  </a:lnTo>
                  <a:lnTo>
                    <a:pt x="5513" y="1519"/>
                  </a:lnTo>
                  <a:lnTo>
                    <a:pt x="5451" y="1394"/>
                  </a:lnTo>
                  <a:lnTo>
                    <a:pt x="5376" y="1290"/>
                  </a:lnTo>
                  <a:lnTo>
                    <a:pt x="5314" y="1195"/>
                  </a:lnTo>
                  <a:lnTo>
                    <a:pt x="5221" y="1084"/>
                  </a:lnTo>
                  <a:lnTo>
                    <a:pt x="5172" y="1020"/>
                  </a:lnTo>
                  <a:lnTo>
                    <a:pt x="5077" y="915"/>
                  </a:lnTo>
                  <a:lnTo>
                    <a:pt x="4928" y="778"/>
                  </a:lnTo>
                  <a:lnTo>
                    <a:pt x="4767" y="634"/>
                  </a:lnTo>
                  <a:lnTo>
                    <a:pt x="4584" y="504"/>
                  </a:lnTo>
                  <a:lnTo>
                    <a:pt x="4441" y="417"/>
                  </a:lnTo>
                  <a:lnTo>
                    <a:pt x="4274" y="324"/>
                  </a:lnTo>
                  <a:lnTo>
                    <a:pt x="4086" y="231"/>
                  </a:lnTo>
                  <a:lnTo>
                    <a:pt x="3869" y="149"/>
                  </a:lnTo>
                  <a:lnTo>
                    <a:pt x="3638" y="87"/>
                  </a:lnTo>
                  <a:lnTo>
                    <a:pt x="3382" y="37"/>
                  </a:lnTo>
                  <a:lnTo>
                    <a:pt x="3140" y="6"/>
                  </a:lnTo>
                  <a:lnTo>
                    <a:pt x="2928" y="0"/>
                  </a:lnTo>
                  <a:lnTo>
                    <a:pt x="2697" y="6"/>
                  </a:lnTo>
                  <a:lnTo>
                    <a:pt x="2447" y="43"/>
                  </a:lnTo>
                  <a:lnTo>
                    <a:pt x="2199" y="93"/>
                  </a:lnTo>
                  <a:lnTo>
                    <a:pt x="1968" y="161"/>
                  </a:lnTo>
                  <a:lnTo>
                    <a:pt x="1776" y="231"/>
                  </a:lnTo>
                  <a:lnTo>
                    <a:pt x="1619" y="304"/>
                  </a:lnTo>
                  <a:lnTo>
                    <a:pt x="1464" y="397"/>
                  </a:lnTo>
                  <a:lnTo>
                    <a:pt x="1295" y="493"/>
                  </a:lnTo>
                  <a:lnTo>
                    <a:pt x="1121" y="622"/>
                  </a:lnTo>
                  <a:lnTo>
                    <a:pt x="966" y="747"/>
                  </a:lnTo>
                  <a:lnTo>
                    <a:pt x="867" y="853"/>
                  </a:lnTo>
                  <a:lnTo>
                    <a:pt x="779" y="935"/>
                  </a:lnTo>
                  <a:lnTo>
                    <a:pt x="679" y="1051"/>
                  </a:lnTo>
                  <a:lnTo>
                    <a:pt x="574" y="1177"/>
                  </a:lnTo>
                  <a:lnTo>
                    <a:pt x="504" y="1276"/>
                  </a:lnTo>
                  <a:lnTo>
                    <a:pt x="417" y="1394"/>
                  </a:lnTo>
                  <a:lnTo>
                    <a:pt x="355" y="1507"/>
                  </a:lnTo>
                  <a:lnTo>
                    <a:pt x="293" y="1619"/>
                  </a:lnTo>
                  <a:lnTo>
                    <a:pt x="231" y="1757"/>
                  </a:lnTo>
                  <a:lnTo>
                    <a:pt x="194" y="1873"/>
                  </a:lnTo>
                  <a:lnTo>
                    <a:pt x="138" y="2025"/>
                  </a:lnTo>
                  <a:lnTo>
                    <a:pt x="106" y="2129"/>
                  </a:lnTo>
                  <a:lnTo>
                    <a:pt x="62" y="2292"/>
                  </a:lnTo>
                  <a:lnTo>
                    <a:pt x="31" y="2459"/>
                  </a:lnTo>
                  <a:lnTo>
                    <a:pt x="6" y="2715"/>
                  </a:lnTo>
                  <a:lnTo>
                    <a:pt x="0" y="2859"/>
                  </a:lnTo>
                  <a:lnTo>
                    <a:pt x="6" y="3008"/>
                  </a:lnTo>
                  <a:lnTo>
                    <a:pt x="31" y="3295"/>
                  </a:lnTo>
                  <a:lnTo>
                    <a:pt x="56" y="3450"/>
                  </a:lnTo>
                  <a:lnTo>
                    <a:pt x="99" y="3613"/>
                  </a:lnTo>
                  <a:lnTo>
                    <a:pt x="138" y="3757"/>
                  </a:lnTo>
                  <a:lnTo>
                    <a:pt x="211" y="3943"/>
                  </a:lnTo>
                  <a:lnTo>
                    <a:pt x="293" y="4129"/>
                  </a:lnTo>
                  <a:lnTo>
                    <a:pt x="380" y="4298"/>
                  </a:lnTo>
                  <a:lnTo>
                    <a:pt x="492" y="4459"/>
                  </a:lnTo>
                  <a:lnTo>
                    <a:pt x="543" y="4546"/>
                  </a:lnTo>
                  <a:lnTo>
                    <a:pt x="698" y="4740"/>
                  </a:lnTo>
                  <a:lnTo>
                    <a:pt x="810" y="4858"/>
                  </a:lnTo>
                  <a:lnTo>
                    <a:pt x="915" y="4965"/>
                  </a:lnTo>
                  <a:lnTo>
                    <a:pt x="1053" y="5076"/>
                  </a:lnTo>
                  <a:lnTo>
                    <a:pt x="1171" y="5182"/>
                  </a:lnTo>
                  <a:lnTo>
                    <a:pt x="1290" y="5264"/>
                  </a:lnTo>
                  <a:lnTo>
                    <a:pt x="1414" y="5343"/>
                  </a:lnTo>
                  <a:lnTo>
                    <a:pt x="1582" y="5431"/>
                  </a:lnTo>
                  <a:lnTo>
                    <a:pt x="1757" y="5512"/>
                  </a:lnTo>
                  <a:lnTo>
                    <a:pt x="1943" y="5588"/>
                  </a:lnTo>
                  <a:lnTo>
                    <a:pt x="2081" y="5636"/>
                  </a:lnTo>
                  <a:lnTo>
                    <a:pt x="2244" y="5681"/>
                  </a:lnTo>
                  <a:lnTo>
                    <a:pt x="2441" y="5731"/>
                  </a:lnTo>
                  <a:lnTo>
                    <a:pt x="2635" y="5743"/>
                  </a:lnTo>
                  <a:lnTo>
                    <a:pt x="2748" y="5762"/>
                  </a:lnTo>
                  <a:lnTo>
                    <a:pt x="3103" y="5762"/>
                  </a:lnTo>
                  <a:lnTo>
                    <a:pt x="3103" y="5762"/>
                  </a:lnTo>
                  <a:lnTo>
                    <a:pt x="3103" y="5760"/>
                  </a:lnTo>
                  <a:close/>
                </a:path>
              </a:pathLst>
            </a:custGeom>
            <a:gradFill rotWithShape="0">
              <a:gsLst>
                <a:gs pos="0">
                  <a:srgbClr val="c5ffff"/>
                </a:gs>
                <a:gs pos="100000">
                  <a:srgbClr val="5a7575"/>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7640" y="2860560"/>
              <a:ext cx="1581120" cy="1544760"/>
            </a:xfrm>
            <a:custGeom>
              <a:avLst/>
              <a:gdLst/>
              <a:ahLst/>
              <a:rect l="l" t="t" r="r" b="b"/>
              <a:pathLst>
                <a:path w="5874" h="5762">
                  <a:moveTo>
                    <a:pt x="3103" y="5760"/>
                  </a:moveTo>
                  <a:lnTo>
                    <a:pt x="3215" y="5749"/>
                  </a:lnTo>
                  <a:lnTo>
                    <a:pt x="3303" y="5743"/>
                  </a:lnTo>
                  <a:lnTo>
                    <a:pt x="3401" y="5731"/>
                  </a:lnTo>
                  <a:lnTo>
                    <a:pt x="3533" y="5698"/>
                  </a:lnTo>
                  <a:lnTo>
                    <a:pt x="3663" y="5667"/>
                  </a:lnTo>
                  <a:lnTo>
                    <a:pt x="3818" y="5625"/>
                  </a:lnTo>
                  <a:lnTo>
                    <a:pt x="3962" y="5574"/>
                  </a:lnTo>
                  <a:lnTo>
                    <a:pt x="4100" y="5526"/>
                  </a:lnTo>
                  <a:lnTo>
                    <a:pt x="4212" y="5481"/>
                  </a:lnTo>
                  <a:lnTo>
                    <a:pt x="4305" y="5419"/>
                  </a:lnTo>
                  <a:lnTo>
                    <a:pt x="4398" y="5369"/>
                  </a:lnTo>
                  <a:lnTo>
                    <a:pt x="4491" y="5312"/>
                  </a:lnTo>
                  <a:lnTo>
                    <a:pt x="4629" y="5233"/>
                  </a:lnTo>
                  <a:lnTo>
                    <a:pt x="4722" y="5171"/>
                  </a:lnTo>
                  <a:lnTo>
                    <a:pt x="4815" y="5089"/>
                  </a:lnTo>
                  <a:lnTo>
                    <a:pt x="4891" y="5021"/>
                  </a:lnTo>
                  <a:lnTo>
                    <a:pt x="5108" y="4814"/>
                  </a:lnTo>
                  <a:lnTo>
                    <a:pt x="5190" y="4721"/>
                  </a:lnTo>
                  <a:lnTo>
                    <a:pt x="5265" y="4628"/>
                  </a:lnTo>
                  <a:lnTo>
                    <a:pt x="5376" y="4472"/>
                  </a:lnTo>
                  <a:lnTo>
                    <a:pt x="5471" y="4329"/>
                  </a:lnTo>
                  <a:lnTo>
                    <a:pt x="5513" y="4255"/>
                  </a:lnTo>
                  <a:lnTo>
                    <a:pt x="5544" y="4191"/>
                  </a:lnTo>
                  <a:lnTo>
                    <a:pt x="5595" y="4098"/>
                  </a:lnTo>
                  <a:lnTo>
                    <a:pt x="5638" y="4017"/>
                  </a:lnTo>
                  <a:lnTo>
                    <a:pt x="5671" y="3912"/>
                  </a:lnTo>
                  <a:lnTo>
                    <a:pt x="5719" y="3788"/>
                  </a:lnTo>
                  <a:lnTo>
                    <a:pt x="5750" y="3701"/>
                  </a:lnTo>
                  <a:lnTo>
                    <a:pt x="5781" y="3594"/>
                  </a:lnTo>
                  <a:lnTo>
                    <a:pt x="5812" y="3456"/>
                  </a:lnTo>
                  <a:lnTo>
                    <a:pt x="5843" y="3313"/>
                  </a:lnTo>
                  <a:lnTo>
                    <a:pt x="5857" y="3138"/>
                  </a:lnTo>
                  <a:lnTo>
                    <a:pt x="5874" y="2983"/>
                  </a:lnTo>
                  <a:lnTo>
                    <a:pt x="5874" y="2735"/>
                  </a:lnTo>
                  <a:lnTo>
                    <a:pt x="5857" y="2529"/>
                  </a:lnTo>
                  <a:lnTo>
                    <a:pt x="5812" y="2349"/>
                  </a:lnTo>
                  <a:lnTo>
                    <a:pt x="5781" y="2155"/>
                  </a:lnTo>
                  <a:lnTo>
                    <a:pt x="5713" y="1949"/>
                  </a:lnTo>
                  <a:lnTo>
                    <a:pt x="5638" y="1769"/>
                  </a:lnTo>
                  <a:lnTo>
                    <a:pt x="5513" y="1519"/>
                  </a:lnTo>
                  <a:lnTo>
                    <a:pt x="5451" y="1394"/>
                  </a:lnTo>
                  <a:lnTo>
                    <a:pt x="5376" y="1290"/>
                  </a:lnTo>
                  <a:lnTo>
                    <a:pt x="5314" y="1195"/>
                  </a:lnTo>
                  <a:lnTo>
                    <a:pt x="5221" y="1084"/>
                  </a:lnTo>
                  <a:lnTo>
                    <a:pt x="5172" y="1020"/>
                  </a:lnTo>
                  <a:lnTo>
                    <a:pt x="5077" y="915"/>
                  </a:lnTo>
                  <a:lnTo>
                    <a:pt x="4928" y="778"/>
                  </a:lnTo>
                  <a:lnTo>
                    <a:pt x="4767" y="634"/>
                  </a:lnTo>
                  <a:lnTo>
                    <a:pt x="4584" y="504"/>
                  </a:lnTo>
                  <a:lnTo>
                    <a:pt x="4441" y="417"/>
                  </a:lnTo>
                  <a:lnTo>
                    <a:pt x="4274" y="324"/>
                  </a:lnTo>
                  <a:lnTo>
                    <a:pt x="4086" y="231"/>
                  </a:lnTo>
                  <a:lnTo>
                    <a:pt x="3869" y="149"/>
                  </a:lnTo>
                  <a:lnTo>
                    <a:pt x="3638" y="87"/>
                  </a:lnTo>
                  <a:lnTo>
                    <a:pt x="3382" y="37"/>
                  </a:lnTo>
                  <a:lnTo>
                    <a:pt x="3140" y="6"/>
                  </a:lnTo>
                  <a:lnTo>
                    <a:pt x="2928" y="0"/>
                  </a:lnTo>
                  <a:lnTo>
                    <a:pt x="2697" y="6"/>
                  </a:lnTo>
                  <a:lnTo>
                    <a:pt x="2447" y="43"/>
                  </a:lnTo>
                  <a:lnTo>
                    <a:pt x="2199" y="93"/>
                  </a:lnTo>
                  <a:lnTo>
                    <a:pt x="1968" y="161"/>
                  </a:lnTo>
                  <a:lnTo>
                    <a:pt x="1776" y="231"/>
                  </a:lnTo>
                  <a:lnTo>
                    <a:pt x="1619" y="304"/>
                  </a:lnTo>
                  <a:lnTo>
                    <a:pt x="1464" y="397"/>
                  </a:lnTo>
                  <a:lnTo>
                    <a:pt x="1295" y="493"/>
                  </a:lnTo>
                  <a:lnTo>
                    <a:pt x="1121" y="622"/>
                  </a:lnTo>
                  <a:lnTo>
                    <a:pt x="966" y="747"/>
                  </a:lnTo>
                  <a:lnTo>
                    <a:pt x="867" y="853"/>
                  </a:lnTo>
                  <a:lnTo>
                    <a:pt x="779" y="935"/>
                  </a:lnTo>
                  <a:lnTo>
                    <a:pt x="679" y="1051"/>
                  </a:lnTo>
                  <a:lnTo>
                    <a:pt x="574" y="1177"/>
                  </a:lnTo>
                  <a:lnTo>
                    <a:pt x="504" y="1276"/>
                  </a:lnTo>
                  <a:lnTo>
                    <a:pt x="417" y="1394"/>
                  </a:lnTo>
                  <a:lnTo>
                    <a:pt x="355" y="1507"/>
                  </a:lnTo>
                  <a:lnTo>
                    <a:pt x="293" y="1619"/>
                  </a:lnTo>
                  <a:lnTo>
                    <a:pt x="231" y="1757"/>
                  </a:lnTo>
                  <a:lnTo>
                    <a:pt x="194" y="1873"/>
                  </a:lnTo>
                  <a:lnTo>
                    <a:pt x="138" y="2025"/>
                  </a:lnTo>
                  <a:lnTo>
                    <a:pt x="106" y="2129"/>
                  </a:lnTo>
                  <a:lnTo>
                    <a:pt x="62" y="2292"/>
                  </a:lnTo>
                  <a:lnTo>
                    <a:pt x="31" y="2459"/>
                  </a:lnTo>
                  <a:lnTo>
                    <a:pt x="6" y="2715"/>
                  </a:lnTo>
                  <a:lnTo>
                    <a:pt x="0" y="2859"/>
                  </a:lnTo>
                  <a:lnTo>
                    <a:pt x="6" y="3008"/>
                  </a:lnTo>
                  <a:lnTo>
                    <a:pt x="31" y="3295"/>
                  </a:lnTo>
                  <a:lnTo>
                    <a:pt x="56" y="3450"/>
                  </a:lnTo>
                  <a:lnTo>
                    <a:pt x="99" y="3613"/>
                  </a:lnTo>
                  <a:lnTo>
                    <a:pt x="138" y="3757"/>
                  </a:lnTo>
                  <a:lnTo>
                    <a:pt x="211" y="3943"/>
                  </a:lnTo>
                  <a:lnTo>
                    <a:pt x="293" y="4129"/>
                  </a:lnTo>
                  <a:lnTo>
                    <a:pt x="380" y="4298"/>
                  </a:lnTo>
                  <a:lnTo>
                    <a:pt x="492" y="4459"/>
                  </a:lnTo>
                  <a:lnTo>
                    <a:pt x="543" y="4546"/>
                  </a:lnTo>
                  <a:lnTo>
                    <a:pt x="698" y="4740"/>
                  </a:lnTo>
                  <a:lnTo>
                    <a:pt x="810" y="4858"/>
                  </a:lnTo>
                  <a:lnTo>
                    <a:pt x="915" y="4965"/>
                  </a:lnTo>
                  <a:lnTo>
                    <a:pt x="1053" y="5076"/>
                  </a:lnTo>
                  <a:lnTo>
                    <a:pt x="1171" y="5182"/>
                  </a:lnTo>
                  <a:lnTo>
                    <a:pt x="1290" y="5264"/>
                  </a:lnTo>
                  <a:lnTo>
                    <a:pt x="1414" y="5343"/>
                  </a:lnTo>
                  <a:lnTo>
                    <a:pt x="1582" y="5431"/>
                  </a:lnTo>
                  <a:lnTo>
                    <a:pt x="1757" y="5512"/>
                  </a:lnTo>
                  <a:lnTo>
                    <a:pt x="1943" y="5588"/>
                  </a:lnTo>
                  <a:lnTo>
                    <a:pt x="2081" y="5636"/>
                  </a:lnTo>
                  <a:lnTo>
                    <a:pt x="2244" y="5681"/>
                  </a:lnTo>
                  <a:lnTo>
                    <a:pt x="2441" y="5731"/>
                  </a:lnTo>
                  <a:lnTo>
                    <a:pt x="2635" y="5743"/>
                  </a:lnTo>
                  <a:lnTo>
                    <a:pt x="2748" y="5762"/>
                  </a:lnTo>
                  <a:lnTo>
                    <a:pt x="3103" y="5762"/>
                  </a:lnTo>
                  <a:lnTo>
                    <a:pt x="3103" y="57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678080" y="3967920"/>
              <a:ext cx="492480" cy="345240"/>
            </a:xfrm>
            <a:custGeom>
              <a:avLst/>
              <a:gdLst/>
              <a:ahLst/>
              <a:rect l="l" t="t" r="r" b="b"/>
              <a:pathLst>
                <a:path w="1831" h="1290">
                  <a:moveTo>
                    <a:pt x="916" y="0"/>
                  </a:moveTo>
                  <a:lnTo>
                    <a:pt x="902" y="126"/>
                  </a:lnTo>
                  <a:lnTo>
                    <a:pt x="871" y="561"/>
                  </a:lnTo>
                  <a:lnTo>
                    <a:pt x="871" y="704"/>
                  </a:lnTo>
                  <a:lnTo>
                    <a:pt x="691" y="642"/>
                  </a:lnTo>
                  <a:lnTo>
                    <a:pt x="466" y="561"/>
                  </a:lnTo>
                  <a:lnTo>
                    <a:pt x="237" y="456"/>
                  </a:lnTo>
                  <a:lnTo>
                    <a:pt x="0" y="324"/>
                  </a:lnTo>
                  <a:lnTo>
                    <a:pt x="0" y="468"/>
                  </a:lnTo>
                  <a:lnTo>
                    <a:pt x="12" y="611"/>
                  </a:lnTo>
                  <a:lnTo>
                    <a:pt x="49" y="791"/>
                  </a:lnTo>
                  <a:lnTo>
                    <a:pt x="111" y="960"/>
                  </a:lnTo>
                  <a:lnTo>
                    <a:pt x="175" y="991"/>
                  </a:lnTo>
                  <a:lnTo>
                    <a:pt x="299" y="1073"/>
                  </a:lnTo>
                  <a:lnTo>
                    <a:pt x="536" y="1166"/>
                  </a:lnTo>
                  <a:lnTo>
                    <a:pt x="753" y="1240"/>
                  </a:lnTo>
                  <a:lnTo>
                    <a:pt x="952" y="1290"/>
                  </a:lnTo>
                  <a:lnTo>
                    <a:pt x="908" y="1115"/>
                  </a:lnTo>
                  <a:lnTo>
                    <a:pt x="885" y="898"/>
                  </a:lnTo>
                  <a:lnTo>
                    <a:pt x="877" y="704"/>
                  </a:lnTo>
                  <a:lnTo>
                    <a:pt x="1046" y="741"/>
                  </a:lnTo>
                  <a:lnTo>
                    <a:pt x="1338" y="797"/>
                  </a:lnTo>
                  <a:lnTo>
                    <a:pt x="1606" y="828"/>
                  </a:lnTo>
                  <a:lnTo>
                    <a:pt x="1819" y="842"/>
                  </a:lnTo>
                  <a:lnTo>
                    <a:pt x="1831" y="5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678080" y="3967920"/>
              <a:ext cx="492480" cy="345240"/>
            </a:xfrm>
            <a:custGeom>
              <a:avLst/>
              <a:gdLst/>
              <a:ahLst/>
              <a:rect l="l" t="t" r="r" b="b"/>
              <a:pathLst>
                <a:path w="1831" h="1290">
                  <a:moveTo>
                    <a:pt x="916" y="0"/>
                  </a:moveTo>
                  <a:lnTo>
                    <a:pt x="902" y="126"/>
                  </a:lnTo>
                  <a:lnTo>
                    <a:pt x="871" y="561"/>
                  </a:lnTo>
                  <a:lnTo>
                    <a:pt x="871" y="704"/>
                  </a:lnTo>
                  <a:lnTo>
                    <a:pt x="691" y="642"/>
                  </a:lnTo>
                  <a:lnTo>
                    <a:pt x="466" y="561"/>
                  </a:lnTo>
                  <a:lnTo>
                    <a:pt x="237" y="456"/>
                  </a:lnTo>
                  <a:lnTo>
                    <a:pt x="0" y="324"/>
                  </a:lnTo>
                  <a:lnTo>
                    <a:pt x="0" y="468"/>
                  </a:lnTo>
                  <a:lnTo>
                    <a:pt x="12" y="611"/>
                  </a:lnTo>
                  <a:lnTo>
                    <a:pt x="49" y="791"/>
                  </a:lnTo>
                  <a:lnTo>
                    <a:pt x="111" y="960"/>
                  </a:lnTo>
                  <a:lnTo>
                    <a:pt x="175" y="991"/>
                  </a:lnTo>
                  <a:lnTo>
                    <a:pt x="299" y="1073"/>
                  </a:lnTo>
                  <a:lnTo>
                    <a:pt x="536" y="1166"/>
                  </a:lnTo>
                  <a:lnTo>
                    <a:pt x="753" y="1240"/>
                  </a:lnTo>
                  <a:lnTo>
                    <a:pt x="952" y="1290"/>
                  </a:lnTo>
                  <a:lnTo>
                    <a:pt x="908" y="1115"/>
                  </a:lnTo>
                  <a:lnTo>
                    <a:pt x="885" y="898"/>
                  </a:lnTo>
                  <a:lnTo>
                    <a:pt x="877" y="704"/>
                  </a:lnTo>
                  <a:lnTo>
                    <a:pt x="1046" y="741"/>
                  </a:lnTo>
                  <a:lnTo>
                    <a:pt x="1338" y="797"/>
                  </a:lnTo>
                  <a:lnTo>
                    <a:pt x="1606" y="828"/>
                  </a:lnTo>
                  <a:lnTo>
                    <a:pt x="1819" y="842"/>
                  </a:lnTo>
                  <a:lnTo>
                    <a:pt x="1831" y="5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459200" y="3485160"/>
              <a:ext cx="306720" cy="210240"/>
            </a:xfrm>
            <a:custGeom>
              <a:avLst/>
              <a:gdLst/>
              <a:ahLst/>
              <a:rect l="l" t="t" r="r" b="b"/>
              <a:pathLst>
                <a:path w="1140" h="786">
                  <a:moveTo>
                    <a:pt x="1140" y="349"/>
                  </a:moveTo>
                  <a:lnTo>
                    <a:pt x="1059" y="299"/>
                  </a:lnTo>
                  <a:lnTo>
                    <a:pt x="971" y="237"/>
                  </a:lnTo>
                  <a:lnTo>
                    <a:pt x="872" y="130"/>
                  </a:lnTo>
                  <a:lnTo>
                    <a:pt x="766" y="0"/>
                  </a:lnTo>
                  <a:lnTo>
                    <a:pt x="673" y="124"/>
                  </a:lnTo>
                  <a:lnTo>
                    <a:pt x="529" y="336"/>
                  </a:lnTo>
                  <a:lnTo>
                    <a:pt x="436" y="505"/>
                  </a:lnTo>
                  <a:lnTo>
                    <a:pt x="355" y="662"/>
                  </a:lnTo>
                  <a:lnTo>
                    <a:pt x="298" y="786"/>
                  </a:lnTo>
                  <a:lnTo>
                    <a:pt x="248" y="716"/>
                  </a:lnTo>
                  <a:lnTo>
                    <a:pt x="186" y="629"/>
                  </a:lnTo>
                  <a:lnTo>
                    <a:pt x="118" y="493"/>
                  </a:lnTo>
                  <a:lnTo>
                    <a:pt x="56" y="349"/>
                  </a:lnTo>
                  <a:lnTo>
                    <a:pt x="0"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459200" y="3485160"/>
              <a:ext cx="306720" cy="210240"/>
            </a:xfrm>
            <a:custGeom>
              <a:avLst/>
              <a:gdLst/>
              <a:ahLst/>
              <a:rect l="l" t="t" r="r" b="b"/>
              <a:pathLst>
                <a:path w="1140" h="786">
                  <a:moveTo>
                    <a:pt x="1140" y="349"/>
                  </a:moveTo>
                  <a:lnTo>
                    <a:pt x="1059" y="299"/>
                  </a:lnTo>
                  <a:lnTo>
                    <a:pt x="971" y="237"/>
                  </a:lnTo>
                  <a:lnTo>
                    <a:pt x="872" y="130"/>
                  </a:lnTo>
                  <a:lnTo>
                    <a:pt x="766" y="0"/>
                  </a:lnTo>
                  <a:lnTo>
                    <a:pt x="673" y="124"/>
                  </a:lnTo>
                  <a:lnTo>
                    <a:pt x="529" y="336"/>
                  </a:lnTo>
                  <a:lnTo>
                    <a:pt x="436" y="505"/>
                  </a:lnTo>
                  <a:lnTo>
                    <a:pt x="355" y="662"/>
                  </a:lnTo>
                  <a:lnTo>
                    <a:pt x="298" y="786"/>
                  </a:lnTo>
                  <a:lnTo>
                    <a:pt x="248" y="716"/>
                  </a:lnTo>
                  <a:lnTo>
                    <a:pt x="186" y="629"/>
                  </a:lnTo>
                  <a:lnTo>
                    <a:pt x="118" y="493"/>
                  </a:lnTo>
                  <a:lnTo>
                    <a:pt x="56" y="349"/>
                  </a:lnTo>
                  <a:lnTo>
                    <a:pt x="0"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405560" y="3305880"/>
              <a:ext cx="432720" cy="438120"/>
            </a:xfrm>
            <a:custGeom>
              <a:avLst/>
              <a:gdLst/>
              <a:ahLst/>
              <a:rect l="l" t="t" r="r" b="b"/>
              <a:pathLst>
                <a:path w="1608" h="1633">
                  <a:moveTo>
                    <a:pt x="0" y="1633"/>
                  </a:moveTo>
                  <a:lnTo>
                    <a:pt x="25" y="1377"/>
                  </a:lnTo>
                  <a:lnTo>
                    <a:pt x="56" y="1185"/>
                  </a:lnTo>
                  <a:lnTo>
                    <a:pt x="93" y="1034"/>
                  </a:lnTo>
                  <a:lnTo>
                    <a:pt x="169" y="830"/>
                  </a:lnTo>
                  <a:lnTo>
                    <a:pt x="262" y="673"/>
                  </a:lnTo>
                  <a:lnTo>
                    <a:pt x="368" y="518"/>
                  </a:lnTo>
                  <a:lnTo>
                    <a:pt x="436" y="436"/>
                  </a:lnTo>
                  <a:lnTo>
                    <a:pt x="523" y="343"/>
                  </a:lnTo>
                  <a:lnTo>
                    <a:pt x="605" y="244"/>
                  </a:lnTo>
                  <a:lnTo>
                    <a:pt x="712" y="157"/>
                  </a:lnTo>
                  <a:lnTo>
                    <a:pt x="760" y="324"/>
                  </a:lnTo>
                  <a:lnTo>
                    <a:pt x="836" y="456"/>
                  </a:lnTo>
                  <a:lnTo>
                    <a:pt x="904" y="580"/>
                  </a:lnTo>
                  <a:lnTo>
                    <a:pt x="966" y="661"/>
                  </a:lnTo>
                  <a:lnTo>
                    <a:pt x="1134" y="462"/>
                  </a:lnTo>
                  <a:lnTo>
                    <a:pt x="1278" y="312"/>
                  </a:lnTo>
                  <a:lnTo>
                    <a:pt x="1309" y="287"/>
                  </a:lnTo>
                  <a:lnTo>
                    <a:pt x="1352" y="237"/>
                  </a:lnTo>
                  <a:lnTo>
                    <a:pt x="1383" y="194"/>
                  </a:lnTo>
                  <a:lnTo>
                    <a:pt x="1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405560" y="3305880"/>
              <a:ext cx="432720" cy="438120"/>
            </a:xfrm>
            <a:custGeom>
              <a:avLst/>
              <a:gdLst/>
              <a:ahLst/>
              <a:rect l="l" t="t" r="r" b="b"/>
              <a:pathLst>
                <a:path w="1608" h="1633">
                  <a:moveTo>
                    <a:pt x="0" y="1633"/>
                  </a:moveTo>
                  <a:lnTo>
                    <a:pt x="25" y="1377"/>
                  </a:lnTo>
                  <a:lnTo>
                    <a:pt x="56" y="1185"/>
                  </a:lnTo>
                  <a:lnTo>
                    <a:pt x="93" y="1034"/>
                  </a:lnTo>
                  <a:lnTo>
                    <a:pt x="169" y="830"/>
                  </a:lnTo>
                  <a:lnTo>
                    <a:pt x="262" y="673"/>
                  </a:lnTo>
                  <a:lnTo>
                    <a:pt x="368" y="518"/>
                  </a:lnTo>
                  <a:lnTo>
                    <a:pt x="436" y="436"/>
                  </a:lnTo>
                  <a:lnTo>
                    <a:pt x="523" y="343"/>
                  </a:lnTo>
                  <a:lnTo>
                    <a:pt x="605" y="244"/>
                  </a:lnTo>
                  <a:lnTo>
                    <a:pt x="712" y="157"/>
                  </a:lnTo>
                  <a:lnTo>
                    <a:pt x="760" y="324"/>
                  </a:lnTo>
                  <a:lnTo>
                    <a:pt x="836" y="456"/>
                  </a:lnTo>
                  <a:lnTo>
                    <a:pt x="904" y="580"/>
                  </a:lnTo>
                  <a:lnTo>
                    <a:pt x="966" y="661"/>
                  </a:lnTo>
                  <a:lnTo>
                    <a:pt x="1134" y="462"/>
                  </a:lnTo>
                  <a:lnTo>
                    <a:pt x="1278" y="312"/>
                  </a:lnTo>
                  <a:lnTo>
                    <a:pt x="1309" y="287"/>
                  </a:lnTo>
                  <a:lnTo>
                    <a:pt x="1352" y="237"/>
                  </a:lnTo>
                  <a:lnTo>
                    <a:pt x="1383" y="194"/>
                  </a:lnTo>
                  <a:lnTo>
                    <a:pt x="1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674200" y="3719160"/>
              <a:ext cx="207720" cy="352080"/>
            </a:xfrm>
            <a:custGeom>
              <a:avLst/>
              <a:gdLst/>
              <a:ahLst/>
              <a:rect l="l" t="t" r="r" b="b"/>
              <a:pathLst>
                <a:path w="771" h="1313">
                  <a:moveTo>
                    <a:pt x="727" y="1127"/>
                  </a:moveTo>
                  <a:lnTo>
                    <a:pt x="740" y="1020"/>
                  </a:lnTo>
                  <a:lnTo>
                    <a:pt x="760" y="896"/>
                  </a:lnTo>
                  <a:lnTo>
                    <a:pt x="771" y="772"/>
                  </a:lnTo>
                  <a:lnTo>
                    <a:pt x="647" y="896"/>
                  </a:lnTo>
                  <a:lnTo>
                    <a:pt x="504" y="1034"/>
                  </a:lnTo>
                  <a:lnTo>
                    <a:pt x="341" y="1158"/>
                  </a:lnTo>
                  <a:lnTo>
                    <a:pt x="217" y="1239"/>
                  </a:lnTo>
                  <a:lnTo>
                    <a:pt x="118" y="1313"/>
                  </a:lnTo>
                  <a:lnTo>
                    <a:pt x="93" y="1020"/>
                  </a:lnTo>
                  <a:lnTo>
                    <a:pt x="73" y="865"/>
                  </a:lnTo>
                  <a:lnTo>
                    <a:pt x="42" y="691"/>
                  </a:lnTo>
                  <a:lnTo>
                    <a:pt x="11" y="530"/>
                  </a:lnTo>
                  <a:lnTo>
                    <a:pt x="0" y="504"/>
                  </a:lnTo>
                  <a:lnTo>
                    <a:pt x="118" y="442"/>
                  </a:lnTo>
                  <a:lnTo>
                    <a:pt x="242" y="367"/>
                  </a:lnTo>
                  <a:lnTo>
                    <a:pt x="341" y="279"/>
                  </a:lnTo>
                  <a:lnTo>
                    <a:pt x="523" y="99"/>
                  </a:lnTo>
                  <a:lnTo>
                    <a:pt x="597" y="0"/>
                  </a:lnTo>
                  <a:lnTo>
                    <a:pt x="616" y="68"/>
                  </a:lnTo>
                  <a:lnTo>
                    <a:pt x="678" y="279"/>
                  </a:lnTo>
                  <a:lnTo>
                    <a:pt x="729" y="442"/>
                  </a:lnTo>
                  <a:lnTo>
                    <a:pt x="752" y="597"/>
                  </a:lnTo>
                  <a:lnTo>
                    <a:pt x="760" y="691"/>
                  </a:lnTo>
                  <a:lnTo>
                    <a:pt x="771"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674200" y="3719160"/>
              <a:ext cx="207720" cy="352080"/>
            </a:xfrm>
            <a:custGeom>
              <a:avLst/>
              <a:gdLst/>
              <a:ahLst/>
              <a:rect l="l" t="t" r="r" b="b"/>
              <a:pathLst>
                <a:path w="771" h="1313">
                  <a:moveTo>
                    <a:pt x="727" y="1127"/>
                  </a:moveTo>
                  <a:lnTo>
                    <a:pt x="740" y="1020"/>
                  </a:lnTo>
                  <a:lnTo>
                    <a:pt x="760" y="896"/>
                  </a:lnTo>
                  <a:lnTo>
                    <a:pt x="771" y="772"/>
                  </a:lnTo>
                  <a:lnTo>
                    <a:pt x="647" y="896"/>
                  </a:lnTo>
                  <a:lnTo>
                    <a:pt x="504" y="1034"/>
                  </a:lnTo>
                  <a:lnTo>
                    <a:pt x="341" y="1158"/>
                  </a:lnTo>
                  <a:lnTo>
                    <a:pt x="217" y="1239"/>
                  </a:lnTo>
                  <a:lnTo>
                    <a:pt x="118" y="1313"/>
                  </a:lnTo>
                  <a:lnTo>
                    <a:pt x="93" y="1020"/>
                  </a:lnTo>
                  <a:lnTo>
                    <a:pt x="73" y="865"/>
                  </a:lnTo>
                  <a:lnTo>
                    <a:pt x="42" y="691"/>
                  </a:lnTo>
                  <a:lnTo>
                    <a:pt x="11" y="530"/>
                  </a:lnTo>
                  <a:lnTo>
                    <a:pt x="0" y="504"/>
                  </a:lnTo>
                  <a:lnTo>
                    <a:pt x="118" y="442"/>
                  </a:lnTo>
                  <a:lnTo>
                    <a:pt x="242" y="367"/>
                  </a:lnTo>
                  <a:lnTo>
                    <a:pt x="341" y="279"/>
                  </a:lnTo>
                  <a:lnTo>
                    <a:pt x="523" y="99"/>
                  </a:lnTo>
                  <a:lnTo>
                    <a:pt x="597" y="0"/>
                  </a:lnTo>
                  <a:lnTo>
                    <a:pt x="616" y="68"/>
                  </a:lnTo>
                  <a:lnTo>
                    <a:pt x="678" y="279"/>
                  </a:lnTo>
                  <a:lnTo>
                    <a:pt x="729" y="442"/>
                  </a:lnTo>
                  <a:lnTo>
                    <a:pt x="752" y="597"/>
                  </a:lnTo>
                  <a:lnTo>
                    <a:pt x="760" y="691"/>
                  </a:lnTo>
                  <a:lnTo>
                    <a:pt x="771"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18680" y="4166280"/>
              <a:ext cx="88560" cy="58680"/>
            </a:xfrm>
            <a:custGeom>
              <a:avLst/>
              <a:gdLst/>
              <a:ahLst/>
              <a:rect l="l" t="t" r="r" b="b"/>
              <a:pathLst>
                <a:path w="330" h="219">
                  <a:moveTo>
                    <a:pt x="330" y="219"/>
                  </a:moveTo>
                  <a:lnTo>
                    <a:pt x="186" y="132"/>
                  </a:lnTo>
                  <a:lnTo>
                    <a:pt x="0"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 name=""/>
            <p:cNvSpPr/>
            <p:nvPr/>
          </p:nvSpPr>
          <p:spPr>
            <a:xfrm>
              <a:off x="7618680" y="4166280"/>
              <a:ext cx="88560" cy="58680"/>
            </a:xfrm>
            <a:custGeom>
              <a:avLst/>
              <a:gdLst/>
              <a:ahLst/>
              <a:rect l="l" t="t" r="r" b="b"/>
              <a:pathLst>
                <a:path w="330" h="219">
                  <a:moveTo>
                    <a:pt x="330" y="219"/>
                  </a:moveTo>
                  <a:lnTo>
                    <a:pt x="186" y="132"/>
                  </a:lnTo>
                  <a:lnTo>
                    <a:pt x="0"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 name=""/>
            <p:cNvSpPr/>
            <p:nvPr/>
          </p:nvSpPr>
          <p:spPr>
            <a:xfrm>
              <a:off x="7499520" y="3675600"/>
              <a:ext cx="263160" cy="337320"/>
            </a:xfrm>
            <a:custGeom>
              <a:avLst/>
              <a:gdLst/>
              <a:ahLst/>
              <a:rect l="l" t="t" r="r" b="b"/>
              <a:pathLst>
                <a:path w="977" h="1259">
                  <a:moveTo>
                    <a:pt x="977" y="0"/>
                  </a:moveTo>
                  <a:lnTo>
                    <a:pt x="884" y="200"/>
                  </a:lnTo>
                  <a:lnTo>
                    <a:pt x="847" y="318"/>
                  </a:lnTo>
                  <a:lnTo>
                    <a:pt x="785" y="504"/>
                  </a:lnTo>
                  <a:lnTo>
                    <a:pt x="754" y="598"/>
                  </a:lnTo>
                  <a:lnTo>
                    <a:pt x="692" y="561"/>
                  </a:lnTo>
                  <a:lnTo>
                    <a:pt x="524" y="437"/>
                  </a:lnTo>
                  <a:lnTo>
                    <a:pt x="380" y="318"/>
                  </a:lnTo>
                  <a:lnTo>
                    <a:pt x="242" y="194"/>
                  </a:lnTo>
                  <a:lnTo>
                    <a:pt x="149" y="76"/>
                  </a:lnTo>
                  <a:lnTo>
                    <a:pt x="93" y="231"/>
                  </a:lnTo>
                  <a:lnTo>
                    <a:pt x="50" y="386"/>
                  </a:lnTo>
                  <a:lnTo>
                    <a:pt x="19" y="566"/>
                  </a:lnTo>
                  <a:lnTo>
                    <a:pt x="6" y="718"/>
                  </a:lnTo>
                  <a:lnTo>
                    <a:pt x="0" y="842"/>
                  </a:lnTo>
                  <a:lnTo>
                    <a:pt x="0" y="1059"/>
                  </a:lnTo>
                  <a:lnTo>
                    <a:pt x="6" y="12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499520" y="3675600"/>
              <a:ext cx="263160" cy="337320"/>
            </a:xfrm>
            <a:custGeom>
              <a:avLst/>
              <a:gdLst/>
              <a:ahLst/>
              <a:rect l="l" t="t" r="r" b="b"/>
              <a:pathLst>
                <a:path w="977" h="1259">
                  <a:moveTo>
                    <a:pt x="977" y="0"/>
                  </a:moveTo>
                  <a:lnTo>
                    <a:pt x="884" y="200"/>
                  </a:lnTo>
                  <a:lnTo>
                    <a:pt x="847" y="318"/>
                  </a:lnTo>
                  <a:lnTo>
                    <a:pt x="785" y="504"/>
                  </a:lnTo>
                  <a:lnTo>
                    <a:pt x="754" y="598"/>
                  </a:lnTo>
                  <a:lnTo>
                    <a:pt x="692" y="561"/>
                  </a:lnTo>
                  <a:lnTo>
                    <a:pt x="524" y="437"/>
                  </a:lnTo>
                  <a:lnTo>
                    <a:pt x="380" y="318"/>
                  </a:lnTo>
                  <a:lnTo>
                    <a:pt x="242" y="194"/>
                  </a:lnTo>
                  <a:lnTo>
                    <a:pt x="149" y="76"/>
                  </a:lnTo>
                  <a:lnTo>
                    <a:pt x="93" y="231"/>
                  </a:lnTo>
                  <a:lnTo>
                    <a:pt x="50" y="386"/>
                  </a:lnTo>
                  <a:lnTo>
                    <a:pt x="19" y="566"/>
                  </a:lnTo>
                  <a:lnTo>
                    <a:pt x="6" y="718"/>
                  </a:lnTo>
                  <a:lnTo>
                    <a:pt x="0" y="842"/>
                  </a:lnTo>
                  <a:lnTo>
                    <a:pt x="0" y="1059"/>
                  </a:lnTo>
                  <a:lnTo>
                    <a:pt x="6" y="12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501320" y="3835080"/>
              <a:ext cx="353520" cy="219240"/>
            </a:xfrm>
            <a:custGeom>
              <a:avLst/>
              <a:gdLst/>
              <a:ahLst/>
              <a:rect l="l" t="t" r="r" b="b"/>
              <a:pathLst>
                <a:path w="1315" h="816">
                  <a:moveTo>
                    <a:pt x="0" y="244"/>
                  </a:moveTo>
                  <a:lnTo>
                    <a:pt x="149" y="430"/>
                  </a:lnTo>
                  <a:lnTo>
                    <a:pt x="324" y="585"/>
                  </a:lnTo>
                  <a:lnTo>
                    <a:pt x="467" y="692"/>
                  </a:lnTo>
                  <a:lnTo>
                    <a:pt x="655" y="816"/>
                  </a:lnTo>
                  <a:lnTo>
                    <a:pt x="667" y="537"/>
                  </a:lnTo>
                  <a:lnTo>
                    <a:pt x="686" y="256"/>
                  </a:lnTo>
                  <a:lnTo>
                    <a:pt x="748" y="0"/>
                  </a:lnTo>
                  <a:lnTo>
                    <a:pt x="904" y="95"/>
                  </a:lnTo>
                  <a:lnTo>
                    <a:pt x="1121" y="193"/>
                  </a:lnTo>
                  <a:lnTo>
                    <a:pt x="1297" y="256"/>
                  </a:lnTo>
                  <a:lnTo>
                    <a:pt x="1315"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501320" y="3835080"/>
              <a:ext cx="353520" cy="219240"/>
            </a:xfrm>
            <a:custGeom>
              <a:avLst/>
              <a:gdLst/>
              <a:ahLst/>
              <a:rect l="l" t="t" r="r" b="b"/>
              <a:pathLst>
                <a:path w="1315" h="816">
                  <a:moveTo>
                    <a:pt x="0" y="244"/>
                  </a:moveTo>
                  <a:lnTo>
                    <a:pt x="149" y="430"/>
                  </a:lnTo>
                  <a:lnTo>
                    <a:pt x="324" y="585"/>
                  </a:lnTo>
                  <a:lnTo>
                    <a:pt x="467" y="692"/>
                  </a:lnTo>
                  <a:lnTo>
                    <a:pt x="655" y="816"/>
                  </a:lnTo>
                  <a:lnTo>
                    <a:pt x="667" y="537"/>
                  </a:lnTo>
                  <a:lnTo>
                    <a:pt x="686" y="256"/>
                  </a:lnTo>
                  <a:lnTo>
                    <a:pt x="748" y="0"/>
                  </a:lnTo>
                  <a:lnTo>
                    <a:pt x="904" y="95"/>
                  </a:lnTo>
                  <a:lnTo>
                    <a:pt x="1121" y="193"/>
                  </a:lnTo>
                  <a:lnTo>
                    <a:pt x="1297" y="256"/>
                  </a:lnTo>
                  <a:lnTo>
                    <a:pt x="1315"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51280" y="3297960"/>
              <a:ext cx="24480" cy="238320"/>
            </a:xfrm>
            <a:custGeom>
              <a:avLst/>
              <a:gdLst/>
              <a:ahLst/>
              <a:rect l="l" t="t" r="r" b="b"/>
              <a:pathLst>
                <a:path w="93" h="890">
                  <a:moveTo>
                    <a:pt x="31" y="890"/>
                  </a:moveTo>
                  <a:lnTo>
                    <a:pt x="11" y="704"/>
                  </a:lnTo>
                  <a:lnTo>
                    <a:pt x="0" y="543"/>
                  </a:lnTo>
                  <a:lnTo>
                    <a:pt x="19" y="355"/>
                  </a:lnTo>
                  <a:lnTo>
                    <a:pt x="42" y="169"/>
                  </a:lnTo>
                  <a:lnTo>
                    <a:pt x="9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451280" y="3297960"/>
              <a:ext cx="24480" cy="238320"/>
            </a:xfrm>
            <a:custGeom>
              <a:avLst/>
              <a:gdLst/>
              <a:ahLst/>
              <a:rect l="l" t="t" r="r" b="b"/>
              <a:pathLst>
                <a:path w="93" h="890">
                  <a:moveTo>
                    <a:pt x="31" y="890"/>
                  </a:moveTo>
                  <a:lnTo>
                    <a:pt x="11" y="704"/>
                  </a:lnTo>
                  <a:lnTo>
                    <a:pt x="0" y="543"/>
                  </a:lnTo>
                  <a:lnTo>
                    <a:pt x="19" y="355"/>
                  </a:lnTo>
                  <a:lnTo>
                    <a:pt x="42" y="169"/>
                  </a:lnTo>
                  <a:lnTo>
                    <a:pt x="9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934400" y="4313160"/>
              <a:ext cx="230760" cy="92160"/>
            </a:xfrm>
            <a:custGeom>
              <a:avLst/>
              <a:gdLst/>
              <a:ahLst/>
              <a:rect l="l" t="t" r="r" b="b"/>
              <a:pathLst>
                <a:path w="860" h="343">
                  <a:moveTo>
                    <a:pt x="94" y="217"/>
                  </a:moveTo>
                  <a:lnTo>
                    <a:pt x="57" y="155"/>
                  </a:lnTo>
                  <a:lnTo>
                    <a:pt x="26" y="76"/>
                  </a:lnTo>
                  <a:lnTo>
                    <a:pt x="0" y="0"/>
                  </a:lnTo>
                  <a:lnTo>
                    <a:pt x="262" y="62"/>
                  </a:lnTo>
                  <a:lnTo>
                    <a:pt x="505" y="93"/>
                  </a:lnTo>
                  <a:lnTo>
                    <a:pt x="724" y="112"/>
                  </a:lnTo>
                  <a:lnTo>
                    <a:pt x="860" y="124"/>
                  </a:lnTo>
                  <a:lnTo>
                    <a:pt x="860" y="3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7934400" y="4313160"/>
              <a:ext cx="230760" cy="92160"/>
            </a:xfrm>
            <a:custGeom>
              <a:avLst/>
              <a:gdLst/>
              <a:ahLst/>
              <a:rect l="l" t="t" r="r" b="b"/>
              <a:pathLst>
                <a:path w="860" h="343">
                  <a:moveTo>
                    <a:pt x="94" y="217"/>
                  </a:moveTo>
                  <a:lnTo>
                    <a:pt x="57" y="155"/>
                  </a:lnTo>
                  <a:lnTo>
                    <a:pt x="26" y="76"/>
                  </a:lnTo>
                  <a:lnTo>
                    <a:pt x="0" y="0"/>
                  </a:lnTo>
                  <a:lnTo>
                    <a:pt x="262" y="62"/>
                  </a:lnTo>
                  <a:lnTo>
                    <a:pt x="505" y="93"/>
                  </a:lnTo>
                  <a:lnTo>
                    <a:pt x="724" y="112"/>
                  </a:lnTo>
                  <a:lnTo>
                    <a:pt x="860" y="124"/>
                  </a:lnTo>
                  <a:lnTo>
                    <a:pt x="860" y="3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8165160" y="4249800"/>
              <a:ext cx="136080" cy="96840"/>
            </a:xfrm>
            <a:custGeom>
              <a:avLst/>
              <a:gdLst/>
              <a:ahLst/>
              <a:rect l="l" t="t" r="r" b="b"/>
              <a:pathLst>
                <a:path w="506" h="361">
                  <a:moveTo>
                    <a:pt x="506" y="349"/>
                  </a:moveTo>
                  <a:lnTo>
                    <a:pt x="250" y="361"/>
                  </a:lnTo>
                  <a:lnTo>
                    <a:pt x="0" y="36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165160" y="4249800"/>
              <a:ext cx="136080" cy="96840"/>
            </a:xfrm>
            <a:custGeom>
              <a:avLst/>
              <a:gdLst/>
              <a:ahLst/>
              <a:rect l="l" t="t" r="r" b="b"/>
              <a:pathLst>
                <a:path w="506" h="361">
                  <a:moveTo>
                    <a:pt x="506" y="349"/>
                  </a:moveTo>
                  <a:lnTo>
                    <a:pt x="250" y="361"/>
                  </a:lnTo>
                  <a:lnTo>
                    <a:pt x="0" y="36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084880" y="3959280"/>
              <a:ext cx="85320" cy="145800"/>
            </a:xfrm>
            <a:custGeom>
              <a:avLst/>
              <a:gdLst/>
              <a:ahLst/>
              <a:rect l="l" t="t" r="r" b="b"/>
              <a:pathLst>
                <a:path w="318" h="543">
                  <a:moveTo>
                    <a:pt x="0" y="0"/>
                  </a:moveTo>
                  <a:lnTo>
                    <a:pt x="107" y="14"/>
                  </a:lnTo>
                  <a:lnTo>
                    <a:pt x="219" y="31"/>
                  </a:lnTo>
                  <a:lnTo>
                    <a:pt x="318" y="31"/>
                  </a:lnTo>
                  <a:lnTo>
                    <a:pt x="318"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084880" y="3959280"/>
              <a:ext cx="85320" cy="145800"/>
            </a:xfrm>
            <a:custGeom>
              <a:avLst/>
              <a:gdLst/>
              <a:ahLst/>
              <a:rect l="l" t="t" r="r" b="b"/>
              <a:pathLst>
                <a:path w="318" h="543">
                  <a:moveTo>
                    <a:pt x="0" y="0"/>
                  </a:moveTo>
                  <a:lnTo>
                    <a:pt x="107" y="14"/>
                  </a:lnTo>
                  <a:lnTo>
                    <a:pt x="219" y="31"/>
                  </a:lnTo>
                  <a:lnTo>
                    <a:pt x="318" y="31"/>
                  </a:lnTo>
                  <a:lnTo>
                    <a:pt x="318"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8170560" y="3900240"/>
              <a:ext cx="1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4" name=""/>
            <p:cNvSpPr/>
            <p:nvPr/>
          </p:nvSpPr>
          <p:spPr>
            <a:xfrm flipH="1" flipV="1">
              <a:off x="8170560" y="3900240"/>
              <a:ext cx="1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 name=""/>
            <p:cNvSpPr/>
            <p:nvPr/>
          </p:nvSpPr>
          <p:spPr>
            <a:xfrm>
              <a:off x="8170560" y="3945960"/>
              <a:ext cx="45000" cy="21960"/>
            </a:xfrm>
            <a:custGeom>
              <a:avLst/>
              <a:gdLst/>
              <a:ahLst/>
              <a:rect l="l" t="t" r="r" b="b"/>
              <a:pathLst>
                <a:path w="169" h="81">
                  <a:moveTo>
                    <a:pt x="0" y="0"/>
                  </a:moveTo>
                  <a:lnTo>
                    <a:pt x="0" y="81"/>
                  </a:lnTo>
                  <a:lnTo>
                    <a:pt x="169" y="81"/>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 name=""/>
            <p:cNvSpPr/>
            <p:nvPr/>
          </p:nvSpPr>
          <p:spPr>
            <a:xfrm>
              <a:off x="8170560" y="3945960"/>
              <a:ext cx="45000" cy="21960"/>
            </a:xfrm>
            <a:custGeom>
              <a:avLst/>
              <a:gdLst/>
              <a:ahLst/>
              <a:rect l="l" t="t" r="r" b="b"/>
              <a:pathLst>
                <a:path w="169" h="81">
                  <a:moveTo>
                    <a:pt x="0" y="0"/>
                  </a:moveTo>
                  <a:lnTo>
                    <a:pt x="0" y="81"/>
                  </a:lnTo>
                  <a:lnTo>
                    <a:pt x="169" y="81"/>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 name=""/>
            <p:cNvSpPr/>
            <p:nvPr/>
          </p:nvSpPr>
          <p:spPr>
            <a:xfrm>
              <a:off x="8425440" y="3225960"/>
              <a:ext cx="50400" cy="37800"/>
            </a:xfrm>
            <a:custGeom>
              <a:avLst/>
              <a:gdLst/>
              <a:ahLst/>
              <a:rect l="l" t="t" r="r" b="b"/>
              <a:pathLst>
                <a:path w="189" h="144">
                  <a:moveTo>
                    <a:pt x="0" y="0"/>
                  </a:moveTo>
                  <a:lnTo>
                    <a:pt x="94" y="68"/>
                  </a:lnTo>
                  <a:lnTo>
                    <a:pt x="189" y="144"/>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8" name=""/>
            <p:cNvSpPr/>
            <p:nvPr/>
          </p:nvSpPr>
          <p:spPr>
            <a:xfrm>
              <a:off x="8425440" y="3225960"/>
              <a:ext cx="50400" cy="37800"/>
            </a:xfrm>
            <a:custGeom>
              <a:avLst/>
              <a:gdLst/>
              <a:ahLst/>
              <a:rect l="l" t="t" r="r" b="b"/>
              <a:pathLst>
                <a:path w="189" h="144">
                  <a:moveTo>
                    <a:pt x="0" y="0"/>
                  </a:moveTo>
                  <a:lnTo>
                    <a:pt x="94" y="68"/>
                  </a:lnTo>
                  <a:lnTo>
                    <a:pt x="189" y="144"/>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 name=""/>
            <p:cNvSpPr/>
            <p:nvPr/>
          </p:nvSpPr>
          <p:spPr>
            <a:xfrm>
              <a:off x="8293320" y="3377880"/>
              <a:ext cx="288000" cy="589680"/>
            </a:xfrm>
            <a:custGeom>
              <a:avLst/>
              <a:gdLst/>
              <a:ahLst/>
              <a:rect l="l" t="t" r="r" b="b"/>
              <a:pathLst>
                <a:path w="1070" h="2199">
                  <a:moveTo>
                    <a:pt x="0" y="2199"/>
                  </a:moveTo>
                  <a:lnTo>
                    <a:pt x="217" y="2168"/>
                  </a:lnTo>
                  <a:lnTo>
                    <a:pt x="403" y="2137"/>
                  </a:lnTo>
                  <a:lnTo>
                    <a:pt x="553" y="2106"/>
                  </a:lnTo>
                  <a:lnTo>
                    <a:pt x="479" y="1588"/>
                  </a:lnTo>
                  <a:lnTo>
                    <a:pt x="372" y="1134"/>
                  </a:lnTo>
                  <a:lnTo>
                    <a:pt x="584" y="1084"/>
                  </a:lnTo>
                  <a:lnTo>
                    <a:pt x="727" y="1035"/>
                  </a:lnTo>
                  <a:lnTo>
                    <a:pt x="927" y="966"/>
                  </a:lnTo>
                  <a:lnTo>
                    <a:pt x="1070" y="892"/>
                  </a:lnTo>
                  <a:lnTo>
                    <a:pt x="1051" y="830"/>
                  </a:lnTo>
                  <a:lnTo>
                    <a:pt x="927" y="599"/>
                  </a:lnTo>
                  <a:lnTo>
                    <a:pt x="803" y="343"/>
                  </a:lnTo>
                  <a:lnTo>
                    <a:pt x="679" y="157"/>
                  </a:lnTo>
                  <a:lnTo>
                    <a:pt x="615" y="50"/>
                  </a:lnTo>
                  <a:lnTo>
                    <a:pt x="572" y="0"/>
                  </a:lnTo>
                  <a:lnTo>
                    <a:pt x="49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293320" y="3377880"/>
              <a:ext cx="288000" cy="589680"/>
            </a:xfrm>
            <a:custGeom>
              <a:avLst/>
              <a:gdLst/>
              <a:ahLst/>
              <a:rect l="l" t="t" r="r" b="b"/>
              <a:pathLst>
                <a:path w="1070" h="2199">
                  <a:moveTo>
                    <a:pt x="0" y="2199"/>
                  </a:moveTo>
                  <a:lnTo>
                    <a:pt x="217" y="2168"/>
                  </a:lnTo>
                  <a:lnTo>
                    <a:pt x="403" y="2137"/>
                  </a:lnTo>
                  <a:lnTo>
                    <a:pt x="553" y="2106"/>
                  </a:lnTo>
                  <a:lnTo>
                    <a:pt x="479" y="1588"/>
                  </a:lnTo>
                  <a:lnTo>
                    <a:pt x="372" y="1134"/>
                  </a:lnTo>
                  <a:lnTo>
                    <a:pt x="584" y="1084"/>
                  </a:lnTo>
                  <a:lnTo>
                    <a:pt x="727" y="1035"/>
                  </a:lnTo>
                  <a:lnTo>
                    <a:pt x="927" y="966"/>
                  </a:lnTo>
                  <a:lnTo>
                    <a:pt x="1070" y="892"/>
                  </a:lnTo>
                  <a:lnTo>
                    <a:pt x="1051" y="830"/>
                  </a:lnTo>
                  <a:lnTo>
                    <a:pt x="927" y="599"/>
                  </a:lnTo>
                  <a:lnTo>
                    <a:pt x="803" y="343"/>
                  </a:lnTo>
                  <a:lnTo>
                    <a:pt x="679" y="157"/>
                  </a:lnTo>
                  <a:lnTo>
                    <a:pt x="615" y="50"/>
                  </a:lnTo>
                  <a:lnTo>
                    <a:pt x="572" y="0"/>
                  </a:lnTo>
                  <a:lnTo>
                    <a:pt x="49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093520" y="3424680"/>
              <a:ext cx="88200" cy="128880"/>
            </a:xfrm>
            <a:custGeom>
              <a:avLst/>
              <a:gdLst/>
              <a:ahLst/>
              <a:rect l="l" t="t" r="r" b="b"/>
              <a:pathLst>
                <a:path w="330" h="481">
                  <a:moveTo>
                    <a:pt x="330" y="481"/>
                  </a:moveTo>
                  <a:lnTo>
                    <a:pt x="330" y="45"/>
                  </a:lnTo>
                  <a:lnTo>
                    <a:pt x="200" y="39"/>
                  </a:lnTo>
                  <a:lnTo>
                    <a:pt x="81" y="2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093520" y="3424680"/>
              <a:ext cx="88200" cy="128880"/>
            </a:xfrm>
            <a:custGeom>
              <a:avLst/>
              <a:gdLst/>
              <a:ahLst/>
              <a:rect l="l" t="t" r="r" b="b"/>
              <a:pathLst>
                <a:path w="330" h="481">
                  <a:moveTo>
                    <a:pt x="330" y="481"/>
                  </a:moveTo>
                  <a:lnTo>
                    <a:pt x="330" y="45"/>
                  </a:lnTo>
                  <a:lnTo>
                    <a:pt x="200" y="39"/>
                  </a:lnTo>
                  <a:lnTo>
                    <a:pt x="81" y="2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972920" y="3942360"/>
              <a:ext cx="78480" cy="16560"/>
            </a:xfrm>
            <a:custGeom>
              <a:avLst/>
              <a:gdLst/>
              <a:ahLst/>
              <a:rect l="l" t="t" r="r" b="b"/>
              <a:pathLst>
                <a:path w="293" h="62">
                  <a:moveTo>
                    <a:pt x="0" y="0"/>
                  </a:moveTo>
                  <a:lnTo>
                    <a:pt x="180" y="31"/>
                  </a:lnTo>
                  <a:lnTo>
                    <a:pt x="293" y="62"/>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4" name=""/>
            <p:cNvSpPr/>
            <p:nvPr/>
          </p:nvSpPr>
          <p:spPr>
            <a:xfrm>
              <a:off x="7972920" y="3942360"/>
              <a:ext cx="78480" cy="16560"/>
            </a:xfrm>
            <a:custGeom>
              <a:avLst/>
              <a:gdLst/>
              <a:ahLst/>
              <a:rect l="l" t="t" r="r" b="b"/>
              <a:pathLst>
                <a:path w="293" h="62">
                  <a:moveTo>
                    <a:pt x="0" y="0"/>
                  </a:moveTo>
                  <a:lnTo>
                    <a:pt x="180" y="31"/>
                  </a:lnTo>
                  <a:lnTo>
                    <a:pt x="293" y="62"/>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5" name=""/>
            <p:cNvSpPr/>
            <p:nvPr/>
          </p:nvSpPr>
          <p:spPr>
            <a:xfrm>
              <a:off x="8173800" y="3817080"/>
              <a:ext cx="360" cy="4536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6" name=""/>
            <p:cNvSpPr/>
            <p:nvPr/>
          </p:nvSpPr>
          <p:spPr>
            <a:xfrm>
              <a:off x="8173800" y="3817080"/>
              <a:ext cx="360" cy="4536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7" name=""/>
            <p:cNvSpPr/>
            <p:nvPr/>
          </p:nvSpPr>
          <p:spPr>
            <a:xfrm>
              <a:off x="8253000" y="3605400"/>
              <a:ext cx="140400" cy="100080"/>
            </a:xfrm>
            <a:custGeom>
              <a:avLst/>
              <a:gdLst/>
              <a:ahLst/>
              <a:rect l="l" t="t" r="r" b="b"/>
              <a:pathLst>
                <a:path w="522" h="375">
                  <a:moveTo>
                    <a:pt x="460" y="0"/>
                  </a:moveTo>
                  <a:lnTo>
                    <a:pt x="491" y="138"/>
                  </a:lnTo>
                  <a:lnTo>
                    <a:pt x="522" y="287"/>
                  </a:lnTo>
                  <a:lnTo>
                    <a:pt x="305" y="338"/>
                  </a:lnTo>
                  <a:lnTo>
                    <a:pt x="130" y="369"/>
                  </a:lnTo>
                  <a:lnTo>
                    <a:pt x="0" y="3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253000" y="3605400"/>
              <a:ext cx="140400" cy="100080"/>
            </a:xfrm>
            <a:custGeom>
              <a:avLst/>
              <a:gdLst/>
              <a:ahLst/>
              <a:rect l="l" t="t" r="r" b="b"/>
              <a:pathLst>
                <a:path w="522" h="375">
                  <a:moveTo>
                    <a:pt x="460" y="0"/>
                  </a:moveTo>
                  <a:lnTo>
                    <a:pt x="491" y="138"/>
                  </a:lnTo>
                  <a:lnTo>
                    <a:pt x="522" y="287"/>
                  </a:lnTo>
                  <a:lnTo>
                    <a:pt x="305" y="338"/>
                  </a:lnTo>
                  <a:lnTo>
                    <a:pt x="130" y="369"/>
                  </a:lnTo>
                  <a:lnTo>
                    <a:pt x="0" y="3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8259120" y="3431520"/>
              <a:ext cx="298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a:off x="8259120" y="3431520"/>
              <a:ext cx="298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 name=""/>
            <p:cNvSpPr/>
            <p:nvPr/>
          </p:nvSpPr>
          <p:spPr>
            <a:xfrm>
              <a:off x="8328240" y="3389760"/>
              <a:ext cx="96840" cy="95400"/>
            </a:xfrm>
            <a:custGeom>
              <a:avLst/>
              <a:gdLst/>
              <a:ahLst/>
              <a:rect l="l" t="t" r="r" b="b"/>
              <a:pathLst>
                <a:path w="360" h="355">
                  <a:moveTo>
                    <a:pt x="73" y="355"/>
                  </a:moveTo>
                  <a:lnTo>
                    <a:pt x="50" y="280"/>
                  </a:lnTo>
                  <a:lnTo>
                    <a:pt x="0" y="130"/>
                  </a:lnTo>
                  <a:lnTo>
                    <a:pt x="174" y="82"/>
                  </a:lnTo>
                  <a:lnTo>
                    <a:pt x="287" y="37"/>
                  </a:lnTo>
                  <a:lnTo>
                    <a:pt x="36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328240" y="3389760"/>
              <a:ext cx="96840" cy="95400"/>
            </a:xfrm>
            <a:custGeom>
              <a:avLst/>
              <a:gdLst/>
              <a:ahLst/>
              <a:rect l="l" t="t" r="r" b="b"/>
              <a:pathLst>
                <a:path w="360" h="355">
                  <a:moveTo>
                    <a:pt x="73" y="355"/>
                  </a:moveTo>
                  <a:lnTo>
                    <a:pt x="50" y="280"/>
                  </a:lnTo>
                  <a:lnTo>
                    <a:pt x="0" y="130"/>
                  </a:lnTo>
                  <a:lnTo>
                    <a:pt x="174" y="82"/>
                  </a:lnTo>
                  <a:lnTo>
                    <a:pt x="287" y="37"/>
                  </a:lnTo>
                  <a:lnTo>
                    <a:pt x="36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8361720" y="3549960"/>
              <a:ext cx="11520" cy="4824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4" name=""/>
            <p:cNvSpPr/>
            <p:nvPr/>
          </p:nvSpPr>
          <p:spPr>
            <a:xfrm flipH="1" flipV="1">
              <a:off x="8361720" y="3549960"/>
              <a:ext cx="11520" cy="4824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5" name=""/>
            <p:cNvSpPr/>
            <p:nvPr/>
          </p:nvSpPr>
          <p:spPr>
            <a:xfrm flipH="1">
              <a:off x="7660800" y="3030120"/>
              <a:ext cx="33840" cy="42120"/>
            </a:xfrm>
            <a:prstGeom prst="line">
              <a:avLst/>
            </a:prstGeom>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flipH="1">
              <a:off x="7660800" y="3030120"/>
              <a:ext cx="33840" cy="42120"/>
            </a:xfrm>
            <a:prstGeom prst="line">
              <a:avLst/>
            </a:prstGeom>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7" name=""/>
            <p:cNvSpPr/>
            <p:nvPr/>
          </p:nvSpPr>
          <p:spPr>
            <a:xfrm>
              <a:off x="7445880" y="3206160"/>
              <a:ext cx="306720" cy="162720"/>
            </a:xfrm>
            <a:custGeom>
              <a:avLst/>
              <a:gdLst/>
              <a:ahLst/>
              <a:rect l="l" t="t" r="r" b="b"/>
              <a:pathLst>
                <a:path w="1141" h="609">
                  <a:moveTo>
                    <a:pt x="1141" y="79"/>
                  </a:moveTo>
                  <a:lnTo>
                    <a:pt x="960" y="198"/>
                  </a:lnTo>
                  <a:lnTo>
                    <a:pt x="811" y="310"/>
                  </a:lnTo>
                  <a:lnTo>
                    <a:pt x="656" y="436"/>
                  </a:lnTo>
                  <a:lnTo>
                    <a:pt x="563" y="529"/>
                  </a:lnTo>
                  <a:lnTo>
                    <a:pt x="537" y="442"/>
                  </a:lnTo>
                  <a:lnTo>
                    <a:pt x="537" y="186"/>
                  </a:lnTo>
                  <a:lnTo>
                    <a:pt x="549" y="73"/>
                  </a:lnTo>
                  <a:lnTo>
                    <a:pt x="563" y="0"/>
                  </a:lnTo>
                  <a:lnTo>
                    <a:pt x="506" y="31"/>
                  </a:lnTo>
                  <a:lnTo>
                    <a:pt x="374" y="135"/>
                  </a:lnTo>
                  <a:lnTo>
                    <a:pt x="293" y="217"/>
                  </a:lnTo>
                  <a:lnTo>
                    <a:pt x="200" y="324"/>
                  </a:lnTo>
                  <a:lnTo>
                    <a:pt x="95" y="448"/>
                  </a:lnTo>
                  <a:lnTo>
                    <a:pt x="0" y="6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45880" y="3206160"/>
              <a:ext cx="306720" cy="162720"/>
            </a:xfrm>
            <a:custGeom>
              <a:avLst/>
              <a:gdLst/>
              <a:ahLst/>
              <a:rect l="l" t="t" r="r" b="b"/>
              <a:pathLst>
                <a:path w="1141" h="609">
                  <a:moveTo>
                    <a:pt x="1141" y="79"/>
                  </a:moveTo>
                  <a:lnTo>
                    <a:pt x="960" y="198"/>
                  </a:lnTo>
                  <a:lnTo>
                    <a:pt x="811" y="310"/>
                  </a:lnTo>
                  <a:lnTo>
                    <a:pt x="656" y="436"/>
                  </a:lnTo>
                  <a:lnTo>
                    <a:pt x="563" y="529"/>
                  </a:lnTo>
                  <a:lnTo>
                    <a:pt x="537" y="442"/>
                  </a:lnTo>
                  <a:lnTo>
                    <a:pt x="537" y="186"/>
                  </a:lnTo>
                  <a:lnTo>
                    <a:pt x="549" y="73"/>
                  </a:lnTo>
                  <a:lnTo>
                    <a:pt x="563" y="0"/>
                  </a:lnTo>
                  <a:lnTo>
                    <a:pt x="506" y="31"/>
                  </a:lnTo>
                  <a:lnTo>
                    <a:pt x="374" y="135"/>
                  </a:lnTo>
                  <a:lnTo>
                    <a:pt x="293" y="217"/>
                  </a:lnTo>
                  <a:lnTo>
                    <a:pt x="200" y="324"/>
                  </a:lnTo>
                  <a:lnTo>
                    <a:pt x="95" y="448"/>
                  </a:lnTo>
                  <a:lnTo>
                    <a:pt x="0" y="6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97080" y="3072600"/>
              <a:ext cx="205560" cy="129600"/>
            </a:xfrm>
            <a:custGeom>
              <a:avLst/>
              <a:gdLst/>
              <a:ahLst/>
              <a:rect l="l" t="t" r="r" b="b"/>
              <a:pathLst>
                <a:path w="764" h="485">
                  <a:moveTo>
                    <a:pt x="752" y="411"/>
                  </a:moveTo>
                  <a:lnTo>
                    <a:pt x="746" y="324"/>
                  </a:lnTo>
                  <a:lnTo>
                    <a:pt x="752" y="229"/>
                  </a:lnTo>
                  <a:lnTo>
                    <a:pt x="764" y="144"/>
                  </a:lnTo>
                  <a:lnTo>
                    <a:pt x="640" y="175"/>
                  </a:lnTo>
                  <a:lnTo>
                    <a:pt x="473" y="229"/>
                  </a:lnTo>
                  <a:lnTo>
                    <a:pt x="316" y="293"/>
                  </a:lnTo>
                  <a:lnTo>
                    <a:pt x="161" y="373"/>
                  </a:lnTo>
                  <a:lnTo>
                    <a:pt x="62" y="448"/>
                  </a:lnTo>
                  <a:lnTo>
                    <a:pt x="0" y="485"/>
                  </a:lnTo>
                  <a:lnTo>
                    <a:pt x="17" y="404"/>
                  </a:lnTo>
                  <a:lnTo>
                    <a:pt x="36" y="324"/>
                  </a:lnTo>
                  <a:lnTo>
                    <a:pt x="110" y="186"/>
                  </a:lnTo>
                  <a:lnTo>
                    <a:pt x="172" y="74"/>
                  </a:lnTo>
                  <a:lnTo>
                    <a:pt x="234" y="0"/>
                  </a:lnTo>
                  <a:lnTo>
                    <a:pt x="110" y="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597080" y="3072600"/>
              <a:ext cx="205560" cy="129600"/>
            </a:xfrm>
            <a:custGeom>
              <a:avLst/>
              <a:gdLst/>
              <a:ahLst/>
              <a:rect l="l" t="t" r="r" b="b"/>
              <a:pathLst>
                <a:path w="764" h="485">
                  <a:moveTo>
                    <a:pt x="752" y="411"/>
                  </a:moveTo>
                  <a:lnTo>
                    <a:pt x="746" y="324"/>
                  </a:lnTo>
                  <a:lnTo>
                    <a:pt x="752" y="229"/>
                  </a:lnTo>
                  <a:lnTo>
                    <a:pt x="764" y="144"/>
                  </a:lnTo>
                  <a:lnTo>
                    <a:pt x="640" y="175"/>
                  </a:lnTo>
                  <a:lnTo>
                    <a:pt x="473" y="229"/>
                  </a:lnTo>
                  <a:lnTo>
                    <a:pt x="316" y="293"/>
                  </a:lnTo>
                  <a:lnTo>
                    <a:pt x="161" y="373"/>
                  </a:lnTo>
                  <a:lnTo>
                    <a:pt x="62" y="448"/>
                  </a:lnTo>
                  <a:lnTo>
                    <a:pt x="0" y="485"/>
                  </a:lnTo>
                  <a:lnTo>
                    <a:pt x="17" y="404"/>
                  </a:lnTo>
                  <a:lnTo>
                    <a:pt x="36" y="324"/>
                  </a:lnTo>
                  <a:lnTo>
                    <a:pt x="110" y="186"/>
                  </a:lnTo>
                  <a:lnTo>
                    <a:pt x="172" y="74"/>
                  </a:lnTo>
                  <a:lnTo>
                    <a:pt x="234" y="0"/>
                  </a:lnTo>
                  <a:lnTo>
                    <a:pt x="110" y="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660800" y="3025440"/>
              <a:ext cx="130680" cy="47160"/>
            </a:xfrm>
            <a:custGeom>
              <a:avLst/>
              <a:gdLst/>
              <a:ahLst/>
              <a:rect l="l" t="t" r="r" b="b"/>
              <a:pathLst>
                <a:path w="487" h="174">
                  <a:moveTo>
                    <a:pt x="0" y="174"/>
                  </a:moveTo>
                  <a:lnTo>
                    <a:pt x="175" y="99"/>
                  </a:lnTo>
                  <a:lnTo>
                    <a:pt x="332" y="37"/>
                  </a:lnTo>
                  <a:lnTo>
                    <a:pt x="487" y="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2" name=""/>
            <p:cNvSpPr/>
            <p:nvPr/>
          </p:nvSpPr>
          <p:spPr>
            <a:xfrm>
              <a:off x="7660800" y="3025440"/>
              <a:ext cx="130680" cy="47160"/>
            </a:xfrm>
            <a:custGeom>
              <a:avLst/>
              <a:gdLst/>
              <a:ahLst/>
              <a:rect l="l" t="t" r="r" b="b"/>
              <a:pathLst>
                <a:path w="487" h="174">
                  <a:moveTo>
                    <a:pt x="0" y="174"/>
                  </a:moveTo>
                  <a:lnTo>
                    <a:pt x="175" y="99"/>
                  </a:lnTo>
                  <a:lnTo>
                    <a:pt x="332" y="37"/>
                  </a:lnTo>
                  <a:lnTo>
                    <a:pt x="487" y="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3" name=""/>
            <p:cNvSpPr/>
            <p:nvPr/>
          </p:nvSpPr>
          <p:spPr>
            <a:xfrm>
              <a:off x="8809560" y="3235680"/>
              <a:ext cx="38520" cy="39960"/>
            </a:xfrm>
            <a:custGeom>
              <a:avLst/>
              <a:gdLst/>
              <a:ahLst/>
              <a:rect l="l" t="t" r="r" b="b"/>
              <a:pathLst>
                <a:path w="143" h="150">
                  <a:moveTo>
                    <a:pt x="0" y="0"/>
                  </a:moveTo>
                  <a:lnTo>
                    <a:pt x="81" y="88"/>
                  </a:lnTo>
                  <a:lnTo>
                    <a:pt x="143" y="15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4" name=""/>
            <p:cNvSpPr/>
            <p:nvPr/>
          </p:nvSpPr>
          <p:spPr>
            <a:xfrm>
              <a:off x="8809560" y="3235680"/>
              <a:ext cx="38520" cy="39960"/>
            </a:xfrm>
            <a:custGeom>
              <a:avLst/>
              <a:gdLst/>
              <a:ahLst/>
              <a:rect l="l" t="t" r="r" b="b"/>
              <a:pathLst>
                <a:path w="143" h="150">
                  <a:moveTo>
                    <a:pt x="0" y="0"/>
                  </a:moveTo>
                  <a:lnTo>
                    <a:pt x="81" y="88"/>
                  </a:lnTo>
                  <a:lnTo>
                    <a:pt x="143" y="15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5" name=""/>
            <p:cNvSpPr/>
            <p:nvPr/>
          </p:nvSpPr>
          <p:spPr>
            <a:xfrm>
              <a:off x="8062920" y="3180600"/>
              <a:ext cx="50400" cy="68400"/>
            </a:xfrm>
            <a:custGeom>
              <a:avLst/>
              <a:gdLst/>
              <a:ahLst/>
              <a:rect l="l" t="t" r="r" b="b"/>
              <a:pathLst>
                <a:path w="188" h="256">
                  <a:moveTo>
                    <a:pt x="0" y="256"/>
                  </a:moveTo>
                  <a:lnTo>
                    <a:pt x="95" y="126"/>
                  </a:lnTo>
                  <a:lnTo>
                    <a:pt x="18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 name=""/>
            <p:cNvSpPr/>
            <p:nvPr/>
          </p:nvSpPr>
          <p:spPr>
            <a:xfrm>
              <a:off x="8062920" y="3180600"/>
              <a:ext cx="50400" cy="68400"/>
            </a:xfrm>
            <a:custGeom>
              <a:avLst/>
              <a:gdLst/>
              <a:ahLst/>
              <a:rect l="l" t="t" r="r" b="b"/>
              <a:pathLst>
                <a:path w="188" h="256">
                  <a:moveTo>
                    <a:pt x="0" y="256"/>
                  </a:moveTo>
                  <a:lnTo>
                    <a:pt x="95" y="126"/>
                  </a:lnTo>
                  <a:lnTo>
                    <a:pt x="18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 name=""/>
            <p:cNvSpPr/>
            <p:nvPr/>
          </p:nvSpPr>
          <p:spPr>
            <a:xfrm>
              <a:off x="7949520" y="3147120"/>
              <a:ext cx="122040" cy="75600"/>
            </a:xfrm>
            <a:custGeom>
              <a:avLst/>
              <a:gdLst/>
              <a:ahLst/>
              <a:rect l="l" t="t" r="r" b="b"/>
              <a:pathLst>
                <a:path w="454" h="281">
                  <a:moveTo>
                    <a:pt x="454" y="0"/>
                  </a:moveTo>
                  <a:lnTo>
                    <a:pt x="225" y="124"/>
                  </a:lnTo>
                  <a:lnTo>
                    <a:pt x="0" y="281"/>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 name=""/>
            <p:cNvSpPr/>
            <p:nvPr/>
          </p:nvSpPr>
          <p:spPr>
            <a:xfrm>
              <a:off x="7949520" y="3147120"/>
              <a:ext cx="122040" cy="75600"/>
            </a:xfrm>
            <a:custGeom>
              <a:avLst/>
              <a:gdLst/>
              <a:ahLst/>
              <a:rect l="l" t="t" r="r" b="b"/>
              <a:pathLst>
                <a:path w="454" h="281">
                  <a:moveTo>
                    <a:pt x="454" y="0"/>
                  </a:moveTo>
                  <a:lnTo>
                    <a:pt x="225" y="124"/>
                  </a:lnTo>
                  <a:lnTo>
                    <a:pt x="0" y="281"/>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 name=""/>
            <p:cNvSpPr/>
            <p:nvPr/>
          </p:nvSpPr>
          <p:spPr>
            <a:xfrm>
              <a:off x="7935840" y="3114000"/>
              <a:ext cx="118800" cy="34560"/>
            </a:xfrm>
            <a:custGeom>
              <a:avLst/>
              <a:gdLst/>
              <a:ahLst/>
              <a:rect l="l" t="t" r="r" b="b"/>
              <a:pathLst>
                <a:path w="442" h="130">
                  <a:moveTo>
                    <a:pt x="0" y="130"/>
                  </a:moveTo>
                  <a:lnTo>
                    <a:pt x="225" y="62"/>
                  </a:lnTo>
                  <a:lnTo>
                    <a:pt x="44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 name=""/>
            <p:cNvSpPr/>
            <p:nvPr/>
          </p:nvSpPr>
          <p:spPr>
            <a:xfrm>
              <a:off x="7935840" y="3114000"/>
              <a:ext cx="118800" cy="34560"/>
            </a:xfrm>
            <a:custGeom>
              <a:avLst/>
              <a:gdLst/>
              <a:ahLst/>
              <a:rect l="l" t="t" r="r" b="b"/>
              <a:pathLst>
                <a:path w="442" h="130">
                  <a:moveTo>
                    <a:pt x="0" y="130"/>
                  </a:moveTo>
                  <a:lnTo>
                    <a:pt x="225" y="62"/>
                  </a:lnTo>
                  <a:lnTo>
                    <a:pt x="44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1" name=""/>
            <p:cNvSpPr/>
            <p:nvPr/>
          </p:nvSpPr>
          <p:spPr>
            <a:xfrm>
              <a:off x="7803000" y="3058560"/>
              <a:ext cx="59040" cy="51840"/>
            </a:xfrm>
            <a:custGeom>
              <a:avLst/>
              <a:gdLst/>
              <a:ahLst/>
              <a:rect l="l" t="t" r="r" b="b"/>
              <a:pathLst>
                <a:path w="219" h="194">
                  <a:moveTo>
                    <a:pt x="219" y="130"/>
                  </a:moveTo>
                  <a:lnTo>
                    <a:pt x="126" y="163"/>
                  </a:lnTo>
                  <a:lnTo>
                    <a:pt x="0" y="194"/>
                  </a:lnTo>
                  <a:lnTo>
                    <a:pt x="33" y="132"/>
                  </a:lnTo>
                  <a:lnTo>
                    <a:pt x="64" y="62"/>
                  </a:lnTo>
                  <a:lnTo>
                    <a:pt x="95" y="0"/>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2" name=""/>
            <p:cNvSpPr/>
            <p:nvPr/>
          </p:nvSpPr>
          <p:spPr>
            <a:xfrm>
              <a:off x="7803000" y="3058560"/>
              <a:ext cx="59040" cy="51840"/>
            </a:xfrm>
            <a:custGeom>
              <a:avLst/>
              <a:gdLst/>
              <a:ahLst/>
              <a:rect l="l" t="t" r="r" b="b"/>
              <a:pathLst>
                <a:path w="219" h="194">
                  <a:moveTo>
                    <a:pt x="219" y="130"/>
                  </a:moveTo>
                  <a:lnTo>
                    <a:pt x="126" y="163"/>
                  </a:lnTo>
                  <a:lnTo>
                    <a:pt x="0" y="194"/>
                  </a:lnTo>
                  <a:lnTo>
                    <a:pt x="33" y="132"/>
                  </a:lnTo>
                  <a:lnTo>
                    <a:pt x="64" y="62"/>
                  </a:lnTo>
                  <a:lnTo>
                    <a:pt x="95" y="0"/>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3" name=""/>
            <p:cNvSpPr/>
            <p:nvPr/>
          </p:nvSpPr>
          <p:spPr>
            <a:xfrm>
              <a:off x="7904160" y="3076920"/>
              <a:ext cx="152280" cy="12240"/>
            </a:xfrm>
            <a:custGeom>
              <a:avLst/>
              <a:gdLst/>
              <a:ahLst/>
              <a:rect l="l" t="t" r="r" b="b"/>
              <a:pathLst>
                <a:path w="566" h="44">
                  <a:moveTo>
                    <a:pt x="566" y="0"/>
                  </a:moveTo>
                  <a:lnTo>
                    <a:pt x="281" y="13"/>
                  </a:lnTo>
                  <a:lnTo>
                    <a:pt x="0" y="44"/>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4" name=""/>
            <p:cNvSpPr/>
            <p:nvPr/>
          </p:nvSpPr>
          <p:spPr>
            <a:xfrm>
              <a:off x="7904160" y="3076920"/>
              <a:ext cx="152280" cy="12240"/>
            </a:xfrm>
            <a:custGeom>
              <a:avLst/>
              <a:gdLst/>
              <a:ahLst/>
              <a:rect l="l" t="t" r="r" b="b"/>
              <a:pathLst>
                <a:path w="566" h="44">
                  <a:moveTo>
                    <a:pt x="566" y="0"/>
                  </a:moveTo>
                  <a:lnTo>
                    <a:pt x="281" y="13"/>
                  </a:lnTo>
                  <a:lnTo>
                    <a:pt x="0" y="44"/>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 name=""/>
            <p:cNvSpPr/>
            <p:nvPr/>
          </p:nvSpPr>
          <p:spPr>
            <a:xfrm>
              <a:off x="7967520" y="3025440"/>
              <a:ext cx="105840" cy="21240"/>
            </a:xfrm>
            <a:custGeom>
              <a:avLst/>
              <a:gdLst/>
              <a:ahLst/>
              <a:rect l="l" t="t" r="r" b="b"/>
              <a:pathLst>
                <a:path w="393" h="79">
                  <a:moveTo>
                    <a:pt x="393" y="79"/>
                  </a:moveTo>
                  <a:lnTo>
                    <a:pt x="174" y="37"/>
                  </a:lnTo>
                  <a:lnTo>
                    <a:pt x="0" y="0"/>
                  </a:lnTo>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6" name=""/>
            <p:cNvSpPr/>
            <p:nvPr/>
          </p:nvSpPr>
          <p:spPr>
            <a:xfrm>
              <a:off x="7967520" y="3025440"/>
              <a:ext cx="105840" cy="21240"/>
            </a:xfrm>
            <a:custGeom>
              <a:avLst/>
              <a:gdLst/>
              <a:ahLst/>
              <a:rect l="l" t="t" r="r" b="b"/>
              <a:pathLst>
                <a:path w="393" h="79">
                  <a:moveTo>
                    <a:pt x="393" y="79"/>
                  </a:moveTo>
                  <a:lnTo>
                    <a:pt x="174" y="37"/>
                  </a:lnTo>
                  <a:lnTo>
                    <a:pt x="0" y="0"/>
                  </a:lnTo>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7" name=""/>
            <p:cNvSpPr/>
            <p:nvPr/>
          </p:nvSpPr>
          <p:spPr>
            <a:xfrm>
              <a:off x="8046360" y="2987640"/>
              <a:ext cx="59040" cy="34560"/>
            </a:xfrm>
            <a:custGeom>
              <a:avLst/>
              <a:gdLst/>
              <a:ahLst/>
              <a:rect l="l" t="t" r="r" b="b"/>
              <a:pathLst>
                <a:path w="220" h="130">
                  <a:moveTo>
                    <a:pt x="0" y="0"/>
                  </a:moveTo>
                  <a:lnTo>
                    <a:pt x="101" y="62"/>
                  </a:lnTo>
                  <a:lnTo>
                    <a:pt x="220" y="13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8" name=""/>
            <p:cNvSpPr/>
            <p:nvPr/>
          </p:nvSpPr>
          <p:spPr>
            <a:xfrm>
              <a:off x="8046360" y="2987640"/>
              <a:ext cx="59040" cy="34560"/>
            </a:xfrm>
            <a:custGeom>
              <a:avLst/>
              <a:gdLst/>
              <a:ahLst/>
              <a:rect l="l" t="t" r="r" b="b"/>
              <a:pathLst>
                <a:path w="220" h="130">
                  <a:moveTo>
                    <a:pt x="0" y="0"/>
                  </a:moveTo>
                  <a:lnTo>
                    <a:pt x="101" y="62"/>
                  </a:lnTo>
                  <a:lnTo>
                    <a:pt x="220" y="13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9" name=""/>
            <p:cNvSpPr/>
            <p:nvPr/>
          </p:nvSpPr>
          <p:spPr>
            <a:xfrm>
              <a:off x="8182080" y="3313080"/>
              <a:ext cx="27000" cy="123120"/>
            </a:xfrm>
            <a:custGeom>
              <a:avLst/>
              <a:gdLst/>
              <a:ahLst/>
              <a:rect l="l" t="t" r="r" b="b"/>
              <a:pathLst>
                <a:path w="101" h="462">
                  <a:moveTo>
                    <a:pt x="13" y="0"/>
                  </a:moveTo>
                  <a:lnTo>
                    <a:pt x="13" y="237"/>
                  </a:lnTo>
                  <a:lnTo>
                    <a:pt x="0" y="462"/>
                  </a:lnTo>
                  <a:lnTo>
                    <a:pt x="101" y="4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182080" y="3313080"/>
              <a:ext cx="27000" cy="123120"/>
            </a:xfrm>
            <a:custGeom>
              <a:avLst/>
              <a:gdLst/>
              <a:ahLst/>
              <a:rect l="l" t="t" r="r" b="b"/>
              <a:pathLst>
                <a:path w="101" h="462">
                  <a:moveTo>
                    <a:pt x="13" y="0"/>
                  </a:moveTo>
                  <a:lnTo>
                    <a:pt x="13" y="237"/>
                  </a:lnTo>
                  <a:lnTo>
                    <a:pt x="0" y="462"/>
                  </a:lnTo>
                  <a:lnTo>
                    <a:pt x="101" y="4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185680" y="3235680"/>
              <a:ext cx="3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2" name=""/>
            <p:cNvSpPr/>
            <p:nvPr/>
          </p:nvSpPr>
          <p:spPr>
            <a:xfrm>
              <a:off x="8185680" y="3235680"/>
              <a:ext cx="3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3" name=""/>
            <p:cNvSpPr/>
            <p:nvPr/>
          </p:nvSpPr>
          <p:spPr>
            <a:xfrm>
              <a:off x="8192880" y="2975040"/>
              <a:ext cx="288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4" name=""/>
            <p:cNvSpPr/>
            <p:nvPr/>
          </p:nvSpPr>
          <p:spPr>
            <a:xfrm>
              <a:off x="8192880" y="2975040"/>
              <a:ext cx="288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 name=""/>
            <p:cNvSpPr/>
            <p:nvPr/>
          </p:nvSpPr>
          <p:spPr>
            <a:xfrm>
              <a:off x="8101800" y="2962080"/>
              <a:ext cx="48240" cy="43200"/>
            </a:xfrm>
            <a:custGeom>
              <a:avLst/>
              <a:gdLst/>
              <a:ahLst/>
              <a:rect l="l" t="t" r="r" b="b"/>
              <a:pathLst>
                <a:path w="180" h="161">
                  <a:moveTo>
                    <a:pt x="180" y="161"/>
                  </a:moveTo>
                  <a:lnTo>
                    <a:pt x="118" y="99"/>
                  </a:lnTo>
                  <a:lnTo>
                    <a:pt x="45" y="31"/>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6" name=""/>
            <p:cNvSpPr/>
            <p:nvPr/>
          </p:nvSpPr>
          <p:spPr>
            <a:xfrm>
              <a:off x="8101800" y="2962080"/>
              <a:ext cx="48240" cy="43200"/>
            </a:xfrm>
            <a:custGeom>
              <a:avLst/>
              <a:gdLst/>
              <a:ahLst/>
              <a:rect l="l" t="t" r="r" b="b"/>
              <a:pathLst>
                <a:path w="180" h="161">
                  <a:moveTo>
                    <a:pt x="180" y="161"/>
                  </a:moveTo>
                  <a:lnTo>
                    <a:pt x="118" y="99"/>
                  </a:lnTo>
                  <a:lnTo>
                    <a:pt x="45" y="31"/>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7" name=""/>
            <p:cNvSpPr/>
            <p:nvPr/>
          </p:nvSpPr>
          <p:spPr>
            <a:xfrm>
              <a:off x="8281440" y="2977200"/>
              <a:ext cx="93600" cy="44640"/>
            </a:xfrm>
            <a:custGeom>
              <a:avLst/>
              <a:gdLst/>
              <a:ahLst/>
              <a:rect l="l" t="t" r="r" b="b"/>
              <a:pathLst>
                <a:path w="349" h="167">
                  <a:moveTo>
                    <a:pt x="0" y="167"/>
                  </a:moveTo>
                  <a:lnTo>
                    <a:pt x="243" y="57"/>
                  </a:lnTo>
                  <a:lnTo>
                    <a:pt x="349"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
            <p:cNvSpPr/>
            <p:nvPr/>
          </p:nvSpPr>
          <p:spPr>
            <a:xfrm>
              <a:off x="8281440" y="2977200"/>
              <a:ext cx="93600" cy="44640"/>
            </a:xfrm>
            <a:custGeom>
              <a:avLst/>
              <a:gdLst/>
              <a:ahLst/>
              <a:rect l="l" t="t" r="r" b="b"/>
              <a:pathLst>
                <a:path w="349" h="167">
                  <a:moveTo>
                    <a:pt x="0" y="167"/>
                  </a:moveTo>
                  <a:lnTo>
                    <a:pt x="243" y="57"/>
                  </a:lnTo>
                  <a:lnTo>
                    <a:pt x="349"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9" name=""/>
            <p:cNvSpPr/>
            <p:nvPr/>
          </p:nvSpPr>
          <p:spPr>
            <a:xfrm>
              <a:off x="8244360" y="2967120"/>
              <a:ext cx="29880" cy="41760"/>
            </a:xfrm>
            <a:custGeom>
              <a:avLst/>
              <a:gdLst/>
              <a:ahLst/>
              <a:rect l="l" t="t" r="r" b="b"/>
              <a:pathLst>
                <a:path w="113" h="158">
                  <a:moveTo>
                    <a:pt x="113" y="0"/>
                  </a:moveTo>
                  <a:lnTo>
                    <a:pt x="70" y="45"/>
                  </a:lnTo>
                  <a:lnTo>
                    <a:pt x="39" y="96"/>
                  </a:lnTo>
                  <a:lnTo>
                    <a:pt x="0" y="158"/>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0" name=""/>
            <p:cNvSpPr/>
            <p:nvPr/>
          </p:nvSpPr>
          <p:spPr>
            <a:xfrm>
              <a:off x="8244360" y="2967120"/>
              <a:ext cx="29880" cy="41760"/>
            </a:xfrm>
            <a:custGeom>
              <a:avLst/>
              <a:gdLst/>
              <a:ahLst/>
              <a:rect l="l" t="t" r="r" b="b"/>
              <a:pathLst>
                <a:path w="113" h="158">
                  <a:moveTo>
                    <a:pt x="113" y="0"/>
                  </a:moveTo>
                  <a:lnTo>
                    <a:pt x="70" y="45"/>
                  </a:lnTo>
                  <a:lnTo>
                    <a:pt x="39" y="96"/>
                  </a:lnTo>
                  <a:lnTo>
                    <a:pt x="0" y="158"/>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316360" y="3035880"/>
              <a:ext cx="138600" cy="20160"/>
            </a:xfrm>
            <a:custGeom>
              <a:avLst/>
              <a:gdLst/>
              <a:ahLst/>
              <a:rect l="l" t="t" r="r" b="b"/>
              <a:pathLst>
                <a:path w="518" h="75">
                  <a:moveTo>
                    <a:pt x="518" y="0"/>
                  </a:moveTo>
                  <a:lnTo>
                    <a:pt x="256" y="31"/>
                  </a:lnTo>
                  <a:lnTo>
                    <a:pt x="0" y="7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2" name=""/>
            <p:cNvSpPr/>
            <p:nvPr/>
          </p:nvSpPr>
          <p:spPr>
            <a:xfrm>
              <a:off x="8316360" y="3035880"/>
              <a:ext cx="138600" cy="20160"/>
            </a:xfrm>
            <a:custGeom>
              <a:avLst/>
              <a:gdLst/>
              <a:ahLst/>
              <a:rect l="l" t="t" r="r" b="b"/>
              <a:pathLst>
                <a:path w="518" h="75">
                  <a:moveTo>
                    <a:pt x="518" y="0"/>
                  </a:moveTo>
                  <a:lnTo>
                    <a:pt x="256" y="31"/>
                  </a:lnTo>
                  <a:lnTo>
                    <a:pt x="0" y="7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3" name=""/>
            <p:cNvSpPr/>
            <p:nvPr/>
          </p:nvSpPr>
          <p:spPr>
            <a:xfrm>
              <a:off x="8330040" y="3085560"/>
              <a:ext cx="568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8330040" y="3085560"/>
              <a:ext cx="568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8386560" y="3089520"/>
              <a:ext cx="85320" cy="11160"/>
            </a:xfrm>
            <a:custGeom>
              <a:avLst/>
              <a:gdLst/>
              <a:ahLst/>
              <a:rect l="l" t="t" r="r" b="b"/>
              <a:pathLst>
                <a:path w="318" h="43">
                  <a:moveTo>
                    <a:pt x="0" y="0"/>
                  </a:moveTo>
                  <a:lnTo>
                    <a:pt x="174" y="20"/>
                  </a:lnTo>
                  <a:lnTo>
                    <a:pt x="318" y="43"/>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8386560" y="3089520"/>
              <a:ext cx="85320" cy="11160"/>
            </a:xfrm>
            <a:custGeom>
              <a:avLst/>
              <a:gdLst/>
              <a:ahLst/>
              <a:rect l="l" t="t" r="r" b="b"/>
              <a:pathLst>
                <a:path w="318" h="43">
                  <a:moveTo>
                    <a:pt x="0" y="0"/>
                  </a:moveTo>
                  <a:lnTo>
                    <a:pt x="174" y="20"/>
                  </a:lnTo>
                  <a:lnTo>
                    <a:pt x="318" y="43"/>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8584560" y="4071240"/>
              <a:ext cx="120960" cy="58320"/>
            </a:xfrm>
            <a:custGeom>
              <a:avLst/>
              <a:gdLst/>
              <a:ahLst/>
              <a:rect l="l" t="t" r="r" b="b"/>
              <a:pathLst>
                <a:path w="450" h="219">
                  <a:moveTo>
                    <a:pt x="0" y="219"/>
                  </a:moveTo>
                  <a:lnTo>
                    <a:pt x="95" y="175"/>
                  </a:lnTo>
                  <a:lnTo>
                    <a:pt x="250" y="113"/>
                  </a:lnTo>
                  <a:lnTo>
                    <a:pt x="405" y="31"/>
                  </a:lnTo>
                  <a:lnTo>
                    <a:pt x="450" y="0"/>
                  </a:lnTo>
                  <a:lnTo>
                    <a:pt x="450" y="157"/>
                  </a:lnTo>
                </a:path>
              </a:pathLst>
            </a:custGeom>
            <a:no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584560" y="4071240"/>
              <a:ext cx="120960" cy="58320"/>
            </a:xfrm>
            <a:custGeom>
              <a:avLst/>
              <a:gdLst/>
              <a:ahLst/>
              <a:rect l="l" t="t" r="r" b="b"/>
              <a:pathLst>
                <a:path w="450" h="219">
                  <a:moveTo>
                    <a:pt x="0" y="219"/>
                  </a:moveTo>
                  <a:lnTo>
                    <a:pt x="95" y="175"/>
                  </a:lnTo>
                  <a:lnTo>
                    <a:pt x="250" y="113"/>
                  </a:lnTo>
                  <a:lnTo>
                    <a:pt x="405" y="31"/>
                  </a:lnTo>
                  <a:lnTo>
                    <a:pt x="450" y="0"/>
                  </a:lnTo>
                  <a:lnTo>
                    <a:pt x="450" y="157"/>
                  </a:lnTo>
                </a:path>
              </a:pathLst>
            </a:custGeom>
            <a:no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9" name=""/>
            <p:cNvSpPr/>
            <p:nvPr/>
          </p:nvSpPr>
          <p:spPr>
            <a:xfrm>
              <a:off x="8881920" y="3692160"/>
              <a:ext cx="91800" cy="233640"/>
            </a:xfrm>
            <a:custGeom>
              <a:avLst/>
              <a:gdLst/>
              <a:ahLst/>
              <a:rect l="l" t="t" r="r" b="b"/>
              <a:pathLst>
                <a:path w="344" h="873">
                  <a:moveTo>
                    <a:pt x="344" y="0"/>
                  </a:moveTo>
                  <a:lnTo>
                    <a:pt x="282" y="281"/>
                  </a:lnTo>
                  <a:lnTo>
                    <a:pt x="220" y="448"/>
                  </a:lnTo>
                  <a:lnTo>
                    <a:pt x="158" y="600"/>
                  </a:lnTo>
                  <a:lnTo>
                    <a:pt x="76" y="729"/>
                  </a:lnTo>
                  <a:lnTo>
                    <a:pt x="0" y="8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881920" y="3692160"/>
              <a:ext cx="91800" cy="233640"/>
            </a:xfrm>
            <a:custGeom>
              <a:avLst/>
              <a:gdLst/>
              <a:ahLst/>
              <a:rect l="l" t="t" r="r" b="b"/>
              <a:pathLst>
                <a:path w="344" h="873">
                  <a:moveTo>
                    <a:pt x="344" y="0"/>
                  </a:moveTo>
                  <a:lnTo>
                    <a:pt x="282" y="281"/>
                  </a:lnTo>
                  <a:lnTo>
                    <a:pt x="220" y="448"/>
                  </a:lnTo>
                  <a:lnTo>
                    <a:pt x="158" y="600"/>
                  </a:lnTo>
                  <a:lnTo>
                    <a:pt x="76" y="729"/>
                  </a:lnTo>
                  <a:lnTo>
                    <a:pt x="0" y="8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442000" y="3506400"/>
              <a:ext cx="408960" cy="572760"/>
            </a:xfrm>
            <a:custGeom>
              <a:avLst/>
              <a:gdLst/>
              <a:ahLst/>
              <a:rect l="l" t="t" r="r" b="b"/>
              <a:pathLst>
                <a:path w="1520" h="2135">
                  <a:moveTo>
                    <a:pt x="1520" y="696"/>
                  </a:moveTo>
                  <a:lnTo>
                    <a:pt x="1458" y="791"/>
                  </a:lnTo>
                  <a:lnTo>
                    <a:pt x="1365" y="560"/>
                  </a:lnTo>
                  <a:lnTo>
                    <a:pt x="1309" y="442"/>
                  </a:lnTo>
                  <a:lnTo>
                    <a:pt x="1215" y="267"/>
                  </a:lnTo>
                  <a:lnTo>
                    <a:pt x="1091" y="87"/>
                  </a:lnTo>
                  <a:lnTo>
                    <a:pt x="1027" y="0"/>
                  </a:lnTo>
                  <a:lnTo>
                    <a:pt x="965" y="81"/>
                  </a:lnTo>
                  <a:lnTo>
                    <a:pt x="861" y="174"/>
                  </a:lnTo>
                  <a:lnTo>
                    <a:pt x="717" y="293"/>
                  </a:lnTo>
                  <a:lnTo>
                    <a:pt x="579" y="366"/>
                  </a:lnTo>
                  <a:lnTo>
                    <a:pt x="529" y="403"/>
                  </a:lnTo>
                  <a:lnTo>
                    <a:pt x="574" y="510"/>
                  </a:lnTo>
                  <a:lnTo>
                    <a:pt x="655" y="696"/>
                  </a:lnTo>
                  <a:lnTo>
                    <a:pt x="779" y="983"/>
                  </a:lnTo>
                  <a:lnTo>
                    <a:pt x="855" y="1245"/>
                  </a:lnTo>
                  <a:lnTo>
                    <a:pt x="872" y="1295"/>
                  </a:lnTo>
                  <a:lnTo>
                    <a:pt x="779" y="1346"/>
                  </a:lnTo>
                  <a:lnTo>
                    <a:pt x="624" y="1408"/>
                  </a:lnTo>
                  <a:lnTo>
                    <a:pt x="387" y="1501"/>
                  </a:lnTo>
                  <a:lnTo>
                    <a:pt x="157" y="1594"/>
                  </a:lnTo>
                  <a:lnTo>
                    <a:pt x="0" y="1625"/>
                  </a:lnTo>
                  <a:lnTo>
                    <a:pt x="31" y="1844"/>
                  </a:lnTo>
                  <a:lnTo>
                    <a:pt x="62" y="2061"/>
                  </a:lnTo>
                  <a:lnTo>
                    <a:pt x="62" y="2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442000" y="3506400"/>
              <a:ext cx="408960" cy="572760"/>
            </a:xfrm>
            <a:custGeom>
              <a:avLst/>
              <a:gdLst/>
              <a:ahLst/>
              <a:rect l="l" t="t" r="r" b="b"/>
              <a:pathLst>
                <a:path w="1520" h="2135">
                  <a:moveTo>
                    <a:pt x="1520" y="696"/>
                  </a:moveTo>
                  <a:lnTo>
                    <a:pt x="1458" y="791"/>
                  </a:lnTo>
                  <a:lnTo>
                    <a:pt x="1365" y="560"/>
                  </a:lnTo>
                  <a:lnTo>
                    <a:pt x="1309" y="442"/>
                  </a:lnTo>
                  <a:lnTo>
                    <a:pt x="1215" y="267"/>
                  </a:lnTo>
                  <a:lnTo>
                    <a:pt x="1091" y="87"/>
                  </a:lnTo>
                  <a:lnTo>
                    <a:pt x="1027" y="0"/>
                  </a:lnTo>
                  <a:lnTo>
                    <a:pt x="965" y="81"/>
                  </a:lnTo>
                  <a:lnTo>
                    <a:pt x="861" y="174"/>
                  </a:lnTo>
                  <a:lnTo>
                    <a:pt x="717" y="293"/>
                  </a:lnTo>
                  <a:lnTo>
                    <a:pt x="579" y="366"/>
                  </a:lnTo>
                  <a:lnTo>
                    <a:pt x="529" y="403"/>
                  </a:lnTo>
                  <a:lnTo>
                    <a:pt x="574" y="510"/>
                  </a:lnTo>
                  <a:lnTo>
                    <a:pt x="655" y="696"/>
                  </a:lnTo>
                  <a:lnTo>
                    <a:pt x="779" y="983"/>
                  </a:lnTo>
                  <a:lnTo>
                    <a:pt x="855" y="1245"/>
                  </a:lnTo>
                  <a:lnTo>
                    <a:pt x="872" y="1295"/>
                  </a:lnTo>
                  <a:lnTo>
                    <a:pt x="779" y="1346"/>
                  </a:lnTo>
                  <a:lnTo>
                    <a:pt x="624" y="1408"/>
                  </a:lnTo>
                  <a:lnTo>
                    <a:pt x="387" y="1501"/>
                  </a:lnTo>
                  <a:lnTo>
                    <a:pt x="157" y="1594"/>
                  </a:lnTo>
                  <a:lnTo>
                    <a:pt x="0" y="1625"/>
                  </a:lnTo>
                  <a:lnTo>
                    <a:pt x="31" y="1844"/>
                  </a:lnTo>
                  <a:lnTo>
                    <a:pt x="62" y="2061"/>
                  </a:lnTo>
                  <a:lnTo>
                    <a:pt x="62" y="2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326800" y="3117240"/>
              <a:ext cx="257760" cy="100080"/>
            </a:xfrm>
            <a:custGeom>
              <a:avLst/>
              <a:gdLst/>
              <a:ahLst/>
              <a:rect l="l" t="t" r="r" b="b"/>
              <a:pathLst>
                <a:path w="958" h="374">
                  <a:moveTo>
                    <a:pt x="0" y="0"/>
                  </a:moveTo>
                  <a:lnTo>
                    <a:pt x="287" y="93"/>
                  </a:lnTo>
                  <a:lnTo>
                    <a:pt x="617" y="206"/>
                  </a:lnTo>
                  <a:lnTo>
                    <a:pt x="878" y="337"/>
                  </a:lnTo>
                  <a:lnTo>
                    <a:pt x="946" y="374"/>
                  </a:lnTo>
                  <a:lnTo>
                    <a:pt x="958"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326800" y="3117240"/>
              <a:ext cx="257760" cy="100080"/>
            </a:xfrm>
            <a:custGeom>
              <a:avLst/>
              <a:gdLst/>
              <a:ahLst/>
              <a:rect l="l" t="t" r="r" b="b"/>
              <a:pathLst>
                <a:path w="958" h="374">
                  <a:moveTo>
                    <a:pt x="0" y="0"/>
                  </a:moveTo>
                  <a:lnTo>
                    <a:pt x="287" y="93"/>
                  </a:lnTo>
                  <a:lnTo>
                    <a:pt x="617" y="206"/>
                  </a:lnTo>
                  <a:lnTo>
                    <a:pt x="878" y="337"/>
                  </a:lnTo>
                  <a:lnTo>
                    <a:pt x="946" y="374"/>
                  </a:lnTo>
                  <a:lnTo>
                    <a:pt x="958"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385480" y="3197520"/>
              <a:ext cx="396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6" name=""/>
            <p:cNvSpPr/>
            <p:nvPr/>
          </p:nvSpPr>
          <p:spPr>
            <a:xfrm>
              <a:off x="8385480" y="3197520"/>
              <a:ext cx="396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7" name=""/>
            <p:cNvSpPr/>
            <p:nvPr/>
          </p:nvSpPr>
          <p:spPr>
            <a:xfrm>
              <a:off x="8263080" y="3239280"/>
              <a:ext cx="65160" cy="191880"/>
            </a:xfrm>
            <a:custGeom>
              <a:avLst/>
              <a:gdLst/>
              <a:ahLst/>
              <a:rect l="l" t="t" r="r" b="b"/>
              <a:pathLst>
                <a:path w="243" h="715">
                  <a:moveTo>
                    <a:pt x="99" y="715"/>
                  </a:moveTo>
                  <a:lnTo>
                    <a:pt x="243" y="690"/>
                  </a:lnTo>
                  <a:lnTo>
                    <a:pt x="175" y="492"/>
                  </a:lnTo>
                  <a:lnTo>
                    <a:pt x="124" y="355"/>
                  </a:lnTo>
                  <a:lnTo>
                    <a:pt x="74" y="2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263080" y="3239280"/>
              <a:ext cx="65160" cy="191880"/>
            </a:xfrm>
            <a:custGeom>
              <a:avLst/>
              <a:gdLst/>
              <a:ahLst/>
              <a:rect l="l" t="t" r="r" b="b"/>
              <a:pathLst>
                <a:path w="243" h="715">
                  <a:moveTo>
                    <a:pt x="99" y="715"/>
                  </a:moveTo>
                  <a:lnTo>
                    <a:pt x="243" y="690"/>
                  </a:lnTo>
                  <a:lnTo>
                    <a:pt x="175" y="492"/>
                  </a:lnTo>
                  <a:lnTo>
                    <a:pt x="124" y="355"/>
                  </a:lnTo>
                  <a:lnTo>
                    <a:pt x="74" y="2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08520" y="3309840"/>
              <a:ext cx="335880" cy="196560"/>
            </a:xfrm>
            <a:custGeom>
              <a:avLst/>
              <a:gdLst/>
              <a:ahLst/>
              <a:rect l="l" t="t" r="r" b="b"/>
              <a:pathLst>
                <a:path w="1247" h="735">
                  <a:moveTo>
                    <a:pt x="1247" y="609"/>
                  </a:moveTo>
                  <a:lnTo>
                    <a:pt x="1152" y="735"/>
                  </a:lnTo>
                  <a:lnTo>
                    <a:pt x="1059" y="597"/>
                  </a:lnTo>
                  <a:lnTo>
                    <a:pt x="949" y="461"/>
                  </a:lnTo>
                  <a:lnTo>
                    <a:pt x="823" y="324"/>
                  </a:lnTo>
                  <a:lnTo>
                    <a:pt x="623" y="130"/>
                  </a:lnTo>
                  <a:lnTo>
                    <a:pt x="468" y="0"/>
                  </a:lnTo>
                  <a:lnTo>
                    <a:pt x="386" y="87"/>
                  </a:lnTo>
                  <a:lnTo>
                    <a:pt x="251" y="186"/>
                  </a:lnTo>
                  <a:lnTo>
                    <a:pt x="156" y="254"/>
                  </a:lnTo>
                  <a:lnTo>
                    <a:pt x="0" y="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408520" y="3309840"/>
              <a:ext cx="335880" cy="196560"/>
            </a:xfrm>
            <a:custGeom>
              <a:avLst/>
              <a:gdLst/>
              <a:ahLst/>
              <a:rect l="l" t="t" r="r" b="b"/>
              <a:pathLst>
                <a:path w="1247" h="735">
                  <a:moveTo>
                    <a:pt x="1247" y="609"/>
                  </a:moveTo>
                  <a:lnTo>
                    <a:pt x="1152" y="735"/>
                  </a:lnTo>
                  <a:lnTo>
                    <a:pt x="1059" y="597"/>
                  </a:lnTo>
                  <a:lnTo>
                    <a:pt x="949" y="461"/>
                  </a:lnTo>
                  <a:lnTo>
                    <a:pt x="823" y="324"/>
                  </a:lnTo>
                  <a:lnTo>
                    <a:pt x="623" y="130"/>
                  </a:lnTo>
                  <a:lnTo>
                    <a:pt x="468" y="0"/>
                  </a:lnTo>
                  <a:lnTo>
                    <a:pt x="386" y="87"/>
                  </a:lnTo>
                  <a:lnTo>
                    <a:pt x="251" y="186"/>
                  </a:lnTo>
                  <a:lnTo>
                    <a:pt x="156" y="254"/>
                  </a:lnTo>
                  <a:lnTo>
                    <a:pt x="0" y="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8744760" y="3431520"/>
              <a:ext cx="24480" cy="41040"/>
            </a:xfrm>
            <a:prstGeom prst="line">
              <a:avLst/>
            </a:prstGeom>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2" name=""/>
            <p:cNvSpPr/>
            <p:nvPr/>
          </p:nvSpPr>
          <p:spPr>
            <a:xfrm flipH="1">
              <a:off x="8744760" y="3431520"/>
              <a:ext cx="24480" cy="41040"/>
            </a:xfrm>
            <a:prstGeom prst="line">
              <a:avLst/>
            </a:prstGeom>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3" name=""/>
            <p:cNvSpPr/>
            <p:nvPr/>
          </p:nvSpPr>
          <p:spPr>
            <a:xfrm>
              <a:off x="8546400" y="3117240"/>
              <a:ext cx="100080" cy="31320"/>
            </a:xfrm>
            <a:custGeom>
              <a:avLst/>
              <a:gdLst/>
              <a:ahLst/>
              <a:rect l="l" t="t" r="r" b="b"/>
              <a:pathLst>
                <a:path w="373" h="118">
                  <a:moveTo>
                    <a:pt x="0" y="0"/>
                  </a:moveTo>
                  <a:lnTo>
                    <a:pt x="93" y="31"/>
                  </a:lnTo>
                  <a:lnTo>
                    <a:pt x="206" y="62"/>
                  </a:lnTo>
                  <a:lnTo>
                    <a:pt x="285" y="93"/>
                  </a:lnTo>
                  <a:lnTo>
                    <a:pt x="373" y="118"/>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4" name=""/>
            <p:cNvSpPr/>
            <p:nvPr/>
          </p:nvSpPr>
          <p:spPr>
            <a:xfrm>
              <a:off x="8546400" y="3117240"/>
              <a:ext cx="100080" cy="31320"/>
            </a:xfrm>
            <a:custGeom>
              <a:avLst/>
              <a:gdLst/>
              <a:ahLst/>
              <a:rect l="l" t="t" r="r" b="b"/>
              <a:pathLst>
                <a:path w="373" h="118">
                  <a:moveTo>
                    <a:pt x="0" y="0"/>
                  </a:moveTo>
                  <a:lnTo>
                    <a:pt x="93" y="31"/>
                  </a:lnTo>
                  <a:lnTo>
                    <a:pt x="206" y="62"/>
                  </a:lnTo>
                  <a:lnTo>
                    <a:pt x="285" y="93"/>
                  </a:lnTo>
                  <a:lnTo>
                    <a:pt x="373" y="118"/>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5" name=""/>
            <p:cNvSpPr/>
            <p:nvPr/>
          </p:nvSpPr>
          <p:spPr>
            <a:xfrm>
              <a:off x="8575920" y="3114000"/>
              <a:ext cx="8640" cy="25200"/>
            </a:xfrm>
            <a:custGeom>
              <a:avLst/>
              <a:gdLst/>
              <a:ahLst/>
              <a:rect l="l" t="t" r="r" b="b"/>
              <a:pathLst>
                <a:path w="31" h="93">
                  <a:moveTo>
                    <a:pt x="31" y="93"/>
                  </a:moveTo>
                  <a:lnTo>
                    <a:pt x="19" y="43"/>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 name=""/>
            <p:cNvSpPr/>
            <p:nvPr/>
          </p:nvSpPr>
          <p:spPr>
            <a:xfrm>
              <a:off x="8575920" y="3114000"/>
              <a:ext cx="8640" cy="25200"/>
            </a:xfrm>
            <a:custGeom>
              <a:avLst/>
              <a:gdLst/>
              <a:ahLst/>
              <a:rect l="l" t="t" r="r" b="b"/>
              <a:pathLst>
                <a:path w="31" h="93">
                  <a:moveTo>
                    <a:pt x="31" y="93"/>
                  </a:moveTo>
                  <a:lnTo>
                    <a:pt x="19" y="43"/>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 name=""/>
            <p:cNvSpPr/>
            <p:nvPr/>
          </p:nvSpPr>
          <p:spPr>
            <a:xfrm>
              <a:off x="8501040" y="3217320"/>
              <a:ext cx="154080" cy="92160"/>
            </a:xfrm>
            <a:custGeom>
              <a:avLst/>
              <a:gdLst/>
              <a:ahLst/>
              <a:rect l="l" t="t" r="r" b="b"/>
              <a:pathLst>
                <a:path w="572" h="344">
                  <a:moveTo>
                    <a:pt x="572" y="161"/>
                  </a:moveTo>
                  <a:lnTo>
                    <a:pt x="448" y="88"/>
                  </a:lnTo>
                  <a:lnTo>
                    <a:pt x="298" y="0"/>
                  </a:lnTo>
                  <a:lnTo>
                    <a:pt x="267" y="82"/>
                  </a:lnTo>
                  <a:lnTo>
                    <a:pt x="230" y="187"/>
                  </a:lnTo>
                  <a:lnTo>
                    <a:pt x="186" y="268"/>
                  </a:lnTo>
                  <a:lnTo>
                    <a:pt x="124" y="344"/>
                  </a:lnTo>
                  <a:lnTo>
                    <a:pt x="62" y="293"/>
                  </a:lnTo>
                  <a:lnTo>
                    <a:pt x="0" y="2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8501040" y="3217320"/>
              <a:ext cx="154080" cy="92160"/>
            </a:xfrm>
            <a:custGeom>
              <a:avLst/>
              <a:gdLst/>
              <a:ahLst/>
              <a:rect l="l" t="t" r="r" b="b"/>
              <a:pathLst>
                <a:path w="572" h="344">
                  <a:moveTo>
                    <a:pt x="572" y="161"/>
                  </a:moveTo>
                  <a:lnTo>
                    <a:pt x="448" y="88"/>
                  </a:lnTo>
                  <a:lnTo>
                    <a:pt x="298" y="0"/>
                  </a:lnTo>
                  <a:lnTo>
                    <a:pt x="267" y="82"/>
                  </a:lnTo>
                  <a:lnTo>
                    <a:pt x="230" y="187"/>
                  </a:lnTo>
                  <a:lnTo>
                    <a:pt x="186" y="268"/>
                  </a:lnTo>
                  <a:lnTo>
                    <a:pt x="124" y="344"/>
                  </a:lnTo>
                  <a:lnTo>
                    <a:pt x="62" y="293"/>
                  </a:lnTo>
                  <a:lnTo>
                    <a:pt x="0" y="2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688960" y="3283920"/>
              <a:ext cx="180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 name=""/>
            <p:cNvSpPr/>
            <p:nvPr/>
          </p:nvSpPr>
          <p:spPr>
            <a:xfrm>
              <a:off x="8688960" y="3283920"/>
              <a:ext cx="180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1" name=""/>
            <p:cNvSpPr/>
            <p:nvPr/>
          </p:nvSpPr>
          <p:spPr>
            <a:xfrm>
              <a:off x="8802720" y="3269160"/>
              <a:ext cx="36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2" name=""/>
            <p:cNvSpPr/>
            <p:nvPr/>
          </p:nvSpPr>
          <p:spPr>
            <a:xfrm>
              <a:off x="8802720" y="3269160"/>
              <a:ext cx="36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3" name=""/>
            <p:cNvSpPr/>
            <p:nvPr/>
          </p:nvSpPr>
          <p:spPr>
            <a:xfrm>
              <a:off x="8798400" y="3305880"/>
              <a:ext cx="3960" cy="68400"/>
            </a:xfrm>
            <a:custGeom>
              <a:avLst/>
              <a:gdLst/>
              <a:ahLst/>
              <a:rect l="l" t="t" r="r" b="b"/>
              <a:pathLst>
                <a:path w="18" h="256">
                  <a:moveTo>
                    <a:pt x="18" y="0"/>
                  </a:moveTo>
                  <a:lnTo>
                    <a:pt x="18" y="95"/>
                  </a:lnTo>
                  <a:lnTo>
                    <a:pt x="6" y="194"/>
                  </a:lnTo>
                  <a:lnTo>
                    <a:pt x="0" y="25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 name=""/>
            <p:cNvSpPr/>
            <p:nvPr/>
          </p:nvSpPr>
          <p:spPr>
            <a:xfrm>
              <a:off x="8798400" y="3305880"/>
              <a:ext cx="3960" cy="68400"/>
            </a:xfrm>
            <a:custGeom>
              <a:avLst/>
              <a:gdLst/>
              <a:ahLst/>
              <a:rect l="l" t="t" r="r" b="b"/>
              <a:pathLst>
                <a:path w="18" h="256">
                  <a:moveTo>
                    <a:pt x="18" y="0"/>
                  </a:moveTo>
                  <a:lnTo>
                    <a:pt x="18" y="95"/>
                  </a:lnTo>
                  <a:lnTo>
                    <a:pt x="6" y="194"/>
                  </a:lnTo>
                  <a:lnTo>
                    <a:pt x="0" y="25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 name=""/>
            <p:cNvSpPr/>
            <p:nvPr/>
          </p:nvSpPr>
          <p:spPr>
            <a:xfrm flipH="1" flipV="1">
              <a:off x="8809560" y="3387960"/>
              <a:ext cx="18000" cy="26640"/>
            </a:xfrm>
            <a:prstGeom prst="line">
              <a:avLst/>
            </a:prstGeom>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6" name=""/>
            <p:cNvSpPr/>
            <p:nvPr/>
          </p:nvSpPr>
          <p:spPr>
            <a:xfrm flipH="1" flipV="1">
              <a:off x="8809560" y="3387960"/>
              <a:ext cx="18000" cy="26640"/>
            </a:xfrm>
            <a:prstGeom prst="line">
              <a:avLst/>
            </a:prstGeom>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7" name=""/>
            <p:cNvSpPr/>
            <p:nvPr/>
          </p:nvSpPr>
          <p:spPr>
            <a:xfrm>
              <a:off x="8212680" y="3197520"/>
              <a:ext cx="1476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 name=""/>
            <p:cNvSpPr/>
            <p:nvPr/>
          </p:nvSpPr>
          <p:spPr>
            <a:xfrm>
              <a:off x="8212680" y="3197520"/>
              <a:ext cx="1476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 name=""/>
            <p:cNvSpPr/>
            <p:nvPr/>
          </p:nvSpPr>
          <p:spPr>
            <a:xfrm flipV="1">
              <a:off x="8046360" y="3267000"/>
              <a:ext cx="504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0" name=""/>
            <p:cNvSpPr/>
            <p:nvPr/>
          </p:nvSpPr>
          <p:spPr>
            <a:xfrm flipV="1">
              <a:off x="8046360" y="3267000"/>
              <a:ext cx="504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1" name=""/>
            <p:cNvSpPr/>
            <p:nvPr/>
          </p:nvSpPr>
          <p:spPr>
            <a:xfrm flipH="1">
              <a:off x="8029080" y="3289320"/>
              <a:ext cx="828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 name=""/>
            <p:cNvSpPr/>
            <p:nvPr/>
          </p:nvSpPr>
          <p:spPr>
            <a:xfrm flipH="1">
              <a:off x="8029080" y="3289320"/>
              <a:ext cx="828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 name=""/>
            <p:cNvSpPr/>
            <p:nvPr/>
          </p:nvSpPr>
          <p:spPr>
            <a:xfrm>
              <a:off x="8254800" y="3967920"/>
              <a:ext cx="1260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 name=""/>
            <p:cNvSpPr/>
            <p:nvPr/>
          </p:nvSpPr>
          <p:spPr>
            <a:xfrm>
              <a:off x="8254800" y="3967920"/>
              <a:ext cx="1260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 name=""/>
            <p:cNvSpPr/>
            <p:nvPr/>
          </p:nvSpPr>
          <p:spPr>
            <a:xfrm>
              <a:off x="8055000" y="3002400"/>
              <a:ext cx="275040" cy="195120"/>
            </a:xfrm>
            <a:custGeom>
              <a:avLst/>
              <a:gdLst/>
              <a:ahLst/>
              <a:rect l="l" t="t" r="r" b="b"/>
              <a:pathLst>
                <a:path w="1023" h="730">
                  <a:moveTo>
                    <a:pt x="978" y="522"/>
                  </a:moveTo>
                  <a:lnTo>
                    <a:pt x="997" y="479"/>
                  </a:lnTo>
                  <a:lnTo>
                    <a:pt x="1011" y="429"/>
                  </a:lnTo>
                  <a:lnTo>
                    <a:pt x="1023" y="398"/>
                  </a:lnTo>
                  <a:lnTo>
                    <a:pt x="1023" y="344"/>
                  </a:lnTo>
                  <a:lnTo>
                    <a:pt x="1011" y="274"/>
                  </a:lnTo>
                  <a:lnTo>
                    <a:pt x="972" y="200"/>
                  </a:lnTo>
                  <a:lnTo>
                    <a:pt x="924" y="150"/>
                  </a:lnTo>
                  <a:lnTo>
                    <a:pt x="856" y="93"/>
                  </a:lnTo>
                  <a:lnTo>
                    <a:pt x="774" y="57"/>
                  </a:lnTo>
                  <a:lnTo>
                    <a:pt x="687" y="26"/>
                  </a:lnTo>
                  <a:lnTo>
                    <a:pt x="586" y="6"/>
                  </a:lnTo>
                  <a:lnTo>
                    <a:pt x="505" y="0"/>
                  </a:lnTo>
                  <a:lnTo>
                    <a:pt x="406" y="6"/>
                  </a:lnTo>
                  <a:lnTo>
                    <a:pt x="313" y="26"/>
                  </a:lnTo>
                  <a:lnTo>
                    <a:pt x="225" y="62"/>
                  </a:lnTo>
                  <a:lnTo>
                    <a:pt x="150" y="105"/>
                  </a:lnTo>
                  <a:lnTo>
                    <a:pt x="88" y="156"/>
                  </a:lnTo>
                  <a:lnTo>
                    <a:pt x="63" y="187"/>
                  </a:lnTo>
                  <a:lnTo>
                    <a:pt x="20" y="249"/>
                  </a:lnTo>
                  <a:lnTo>
                    <a:pt x="0" y="324"/>
                  </a:lnTo>
                  <a:lnTo>
                    <a:pt x="0" y="386"/>
                  </a:lnTo>
                  <a:lnTo>
                    <a:pt x="6" y="429"/>
                  </a:lnTo>
                  <a:lnTo>
                    <a:pt x="20" y="479"/>
                  </a:lnTo>
                  <a:lnTo>
                    <a:pt x="51" y="522"/>
                  </a:lnTo>
                  <a:lnTo>
                    <a:pt x="82" y="555"/>
                  </a:lnTo>
                  <a:lnTo>
                    <a:pt x="113" y="592"/>
                  </a:lnTo>
                  <a:lnTo>
                    <a:pt x="150" y="617"/>
                  </a:lnTo>
                  <a:lnTo>
                    <a:pt x="183" y="642"/>
                  </a:lnTo>
                  <a:lnTo>
                    <a:pt x="220" y="666"/>
                  </a:lnTo>
                  <a:lnTo>
                    <a:pt x="256" y="679"/>
                  </a:lnTo>
                  <a:lnTo>
                    <a:pt x="319" y="704"/>
                  </a:lnTo>
                  <a:lnTo>
                    <a:pt x="381" y="716"/>
                  </a:lnTo>
                  <a:lnTo>
                    <a:pt x="450" y="7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055000" y="3002400"/>
              <a:ext cx="275040" cy="195120"/>
            </a:xfrm>
            <a:custGeom>
              <a:avLst/>
              <a:gdLst/>
              <a:ahLst/>
              <a:rect l="l" t="t" r="r" b="b"/>
              <a:pathLst>
                <a:path w="1023" h="730">
                  <a:moveTo>
                    <a:pt x="978" y="522"/>
                  </a:moveTo>
                  <a:lnTo>
                    <a:pt x="997" y="479"/>
                  </a:lnTo>
                  <a:lnTo>
                    <a:pt x="1011" y="429"/>
                  </a:lnTo>
                  <a:lnTo>
                    <a:pt x="1023" y="398"/>
                  </a:lnTo>
                  <a:lnTo>
                    <a:pt x="1023" y="344"/>
                  </a:lnTo>
                  <a:lnTo>
                    <a:pt x="1011" y="274"/>
                  </a:lnTo>
                  <a:lnTo>
                    <a:pt x="972" y="200"/>
                  </a:lnTo>
                  <a:lnTo>
                    <a:pt x="924" y="150"/>
                  </a:lnTo>
                  <a:lnTo>
                    <a:pt x="856" y="93"/>
                  </a:lnTo>
                  <a:lnTo>
                    <a:pt x="774" y="57"/>
                  </a:lnTo>
                  <a:lnTo>
                    <a:pt x="687" y="26"/>
                  </a:lnTo>
                  <a:lnTo>
                    <a:pt x="586" y="6"/>
                  </a:lnTo>
                  <a:lnTo>
                    <a:pt x="505" y="0"/>
                  </a:lnTo>
                  <a:lnTo>
                    <a:pt x="406" y="6"/>
                  </a:lnTo>
                  <a:lnTo>
                    <a:pt x="313" y="26"/>
                  </a:lnTo>
                  <a:lnTo>
                    <a:pt x="225" y="62"/>
                  </a:lnTo>
                  <a:lnTo>
                    <a:pt x="150" y="105"/>
                  </a:lnTo>
                  <a:lnTo>
                    <a:pt x="88" y="156"/>
                  </a:lnTo>
                  <a:lnTo>
                    <a:pt x="63" y="187"/>
                  </a:lnTo>
                  <a:lnTo>
                    <a:pt x="20" y="249"/>
                  </a:lnTo>
                  <a:lnTo>
                    <a:pt x="0" y="324"/>
                  </a:lnTo>
                  <a:lnTo>
                    <a:pt x="0" y="386"/>
                  </a:lnTo>
                  <a:lnTo>
                    <a:pt x="6" y="429"/>
                  </a:lnTo>
                  <a:lnTo>
                    <a:pt x="20" y="479"/>
                  </a:lnTo>
                  <a:lnTo>
                    <a:pt x="51" y="522"/>
                  </a:lnTo>
                  <a:lnTo>
                    <a:pt x="82" y="555"/>
                  </a:lnTo>
                  <a:lnTo>
                    <a:pt x="113" y="592"/>
                  </a:lnTo>
                  <a:lnTo>
                    <a:pt x="150" y="617"/>
                  </a:lnTo>
                  <a:lnTo>
                    <a:pt x="183" y="642"/>
                  </a:lnTo>
                  <a:lnTo>
                    <a:pt x="220" y="666"/>
                  </a:lnTo>
                  <a:lnTo>
                    <a:pt x="256" y="679"/>
                  </a:lnTo>
                  <a:lnTo>
                    <a:pt x="319" y="704"/>
                  </a:lnTo>
                  <a:lnTo>
                    <a:pt x="381" y="716"/>
                  </a:lnTo>
                  <a:lnTo>
                    <a:pt x="450" y="7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8798400" y="3230640"/>
              <a:ext cx="72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8" name=""/>
            <p:cNvSpPr/>
            <p:nvPr/>
          </p:nvSpPr>
          <p:spPr>
            <a:xfrm flipH="1" flipV="1">
              <a:off x="8798400" y="3230640"/>
              <a:ext cx="72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9" name=""/>
            <p:cNvSpPr/>
            <p:nvPr/>
          </p:nvSpPr>
          <p:spPr>
            <a:xfrm flipH="1">
              <a:off x="8164800" y="4192920"/>
              <a:ext cx="1800" cy="38520"/>
            </a:xfrm>
            <a:prstGeom prst="line">
              <a:avLst/>
            </a:prstGeom>
            <a:ln w="144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0" name=""/>
            <p:cNvSpPr/>
            <p:nvPr/>
          </p:nvSpPr>
          <p:spPr>
            <a:xfrm flipH="1">
              <a:off x="8164800" y="4192920"/>
              <a:ext cx="1800" cy="38520"/>
            </a:xfrm>
            <a:prstGeom prst="line">
              <a:avLst/>
            </a:prstGeom>
            <a:ln w="144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1" name=""/>
            <p:cNvSpPr/>
            <p:nvPr/>
          </p:nvSpPr>
          <p:spPr>
            <a:xfrm>
              <a:off x="7850160" y="2930400"/>
              <a:ext cx="80640" cy="3240"/>
            </a:xfrm>
            <a:custGeom>
              <a:avLst/>
              <a:gdLst/>
              <a:ahLst/>
              <a:rect l="l" t="t" r="r" b="b"/>
              <a:pathLst>
                <a:path w="301" h="11">
                  <a:moveTo>
                    <a:pt x="0" y="11"/>
                  </a:moveTo>
                  <a:lnTo>
                    <a:pt x="169" y="0"/>
                  </a:lnTo>
                  <a:lnTo>
                    <a:pt x="301"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2" name=""/>
            <p:cNvSpPr/>
            <p:nvPr/>
          </p:nvSpPr>
          <p:spPr>
            <a:xfrm>
              <a:off x="7850160" y="2930400"/>
              <a:ext cx="80640" cy="3240"/>
            </a:xfrm>
            <a:custGeom>
              <a:avLst/>
              <a:gdLst/>
              <a:ahLst/>
              <a:rect l="l" t="t" r="r" b="b"/>
              <a:pathLst>
                <a:path w="301" h="11">
                  <a:moveTo>
                    <a:pt x="0" y="11"/>
                  </a:moveTo>
                  <a:lnTo>
                    <a:pt x="169" y="0"/>
                  </a:lnTo>
                  <a:lnTo>
                    <a:pt x="301"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 name=""/>
            <p:cNvSpPr/>
            <p:nvPr/>
          </p:nvSpPr>
          <p:spPr>
            <a:xfrm>
              <a:off x="7707600" y="4225320"/>
              <a:ext cx="1692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4" name=""/>
            <p:cNvSpPr/>
            <p:nvPr/>
          </p:nvSpPr>
          <p:spPr>
            <a:xfrm>
              <a:off x="7707600" y="4225320"/>
              <a:ext cx="1692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5" name=""/>
            <p:cNvSpPr/>
            <p:nvPr/>
          </p:nvSpPr>
          <p:spPr>
            <a:xfrm>
              <a:off x="7405560" y="3737160"/>
              <a:ext cx="93960" cy="163440"/>
            </a:xfrm>
            <a:custGeom>
              <a:avLst/>
              <a:gdLst/>
              <a:ahLst/>
              <a:rect l="l" t="t" r="r" b="b"/>
              <a:pathLst>
                <a:path w="349" h="611">
                  <a:moveTo>
                    <a:pt x="0" y="0"/>
                  </a:moveTo>
                  <a:lnTo>
                    <a:pt x="44" y="93"/>
                  </a:lnTo>
                  <a:lnTo>
                    <a:pt x="93" y="200"/>
                  </a:lnTo>
                  <a:lnTo>
                    <a:pt x="138" y="299"/>
                  </a:lnTo>
                  <a:lnTo>
                    <a:pt x="200" y="386"/>
                  </a:lnTo>
                  <a:lnTo>
                    <a:pt x="262" y="487"/>
                  </a:lnTo>
                  <a:lnTo>
                    <a:pt x="318" y="560"/>
                  </a:lnTo>
                  <a:lnTo>
                    <a:pt x="349" y="6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05560" y="3737160"/>
              <a:ext cx="93960" cy="163440"/>
            </a:xfrm>
            <a:custGeom>
              <a:avLst/>
              <a:gdLst/>
              <a:ahLst/>
              <a:rect l="l" t="t" r="r" b="b"/>
              <a:pathLst>
                <a:path w="349" h="611">
                  <a:moveTo>
                    <a:pt x="0" y="0"/>
                  </a:moveTo>
                  <a:lnTo>
                    <a:pt x="44" y="93"/>
                  </a:lnTo>
                  <a:lnTo>
                    <a:pt x="93" y="200"/>
                  </a:lnTo>
                  <a:lnTo>
                    <a:pt x="138" y="299"/>
                  </a:lnTo>
                  <a:lnTo>
                    <a:pt x="200" y="386"/>
                  </a:lnTo>
                  <a:lnTo>
                    <a:pt x="262" y="487"/>
                  </a:lnTo>
                  <a:lnTo>
                    <a:pt x="318" y="560"/>
                  </a:lnTo>
                  <a:lnTo>
                    <a:pt x="349" y="6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7836840" y="3017520"/>
              <a:ext cx="1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flipV="1">
              <a:off x="7836840" y="3017520"/>
              <a:ext cx="1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7769520" y="2860560"/>
              <a:ext cx="1049760" cy="594000"/>
            </a:xfrm>
            <a:custGeom>
              <a:avLst/>
              <a:gdLst/>
              <a:ahLst/>
              <a:rect l="l" t="t" r="r" b="b"/>
              <a:pathLst>
                <a:path w="3900" h="2217">
                  <a:moveTo>
                    <a:pt x="354" y="254"/>
                  </a:moveTo>
                  <a:lnTo>
                    <a:pt x="411" y="254"/>
                  </a:lnTo>
                  <a:lnTo>
                    <a:pt x="475" y="231"/>
                  </a:lnTo>
                  <a:lnTo>
                    <a:pt x="512" y="262"/>
                  </a:lnTo>
                  <a:lnTo>
                    <a:pt x="591" y="211"/>
                  </a:lnTo>
                  <a:lnTo>
                    <a:pt x="599" y="279"/>
                  </a:lnTo>
                  <a:lnTo>
                    <a:pt x="566" y="293"/>
                  </a:lnTo>
                  <a:lnTo>
                    <a:pt x="529" y="366"/>
                  </a:lnTo>
                  <a:lnTo>
                    <a:pt x="362" y="473"/>
                  </a:lnTo>
                  <a:lnTo>
                    <a:pt x="405" y="541"/>
                  </a:lnTo>
                  <a:lnTo>
                    <a:pt x="393" y="572"/>
                  </a:lnTo>
                  <a:lnTo>
                    <a:pt x="337" y="572"/>
                  </a:lnTo>
                  <a:lnTo>
                    <a:pt x="318" y="591"/>
                  </a:lnTo>
                  <a:lnTo>
                    <a:pt x="354" y="654"/>
                  </a:lnTo>
                  <a:lnTo>
                    <a:pt x="312" y="654"/>
                  </a:lnTo>
                  <a:lnTo>
                    <a:pt x="250" y="617"/>
                  </a:lnTo>
                  <a:lnTo>
                    <a:pt x="236" y="572"/>
                  </a:lnTo>
                  <a:lnTo>
                    <a:pt x="188" y="555"/>
                  </a:lnTo>
                  <a:lnTo>
                    <a:pt x="157" y="572"/>
                  </a:lnTo>
                  <a:lnTo>
                    <a:pt x="0" y="572"/>
                  </a:lnTo>
                  <a:lnTo>
                    <a:pt x="93" y="622"/>
                  </a:lnTo>
                  <a:lnTo>
                    <a:pt x="157" y="634"/>
                  </a:lnTo>
                  <a:lnTo>
                    <a:pt x="225" y="622"/>
                  </a:lnTo>
                  <a:lnTo>
                    <a:pt x="275" y="634"/>
                  </a:lnTo>
                  <a:lnTo>
                    <a:pt x="267" y="679"/>
                  </a:lnTo>
                  <a:lnTo>
                    <a:pt x="230" y="685"/>
                  </a:lnTo>
                  <a:lnTo>
                    <a:pt x="205" y="760"/>
                  </a:lnTo>
                  <a:lnTo>
                    <a:pt x="230" y="809"/>
                  </a:lnTo>
                  <a:lnTo>
                    <a:pt x="230" y="873"/>
                  </a:lnTo>
                  <a:lnTo>
                    <a:pt x="244" y="873"/>
                  </a:lnTo>
                  <a:lnTo>
                    <a:pt x="337" y="840"/>
                  </a:lnTo>
                  <a:lnTo>
                    <a:pt x="362" y="896"/>
                  </a:lnTo>
                  <a:lnTo>
                    <a:pt x="292" y="989"/>
                  </a:lnTo>
                  <a:lnTo>
                    <a:pt x="300" y="1008"/>
                  </a:lnTo>
                  <a:lnTo>
                    <a:pt x="343" y="1008"/>
                  </a:lnTo>
                  <a:lnTo>
                    <a:pt x="492" y="853"/>
                  </a:lnTo>
                  <a:lnTo>
                    <a:pt x="591" y="741"/>
                  </a:lnTo>
                  <a:lnTo>
                    <a:pt x="605" y="685"/>
                  </a:lnTo>
                  <a:lnTo>
                    <a:pt x="673" y="617"/>
                  </a:lnTo>
                  <a:lnTo>
                    <a:pt x="748" y="617"/>
                  </a:lnTo>
                  <a:lnTo>
                    <a:pt x="841" y="524"/>
                  </a:lnTo>
                  <a:lnTo>
                    <a:pt x="1027" y="473"/>
                  </a:lnTo>
                  <a:lnTo>
                    <a:pt x="1010" y="411"/>
                  </a:lnTo>
                  <a:lnTo>
                    <a:pt x="1027" y="386"/>
                  </a:lnTo>
                  <a:lnTo>
                    <a:pt x="1190" y="386"/>
                  </a:lnTo>
                  <a:lnTo>
                    <a:pt x="1233" y="380"/>
                  </a:lnTo>
                  <a:lnTo>
                    <a:pt x="1283" y="355"/>
                  </a:lnTo>
                  <a:lnTo>
                    <a:pt x="1470" y="355"/>
                  </a:lnTo>
                  <a:lnTo>
                    <a:pt x="1427" y="417"/>
                  </a:lnTo>
                  <a:lnTo>
                    <a:pt x="1439" y="448"/>
                  </a:lnTo>
                  <a:lnTo>
                    <a:pt x="1483" y="442"/>
                  </a:lnTo>
                  <a:lnTo>
                    <a:pt x="1545" y="442"/>
                  </a:lnTo>
                  <a:lnTo>
                    <a:pt x="1570" y="429"/>
                  </a:lnTo>
                  <a:lnTo>
                    <a:pt x="1726" y="417"/>
                  </a:lnTo>
                  <a:lnTo>
                    <a:pt x="1788" y="386"/>
                  </a:lnTo>
                  <a:lnTo>
                    <a:pt x="1869" y="386"/>
                  </a:lnTo>
                  <a:lnTo>
                    <a:pt x="1945" y="397"/>
                  </a:lnTo>
                  <a:lnTo>
                    <a:pt x="2024" y="442"/>
                  </a:lnTo>
                  <a:lnTo>
                    <a:pt x="2112" y="411"/>
                  </a:lnTo>
                  <a:lnTo>
                    <a:pt x="2131" y="380"/>
                  </a:lnTo>
                  <a:lnTo>
                    <a:pt x="2174" y="355"/>
                  </a:lnTo>
                  <a:lnTo>
                    <a:pt x="2199" y="411"/>
                  </a:lnTo>
                  <a:lnTo>
                    <a:pt x="2238" y="436"/>
                  </a:lnTo>
                  <a:lnTo>
                    <a:pt x="2286" y="442"/>
                  </a:lnTo>
                  <a:lnTo>
                    <a:pt x="2393" y="524"/>
                  </a:lnTo>
                  <a:lnTo>
                    <a:pt x="2486" y="555"/>
                  </a:lnTo>
                  <a:lnTo>
                    <a:pt x="2486" y="586"/>
                  </a:lnTo>
                  <a:lnTo>
                    <a:pt x="2498" y="591"/>
                  </a:lnTo>
                  <a:lnTo>
                    <a:pt x="2560" y="591"/>
                  </a:lnTo>
                  <a:lnTo>
                    <a:pt x="2593" y="603"/>
                  </a:lnTo>
                  <a:lnTo>
                    <a:pt x="2624" y="603"/>
                  </a:lnTo>
                  <a:lnTo>
                    <a:pt x="2641" y="634"/>
                  </a:lnTo>
                  <a:lnTo>
                    <a:pt x="2697" y="634"/>
                  </a:lnTo>
                  <a:lnTo>
                    <a:pt x="2717" y="679"/>
                  </a:lnTo>
                  <a:lnTo>
                    <a:pt x="2748" y="665"/>
                  </a:lnTo>
                  <a:lnTo>
                    <a:pt x="2767" y="710"/>
                  </a:lnTo>
                  <a:lnTo>
                    <a:pt x="2748" y="729"/>
                  </a:lnTo>
                  <a:lnTo>
                    <a:pt x="2655" y="772"/>
                  </a:lnTo>
                  <a:lnTo>
                    <a:pt x="2635" y="760"/>
                  </a:lnTo>
                  <a:lnTo>
                    <a:pt x="2624" y="665"/>
                  </a:lnTo>
                  <a:lnTo>
                    <a:pt x="2560" y="634"/>
                  </a:lnTo>
                  <a:lnTo>
                    <a:pt x="2542" y="648"/>
                  </a:lnTo>
                  <a:lnTo>
                    <a:pt x="2560" y="716"/>
                  </a:lnTo>
                  <a:lnTo>
                    <a:pt x="2529" y="803"/>
                  </a:lnTo>
                  <a:lnTo>
                    <a:pt x="2593" y="884"/>
                  </a:lnTo>
                  <a:lnTo>
                    <a:pt x="2860" y="1051"/>
                  </a:lnTo>
                  <a:lnTo>
                    <a:pt x="2965" y="1214"/>
                  </a:lnTo>
                  <a:lnTo>
                    <a:pt x="3122" y="1264"/>
                  </a:lnTo>
                  <a:lnTo>
                    <a:pt x="3103" y="1164"/>
                  </a:lnTo>
                  <a:lnTo>
                    <a:pt x="3246" y="1195"/>
                  </a:lnTo>
                  <a:lnTo>
                    <a:pt x="3258" y="1177"/>
                  </a:lnTo>
                  <a:lnTo>
                    <a:pt x="3058" y="1051"/>
                  </a:lnTo>
                  <a:lnTo>
                    <a:pt x="3015" y="1039"/>
                  </a:lnTo>
                  <a:lnTo>
                    <a:pt x="2996" y="1039"/>
                  </a:lnTo>
                  <a:lnTo>
                    <a:pt x="2885" y="958"/>
                  </a:lnTo>
                  <a:lnTo>
                    <a:pt x="2779" y="904"/>
                  </a:lnTo>
                  <a:lnTo>
                    <a:pt x="2779" y="873"/>
                  </a:lnTo>
                  <a:lnTo>
                    <a:pt x="2798" y="853"/>
                  </a:lnTo>
                  <a:lnTo>
                    <a:pt x="2829" y="853"/>
                  </a:lnTo>
                  <a:lnTo>
                    <a:pt x="2872" y="884"/>
                  </a:lnTo>
                  <a:lnTo>
                    <a:pt x="2903" y="927"/>
                  </a:lnTo>
                  <a:lnTo>
                    <a:pt x="2953" y="946"/>
                  </a:lnTo>
                  <a:lnTo>
                    <a:pt x="2996" y="946"/>
                  </a:lnTo>
                  <a:lnTo>
                    <a:pt x="2996" y="904"/>
                  </a:lnTo>
                  <a:lnTo>
                    <a:pt x="2965" y="884"/>
                  </a:lnTo>
                  <a:lnTo>
                    <a:pt x="2965" y="853"/>
                  </a:lnTo>
                  <a:lnTo>
                    <a:pt x="2996" y="840"/>
                  </a:lnTo>
                  <a:lnTo>
                    <a:pt x="3041" y="853"/>
                  </a:lnTo>
                  <a:lnTo>
                    <a:pt x="3046" y="915"/>
                  </a:lnTo>
                  <a:lnTo>
                    <a:pt x="3091" y="935"/>
                  </a:lnTo>
                  <a:lnTo>
                    <a:pt x="3153" y="935"/>
                  </a:lnTo>
                  <a:lnTo>
                    <a:pt x="3184" y="958"/>
                  </a:lnTo>
                  <a:lnTo>
                    <a:pt x="3165" y="977"/>
                  </a:lnTo>
                  <a:lnTo>
                    <a:pt x="3246" y="1076"/>
                  </a:lnTo>
                  <a:lnTo>
                    <a:pt x="3265" y="1076"/>
                  </a:lnTo>
                  <a:lnTo>
                    <a:pt x="3277" y="1102"/>
                  </a:lnTo>
                  <a:lnTo>
                    <a:pt x="3277" y="1133"/>
                  </a:lnTo>
                  <a:lnTo>
                    <a:pt x="3322" y="1259"/>
                  </a:lnTo>
                  <a:lnTo>
                    <a:pt x="3308" y="1270"/>
                  </a:lnTo>
                  <a:lnTo>
                    <a:pt x="3277" y="1270"/>
                  </a:lnTo>
                  <a:lnTo>
                    <a:pt x="3196" y="1233"/>
                  </a:lnTo>
                  <a:lnTo>
                    <a:pt x="3196" y="1264"/>
                  </a:lnTo>
                  <a:lnTo>
                    <a:pt x="3258" y="1307"/>
                  </a:lnTo>
                  <a:lnTo>
                    <a:pt x="3353" y="1321"/>
                  </a:lnTo>
                  <a:lnTo>
                    <a:pt x="3353" y="1414"/>
                  </a:lnTo>
                  <a:lnTo>
                    <a:pt x="3421" y="1451"/>
                  </a:lnTo>
                  <a:lnTo>
                    <a:pt x="3421" y="1513"/>
                  </a:lnTo>
                  <a:lnTo>
                    <a:pt x="3483" y="1569"/>
                  </a:lnTo>
                  <a:lnTo>
                    <a:pt x="3483" y="1650"/>
                  </a:lnTo>
                  <a:lnTo>
                    <a:pt x="3508" y="1687"/>
                  </a:lnTo>
                  <a:lnTo>
                    <a:pt x="3483" y="1718"/>
                  </a:lnTo>
                  <a:lnTo>
                    <a:pt x="3483" y="1749"/>
                  </a:lnTo>
                  <a:lnTo>
                    <a:pt x="3508" y="1763"/>
                  </a:lnTo>
                  <a:lnTo>
                    <a:pt x="3539" y="1744"/>
                  </a:lnTo>
                  <a:lnTo>
                    <a:pt x="3669" y="1800"/>
                  </a:lnTo>
                  <a:lnTo>
                    <a:pt x="3694" y="1887"/>
                  </a:lnTo>
                  <a:lnTo>
                    <a:pt x="3620" y="1994"/>
                  </a:lnTo>
                  <a:lnTo>
                    <a:pt x="3620" y="2025"/>
                  </a:lnTo>
                  <a:lnTo>
                    <a:pt x="3682" y="2067"/>
                  </a:lnTo>
                  <a:lnTo>
                    <a:pt x="3713" y="2129"/>
                  </a:lnTo>
                  <a:lnTo>
                    <a:pt x="3789" y="2217"/>
                  </a:lnTo>
                  <a:lnTo>
                    <a:pt x="3851" y="2192"/>
                  </a:lnTo>
                  <a:lnTo>
                    <a:pt x="3851" y="2137"/>
                  </a:lnTo>
                  <a:lnTo>
                    <a:pt x="3869" y="2087"/>
                  </a:lnTo>
                  <a:lnTo>
                    <a:pt x="3851" y="2017"/>
                  </a:lnTo>
                  <a:lnTo>
                    <a:pt x="3863" y="1969"/>
                  </a:lnTo>
                  <a:lnTo>
                    <a:pt x="3820" y="1918"/>
                  </a:lnTo>
                  <a:lnTo>
                    <a:pt x="3789" y="1881"/>
                  </a:lnTo>
                  <a:lnTo>
                    <a:pt x="3776" y="1800"/>
                  </a:lnTo>
                  <a:lnTo>
                    <a:pt x="3733" y="1757"/>
                  </a:lnTo>
                  <a:lnTo>
                    <a:pt x="3764" y="1670"/>
                  </a:lnTo>
                  <a:lnTo>
                    <a:pt x="3725" y="1600"/>
                  </a:lnTo>
                  <a:lnTo>
                    <a:pt x="3725" y="1550"/>
                  </a:lnTo>
                  <a:lnTo>
                    <a:pt x="3820" y="1526"/>
                  </a:lnTo>
                  <a:lnTo>
                    <a:pt x="3838" y="1526"/>
                  </a:lnTo>
                  <a:lnTo>
                    <a:pt x="3869" y="1569"/>
                  </a:lnTo>
                  <a:lnTo>
                    <a:pt x="3869" y="1550"/>
                  </a:lnTo>
                  <a:lnTo>
                    <a:pt x="3838" y="1488"/>
                  </a:lnTo>
                  <a:lnTo>
                    <a:pt x="3820" y="1476"/>
                  </a:lnTo>
                  <a:lnTo>
                    <a:pt x="3826" y="1456"/>
                  </a:lnTo>
                  <a:lnTo>
                    <a:pt x="3795" y="1462"/>
                  </a:lnTo>
                  <a:lnTo>
                    <a:pt x="3789" y="1482"/>
                  </a:lnTo>
                  <a:lnTo>
                    <a:pt x="3700" y="1488"/>
                  </a:lnTo>
                  <a:lnTo>
                    <a:pt x="3669" y="1456"/>
                  </a:lnTo>
                  <a:lnTo>
                    <a:pt x="3682" y="1425"/>
                  </a:lnTo>
                  <a:lnTo>
                    <a:pt x="3745" y="1414"/>
                  </a:lnTo>
                  <a:lnTo>
                    <a:pt x="3776" y="1383"/>
                  </a:lnTo>
                  <a:lnTo>
                    <a:pt x="3820" y="1383"/>
                  </a:lnTo>
                  <a:lnTo>
                    <a:pt x="3826" y="1414"/>
                  </a:lnTo>
                  <a:lnTo>
                    <a:pt x="3851" y="1394"/>
                  </a:lnTo>
                  <a:lnTo>
                    <a:pt x="3900" y="1383"/>
                  </a:lnTo>
                  <a:lnTo>
                    <a:pt x="3869" y="1352"/>
                  </a:lnTo>
                  <a:lnTo>
                    <a:pt x="3807" y="1332"/>
                  </a:lnTo>
                  <a:lnTo>
                    <a:pt x="3789" y="1228"/>
                  </a:lnTo>
                  <a:lnTo>
                    <a:pt x="3820" y="1195"/>
                  </a:lnTo>
                  <a:lnTo>
                    <a:pt x="3820" y="1164"/>
                  </a:lnTo>
                  <a:lnTo>
                    <a:pt x="3764" y="1071"/>
                  </a:lnTo>
                  <a:lnTo>
                    <a:pt x="3789" y="1020"/>
                  </a:lnTo>
                  <a:lnTo>
                    <a:pt x="3694" y="915"/>
                  </a:lnTo>
                  <a:lnTo>
                    <a:pt x="3545" y="778"/>
                  </a:lnTo>
                  <a:lnTo>
                    <a:pt x="3384" y="634"/>
                  </a:lnTo>
                  <a:lnTo>
                    <a:pt x="3201" y="504"/>
                  </a:lnTo>
                  <a:lnTo>
                    <a:pt x="3058" y="417"/>
                  </a:lnTo>
                  <a:lnTo>
                    <a:pt x="2891" y="324"/>
                  </a:lnTo>
                  <a:lnTo>
                    <a:pt x="2703" y="231"/>
                  </a:lnTo>
                  <a:lnTo>
                    <a:pt x="2486" y="149"/>
                  </a:lnTo>
                  <a:lnTo>
                    <a:pt x="2255" y="87"/>
                  </a:lnTo>
                  <a:lnTo>
                    <a:pt x="1999" y="37"/>
                  </a:lnTo>
                  <a:lnTo>
                    <a:pt x="1757" y="6"/>
                  </a:lnTo>
                  <a:lnTo>
                    <a:pt x="1545" y="0"/>
                  </a:lnTo>
                  <a:lnTo>
                    <a:pt x="1314" y="6"/>
                  </a:lnTo>
                  <a:lnTo>
                    <a:pt x="1064" y="43"/>
                  </a:lnTo>
                  <a:lnTo>
                    <a:pt x="816" y="93"/>
                  </a:lnTo>
                  <a:lnTo>
                    <a:pt x="585" y="161"/>
                  </a:lnTo>
                  <a:lnTo>
                    <a:pt x="393" y="231"/>
                  </a:lnTo>
                  <a:lnTo>
                    <a:pt x="354" y="254"/>
                  </a:lnTo>
                  <a:lnTo>
                    <a:pt x="354" y="2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769520" y="2860560"/>
              <a:ext cx="1049760" cy="594000"/>
            </a:xfrm>
            <a:custGeom>
              <a:avLst/>
              <a:gdLst/>
              <a:ahLst/>
              <a:rect l="l" t="t" r="r" b="b"/>
              <a:pathLst>
                <a:path w="3900" h="2217">
                  <a:moveTo>
                    <a:pt x="354" y="254"/>
                  </a:moveTo>
                  <a:lnTo>
                    <a:pt x="411" y="254"/>
                  </a:lnTo>
                  <a:lnTo>
                    <a:pt x="475" y="231"/>
                  </a:lnTo>
                  <a:lnTo>
                    <a:pt x="512" y="262"/>
                  </a:lnTo>
                  <a:lnTo>
                    <a:pt x="591" y="211"/>
                  </a:lnTo>
                  <a:lnTo>
                    <a:pt x="599" y="279"/>
                  </a:lnTo>
                  <a:lnTo>
                    <a:pt x="566" y="293"/>
                  </a:lnTo>
                  <a:lnTo>
                    <a:pt x="529" y="366"/>
                  </a:lnTo>
                  <a:lnTo>
                    <a:pt x="362" y="473"/>
                  </a:lnTo>
                  <a:lnTo>
                    <a:pt x="405" y="541"/>
                  </a:lnTo>
                  <a:lnTo>
                    <a:pt x="393" y="572"/>
                  </a:lnTo>
                  <a:lnTo>
                    <a:pt x="337" y="572"/>
                  </a:lnTo>
                  <a:lnTo>
                    <a:pt x="318" y="591"/>
                  </a:lnTo>
                  <a:lnTo>
                    <a:pt x="354" y="654"/>
                  </a:lnTo>
                  <a:lnTo>
                    <a:pt x="312" y="654"/>
                  </a:lnTo>
                  <a:lnTo>
                    <a:pt x="250" y="617"/>
                  </a:lnTo>
                  <a:lnTo>
                    <a:pt x="236" y="572"/>
                  </a:lnTo>
                  <a:lnTo>
                    <a:pt x="188" y="555"/>
                  </a:lnTo>
                  <a:lnTo>
                    <a:pt x="157" y="572"/>
                  </a:lnTo>
                  <a:lnTo>
                    <a:pt x="0" y="572"/>
                  </a:lnTo>
                  <a:lnTo>
                    <a:pt x="93" y="622"/>
                  </a:lnTo>
                  <a:lnTo>
                    <a:pt x="157" y="634"/>
                  </a:lnTo>
                  <a:lnTo>
                    <a:pt x="225" y="622"/>
                  </a:lnTo>
                  <a:lnTo>
                    <a:pt x="275" y="634"/>
                  </a:lnTo>
                  <a:lnTo>
                    <a:pt x="267" y="679"/>
                  </a:lnTo>
                  <a:lnTo>
                    <a:pt x="230" y="685"/>
                  </a:lnTo>
                  <a:lnTo>
                    <a:pt x="205" y="760"/>
                  </a:lnTo>
                  <a:lnTo>
                    <a:pt x="230" y="809"/>
                  </a:lnTo>
                  <a:lnTo>
                    <a:pt x="230" y="873"/>
                  </a:lnTo>
                  <a:lnTo>
                    <a:pt x="244" y="873"/>
                  </a:lnTo>
                  <a:lnTo>
                    <a:pt x="337" y="840"/>
                  </a:lnTo>
                  <a:lnTo>
                    <a:pt x="362" y="896"/>
                  </a:lnTo>
                  <a:lnTo>
                    <a:pt x="292" y="989"/>
                  </a:lnTo>
                  <a:lnTo>
                    <a:pt x="300" y="1008"/>
                  </a:lnTo>
                  <a:lnTo>
                    <a:pt x="343" y="1008"/>
                  </a:lnTo>
                  <a:lnTo>
                    <a:pt x="492" y="853"/>
                  </a:lnTo>
                  <a:lnTo>
                    <a:pt x="591" y="741"/>
                  </a:lnTo>
                  <a:lnTo>
                    <a:pt x="605" y="685"/>
                  </a:lnTo>
                  <a:lnTo>
                    <a:pt x="673" y="617"/>
                  </a:lnTo>
                  <a:lnTo>
                    <a:pt x="748" y="617"/>
                  </a:lnTo>
                  <a:lnTo>
                    <a:pt x="841" y="524"/>
                  </a:lnTo>
                  <a:lnTo>
                    <a:pt x="1027" y="473"/>
                  </a:lnTo>
                  <a:lnTo>
                    <a:pt x="1010" y="411"/>
                  </a:lnTo>
                  <a:lnTo>
                    <a:pt x="1027" y="386"/>
                  </a:lnTo>
                  <a:lnTo>
                    <a:pt x="1190" y="386"/>
                  </a:lnTo>
                  <a:lnTo>
                    <a:pt x="1233" y="380"/>
                  </a:lnTo>
                  <a:lnTo>
                    <a:pt x="1283" y="355"/>
                  </a:lnTo>
                  <a:lnTo>
                    <a:pt x="1470" y="355"/>
                  </a:lnTo>
                  <a:lnTo>
                    <a:pt x="1427" y="417"/>
                  </a:lnTo>
                  <a:lnTo>
                    <a:pt x="1439" y="448"/>
                  </a:lnTo>
                  <a:lnTo>
                    <a:pt x="1483" y="442"/>
                  </a:lnTo>
                  <a:lnTo>
                    <a:pt x="1545" y="442"/>
                  </a:lnTo>
                  <a:lnTo>
                    <a:pt x="1570" y="429"/>
                  </a:lnTo>
                  <a:lnTo>
                    <a:pt x="1726" y="417"/>
                  </a:lnTo>
                  <a:lnTo>
                    <a:pt x="1788" y="386"/>
                  </a:lnTo>
                  <a:lnTo>
                    <a:pt x="1869" y="386"/>
                  </a:lnTo>
                  <a:lnTo>
                    <a:pt x="1945" y="397"/>
                  </a:lnTo>
                  <a:lnTo>
                    <a:pt x="2024" y="442"/>
                  </a:lnTo>
                  <a:lnTo>
                    <a:pt x="2112" y="411"/>
                  </a:lnTo>
                  <a:lnTo>
                    <a:pt x="2131" y="380"/>
                  </a:lnTo>
                  <a:lnTo>
                    <a:pt x="2174" y="355"/>
                  </a:lnTo>
                  <a:lnTo>
                    <a:pt x="2199" y="411"/>
                  </a:lnTo>
                  <a:lnTo>
                    <a:pt x="2238" y="436"/>
                  </a:lnTo>
                  <a:lnTo>
                    <a:pt x="2286" y="442"/>
                  </a:lnTo>
                  <a:lnTo>
                    <a:pt x="2393" y="524"/>
                  </a:lnTo>
                  <a:lnTo>
                    <a:pt x="2486" y="555"/>
                  </a:lnTo>
                  <a:lnTo>
                    <a:pt x="2486" y="586"/>
                  </a:lnTo>
                  <a:lnTo>
                    <a:pt x="2498" y="591"/>
                  </a:lnTo>
                  <a:lnTo>
                    <a:pt x="2560" y="591"/>
                  </a:lnTo>
                  <a:lnTo>
                    <a:pt x="2593" y="603"/>
                  </a:lnTo>
                  <a:lnTo>
                    <a:pt x="2624" y="603"/>
                  </a:lnTo>
                  <a:lnTo>
                    <a:pt x="2641" y="634"/>
                  </a:lnTo>
                  <a:lnTo>
                    <a:pt x="2697" y="634"/>
                  </a:lnTo>
                  <a:lnTo>
                    <a:pt x="2717" y="679"/>
                  </a:lnTo>
                  <a:lnTo>
                    <a:pt x="2748" y="665"/>
                  </a:lnTo>
                  <a:lnTo>
                    <a:pt x="2767" y="710"/>
                  </a:lnTo>
                  <a:lnTo>
                    <a:pt x="2748" y="729"/>
                  </a:lnTo>
                  <a:lnTo>
                    <a:pt x="2655" y="772"/>
                  </a:lnTo>
                  <a:lnTo>
                    <a:pt x="2635" y="760"/>
                  </a:lnTo>
                  <a:lnTo>
                    <a:pt x="2624" y="665"/>
                  </a:lnTo>
                  <a:lnTo>
                    <a:pt x="2560" y="634"/>
                  </a:lnTo>
                  <a:lnTo>
                    <a:pt x="2542" y="648"/>
                  </a:lnTo>
                  <a:lnTo>
                    <a:pt x="2560" y="716"/>
                  </a:lnTo>
                  <a:lnTo>
                    <a:pt x="2529" y="803"/>
                  </a:lnTo>
                  <a:lnTo>
                    <a:pt x="2593" y="884"/>
                  </a:lnTo>
                  <a:lnTo>
                    <a:pt x="2860" y="1051"/>
                  </a:lnTo>
                  <a:lnTo>
                    <a:pt x="2965" y="1214"/>
                  </a:lnTo>
                  <a:lnTo>
                    <a:pt x="3122" y="1264"/>
                  </a:lnTo>
                  <a:lnTo>
                    <a:pt x="3103" y="1164"/>
                  </a:lnTo>
                  <a:lnTo>
                    <a:pt x="3246" y="1195"/>
                  </a:lnTo>
                  <a:lnTo>
                    <a:pt x="3258" y="1177"/>
                  </a:lnTo>
                  <a:lnTo>
                    <a:pt x="3058" y="1051"/>
                  </a:lnTo>
                  <a:lnTo>
                    <a:pt x="3015" y="1039"/>
                  </a:lnTo>
                  <a:lnTo>
                    <a:pt x="2996" y="1039"/>
                  </a:lnTo>
                  <a:lnTo>
                    <a:pt x="2885" y="958"/>
                  </a:lnTo>
                  <a:lnTo>
                    <a:pt x="2779" y="904"/>
                  </a:lnTo>
                  <a:lnTo>
                    <a:pt x="2779" y="873"/>
                  </a:lnTo>
                  <a:lnTo>
                    <a:pt x="2798" y="853"/>
                  </a:lnTo>
                  <a:lnTo>
                    <a:pt x="2829" y="853"/>
                  </a:lnTo>
                  <a:lnTo>
                    <a:pt x="2872" y="884"/>
                  </a:lnTo>
                  <a:lnTo>
                    <a:pt x="2903" y="927"/>
                  </a:lnTo>
                  <a:lnTo>
                    <a:pt x="2953" y="946"/>
                  </a:lnTo>
                  <a:lnTo>
                    <a:pt x="2996" y="946"/>
                  </a:lnTo>
                  <a:lnTo>
                    <a:pt x="2996" y="904"/>
                  </a:lnTo>
                  <a:lnTo>
                    <a:pt x="2965" y="884"/>
                  </a:lnTo>
                  <a:lnTo>
                    <a:pt x="2965" y="853"/>
                  </a:lnTo>
                  <a:lnTo>
                    <a:pt x="2996" y="840"/>
                  </a:lnTo>
                  <a:lnTo>
                    <a:pt x="3041" y="853"/>
                  </a:lnTo>
                  <a:lnTo>
                    <a:pt x="3046" y="915"/>
                  </a:lnTo>
                  <a:lnTo>
                    <a:pt x="3091" y="935"/>
                  </a:lnTo>
                  <a:lnTo>
                    <a:pt x="3153" y="935"/>
                  </a:lnTo>
                  <a:lnTo>
                    <a:pt x="3184" y="958"/>
                  </a:lnTo>
                  <a:lnTo>
                    <a:pt x="3165" y="977"/>
                  </a:lnTo>
                  <a:lnTo>
                    <a:pt x="3246" y="1076"/>
                  </a:lnTo>
                  <a:lnTo>
                    <a:pt x="3265" y="1076"/>
                  </a:lnTo>
                  <a:lnTo>
                    <a:pt x="3277" y="1102"/>
                  </a:lnTo>
                  <a:lnTo>
                    <a:pt x="3277" y="1133"/>
                  </a:lnTo>
                  <a:lnTo>
                    <a:pt x="3322" y="1259"/>
                  </a:lnTo>
                  <a:lnTo>
                    <a:pt x="3308" y="1270"/>
                  </a:lnTo>
                  <a:lnTo>
                    <a:pt x="3277" y="1270"/>
                  </a:lnTo>
                  <a:lnTo>
                    <a:pt x="3196" y="1233"/>
                  </a:lnTo>
                  <a:lnTo>
                    <a:pt x="3196" y="1264"/>
                  </a:lnTo>
                  <a:lnTo>
                    <a:pt x="3258" y="1307"/>
                  </a:lnTo>
                  <a:lnTo>
                    <a:pt x="3353" y="1321"/>
                  </a:lnTo>
                  <a:lnTo>
                    <a:pt x="3353" y="1414"/>
                  </a:lnTo>
                  <a:lnTo>
                    <a:pt x="3421" y="1451"/>
                  </a:lnTo>
                  <a:lnTo>
                    <a:pt x="3421" y="1513"/>
                  </a:lnTo>
                  <a:lnTo>
                    <a:pt x="3483" y="1569"/>
                  </a:lnTo>
                  <a:lnTo>
                    <a:pt x="3483" y="1650"/>
                  </a:lnTo>
                  <a:lnTo>
                    <a:pt x="3508" y="1687"/>
                  </a:lnTo>
                  <a:lnTo>
                    <a:pt x="3483" y="1718"/>
                  </a:lnTo>
                  <a:lnTo>
                    <a:pt x="3483" y="1749"/>
                  </a:lnTo>
                  <a:lnTo>
                    <a:pt x="3508" y="1763"/>
                  </a:lnTo>
                  <a:lnTo>
                    <a:pt x="3539" y="1744"/>
                  </a:lnTo>
                  <a:lnTo>
                    <a:pt x="3669" y="1800"/>
                  </a:lnTo>
                  <a:lnTo>
                    <a:pt x="3694" y="1887"/>
                  </a:lnTo>
                  <a:lnTo>
                    <a:pt x="3620" y="1994"/>
                  </a:lnTo>
                  <a:lnTo>
                    <a:pt x="3620" y="2025"/>
                  </a:lnTo>
                  <a:lnTo>
                    <a:pt x="3682" y="2067"/>
                  </a:lnTo>
                  <a:lnTo>
                    <a:pt x="3713" y="2129"/>
                  </a:lnTo>
                  <a:lnTo>
                    <a:pt x="3789" y="2217"/>
                  </a:lnTo>
                  <a:lnTo>
                    <a:pt x="3851" y="2192"/>
                  </a:lnTo>
                  <a:lnTo>
                    <a:pt x="3851" y="2137"/>
                  </a:lnTo>
                  <a:lnTo>
                    <a:pt x="3869" y="2087"/>
                  </a:lnTo>
                  <a:lnTo>
                    <a:pt x="3851" y="2017"/>
                  </a:lnTo>
                  <a:lnTo>
                    <a:pt x="3863" y="1969"/>
                  </a:lnTo>
                  <a:lnTo>
                    <a:pt x="3820" y="1918"/>
                  </a:lnTo>
                  <a:lnTo>
                    <a:pt x="3789" y="1881"/>
                  </a:lnTo>
                  <a:lnTo>
                    <a:pt x="3776" y="1800"/>
                  </a:lnTo>
                  <a:lnTo>
                    <a:pt x="3733" y="1757"/>
                  </a:lnTo>
                  <a:lnTo>
                    <a:pt x="3764" y="1670"/>
                  </a:lnTo>
                  <a:lnTo>
                    <a:pt x="3725" y="1600"/>
                  </a:lnTo>
                  <a:lnTo>
                    <a:pt x="3725" y="1550"/>
                  </a:lnTo>
                  <a:lnTo>
                    <a:pt x="3820" y="1526"/>
                  </a:lnTo>
                  <a:lnTo>
                    <a:pt x="3838" y="1526"/>
                  </a:lnTo>
                  <a:lnTo>
                    <a:pt x="3869" y="1569"/>
                  </a:lnTo>
                  <a:lnTo>
                    <a:pt x="3869" y="1550"/>
                  </a:lnTo>
                  <a:lnTo>
                    <a:pt x="3838" y="1488"/>
                  </a:lnTo>
                  <a:lnTo>
                    <a:pt x="3820" y="1476"/>
                  </a:lnTo>
                  <a:lnTo>
                    <a:pt x="3826" y="1456"/>
                  </a:lnTo>
                  <a:lnTo>
                    <a:pt x="3795" y="1462"/>
                  </a:lnTo>
                  <a:lnTo>
                    <a:pt x="3789" y="1482"/>
                  </a:lnTo>
                  <a:lnTo>
                    <a:pt x="3700" y="1488"/>
                  </a:lnTo>
                  <a:lnTo>
                    <a:pt x="3669" y="1456"/>
                  </a:lnTo>
                  <a:lnTo>
                    <a:pt x="3682" y="1425"/>
                  </a:lnTo>
                  <a:lnTo>
                    <a:pt x="3745" y="1414"/>
                  </a:lnTo>
                  <a:lnTo>
                    <a:pt x="3776" y="1383"/>
                  </a:lnTo>
                  <a:lnTo>
                    <a:pt x="3820" y="1383"/>
                  </a:lnTo>
                  <a:lnTo>
                    <a:pt x="3826" y="1414"/>
                  </a:lnTo>
                  <a:lnTo>
                    <a:pt x="3851" y="1394"/>
                  </a:lnTo>
                  <a:lnTo>
                    <a:pt x="3900" y="1383"/>
                  </a:lnTo>
                  <a:lnTo>
                    <a:pt x="3869" y="1352"/>
                  </a:lnTo>
                  <a:lnTo>
                    <a:pt x="3807" y="1332"/>
                  </a:lnTo>
                  <a:lnTo>
                    <a:pt x="3789" y="1228"/>
                  </a:lnTo>
                  <a:lnTo>
                    <a:pt x="3820" y="1195"/>
                  </a:lnTo>
                  <a:lnTo>
                    <a:pt x="3820" y="1164"/>
                  </a:lnTo>
                  <a:lnTo>
                    <a:pt x="3764" y="1071"/>
                  </a:lnTo>
                  <a:lnTo>
                    <a:pt x="3789" y="1020"/>
                  </a:lnTo>
                  <a:lnTo>
                    <a:pt x="3694" y="915"/>
                  </a:lnTo>
                  <a:lnTo>
                    <a:pt x="3545" y="778"/>
                  </a:lnTo>
                  <a:lnTo>
                    <a:pt x="3384" y="634"/>
                  </a:lnTo>
                  <a:lnTo>
                    <a:pt x="3201" y="504"/>
                  </a:lnTo>
                  <a:lnTo>
                    <a:pt x="3058" y="417"/>
                  </a:lnTo>
                  <a:lnTo>
                    <a:pt x="2891" y="324"/>
                  </a:lnTo>
                  <a:lnTo>
                    <a:pt x="2703" y="231"/>
                  </a:lnTo>
                  <a:lnTo>
                    <a:pt x="2486" y="149"/>
                  </a:lnTo>
                  <a:lnTo>
                    <a:pt x="2255" y="87"/>
                  </a:lnTo>
                  <a:lnTo>
                    <a:pt x="1999" y="37"/>
                  </a:lnTo>
                  <a:lnTo>
                    <a:pt x="1757" y="6"/>
                  </a:lnTo>
                  <a:lnTo>
                    <a:pt x="1545" y="0"/>
                  </a:lnTo>
                  <a:lnTo>
                    <a:pt x="1314" y="6"/>
                  </a:lnTo>
                  <a:lnTo>
                    <a:pt x="1064" y="43"/>
                  </a:lnTo>
                  <a:lnTo>
                    <a:pt x="816" y="93"/>
                  </a:lnTo>
                  <a:lnTo>
                    <a:pt x="585" y="161"/>
                  </a:lnTo>
                  <a:lnTo>
                    <a:pt x="393" y="231"/>
                  </a:lnTo>
                  <a:lnTo>
                    <a:pt x="354" y="254"/>
                  </a:lnTo>
                  <a:lnTo>
                    <a:pt x="354" y="254"/>
                  </a:lnTo>
                </a:path>
              </a:pathLst>
            </a:custGeom>
            <a:solidFill>
              <a:srgbClr val="00cc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811360" y="3206160"/>
              <a:ext cx="167400" cy="578880"/>
            </a:xfrm>
            <a:custGeom>
              <a:avLst/>
              <a:gdLst/>
              <a:ahLst/>
              <a:rect l="l" t="t" r="r" b="b"/>
              <a:pathLst>
                <a:path w="622" h="2160">
                  <a:moveTo>
                    <a:pt x="106" y="0"/>
                  </a:moveTo>
                  <a:lnTo>
                    <a:pt x="106" y="37"/>
                  </a:lnTo>
                  <a:lnTo>
                    <a:pt x="137" y="161"/>
                  </a:lnTo>
                  <a:lnTo>
                    <a:pt x="149" y="248"/>
                  </a:lnTo>
                  <a:lnTo>
                    <a:pt x="137" y="260"/>
                  </a:lnTo>
                  <a:lnTo>
                    <a:pt x="168" y="329"/>
                  </a:lnTo>
                  <a:lnTo>
                    <a:pt x="199" y="329"/>
                  </a:lnTo>
                  <a:lnTo>
                    <a:pt x="168" y="510"/>
                  </a:lnTo>
                  <a:lnTo>
                    <a:pt x="75" y="436"/>
                  </a:lnTo>
                  <a:lnTo>
                    <a:pt x="56" y="436"/>
                  </a:lnTo>
                  <a:lnTo>
                    <a:pt x="75" y="504"/>
                  </a:lnTo>
                  <a:lnTo>
                    <a:pt x="56" y="665"/>
                  </a:lnTo>
                  <a:lnTo>
                    <a:pt x="75" y="735"/>
                  </a:lnTo>
                  <a:lnTo>
                    <a:pt x="56" y="890"/>
                  </a:lnTo>
                  <a:lnTo>
                    <a:pt x="13" y="921"/>
                  </a:lnTo>
                  <a:lnTo>
                    <a:pt x="0" y="940"/>
                  </a:lnTo>
                  <a:lnTo>
                    <a:pt x="31" y="995"/>
                  </a:lnTo>
                  <a:lnTo>
                    <a:pt x="31" y="1121"/>
                  </a:lnTo>
                  <a:lnTo>
                    <a:pt x="56" y="1169"/>
                  </a:lnTo>
                  <a:lnTo>
                    <a:pt x="124" y="1251"/>
                  </a:lnTo>
                  <a:lnTo>
                    <a:pt x="106" y="1493"/>
                  </a:lnTo>
                  <a:lnTo>
                    <a:pt x="137" y="1780"/>
                  </a:lnTo>
                  <a:lnTo>
                    <a:pt x="149" y="1825"/>
                  </a:lnTo>
                  <a:lnTo>
                    <a:pt x="199" y="1862"/>
                  </a:lnTo>
                  <a:lnTo>
                    <a:pt x="219" y="1893"/>
                  </a:lnTo>
                  <a:lnTo>
                    <a:pt x="230" y="2067"/>
                  </a:lnTo>
                  <a:lnTo>
                    <a:pt x="292" y="2123"/>
                  </a:lnTo>
                  <a:lnTo>
                    <a:pt x="337" y="2135"/>
                  </a:lnTo>
                  <a:lnTo>
                    <a:pt x="374" y="2160"/>
                  </a:lnTo>
                  <a:lnTo>
                    <a:pt x="467" y="2154"/>
                  </a:lnTo>
                  <a:lnTo>
                    <a:pt x="467" y="2073"/>
                  </a:lnTo>
                  <a:lnTo>
                    <a:pt x="543" y="1904"/>
                  </a:lnTo>
                  <a:lnTo>
                    <a:pt x="622" y="1687"/>
                  </a:lnTo>
                  <a:lnTo>
                    <a:pt x="622" y="1445"/>
                  </a:lnTo>
                  <a:lnTo>
                    <a:pt x="605" y="1239"/>
                  </a:lnTo>
                  <a:lnTo>
                    <a:pt x="560" y="1059"/>
                  </a:lnTo>
                  <a:lnTo>
                    <a:pt x="529" y="865"/>
                  </a:lnTo>
                  <a:lnTo>
                    <a:pt x="461" y="659"/>
                  </a:lnTo>
                  <a:lnTo>
                    <a:pt x="386" y="479"/>
                  </a:lnTo>
                  <a:lnTo>
                    <a:pt x="261" y="229"/>
                  </a:lnTo>
                  <a:lnTo>
                    <a:pt x="199" y="104"/>
                  </a:lnTo>
                  <a:lnTo>
                    <a:pt x="124" y="0"/>
                  </a:lnTo>
                  <a:lnTo>
                    <a:pt x="106" y="0"/>
                  </a:lnTo>
                  <a:lnTo>
                    <a:pt x="10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811360" y="3206160"/>
              <a:ext cx="167400" cy="578880"/>
            </a:xfrm>
            <a:custGeom>
              <a:avLst/>
              <a:gdLst/>
              <a:ahLst/>
              <a:rect l="l" t="t" r="r" b="b"/>
              <a:pathLst>
                <a:path w="622" h="2160">
                  <a:moveTo>
                    <a:pt x="106" y="0"/>
                  </a:moveTo>
                  <a:lnTo>
                    <a:pt x="106" y="37"/>
                  </a:lnTo>
                  <a:lnTo>
                    <a:pt x="137" y="161"/>
                  </a:lnTo>
                  <a:lnTo>
                    <a:pt x="149" y="248"/>
                  </a:lnTo>
                  <a:lnTo>
                    <a:pt x="137" y="260"/>
                  </a:lnTo>
                  <a:lnTo>
                    <a:pt x="168" y="329"/>
                  </a:lnTo>
                  <a:lnTo>
                    <a:pt x="199" y="329"/>
                  </a:lnTo>
                  <a:lnTo>
                    <a:pt x="168" y="510"/>
                  </a:lnTo>
                  <a:lnTo>
                    <a:pt x="75" y="436"/>
                  </a:lnTo>
                  <a:lnTo>
                    <a:pt x="56" y="436"/>
                  </a:lnTo>
                  <a:lnTo>
                    <a:pt x="75" y="504"/>
                  </a:lnTo>
                  <a:lnTo>
                    <a:pt x="56" y="665"/>
                  </a:lnTo>
                  <a:lnTo>
                    <a:pt x="75" y="735"/>
                  </a:lnTo>
                  <a:lnTo>
                    <a:pt x="56" y="890"/>
                  </a:lnTo>
                  <a:lnTo>
                    <a:pt x="13" y="921"/>
                  </a:lnTo>
                  <a:lnTo>
                    <a:pt x="0" y="940"/>
                  </a:lnTo>
                  <a:lnTo>
                    <a:pt x="31" y="995"/>
                  </a:lnTo>
                  <a:lnTo>
                    <a:pt x="31" y="1121"/>
                  </a:lnTo>
                  <a:lnTo>
                    <a:pt x="56" y="1169"/>
                  </a:lnTo>
                  <a:lnTo>
                    <a:pt x="124" y="1251"/>
                  </a:lnTo>
                  <a:lnTo>
                    <a:pt x="106" y="1493"/>
                  </a:lnTo>
                  <a:lnTo>
                    <a:pt x="137" y="1780"/>
                  </a:lnTo>
                  <a:lnTo>
                    <a:pt x="149" y="1825"/>
                  </a:lnTo>
                  <a:lnTo>
                    <a:pt x="199" y="1862"/>
                  </a:lnTo>
                  <a:lnTo>
                    <a:pt x="219" y="1893"/>
                  </a:lnTo>
                  <a:lnTo>
                    <a:pt x="230" y="2067"/>
                  </a:lnTo>
                  <a:lnTo>
                    <a:pt x="292" y="2123"/>
                  </a:lnTo>
                  <a:lnTo>
                    <a:pt x="337" y="2135"/>
                  </a:lnTo>
                  <a:lnTo>
                    <a:pt x="374" y="2160"/>
                  </a:lnTo>
                  <a:lnTo>
                    <a:pt x="467" y="2154"/>
                  </a:lnTo>
                  <a:lnTo>
                    <a:pt x="467" y="2073"/>
                  </a:lnTo>
                  <a:lnTo>
                    <a:pt x="543" y="1904"/>
                  </a:lnTo>
                  <a:lnTo>
                    <a:pt x="622" y="1687"/>
                  </a:lnTo>
                  <a:lnTo>
                    <a:pt x="622" y="1445"/>
                  </a:lnTo>
                  <a:lnTo>
                    <a:pt x="605" y="1239"/>
                  </a:lnTo>
                  <a:lnTo>
                    <a:pt x="560" y="1059"/>
                  </a:lnTo>
                  <a:lnTo>
                    <a:pt x="529" y="865"/>
                  </a:lnTo>
                  <a:lnTo>
                    <a:pt x="461" y="659"/>
                  </a:lnTo>
                  <a:lnTo>
                    <a:pt x="386" y="479"/>
                  </a:lnTo>
                  <a:lnTo>
                    <a:pt x="261" y="229"/>
                  </a:lnTo>
                  <a:lnTo>
                    <a:pt x="199" y="104"/>
                  </a:lnTo>
                  <a:lnTo>
                    <a:pt x="124" y="0"/>
                  </a:lnTo>
                  <a:lnTo>
                    <a:pt x="106" y="0"/>
                  </a:lnTo>
                  <a:lnTo>
                    <a:pt x="106" y="0"/>
                  </a:lnTo>
                </a:path>
              </a:pathLst>
            </a:custGeom>
            <a:solidFill>
              <a:srgbClr val="00cc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215920" y="3139200"/>
              <a:ext cx="213120" cy="251640"/>
            </a:xfrm>
            <a:custGeom>
              <a:avLst/>
              <a:gdLst/>
              <a:ahLst/>
              <a:rect l="l" t="t" r="r" b="b"/>
              <a:pathLst>
                <a:path w="791" h="941">
                  <a:moveTo>
                    <a:pt x="355" y="43"/>
                  </a:moveTo>
                  <a:lnTo>
                    <a:pt x="380" y="12"/>
                  </a:lnTo>
                  <a:lnTo>
                    <a:pt x="423" y="63"/>
                  </a:lnTo>
                  <a:lnTo>
                    <a:pt x="485" y="125"/>
                  </a:lnTo>
                  <a:lnTo>
                    <a:pt x="611" y="169"/>
                  </a:lnTo>
                  <a:lnTo>
                    <a:pt x="628" y="220"/>
                  </a:lnTo>
                  <a:lnTo>
                    <a:pt x="648" y="256"/>
                  </a:lnTo>
                  <a:lnTo>
                    <a:pt x="715" y="313"/>
                  </a:lnTo>
                  <a:lnTo>
                    <a:pt x="777" y="324"/>
                  </a:lnTo>
                  <a:lnTo>
                    <a:pt x="777" y="437"/>
                  </a:lnTo>
                  <a:lnTo>
                    <a:pt x="766" y="480"/>
                  </a:lnTo>
                  <a:lnTo>
                    <a:pt x="729" y="505"/>
                  </a:lnTo>
                  <a:lnTo>
                    <a:pt x="746" y="600"/>
                  </a:lnTo>
                  <a:lnTo>
                    <a:pt x="704" y="679"/>
                  </a:lnTo>
                  <a:lnTo>
                    <a:pt x="715" y="803"/>
                  </a:lnTo>
                  <a:lnTo>
                    <a:pt x="746" y="834"/>
                  </a:lnTo>
                  <a:lnTo>
                    <a:pt x="777" y="922"/>
                  </a:lnTo>
                  <a:lnTo>
                    <a:pt x="791" y="935"/>
                  </a:lnTo>
                  <a:lnTo>
                    <a:pt x="777" y="935"/>
                  </a:lnTo>
                  <a:lnTo>
                    <a:pt x="729" y="941"/>
                  </a:lnTo>
                  <a:lnTo>
                    <a:pt x="704" y="930"/>
                  </a:lnTo>
                  <a:lnTo>
                    <a:pt x="642" y="922"/>
                  </a:lnTo>
                  <a:lnTo>
                    <a:pt x="580" y="904"/>
                  </a:lnTo>
                  <a:lnTo>
                    <a:pt x="529" y="823"/>
                  </a:lnTo>
                  <a:lnTo>
                    <a:pt x="498" y="792"/>
                  </a:lnTo>
                  <a:lnTo>
                    <a:pt x="454" y="767"/>
                  </a:lnTo>
                  <a:lnTo>
                    <a:pt x="442" y="724"/>
                  </a:lnTo>
                  <a:lnTo>
                    <a:pt x="423" y="687"/>
                  </a:lnTo>
                  <a:lnTo>
                    <a:pt x="448" y="654"/>
                  </a:lnTo>
                  <a:lnTo>
                    <a:pt x="423" y="580"/>
                  </a:lnTo>
                  <a:lnTo>
                    <a:pt x="355" y="567"/>
                  </a:lnTo>
                  <a:lnTo>
                    <a:pt x="293" y="511"/>
                  </a:lnTo>
                  <a:lnTo>
                    <a:pt x="256" y="456"/>
                  </a:lnTo>
                  <a:lnTo>
                    <a:pt x="236" y="423"/>
                  </a:lnTo>
                  <a:lnTo>
                    <a:pt x="174" y="375"/>
                  </a:lnTo>
                  <a:lnTo>
                    <a:pt x="87" y="375"/>
                  </a:lnTo>
                  <a:lnTo>
                    <a:pt x="62" y="350"/>
                  </a:lnTo>
                  <a:lnTo>
                    <a:pt x="62" y="313"/>
                  </a:lnTo>
                  <a:lnTo>
                    <a:pt x="42" y="282"/>
                  </a:lnTo>
                  <a:lnTo>
                    <a:pt x="0" y="282"/>
                  </a:lnTo>
                  <a:lnTo>
                    <a:pt x="11" y="256"/>
                  </a:lnTo>
                  <a:lnTo>
                    <a:pt x="48" y="237"/>
                  </a:lnTo>
                  <a:lnTo>
                    <a:pt x="42" y="220"/>
                  </a:lnTo>
                  <a:lnTo>
                    <a:pt x="48" y="169"/>
                  </a:lnTo>
                  <a:lnTo>
                    <a:pt x="48" y="125"/>
                  </a:lnTo>
                  <a:lnTo>
                    <a:pt x="130" y="94"/>
                  </a:lnTo>
                  <a:lnTo>
                    <a:pt x="155" y="63"/>
                  </a:lnTo>
                  <a:lnTo>
                    <a:pt x="180" y="12"/>
                  </a:lnTo>
                  <a:lnTo>
                    <a:pt x="205" y="12"/>
                  </a:lnTo>
                  <a:lnTo>
                    <a:pt x="248" y="0"/>
                  </a:lnTo>
                  <a:lnTo>
                    <a:pt x="310" y="0"/>
                  </a:lnTo>
                  <a:lnTo>
                    <a:pt x="287" y="12"/>
                  </a:lnTo>
                  <a:lnTo>
                    <a:pt x="262" y="63"/>
                  </a:lnTo>
                  <a:lnTo>
                    <a:pt x="293" y="76"/>
                  </a:lnTo>
                  <a:lnTo>
                    <a:pt x="355" y="45"/>
                  </a:lnTo>
                  <a:lnTo>
                    <a:pt x="355" y="45"/>
                  </a:lnTo>
                  <a:lnTo>
                    <a:pt x="355" y="43"/>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215920" y="3139200"/>
              <a:ext cx="213120" cy="251640"/>
            </a:xfrm>
            <a:custGeom>
              <a:avLst/>
              <a:gdLst/>
              <a:ahLst/>
              <a:rect l="l" t="t" r="r" b="b"/>
              <a:pathLst>
                <a:path w="791" h="941">
                  <a:moveTo>
                    <a:pt x="355" y="43"/>
                  </a:moveTo>
                  <a:lnTo>
                    <a:pt x="380" y="12"/>
                  </a:lnTo>
                  <a:lnTo>
                    <a:pt x="423" y="63"/>
                  </a:lnTo>
                  <a:lnTo>
                    <a:pt x="485" y="125"/>
                  </a:lnTo>
                  <a:lnTo>
                    <a:pt x="611" y="169"/>
                  </a:lnTo>
                  <a:lnTo>
                    <a:pt x="628" y="220"/>
                  </a:lnTo>
                  <a:lnTo>
                    <a:pt x="648" y="256"/>
                  </a:lnTo>
                  <a:lnTo>
                    <a:pt x="715" y="313"/>
                  </a:lnTo>
                  <a:lnTo>
                    <a:pt x="777" y="324"/>
                  </a:lnTo>
                  <a:lnTo>
                    <a:pt x="777" y="437"/>
                  </a:lnTo>
                  <a:lnTo>
                    <a:pt x="766" y="480"/>
                  </a:lnTo>
                  <a:lnTo>
                    <a:pt x="729" y="505"/>
                  </a:lnTo>
                  <a:lnTo>
                    <a:pt x="746" y="600"/>
                  </a:lnTo>
                  <a:lnTo>
                    <a:pt x="704" y="679"/>
                  </a:lnTo>
                  <a:lnTo>
                    <a:pt x="715" y="803"/>
                  </a:lnTo>
                  <a:lnTo>
                    <a:pt x="746" y="834"/>
                  </a:lnTo>
                  <a:lnTo>
                    <a:pt x="777" y="922"/>
                  </a:lnTo>
                  <a:lnTo>
                    <a:pt x="791" y="935"/>
                  </a:lnTo>
                  <a:lnTo>
                    <a:pt x="777" y="935"/>
                  </a:lnTo>
                  <a:lnTo>
                    <a:pt x="729" y="941"/>
                  </a:lnTo>
                  <a:lnTo>
                    <a:pt x="704" y="930"/>
                  </a:lnTo>
                  <a:lnTo>
                    <a:pt x="642" y="922"/>
                  </a:lnTo>
                  <a:lnTo>
                    <a:pt x="580" y="904"/>
                  </a:lnTo>
                  <a:lnTo>
                    <a:pt x="529" y="823"/>
                  </a:lnTo>
                  <a:lnTo>
                    <a:pt x="498" y="792"/>
                  </a:lnTo>
                  <a:lnTo>
                    <a:pt x="454" y="767"/>
                  </a:lnTo>
                  <a:lnTo>
                    <a:pt x="442" y="724"/>
                  </a:lnTo>
                  <a:lnTo>
                    <a:pt x="423" y="687"/>
                  </a:lnTo>
                  <a:lnTo>
                    <a:pt x="448" y="654"/>
                  </a:lnTo>
                  <a:lnTo>
                    <a:pt x="423" y="580"/>
                  </a:lnTo>
                  <a:lnTo>
                    <a:pt x="355" y="567"/>
                  </a:lnTo>
                  <a:lnTo>
                    <a:pt x="293" y="511"/>
                  </a:lnTo>
                  <a:lnTo>
                    <a:pt x="256" y="456"/>
                  </a:lnTo>
                  <a:lnTo>
                    <a:pt x="236" y="423"/>
                  </a:lnTo>
                  <a:lnTo>
                    <a:pt x="174" y="375"/>
                  </a:lnTo>
                  <a:lnTo>
                    <a:pt x="87" y="375"/>
                  </a:lnTo>
                  <a:lnTo>
                    <a:pt x="62" y="350"/>
                  </a:lnTo>
                  <a:lnTo>
                    <a:pt x="62" y="313"/>
                  </a:lnTo>
                  <a:lnTo>
                    <a:pt x="42" y="282"/>
                  </a:lnTo>
                  <a:lnTo>
                    <a:pt x="0" y="282"/>
                  </a:lnTo>
                  <a:lnTo>
                    <a:pt x="11" y="256"/>
                  </a:lnTo>
                  <a:lnTo>
                    <a:pt x="48" y="237"/>
                  </a:lnTo>
                  <a:lnTo>
                    <a:pt x="42" y="220"/>
                  </a:lnTo>
                  <a:lnTo>
                    <a:pt x="48" y="169"/>
                  </a:lnTo>
                  <a:lnTo>
                    <a:pt x="48" y="125"/>
                  </a:lnTo>
                  <a:lnTo>
                    <a:pt x="130" y="94"/>
                  </a:lnTo>
                  <a:lnTo>
                    <a:pt x="155" y="63"/>
                  </a:lnTo>
                  <a:lnTo>
                    <a:pt x="180" y="12"/>
                  </a:lnTo>
                  <a:lnTo>
                    <a:pt x="205" y="12"/>
                  </a:lnTo>
                  <a:lnTo>
                    <a:pt x="248" y="0"/>
                  </a:lnTo>
                  <a:lnTo>
                    <a:pt x="310" y="0"/>
                  </a:lnTo>
                  <a:lnTo>
                    <a:pt x="287" y="12"/>
                  </a:lnTo>
                  <a:lnTo>
                    <a:pt x="262" y="63"/>
                  </a:lnTo>
                  <a:lnTo>
                    <a:pt x="293" y="76"/>
                  </a:lnTo>
                  <a:lnTo>
                    <a:pt x="355" y="45"/>
                  </a:lnTo>
                  <a:lnTo>
                    <a:pt x="355" y="4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752960" y="3142440"/>
              <a:ext cx="986400" cy="1257480"/>
            </a:xfrm>
            <a:custGeom>
              <a:avLst/>
              <a:gdLst/>
              <a:ahLst/>
              <a:rect l="l" t="t" r="r" b="b"/>
              <a:pathLst>
                <a:path w="3663" h="4692">
                  <a:moveTo>
                    <a:pt x="62" y="2008"/>
                  </a:moveTo>
                  <a:lnTo>
                    <a:pt x="38" y="1988"/>
                  </a:lnTo>
                  <a:lnTo>
                    <a:pt x="50" y="1633"/>
                  </a:lnTo>
                  <a:lnTo>
                    <a:pt x="236" y="1298"/>
                  </a:lnTo>
                  <a:lnTo>
                    <a:pt x="281" y="1303"/>
                  </a:lnTo>
                  <a:lnTo>
                    <a:pt x="298" y="1160"/>
                  </a:lnTo>
                  <a:lnTo>
                    <a:pt x="250" y="1086"/>
                  </a:lnTo>
                  <a:lnTo>
                    <a:pt x="343" y="724"/>
                  </a:lnTo>
                  <a:lnTo>
                    <a:pt x="312" y="698"/>
                  </a:lnTo>
                  <a:lnTo>
                    <a:pt x="323" y="599"/>
                  </a:lnTo>
                  <a:lnTo>
                    <a:pt x="298" y="425"/>
                  </a:lnTo>
                  <a:lnTo>
                    <a:pt x="199" y="400"/>
                  </a:lnTo>
                  <a:lnTo>
                    <a:pt x="329" y="363"/>
                  </a:lnTo>
                  <a:lnTo>
                    <a:pt x="155" y="363"/>
                  </a:lnTo>
                  <a:lnTo>
                    <a:pt x="0" y="332"/>
                  </a:lnTo>
                  <a:lnTo>
                    <a:pt x="0" y="312"/>
                  </a:lnTo>
                  <a:lnTo>
                    <a:pt x="155" y="301"/>
                  </a:lnTo>
                  <a:lnTo>
                    <a:pt x="124" y="270"/>
                  </a:lnTo>
                  <a:lnTo>
                    <a:pt x="174" y="157"/>
                  </a:lnTo>
                  <a:lnTo>
                    <a:pt x="236" y="113"/>
                  </a:lnTo>
                  <a:lnTo>
                    <a:pt x="354" y="144"/>
                  </a:lnTo>
                  <a:lnTo>
                    <a:pt x="385" y="113"/>
                  </a:lnTo>
                  <a:lnTo>
                    <a:pt x="368" y="64"/>
                  </a:lnTo>
                  <a:lnTo>
                    <a:pt x="424" y="20"/>
                  </a:lnTo>
                  <a:lnTo>
                    <a:pt x="467" y="70"/>
                  </a:lnTo>
                  <a:lnTo>
                    <a:pt x="529" y="39"/>
                  </a:lnTo>
                  <a:lnTo>
                    <a:pt x="543" y="0"/>
                  </a:lnTo>
                  <a:lnTo>
                    <a:pt x="574" y="8"/>
                  </a:lnTo>
                  <a:lnTo>
                    <a:pt x="641" y="0"/>
                  </a:lnTo>
                  <a:lnTo>
                    <a:pt x="678" y="33"/>
                  </a:lnTo>
                  <a:lnTo>
                    <a:pt x="729" y="301"/>
                  </a:lnTo>
                  <a:lnTo>
                    <a:pt x="729" y="332"/>
                  </a:lnTo>
                  <a:lnTo>
                    <a:pt x="872" y="380"/>
                  </a:lnTo>
                  <a:lnTo>
                    <a:pt x="1064" y="625"/>
                  </a:lnTo>
                  <a:lnTo>
                    <a:pt x="1140" y="630"/>
                  </a:lnTo>
                  <a:lnTo>
                    <a:pt x="1190" y="667"/>
                  </a:lnTo>
                  <a:lnTo>
                    <a:pt x="1359" y="706"/>
                  </a:lnTo>
                  <a:lnTo>
                    <a:pt x="1376" y="661"/>
                  </a:lnTo>
                  <a:lnTo>
                    <a:pt x="1359" y="580"/>
                  </a:lnTo>
                  <a:lnTo>
                    <a:pt x="1376" y="518"/>
                  </a:lnTo>
                  <a:lnTo>
                    <a:pt x="1402" y="549"/>
                  </a:lnTo>
                  <a:lnTo>
                    <a:pt x="1413" y="667"/>
                  </a:lnTo>
                  <a:lnTo>
                    <a:pt x="1446" y="693"/>
                  </a:lnTo>
                  <a:lnTo>
                    <a:pt x="1452" y="731"/>
                  </a:lnTo>
                  <a:lnTo>
                    <a:pt x="1501" y="749"/>
                  </a:lnTo>
                  <a:lnTo>
                    <a:pt x="1551" y="656"/>
                  </a:lnTo>
                  <a:lnTo>
                    <a:pt x="1576" y="675"/>
                  </a:lnTo>
                  <a:lnTo>
                    <a:pt x="1576" y="768"/>
                  </a:lnTo>
                  <a:lnTo>
                    <a:pt x="1520" y="805"/>
                  </a:lnTo>
                  <a:lnTo>
                    <a:pt x="1247" y="1078"/>
                  </a:lnTo>
                  <a:lnTo>
                    <a:pt x="1278" y="1135"/>
                  </a:lnTo>
                  <a:lnTo>
                    <a:pt x="1270" y="1216"/>
                  </a:lnTo>
                  <a:lnTo>
                    <a:pt x="1458" y="1321"/>
                  </a:lnTo>
                  <a:lnTo>
                    <a:pt x="1514" y="1329"/>
                  </a:lnTo>
                  <a:lnTo>
                    <a:pt x="1508" y="1402"/>
                  </a:lnTo>
                  <a:lnTo>
                    <a:pt x="1576" y="1521"/>
                  </a:lnTo>
                  <a:lnTo>
                    <a:pt x="1625" y="1534"/>
                  </a:lnTo>
                  <a:lnTo>
                    <a:pt x="1650" y="1503"/>
                  </a:lnTo>
                  <a:lnTo>
                    <a:pt x="1658" y="1366"/>
                  </a:lnTo>
                  <a:lnTo>
                    <a:pt x="1700" y="1346"/>
                  </a:lnTo>
                  <a:lnTo>
                    <a:pt x="1700" y="1222"/>
                  </a:lnTo>
                  <a:lnTo>
                    <a:pt x="1658" y="1135"/>
                  </a:lnTo>
                  <a:lnTo>
                    <a:pt x="1695" y="1104"/>
                  </a:lnTo>
                  <a:lnTo>
                    <a:pt x="1675" y="991"/>
                  </a:lnTo>
                  <a:lnTo>
                    <a:pt x="1869" y="1047"/>
                  </a:lnTo>
                  <a:lnTo>
                    <a:pt x="1881" y="1098"/>
                  </a:lnTo>
                  <a:lnTo>
                    <a:pt x="1925" y="1160"/>
                  </a:lnTo>
                  <a:lnTo>
                    <a:pt x="1999" y="1166"/>
                  </a:lnTo>
                  <a:lnTo>
                    <a:pt x="1987" y="1078"/>
                  </a:lnTo>
                  <a:lnTo>
                    <a:pt x="2156" y="1253"/>
                  </a:lnTo>
                  <a:lnTo>
                    <a:pt x="2212" y="1278"/>
                  </a:lnTo>
                  <a:lnTo>
                    <a:pt x="2362" y="1433"/>
                  </a:lnTo>
                  <a:lnTo>
                    <a:pt x="2269" y="1521"/>
                  </a:lnTo>
                  <a:lnTo>
                    <a:pt x="2049" y="1577"/>
                  </a:lnTo>
                  <a:lnTo>
                    <a:pt x="1956" y="1709"/>
                  </a:lnTo>
                  <a:lnTo>
                    <a:pt x="1987" y="1709"/>
                  </a:lnTo>
                  <a:lnTo>
                    <a:pt x="2123" y="1614"/>
                  </a:lnTo>
                  <a:lnTo>
                    <a:pt x="2162" y="1614"/>
                  </a:lnTo>
                  <a:lnTo>
                    <a:pt x="2156" y="1689"/>
                  </a:lnTo>
                  <a:lnTo>
                    <a:pt x="2187" y="1757"/>
                  </a:lnTo>
                  <a:lnTo>
                    <a:pt x="2311" y="1695"/>
                  </a:lnTo>
                  <a:lnTo>
                    <a:pt x="2317" y="1726"/>
                  </a:lnTo>
                  <a:lnTo>
                    <a:pt x="2131" y="1895"/>
                  </a:lnTo>
                  <a:lnTo>
                    <a:pt x="2117" y="1864"/>
                  </a:lnTo>
                  <a:lnTo>
                    <a:pt x="2143" y="1827"/>
                  </a:lnTo>
                  <a:lnTo>
                    <a:pt x="2131" y="1796"/>
                  </a:lnTo>
                  <a:lnTo>
                    <a:pt x="2007" y="1883"/>
                  </a:lnTo>
                  <a:lnTo>
                    <a:pt x="1956" y="1971"/>
                  </a:lnTo>
                  <a:lnTo>
                    <a:pt x="1976" y="2013"/>
                  </a:lnTo>
                  <a:lnTo>
                    <a:pt x="1850" y="2101"/>
                  </a:lnTo>
                  <a:lnTo>
                    <a:pt x="1832" y="2157"/>
                  </a:lnTo>
                  <a:lnTo>
                    <a:pt x="1788" y="2213"/>
                  </a:lnTo>
                  <a:lnTo>
                    <a:pt x="1776" y="2343"/>
                  </a:lnTo>
                  <a:lnTo>
                    <a:pt x="1576" y="2492"/>
                  </a:lnTo>
                  <a:lnTo>
                    <a:pt x="1532" y="2642"/>
                  </a:lnTo>
                  <a:lnTo>
                    <a:pt x="1557" y="2686"/>
                  </a:lnTo>
                  <a:lnTo>
                    <a:pt x="1594" y="2768"/>
                  </a:lnTo>
                  <a:lnTo>
                    <a:pt x="1588" y="2810"/>
                  </a:lnTo>
                  <a:lnTo>
                    <a:pt x="1551" y="2830"/>
                  </a:lnTo>
                  <a:lnTo>
                    <a:pt x="1458" y="2605"/>
                  </a:lnTo>
                  <a:lnTo>
                    <a:pt x="1365" y="2605"/>
                  </a:lnTo>
                  <a:lnTo>
                    <a:pt x="1345" y="2580"/>
                  </a:lnTo>
                  <a:lnTo>
                    <a:pt x="1190" y="2562"/>
                  </a:lnTo>
                  <a:lnTo>
                    <a:pt x="1190" y="2624"/>
                  </a:lnTo>
                  <a:lnTo>
                    <a:pt x="1171" y="2624"/>
                  </a:lnTo>
                  <a:lnTo>
                    <a:pt x="1089" y="2586"/>
                  </a:lnTo>
                  <a:lnTo>
                    <a:pt x="822" y="2617"/>
                  </a:lnTo>
                  <a:lnTo>
                    <a:pt x="760" y="2923"/>
                  </a:lnTo>
                  <a:lnTo>
                    <a:pt x="816" y="2985"/>
                  </a:lnTo>
                  <a:lnTo>
                    <a:pt x="828" y="3047"/>
                  </a:lnTo>
                  <a:lnTo>
                    <a:pt x="1016" y="3123"/>
                  </a:lnTo>
                  <a:lnTo>
                    <a:pt x="1103" y="3078"/>
                  </a:lnTo>
                  <a:lnTo>
                    <a:pt x="1109" y="3047"/>
                  </a:lnTo>
                  <a:lnTo>
                    <a:pt x="1126" y="3016"/>
                  </a:lnTo>
                  <a:lnTo>
                    <a:pt x="1227" y="3016"/>
                  </a:lnTo>
                  <a:lnTo>
                    <a:pt x="1227" y="3047"/>
                  </a:lnTo>
                  <a:lnTo>
                    <a:pt x="1126" y="3235"/>
                  </a:lnTo>
                  <a:lnTo>
                    <a:pt x="1376" y="3284"/>
                  </a:lnTo>
                  <a:lnTo>
                    <a:pt x="1421" y="3340"/>
                  </a:lnTo>
                  <a:lnTo>
                    <a:pt x="1390" y="3439"/>
                  </a:lnTo>
                  <a:lnTo>
                    <a:pt x="1408" y="3515"/>
                  </a:lnTo>
                  <a:lnTo>
                    <a:pt x="1514" y="3590"/>
                  </a:lnTo>
                  <a:lnTo>
                    <a:pt x="1551" y="3590"/>
                  </a:lnTo>
                  <a:lnTo>
                    <a:pt x="1638" y="3577"/>
                  </a:lnTo>
                  <a:lnTo>
                    <a:pt x="1751" y="3652"/>
                  </a:lnTo>
                  <a:lnTo>
                    <a:pt x="1857" y="3515"/>
                  </a:lnTo>
                  <a:lnTo>
                    <a:pt x="1894" y="3515"/>
                  </a:lnTo>
                  <a:lnTo>
                    <a:pt x="2007" y="3439"/>
                  </a:lnTo>
                  <a:lnTo>
                    <a:pt x="2030" y="3577"/>
                  </a:lnTo>
                  <a:lnTo>
                    <a:pt x="2061" y="3565"/>
                  </a:lnTo>
                  <a:lnTo>
                    <a:pt x="2061" y="3503"/>
                  </a:lnTo>
                  <a:lnTo>
                    <a:pt x="2162" y="3452"/>
                  </a:lnTo>
                  <a:lnTo>
                    <a:pt x="2205" y="3484"/>
                  </a:lnTo>
                  <a:lnTo>
                    <a:pt x="2379" y="3472"/>
                  </a:lnTo>
                  <a:lnTo>
                    <a:pt x="2424" y="3439"/>
                  </a:lnTo>
                  <a:lnTo>
                    <a:pt x="2497" y="3439"/>
                  </a:lnTo>
                  <a:lnTo>
                    <a:pt x="2497" y="3464"/>
                  </a:lnTo>
                  <a:lnTo>
                    <a:pt x="2810" y="3559"/>
                  </a:lnTo>
                  <a:lnTo>
                    <a:pt x="2934" y="3546"/>
                  </a:lnTo>
                  <a:lnTo>
                    <a:pt x="3077" y="3652"/>
                  </a:lnTo>
                  <a:lnTo>
                    <a:pt x="3089" y="3703"/>
                  </a:lnTo>
                  <a:lnTo>
                    <a:pt x="3263" y="3683"/>
                  </a:lnTo>
                  <a:lnTo>
                    <a:pt x="3539" y="3621"/>
                  </a:lnTo>
                  <a:lnTo>
                    <a:pt x="3651" y="3621"/>
                  </a:lnTo>
                  <a:lnTo>
                    <a:pt x="3663" y="3683"/>
                  </a:lnTo>
                  <a:lnTo>
                    <a:pt x="3607" y="3732"/>
                  </a:lnTo>
                  <a:lnTo>
                    <a:pt x="3432" y="4025"/>
                  </a:lnTo>
                  <a:lnTo>
                    <a:pt x="3415" y="4075"/>
                  </a:lnTo>
                  <a:lnTo>
                    <a:pt x="3339" y="4126"/>
                  </a:lnTo>
                  <a:lnTo>
                    <a:pt x="3308" y="4182"/>
                  </a:lnTo>
                  <a:lnTo>
                    <a:pt x="3170" y="4261"/>
                  </a:lnTo>
                  <a:lnTo>
                    <a:pt x="3077" y="4318"/>
                  </a:lnTo>
                  <a:lnTo>
                    <a:pt x="2984" y="4368"/>
                  </a:lnTo>
                  <a:lnTo>
                    <a:pt x="2891" y="4430"/>
                  </a:lnTo>
                  <a:lnTo>
                    <a:pt x="2779" y="4475"/>
                  </a:lnTo>
                  <a:lnTo>
                    <a:pt x="2641" y="4523"/>
                  </a:lnTo>
                  <a:lnTo>
                    <a:pt x="2497" y="4574"/>
                  </a:lnTo>
                  <a:lnTo>
                    <a:pt x="2342" y="4616"/>
                  </a:lnTo>
                  <a:lnTo>
                    <a:pt x="2212" y="4647"/>
                  </a:lnTo>
                  <a:lnTo>
                    <a:pt x="2080" y="4680"/>
                  </a:lnTo>
                  <a:lnTo>
                    <a:pt x="1982" y="4692"/>
                  </a:lnTo>
                  <a:lnTo>
                    <a:pt x="1968" y="4692"/>
                  </a:lnTo>
                  <a:lnTo>
                    <a:pt x="2038" y="4506"/>
                  </a:lnTo>
                  <a:lnTo>
                    <a:pt x="2030" y="4461"/>
                  </a:lnTo>
                  <a:lnTo>
                    <a:pt x="1844" y="4387"/>
                  </a:lnTo>
                  <a:lnTo>
                    <a:pt x="1762" y="4275"/>
                  </a:lnTo>
                  <a:lnTo>
                    <a:pt x="1526" y="4120"/>
                  </a:lnTo>
                  <a:lnTo>
                    <a:pt x="1526" y="4069"/>
                  </a:lnTo>
                  <a:lnTo>
                    <a:pt x="1594" y="4025"/>
                  </a:lnTo>
                  <a:lnTo>
                    <a:pt x="1551" y="3994"/>
                  </a:lnTo>
                  <a:lnTo>
                    <a:pt x="1551" y="3945"/>
                  </a:lnTo>
                  <a:lnTo>
                    <a:pt x="1689" y="3850"/>
                  </a:lnTo>
                  <a:lnTo>
                    <a:pt x="1700" y="3813"/>
                  </a:lnTo>
                  <a:lnTo>
                    <a:pt x="1737" y="3807"/>
                  </a:lnTo>
                  <a:lnTo>
                    <a:pt x="1737" y="3714"/>
                  </a:lnTo>
                  <a:lnTo>
                    <a:pt x="1675" y="3621"/>
                  </a:lnTo>
                  <a:lnTo>
                    <a:pt x="1638" y="3596"/>
                  </a:lnTo>
                  <a:lnTo>
                    <a:pt x="1551" y="3639"/>
                  </a:lnTo>
                  <a:lnTo>
                    <a:pt x="1452" y="3608"/>
                  </a:lnTo>
                  <a:lnTo>
                    <a:pt x="1334" y="3526"/>
                  </a:lnTo>
                  <a:lnTo>
                    <a:pt x="1208" y="3346"/>
                  </a:lnTo>
                  <a:lnTo>
                    <a:pt x="847" y="3171"/>
                  </a:lnTo>
                  <a:lnTo>
                    <a:pt x="785" y="3154"/>
                  </a:lnTo>
                  <a:lnTo>
                    <a:pt x="636" y="3078"/>
                  </a:lnTo>
                  <a:lnTo>
                    <a:pt x="380" y="2842"/>
                  </a:lnTo>
                  <a:lnTo>
                    <a:pt x="405" y="2768"/>
                  </a:lnTo>
                  <a:lnTo>
                    <a:pt x="312" y="2562"/>
                  </a:lnTo>
                  <a:lnTo>
                    <a:pt x="230" y="2219"/>
                  </a:lnTo>
                  <a:lnTo>
                    <a:pt x="168" y="2188"/>
                  </a:lnTo>
                  <a:lnTo>
                    <a:pt x="162" y="2250"/>
                  </a:lnTo>
                  <a:lnTo>
                    <a:pt x="219" y="2523"/>
                  </a:lnTo>
                  <a:lnTo>
                    <a:pt x="250" y="2617"/>
                  </a:lnTo>
                  <a:lnTo>
                    <a:pt x="230" y="2655"/>
                  </a:lnTo>
                  <a:lnTo>
                    <a:pt x="168" y="2554"/>
                  </a:lnTo>
                  <a:lnTo>
                    <a:pt x="155" y="2438"/>
                  </a:lnTo>
                  <a:lnTo>
                    <a:pt x="112" y="2362"/>
                  </a:lnTo>
                  <a:lnTo>
                    <a:pt x="124" y="2331"/>
                  </a:lnTo>
                  <a:lnTo>
                    <a:pt x="62" y="2008"/>
                  </a:lnTo>
                  <a:lnTo>
                    <a:pt x="62" y="2008"/>
                  </a:lnTo>
                  <a:lnTo>
                    <a:pt x="62" y="2008"/>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752960" y="3142440"/>
              <a:ext cx="986400" cy="1257480"/>
            </a:xfrm>
            <a:custGeom>
              <a:avLst/>
              <a:gdLst/>
              <a:ahLst/>
              <a:rect l="l" t="t" r="r" b="b"/>
              <a:pathLst>
                <a:path w="3663" h="4692">
                  <a:moveTo>
                    <a:pt x="62" y="2008"/>
                  </a:moveTo>
                  <a:lnTo>
                    <a:pt x="38" y="1988"/>
                  </a:lnTo>
                  <a:lnTo>
                    <a:pt x="50" y="1633"/>
                  </a:lnTo>
                  <a:lnTo>
                    <a:pt x="236" y="1298"/>
                  </a:lnTo>
                  <a:lnTo>
                    <a:pt x="281" y="1303"/>
                  </a:lnTo>
                  <a:lnTo>
                    <a:pt x="298" y="1160"/>
                  </a:lnTo>
                  <a:lnTo>
                    <a:pt x="250" y="1086"/>
                  </a:lnTo>
                  <a:lnTo>
                    <a:pt x="343" y="724"/>
                  </a:lnTo>
                  <a:lnTo>
                    <a:pt x="312" y="698"/>
                  </a:lnTo>
                  <a:lnTo>
                    <a:pt x="323" y="599"/>
                  </a:lnTo>
                  <a:lnTo>
                    <a:pt x="298" y="425"/>
                  </a:lnTo>
                  <a:lnTo>
                    <a:pt x="199" y="400"/>
                  </a:lnTo>
                  <a:lnTo>
                    <a:pt x="329" y="363"/>
                  </a:lnTo>
                  <a:lnTo>
                    <a:pt x="155" y="363"/>
                  </a:lnTo>
                  <a:lnTo>
                    <a:pt x="0" y="332"/>
                  </a:lnTo>
                  <a:lnTo>
                    <a:pt x="0" y="312"/>
                  </a:lnTo>
                  <a:lnTo>
                    <a:pt x="155" y="301"/>
                  </a:lnTo>
                  <a:lnTo>
                    <a:pt x="124" y="270"/>
                  </a:lnTo>
                  <a:lnTo>
                    <a:pt x="174" y="157"/>
                  </a:lnTo>
                  <a:lnTo>
                    <a:pt x="236" y="113"/>
                  </a:lnTo>
                  <a:lnTo>
                    <a:pt x="354" y="144"/>
                  </a:lnTo>
                  <a:lnTo>
                    <a:pt x="385" y="113"/>
                  </a:lnTo>
                  <a:lnTo>
                    <a:pt x="368" y="64"/>
                  </a:lnTo>
                  <a:lnTo>
                    <a:pt x="424" y="20"/>
                  </a:lnTo>
                  <a:lnTo>
                    <a:pt x="467" y="70"/>
                  </a:lnTo>
                  <a:lnTo>
                    <a:pt x="529" y="39"/>
                  </a:lnTo>
                  <a:lnTo>
                    <a:pt x="543" y="0"/>
                  </a:lnTo>
                  <a:lnTo>
                    <a:pt x="574" y="8"/>
                  </a:lnTo>
                  <a:lnTo>
                    <a:pt x="641" y="0"/>
                  </a:lnTo>
                  <a:lnTo>
                    <a:pt x="678" y="33"/>
                  </a:lnTo>
                  <a:lnTo>
                    <a:pt x="729" y="301"/>
                  </a:lnTo>
                  <a:lnTo>
                    <a:pt x="729" y="332"/>
                  </a:lnTo>
                  <a:lnTo>
                    <a:pt x="872" y="380"/>
                  </a:lnTo>
                  <a:lnTo>
                    <a:pt x="1064" y="625"/>
                  </a:lnTo>
                  <a:lnTo>
                    <a:pt x="1140" y="630"/>
                  </a:lnTo>
                  <a:lnTo>
                    <a:pt x="1190" y="667"/>
                  </a:lnTo>
                  <a:lnTo>
                    <a:pt x="1359" y="706"/>
                  </a:lnTo>
                  <a:lnTo>
                    <a:pt x="1376" y="661"/>
                  </a:lnTo>
                  <a:lnTo>
                    <a:pt x="1359" y="580"/>
                  </a:lnTo>
                  <a:lnTo>
                    <a:pt x="1376" y="518"/>
                  </a:lnTo>
                  <a:lnTo>
                    <a:pt x="1402" y="549"/>
                  </a:lnTo>
                  <a:lnTo>
                    <a:pt x="1413" y="667"/>
                  </a:lnTo>
                  <a:lnTo>
                    <a:pt x="1446" y="693"/>
                  </a:lnTo>
                  <a:lnTo>
                    <a:pt x="1452" y="731"/>
                  </a:lnTo>
                  <a:lnTo>
                    <a:pt x="1501" y="749"/>
                  </a:lnTo>
                  <a:lnTo>
                    <a:pt x="1551" y="656"/>
                  </a:lnTo>
                  <a:lnTo>
                    <a:pt x="1576" y="675"/>
                  </a:lnTo>
                  <a:lnTo>
                    <a:pt x="1576" y="768"/>
                  </a:lnTo>
                  <a:lnTo>
                    <a:pt x="1520" y="805"/>
                  </a:lnTo>
                  <a:lnTo>
                    <a:pt x="1247" y="1078"/>
                  </a:lnTo>
                  <a:lnTo>
                    <a:pt x="1278" y="1135"/>
                  </a:lnTo>
                  <a:lnTo>
                    <a:pt x="1270" y="1216"/>
                  </a:lnTo>
                  <a:lnTo>
                    <a:pt x="1458" y="1321"/>
                  </a:lnTo>
                  <a:lnTo>
                    <a:pt x="1514" y="1329"/>
                  </a:lnTo>
                  <a:lnTo>
                    <a:pt x="1508" y="1402"/>
                  </a:lnTo>
                  <a:lnTo>
                    <a:pt x="1576" y="1521"/>
                  </a:lnTo>
                  <a:lnTo>
                    <a:pt x="1625" y="1534"/>
                  </a:lnTo>
                  <a:lnTo>
                    <a:pt x="1650" y="1503"/>
                  </a:lnTo>
                  <a:lnTo>
                    <a:pt x="1658" y="1366"/>
                  </a:lnTo>
                  <a:lnTo>
                    <a:pt x="1700" y="1346"/>
                  </a:lnTo>
                  <a:lnTo>
                    <a:pt x="1700" y="1222"/>
                  </a:lnTo>
                  <a:lnTo>
                    <a:pt x="1658" y="1135"/>
                  </a:lnTo>
                  <a:lnTo>
                    <a:pt x="1695" y="1104"/>
                  </a:lnTo>
                  <a:lnTo>
                    <a:pt x="1675" y="991"/>
                  </a:lnTo>
                  <a:lnTo>
                    <a:pt x="1869" y="1047"/>
                  </a:lnTo>
                  <a:lnTo>
                    <a:pt x="1881" y="1098"/>
                  </a:lnTo>
                  <a:lnTo>
                    <a:pt x="1925" y="1160"/>
                  </a:lnTo>
                  <a:lnTo>
                    <a:pt x="1999" y="1166"/>
                  </a:lnTo>
                  <a:lnTo>
                    <a:pt x="1987" y="1078"/>
                  </a:lnTo>
                  <a:lnTo>
                    <a:pt x="2156" y="1253"/>
                  </a:lnTo>
                  <a:lnTo>
                    <a:pt x="2212" y="1278"/>
                  </a:lnTo>
                  <a:lnTo>
                    <a:pt x="2362" y="1433"/>
                  </a:lnTo>
                  <a:lnTo>
                    <a:pt x="2269" y="1521"/>
                  </a:lnTo>
                  <a:lnTo>
                    <a:pt x="2049" y="1577"/>
                  </a:lnTo>
                  <a:lnTo>
                    <a:pt x="1956" y="1709"/>
                  </a:lnTo>
                  <a:lnTo>
                    <a:pt x="1987" y="1709"/>
                  </a:lnTo>
                  <a:lnTo>
                    <a:pt x="2123" y="1614"/>
                  </a:lnTo>
                  <a:lnTo>
                    <a:pt x="2162" y="1614"/>
                  </a:lnTo>
                  <a:lnTo>
                    <a:pt x="2156" y="1689"/>
                  </a:lnTo>
                  <a:lnTo>
                    <a:pt x="2187" y="1757"/>
                  </a:lnTo>
                  <a:lnTo>
                    <a:pt x="2311" y="1695"/>
                  </a:lnTo>
                  <a:lnTo>
                    <a:pt x="2317" y="1726"/>
                  </a:lnTo>
                  <a:lnTo>
                    <a:pt x="2131" y="1895"/>
                  </a:lnTo>
                  <a:lnTo>
                    <a:pt x="2117" y="1864"/>
                  </a:lnTo>
                  <a:lnTo>
                    <a:pt x="2143" y="1827"/>
                  </a:lnTo>
                  <a:lnTo>
                    <a:pt x="2131" y="1796"/>
                  </a:lnTo>
                  <a:lnTo>
                    <a:pt x="2007" y="1883"/>
                  </a:lnTo>
                  <a:lnTo>
                    <a:pt x="1956" y="1971"/>
                  </a:lnTo>
                  <a:lnTo>
                    <a:pt x="1976" y="2013"/>
                  </a:lnTo>
                  <a:lnTo>
                    <a:pt x="1850" y="2101"/>
                  </a:lnTo>
                  <a:lnTo>
                    <a:pt x="1832" y="2157"/>
                  </a:lnTo>
                  <a:lnTo>
                    <a:pt x="1788" y="2213"/>
                  </a:lnTo>
                  <a:lnTo>
                    <a:pt x="1776" y="2343"/>
                  </a:lnTo>
                  <a:lnTo>
                    <a:pt x="1576" y="2492"/>
                  </a:lnTo>
                  <a:lnTo>
                    <a:pt x="1532" y="2642"/>
                  </a:lnTo>
                  <a:lnTo>
                    <a:pt x="1557" y="2686"/>
                  </a:lnTo>
                  <a:lnTo>
                    <a:pt x="1594" y="2768"/>
                  </a:lnTo>
                  <a:lnTo>
                    <a:pt x="1588" y="2810"/>
                  </a:lnTo>
                  <a:lnTo>
                    <a:pt x="1551" y="2830"/>
                  </a:lnTo>
                  <a:lnTo>
                    <a:pt x="1458" y="2605"/>
                  </a:lnTo>
                  <a:lnTo>
                    <a:pt x="1365" y="2605"/>
                  </a:lnTo>
                  <a:lnTo>
                    <a:pt x="1345" y="2580"/>
                  </a:lnTo>
                  <a:lnTo>
                    <a:pt x="1190" y="2562"/>
                  </a:lnTo>
                  <a:lnTo>
                    <a:pt x="1190" y="2624"/>
                  </a:lnTo>
                  <a:lnTo>
                    <a:pt x="1171" y="2624"/>
                  </a:lnTo>
                  <a:lnTo>
                    <a:pt x="1089" y="2586"/>
                  </a:lnTo>
                  <a:lnTo>
                    <a:pt x="822" y="2617"/>
                  </a:lnTo>
                  <a:lnTo>
                    <a:pt x="760" y="2923"/>
                  </a:lnTo>
                  <a:lnTo>
                    <a:pt x="816" y="2985"/>
                  </a:lnTo>
                  <a:lnTo>
                    <a:pt x="828" y="3047"/>
                  </a:lnTo>
                  <a:lnTo>
                    <a:pt x="1016" y="3123"/>
                  </a:lnTo>
                  <a:lnTo>
                    <a:pt x="1103" y="3078"/>
                  </a:lnTo>
                  <a:lnTo>
                    <a:pt x="1109" y="3047"/>
                  </a:lnTo>
                  <a:lnTo>
                    <a:pt x="1126" y="3016"/>
                  </a:lnTo>
                  <a:lnTo>
                    <a:pt x="1227" y="3016"/>
                  </a:lnTo>
                  <a:lnTo>
                    <a:pt x="1227" y="3047"/>
                  </a:lnTo>
                  <a:lnTo>
                    <a:pt x="1126" y="3235"/>
                  </a:lnTo>
                  <a:lnTo>
                    <a:pt x="1376" y="3284"/>
                  </a:lnTo>
                  <a:lnTo>
                    <a:pt x="1421" y="3340"/>
                  </a:lnTo>
                  <a:lnTo>
                    <a:pt x="1390" y="3439"/>
                  </a:lnTo>
                  <a:lnTo>
                    <a:pt x="1408" y="3515"/>
                  </a:lnTo>
                  <a:lnTo>
                    <a:pt x="1514" y="3590"/>
                  </a:lnTo>
                  <a:lnTo>
                    <a:pt x="1551" y="3590"/>
                  </a:lnTo>
                  <a:lnTo>
                    <a:pt x="1638" y="3577"/>
                  </a:lnTo>
                  <a:lnTo>
                    <a:pt x="1751" y="3652"/>
                  </a:lnTo>
                  <a:lnTo>
                    <a:pt x="1857" y="3515"/>
                  </a:lnTo>
                  <a:lnTo>
                    <a:pt x="1894" y="3515"/>
                  </a:lnTo>
                  <a:lnTo>
                    <a:pt x="2007" y="3439"/>
                  </a:lnTo>
                  <a:lnTo>
                    <a:pt x="2030" y="3577"/>
                  </a:lnTo>
                  <a:lnTo>
                    <a:pt x="2061" y="3565"/>
                  </a:lnTo>
                  <a:lnTo>
                    <a:pt x="2061" y="3503"/>
                  </a:lnTo>
                  <a:lnTo>
                    <a:pt x="2162" y="3452"/>
                  </a:lnTo>
                  <a:lnTo>
                    <a:pt x="2205" y="3484"/>
                  </a:lnTo>
                  <a:lnTo>
                    <a:pt x="2379" y="3472"/>
                  </a:lnTo>
                  <a:lnTo>
                    <a:pt x="2424" y="3439"/>
                  </a:lnTo>
                  <a:lnTo>
                    <a:pt x="2497" y="3439"/>
                  </a:lnTo>
                  <a:lnTo>
                    <a:pt x="2497" y="3464"/>
                  </a:lnTo>
                  <a:lnTo>
                    <a:pt x="2810" y="3559"/>
                  </a:lnTo>
                  <a:lnTo>
                    <a:pt x="2934" y="3546"/>
                  </a:lnTo>
                  <a:lnTo>
                    <a:pt x="3077" y="3652"/>
                  </a:lnTo>
                  <a:lnTo>
                    <a:pt x="3089" y="3703"/>
                  </a:lnTo>
                  <a:lnTo>
                    <a:pt x="3263" y="3683"/>
                  </a:lnTo>
                  <a:lnTo>
                    <a:pt x="3539" y="3621"/>
                  </a:lnTo>
                  <a:lnTo>
                    <a:pt x="3651" y="3621"/>
                  </a:lnTo>
                  <a:lnTo>
                    <a:pt x="3663" y="3683"/>
                  </a:lnTo>
                  <a:lnTo>
                    <a:pt x="3607" y="3732"/>
                  </a:lnTo>
                  <a:lnTo>
                    <a:pt x="3432" y="4025"/>
                  </a:lnTo>
                  <a:lnTo>
                    <a:pt x="3415" y="4075"/>
                  </a:lnTo>
                  <a:lnTo>
                    <a:pt x="3339" y="4126"/>
                  </a:lnTo>
                  <a:lnTo>
                    <a:pt x="3308" y="4182"/>
                  </a:lnTo>
                  <a:lnTo>
                    <a:pt x="3170" y="4261"/>
                  </a:lnTo>
                  <a:lnTo>
                    <a:pt x="3077" y="4318"/>
                  </a:lnTo>
                  <a:lnTo>
                    <a:pt x="2984" y="4368"/>
                  </a:lnTo>
                  <a:lnTo>
                    <a:pt x="2891" y="4430"/>
                  </a:lnTo>
                  <a:lnTo>
                    <a:pt x="2779" y="4475"/>
                  </a:lnTo>
                  <a:lnTo>
                    <a:pt x="2641" y="4523"/>
                  </a:lnTo>
                  <a:lnTo>
                    <a:pt x="2497" y="4574"/>
                  </a:lnTo>
                  <a:lnTo>
                    <a:pt x="2342" y="4616"/>
                  </a:lnTo>
                  <a:lnTo>
                    <a:pt x="2212" y="4647"/>
                  </a:lnTo>
                  <a:lnTo>
                    <a:pt x="2080" y="4680"/>
                  </a:lnTo>
                  <a:lnTo>
                    <a:pt x="1982" y="4692"/>
                  </a:lnTo>
                  <a:lnTo>
                    <a:pt x="1968" y="4692"/>
                  </a:lnTo>
                  <a:lnTo>
                    <a:pt x="2038" y="4506"/>
                  </a:lnTo>
                  <a:lnTo>
                    <a:pt x="2030" y="4461"/>
                  </a:lnTo>
                  <a:lnTo>
                    <a:pt x="1844" y="4387"/>
                  </a:lnTo>
                  <a:lnTo>
                    <a:pt x="1762" y="4275"/>
                  </a:lnTo>
                  <a:lnTo>
                    <a:pt x="1526" y="4120"/>
                  </a:lnTo>
                  <a:lnTo>
                    <a:pt x="1526" y="4069"/>
                  </a:lnTo>
                  <a:lnTo>
                    <a:pt x="1594" y="4025"/>
                  </a:lnTo>
                  <a:lnTo>
                    <a:pt x="1551" y="3994"/>
                  </a:lnTo>
                  <a:lnTo>
                    <a:pt x="1551" y="3945"/>
                  </a:lnTo>
                  <a:lnTo>
                    <a:pt x="1689" y="3850"/>
                  </a:lnTo>
                  <a:lnTo>
                    <a:pt x="1700" y="3813"/>
                  </a:lnTo>
                  <a:lnTo>
                    <a:pt x="1737" y="3807"/>
                  </a:lnTo>
                  <a:lnTo>
                    <a:pt x="1737" y="3714"/>
                  </a:lnTo>
                  <a:lnTo>
                    <a:pt x="1675" y="3621"/>
                  </a:lnTo>
                  <a:lnTo>
                    <a:pt x="1638" y="3596"/>
                  </a:lnTo>
                  <a:lnTo>
                    <a:pt x="1551" y="3639"/>
                  </a:lnTo>
                  <a:lnTo>
                    <a:pt x="1452" y="3608"/>
                  </a:lnTo>
                  <a:lnTo>
                    <a:pt x="1334" y="3526"/>
                  </a:lnTo>
                  <a:lnTo>
                    <a:pt x="1208" y="3346"/>
                  </a:lnTo>
                  <a:lnTo>
                    <a:pt x="847" y="3171"/>
                  </a:lnTo>
                  <a:lnTo>
                    <a:pt x="785" y="3154"/>
                  </a:lnTo>
                  <a:lnTo>
                    <a:pt x="636" y="3078"/>
                  </a:lnTo>
                  <a:lnTo>
                    <a:pt x="380" y="2842"/>
                  </a:lnTo>
                  <a:lnTo>
                    <a:pt x="405" y="2768"/>
                  </a:lnTo>
                  <a:lnTo>
                    <a:pt x="312" y="2562"/>
                  </a:lnTo>
                  <a:lnTo>
                    <a:pt x="230" y="2219"/>
                  </a:lnTo>
                  <a:lnTo>
                    <a:pt x="168" y="2188"/>
                  </a:lnTo>
                  <a:lnTo>
                    <a:pt x="162" y="2250"/>
                  </a:lnTo>
                  <a:lnTo>
                    <a:pt x="219" y="2523"/>
                  </a:lnTo>
                  <a:lnTo>
                    <a:pt x="250" y="2617"/>
                  </a:lnTo>
                  <a:lnTo>
                    <a:pt x="230" y="2655"/>
                  </a:lnTo>
                  <a:lnTo>
                    <a:pt x="168" y="2554"/>
                  </a:lnTo>
                  <a:lnTo>
                    <a:pt x="155" y="2438"/>
                  </a:lnTo>
                  <a:lnTo>
                    <a:pt x="112" y="2362"/>
                  </a:lnTo>
                  <a:lnTo>
                    <a:pt x="124" y="2331"/>
                  </a:lnTo>
                  <a:lnTo>
                    <a:pt x="62" y="2008"/>
                  </a:lnTo>
                  <a:lnTo>
                    <a:pt x="62" y="200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592840" y="3239280"/>
              <a:ext cx="96120" cy="84960"/>
            </a:xfrm>
            <a:custGeom>
              <a:avLst/>
              <a:gdLst/>
              <a:ahLst/>
              <a:rect l="l" t="t" r="r" b="b"/>
              <a:pathLst>
                <a:path w="357" h="318">
                  <a:moveTo>
                    <a:pt x="0" y="0"/>
                  </a:moveTo>
                  <a:lnTo>
                    <a:pt x="14" y="11"/>
                  </a:lnTo>
                  <a:lnTo>
                    <a:pt x="33" y="74"/>
                  </a:lnTo>
                  <a:lnTo>
                    <a:pt x="50" y="93"/>
                  </a:lnTo>
                  <a:lnTo>
                    <a:pt x="112" y="124"/>
                  </a:lnTo>
                  <a:lnTo>
                    <a:pt x="143" y="143"/>
                  </a:lnTo>
                  <a:lnTo>
                    <a:pt x="157" y="124"/>
                  </a:lnTo>
                  <a:lnTo>
                    <a:pt x="188" y="124"/>
                  </a:lnTo>
                  <a:lnTo>
                    <a:pt x="239" y="155"/>
                  </a:lnTo>
                  <a:lnTo>
                    <a:pt x="250" y="186"/>
                  </a:lnTo>
                  <a:lnTo>
                    <a:pt x="301" y="231"/>
                  </a:lnTo>
                  <a:lnTo>
                    <a:pt x="326" y="231"/>
                  </a:lnTo>
                  <a:lnTo>
                    <a:pt x="326" y="273"/>
                  </a:lnTo>
                  <a:lnTo>
                    <a:pt x="343" y="304"/>
                  </a:lnTo>
                  <a:lnTo>
                    <a:pt x="357" y="318"/>
                  </a:lnTo>
                  <a:lnTo>
                    <a:pt x="357" y="136"/>
                  </a:lnTo>
                  <a:lnTo>
                    <a:pt x="326" y="124"/>
                  </a:lnTo>
                  <a:lnTo>
                    <a:pt x="301" y="93"/>
                  </a:lnTo>
                  <a:lnTo>
                    <a:pt x="250" y="93"/>
                  </a:lnTo>
                  <a:lnTo>
                    <a:pt x="176" y="68"/>
                  </a:lnTo>
                  <a:lnTo>
                    <a:pt x="143" y="74"/>
                  </a:lnTo>
                  <a:lnTo>
                    <a:pt x="126" y="62"/>
                  </a:lnTo>
                  <a:lnTo>
                    <a:pt x="112" y="42"/>
                  </a:lnTo>
                  <a:lnTo>
                    <a:pt x="95" y="42"/>
                  </a:lnTo>
                  <a:lnTo>
                    <a:pt x="76" y="62"/>
                  </a:lnTo>
                  <a:lnTo>
                    <a:pt x="64" y="31"/>
                  </a:lnTo>
                  <a:lnTo>
                    <a:pt x="45" y="6"/>
                  </a:lnTo>
                  <a:lnTo>
                    <a:pt x="0" y="0"/>
                  </a:lnTo>
                  <a:lnTo>
                    <a:pt x="0" y="0"/>
                  </a:lnTo>
                  <a:close/>
                </a:path>
              </a:pathLst>
            </a:custGeom>
            <a:solidFill>
              <a:srgbClr val="00f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 name=""/>
            <p:cNvSpPr/>
            <p:nvPr/>
          </p:nvSpPr>
          <p:spPr>
            <a:xfrm>
              <a:off x="8592840" y="3239280"/>
              <a:ext cx="96120" cy="84960"/>
            </a:xfrm>
            <a:custGeom>
              <a:avLst/>
              <a:gdLst/>
              <a:ahLst/>
              <a:rect l="l" t="t" r="r" b="b"/>
              <a:pathLst>
                <a:path w="357" h="318">
                  <a:moveTo>
                    <a:pt x="0" y="0"/>
                  </a:moveTo>
                  <a:lnTo>
                    <a:pt x="14" y="11"/>
                  </a:lnTo>
                  <a:lnTo>
                    <a:pt x="33" y="74"/>
                  </a:lnTo>
                  <a:lnTo>
                    <a:pt x="50" y="93"/>
                  </a:lnTo>
                  <a:lnTo>
                    <a:pt x="112" y="124"/>
                  </a:lnTo>
                  <a:lnTo>
                    <a:pt x="143" y="143"/>
                  </a:lnTo>
                  <a:lnTo>
                    <a:pt x="157" y="124"/>
                  </a:lnTo>
                  <a:lnTo>
                    <a:pt x="188" y="124"/>
                  </a:lnTo>
                  <a:lnTo>
                    <a:pt x="239" y="155"/>
                  </a:lnTo>
                  <a:lnTo>
                    <a:pt x="250" y="186"/>
                  </a:lnTo>
                  <a:lnTo>
                    <a:pt x="301" y="231"/>
                  </a:lnTo>
                  <a:lnTo>
                    <a:pt x="326" y="231"/>
                  </a:lnTo>
                  <a:lnTo>
                    <a:pt x="326" y="273"/>
                  </a:lnTo>
                  <a:lnTo>
                    <a:pt x="343" y="304"/>
                  </a:lnTo>
                  <a:lnTo>
                    <a:pt x="357" y="318"/>
                  </a:lnTo>
                  <a:lnTo>
                    <a:pt x="357" y="136"/>
                  </a:lnTo>
                  <a:lnTo>
                    <a:pt x="326" y="124"/>
                  </a:lnTo>
                  <a:lnTo>
                    <a:pt x="301" y="93"/>
                  </a:lnTo>
                  <a:lnTo>
                    <a:pt x="250" y="93"/>
                  </a:lnTo>
                  <a:lnTo>
                    <a:pt x="176" y="68"/>
                  </a:lnTo>
                  <a:lnTo>
                    <a:pt x="143" y="74"/>
                  </a:lnTo>
                  <a:lnTo>
                    <a:pt x="126" y="62"/>
                  </a:lnTo>
                  <a:lnTo>
                    <a:pt x="112" y="42"/>
                  </a:lnTo>
                  <a:lnTo>
                    <a:pt x="95" y="42"/>
                  </a:lnTo>
                  <a:lnTo>
                    <a:pt x="76" y="62"/>
                  </a:lnTo>
                  <a:lnTo>
                    <a:pt x="64" y="31"/>
                  </a:lnTo>
                  <a:lnTo>
                    <a:pt x="45" y="6"/>
                  </a:lnTo>
                  <a:lnTo>
                    <a:pt x="0" y="0"/>
                  </a:lnTo>
                  <a:lnTo>
                    <a:pt x="0" y="0"/>
                  </a:lnTo>
                </a:path>
              </a:pathLst>
            </a:custGeom>
            <a:solidFill>
              <a:srgbClr val="00cc00"/>
            </a:solidFill>
            <a:ln w="1440">
              <a:solidFill>
                <a:srgbClr val="000000"/>
              </a:solidFill>
              <a:round/>
            </a:ln>
          </p:spPr>
          <p:style>
            <a:lnRef idx="0"/>
            <a:fillRef idx="0"/>
            <a:effectRef idx="0"/>
            <a:fontRef idx="minor"/>
          </p:style>
          <p:txBody>
            <a:bodyPr tIns="39240" bIns="39240" anchor="t">
              <a:noAutofit/>
            </a:bodyPr>
            <a:p>
              <a:endParaRPr b="0" lang="en-US" sz="2400" spc="-1" strike="noStrike">
                <a:solidFill>
                  <a:srgbClr val="000000"/>
                </a:solidFill>
                <a:latin typeface="Times New Roman"/>
              </a:endParaRPr>
            </a:p>
          </p:txBody>
        </p:sp>
        <p:sp>
          <p:nvSpPr>
            <p:cNvPr id="269" name=""/>
            <p:cNvSpPr/>
            <p:nvPr/>
          </p:nvSpPr>
          <p:spPr>
            <a:xfrm>
              <a:off x="8629920" y="3289320"/>
              <a:ext cx="30600" cy="42120"/>
            </a:xfrm>
            <a:custGeom>
              <a:avLst/>
              <a:gdLst/>
              <a:ahLst/>
              <a:rect l="l" t="t" r="r" b="b"/>
              <a:pathLst>
                <a:path w="112" h="157">
                  <a:moveTo>
                    <a:pt x="112" y="144"/>
                  </a:moveTo>
                  <a:lnTo>
                    <a:pt x="101" y="157"/>
                  </a:lnTo>
                  <a:lnTo>
                    <a:pt x="81" y="144"/>
                  </a:lnTo>
                  <a:lnTo>
                    <a:pt x="62" y="107"/>
                  </a:lnTo>
                  <a:lnTo>
                    <a:pt x="5" y="93"/>
                  </a:lnTo>
                  <a:lnTo>
                    <a:pt x="0" y="19"/>
                  </a:lnTo>
                  <a:lnTo>
                    <a:pt x="0" y="0"/>
                  </a:lnTo>
                  <a:lnTo>
                    <a:pt x="31" y="14"/>
                  </a:lnTo>
                  <a:lnTo>
                    <a:pt x="62" y="56"/>
                  </a:lnTo>
                  <a:lnTo>
                    <a:pt x="81" y="70"/>
                  </a:lnTo>
                  <a:lnTo>
                    <a:pt x="95" y="81"/>
                  </a:lnTo>
                  <a:lnTo>
                    <a:pt x="112" y="144"/>
                  </a:lnTo>
                  <a:lnTo>
                    <a:pt x="112" y="144"/>
                  </a:lnTo>
                  <a:lnTo>
                    <a:pt x="112" y="144"/>
                  </a:lnTo>
                  <a:close/>
                </a:path>
              </a:pathLst>
            </a:custGeom>
            <a:solidFill>
              <a:srgbClr val="00ff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0" name=""/>
            <p:cNvSpPr/>
            <p:nvPr/>
          </p:nvSpPr>
          <p:spPr>
            <a:xfrm>
              <a:off x="8629920" y="3289320"/>
              <a:ext cx="30600" cy="42120"/>
            </a:xfrm>
            <a:custGeom>
              <a:avLst/>
              <a:gdLst/>
              <a:ahLst/>
              <a:rect l="l" t="t" r="r" b="b"/>
              <a:pathLst>
                <a:path w="112" h="157">
                  <a:moveTo>
                    <a:pt x="112" y="144"/>
                  </a:moveTo>
                  <a:lnTo>
                    <a:pt x="101" y="157"/>
                  </a:lnTo>
                  <a:lnTo>
                    <a:pt x="81" y="144"/>
                  </a:lnTo>
                  <a:lnTo>
                    <a:pt x="62" y="107"/>
                  </a:lnTo>
                  <a:lnTo>
                    <a:pt x="5" y="93"/>
                  </a:lnTo>
                  <a:lnTo>
                    <a:pt x="0" y="19"/>
                  </a:lnTo>
                  <a:lnTo>
                    <a:pt x="0" y="0"/>
                  </a:lnTo>
                  <a:lnTo>
                    <a:pt x="31" y="14"/>
                  </a:lnTo>
                  <a:lnTo>
                    <a:pt x="62" y="56"/>
                  </a:lnTo>
                  <a:lnTo>
                    <a:pt x="81" y="70"/>
                  </a:lnTo>
                  <a:lnTo>
                    <a:pt x="95" y="81"/>
                  </a:lnTo>
                  <a:lnTo>
                    <a:pt x="112" y="144"/>
                  </a:lnTo>
                  <a:lnTo>
                    <a:pt x="112" y="144"/>
                  </a:lnTo>
                </a:path>
              </a:pathLst>
            </a:custGeom>
            <a:solidFill>
              <a:srgbClr val="00cc00"/>
            </a:solidFill>
            <a:ln w="144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271" name=""/>
            <p:cNvSpPr/>
            <p:nvPr/>
          </p:nvSpPr>
          <p:spPr>
            <a:xfrm>
              <a:off x="8157240" y="3159720"/>
              <a:ext cx="61560" cy="79560"/>
            </a:xfrm>
            <a:custGeom>
              <a:avLst/>
              <a:gdLst/>
              <a:ahLst/>
              <a:rect l="l" t="t" r="r" b="b"/>
              <a:pathLst>
                <a:path w="230" h="299">
                  <a:moveTo>
                    <a:pt x="0" y="254"/>
                  </a:moveTo>
                  <a:lnTo>
                    <a:pt x="19" y="237"/>
                  </a:lnTo>
                  <a:lnTo>
                    <a:pt x="75" y="237"/>
                  </a:lnTo>
                  <a:lnTo>
                    <a:pt x="81" y="212"/>
                  </a:lnTo>
                  <a:lnTo>
                    <a:pt x="69" y="144"/>
                  </a:lnTo>
                  <a:lnTo>
                    <a:pt x="124" y="99"/>
                  </a:lnTo>
                  <a:lnTo>
                    <a:pt x="75" y="80"/>
                  </a:lnTo>
                  <a:lnTo>
                    <a:pt x="50" y="49"/>
                  </a:lnTo>
                  <a:lnTo>
                    <a:pt x="62" y="18"/>
                  </a:lnTo>
                  <a:lnTo>
                    <a:pt x="174" y="18"/>
                  </a:lnTo>
                  <a:lnTo>
                    <a:pt x="205" y="0"/>
                  </a:lnTo>
                  <a:lnTo>
                    <a:pt x="230" y="0"/>
                  </a:lnTo>
                  <a:lnTo>
                    <a:pt x="199" y="80"/>
                  </a:lnTo>
                  <a:lnTo>
                    <a:pt x="205" y="144"/>
                  </a:lnTo>
                  <a:lnTo>
                    <a:pt x="188" y="149"/>
                  </a:lnTo>
                  <a:lnTo>
                    <a:pt x="168" y="144"/>
                  </a:lnTo>
                  <a:lnTo>
                    <a:pt x="149" y="243"/>
                  </a:lnTo>
                  <a:lnTo>
                    <a:pt x="149" y="299"/>
                  </a:lnTo>
                  <a:lnTo>
                    <a:pt x="124" y="299"/>
                  </a:lnTo>
                  <a:lnTo>
                    <a:pt x="106" y="285"/>
                  </a:lnTo>
                  <a:lnTo>
                    <a:pt x="0" y="256"/>
                  </a:lnTo>
                  <a:lnTo>
                    <a:pt x="0" y="256"/>
                  </a:lnTo>
                  <a:lnTo>
                    <a:pt x="0" y="254"/>
                  </a:lnTo>
                  <a:close/>
                </a:path>
              </a:pathLst>
            </a:custGeom>
            <a:solidFill>
              <a:srgbClr val="00f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2" name=""/>
            <p:cNvSpPr/>
            <p:nvPr/>
          </p:nvSpPr>
          <p:spPr>
            <a:xfrm>
              <a:off x="8157240" y="3159720"/>
              <a:ext cx="61560" cy="79560"/>
            </a:xfrm>
            <a:custGeom>
              <a:avLst/>
              <a:gdLst/>
              <a:ahLst/>
              <a:rect l="l" t="t" r="r" b="b"/>
              <a:pathLst>
                <a:path w="230" h="299">
                  <a:moveTo>
                    <a:pt x="0" y="254"/>
                  </a:moveTo>
                  <a:lnTo>
                    <a:pt x="19" y="237"/>
                  </a:lnTo>
                  <a:lnTo>
                    <a:pt x="75" y="237"/>
                  </a:lnTo>
                  <a:lnTo>
                    <a:pt x="81" y="212"/>
                  </a:lnTo>
                  <a:lnTo>
                    <a:pt x="69" y="144"/>
                  </a:lnTo>
                  <a:lnTo>
                    <a:pt x="124" y="99"/>
                  </a:lnTo>
                  <a:lnTo>
                    <a:pt x="75" y="80"/>
                  </a:lnTo>
                  <a:lnTo>
                    <a:pt x="50" y="49"/>
                  </a:lnTo>
                  <a:lnTo>
                    <a:pt x="62" y="18"/>
                  </a:lnTo>
                  <a:lnTo>
                    <a:pt x="174" y="18"/>
                  </a:lnTo>
                  <a:lnTo>
                    <a:pt x="205" y="0"/>
                  </a:lnTo>
                  <a:lnTo>
                    <a:pt x="230" y="0"/>
                  </a:lnTo>
                  <a:lnTo>
                    <a:pt x="199" y="80"/>
                  </a:lnTo>
                  <a:lnTo>
                    <a:pt x="205" y="144"/>
                  </a:lnTo>
                  <a:lnTo>
                    <a:pt x="188" y="149"/>
                  </a:lnTo>
                  <a:lnTo>
                    <a:pt x="168" y="144"/>
                  </a:lnTo>
                  <a:lnTo>
                    <a:pt x="149" y="243"/>
                  </a:lnTo>
                  <a:lnTo>
                    <a:pt x="149" y="299"/>
                  </a:lnTo>
                  <a:lnTo>
                    <a:pt x="124" y="299"/>
                  </a:lnTo>
                  <a:lnTo>
                    <a:pt x="106" y="285"/>
                  </a:lnTo>
                  <a:lnTo>
                    <a:pt x="0" y="256"/>
                  </a:lnTo>
                  <a:lnTo>
                    <a:pt x="0" y="256"/>
                  </a:lnTo>
                </a:path>
              </a:pathLst>
            </a:custGeom>
            <a:solidFill>
              <a:srgbClr val="00cc00"/>
            </a:solidFill>
            <a:ln w="144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273" name=""/>
            <p:cNvSpPr/>
            <p:nvPr/>
          </p:nvSpPr>
          <p:spPr>
            <a:xfrm>
              <a:off x="8467920" y="3241080"/>
              <a:ext cx="41400" cy="51840"/>
            </a:xfrm>
            <a:custGeom>
              <a:avLst/>
              <a:gdLst/>
              <a:ahLst/>
              <a:rect l="l" t="t" r="r" b="b"/>
              <a:pathLst>
                <a:path w="155" h="194">
                  <a:moveTo>
                    <a:pt x="155" y="99"/>
                  </a:moveTo>
                  <a:lnTo>
                    <a:pt x="155" y="42"/>
                  </a:lnTo>
                  <a:lnTo>
                    <a:pt x="143" y="25"/>
                  </a:lnTo>
                  <a:lnTo>
                    <a:pt x="124" y="25"/>
                  </a:lnTo>
                  <a:lnTo>
                    <a:pt x="93" y="0"/>
                  </a:lnTo>
                  <a:lnTo>
                    <a:pt x="62" y="31"/>
                  </a:lnTo>
                  <a:lnTo>
                    <a:pt x="42" y="56"/>
                  </a:lnTo>
                  <a:lnTo>
                    <a:pt x="42" y="87"/>
                  </a:lnTo>
                  <a:lnTo>
                    <a:pt x="31" y="87"/>
                  </a:lnTo>
                  <a:lnTo>
                    <a:pt x="0" y="99"/>
                  </a:lnTo>
                  <a:lnTo>
                    <a:pt x="0" y="149"/>
                  </a:lnTo>
                  <a:lnTo>
                    <a:pt x="31" y="149"/>
                  </a:lnTo>
                  <a:lnTo>
                    <a:pt x="62" y="163"/>
                  </a:lnTo>
                  <a:lnTo>
                    <a:pt x="79" y="163"/>
                  </a:lnTo>
                  <a:lnTo>
                    <a:pt x="93" y="194"/>
                  </a:lnTo>
                  <a:lnTo>
                    <a:pt x="110" y="180"/>
                  </a:lnTo>
                  <a:lnTo>
                    <a:pt x="135" y="163"/>
                  </a:lnTo>
                  <a:lnTo>
                    <a:pt x="155" y="99"/>
                  </a:lnTo>
                  <a:lnTo>
                    <a:pt x="155" y="99"/>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4" name=""/>
            <p:cNvSpPr/>
            <p:nvPr/>
          </p:nvSpPr>
          <p:spPr>
            <a:xfrm>
              <a:off x="8467920" y="3241080"/>
              <a:ext cx="41400" cy="51840"/>
            </a:xfrm>
            <a:custGeom>
              <a:avLst/>
              <a:gdLst/>
              <a:ahLst/>
              <a:rect l="l" t="t" r="r" b="b"/>
              <a:pathLst>
                <a:path w="155" h="194">
                  <a:moveTo>
                    <a:pt x="155" y="99"/>
                  </a:moveTo>
                  <a:lnTo>
                    <a:pt x="155" y="42"/>
                  </a:lnTo>
                  <a:lnTo>
                    <a:pt x="143" y="25"/>
                  </a:lnTo>
                  <a:lnTo>
                    <a:pt x="124" y="25"/>
                  </a:lnTo>
                  <a:lnTo>
                    <a:pt x="93" y="0"/>
                  </a:lnTo>
                  <a:lnTo>
                    <a:pt x="62" y="31"/>
                  </a:lnTo>
                  <a:lnTo>
                    <a:pt x="42" y="56"/>
                  </a:lnTo>
                  <a:lnTo>
                    <a:pt x="42" y="87"/>
                  </a:lnTo>
                  <a:lnTo>
                    <a:pt x="31" y="87"/>
                  </a:lnTo>
                  <a:lnTo>
                    <a:pt x="0" y="99"/>
                  </a:lnTo>
                  <a:lnTo>
                    <a:pt x="0" y="149"/>
                  </a:lnTo>
                  <a:lnTo>
                    <a:pt x="31" y="149"/>
                  </a:lnTo>
                  <a:lnTo>
                    <a:pt x="62" y="163"/>
                  </a:lnTo>
                  <a:lnTo>
                    <a:pt x="79" y="163"/>
                  </a:lnTo>
                  <a:lnTo>
                    <a:pt x="93" y="194"/>
                  </a:lnTo>
                  <a:lnTo>
                    <a:pt x="110" y="180"/>
                  </a:lnTo>
                  <a:lnTo>
                    <a:pt x="135" y="163"/>
                  </a:lnTo>
                  <a:lnTo>
                    <a:pt x="155" y="99"/>
                  </a:lnTo>
                  <a:lnTo>
                    <a:pt x="155" y="99"/>
                  </a:lnTo>
                </a:path>
              </a:pathLst>
            </a:custGeom>
            <a:solidFill>
              <a:srgbClr val="00cc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5" name=""/>
            <p:cNvSpPr/>
            <p:nvPr/>
          </p:nvSpPr>
          <p:spPr>
            <a:xfrm>
              <a:off x="8029440" y="3249360"/>
              <a:ext cx="60480" cy="58680"/>
            </a:xfrm>
            <a:custGeom>
              <a:avLst/>
              <a:gdLst/>
              <a:ahLst/>
              <a:rect l="l" t="t" r="r" b="b"/>
              <a:pathLst>
                <a:path w="225" h="219">
                  <a:moveTo>
                    <a:pt x="82" y="5"/>
                  </a:moveTo>
                  <a:lnTo>
                    <a:pt x="37" y="25"/>
                  </a:lnTo>
                  <a:lnTo>
                    <a:pt x="51" y="62"/>
                  </a:lnTo>
                  <a:lnTo>
                    <a:pt x="113" y="87"/>
                  </a:lnTo>
                  <a:lnTo>
                    <a:pt x="125" y="99"/>
                  </a:lnTo>
                  <a:lnTo>
                    <a:pt x="113" y="118"/>
                  </a:lnTo>
                  <a:lnTo>
                    <a:pt x="31" y="87"/>
                  </a:lnTo>
                  <a:lnTo>
                    <a:pt x="0" y="106"/>
                  </a:lnTo>
                  <a:lnTo>
                    <a:pt x="0" y="118"/>
                  </a:lnTo>
                  <a:lnTo>
                    <a:pt x="57" y="149"/>
                  </a:lnTo>
                  <a:lnTo>
                    <a:pt x="125" y="168"/>
                  </a:lnTo>
                  <a:lnTo>
                    <a:pt x="144" y="194"/>
                  </a:lnTo>
                  <a:lnTo>
                    <a:pt x="200" y="219"/>
                  </a:lnTo>
                  <a:lnTo>
                    <a:pt x="212" y="211"/>
                  </a:lnTo>
                  <a:lnTo>
                    <a:pt x="225" y="168"/>
                  </a:lnTo>
                  <a:lnTo>
                    <a:pt x="200" y="137"/>
                  </a:lnTo>
                  <a:lnTo>
                    <a:pt x="200" y="118"/>
                  </a:lnTo>
                  <a:lnTo>
                    <a:pt x="225" y="87"/>
                  </a:lnTo>
                  <a:lnTo>
                    <a:pt x="225" y="37"/>
                  </a:lnTo>
                  <a:lnTo>
                    <a:pt x="212" y="25"/>
                  </a:lnTo>
                  <a:lnTo>
                    <a:pt x="181" y="37"/>
                  </a:lnTo>
                  <a:lnTo>
                    <a:pt x="119" y="0"/>
                  </a:lnTo>
                  <a:lnTo>
                    <a:pt x="82" y="5"/>
                  </a:lnTo>
                  <a:lnTo>
                    <a:pt x="82" y="5"/>
                  </a:lnTo>
                  <a:lnTo>
                    <a:pt x="82" y="5"/>
                  </a:lnTo>
                  <a:close/>
                </a:path>
              </a:pathLst>
            </a:custGeom>
            <a:solidFill>
              <a:srgbClr val="00ff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6" name=""/>
            <p:cNvSpPr/>
            <p:nvPr/>
          </p:nvSpPr>
          <p:spPr>
            <a:xfrm>
              <a:off x="8029440" y="3249360"/>
              <a:ext cx="60480" cy="58680"/>
            </a:xfrm>
            <a:custGeom>
              <a:avLst/>
              <a:gdLst/>
              <a:ahLst/>
              <a:rect l="l" t="t" r="r" b="b"/>
              <a:pathLst>
                <a:path w="225" h="219">
                  <a:moveTo>
                    <a:pt x="82" y="5"/>
                  </a:moveTo>
                  <a:lnTo>
                    <a:pt x="37" y="25"/>
                  </a:lnTo>
                  <a:lnTo>
                    <a:pt x="51" y="62"/>
                  </a:lnTo>
                  <a:lnTo>
                    <a:pt x="113" y="87"/>
                  </a:lnTo>
                  <a:lnTo>
                    <a:pt x="125" y="99"/>
                  </a:lnTo>
                  <a:lnTo>
                    <a:pt x="113" y="118"/>
                  </a:lnTo>
                  <a:lnTo>
                    <a:pt x="31" y="87"/>
                  </a:lnTo>
                  <a:lnTo>
                    <a:pt x="0" y="106"/>
                  </a:lnTo>
                  <a:lnTo>
                    <a:pt x="0" y="118"/>
                  </a:lnTo>
                  <a:lnTo>
                    <a:pt x="57" y="149"/>
                  </a:lnTo>
                  <a:lnTo>
                    <a:pt x="125" y="168"/>
                  </a:lnTo>
                  <a:lnTo>
                    <a:pt x="144" y="194"/>
                  </a:lnTo>
                  <a:lnTo>
                    <a:pt x="200" y="219"/>
                  </a:lnTo>
                  <a:lnTo>
                    <a:pt x="212" y="211"/>
                  </a:lnTo>
                  <a:lnTo>
                    <a:pt x="225" y="168"/>
                  </a:lnTo>
                  <a:lnTo>
                    <a:pt x="200" y="137"/>
                  </a:lnTo>
                  <a:lnTo>
                    <a:pt x="200" y="118"/>
                  </a:lnTo>
                  <a:lnTo>
                    <a:pt x="225" y="87"/>
                  </a:lnTo>
                  <a:lnTo>
                    <a:pt x="225" y="37"/>
                  </a:lnTo>
                  <a:lnTo>
                    <a:pt x="212" y="25"/>
                  </a:lnTo>
                  <a:lnTo>
                    <a:pt x="181" y="37"/>
                  </a:lnTo>
                  <a:lnTo>
                    <a:pt x="119" y="0"/>
                  </a:lnTo>
                  <a:lnTo>
                    <a:pt x="82" y="5"/>
                  </a:lnTo>
                  <a:lnTo>
                    <a:pt x="82" y="5"/>
                  </a:lnTo>
                </a:path>
              </a:pathLst>
            </a:custGeom>
            <a:solidFill>
              <a:srgbClr val="00cc00"/>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7" name=""/>
            <p:cNvSpPr/>
            <p:nvPr/>
          </p:nvSpPr>
          <p:spPr>
            <a:xfrm>
              <a:off x="8026200" y="3219120"/>
              <a:ext cx="28440" cy="36720"/>
            </a:xfrm>
            <a:custGeom>
              <a:avLst/>
              <a:gdLst/>
              <a:ahLst/>
              <a:rect l="l" t="t" r="r" b="b"/>
              <a:pathLst>
                <a:path w="104" h="138">
                  <a:moveTo>
                    <a:pt x="0" y="113"/>
                  </a:moveTo>
                  <a:lnTo>
                    <a:pt x="0" y="76"/>
                  </a:lnTo>
                  <a:lnTo>
                    <a:pt x="37" y="45"/>
                  </a:lnTo>
                  <a:lnTo>
                    <a:pt x="48" y="0"/>
                  </a:lnTo>
                  <a:lnTo>
                    <a:pt x="93" y="20"/>
                  </a:lnTo>
                  <a:lnTo>
                    <a:pt x="104" y="76"/>
                  </a:lnTo>
                  <a:lnTo>
                    <a:pt x="31" y="107"/>
                  </a:lnTo>
                  <a:lnTo>
                    <a:pt x="11" y="138"/>
                  </a:lnTo>
                  <a:lnTo>
                    <a:pt x="0" y="113"/>
                  </a:lnTo>
                  <a:lnTo>
                    <a:pt x="0" y="113"/>
                  </a:lnTo>
                  <a:lnTo>
                    <a:pt x="0" y="113"/>
                  </a:lnTo>
                  <a:close/>
                </a:path>
              </a:pathLst>
            </a:custGeom>
            <a:solidFill>
              <a:srgbClr val="00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8" name=""/>
            <p:cNvSpPr/>
            <p:nvPr/>
          </p:nvSpPr>
          <p:spPr>
            <a:xfrm>
              <a:off x="8026200" y="3219120"/>
              <a:ext cx="28440" cy="36720"/>
            </a:xfrm>
            <a:custGeom>
              <a:avLst/>
              <a:gdLst/>
              <a:ahLst/>
              <a:rect l="l" t="t" r="r" b="b"/>
              <a:pathLst>
                <a:path w="104" h="138">
                  <a:moveTo>
                    <a:pt x="0" y="113"/>
                  </a:moveTo>
                  <a:lnTo>
                    <a:pt x="0" y="76"/>
                  </a:lnTo>
                  <a:lnTo>
                    <a:pt x="37" y="45"/>
                  </a:lnTo>
                  <a:lnTo>
                    <a:pt x="48" y="0"/>
                  </a:lnTo>
                  <a:lnTo>
                    <a:pt x="93" y="20"/>
                  </a:lnTo>
                  <a:lnTo>
                    <a:pt x="104" y="76"/>
                  </a:lnTo>
                  <a:lnTo>
                    <a:pt x="31" y="107"/>
                  </a:lnTo>
                  <a:lnTo>
                    <a:pt x="11" y="138"/>
                  </a:lnTo>
                  <a:lnTo>
                    <a:pt x="0" y="113"/>
                  </a:lnTo>
                  <a:lnTo>
                    <a:pt x="0" y="113"/>
                  </a:lnTo>
                </a:path>
              </a:pathLst>
            </a:custGeom>
            <a:solidFill>
              <a:srgbClr val="00cc00"/>
            </a:solidFill>
            <a:ln w="144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79" name=""/>
            <p:cNvSpPr/>
            <p:nvPr/>
          </p:nvSpPr>
          <p:spPr>
            <a:xfrm>
              <a:off x="8386560" y="3528360"/>
              <a:ext cx="47160" cy="54720"/>
            </a:xfrm>
            <a:custGeom>
              <a:avLst/>
              <a:gdLst/>
              <a:ahLst/>
              <a:rect l="l" t="t" r="r" b="b"/>
              <a:pathLst>
                <a:path w="174" h="204">
                  <a:moveTo>
                    <a:pt x="0" y="99"/>
                  </a:moveTo>
                  <a:lnTo>
                    <a:pt x="45" y="181"/>
                  </a:lnTo>
                  <a:lnTo>
                    <a:pt x="50" y="167"/>
                  </a:lnTo>
                  <a:lnTo>
                    <a:pt x="81" y="173"/>
                  </a:lnTo>
                  <a:lnTo>
                    <a:pt x="81" y="192"/>
                  </a:lnTo>
                  <a:lnTo>
                    <a:pt x="112" y="173"/>
                  </a:lnTo>
                  <a:lnTo>
                    <a:pt x="132" y="186"/>
                  </a:lnTo>
                  <a:lnTo>
                    <a:pt x="143" y="198"/>
                  </a:lnTo>
                  <a:lnTo>
                    <a:pt x="163" y="204"/>
                  </a:lnTo>
                  <a:lnTo>
                    <a:pt x="174" y="173"/>
                  </a:lnTo>
                  <a:lnTo>
                    <a:pt x="143" y="130"/>
                  </a:lnTo>
                  <a:lnTo>
                    <a:pt x="101" y="124"/>
                  </a:lnTo>
                  <a:lnTo>
                    <a:pt x="95" y="99"/>
                  </a:lnTo>
                  <a:lnTo>
                    <a:pt x="56" y="80"/>
                  </a:lnTo>
                  <a:lnTo>
                    <a:pt x="39" y="74"/>
                  </a:lnTo>
                  <a:lnTo>
                    <a:pt x="39" y="12"/>
                  </a:lnTo>
                  <a:lnTo>
                    <a:pt x="25" y="0"/>
                  </a:lnTo>
                  <a:lnTo>
                    <a:pt x="2" y="99"/>
                  </a:lnTo>
                  <a:lnTo>
                    <a:pt x="2" y="99"/>
                  </a:lnTo>
                  <a:lnTo>
                    <a:pt x="0" y="99"/>
                  </a:lnTo>
                  <a:close/>
                </a:path>
              </a:pathLst>
            </a:custGeom>
            <a:solidFill>
              <a:srgbClr val="00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0" name=""/>
            <p:cNvSpPr/>
            <p:nvPr/>
          </p:nvSpPr>
          <p:spPr>
            <a:xfrm>
              <a:off x="8386560" y="3528360"/>
              <a:ext cx="47160" cy="54720"/>
            </a:xfrm>
            <a:custGeom>
              <a:avLst/>
              <a:gdLst/>
              <a:ahLst/>
              <a:rect l="l" t="t" r="r" b="b"/>
              <a:pathLst>
                <a:path w="174" h="204">
                  <a:moveTo>
                    <a:pt x="0" y="99"/>
                  </a:moveTo>
                  <a:lnTo>
                    <a:pt x="45" y="181"/>
                  </a:lnTo>
                  <a:lnTo>
                    <a:pt x="50" y="167"/>
                  </a:lnTo>
                  <a:lnTo>
                    <a:pt x="81" y="173"/>
                  </a:lnTo>
                  <a:lnTo>
                    <a:pt x="81" y="192"/>
                  </a:lnTo>
                  <a:lnTo>
                    <a:pt x="112" y="173"/>
                  </a:lnTo>
                  <a:lnTo>
                    <a:pt x="132" y="186"/>
                  </a:lnTo>
                  <a:lnTo>
                    <a:pt x="143" y="198"/>
                  </a:lnTo>
                  <a:lnTo>
                    <a:pt x="163" y="204"/>
                  </a:lnTo>
                  <a:lnTo>
                    <a:pt x="174" y="173"/>
                  </a:lnTo>
                  <a:lnTo>
                    <a:pt x="143" y="130"/>
                  </a:lnTo>
                  <a:lnTo>
                    <a:pt x="101" y="124"/>
                  </a:lnTo>
                  <a:lnTo>
                    <a:pt x="95" y="99"/>
                  </a:lnTo>
                  <a:lnTo>
                    <a:pt x="56" y="80"/>
                  </a:lnTo>
                  <a:lnTo>
                    <a:pt x="39" y="74"/>
                  </a:lnTo>
                  <a:lnTo>
                    <a:pt x="39" y="12"/>
                  </a:lnTo>
                  <a:lnTo>
                    <a:pt x="25" y="0"/>
                  </a:lnTo>
                  <a:lnTo>
                    <a:pt x="2" y="99"/>
                  </a:lnTo>
                  <a:lnTo>
                    <a:pt x="2" y="99"/>
                  </a:lnTo>
                </a:path>
              </a:pathLst>
            </a:custGeom>
            <a:solidFill>
              <a:srgbClr val="00cc00"/>
            </a:solidFill>
            <a:ln w="144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81" name=""/>
            <p:cNvSpPr/>
            <p:nvPr/>
          </p:nvSpPr>
          <p:spPr>
            <a:xfrm>
              <a:off x="8148600" y="3267360"/>
              <a:ext cx="144720" cy="141840"/>
            </a:xfrm>
            <a:custGeom>
              <a:avLst/>
              <a:gdLst/>
              <a:ahLst/>
              <a:rect l="l" t="t" r="r" b="b"/>
              <a:pathLst>
                <a:path w="537" h="529">
                  <a:moveTo>
                    <a:pt x="137" y="168"/>
                  </a:moveTo>
                  <a:lnTo>
                    <a:pt x="194" y="162"/>
                  </a:lnTo>
                  <a:lnTo>
                    <a:pt x="256" y="193"/>
                  </a:lnTo>
                  <a:lnTo>
                    <a:pt x="323" y="292"/>
                  </a:lnTo>
                  <a:lnTo>
                    <a:pt x="275" y="374"/>
                  </a:lnTo>
                  <a:lnTo>
                    <a:pt x="219" y="380"/>
                  </a:lnTo>
                  <a:lnTo>
                    <a:pt x="205" y="405"/>
                  </a:lnTo>
                  <a:lnTo>
                    <a:pt x="230" y="436"/>
                  </a:lnTo>
                  <a:lnTo>
                    <a:pt x="275" y="418"/>
                  </a:lnTo>
                  <a:lnTo>
                    <a:pt x="298" y="418"/>
                  </a:lnTo>
                  <a:lnTo>
                    <a:pt x="387" y="506"/>
                  </a:lnTo>
                  <a:lnTo>
                    <a:pt x="450" y="529"/>
                  </a:lnTo>
                  <a:lnTo>
                    <a:pt x="475" y="523"/>
                  </a:lnTo>
                  <a:lnTo>
                    <a:pt x="467" y="492"/>
                  </a:lnTo>
                  <a:lnTo>
                    <a:pt x="436" y="486"/>
                  </a:lnTo>
                  <a:lnTo>
                    <a:pt x="418" y="455"/>
                  </a:lnTo>
                  <a:lnTo>
                    <a:pt x="450" y="455"/>
                  </a:lnTo>
                  <a:lnTo>
                    <a:pt x="467" y="492"/>
                  </a:lnTo>
                  <a:lnTo>
                    <a:pt x="517" y="481"/>
                  </a:lnTo>
                  <a:lnTo>
                    <a:pt x="506" y="442"/>
                  </a:lnTo>
                  <a:lnTo>
                    <a:pt x="475" y="399"/>
                  </a:lnTo>
                  <a:lnTo>
                    <a:pt x="424" y="380"/>
                  </a:lnTo>
                  <a:lnTo>
                    <a:pt x="405" y="343"/>
                  </a:lnTo>
                  <a:lnTo>
                    <a:pt x="418" y="337"/>
                  </a:lnTo>
                  <a:lnTo>
                    <a:pt x="517" y="380"/>
                  </a:lnTo>
                  <a:lnTo>
                    <a:pt x="537" y="362"/>
                  </a:lnTo>
                  <a:lnTo>
                    <a:pt x="537" y="343"/>
                  </a:lnTo>
                  <a:lnTo>
                    <a:pt x="529" y="312"/>
                  </a:lnTo>
                  <a:lnTo>
                    <a:pt x="436" y="275"/>
                  </a:lnTo>
                  <a:lnTo>
                    <a:pt x="405" y="244"/>
                  </a:lnTo>
                  <a:lnTo>
                    <a:pt x="374" y="225"/>
                  </a:lnTo>
                  <a:lnTo>
                    <a:pt x="368" y="207"/>
                  </a:lnTo>
                  <a:lnTo>
                    <a:pt x="368" y="174"/>
                  </a:lnTo>
                  <a:lnTo>
                    <a:pt x="261" y="95"/>
                  </a:lnTo>
                  <a:lnTo>
                    <a:pt x="230" y="56"/>
                  </a:lnTo>
                  <a:lnTo>
                    <a:pt x="168" y="81"/>
                  </a:lnTo>
                  <a:lnTo>
                    <a:pt x="143" y="50"/>
                  </a:lnTo>
                  <a:lnTo>
                    <a:pt x="137" y="25"/>
                  </a:lnTo>
                  <a:lnTo>
                    <a:pt x="100" y="19"/>
                  </a:lnTo>
                  <a:lnTo>
                    <a:pt x="87" y="19"/>
                  </a:lnTo>
                  <a:lnTo>
                    <a:pt x="81" y="64"/>
                  </a:lnTo>
                  <a:lnTo>
                    <a:pt x="62" y="81"/>
                  </a:lnTo>
                  <a:lnTo>
                    <a:pt x="50" y="81"/>
                  </a:lnTo>
                  <a:lnTo>
                    <a:pt x="44" y="50"/>
                  </a:lnTo>
                  <a:lnTo>
                    <a:pt x="56" y="19"/>
                  </a:lnTo>
                  <a:lnTo>
                    <a:pt x="38" y="0"/>
                  </a:lnTo>
                  <a:lnTo>
                    <a:pt x="0" y="31"/>
                  </a:lnTo>
                  <a:lnTo>
                    <a:pt x="0" y="64"/>
                  </a:lnTo>
                  <a:lnTo>
                    <a:pt x="44" y="157"/>
                  </a:lnTo>
                  <a:lnTo>
                    <a:pt x="93" y="151"/>
                  </a:lnTo>
                  <a:lnTo>
                    <a:pt x="137" y="168"/>
                  </a:lnTo>
                  <a:lnTo>
                    <a:pt x="137" y="168"/>
                  </a:lnTo>
                  <a:lnTo>
                    <a:pt x="137" y="168"/>
                  </a:lnTo>
                  <a:close/>
                </a:path>
              </a:pathLst>
            </a:custGeom>
            <a:solidFill>
              <a:srgbClr val="00cc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2" name=""/>
            <p:cNvSpPr/>
            <p:nvPr/>
          </p:nvSpPr>
          <p:spPr>
            <a:xfrm>
              <a:off x="8148600" y="3267360"/>
              <a:ext cx="144720" cy="141840"/>
            </a:xfrm>
            <a:custGeom>
              <a:avLst/>
              <a:gdLst/>
              <a:ahLst/>
              <a:rect l="l" t="t" r="r" b="b"/>
              <a:pathLst>
                <a:path w="537" h="529">
                  <a:moveTo>
                    <a:pt x="137" y="168"/>
                  </a:moveTo>
                  <a:lnTo>
                    <a:pt x="194" y="162"/>
                  </a:lnTo>
                  <a:lnTo>
                    <a:pt x="256" y="193"/>
                  </a:lnTo>
                  <a:lnTo>
                    <a:pt x="323" y="292"/>
                  </a:lnTo>
                  <a:lnTo>
                    <a:pt x="275" y="374"/>
                  </a:lnTo>
                  <a:lnTo>
                    <a:pt x="219" y="380"/>
                  </a:lnTo>
                  <a:lnTo>
                    <a:pt x="205" y="405"/>
                  </a:lnTo>
                  <a:lnTo>
                    <a:pt x="230" y="436"/>
                  </a:lnTo>
                  <a:lnTo>
                    <a:pt x="275" y="418"/>
                  </a:lnTo>
                  <a:lnTo>
                    <a:pt x="298" y="418"/>
                  </a:lnTo>
                  <a:lnTo>
                    <a:pt x="387" y="506"/>
                  </a:lnTo>
                  <a:lnTo>
                    <a:pt x="450" y="529"/>
                  </a:lnTo>
                  <a:lnTo>
                    <a:pt x="475" y="523"/>
                  </a:lnTo>
                  <a:lnTo>
                    <a:pt x="467" y="492"/>
                  </a:lnTo>
                  <a:lnTo>
                    <a:pt x="436" y="486"/>
                  </a:lnTo>
                  <a:lnTo>
                    <a:pt x="418" y="455"/>
                  </a:lnTo>
                  <a:lnTo>
                    <a:pt x="450" y="455"/>
                  </a:lnTo>
                  <a:lnTo>
                    <a:pt x="467" y="492"/>
                  </a:lnTo>
                  <a:lnTo>
                    <a:pt x="517" y="481"/>
                  </a:lnTo>
                  <a:lnTo>
                    <a:pt x="506" y="442"/>
                  </a:lnTo>
                  <a:lnTo>
                    <a:pt x="475" y="399"/>
                  </a:lnTo>
                  <a:lnTo>
                    <a:pt x="424" y="380"/>
                  </a:lnTo>
                  <a:lnTo>
                    <a:pt x="405" y="343"/>
                  </a:lnTo>
                  <a:lnTo>
                    <a:pt x="418" y="337"/>
                  </a:lnTo>
                  <a:lnTo>
                    <a:pt x="517" y="380"/>
                  </a:lnTo>
                  <a:lnTo>
                    <a:pt x="537" y="362"/>
                  </a:lnTo>
                  <a:lnTo>
                    <a:pt x="537" y="343"/>
                  </a:lnTo>
                  <a:lnTo>
                    <a:pt x="529" y="312"/>
                  </a:lnTo>
                  <a:lnTo>
                    <a:pt x="436" y="275"/>
                  </a:lnTo>
                  <a:lnTo>
                    <a:pt x="405" y="244"/>
                  </a:lnTo>
                  <a:lnTo>
                    <a:pt x="374" y="225"/>
                  </a:lnTo>
                  <a:lnTo>
                    <a:pt x="368" y="207"/>
                  </a:lnTo>
                  <a:lnTo>
                    <a:pt x="368" y="174"/>
                  </a:lnTo>
                  <a:lnTo>
                    <a:pt x="261" y="95"/>
                  </a:lnTo>
                  <a:lnTo>
                    <a:pt x="230" y="56"/>
                  </a:lnTo>
                  <a:lnTo>
                    <a:pt x="168" y="81"/>
                  </a:lnTo>
                  <a:lnTo>
                    <a:pt x="143" y="50"/>
                  </a:lnTo>
                  <a:lnTo>
                    <a:pt x="137" y="25"/>
                  </a:lnTo>
                  <a:lnTo>
                    <a:pt x="100" y="19"/>
                  </a:lnTo>
                  <a:lnTo>
                    <a:pt x="87" y="19"/>
                  </a:lnTo>
                  <a:lnTo>
                    <a:pt x="81" y="64"/>
                  </a:lnTo>
                  <a:lnTo>
                    <a:pt x="62" y="81"/>
                  </a:lnTo>
                  <a:lnTo>
                    <a:pt x="50" y="81"/>
                  </a:lnTo>
                  <a:lnTo>
                    <a:pt x="44" y="50"/>
                  </a:lnTo>
                  <a:lnTo>
                    <a:pt x="56" y="19"/>
                  </a:lnTo>
                  <a:lnTo>
                    <a:pt x="38" y="0"/>
                  </a:lnTo>
                  <a:lnTo>
                    <a:pt x="0" y="31"/>
                  </a:lnTo>
                  <a:lnTo>
                    <a:pt x="0" y="64"/>
                  </a:lnTo>
                  <a:lnTo>
                    <a:pt x="44" y="157"/>
                  </a:lnTo>
                  <a:lnTo>
                    <a:pt x="93" y="151"/>
                  </a:lnTo>
                  <a:lnTo>
                    <a:pt x="137" y="168"/>
                  </a:lnTo>
                  <a:lnTo>
                    <a:pt x="137" y="16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812000" y="3446280"/>
              <a:ext cx="12600" cy="31680"/>
            </a:xfrm>
            <a:custGeom>
              <a:avLst/>
              <a:gdLst/>
              <a:ahLst/>
              <a:rect l="l" t="t" r="r" b="b"/>
              <a:pathLst>
                <a:path w="48" h="118">
                  <a:moveTo>
                    <a:pt x="29" y="13"/>
                  </a:moveTo>
                  <a:lnTo>
                    <a:pt x="37" y="31"/>
                  </a:lnTo>
                  <a:lnTo>
                    <a:pt x="48" y="75"/>
                  </a:lnTo>
                  <a:lnTo>
                    <a:pt x="42" y="106"/>
                  </a:lnTo>
                  <a:lnTo>
                    <a:pt x="31" y="118"/>
                  </a:lnTo>
                  <a:lnTo>
                    <a:pt x="0" y="25"/>
                  </a:lnTo>
                  <a:lnTo>
                    <a:pt x="11" y="0"/>
                  </a:lnTo>
                  <a:lnTo>
                    <a:pt x="31" y="13"/>
                  </a:lnTo>
                  <a:lnTo>
                    <a:pt x="31" y="13"/>
                  </a:lnTo>
                  <a:lnTo>
                    <a:pt x="29" y="13"/>
                  </a:lnTo>
                  <a:close/>
                </a:path>
              </a:pathLst>
            </a:custGeom>
            <a:solidFill>
              <a:srgbClr val="83ff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 name=""/>
            <p:cNvSpPr/>
            <p:nvPr/>
          </p:nvSpPr>
          <p:spPr>
            <a:xfrm>
              <a:off x="7812000" y="3446280"/>
              <a:ext cx="12600" cy="31680"/>
            </a:xfrm>
            <a:custGeom>
              <a:avLst/>
              <a:gdLst/>
              <a:ahLst/>
              <a:rect l="l" t="t" r="r" b="b"/>
              <a:pathLst>
                <a:path w="48" h="118">
                  <a:moveTo>
                    <a:pt x="29" y="13"/>
                  </a:moveTo>
                  <a:lnTo>
                    <a:pt x="37" y="31"/>
                  </a:lnTo>
                  <a:lnTo>
                    <a:pt x="48" y="75"/>
                  </a:lnTo>
                  <a:lnTo>
                    <a:pt x="42" y="106"/>
                  </a:lnTo>
                  <a:lnTo>
                    <a:pt x="31" y="118"/>
                  </a:lnTo>
                  <a:lnTo>
                    <a:pt x="0" y="25"/>
                  </a:lnTo>
                  <a:lnTo>
                    <a:pt x="11" y="0"/>
                  </a:lnTo>
                  <a:lnTo>
                    <a:pt x="31" y="13"/>
                  </a:lnTo>
                  <a:lnTo>
                    <a:pt x="31" y="13"/>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 name=""/>
            <p:cNvSpPr/>
            <p:nvPr/>
          </p:nvSpPr>
          <p:spPr>
            <a:xfrm>
              <a:off x="8123760" y="3929040"/>
              <a:ext cx="130680" cy="41760"/>
            </a:xfrm>
            <a:custGeom>
              <a:avLst/>
              <a:gdLst/>
              <a:ahLst/>
              <a:rect l="l" t="t" r="r" b="b"/>
              <a:pathLst>
                <a:path w="487" h="157">
                  <a:moveTo>
                    <a:pt x="231" y="31"/>
                  </a:moveTo>
                  <a:lnTo>
                    <a:pt x="268" y="50"/>
                  </a:lnTo>
                  <a:lnTo>
                    <a:pt x="355" y="81"/>
                  </a:lnTo>
                  <a:lnTo>
                    <a:pt x="406" y="81"/>
                  </a:lnTo>
                  <a:lnTo>
                    <a:pt x="456" y="112"/>
                  </a:lnTo>
                  <a:lnTo>
                    <a:pt x="487" y="126"/>
                  </a:lnTo>
                  <a:lnTo>
                    <a:pt x="487" y="143"/>
                  </a:lnTo>
                  <a:lnTo>
                    <a:pt x="386" y="157"/>
                  </a:lnTo>
                  <a:lnTo>
                    <a:pt x="330" y="157"/>
                  </a:lnTo>
                  <a:lnTo>
                    <a:pt x="350" y="143"/>
                  </a:lnTo>
                  <a:lnTo>
                    <a:pt x="338" y="112"/>
                  </a:lnTo>
                  <a:lnTo>
                    <a:pt x="218" y="81"/>
                  </a:lnTo>
                  <a:lnTo>
                    <a:pt x="150" y="50"/>
                  </a:lnTo>
                  <a:lnTo>
                    <a:pt x="70" y="50"/>
                  </a:lnTo>
                  <a:lnTo>
                    <a:pt x="20" y="62"/>
                  </a:lnTo>
                  <a:lnTo>
                    <a:pt x="0" y="62"/>
                  </a:lnTo>
                  <a:lnTo>
                    <a:pt x="0" y="50"/>
                  </a:lnTo>
                  <a:lnTo>
                    <a:pt x="57" y="19"/>
                  </a:lnTo>
                  <a:lnTo>
                    <a:pt x="70" y="19"/>
                  </a:lnTo>
                  <a:lnTo>
                    <a:pt x="113" y="0"/>
                  </a:lnTo>
                  <a:lnTo>
                    <a:pt x="187" y="19"/>
                  </a:lnTo>
                  <a:lnTo>
                    <a:pt x="231" y="31"/>
                  </a:lnTo>
                  <a:lnTo>
                    <a:pt x="231" y="31"/>
                  </a:lnTo>
                  <a:lnTo>
                    <a:pt x="231" y="31"/>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6" name=""/>
            <p:cNvSpPr/>
            <p:nvPr/>
          </p:nvSpPr>
          <p:spPr>
            <a:xfrm>
              <a:off x="8123760" y="3929040"/>
              <a:ext cx="130680" cy="41760"/>
            </a:xfrm>
            <a:custGeom>
              <a:avLst/>
              <a:gdLst/>
              <a:ahLst/>
              <a:rect l="l" t="t" r="r" b="b"/>
              <a:pathLst>
                <a:path w="487" h="157">
                  <a:moveTo>
                    <a:pt x="231" y="31"/>
                  </a:moveTo>
                  <a:lnTo>
                    <a:pt x="268" y="50"/>
                  </a:lnTo>
                  <a:lnTo>
                    <a:pt x="355" y="81"/>
                  </a:lnTo>
                  <a:lnTo>
                    <a:pt x="406" y="81"/>
                  </a:lnTo>
                  <a:lnTo>
                    <a:pt x="456" y="112"/>
                  </a:lnTo>
                  <a:lnTo>
                    <a:pt x="487" y="126"/>
                  </a:lnTo>
                  <a:lnTo>
                    <a:pt x="487" y="143"/>
                  </a:lnTo>
                  <a:lnTo>
                    <a:pt x="386" y="157"/>
                  </a:lnTo>
                  <a:lnTo>
                    <a:pt x="330" y="157"/>
                  </a:lnTo>
                  <a:lnTo>
                    <a:pt x="350" y="143"/>
                  </a:lnTo>
                  <a:lnTo>
                    <a:pt x="338" y="112"/>
                  </a:lnTo>
                  <a:lnTo>
                    <a:pt x="218" y="81"/>
                  </a:lnTo>
                  <a:lnTo>
                    <a:pt x="150" y="50"/>
                  </a:lnTo>
                  <a:lnTo>
                    <a:pt x="70" y="50"/>
                  </a:lnTo>
                  <a:lnTo>
                    <a:pt x="20" y="62"/>
                  </a:lnTo>
                  <a:lnTo>
                    <a:pt x="0" y="62"/>
                  </a:lnTo>
                  <a:lnTo>
                    <a:pt x="0" y="50"/>
                  </a:lnTo>
                  <a:lnTo>
                    <a:pt x="57" y="19"/>
                  </a:lnTo>
                  <a:lnTo>
                    <a:pt x="70" y="19"/>
                  </a:lnTo>
                  <a:lnTo>
                    <a:pt x="113" y="0"/>
                  </a:lnTo>
                  <a:lnTo>
                    <a:pt x="187" y="19"/>
                  </a:lnTo>
                  <a:lnTo>
                    <a:pt x="231" y="31"/>
                  </a:lnTo>
                  <a:lnTo>
                    <a:pt x="231" y="31"/>
                  </a:lnTo>
                </a:path>
              </a:pathLst>
            </a:custGeom>
            <a:solidFill>
              <a:srgbClr val="00cc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7" name=""/>
            <p:cNvSpPr/>
            <p:nvPr/>
          </p:nvSpPr>
          <p:spPr>
            <a:xfrm>
              <a:off x="8267400" y="3962880"/>
              <a:ext cx="62280" cy="29520"/>
            </a:xfrm>
            <a:custGeom>
              <a:avLst/>
              <a:gdLst/>
              <a:ahLst/>
              <a:rect l="l" t="t" r="r" b="b"/>
              <a:pathLst>
                <a:path w="231" h="110">
                  <a:moveTo>
                    <a:pt x="0" y="17"/>
                  </a:moveTo>
                  <a:lnTo>
                    <a:pt x="8" y="31"/>
                  </a:lnTo>
                  <a:lnTo>
                    <a:pt x="44" y="48"/>
                  </a:lnTo>
                  <a:lnTo>
                    <a:pt x="44" y="79"/>
                  </a:lnTo>
                  <a:lnTo>
                    <a:pt x="8" y="79"/>
                  </a:lnTo>
                  <a:lnTo>
                    <a:pt x="87" y="79"/>
                  </a:lnTo>
                  <a:lnTo>
                    <a:pt x="126" y="110"/>
                  </a:lnTo>
                  <a:lnTo>
                    <a:pt x="168" y="79"/>
                  </a:lnTo>
                  <a:lnTo>
                    <a:pt x="231" y="79"/>
                  </a:lnTo>
                  <a:lnTo>
                    <a:pt x="168" y="48"/>
                  </a:lnTo>
                  <a:lnTo>
                    <a:pt x="137" y="17"/>
                  </a:lnTo>
                  <a:lnTo>
                    <a:pt x="75" y="0"/>
                  </a:lnTo>
                  <a:lnTo>
                    <a:pt x="64" y="17"/>
                  </a:lnTo>
                  <a:lnTo>
                    <a:pt x="0" y="17"/>
                  </a:lnTo>
                  <a:lnTo>
                    <a:pt x="0" y="17"/>
                  </a:lnTo>
                  <a:lnTo>
                    <a:pt x="0" y="17"/>
                  </a:lnTo>
                  <a:close/>
                </a:path>
              </a:pathLst>
            </a:custGeom>
            <a:solidFill>
              <a:srgbClr val="00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8" name=""/>
            <p:cNvSpPr/>
            <p:nvPr/>
          </p:nvSpPr>
          <p:spPr>
            <a:xfrm>
              <a:off x="8267400" y="3962880"/>
              <a:ext cx="62280" cy="29520"/>
            </a:xfrm>
            <a:custGeom>
              <a:avLst/>
              <a:gdLst/>
              <a:ahLst/>
              <a:rect l="l" t="t" r="r" b="b"/>
              <a:pathLst>
                <a:path w="231" h="110">
                  <a:moveTo>
                    <a:pt x="0" y="17"/>
                  </a:moveTo>
                  <a:lnTo>
                    <a:pt x="8" y="31"/>
                  </a:lnTo>
                  <a:lnTo>
                    <a:pt x="44" y="48"/>
                  </a:lnTo>
                  <a:lnTo>
                    <a:pt x="44" y="79"/>
                  </a:lnTo>
                  <a:lnTo>
                    <a:pt x="8" y="79"/>
                  </a:lnTo>
                  <a:lnTo>
                    <a:pt x="87" y="79"/>
                  </a:lnTo>
                  <a:lnTo>
                    <a:pt x="126" y="110"/>
                  </a:lnTo>
                  <a:lnTo>
                    <a:pt x="168" y="79"/>
                  </a:lnTo>
                  <a:lnTo>
                    <a:pt x="231" y="79"/>
                  </a:lnTo>
                  <a:lnTo>
                    <a:pt x="168" y="48"/>
                  </a:lnTo>
                  <a:lnTo>
                    <a:pt x="137" y="17"/>
                  </a:lnTo>
                  <a:lnTo>
                    <a:pt x="75" y="0"/>
                  </a:lnTo>
                  <a:lnTo>
                    <a:pt x="64" y="17"/>
                  </a:lnTo>
                  <a:lnTo>
                    <a:pt x="0" y="17"/>
                  </a:lnTo>
                  <a:lnTo>
                    <a:pt x="0" y="17"/>
                  </a:lnTo>
                </a:path>
              </a:pathLst>
            </a:custGeom>
            <a:solidFill>
              <a:srgbClr val="00cc00"/>
            </a:solidFill>
            <a:ln w="144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9" name=""/>
            <p:cNvSpPr/>
            <p:nvPr/>
          </p:nvSpPr>
          <p:spPr>
            <a:xfrm>
              <a:off x="8357040" y="3975840"/>
              <a:ext cx="12600" cy="8280"/>
            </a:xfrm>
            <a:custGeom>
              <a:avLst/>
              <a:gdLst/>
              <a:ahLst/>
              <a:rect l="l" t="t" r="r" b="b"/>
              <a:pathLst>
                <a:path w="49" h="31">
                  <a:moveTo>
                    <a:pt x="18" y="14"/>
                  </a:moveTo>
                  <a:lnTo>
                    <a:pt x="37" y="0"/>
                  </a:lnTo>
                  <a:lnTo>
                    <a:pt x="49" y="31"/>
                  </a:lnTo>
                  <a:lnTo>
                    <a:pt x="18" y="31"/>
                  </a:lnTo>
                  <a:lnTo>
                    <a:pt x="0" y="14"/>
                  </a:lnTo>
                  <a:lnTo>
                    <a:pt x="18" y="14"/>
                  </a:lnTo>
                  <a:lnTo>
                    <a:pt x="18" y="14"/>
                  </a:lnTo>
                  <a:lnTo>
                    <a:pt x="18" y="14"/>
                  </a:lnTo>
                  <a:close/>
                </a:path>
              </a:pathLst>
            </a:custGeom>
            <a:solidFill>
              <a:srgbClr val="00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0" name=""/>
            <p:cNvSpPr/>
            <p:nvPr/>
          </p:nvSpPr>
          <p:spPr>
            <a:xfrm>
              <a:off x="8357040" y="3975840"/>
              <a:ext cx="12600" cy="8280"/>
            </a:xfrm>
            <a:custGeom>
              <a:avLst/>
              <a:gdLst/>
              <a:ahLst/>
              <a:rect l="l" t="t" r="r" b="b"/>
              <a:pathLst>
                <a:path w="49" h="31">
                  <a:moveTo>
                    <a:pt x="18" y="14"/>
                  </a:moveTo>
                  <a:lnTo>
                    <a:pt x="37" y="0"/>
                  </a:lnTo>
                  <a:lnTo>
                    <a:pt x="49" y="31"/>
                  </a:lnTo>
                  <a:lnTo>
                    <a:pt x="18" y="31"/>
                  </a:lnTo>
                  <a:lnTo>
                    <a:pt x="0" y="14"/>
                  </a:lnTo>
                  <a:lnTo>
                    <a:pt x="18" y="14"/>
                  </a:lnTo>
                  <a:lnTo>
                    <a:pt x="18" y="14"/>
                  </a:lnTo>
                </a:path>
              </a:pathLst>
            </a:custGeom>
            <a:solidFill>
              <a:srgbClr val="00cc00"/>
            </a:solidFill>
            <a:ln w="1440">
              <a:solidFill>
                <a:srgbClr val="000000"/>
              </a:solidFill>
              <a:round/>
            </a:ln>
          </p:spPr>
          <p:style>
            <a:lnRef idx="0"/>
            <a:fillRef idx="0"/>
            <a:effectRef idx="0"/>
            <a:fontRef idx="minor"/>
          </p:style>
          <p:txBody>
            <a:bodyPr tIns="-37440" bIns="-37440" anchor="t">
              <a:noAutofit/>
            </a:bodyPr>
            <a:p>
              <a:endParaRPr b="0" lang="en-US" sz="2400" spc="-1" strike="noStrike">
                <a:solidFill>
                  <a:srgbClr val="000000"/>
                </a:solidFill>
                <a:latin typeface="Times New Roman"/>
              </a:endParaRPr>
            </a:p>
          </p:txBody>
        </p:sp>
        <p:sp>
          <p:nvSpPr>
            <p:cNvPr id="291" name=""/>
            <p:cNvSpPr/>
            <p:nvPr/>
          </p:nvSpPr>
          <p:spPr>
            <a:xfrm>
              <a:off x="8073720" y="3585600"/>
              <a:ext cx="131760" cy="94680"/>
            </a:xfrm>
            <a:custGeom>
              <a:avLst/>
              <a:gdLst/>
              <a:ahLst/>
              <a:rect l="l" t="t" r="r" b="b"/>
              <a:pathLst>
                <a:path w="491" h="355">
                  <a:moveTo>
                    <a:pt x="231" y="31"/>
                  </a:moveTo>
                  <a:lnTo>
                    <a:pt x="218" y="5"/>
                  </a:lnTo>
                  <a:lnTo>
                    <a:pt x="130" y="0"/>
                  </a:lnTo>
                  <a:lnTo>
                    <a:pt x="93" y="11"/>
                  </a:lnTo>
                  <a:lnTo>
                    <a:pt x="74" y="36"/>
                  </a:lnTo>
                  <a:lnTo>
                    <a:pt x="0" y="73"/>
                  </a:lnTo>
                  <a:lnTo>
                    <a:pt x="0" y="87"/>
                  </a:lnTo>
                  <a:lnTo>
                    <a:pt x="93" y="118"/>
                  </a:lnTo>
                  <a:lnTo>
                    <a:pt x="119" y="99"/>
                  </a:lnTo>
                  <a:lnTo>
                    <a:pt x="186" y="135"/>
                  </a:lnTo>
                  <a:lnTo>
                    <a:pt x="130" y="180"/>
                  </a:lnTo>
                  <a:lnTo>
                    <a:pt x="119" y="211"/>
                  </a:lnTo>
                  <a:lnTo>
                    <a:pt x="124" y="230"/>
                  </a:lnTo>
                  <a:lnTo>
                    <a:pt x="113" y="298"/>
                  </a:lnTo>
                  <a:lnTo>
                    <a:pt x="124" y="355"/>
                  </a:lnTo>
                  <a:lnTo>
                    <a:pt x="169" y="355"/>
                  </a:lnTo>
                  <a:lnTo>
                    <a:pt x="200" y="335"/>
                  </a:lnTo>
                  <a:lnTo>
                    <a:pt x="206" y="318"/>
                  </a:lnTo>
                  <a:lnTo>
                    <a:pt x="206" y="273"/>
                  </a:lnTo>
                  <a:lnTo>
                    <a:pt x="200" y="254"/>
                  </a:lnTo>
                  <a:lnTo>
                    <a:pt x="206" y="223"/>
                  </a:lnTo>
                  <a:lnTo>
                    <a:pt x="237" y="186"/>
                  </a:lnTo>
                  <a:lnTo>
                    <a:pt x="256" y="192"/>
                  </a:lnTo>
                  <a:lnTo>
                    <a:pt x="268" y="223"/>
                  </a:lnTo>
                  <a:lnTo>
                    <a:pt x="268" y="254"/>
                  </a:lnTo>
                  <a:lnTo>
                    <a:pt x="299" y="261"/>
                  </a:lnTo>
                  <a:lnTo>
                    <a:pt x="324" y="298"/>
                  </a:lnTo>
                  <a:lnTo>
                    <a:pt x="342" y="298"/>
                  </a:lnTo>
                  <a:lnTo>
                    <a:pt x="367" y="261"/>
                  </a:lnTo>
                  <a:lnTo>
                    <a:pt x="380" y="217"/>
                  </a:lnTo>
                  <a:lnTo>
                    <a:pt x="404" y="230"/>
                  </a:lnTo>
                  <a:lnTo>
                    <a:pt x="417" y="230"/>
                  </a:lnTo>
                  <a:lnTo>
                    <a:pt x="479" y="180"/>
                  </a:lnTo>
                  <a:lnTo>
                    <a:pt x="485" y="166"/>
                  </a:lnTo>
                  <a:lnTo>
                    <a:pt x="491" y="149"/>
                  </a:lnTo>
                  <a:lnTo>
                    <a:pt x="485" y="130"/>
                  </a:lnTo>
                  <a:lnTo>
                    <a:pt x="479" y="143"/>
                  </a:lnTo>
                  <a:lnTo>
                    <a:pt x="448" y="149"/>
                  </a:lnTo>
                  <a:lnTo>
                    <a:pt x="435" y="161"/>
                  </a:lnTo>
                  <a:lnTo>
                    <a:pt x="404" y="143"/>
                  </a:lnTo>
                  <a:lnTo>
                    <a:pt x="355" y="143"/>
                  </a:lnTo>
                  <a:lnTo>
                    <a:pt x="299" y="124"/>
                  </a:lnTo>
                  <a:lnTo>
                    <a:pt x="280" y="104"/>
                  </a:lnTo>
                  <a:lnTo>
                    <a:pt x="280" y="87"/>
                  </a:lnTo>
                  <a:lnTo>
                    <a:pt x="342" y="87"/>
                  </a:lnTo>
                  <a:lnTo>
                    <a:pt x="355" y="73"/>
                  </a:lnTo>
                  <a:lnTo>
                    <a:pt x="330" y="48"/>
                  </a:lnTo>
                  <a:lnTo>
                    <a:pt x="280" y="23"/>
                  </a:lnTo>
                  <a:lnTo>
                    <a:pt x="280" y="56"/>
                  </a:lnTo>
                  <a:lnTo>
                    <a:pt x="231" y="31"/>
                  </a:lnTo>
                  <a:lnTo>
                    <a:pt x="231" y="31"/>
                  </a:lnTo>
                  <a:close/>
                </a:path>
              </a:pathLst>
            </a:custGeom>
            <a:solidFill>
              <a:srgbClr val="c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073720" y="3585600"/>
              <a:ext cx="131760" cy="94680"/>
            </a:xfrm>
            <a:custGeom>
              <a:avLst/>
              <a:gdLst/>
              <a:ahLst/>
              <a:rect l="l" t="t" r="r" b="b"/>
              <a:pathLst>
                <a:path w="491" h="355">
                  <a:moveTo>
                    <a:pt x="231" y="31"/>
                  </a:moveTo>
                  <a:lnTo>
                    <a:pt x="218" y="5"/>
                  </a:lnTo>
                  <a:lnTo>
                    <a:pt x="130" y="0"/>
                  </a:lnTo>
                  <a:lnTo>
                    <a:pt x="93" y="11"/>
                  </a:lnTo>
                  <a:lnTo>
                    <a:pt x="74" y="36"/>
                  </a:lnTo>
                  <a:lnTo>
                    <a:pt x="0" y="73"/>
                  </a:lnTo>
                  <a:lnTo>
                    <a:pt x="0" y="87"/>
                  </a:lnTo>
                  <a:lnTo>
                    <a:pt x="93" y="118"/>
                  </a:lnTo>
                  <a:lnTo>
                    <a:pt x="119" y="99"/>
                  </a:lnTo>
                  <a:lnTo>
                    <a:pt x="186" y="135"/>
                  </a:lnTo>
                  <a:lnTo>
                    <a:pt x="130" y="180"/>
                  </a:lnTo>
                  <a:lnTo>
                    <a:pt x="119" y="211"/>
                  </a:lnTo>
                  <a:lnTo>
                    <a:pt x="124" y="230"/>
                  </a:lnTo>
                  <a:lnTo>
                    <a:pt x="113" y="298"/>
                  </a:lnTo>
                  <a:lnTo>
                    <a:pt x="124" y="355"/>
                  </a:lnTo>
                  <a:lnTo>
                    <a:pt x="169" y="355"/>
                  </a:lnTo>
                  <a:lnTo>
                    <a:pt x="200" y="335"/>
                  </a:lnTo>
                  <a:lnTo>
                    <a:pt x="206" y="318"/>
                  </a:lnTo>
                  <a:lnTo>
                    <a:pt x="206" y="273"/>
                  </a:lnTo>
                  <a:lnTo>
                    <a:pt x="200" y="254"/>
                  </a:lnTo>
                  <a:lnTo>
                    <a:pt x="206" y="223"/>
                  </a:lnTo>
                  <a:lnTo>
                    <a:pt x="237" y="186"/>
                  </a:lnTo>
                  <a:lnTo>
                    <a:pt x="256" y="192"/>
                  </a:lnTo>
                  <a:lnTo>
                    <a:pt x="268" y="223"/>
                  </a:lnTo>
                  <a:lnTo>
                    <a:pt x="268" y="254"/>
                  </a:lnTo>
                  <a:lnTo>
                    <a:pt x="299" y="261"/>
                  </a:lnTo>
                  <a:lnTo>
                    <a:pt x="324" y="298"/>
                  </a:lnTo>
                  <a:lnTo>
                    <a:pt x="342" y="298"/>
                  </a:lnTo>
                  <a:lnTo>
                    <a:pt x="367" y="261"/>
                  </a:lnTo>
                  <a:lnTo>
                    <a:pt x="380" y="217"/>
                  </a:lnTo>
                  <a:lnTo>
                    <a:pt x="404" y="230"/>
                  </a:lnTo>
                  <a:lnTo>
                    <a:pt x="417" y="230"/>
                  </a:lnTo>
                  <a:lnTo>
                    <a:pt x="479" y="180"/>
                  </a:lnTo>
                  <a:lnTo>
                    <a:pt x="485" y="166"/>
                  </a:lnTo>
                  <a:lnTo>
                    <a:pt x="491" y="149"/>
                  </a:lnTo>
                  <a:lnTo>
                    <a:pt x="485" y="130"/>
                  </a:lnTo>
                  <a:lnTo>
                    <a:pt x="479" y="143"/>
                  </a:lnTo>
                  <a:lnTo>
                    <a:pt x="448" y="149"/>
                  </a:lnTo>
                  <a:lnTo>
                    <a:pt x="435" y="161"/>
                  </a:lnTo>
                  <a:lnTo>
                    <a:pt x="404" y="143"/>
                  </a:lnTo>
                  <a:lnTo>
                    <a:pt x="355" y="143"/>
                  </a:lnTo>
                  <a:lnTo>
                    <a:pt x="299" y="124"/>
                  </a:lnTo>
                  <a:lnTo>
                    <a:pt x="280" y="104"/>
                  </a:lnTo>
                  <a:lnTo>
                    <a:pt x="280" y="87"/>
                  </a:lnTo>
                  <a:lnTo>
                    <a:pt x="342" y="87"/>
                  </a:lnTo>
                  <a:lnTo>
                    <a:pt x="355" y="73"/>
                  </a:lnTo>
                  <a:lnTo>
                    <a:pt x="330" y="48"/>
                  </a:lnTo>
                  <a:lnTo>
                    <a:pt x="280" y="23"/>
                  </a:lnTo>
                  <a:lnTo>
                    <a:pt x="280" y="56"/>
                  </a:lnTo>
                  <a:lnTo>
                    <a:pt x="231" y="31"/>
                  </a:lnTo>
                  <a:lnTo>
                    <a:pt x="231" y="3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8145360" y="3645000"/>
              <a:ext cx="95760" cy="47160"/>
            </a:xfrm>
            <a:custGeom>
              <a:avLst/>
              <a:gdLst/>
              <a:ahLst/>
              <a:rect l="l" t="t" r="r" b="b"/>
              <a:pathLst>
                <a:path w="355" h="174">
                  <a:moveTo>
                    <a:pt x="118" y="100"/>
                  </a:moveTo>
                  <a:lnTo>
                    <a:pt x="74" y="100"/>
                  </a:lnTo>
                  <a:lnTo>
                    <a:pt x="62" y="75"/>
                  </a:lnTo>
                  <a:lnTo>
                    <a:pt x="0" y="126"/>
                  </a:lnTo>
                  <a:lnTo>
                    <a:pt x="6" y="143"/>
                  </a:lnTo>
                  <a:lnTo>
                    <a:pt x="43" y="163"/>
                  </a:lnTo>
                  <a:lnTo>
                    <a:pt x="136" y="174"/>
                  </a:lnTo>
                  <a:lnTo>
                    <a:pt x="186" y="157"/>
                  </a:lnTo>
                  <a:lnTo>
                    <a:pt x="237" y="157"/>
                  </a:lnTo>
                  <a:lnTo>
                    <a:pt x="242" y="168"/>
                  </a:lnTo>
                  <a:lnTo>
                    <a:pt x="268" y="157"/>
                  </a:lnTo>
                  <a:lnTo>
                    <a:pt x="248" y="126"/>
                  </a:lnTo>
                  <a:lnTo>
                    <a:pt x="217" y="100"/>
                  </a:lnTo>
                  <a:lnTo>
                    <a:pt x="167" y="75"/>
                  </a:lnTo>
                  <a:lnTo>
                    <a:pt x="211" y="87"/>
                  </a:lnTo>
                  <a:lnTo>
                    <a:pt x="231" y="95"/>
                  </a:lnTo>
                  <a:lnTo>
                    <a:pt x="242" y="81"/>
                  </a:lnTo>
                  <a:lnTo>
                    <a:pt x="279" y="81"/>
                  </a:lnTo>
                  <a:lnTo>
                    <a:pt x="293" y="69"/>
                  </a:lnTo>
                  <a:lnTo>
                    <a:pt x="310" y="69"/>
                  </a:lnTo>
                  <a:lnTo>
                    <a:pt x="330" y="81"/>
                  </a:lnTo>
                  <a:lnTo>
                    <a:pt x="355" y="44"/>
                  </a:lnTo>
                  <a:lnTo>
                    <a:pt x="343" y="19"/>
                  </a:lnTo>
                  <a:lnTo>
                    <a:pt x="318" y="0"/>
                  </a:lnTo>
                  <a:lnTo>
                    <a:pt x="242" y="13"/>
                  </a:lnTo>
                  <a:lnTo>
                    <a:pt x="186" y="25"/>
                  </a:lnTo>
                  <a:lnTo>
                    <a:pt x="167" y="50"/>
                  </a:lnTo>
                  <a:lnTo>
                    <a:pt x="167" y="75"/>
                  </a:lnTo>
                  <a:lnTo>
                    <a:pt x="118" y="100"/>
                  </a:lnTo>
                  <a:lnTo>
                    <a:pt x="118" y="100"/>
                  </a:lnTo>
                  <a:lnTo>
                    <a:pt x="118" y="100"/>
                  </a:lnTo>
                  <a:close/>
                </a:path>
              </a:pathLst>
            </a:custGeom>
            <a:solidFill>
              <a:srgbClr val="c5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4" name=""/>
            <p:cNvSpPr/>
            <p:nvPr/>
          </p:nvSpPr>
          <p:spPr>
            <a:xfrm>
              <a:off x="8145360" y="3645000"/>
              <a:ext cx="95760" cy="47160"/>
            </a:xfrm>
            <a:custGeom>
              <a:avLst/>
              <a:gdLst/>
              <a:ahLst/>
              <a:rect l="l" t="t" r="r" b="b"/>
              <a:pathLst>
                <a:path w="355" h="174">
                  <a:moveTo>
                    <a:pt x="118" y="100"/>
                  </a:moveTo>
                  <a:lnTo>
                    <a:pt x="74" y="100"/>
                  </a:lnTo>
                  <a:lnTo>
                    <a:pt x="62" y="75"/>
                  </a:lnTo>
                  <a:lnTo>
                    <a:pt x="0" y="126"/>
                  </a:lnTo>
                  <a:lnTo>
                    <a:pt x="6" y="143"/>
                  </a:lnTo>
                  <a:lnTo>
                    <a:pt x="43" y="163"/>
                  </a:lnTo>
                  <a:lnTo>
                    <a:pt x="136" y="174"/>
                  </a:lnTo>
                  <a:lnTo>
                    <a:pt x="186" y="157"/>
                  </a:lnTo>
                  <a:lnTo>
                    <a:pt x="237" y="157"/>
                  </a:lnTo>
                  <a:lnTo>
                    <a:pt x="242" y="168"/>
                  </a:lnTo>
                  <a:lnTo>
                    <a:pt x="268" y="157"/>
                  </a:lnTo>
                  <a:lnTo>
                    <a:pt x="248" y="126"/>
                  </a:lnTo>
                  <a:lnTo>
                    <a:pt x="217" y="100"/>
                  </a:lnTo>
                  <a:lnTo>
                    <a:pt x="167" y="75"/>
                  </a:lnTo>
                  <a:lnTo>
                    <a:pt x="211" y="87"/>
                  </a:lnTo>
                  <a:lnTo>
                    <a:pt x="231" y="95"/>
                  </a:lnTo>
                  <a:lnTo>
                    <a:pt x="242" y="81"/>
                  </a:lnTo>
                  <a:lnTo>
                    <a:pt x="279" y="81"/>
                  </a:lnTo>
                  <a:lnTo>
                    <a:pt x="293" y="69"/>
                  </a:lnTo>
                  <a:lnTo>
                    <a:pt x="310" y="69"/>
                  </a:lnTo>
                  <a:lnTo>
                    <a:pt x="330" y="81"/>
                  </a:lnTo>
                  <a:lnTo>
                    <a:pt x="355" y="44"/>
                  </a:lnTo>
                  <a:lnTo>
                    <a:pt x="343" y="19"/>
                  </a:lnTo>
                  <a:lnTo>
                    <a:pt x="318" y="0"/>
                  </a:lnTo>
                  <a:lnTo>
                    <a:pt x="242" y="13"/>
                  </a:lnTo>
                  <a:lnTo>
                    <a:pt x="186" y="25"/>
                  </a:lnTo>
                  <a:lnTo>
                    <a:pt x="167" y="50"/>
                  </a:lnTo>
                  <a:lnTo>
                    <a:pt x="167" y="75"/>
                  </a:lnTo>
                  <a:lnTo>
                    <a:pt x="118" y="100"/>
                  </a:lnTo>
                  <a:lnTo>
                    <a:pt x="118" y="10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95" name=""/>
          <p:cNvGrpSpPr/>
          <p:nvPr/>
        </p:nvGrpSpPr>
        <p:grpSpPr>
          <a:xfrm>
            <a:off x="4995720" y="3390840"/>
            <a:ext cx="2400480" cy="582840"/>
            <a:chOff x="4995720" y="3390840"/>
            <a:chExt cx="2400480" cy="582840"/>
          </a:xfrm>
        </p:grpSpPr>
        <p:sp>
          <p:nvSpPr>
            <p:cNvPr id="296" name=""/>
            <p:cNvSpPr/>
            <p:nvPr/>
          </p:nvSpPr>
          <p:spPr>
            <a:xfrm>
              <a:off x="5448240" y="3390840"/>
              <a:ext cx="98100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443560" y="3776760"/>
              <a:ext cx="1143000" cy="1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95720" y="3571920"/>
              <a:ext cx="2400480" cy="19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715680" y="100080"/>
            <a:ext cx="7993080" cy="7169400"/>
            <a:chOff x="715680" y="100080"/>
            <a:chExt cx="7993080" cy="7169400"/>
          </a:xfrm>
        </p:grpSpPr>
        <p:sp>
          <p:nvSpPr>
            <p:cNvPr id="300" name=""/>
            <p:cNvSpPr/>
            <p:nvPr/>
          </p:nvSpPr>
          <p:spPr>
            <a:xfrm rot="19397400">
              <a:off x="2124000" y="2749680"/>
              <a:ext cx="4897440" cy="1817640"/>
            </a:xfrm>
            <a:prstGeom prst="ellipse">
              <a:avLst/>
            </a:prstGeom>
            <a:no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19397400">
              <a:off x="993240" y="1986120"/>
              <a:ext cx="7437600" cy="3396960"/>
            </a:xfrm>
            <a:prstGeom prst="ellipse">
              <a:avLst/>
            </a:prstGeom>
            <a:noFill/>
            <a:ln w="255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271800" y="1294920"/>
            <a:ext cx="8876880" cy="4804920"/>
            <a:chOff x="271800" y="1294920"/>
            <a:chExt cx="8876880" cy="4804920"/>
          </a:xfrm>
        </p:grpSpPr>
        <p:grpSp>
          <p:nvGrpSpPr>
            <p:cNvPr id="303" name=""/>
            <p:cNvGrpSpPr/>
            <p:nvPr/>
          </p:nvGrpSpPr>
          <p:grpSpPr>
            <a:xfrm>
              <a:off x="6156360" y="1294920"/>
              <a:ext cx="2992320" cy="1052280"/>
              <a:chOff x="6156360" y="1294920"/>
              <a:chExt cx="2992320" cy="1052280"/>
            </a:xfrm>
          </p:grpSpPr>
          <p:grpSp>
            <p:nvGrpSpPr>
              <p:cNvPr id="304" name=""/>
              <p:cNvGrpSpPr/>
              <p:nvPr/>
            </p:nvGrpSpPr>
            <p:grpSpPr>
              <a:xfrm>
                <a:off x="6156360" y="1460520"/>
                <a:ext cx="638280" cy="496440"/>
                <a:chOff x="6156360" y="1460520"/>
                <a:chExt cx="638280" cy="496440"/>
              </a:xfrm>
            </p:grpSpPr>
            <p:sp>
              <p:nvSpPr>
                <p:cNvPr id="305" name=""/>
                <p:cNvSpPr/>
                <p:nvPr/>
              </p:nvSpPr>
              <p:spPr>
                <a:xfrm>
                  <a:off x="6169320" y="1552320"/>
                  <a:ext cx="611640" cy="397440"/>
                </a:xfrm>
                <a:prstGeom prst="roundRect">
                  <a:avLst>
                    <a:gd name="adj" fmla="val 700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156360" y="1544760"/>
                  <a:ext cx="638280" cy="412200"/>
                </a:xfrm>
                <a:prstGeom prst="roundRect">
                  <a:avLst>
                    <a:gd name="adj" fmla="val 12495"/>
                  </a:avLst>
                </a:prstGeom>
                <a:solidFill>
                  <a:srgbClr val="b2b2b2"/>
                </a:solidFill>
                <a:ln w="12600">
                  <a:solidFill>
                    <a:srgbClr val="8686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00280" y="1558080"/>
                  <a:ext cx="550080" cy="69480"/>
                </a:xfrm>
                <a:prstGeom prst="roundRect">
                  <a:avLst>
                    <a:gd name="adj" fmla="val 12495"/>
                  </a:avLst>
                </a:prstGeom>
                <a:solidFill>
                  <a:srgbClr val="b2b2b2"/>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nvGrpSpPr>
                <p:cNvPr id="308" name=""/>
                <p:cNvGrpSpPr/>
                <p:nvPr/>
              </p:nvGrpSpPr>
              <p:grpSpPr>
                <a:xfrm>
                  <a:off x="6221160" y="1571760"/>
                  <a:ext cx="102240" cy="38160"/>
                  <a:chOff x="6221160" y="1571760"/>
                  <a:chExt cx="102240" cy="38160"/>
                </a:xfrm>
              </p:grpSpPr>
              <p:sp>
                <p:nvSpPr>
                  <p:cNvPr id="309" name=""/>
                  <p:cNvSpPr/>
                  <p:nvPr/>
                </p:nvSpPr>
                <p:spPr>
                  <a:xfrm>
                    <a:off x="6238440" y="1571760"/>
                    <a:ext cx="67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229440" y="1578600"/>
                    <a:ext cx="85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221160" y="158472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221160" y="159084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21160" y="159696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229440" y="1603080"/>
                    <a:ext cx="85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8440" y="1609920"/>
                    <a:ext cx="67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6741000" y="1460520"/>
                  <a:ext cx="14760" cy="81720"/>
                </a:xfrm>
                <a:prstGeom prst="rect">
                  <a:avLst/>
                </a:prstGeom>
                <a:solidFill>
                  <a:srgbClr val="868686"/>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317" name=""/>
                <p:cNvGrpSpPr/>
                <p:nvPr/>
              </p:nvGrpSpPr>
              <p:grpSpPr>
                <a:xfrm>
                  <a:off x="6458040" y="1939320"/>
                  <a:ext cx="34560" cy="4680"/>
                  <a:chOff x="6458040" y="1939320"/>
                  <a:chExt cx="34560" cy="4680"/>
                </a:xfrm>
              </p:grpSpPr>
              <p:sp>
                <p:nvSpPr>
                  <p:cNvPr id="318" name=""/>
                  <p:cNvSpPr/>
                  <p:nvPr/>
                </p:nvSpPr>
                <p:spPr>
                  <a:xfrm>
                    <a:off x="6458040" y="1939320"/>
                    <a:ext cx="9000" cy="468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9" name=""/>
                  <p:cNvSpPr/>
                  <p:nvPr/>
                </p:nvSpPr>
                <p:spPr>
                  <a:xfrm>
                    <a:off x="6483960" y="1939320"/>
                    <a:ext cx="8640" cy="468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sp>
              <p:nvSpPr>
                <p:cNvPr id="320" name=""/>
                <p:cNvSpPr/>
                <p:nvPr/>
              </p:nvSpPr>
              <p:spPr>
                <a:xfrm>
                  <a:off x="6202440" y="1636920"/>
                  <a:ext cx="545040" cy="232560"/>
                </a:xfrm>
                <a:prstGeom prst="rect">
                  <a:avLst/>
                </a:prstGeom>
                <a:solidFill>
                  <a:srgbClr val="99ff99"/>
                </a:solidFill>
                <a:ln w="12600">
                  <a:solidFill>
                    <a:srgbClr val="8686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6420960" y="1896120"/>
                  <a:ext cx="316080" cy="17640"/>
                  <a:chOff x="6420960" y="1896120"/>
                  <a:chExt cx="316080" cy="17640"/>
                </a:xfrm>
              </p:grpSpPr>
              <p:sp>
                <p:nvSpPr>
                  <p:cNvPr id="322" name=""/>
                  <p:cNvSpPr/>
                  <p:nvPr/>
                </p:nvSpPr>
                <p:spPr>
                  <a:xfrm>
                    <a:off x="642096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3" name=""/>
                  <p:cNvSpPr/>
                  <p:nvPr/>
                </p:nvSpPr>
                <p:spPr>
                  <a:xfrm>
                    <a:off x="647712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4" name=""/>
                  <p:cNvSpPr/>
                  <p:nvPr/>
                </p:nvSpPr>
                <p:spPr>
                  <a:xfrm>
                    <a:off x="653364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5" name=""/>
                  <p:cNvSpPr/>
                  <p:nvPr/>
                </p:nvSpPr>
                <p:spPr>
                  <a:xfrm>
                    <a:off x="659016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6" name=""/>
                  <p:cNvSpPr/>
                  <p:nvPr/>
                </p:nvSpPr>
                <p:spPr>
                  <a:xfrm>
                    <a:off x="664632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7" name=""/>
                  <p:cNvSpPr/>
                  <p:nvPr/>
                </p:nvSpPr>
                <p:spPr>
                  <a:xfrm>
                    <a:off x="670284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sp>
              <p:nvSpPr>
                <p:cNvPr id="328" name=""/>
                <p:cNvSpPr/>
                <p:nvPr/>
              </p:nvSpPr>
              <p:spPr>
                <a:xfrm>
                  <a:off x="6231960" y="1896120"/>
                  <a:ext cx="33120" cy="3852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29" name=""/>
                <p:cNvSpPr/>
                <p:nvPr/>
              </p:nvSpPr>
              <p:spPr>
                <a:xfrm>
                  <a:off x="6288120" y="1896120"/>
                  <a:ext cx="34200" cy="3852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30" name=""/>
              <p:cNvSpPr/>
              <p:nvPr/>
            </p:nvSpPr>
            <p:spPr>
              <a:xfrm>
                <a:off x="6978960" y="1294920"/>
                <a:ext cx="2169720" cy="1052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bile display pa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 Program gui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amp; set security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Theater contr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 News headlines</a:t>
                </a:r>
                <a:endParaRPr b="0" lang="en-US" sz="1200" spc="-1" strike="noStrike">
                  <a:solidFill>
                    <a:srgbClr val="000000"/>
                  </a:solidFill>
                  <a:latin typeface="Times New Roman"/>
                </a:endParaRPr>
              </a:p>
            </p:txBody>
          </p:sp>
        </p:grpSp>
        <p:grpSp>
          <p:nvGrpSpPr>
            <p:cNvPr id="331" name=""/>
            <p:cNvGrpSpPr/>
            <p:nvPr/>
          </p:nvGrpSpPr>
          <p:grpSpPr>
            <a:xfrm>
              <a:off x="271800" y="3965400"/>
              <a:ext cx="1766160" cy="2134440"/>
              <a:chOff x="271800" y="3965400"/>
              <a:chExt cx="1766160" cy="2134440"/>
            </a:xfrm>
          </p:grpSpPr>
          <p:grpSp>
            <p:nvGrpSpPr>
              <p:cNvPr id="332" name=""/>
              <p:cNvGrpSpPr/>
              <p:nvPr/>
            </p:nvGrpSpPr>
            <p:grpSpPr>
              <a:xfrm>
                <a:off x="819000" y="3965400"/>
                <a:ext cx="1218960" cy="879480"/>
                <a:chOff x="819000" y="3965400"/>
                <a:chExt cx="1218960" cy="879480"/>
              </a:xfrm>
            </p:grpSpPr>
            <p:sp>
              <p:nvSpPr>
                <p:cNvPr id="333" name=""/>
                <p:cNvSpPr/>
                <p:nvPr/>
              </p:nvSpPr>
              <p:spPr>
                <a:xfrm>
                  <a:off x="1082520" y="398736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083960" y="3965400"/>
                  <a:ext cx="73080" cy="48960"/>
                </a:xfrm>
                <a:prstGeom prst="roundRect">
                  <a:avLst>
                    <a:gd name="adj" fmla="val 12491"/>
                  </a:avLst>
                </a:prstGeom>
                <a:solidFill>
                  <a:srgbClr val="000000"/>
                </a:solidFill>
                <a:ln w="12600">
                  <a:solidFill>
                    <a:srgbClr val="000000"/>
                  </a:solidFill>
                  <a:miter/>
                </a:ln>
              </p:spPr>
              <p:style>
                <a:lnRef idx="0"/>
                <a:fillRef idx="0"/>
                <a:effectRef idx="0"/>
                <a:fontRef idx="minor"/>
              </p:style>
              <p:txBody>
                <a:bodyPr wrap="none" lIns="90360" rIns="90360" tIns="1080" bIns="1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847440" y="4233600"/>
                  <a:ext cx="1014480" cy="587160"/>
                </a:xfrm>
                <a:prstGeom prst="parallelogram">
                  <a:avLst>
                    <a:gd name="adj" fmla="val 20133"/>
                  </a:avLst>
                </a:prstGeom>
                <a:solidFill>
                  <a:srgbClr val="969696"/>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920520" y="4281120"/>
                  <a:ext cx="863640" cy="453960"/>
                </a:xfrm>
                <a:prstGeom prst="parallelogram">
                  <a:avLst>
                    <a:gd name="adj" fmla="val 20583"/>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112400" y="4255920"/>
                  <a:ext cx="445320" cy="123480"/>
                </a:xfrm>
                <a:prstGeom prst="rect">
                  <a:avLst/>
                </a:prstGeom>
                <a:noFill/>
                <a:ln w="0">
                  <a:noFill/>
                </a:ln>
              </p:spPr>
              <p:style>
                <a:lnRef idx="0"/>
                <a:fillRef idx="0"/>
                <a:effectRef idx="0"/>
                <a:fontRef idx="minor"/>
              </p:style>
              <p:txBody>
                <a:bodyPr wrap="none" lIns="34920" rIns="34920" tIns="15840" bIns="15840" anchor="t">
                  <a:spAutoFit/>
                </a:bodyPr>
                <a:p>
                  <a:pP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600" spc="-1" strike="noStrike">
                      <a:solidFill>
                        <a:srgbClr val="000000"/>
                      </a:solidFill>
                      <a:latin typeface="Arial"/>
                    </a:rPr>
                    <a:t>Grandma’s</a:t>
                  </a:r>
                  <a:endParaRPr b="0" lang="en-US" sz="600" spc="-1" strike="noStrike">
                    <a:solidFill>
                      <a:srgbClr val="000000"/>
                    </a:solidFill>
                    <a:latin typeface="Times New Roman"/>
                  </a:endParaRPr>
                </a:p>
              </p:txBody>
            </p:sp>
            <p:sp>
              <p:nvSpPr>
                <p:cNvPr id="338" name=""/>
                <p:cNvSpPr/>
                <p:nvPr/>
              </p:nvSpPr>
              <p:spPr>
                <a:xfrm>
                  <a:off x="1009440" y="4349520"/>
                  <a:ext cx="797040" cy="329760"/>
                </a:xfrm>
                <a:prstGeom prst="rect">
                  <a:avLst/>
                </a:prstGeom>
                <a:noFill/>
                <a:ln w="0">
                  <a:noFill/>
                </a:ln>
              </p:spPr>
              <p:style>
                <a:lnRef idx="0"/>
                <a:fillRef idx="0"/>
                <a:effectRef idx="0"/>
                <a:fontRef idx="minor"/>
              </p:style>
              <p:txBody>
                <a:bodyPr lIns="34920" rIns="34920" tIns="15840" bIns="15840" anchor="t">
                  <a:spAutoFit/>
                </a:bodyPr>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3 cups  flou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cup grated chocolate</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cup suga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stick butte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2 cup chopped walnuts</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minutes.</a:t>
                  </a:r>
                  <a:endParaRPr b="0" lang="en-US" sz="300" spc="-1" strike="noStrike">
                    <a:solidFill>
                      <a:srgbClr val="000000"/>
                    </a:solidFill>
                    <a:latin typeface="Times New Roman"/>
                  </a:endParaRPr>
                </a:p>
              </p:txBody>
            </p:sp>
            <p:sp>
              <p:nvSpPr>
                <p:cNvPr id="339" name=""/>
                <p:cNvSpPr/>
                <p:nvPr/>
              </p:nvSpPr>
              <p:spPr>
                <a:xfrm>
                  <a:off x="1263240" y="4771800"/>
                  <a:ext cx="68400" cy="28440"/>
                </a:xfrm>
                <a:prstGeom prst="ellipse">
                  <a:avLst/>
                </a:prstGeom>
                <a:solidFill>
                  <a:srgbClr val="676767"/>
                </a:solidFill>
                <a:ln w="12600">
                  <a:solidFill>
                    <a:srgbClr val="676767"/>
                  </a:solidFill>
                  <a:miter/>
                </a:ln>
              </p:spPr>
              <p:style>
                <a:lnRef idx="0"/>
                <a:fillRef idx="0"/>
                <a:effectRef idx="0"/>
                <a:fontRef idx="minor"/>
              </p:style>
              <p:txBody>
                <a:bodyPr wrap="none" lIns="90360" rIns="90360" tIns="-23760" bIns="-237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734840" y="47318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41" name=""/>
                <p:cNvSpPr/>
                <p:nvPr/>
              </p:nvSpPr>
              <p:spPr>
                <a:xfrm>
                  <a:off x="1750680" y="47318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42" name=""/>
                <p:cNvSpPr/>
                <p:nvPr/>
              </p:nvSpPr>
              <p:spPr>
                <a:xfrm>
                  <a:off x="1349280" y="4698720"/>
                  <a:ext cx="142560" cy="57240"/>
                </a:xfrm>
                <a:prstGeom prst="rect">
                  <a:avLst/>
                </a:prstGeom>
                <a:solidFill>
                  <a:srgbClr val="969696"/>
                </a:solidFill>
                <a:ln w="0">
                  <a:noFill/>
                </a:ln>
              </p:spPr>
              <p:style>
                <a:lnRef idx="0"/>
                <a:fillRef idx="0"/>
                <a:effectRef idx="0"/>
                <a:fontRef idx="minor"/>
              </p:style>
              <p:txBody>
                <a:bodyPr wrap="none" lIns="34920" rIns="34920" tIns="15840" bIns="15840" anchor="ctr">
                  <a:noAutofit/>
                </a:bodyPr>
                <a:p>
                  <a:pPr algn="ct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HOME</a:t>
                  </a:r>
                  <a:endParaRPr b="0" lang="en-US" sz="300" spc="-1" strike="noStrike">
                    <a:solidFill>
                      <a:srgbClr val="000000"/>
                    </a:solidFill>
                    <a:latin typeface="Times New Roman"/>
                  </a:endParaRPr>
                </a:p>
              </p:txBody>
            </p:sp>
            <p:sp>
              <p:nvSpPr>
                <p:cNvPr id="343" name=""/>
                <p:cNvSpPr/>
                <p:nvPr/>
              </p:nvSpPr>
              <p:spPr>
                <a:xfrm>
                  <a:off x="1542960" y="4698720"/>
                  <a:ext cx="142560" cy="57240"/>
                </a:xfrm>
                <a:prstGeom prst="rect">
                  <a:avLst/>
                </a:prstGeom>
                <a:solidFill>
                  <a:srgbClr val="969696"/>
                </a:solidFill>
                <a:ln w="0">
                  <a:noFill/>
                </a:ln>
              </p:spPr>
              <p:style>
                <a:lnRef idx="0"/>
                <a:fillRef idx="0"/>
                <a:effectRef idx="0"/>
                <a:fontRef idx="minor"/>
              </p:style>
              <p:txBody>
                <a:bodyPr wrap="none" lIns="34920" rIns="34920" tIns="15840" bIns="15840" anchor="ctr">
                  <a:noAutofit/>
                </a:bodyPr>
                <a:p>
                  <a:pPr algn="ct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INDEX</a:t>
                  </a:r>
                  <a:endParaRPr b="0" lang="en-US" sz="300" spc="-1" strike="noStrike">
                    <a:solidFill>
                      <a:srgbClr val="000000"/>
                    </a:solidFill>
                    <a:latin typeface="Times New Roman"/>
                  </a:endParaRPr>
                </a:p>
              </p:txBody>
            </p:sp>
            <p:sp>
              <p:nvSpPr>
                <p:cNvPr id="344" name=""/>
                <p:cNvSpPr/>
                <p:nvPr/>
              </p:nvSpPr>
              <p:spPr>
                <a:xfrm>
                  <a:off x="874440" y="4771800"/>
                  <a:ext cx="68400" cy="28440"/>
                </a:xfrm>
                <a:prstGeom prst="ellipse">
                  <a:avLst/>
                </a:prstGeom>
                <a:solidFill>
                  <a:srgbClr val="9f001c"/>
                </a:solidFill>
                <a:ln w="12600">
                  <a:solidFill>
                    <a:srgbClr val="000000"/>
                  </a:solidFill>
                  <a:miter/>
                </a:ln>
              </p:spPr>
              <p:style>
                <a:lnRef idx="0"/>
                <a:fillRef idx="0"/>
                <a:effectRef idx="0"/>
                <a:fontRef idx="minor"/>
              </p:style>
              <p:txBody>
                <a:bodyPr wrap="none" lIns="90360" rIns="90360" tIns="-23760" bIns="-237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819000" y="4844880"/>
                  <a:ext cx="938160" cy="0"/>
                </a:xfrm>
                <a:prstGeom prst="line">
                  <a:avLst/>
                </a:prstGeom>
                <a:ln w="5076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769760" y="4233600"/>
                  <a:ext cx="185760" cy="598320"/>
                </a:xfrm>
                <a:prstGeom prst="triangle">
                  <a:avLst>
                    <a:gd name="adj" fmla="val 57403"/>
                  </a:avLst>
                </a:prstGeom>
                <a:solidFill>
                  <a:srgbClr val="676767"/>
                </a:solidFill>
                <a:ln w="12600">
                  <a:solidFill>
                    <a:srgbClr val="676767"/>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801440" y="4295520"/>
                  <a:ext cx="139680" cy="496800"/>
                </a:xfrm>
                <a:prstGeom prst="triangle">
                  <a:avLst>
                    <a:gd name="adj" fmla="val 59440"/>
                  </a:avLst>
                </a:prstGeom>
                <a:noFill/>
                <a:ln w="12600">
                  <a:solidFill>
                    <a:srgbClr val="676767"/>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92160" y="4320720"/>
                  <a:ext cx="145800" cy="474840"/>
                </a:xfrm>
                <a:prstGeom prst="rect">
                  <a:avLst/>
                </a:prstGeom>
                <a:no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9" name=""/>
              <p:cNvSpPr/>
              <p:nvPr/>
            </p:nvSpPr>
            <p:spPr>
              <a:xfrm>
                <a:off x="271800" y="4865040"/>
                <a:ext cx="163908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ridge Pa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mily Calend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ipe Dis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shopping li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ce messag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com</a:t>
                </a:r>
                <a:endParaRPr b="0" lang="en-US" sz="1200" spc="-1" strike="noStrike">
                  <a:solidFill>
                    <a:srgbClr val="000000"/>
                  </a:solidFill>
                  <a:latin typeface="Times New Roman"/>
                </a:endParaRPr>
              </a:p>
            </p:txBody>
          </p:sp>
        </p:grpSp>
        <p:grpSp>
          <p:nvGrpSpPr>
            <p:cNvPr id="350" name=""/>
            <p:cNvGrpSpPr/>
            <p:nvPr/>
          </p:nvGrpSpPr>
          <p:grpSpPr>
            <a:xfrm>
              <a:off x="1753560" y="1377360"/>
              <a:ext cx="2788200" cy="1234800"/>
              <a:chOff x="1753560" y="1377360"/>
              <a:chExt cx="2788200" cy="1234800"/>
            </a:xfrm>
          </p:grpSpPr>
          <p:pic>
            <p:nvPicPr>
              <p:cNvPr id="351" name="PORTB001" descr=""/>
              <p:cNvPicPr/>
              <p:nvPr/>
            </p:nvPicPr>
            <p:blipFill>
              <a:blip r:embed="rId2"/>
              <a:stretch/>
            </p:blipFill>
            <p:spPr>
              <a:xfrm>
                <a:off x="3506760" y="1430280"/>
                <a:ext cx="1035000" cy="866880"/>
              </a:xfrm>
              <a:prstGeom prst="rect">
                <a:avLst/>
              </a:prstGeom>
              <a:ln w="0">
                <a:noFill/>
              </a:ln>
            </p:spPr>
          </p:pic>
          <p:sp>
            <p:nvSpPr>
              <p:cNvPr id="352" name=""/>
              <p:cNvSpPr/>
              <p:nvPr/>
            </p:nvSpPr>
            <p:spPr>
              <a:xfrm>
                <a:off x="1753560" y="1377360"/>
                <a:ext cx="178092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fice Laptop</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 to office 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Print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 from anyw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 files </a:t>
                </a:r>
                <a:endParaRPr b="0" lang="en-US" sz="1200" spc="-1" strike="noStrike">
                  <a:solidFill>
                    <a:srgbClr val="000000"/>
                  </a:solidFill>
                  <a:latin typeface="Times New Roman"/>
                </a:endParaRPr>
              </a:p>
            </p:txBody>
          </p:sp>
        </p:grpSp>
      </p:grpSp>
      <p:grpSp>
        <p:nvGrpSpPr>
          <p:cNvPr id="353" name=""/>
          <p:cNvGrpSpPr/>
          <p:nvPr/>
        </p:nvGrpSpPr>
        <p:grpSpPr>
          <a:xfrm>
            <a:off x="2198160" y="3676320"/>
            <a:ext cx="3118320" cy="1295280"/>
            <a:chOff x="2198160" y="3676320"/>
            <a:chExt cx="3118320" cy="1295280"/>
          </a:xfrm>
        </p:grpSpPr>
        <p:grpSp>
          <p:nvGrpSpPr>
            <p:cNvPr id="354" name=""/>
            <p:cNvGrpSpPr/>
            <p:nvPr/>
          </p:nvGrpSpPr>
          <p:grpSpPr>
            <a:xfrm>
              <a:off x="3162240" y="3676320"/>
              <a:ext cx="1171800" cy="685800"/>
              <a:chOff x="3162240" y="3676320"/>
              <a:chExt cx="1171800" cy="685800"/>
            </a:xfrm>
          </p:grpSpPr>
          <p:sp>
            <p:nvSpPr>
              <p:cNvPr id="355" name=""/>
              <p:cNvSpPr/>
              <p:nvPr/>
            </p:nvSpPr>
            <p:spPr>
              <a:xfrm flipV="1">
                <a:off x="3162240" y="3676320"/>
                <a:ext cx="1171800" cy="68580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187080" y="3771360"/>
                <a:ext cx="9946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hernet 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PNA</a:t>
                </a:r>
                <a:endParaRPr b="0" lang="en-US" sz="1200" spc="-1" strike="noStrike">
                  <a:solidFill>
                    <a:srgbClr val="000000"/>
                  </a:solidFill>
                  <a:latin typeface="Times New Roman"/>
                </a:endParaRPr>
              </a:p>
            </p:txBody>
          </p:sp>
        </p:grpSp>
        <p:grpSp>
          <p:nvGrpSpPr>
            <p:cNvPr id="357" name=""/>
            <p:cNvGrpSpPr/>
            <p:nvPr/>
          </p:nvGrpSpPr>
          <p:grpSpPr>
            <a:xfrm>
              <a:off x="2198160" y="3807000"/>
              <a:ext cx="3118320" cy="1164600"/>
              <a:chOff x="2198160" y="3807000"/>
              <a:chExt cx="3118320" cy="1164600"/>
            </a:xfrm>
          </p:grpSpPr>
          <p:sp>
            <p:nvSpPr>
              <p:cNvPr id="358" name=""/>
              <p:cNvSpPr/>
              <p:nvPr/>
            </p:nvSpPr>
            <p:spPr>
              <a:xfrm>
                <a:off x="4052880" y="4016520"/>
                <a:ext cx="126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Home PC</a:t>
                </a:r>
                <a:endParaRPr b="0" lang="en-US" sz="1200" spc="-1" strike="noStrike">
                  <a:solidFill>
                    <a:srgbClr val="000000"/>
                  </a:solidFill>
                  <a:latin typeface="Times New Roman"/>
                </a:endParaRPr>
              </a:p>
            </p:txBody>
          </p:sp>
          <p:pic>
            <p:nvPicPr>
              <p:cNvPr id="359" name="" descr=""/>
              <p:cNvPicPr/>
              <p:nvPr/>
            </p:nvPicPr>
            <p:blipFill>
              <a:blip r:embed="rId3"/>
              <a:stretch/>
            </p:blipFill>
            <p:spPr>
              <a:xfrm>
                <a:off x="2449440" y="3807000"/>
                <a:ext cx="882720" cy="920520"/>
              </a:xfrm>
              <a:prstGeom prst="rect">
                <a:avLst/>
              </a:prstGeom>
              <a:ln w="0">
                <a:noFill/>
              </a:ln>
            </p:spPr>
          </p:pic>
          <p:sp>
            <p:nvSpPr>
              <p:cNvPr id="360" name=""/>
              <p:cNvSpPr/>
              <p:nvPr/>
            </p:nvSpPr>
            <p:spPr>
              <a:xfrm>
                <a:off x="2198160" y="4695120"/>
                <a:ext cx="1366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PC(s)</a:t>
                </a:r>
                <a:endParaRPr b="0" lang="en-US" sz="1200" spc="-1" strike="noStrike">
                  <a:solidFill>
                    <a:srgbClr val="000000"/>
                  </a:solidFill>
                  <a:latin typeface="Times New Roman"/>
                </a:endParaRPr>
              </a:p>
            </p:txBody>
          </p:sp>
        </p:grpSp>
      </p:grpSp>
      <p:pic>
        <p:nvPicPr>
          <p:cNvPr id="361" name="PRINT078" descr=""/>
          <p:cNvPicPr/>
          <p:nvPr/>
        </p:nvPicPr>
        <p:blipFill>
          <a:blip r:embed="rId4"/>
          <a:stretch/>
        </p:blipFill>
        <p:spPr>
          <a:xfrm>
            <a:off x="3289320" y="2971800"/>
            <a:ext cx="812880" cy="533520"/>
          </a:xfrm>
          <a:prstGeom prst="rect">
            <a:avLst/>
          </a:prstGeom>
          <a:ln w="0">
            <a:noFill/>
          </a:ln>
        </p:spPr>
      </p:pic>
      <p:grpSp>
        <p:nvGrpSpPr>
          <p:cNvPr id="362" name=""/>
          <p:cNvGrpSpPr/>
          <p:nvPr/>
        </p:nvGrpSpPr>
        <p:grpSpPr>
          <a:xfrm>
            <a:off x="3429000" y="5181120"/>
            <a:ext cx="2230920" cy="1126080"/>
            <a:chOff x="3429000" y="5181120"/>
            <a:chExt cx="2230920" cy="1126080"/>
          </a:xfrm>
        </p:grpSpPr>
        <p:grpSp>
          <p:nvGrpSpPr>
            <p:cNvPr id="363" name=""/>
            <p:cNvGrpSpPr/>
            <p:nvPr/>
          </p:nvGrpSpPr>
          <p:grpSpPr>
            <a:xfrm>
              <a:off x="3429000" y="5181120"/>
              <a:ext cx="715680" cy="1126080"/>
              <a:chOff x="3429000" y="5181120"/>
              <a:chExt cx="715680" cy="1126080"/>
            </a:xfrm>
          </p:grpSpPr>
          <p:grpSp>
            <p:nvGrpSpPr>
              <p:cNvPr id="364" name=""/>
              <p:cNvGrpSpPr/>
              <p:nvPr/>
            </p:nvGrpSpPr>
            <p:grpSpPr>
              <a:xfrm>
                <a:off x="3429000" y="5494320"/>
                <a:ext cx="715680" cy="812880"/>
                <a:chOff x="3429000" y="5494320"/>
                <a:chExt cx="715680" cy="812880"/>
              </a:xfrm>
            </p:grpSpPr>
            <p:sp>
              <p:nvSpPr>
                <p:cNvPr id="365" name=""/>
                <p:cNvSpPr/>
                <p:nvPr/>
              </p:nvSpPr>
              <p:spPr>
                <a:xfrm>
                  <a:off x="3429000" y="5494320"/>
                  <a:ext cx="715680" cy="812880"/>
                </a:xfrm>
                <a:custGeom>
                  <a:avLst/>
                  <a:gdLst/>
                  <a:ahLst/>
                  <a:rect l="l" t="t" r="r" b="b"/>
                  <a:pathLst>
                    <a:path w="1602" h="1908">
                      <a:moveTo>
                        <a:pt x="1602" y="1818"/>
                      </a:moveTo>
                      <a:lnTo>
                        <a:pt x="1602" y="84"/>
                      </a:lnTo>
                      <a:lnTo>
                        <a:pt x="1596" y="66"/>
                      </a:lnTo>
                      <a:lnTo>
                        <a:pt x="1596" y="54"/>
                      </a:lnTo>
                      <a:lnTo>
                        <a:pt x="1584" y="36"/>
                      </a:lnTo>
                      <a:lnTo>
                        <a:pt x="1572" y="24"/>
                      </a:lnTo>
                      <a:lnTo>
                        <a:pt x="1560" y="12"/>
                      </a:lnTo>
                      <a:lnTo>
                        <a:pt x="1548" y="6"/>
                      </a:lnTo>
                      <a:lnTo>
                        <a:pt x="1530" y="0"/>
                      </a:lnTo>
                      <a:lnTo>
                        <a:pt x="1512" y="0"/>
                      </a:lnTo>
                      <a:lnTo>
                        <a:pt x="90" y="0"/>
                      </a:lnTo>
                      <a:lnTo>
                        <a:pt x="72" y="0"/>
                      </a:lnTo>
                      <a:lnTo>
                        <a:pt x="54" y="6"/>
                      </a:lnTo>
                      <a:lnTo>
                        <a:pt x="42" y="12"/>
                      </a:lnTo>
                      <a:lnTo>
                        <a:pt x="30" y="24"/>
                      </a:lnTo>
                      <a:lnTo>
                        <a:pt x="18" y="36"/>
                      </a:lnTo>
                      <a:lnTo>
                        <a:pt x="6" y="54"/>
                      </a:lnTo>
                      <a:lnTo>
                        <a:pt x="6" y="66"/>
                      </a:lnTo>
                      <a:lnTo>
                        <a:pt x="0" y="84"/>
                      </a:lnTo>
                      <a:lnTo>
                        <a:pt x="0" y="1818"/>
                      </a:lnTo>
                      <a:lnTo>
                        <a:pt x="6" y="1836"/>
                      </a:lnTo>
                      <a:lnTo>
                        <a:pt x="6" y="1854"/>
                      </a:lnTo>
                      <a:lnTo>
                        <a:pt x="18" y="1866"/>
                      </a:lnTo>
                      <a:lnTo>
                        <a:pt x="30" y="1878"/>
                      </a:lnTo>
                      <a:lnTo>
                        <a:pt x="42" y="1890"/>
                      </a:lnTo>
                      <a:lnTo>
                        <a:pt x="54" y="1896"/>
                      </a:lnTo>
                      <a:lnTo>
                        <a:pt x="72" y="1902"/>
                      </a:lnTo>
                      <a:lnTo>
                        <a:pt x="90" y="1908"/>
                      </a:lnTo>
                      <a:lnTo>
                        <a:pt x="1512" y="1908"/>
                      </a:lnTo>
                      <a:lnTo>
                        <a:pt x="1530" y="1902"/>
                      </a:lnTo>
                      <a:lnTo>
                        <a:pt x="1548" y="1896"/>
                      </a:lnTo>
                      <a:lnTo>
                        <a:pt x="1560" y="1890"/>
                      </a:lnTo>
                      <a:lnTo>
                        <a:pt x="1572" y="1878"/>
                      </a:lnTo>
                      <a:lnTo>
                        <a:pt x="1584" y="1866"/>
                      </a:lnTo>
                      <a:lnTo>
                        <a:pt x="1596" y="1854"/>
                      </a:lnTo>
                      <a:lnTo>
                        <a:pt x="1596" y="1836"/>
                      </a:lnTo>
                      <a:lnTo>
                        <a:pt x="1602" y="1818"/>
                      </a:lnTo>
                      <a:close/>
                    </a:path>
                  </a:pathLst>
                </a:custGeom>
                <a:gradFill rotWithShape="0">
                  <a:gsLst>
                    <a:gs pos="0">
                      <a:srgbClr val="a5a68e"/>
                    </a:gs>
                    <a:gs pos="100000">
                      <a:srgbClr val="fbfcd8"/>
                    </a:gs>
                  </a:gsLst>
                  <a:lin ang="13500000"/>
                </a:gra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481200" y="6252120"/>
                  <a:ext cx="600480" cy="20160"/>
                </a:xfrm>
                <a:prstGeom prst="rect">
                  <a:avLst/>
                </a:prstGeom>
                <a:noFill/>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7" name=""/>
                <p:cNvSpPr/>
                <p:nvPr/>
              </p:nvSpPr>
              <p:spPr>
                <a:xfrm>
                  <a:off x="3482640" y="5561280"/>
                  <a:ext cx="600480" cy="598320"/>
                </a:xfrm>
                <a:custGeom>
                  <a:avLst/>
                  <a:gdLst/>
                  <a:ahLst/>
                  <a:rect l="l" t="t" r="r" b="b"/>
                  <a:pathLst>
                    <a:path w="1344" h="1068">
                      <a:moveTo>
                        <a:pt x="1254" y="1068"/>
                      </a:moveTo>
                      <a:lnTo>
                        <a:pt x="1272" y="1068"/>
                      </a:lnTo>
                      <a:lnTo>
                        <a:pt x="1290" y="1062"/>
                      </a:lnTo>
                      <a:lnTo>
                        <a:pt x="1308" y="1050"/>
                      </a:lnTo>
                      <a:lnTo>
                        <a:pt x="1320" y="1044"/>
                      </a:lnTo>
                      <a:lnTo>
                        <a:pt x="1332" y="1026"/>
                      </a:lnTo>
                      <a:lnTo>
                        <a:pt x="1338" y="1014"/>
                      </a:lnTo>
                      <a:lnTo>
                        <a:pt x="1344" y="996"/>
                      </a:lnTo>
                      <a:lnTo>
                        <a:pt x="1344" y="978"/>
                      </a:lnTo>
                      <a:lnTo>
                        <a:pt x="1344" y="90"/>
                      </a:lnTo>
                      <a:lnTo>
                        <a:pt x="1344" y="72"/>
                      </a:lnTo>
                      <a:lnTo>
                        <a:pt x="1338" y="54"/>
                      </a:lnTo>
                      <a:lnTo>
                        <a:pt x="1332" y="42"/>
                      </a:lnTo>
                      <a:lnTo>
                        <a:pt x="1320" y="30"/>
                      </a:lnTo>
                      <a:lnTo>
                        <a:pt x="1308" y="18"/>
                      </a:lnTo>
                      <a:lnTo>
                        <a:pt x="1290" y="6"/>
                      </a:lnTo>
                      <a:lnTo>
                        <a:pt x="1272" y="6"/>
                      </a:lnTo>
                      <a:lnTo>
                        <a:pt x="1254" y="0"/>
                      </a:lnTo>
                      <a:lnTo>
                        <a:pt x="90" y="0"/>
                      </a:lnTo>
                      <a:lnTo>
                        <a:pt x="72" y="6"/>
                      </a:lnTo>
                      <a:lnTo>
                        <a:pt x="54" y="6"/>
                      </a:lnTo>
                      <a:lnTo>
                        <a:pt x="42" y="18"/>
                      </a:lnTo>
                      <a:lnTo>
                        <a:pt x="30" y="30"/>
                      </a:lnTo>
                      <a:lnTo>
                        <a:pt x="18" y="42"/>
                      </a:lnTo>
                      <a:lnTo>
                        <a:pt x="6" y="54"/>
                      </a:lnTo>
                      <a:lnTo>
                        <a:pt x="6" y="72"/>
                      </a:lnTo>
                      <a:lnTo>
                        <a:pt x="0" y="90"/>
                      </a:lnTo>
                      <a:lnTo>
                        <a:pt x="0" y="978"/>
                      </a:lnTo>
                      <a:lnTo>
                        <a:pt x="6" y="996"/>
                      </a:lnTo>
                      <a:lnTo>
                        <a:pt x="6" y="1014"/>
                      </a:lnTo>
                      <a:lnTo>
                        <a:pt x="18" y="1026"/>
                      </a:lnTo>
                      <a:lnTo>
                        <a:pt x="30" y="1044"/>
                      </a:lnTo>
                      <a:lnTo>
                        <a:pt x="42" y="1050"/>
                      </a:lnTo>
                      <a:lnTo>
                        <a:pt x="54" y="1062"/>
                      </a:lnTo>
                      <a:lnTo>
                        <a:pt x="72" y="1068"/>
                      </a:lnTo>
                      <a:lnTo>
                        <a:pt x="90" y="1068"/>
                      </a:lnTo>
                      <a:lnTo>
                        <a:pt x="1254" y="1068"/>
                      </a:lnTo>
                      <a:close/>
                    </a:path>
                  </a:pathLst>
                </a:custGeom>
                <a:gradFill rotWithShape="0">
                  <a:gsLst>
                    <a:gs pos="0">
                      <a:srgbClr val="ffffcc"/>
                    </a:gs>
                    <a:gs pos="100000">
                      <a:srgbClr val="c2c29b"/>
                    </a:gs>
                  </a:gsLst>
                  <a:lin ang="13500000"/>
                </a:gra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514680" y="5608440"/>
                  <a:ext cx="538560" cy="500760"/>
                </a:xfrm>
                <a:custGeom>
                  <a:avLst/>
                  <a:gdLst/>
                  <a:ahLst/>
                  <a:rect l="l" t="t" r="r" b="b"/>
                  <a:pathLst>
                    <a:path w="1206" h="894">
                      <a:moveTo>
                        <a:pt x="1116" y="894"/>
                      </a:moveTo>
                      <a:lnTo>
                        <a:pt x="84" y="894"/>
                      </a:lnTo>
                      <a:lnTo>
                        <a:pt x="66" y="894"/>
                      </a:lnTo>
                      <a:lnTo>
                        <a:pt x="54" y="888"/>
                      </a:lnTo>
                      <a:lnTo>
                        <a:pt x="36" y="882"/>
                      </a:lnTo>
                      <a:lnTo>
                        <a:pt x="24" y="870"/>
                      </a:lnTo>
                      <a:lnTo>
                        <a:pt x="12" y="858"/>
                      </a:lnTo>
                      <a:lnTo>
                        <a:pt x="6" y="840"/>
                      </a:lnTo>
                      <a:lnTo>
                        <a:pt x="0" y="822"/>
                      </a:lnTo>
                      <a:lnTo>
                        <a:pt x="0" y="810"/>
                      </a:lnTo>
                      <a:lnTo>
                        <a:pt x="0" y="90"/>
                      </a:lnTo>
                      <a:lnTo>
                        <a:pt x="0" y="72"/>
                      </a:lnTo>
                      <a:lnTo>
                        <a:pt x="6" y="54"/>
                      </a:lnTo>
                      <a:lnTo>
                        <a:pt x="12" y="42"/>
                      </a:lnTo>
                      <a:lnTo>
                        <a:pt x="24" y="24"/>
                      </a:lnTo>
                      <a:lnTo>
                        <a:pt x="36" y="18"/>
                      </a:lnTo>
                      <a:lnTo>
                        <a:pt x="54" y="6"/>
                      </a:lnTo>
                      <a:lnTo>
                        <a:pt x="66" y="0"/>
                      </a:lnTo>
                      <a:lnTo>
                        <a:pt x="84" y="0"/>
                      </a:lnTo>
                      <a:lnTo>
                        <a:pt x="1116" y="0"/>
                      </a:lnTo>
                      <a:lnTo>
                        <a:pt x="1134" y="0"/>
                      </a:lnTo>
                      <a:lnTo>
                        <a:pt x="1152" y="6"/>
                      </a:lnTo>
                      <a:lnTo>
                        <a:pt x="1164" y="18"/>
                      </a:lnTo>
                      <a:lnTo>
                        <a:pt x="1176" y="24"/>
                      </a:lnTo>
                      <a:lnTo>
                        <a:pt x="1188" y="42"/>
                      </a:lnTo>
                      <a:lnTo>
                        <a:pt x="1194" y="54"/>
                      </a:lnTo>
                      <a:lnTo>
                        <a:pt x="1200" y="72"/>
                      </a:lnTo>
                      <a:lnTo>
                        <a:pt x="1206" y="90"/>
                      </a:lnTo>
                      <a:lnTo>
                        <a:pt x="1206" y="810"/>
                      </a:lnTo>
                      <a:lnTo>
                        <a:pt x="1200" y="822"/>
                      </a:lnTo>
                      <a:lnTo>
                        <a:pt x="1194" y="840"/>
                      </a:lnTo>
                      <a:lnTo>
                        <a:pt x="1188" y="858"/>
                      </a:lnTo>
                      <a:lnTo>
                        <a:pt x="1176" y="870"/>
                      </a:lnTo>
                      <a:lnTo>
                        <a:pt x="1164" y="882"/>
                      </a:lnTo>
                      <a:lnTo>
                        <a:pt x="1152" y="888"/>
                      </a:lnTo>
                      <a:lnTo>
                        <a:pt x="1134" y="894"/>
                      </a:lnTo>
                      <a:lnTo>
                        <a:pt x="1116" y="894"/>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514680" y="5608440"/>
                  <a:ext cx="498600" cy="500760"/>
                </a:xfrm>
                <a:custGeom>
                  <a:avLst/>
                  <a:gdLst/>
                  <a:ahLst/>
                  <a:rect l="l" t="t" r="r" b="b"/>
                  <a:pathLst>
                    <a:path w="1116" h="894">
                      <a:moveTo>
                        <a:pt x="1116" y="894"/>
                      </a:moveTo>
                      <a:lnTo>
                        <a:pt x="1062" y="852"/>
                      </a:lnTo>
                      <a:lnTo>
                        <a:pt x="138" y="852"/>
                      </a:lnTo>
                      <a:lnTo>
                        <a:pt x="120" y="846"/>
                      </a:lnTo>
                      <a:lnTo>
                        <a:pt x="108" y="846"/>
                      </a:lnTo>
                      <a:lnTo>
                        <a:pt x="90" y="834"/>
                      </a:lnTo>
                      <a:lnTo>
                        <a:pt x="84" y="828"/>
                      </a:lnTo>
                      <a:lnTo>
                        <a:pt x="72" y="816"/>
                      </a:lnTo>
                      <a:lnTo>
                        <a:pt x="66" y="804"/>
                      </a:lnTo>
                      <a:lnTo>
                        <a:pt x="60" y="786"/>
                      </a:lnTo>
                      <a:lnTo>
                        <a:pt x="60" y="768"/>
                      </a:lnTo>
                      <a:lnTo>
                        <a:pt x="60" y="126"/>
                      </a:lnTo>
                      <a:lnTo>
                        <a:pt x="60" y="108"/>
                      </a:lnTo>
                      <a:lnTo>
                        <a:pt x="66" y="90"/>
                      </a:lnTo>
                      <a:lnTo>
                        <a:pt x="72" y="78"/>
                      </a:lnTo>
                      <a:lnTo>
                        <a:pt x="84" y="66"/>
                      </a:lnTo>
                      <a:lnTo>
                        <a:pt x="90" y="60"/>
                      </a:lnTo>
                      <a:lnTo>
                        <a:pt x="108" y="48"/>
                      </a:lnTo>
                      <a:lnTo>
                        <a:pt x="120" y="48"/>
                      </a:lnTo>
                      <a:lnTo>
                        <a:pt x="138" y="42"/>
                      </a:lnTo>
                      <a:lnTo>
                        <a:pt x="84" y="0"/>
                      </a:lnTo>
                      <a:lnTo>
                        <a:pt x="66" y="0"/>
                      </a:lnTo>
                      <a:lnTo>
                        <a:pt x="54" y="6"/>
                      </a:lnTo>
                      <a:lnTo>
                        <a:pt x="36" y="18"/>
                      </a:lnTo>
                      <a:lnTo>
                        <a:pt x="24" y="24"/>
                      </a:lnTo>
                      <a:lnTo>
                        <a:pt x="12" y="42"/>
                      </a:lnTo>
                      <a:lnTo>
                        <a:pt x="6" y="54"/>
                      </a:lnTo>
                      <a:lnTo>
                        <a:pt x="0" y="72"/>
                      </a:lnTo>
                      <a:lnTo>
                        <a:pt x="0" y="90"/>
                      </a:lnTo>
                      <a:lnTo>
                        <a:pt x="0" y="810"/>
                      </a:lnTo>
                      <a:lnTo>
                        <a:pt x="0" y="822"/>
                      </a:lnTo>
                      <a:lnTo>
                        <a:pt x="6" y="840"/>
                      </a:lnTo>
                      <a:lnTo>
                        <a:pt x="12" y="858"/>
                      </a:lnTo>
                      <a:lnTo>
                        <a:pt x="24" y="870"/>
                      </a:lnTo>
                      <a:lnTo>
                        <a:pt x="36" y="882"/>
                      </a:lnTo>
                      <a:lnTo>
                        <a:pt x="54" y="888"/>
                      </a:lnTo>
                      <a:lnTo>
                        <a:pt x="66" y="894"/>
                      </a:lnTo>
                      <a:lnTo>
                        <a:pt x="84" y="894"/>
                      </a:lnTo>
                      <a:lnTo>
                        <a:pt x="1116" y="894"/>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552120" y="5608440"/>
                  <a:ext cx="501120" cy="500760"/>
                </a:xfrm>
                <a:custGeom>
                  <a:avLst/>
                  <a:gdLst/>
                  <a:ahLst/>
                  <a:rect l="l" t="t" r="r" b="b"/>
                  <a:pathLst>
                    <a:path w="1122" h="894">
                      <a:moveTo>
                        <a:pt x="1032" y="894"/>
                      </a:moveTo>
                      <a:lnTo>
                        <a:pt x="1050" y="894"/>
                      </a:lnTo>
                      <a:lnTo>
                        <a:pt x="1068" y="888"/>
                      </a:lnTo>
                      <a:lnTo>
                        <a:pt x="1080" y="882"/>
                      </a:lnTo>
                      <a:lnTo>
                        <a:pt x="1092" y="870"/>
                      </a:lnTo>
                      <a:lnTo>
                        <a:pt x="1104" y="858"/>
                      </a:lnTo>
                      <a:lnTo>
                        <a:pt x="1110" y="840"/>
                      </a:lnTo>
                      <a:lnTo>
                        <a:pt x="1116" y="822"/>
                      </a:lnTo>
                      <a:lnTo>
                        <a:pt x="1122" y="810"/>
                      </a:lnTo>
                      <a:lnTo>
                        <a:pt x="1122" y="90"/>
                      </a:lnTo>
                      <a:lnTo>
                        <a:pt x="1116" y="72"/>
                      </a:lnTo>
                      <a:lnTo>
                        <a:pt x="1110" y="54"/>
                      </a:lnTo>
                      <a:lnTo>
                        <a:pt x="1104" y="42"/>
                      </a:lnTo>
                      <a:lnTo>
                        <a:pt x="1092" y="24"/>
                      </a:lnTo>
                      <a:lnTo>
                        <a:pt x="1080" y="18"/>
                      </a:lnTo>
                      <a:lnTo>
                        <a:pt x="1068" y="6"/>
                      </a:lnTo>
                      <a:lnTo>
                        <a:pt x="1050" y="0"/>
                      </a:lnTo>
                      <a:lnTo>
                        <a:pt x="1032" y="0"/>
                      </a:lnTo>
                      <a:lnTo>
                        <a:pt x="0" y="0"/>
                      </a:lnTo>
                      <a:lnTo>
                        <a:pt x="54" y="42"/>
                      </a:lnTo>
                      <a:lnTo>
                        <a:pt x="978" y="42"/>
                      </a:lnTo>
                      <a:lnTo>
                        <a:pt x="996" y="48"/>
                      </a:lnTo>
                      <a:lnTo>
                        <a:pt x="1014" y="48"/>
                      </a:lnTo>
                      <a:lnTo>
                        <a:pt x="1026" y="60"/>
                      </a:lnTo>
                      <a:lnTo>
                        <a:pt x="1038" y="66"/>
                      </a:lnTo>
                      <a:lnTo>
                        <a:pt x="1044" y="78"/>
                      </a:lnTo>
                      <a:lnTo>
                        <a:pt x="1056" y="90"/>
                      </a:lnTo>
                      <a:lnTo>
                        <a:pt x="1056" y="108"/>
                      </a:lnTo>
                      <a:lnTo>
                        <a:pt x="1056" y="126"/>
                      </a:lnTo>
                      <a:lnTo>
                        <a:pt x="1056" y="768"/>
                      </a:lnTo>
                      <a:lnTo>
                        <a:pt x="1056" y="786"/>
                      </a:lnTo>
                      <a:lnTo>
                        <a:pt x="1056" y="804"/>
                      </a:lnTo>
                      <a:lnTo>
                        <a:pt x="1044" y="816"/>
                      </a:lnTo>
                      <a:lnTo>
                        <a:pt x="1038" y="828"/>
                      </a:lnTo>
                      <a:lnTo>
                        <a:pt x="1026" y="834"/>
                      </a:lnTo>
                      <a:lnTo>
                        <a:pt x="1014" y="846"/>
                      </a:lnTo>
                      <a:lnTo>
                        <a:pt x="996" y="846"/>
                      </a:lnTo>
                      <a:lnTo>
                        <a:pt x="978" y="852"/>
                      </a:lnTo>
                      <a:lnTo>
                        <a:pt x="1032" y="894"/>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541680" y="5631840"/>
                  <a:ext cx="482400" cy="453600"/>
                </a:xfrm>
                <a:custGeom>
                  <a:avLst/>
                  <a:gdLst/>
                  <a:ahLst/>
                  <a:rect l="l" t="t" r="r" b="b"/>
                  <a:pathLst>
                    <a:path w="1080" h="810">
                      <a:moveTo>
                        <a:pt x="1002" y="810"/>
                      </a:moveTo>
                      <a:lnTo>
                        <a:pt x="1020" y="804"/>
                      </a:lnTo>
                      <a:lnTo>
                        <a:pt x="1038" y="804"/>
                      </a:lnTo>
                      <a:lnTo>
                        <a:pt x="1050" y="792"/>
                      </a:lnTo>
                      <a:lnTo>
                        <a:pt x="1062" y="786"/>
                      </a:lnTo>
                      <a:lnTo>
                        <a:pt x="1068" y="774"/>
                      </a:lnTo>
                      <a:lnTo>
                        <a:pt x="1080" y="762"/>
                      </a:lnTo>
                      <a:lnTo>
                        <a:pt x="1080" y="744"/>
                      </a:lnTo>
                      <a:lnTo>
                        <a:pt x="1080" y="726"/>
                      </a:lnTo>
                      <a:lnTo>
                        <a:pt x="1080" y="84"/>
                      </a:lnTo>
                      <a:lnTo>
                        <a:pt x="1080" y="66"/>
                      </a:lnTo>
                      <a:lnTo>
                        <a:pt x="1080" y="48"/>
                      </a:lnTo>
                      <a:lnTo>
                        <a:pt x="1068" y="36"/>
                      </a:lnTo>
                      <a:lnTo>
                        <a:pt x="1062" y="24"/>
                      </a:lnTo>
                      <a:lnTo>
                        <a:pt x="1050" y="18"/>
                      </a:lnTo>
                      <a:lnTo>
                        <a:pt x="1038" y="6"/>
                      </a:lnTo>
                      <a:lnTo>
                        <a:pt x="1020" y="6"/>
                      </a:lnTo>
                      <a:lnTo>
                        <a:pt x="1002" y="0"/>
                      </a:lnTo>
                      <a:lnTo>
                        <a:pt x="78" y="0"/>
                      </a:lnTo>
                      <a:lnTo>
                        <a:pt x="60" y="6"/>
                      </a:lnTo>
                      <a:lnTo>
                        <a:pt x="48" y="6"/>
                      </a:lnTo>
                      <a:lnTo>
                        <a:pt x="30" y="18"/>
                      </a:lnTo>
                      <a:lnTo>
                        <a:pt x="24" y="24"/>
                      </a:lnTo>
                      <a:lnTo>
                        <a:pt x="12" y="36"/>
                      </a:lnTo>
                      <a:lnTo>
                        <a:pt x="6" y="48"/>
                      </a:lnTo>
                      <a:lnTo>
                        <a:pt x="0" y="66"/>
                      </a:lnTo>
                      <a:lnTo>
                        <a:pt x="0" y="84"/>
                      </a:lnTo>
                      <a:lnTo>
                        <a:pt x="0" y="726"/>
                      </a:lnTo>
                      <a:lnTo>
                        <a:pt x="0" y="744"/>
                      </a:lnTo>
                      <a:lnTo>
                        <a:pt x="6" y="762"/>
                      </a:lnTo>
                      <a:lnTo>
                        <a:pt x="12" y="774"/>
                      </a:lnTo>
                      <a:lnTo>
                        <a:pt x="24" y="786"/>
                      </a:lnTo>
                      <a:lnTo>
                        <a:pt x="30" y="792"/>
                      </a:lnTo>
                      <a:lnTo>
                        <a:pt x="48" y="804"/>
                      </a:lnTo>
                      <a:lnTo>
                        <a:pt x="60" y="804"/>
                      </a:lnTo>
                      <a:lnTo>
                        <a:pt x="78" y="810"/>
                      </a:lnTo>
                      <a:lnTo>
                        <a:pt x="1002" y="810"/>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746520" y="6252120"/>
                  <a:ext cx="273240" cy="20160"/>
                </a:xfrm>
                <a:prstGeom prst="rect">
                  <a:avLst/>
                </a:prstGeom>
                <a:noFill/>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3" name=""/>
                <p:cNvSpPr/>
                <p:nvPr/>
              </p:nvSpPr>
              <p:spPr>
                <a:xfrm>
                  <a:off x="3985200" y="6258960"/>
                  <a:ext cx="21240" cy="6480"/>
                </a:xfrm>
                <a:prstGeom prst="rect">
                  <a:avLst/>
                </a:prstGeom>
                <a:noFill/>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 name=""/>
                <p:cNvSpPr/>
                <p:nvPr/>
              </p:nvSpPr>
              <p:spPr>
                <a:xfrm>
                  <a:off x="4040280" y="6257160"/>
                  <a:ext cx="5040" cy="9720"/>
                </a:xfrm>
                <a:custGeom>
                  <a:avLst/>
                  <a:gdLst/>
                  <a:ahLst/>
                  <a:rect l="l" t="t" r="r" b="b"/>
                  <a:pathLst>
                    <a:path w="12" h="18">
                      <a:moveTo>
                        <a:pt x="6" y="18"/>
                      </a:moveTo>
                      <a:lnTo>
                        <a:pt x="6" y="18"/>
                      </a:lnTo>
                      <a:lnTo>
                        <a:pt x="12" y="18"/>
                      </a:lnTo>
                      <a:lnTo>
                        <a:pt x="12" y="12"/>
                      </a:lnTo>
                      <a:lnTo>
                        <a:pt x="12" y="12"/>
                      </a:lnTo>
                      <a:lnTo>
                        <a:pt x="12" y="6"/>
                      </a:lnTo>
                      <a:lnTo>
                        <a:pt x="12" y="0"/>
                      </a:lnTo>
                      <a:lnTo>
                        <a:pt x="6" y="0"/>
                      </a:lnTo>
                      <a:lnTo>
                        <a:pt x="6" y="0"/>
                      </a:lnTo>
                      <a:lnTo>
                        <a:pt x="6" y="0"/>
                      </a:lnTo>
                      <a:lnTo>
                        <a:pt x="0" y="0"/>
                      </a:lnTo>
                      <a:lnTo>
                        <a:pt x="0" y="6"/>
                      </a:lnTo>
                      <a:lnTo>
                        <a:pt x="0" y="12"/>
                      </a:lnTo>
                      <a:lnTo>
                        <a:pt x="0" y="12"/>
                      </a:lnTo>
                      <a:lnTo>
                        <a:pt x="0" y="18"/>
                      </a:lnTo>
                      <a:lnTo>
                        <a:pt x="6" y="18"/>
                      </a:lnTo>
                      <a:lnTo>
                        <a:pt x="6" y="18"/>
                      </a:lnTo>
                      <a:close/>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375" name=""/>
                <p:cNvGrpSpPr/>
                <p:nvPr/>
              </p:nvGrpSpPr>
              <p:grpSpPr>
                <a:xfrm>
                  <a:off x="3485520" y="6198480"/>
                  <a:ext cx="600480" cy="24840"/>
                  <a:chOff x="3485520" y="6198480"/>
                  <a:chExt cx="600480" cy="24840"/>
                </a:xfrm>
              </p:grpSpPr>
              <p:sp>
                <p:nvSpPr>
                  <p:cNvPr id="376" name=""/>
                  <p:cNvSpPr/>
                  <p:nvPr/>
                </p:nvSpPr>
                <p:spPr>
                  <a:xfrm>
                    <a:off x="3485520" y="6198480"/>
                    <a:ext cx="600480" cy="19800"/>
                  </a:xfrm>
                  <a:prstGeom prst="rect">
                    <a:avLst/>
                  </a:prstGeom>
                  <a:noFill/>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7" name=""/>
                  <p:cNvSpPr/>
                  <p:nvPr/>
                </p:nvSpPr>
                <p:spPr>
                  <a:xfrm>
                    <a:off x="3711960" y="6203520"/>
                    <a:ext cx="273240" cy="19800"/>
                  </a:xfrm>
                  <a:prstGeom prst="rect">
                    <a:avLst/>
                  </a:prstGeom>
                  <a:solidFill>
                    <a:srgbClr val="000000"/>
                  </a:solidFill>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8" name=""/>
                  <p:cNvSpPr/>
                  <p:nvPr/>
                </p:nvSpPr>
                <p:spPr>
                  <a:xfrm>
                    <a:off x="4044600" y="6203520"/>
                    <a:ext cx="5040" cy="9720"/>
                  </a:xfrm>
                  <a:custGeom>
                    <a:avLst/>
                    <a:gdLst/>
                    <a:ahLst/>
                    <a:rect l="l" t="t" r="r" b="b"/>
                    <a:pathLst>
                      <a:path w="12" h="18">
                        <a:moveTo>
                          <a:pt x="6" y="18"/>
                        </a:moveTo>
                        <a:lnTo>
                          <a:pt x="6" y="18"/>
                        </a:lnTo>
                        <a:lnTo>
                          <a:pt x="12" y="12"/>
                        </a:lnTo>
                        <a:lnTo>
                          <a:pt x="12" y="12"/>
                        </a:lnTo>
                        <a:lnTo>
                          <a:pt x="12" y="6"/>
                        </a:lnTo>
                        <a:lnTo>
                          <a:pt x="12" y="6"/>
                        </a:lnTo>
                        <a:lnTo>
                          <a:pt x="12" y="0"/>
                        </a:lnTo>
                        <a:lnTo>
                          <a:pt x="6" y="0"/>
                        </a:lnTo>
                        <a:lnTo>
                          <a:pt x="6" y="0"/>
                        </a:lnTo>
                        <a:lnTo>
                          <a:pt x="6" y="0"/>
                        </a:lnTo>
                        <a:lnTo>
                          <a:pt x="0" y="0"/>
                        </a:lnTo>
                        <a:lnTo>
                          <a:pt x="0" y="6"/>
                        </a:lnTo>
                        <a:lnTo>
                          <a:pt x="0" y="6"/>
                        </a:lnTo>
                        <a:lnTo>
                          <a:pt x="0" y="12"/>
                        </a:lnTo>
                        <a:lnTo>
                          <a:pt x="0" y="12"/>
                        </a:lnTo>
                        <a:lnTo>
                          <a:pt x="6" y="18"/>
                        </a:lnTo>
                        <a:lnTo>
                          <a:pt x="6" y="18"/>
                        </a:lnTo>
                        <a:close/>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sp>
            <p:nvSpPr>
              <p:cNvPr id="379" name=""/>
              <p:cNvSpPr/>
              <p:nvPr/>
            </p:nvSpPr>
            <p:spPr>
              <a:xfrm>
                <a:off x="3552480" y="5675400"/>
                <a:ext cx="468360" cy="477360"/>
              </a:xfrm>
              <a:prstGeom prst="rect">
                <a:avLst/>
              </a:prstGeom>
              <a:noFill/>
              <a:ln w="0">
                <a:noFill/>
              </a:ln>
            </p:spPr>
            <p:style>
              <a:lnRef idx="0"/>
              <a:fillRef idx="0"/>
              <a:effectRef idx="0"/>
              <a:fontRef idx="minor"/>
            </p:style>
            <p:txBody>
              <a:bodyPr lIns="33480" rIns="33480" tIns="15840" bIns="15840" anchor="t">
                <a:spAutoFit/>
              </a:bodyPr>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Grandma’s Brownies</a:t>
                </a:r>
                <a:endParaRPr b="0" lang="en-US" sz="4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3 cups  flour</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cup grated chocolate</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cup sugar</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stick butter</a:t>
                </a:r>
                <a:endParaRPr b="0" lang="en-US" sz="400" spc="-1" strike="noStrike">
                  <a:solidFill>
                    <a:srgbClr val="000000"/>
                  </a:solidFill>
                  <a:latin typeface="Times New Roman"/>
                </a:endParaRPr>
              </a:p>
            </p:txBody>
          </p:sp>
          <p:sp>
            <p:nvSpPr>
              <p:cNvPr id="380" name=""/>
              <p:cNvSpPr/>
              <p:nvPr/>
            </p:nvSpPr>
            <p:spPr>
              <a:xfrm rot="10800000">
                <a:off x="4043160" y="5181120"/>
                <a:ext cx="42840" cy="312840"/>
              </a:xfrm>
              <a:custGeom>
                <a:avLst/>
                <a:gdLst>
                  <a:gd name="textAreaLeft" fmla="*/ 9360 w 42840"/>
                  <a:gd name="textAreaRight" fmla="*/ 33480 w 42840"/>
                  <a:gd name="textAreaTop" fmla="*/ 68760 h 312840"/>
                  <a:gd name="textAreaBottom" fmla="*/ 244080 h 3128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ffcc"/>
                  </a:gs>
                  <a:gs pos="50000">
                    <a:srgbClr val="c1c19a"/>
                  </a:gs>
                  <a:gs pos="100000">
                    <a:srgbClr val="ffffcc"/>
                  </a:gs>
                </a:gsLst>
                <a:lin ang="5400000"/>
              </a:gra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4158000" y="5415840"/>
              <a:ext cx="1501920" cy="869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Kids Room P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t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 access</a:t>
              </a:r>
              <a:endParaRPr b="0" lang="en-US" sz="1200" spc="-1" strike="noStrike">
                <a:solidFill>
                  <a:srgbClr val="000000"/>
                </a:solidFill>
                <a:latin typeface="Times New Roman"/>
              </a:endParaRPr>
            </a:p>
          </p:txBody>
        </p:sp>
      </p:grpSp>
      <p:grpSp>
        <p:nvGrpSpPr>
          <p:cNvPr id="382" name=""/>
          <p:cNvGrpSpPr/>
          <p:nvPr/>
        </p:nvGrpSpPr>
        <p:grpSpPr>
          <a:xfrm>
            <a:off x="5919840" y="4302000"/>
            <a:ext cx="2545920" cy="1204200"/>
            <a:chOff x="5919840" y="4302000"/>
            <a:chExt cx="2545920" cy="1204200"/>
          </a:xfrm>
        </p:grpSpPr>
        <p:pic>
          <p:nvPicPr>
            <p:cNvPr id="383" name="TELE062" descr=""/>
            <p:cNvPicPr/>
            <p:nvPr/>
          </p:nvPicPr>
          <p:blipFill>
            <a:blip r:embed="rId5"/>
            <a:stretch/>
          </p:blipFill>
          <p:spPr>
            <a:xfrm>
              <a:off x="5919840" y="4302000"/>
              <a:ext cx="322200" cy="1133640"/>
            </a:xfrm>
            <a:prstGeom prst="rect">
              <a:avLst/>
            </a:prstGeom>
            <a:ln w="0">
              <a:noFill/>
            </a:ln>
          </p:spPr>
        </p:pic>
        <p:sp>
          <p:nvSpPr>
            <p:cNvPr id="384" name=""/>
            <p:cNvSpPr/>
            <p:nvPr/>
          </p:nvSpPr>
          <p:spPr>
            <a:xfrm>
              <a:off x="6265800" y="4453920"/>
              <a:ext cx="2199960" cy="1052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dless Phon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Speech recogni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by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shopping li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PBX</a:t>
              </a:r>
              <a:endParaRPr b="0" lang="en-US" sz="1200" spc="-1" strike="noStrike">
                <a:solidFill>
                  <a:srgbClr val="000000"/>
                </a:solidFill>
                <a:latin typeface="Times New Roman"/>
              </a:endParaRPr>
            </a:p>
          </p:txBody>
        </p:sp>
      </p:grpSp>
      <p:grpSp>
        <p:nvGrpSpPr>
          <p:cNvPr id="385" name=""/>
          <p:cNvGrpSpPr/>
          <p:nvPr/>
        </p:nvGrpSpPr>
        <p:grpSpPr>
          <a:xfrm>
            <a:off x="5903280" y="2363760"/>
            <a:ext cx="1486080" cy="2027520"/>
            <a:chOff x="5903280" y="2363760"/>
            <a:chExt cx="1486080" cy="2027520"/>
          </a:xfrm>
        </p:grpSpPr>
        <p:sp>
          <p:nvSpPr>
            <p:cNvPr id="386" name=""/>
            <p:cNvSpPr/>
            <p:nvPr/>
          </p:nvSpPr>
          <p:spPr>
            <a:xfrm rot="3900000">
              <a:off x="6292440" y="300672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rot="5400000">
              <a:off x="6784560" y="3326040"/>
              <a:ext cx="638280" cy="571320"/>
            </a:xfrm>
            <a:prstGeom prst="triangle">
              <a:avLst>
                <a:gd name="adj" fmla="val 49995"/>
              </a:avLst>
            </a:prstGeom>
            <a:solidFill>
              <a:srgbClr val="3333cc"/>
            </a:solidFill>
            <a:ln w="12600">
              <a:solidFill>
                <a:srgbClr val="ffffff"/>
              </a:solidFill>
              <a:miter/>
            </a:ln>
            <a:effectLst>
              <a:outerShdw dist="127080" dir="0" blurRad="0" rotWithShape="0">
                <a:srgbClr val="9999ff"/>
              </a:outerShdw>
            </a:effectLst>
          </p:spPr>
          <p:style>
            <a:lnRef idx="0"/>
            <a:fillRef idx="0"/>
            <a:effectRef idx="0"/>
            <a:fontRef idx="minor"/>
          </p:style>
          <p:txBody>
            <a:bodyPr wrap="none" lIns="92160" rIns="92160" tIns="46080" bIns="460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CM</a:t>
              </a:r>
              <a:endParaRPr b="0" lang="en-US" sz="1800" spc="-1" strike="noStrike">
                <a:solidFill>
                  <a:srgbClr val="000000"/>
                </a:solidFill>
                <a:latin typeface="Times New Roman"/>
              </a:endParaRPr>
            </a:p>
          </p:txBody>
        </p:sp>
        <p:sp>
          <p:nvSpPr>
            <p:cNvPr id="388" name=""/>
            <p:cNvSpPr/>
            <p:nvPr/>
          </p:nvSpPr>
          <p:spPr>
            <a:xfrm rot="2863800">
              <a:off x="6311520" y="350172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8285400">
              <a:off x="6520680" y="230148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99840" y="53352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BFH Benefits </a:t>
            </a:r>
            <a:br>
              <a:rPr sz="3600"/>
            </a:br>
            <a:r>
              <a:rPr b="1" lang="en-US" sz="3600" spc="-1" strike="noStrike">
                <a:solidFill>
                  <a:srgbClr val="000000"/>
                </a:solidFill>
                <a:latin typeface="Arial"/>
              </a:rPr>
              <a:t>&amp; Expanded Usage </a:t>
            </a:r>
            <a:endParaRPr b="1" lang="en-US" sz="3600" spc="-1" strike="noStrike">
              <a:solidFill>
                <a:srgbClr val="000000"/>
              </a:solidFill>
              <a:latin typeface="Arial"/>
            </a:endParaRPr>
          </a:p>
        </p:txBody>
      </p:sp>
      <p:sp>
        <p:nvSpPr>
          <p:cNvPr id="391" name="PlaceHolder 2"/>
          <p:cNvSpPr>
            <a:spLocks noGrp="1"/>
          </p:cNvSpPr>
          <p:nvPr>
            <p:ph/>
          </p:nvPr>
        </p:nvSpPr>
        <p:spPr>
          <a:xfrm>
            <a:off x="304560" y="1371240"/>
            <a:ext cx="8459640" cy="4879800"/>
          </a:xfrm>
          <a:prstGeom prst="rect">
            <a:avLst/>
          </a:prstGeom>
          <a:noFill/>
          <a:ln w="0">
            <a:noFill/>
          </a:ln>
        </p:spPr>
        <p:txBody>
          <a:bodyPr lIns="92160" rIns="92160" tIns="46080" bIns="46080" anchor="t">
            <a:normAutofit fontScale="98000"/>
          </a:bodyPr>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a:t>
            </a:r>
            <a:endParaRPr b="0" lang="en-US" sz="24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wards compatible with first generation SWAP device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HomePNA R2.0 performance</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elecommuting productivity for Laptop user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number of DECT handsets from 4 to 8</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ompressed video transmissions quality</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future Broadband speed increase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number of MP3 audio streams</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scenarios</a:t>
            </a:r>
            <a:endParaRPr b="0" lang="en-US" sz="24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 house wireless CD quality audio speaker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intercom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ing PC screen/keyboard to TV</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HO PBX with the expanded DECT cha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380520"/>
            <a:ext cx="75963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ed Change Objectives</a:t>
            </a:r>
            <a:endParaRPr b="1" lang="en-US" sz="3600" spc="-1" strike="noStrike">
              <a:solidFill>
                <a:srgbClr val="000000"/>
              </a:solidFill>
              <a:latin typeface="Arial"/>
            </a:endParaRPr>
          </a:p>
        </p:txBody>
      </p:sp>
      <p:sp>
        <p:nvSpPr>
          <p:cNvPr id="393" name="PlaceHolder 2"/>
          <p:cNvSpPr>
            <a:spLocks noGrp="1"/>
          </p:cNvSpPr>
          <p:nvPr>
            <p:ph/>
          </p:nvPr>
        </p:nvSpPr>
        <p:spPr>
          <a:xfrm>
            <a:off x="431280" y="1447920"/>
            <a:ext cx="8712360" cy="4952880"/>
          </a:xfrm>
          <a:prstGeom prst="rect">
            <a:avLst/>
          </a:prstGeom>
          <a:noFill/>
          <a:ln w="0">
            <a:noFill/>
          </a:ln>
        </p:spPr>
        <p:txBody>
          <a:bodyPr lIns="92160" rIns="92160" tIns="46080" bIns="46080" anchor="t">
            <a:normAutofit fontScale="98000"/>
          </a:bodyPr>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ed with purpose of Part 15</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able the “introduction of new services and devices and the enhancement of existing services and devices…[which] will create new jobs, foster economic growth, and improve access to communications by industry and the American public.”</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al does not cause additional interference to existing users of the 2.4 GHz band</a:t>
            </a:r>
            <a:endParaRPr b="0" lang="en-US" sz="2400" spc="-1" strike="noStrike">
              <a:solidFill>
                <a:srgbClr val="000000"/>
              </a:solidFill>
              <a:latin typeface="Arial"/>
            </a:endParaRPr>
          </a:p>
          <a:p>
            <a:pPr lvl="1" marL="727920" indent="-28008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reases in bandwidth are accompanied by proportionate reductions in maximum allowable power</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a similar degree of range/performance flexibility for FH systems as recently allowed for DS systems</a:t>
            </a:r>
            <a:endParaRPr b="0" lang="en-US" sz="2400" spc="-1" strike="noStrike">
              <a:solidFill>
                <a:srgbClr val="000000"/>
              </a:solidFill>
              <a:latin typeface="Arial"/>
            </a:endParaRPr>
          </a:p>
          <a:p>
            <a:pPr lvl="1" marL="727920" indent="-28008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foster greater offerings at lower costs for consumers</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monizes Part 15 FH regulations with most of Europe &amp; Far East</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776240" y="176040"/>
            <a:ext cx="6986880" cy="95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ed Change</a:t>
            </a:r>
            <a:endParaRPr b="1" lang="en-US" sz="3600" spc="-1" strike="noStrike">
              <a:solidFill>
                <a:srgbClr val="000000"/>
              </a:solidFill>
              <a:latin typeface="Arial"/>
            </a:endParaRPr>
          </a:p>
        </p:txBody>
      </p:sp>
      <p:sp>
        <p:nvSpPr>
          <p:cNvPr id="395" name="PlaceHolder 2"/>
          <p:cNvSpPr>
            <a:spLocks noGrp="1"/>
          </p:cNvSpPr>
          <p:nvPr>
            <p:ph/>
          </p:nvPr>
        </p:nvSpPr>
        <p:spPr>
          <a:xfrm>
            <a:off x="456840" y="1295280"/>
            <a:ext cx="8402760" cy="5013360"/>
          </a:xfrm>
          <a:prstGeom prst="rect">
            <a:avLst/>
          </a:prstGeom>
          <a:noFill/>
          <a:ln w="0">
            <a:noFill/>
          </a:ln>
        </p:spPr>
        <p:txBody>
          <a:bodyPr lIns="92160" rIns="92160" tIns="46080" bIns="46080" anchor="t">
            <a:normAutofit fontScale="97000"/>
          </a:bodyPr>
          <a:p>
            <a:pPr marL="332640" indent="-33264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1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changed </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3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25 dBm EIRP</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bandwidth     3 MHz</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occupancy     50 mSec</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hops           75</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5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23 dBm EIRP</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bandwidth     5 MH</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occupancy     20 mSec</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hops           75</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of channel bandwidth remains unchanged</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dBc energy or less out of channel bandwidth</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categories will result in overlapping cha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to IEEE’s Objections</a:t>
            </a:r>
            <a:endParaRPr b="1" lang="en-US" sz="3600" spc="-1" strike="noStrike">
              <a:solidFill>
                <a:srgbClr val="000000"/>
              </a:solidFill>
              <a:latin typeface="Arial"/>
            </a:endParaRPr>
          </a:p>
        </p:txBody>
      </p:sp>
      <p:sp>
        <p:nvSpPr>
          <p:cNvPr id="397"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points were raised in the letter:</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Overlapped channels cause “increased interferenc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WBFH rules will require faster hopping, which “represents a more severe interference threa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The proportional reduction in maximum allowed transmitted RF power will not “effectively offset the impact of wider occupied channel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Changing the 15.247 rules to allow WBFH is not necessary, since there is “already…a standard for high speed wireless networking” that will meet all of HomeRF’s objectives.</a:t>
            </a:r>
            <a:endParaRPr b="0" lang="en-US" sz="2000" spc="-1" strike="noStrike">
              <a:solidFill>
                <a:srgbClr val="000000"/>
              </a:solidFill>
              <a:latin typeface="Arial"/>
            </a:endParaRPr>
          </a:p>
        </p:txBody>
      </p:sp>
      <p:sp>
        <p:nvSpPr>
          <p:cNvPr id="398" name=""/>
          <p:cNvSpPr/>
          <p:nvPr/>
        </p:nvSpPr>
        <p:spPr>
          <a:xfrm>
            <a:off x="838080" y="5497920"/>
            <a:ext cx="739152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 would like to clarify our position - we believe there are sound technical and marketing reasons for WBF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some key points</a:t>
            </a:r>
            <a:endParaRPr b="1" lang="en-US" sz="3600" spc="-1" strike="noStrike">
              <a:solidFill>
                <a:srgbClr val="000000"/>
              </a:solidFill>
              <a:latin typeface="Arial"/>
            </a:endParaRPr>
          </a:p>
        </p:txBody>
      </p:sp>
      <p:sp>
        <p:nvSpPr>
          <p:cNvPr id="400"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BFH Home RF systems will be required to fall back to 1MHz channels in the presence of interference or channel impairment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be in the 2.0 spec and required for compliance/logo</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like 802.11b, fallback modes increase robustness and provides legacy suppor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802.11b, fallback modes decrease spectral occupancy, so probability of co- and adjacent channel interference decreases for WBFH---especially significant for Bluetooth interference</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802.11b, fallback modes are especially bad for Bluetooth interference, since spectral occupancy remains constant, but packet length increases signific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im Lansford</dc:creator>
  <dc:description/>
  <dc:language>en-US</dc:language>
  <cp:lastModifiedBy>Tim Godfrey</cp:lastModifiedBy>
  <cp:lastPrinted>1998-09-11T21:46:02Z</cp:lastPrinted>
  <dcterms:modified xsi:type="dcterms:W3CDTF">1999-09-13T20:00:00Z</dcterms:modified>
  <cp:revision>333</cp:revision>
  <dc:subject/>
  <dc:title>No Slide Title</dc:title>
</cp:coreProperties>
</file>