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599-146F-4BA3-A9AB-4445EEEF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25D-C057-4C23-8852-C3DBDC68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B27-9F57-481A-9B61-C27BD863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D32-5CA9-4625-A530-E919BEB7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542-0414-4088-A122-42A77ABF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0D5-C8F2-48D0-ACF0-D8DC2E5E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BCE-F03C-4DB6-BFCF-AAD8F1AA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681-D4B1-48DA-9E83-F7D25F5B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6F9-5D94-4986-A60C-4B33F76B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D86-B57D-48A7-A7BC-4B9DCDAE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7B7-677B-4F42-9599-CDCD3920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BD5-7478-4067-AEC9-EF50163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E82530-5A53-432D-ACDE-EB35B2D24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--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Feb 2000 with rewritten arit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Dr. Dobb’s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Mobile Computing and Communications Review (M2CR) Feb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29B-B2DC-42D1-A56B-10C59F38B8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6B0-F740-4A47-B634-531C604895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ob Heile</dc:creator>
  <dc:description/>
  <dc:language>en-US</dc:language>
  <cp:lastModifiedBy>Rober F. Heile</cp:lastModifiedBy>
  <dcterms:modified xsi:type="dcterms:W3CDTF">1999-11-08T18:50:20Z</dcterms:modified>
  <cp:revision>4</cp:revision>
  <dc:subject/>
  <dc:title>Nov Marcom update</dc:title>
</cp:coreProperties>
</file>