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3EC5-3082-4B2C-9942-84E6B8C8A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5F96-A4AA-4376-8740-DCBEDB413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5465-026F-4367-B828-FAE198CE8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8EA1-8DBD-4882-A1FB-7B5930144C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956A-08D7-43CF-BABF-5FFCEF8D02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F31A-930A-431D-8884-CBAD674B0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F6FD-3422-45A4-AF9D-47BBAF279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200FD-03F5-4414-9E49-C31E47C9B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92EC-C80D-42F0-A322-E8D3F9118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4EB5-DECA-4A33-BD22-88A62AC6A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CE22-F7E1-4469-B9B9-09B752FFB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8188-0A4D-4D2D-98CF-0A8F253BD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D0A68E5-2FD8-471A-8492-137A8A715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1120" y="396000"/>
            <a:ext cx="39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 99037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3160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81520" y="6438960"/>
            <a:ext cx="252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Harris Semi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18840" y="1847880"/>
            <a:ext cx="6055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CC Spectrum Management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FH + DS Processing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wave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5F06C-B960-4BD8-BA56-6DB098D65C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593640"/>
            <a:ext cx="815364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l Communications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RM: NOTICE OF PROPOSED RULE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ndment of Regulations for Part 15 Spread Spectrum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 Docket No. 99-231        FCC 99-1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eased:  June 24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7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 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0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proposes to amend the Part 15  Section 247 rules regarding the operation of ISM spread spectrum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hopping systems operating in the 2.4 GHz band (2400 - 2483.5 MHz) to allow for wider operational bandwid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ine the method for measuring the processing gain of direct sequence system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 Facilitate development and deployment of spread spectrum technology, particularly for high data rate wireless appl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C3B23-3E7B-4AAE-9166-017EE208FF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77840" y="1752480"/>
          <a:ext cx="8877240" cy="38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752480"/>
                    <a:ext cx="88772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748160" y="857160"/>
            <a:ext cx="54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 of WBFH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3362-67EB-49EA-8A11-692D698BAC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71520" y="1295280"/>
            <a:ext cx="8561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gain (PG) shall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 = improvement in SNR after filtering from coding and sp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: PG (dB)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NR with sprea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 with sprea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s If chip ra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 chips/symb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hip rate &lt; 10 chips/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CW jamm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 calculation of processing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ming margin test using Guassian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5080" y="60948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 Processing 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12D4-5DF5-49DF-B671-96D153CE74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593640"/>
            <a:ext cx="8610480" cy="61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C Invites Comm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9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does not believe new rules will result in any significant increase in interference to direct sequence spread spectrum system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FH interference on DS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SSS can compensate by improving processing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FH interference to Amateur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0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believes that WBFH systems will achieve data rates substantially greater than 1 MHz syste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s of multipath interference and subsequent retrans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4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jamming margin test is based on use of a CW signal as an interference source but propose to use a Guassian interfer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 of using a Guassian interferer in the current jamming margin test set-up and detailed measurement proced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5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proposes that results of jamming margin test be submitted along with a mathematical calculation of processing gain, if the DS system uses fewer than 10 chips per symb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to submit the results of the jamming margin test as well as a calculation of processing gain to verify complianc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5CEA1-3A9F-4565-BA01-C1EB3085F7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77640" y="1371600"/>
            <a:ext cx="865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ion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802.11 WBFH study group (liaison with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interference impact on legacy 802.11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ndings/recommendations to 802.11 by 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fur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ion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802.11 DS Processing Gain study group (liaison with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understand rul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Gaussian nois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ndings/recommendations to 802.11 by 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fur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32E7C-610E-4F43-BC31-C050B89B4B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85800" y="1266840"/>
          <a:ext cx="8318520" cy="80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66840"/>
                    <a:ext cx="8318520" cy="80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974960" y="60948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esday Evening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58FA-15A7-4F09-9930-9A6BD5D64D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RM 98-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 authorization of RF Lights operating in 2.45 GHz ISM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 on in-band emiss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DA limits on human exposure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OET recommendation sent to Commission in December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15 Interests appealed directly to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 delayed final resolution pending efforts of interested parties to seek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CEB5-C99D-4EB1-ADDF-95BBB1050F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est Proposal (July 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565280" y="1850760"/>
            <a:ext cx="7002360" cy="1579320"/>
            <a:chOff x="1565280" y="1850760"/>
            <a:chExt cx="7002360" cy="1579320"/>
          </a:xfrm>
        </p:grpSpPr>
        <p:sp>
          <p:nvSpPr>
            <p:cNvPr id="61" name=""/>
            <p:cNvSpPr/>
            <p:nvPr/>
          </p:nvSpPr>
          <p:spPr>
            <a:xfrm>
              <a:off x="1565280" y="3295800"/>
              <a:ext cx="700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09700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795672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796080" y="3017880"/>
            <a:ext cx="118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11400" y="3027240"/>
            <a:ext cx="35323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516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8992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1264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2704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9980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1420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64280" y="176544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48320" y="172404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0" y="52"/>
                </a:moveTo>
                <a:lnTo>
                  <a:pt x="9" y="26"/>
                </a:lnTo>
                <a:lnTo>
                  <a:pt x="0" y="0"/>
                </a:lnTo>
                <a:lnTo>
                  <a:pt x="60" y="26"/>
                </a:lnTo>
                <a:lnTo>
                  <a:pt x="0" y="5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81760" y="176688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10480" y="172548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60" y="0"/>
                </a:moveTo>
                <a:lnTo>
                  <a:pt x="51" y="26"/>
                </a:lnTo>
                <a:lnTo>
                  <a:pt x="60" y="52"/>
                </a:lnTo>
                <a:lnTo>
                  <a:pt x="0" y="26"/>
                </a:lnTo>
                <a:lnTo>
                  <a:pt x="6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73520" y="1614600"/>
            <a:ext cx="155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 - 248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65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62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624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608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9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7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5632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4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52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51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9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48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46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44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43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43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41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99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38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35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33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30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28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7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25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40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23960" y="1978200"/>
            <a:ext cx="51120" cy="26640"/>
          </a:xfrm>
          <a:custGeom>
            <a:avLst/>
            <a:gdLst/>
            <a:ahLst/>
            <a:rect l="l" t="t" r="r" b="b"/>
            <a:pathLst>
              <a:path w="32" h="17">
                <a:moveTo>
                  <a:pt x="31" y="16"/>
                </a:moveTo>
                <a:lnTo>
                  <a:pt x="31" y="0"/>
                </a:lnTo>
                <a:lnTo>
                  <a:pt x="0" y="0"/>
                </a:lnTo>
                <a:lnTo>
                  <a:pt x="0" y="16"/>
                </a:lnTo>
                <a:lnTo>
                  <a:pt x="31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20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19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17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16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14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12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11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9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2896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708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556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2404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2252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63840" y="3017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6" y="0"/>
                </a:lnTo>
                <a:lnTo>
                  <a:pt x="0" y="0"/>
                </a:lnTo>
                <a:lnTo>
                  <a:pt x="0" y="16"/>
                </a:lnTo>
                <a:lnTo>
                  <a:pt x="1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21840" y="231156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57760" y="16574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7760" y="175896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57760" y="18604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7760" y="1962000"/>
            <a:ext cx="2700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57760" y="2062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7760" y="2163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57760" y="226548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7760" y="236700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7760" y="246852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7760" y="25700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57760" y="267192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57760" y="27716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7760" y="287352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57760" y="29750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57760" y="307656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57760" y="3178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57760" y="3279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78800" y="16574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78800" y="175896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78800" y="18604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78800" y="1962000"/>
            <a:ext cx="2664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78800" y="2062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78800" y="2163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78800" y="226548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78800" y="236700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78800" y="246852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78800" y="25700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78800" y="2671920"/>
            <a:ext cx="2664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78800" y="27716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78800" y="287352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78800" y="29750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78800" y="307656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78800" y="3178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78800" y="3279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67480" y="1995480"/>
            <a:ext cx="11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34680" y="2293920"/>
            <a:ext cx="38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26480" y="2265480"/>
            <a:ext cx="49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80" y="1854360"/>
            <a:ext cx="103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B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6680" y="2036880"/>
            <a:ext cx="72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7640" y="2895480"/>
            <a:ext cx="945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B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2520" y="3078000"/>
            <a:ext cx="63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3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30680" y="3919680"/>
            <a:ext cx="111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480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81520" y="3919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6576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8880" y="3963960"/>
            <a:ext cx="4880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00 - 2460 MHz. RF lighting restricted to 1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31400" y="4468680"/>
            <a:ext cx="121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4880" y="446868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18240" y="4468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2120" y="4468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25960" y="4513320"/>
            <a:ext cx="5820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60 - 2480 MHz. RF Light emission limit of 100 d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/m @ 10 m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51200" y="4772160"/>
            <a:ext cx="594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quivalent to 330 mVm @ 3m).  Consistent with CISPR15 lim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33200" y="5016600"/>
            <a:ext cx="23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31040" y="5261040"/>
            <a:ext cx="131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53520" y="526104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16520" y="526104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97160" y="5305320"/>
            <a:ext cx="4981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80 - 2500 MHz.  RF lighting restricted to 1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48680" y="5608800"/>
            <a:ext cx="4665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ortion of the band includes satellite servi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27080" y="556416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83800" y="341136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8200" y="362412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25AB-87C2-48A2-B595-FEF17FB429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6:59:08Z</dcterms:created>
  <dc:creator>Bruce Kraemer</dc:creator>
  <dc:description/>
  <dc:language>en-US</dc:language>
  <cp:lastModifiedBy>Bruce Kraemer</cp:lastModifiedBy>
  <dcterms:modified xsi:type="dcterms:W3CDTF">1999-07-07T13:14:22Z</dcterms:modified>
  <cp:revision>26</cp:revision>
  <dc:subject/>
  <dc:title>No Slide Title</dc:title>
</cp:coreProperties>
</file>