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BED5-A361-46B4-BBE1-5E8264567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FEBB-32CC-4622-86FB-8F7DBA97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C2D8-0D92-4A48-A2D4-FCA7DAC2D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649D-F29F-4552-A223-7033EF16D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20C0-EAB5-4A9E-859C-A625C299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9E43-2897-431B-B282-8B09ABE5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0C65-B6B2-465D-B7AD-68BA36C0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00F3-7333-4DDD-BED4-957B9E9A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A213-47F4-44EE-BA0F-AF18BC29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4637-3926-4FE3-B073-343D62DF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ABA1-6D3D-492A-9B9F-E1295237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8550-C626-4046-B70A-0BC31289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050DF9C-C16D-43B2-9647-E1694EC49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124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Report #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ember, 1999 Kaua'i Koloa, HI 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18880" y="5181480"/>
            <a:ext cx="6941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aison Report #1 -99/005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9005r0P802-15_Liaison-Report.p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aison Report #2 -99/029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9029r0P802-15_Liaison-Report-2.p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aison Report #3 -99/06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9063r1P802-15_Liaison-Report-3.p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Server &amp; Flash C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2803-0260-450F-A0B2-30B6C20D0C3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uetooth/IEEE Proposed Time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 1999 - Initial Discussion on Proposal submiss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 1999 - IEEE initial vote of support to draft 802.15 based on Bluetooth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 1999 - Overview the draft 802.15.1 based on the current  Bluetooth specification to the time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 1999 - Initial draft ready for WG bal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n 2000 - First Ballot complete, second ballot kicked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 2000 - Draft ready for IEEE sponsor bal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2000 - Approval by IEEE Standards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6A29-03DE-4851-B5AC-CB779FD592A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EEE and Bluetooth SIG have a very strong Lia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luetooth Special Interest Group Formed May 20,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 07Jul98 -98/2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2 15Sep98 -98/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3 26Oct98 -98/350 (Minutes on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4 14Dec98 J. Carlo 802 Overview to Bluetooth S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5 09Mar99 -99/053 Tuto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6 01Jul99 -99/028 Letter Of I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7 15Jul99 -99/028r1 LOI #2, License, CD-ROM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8 26Jul99 Bluetooth v1.0A Foundation Specification Available via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9 31Aug99 -99/085 IEEE/ETSI/Bluetooth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0 31Aug99 -99/085 Proposal to IEEE &amp; ET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1 3Sep99 CD-ROM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2 9Sep99 Signed &amp; Initialed Copyright License Agre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3 13Sep99 -99/068 BT-IEEE Editorial WG Report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4 14Sep99 -99/069 to 073 Overview of the Bluetooth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5 16Sep99 -99/082r1 Outline and Technical Overvie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6 4Nov99 -99/028r2 #3 Letter of 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7 4Nov99 -99/xxx Draft Standard v0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8 8Nov99 -99/xxx BT-IEEE Editorial WG Report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9 9Nov99 -99/xxx Using Bluetooth v1.0A Basis For Standard, Tutorial #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456C-7628-4E9C-B538-59719AFD212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TSI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econ &amp;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Nov99 Lou Delaverson to P802.15 W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Mail’s to ET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Mail’s from ET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99 Lou Delav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N#16 30Nov99 to 3Dec99 Athens, Gre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go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4C72-137C-4A81-8F93-EDA7C8C4983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EEE 802.15 Working Group for Wireless Personal Area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 Liaison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FD0B-CD25-4A08-9B63-06B6596394E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802.11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con &amp;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ocated Meetings/Various both Informal/F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Mail’s to P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ember 10, 1999 Joint Meeting 1:00pm to 3:00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Mail’s from P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ember 10, 1999 Joint Meeting 1:00pm to 3:00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sting May00 Interim Meeting, Venu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st Sep00 Interim Meeting Submiss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5791320"/>
            <a:ext cx="830592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Bruce Kraemer, Stuart Kerry &amp; Peter Murray for more 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0B70-03E8-4FCD-A142-4AC4E969421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Negot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uetooth S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mit new TG1 Operating Rules to WG &amp; BSIG for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ise on LB #1 Stat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Meeting Date?,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g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12CB-C555-410F-A0A4-B889C99A773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num7" descr=""/>
          <p:cNvPicPr/>
          <p:nvPr/>
        </p:nvPicPr>
        <p:blipFill>
          <a:blip r:embed="rId1"/>
          <a:stretch/>
        </p:blipFill>
        <p:spPr>
          <a:xfrm>
            <a:off x="3708360" y="2895480"/>
            <a:ext cx="1800360" cy="5050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Observation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1905120"/>
            <a:ext cx="2743200" cy="2590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3200400"/>
            <a:ext cx="3427560" cy="323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92520" y="1538280"/>
            <a:ext cx="5146560" cy="4862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996920" y="4786200"/>
            <a:ext cx="1432080" cy="11574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796640" y="4622760"/>
            <a:ext cx="3021120" cy="70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1200 Bluetooth Promo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opters or SIG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94720" y="1752480"/>
            <a:ext cx="2477160" cy="100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2 Vo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802.15.1 W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802.15.x WPAN-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9040" y="4089240"/>
            <a:ext cx="2976840" cy="70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90 HomeRF Adopter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nts/Cor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Bluetooth%20logo%20(tm)" descr=""/>
          <p:cNvPicPr/>
          <p:nvPr/>
        </p:nvPicPr>
        <p:blipFill>
          <a:blip r:embed="rId3"/>
          <a:stretch/>
        </p:blipFill>
        <p:spPr>
          <a:xfrm>
            <a:off x="4968720" y="5372280"/>
            <a:ext cx="2651400" cy="5713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695760" y="3441600"/>
            <a:ext cx="904680" cy="851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PAN-H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EAC3-2EBE-4A32-8CD2-E540A6EE897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Observation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REL" descr=""/>
          <p:cNvPicPr/>
          <p:nvPr/>
        </p:nvPicPr>
        <p:blipFill>
          <a:blip r:embed="rId1"/>
          <a:stretch/>
        </p:blipFill>
        <p:spPr>
          <a:xfrm>
            <a:off x="1328760" y="1828800"/>
            <a:ext cx="6481800" cy="32367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80880" y="5486400"/>
            <a:ext cx="830592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of 8Nov99 we are not aware of any progress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uetooth and ETSI…IEEE may want to consider BT Upper 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B246-8373-415A-8D49-8024CC72B30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7162920" y="1752480"/>
            <a:ext cx="1752480" cy="4419720"/>
            <a:chOff x="7162920" y="1752480"/>
            <a:chExt cx="1752480" cy="4419720"/>
          </a:xfrm>
        </p:grpSpPr>
        <p:sp>
          <p:nvSpPr>
            <p:cNvPr id="221" name=""/>
            <p:cNvSpPr/>
            <p:nvPr/>
          </p:nvSpPr>
          <p:spPr>
            <a:xfrm>
              <a:off x="7162920" y="1752480"/>
              <a:ext cx="1752480" cy="44197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PAN-H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540920" y="3736800"/>
              <a:ext cx="1098360" cy="13986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1720" y="5213520"/>
              <a:ext cx="1067040" cy="77616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51720" y="3733920"/>
              <a:ext cx="1138320" cy="13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gher data rate enhancement in 2.4 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02.15.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628040" y="5216400"/>
              <a:ext cx="990720" cy="4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&lt;1Mbit/s 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Mbit/s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8073720" y="3124080"/>
              <a:ext cx="3240" cy="606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Observation #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85840" y="2514600"/>
            <a:ext cx="4971960" cy="2799720"/>
            <a:chOff x="285840" y="2514600"/>
            <a:chExt cx="4971960" cy="2799720"/>
          </a:xfrm>
        </p:grpSpPr>
        <p:sp>
          <p:nvSpPr>
            <p:cNvPr id="229" name=""/>
            <p:cNvSpPr/>
            <p:nvPr/>
          </p:nvSpPr>
          <p:spPr>
            <a:xfrm>
              <a:off x="341640" y="3525480"/>
              <a:ext cx="1183680" cy="104904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85840" y="3483720"/>
              <a:ext cx="12927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.4 GHz ra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req. Hopp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pread Spectru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82560" y="3525480"/>
              <a:ext cx="1227600" cy="104904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552680" y="3483720"/>
              <a:ext cx="12852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.4 GHz ra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rect Sequen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pread Spectru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01960" y="3525480"/>
              <a:ext cx="553320" cy="104904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42560" y="3791160"/>
              <a:ext cx="660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fra-R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82080" y="3311280"/>
              <a:ext cx="379548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20400" y="3337560"/>
              <a:ext cx="0" cy="15696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840" y="3202560"/>
              <a:ext cx="0" cy="11196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56160" y="3331440"/>
              <a:ext cx="0" cy="17928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213640" y="3337560"/>
              <a:ext cx="0" cy="17964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4720" y="4633200"/>
              <a:ext cx="598680" cy="37512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6600" y="4632120"/>
              <a:ext cx="565920" cy="335880"/>
            </a:xfrm>
            <a:prstGeom prst="rect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 Mbit/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0000"/>
                  </a:solidFill>
                  <a:latin typeface="Arial"/>
                </a:rPr>
                <a:t>2 Mbit/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21680" y="4633200"/>
              <a:ext cx="600120" cy="37512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35000" y="4632120"/>
              <a:ext cx="565920" cy="335880"/>
            </a:xfrm>
            <a:prstGeom prst="rect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 Mbit/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 Mbit/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901960" y="4633200"/>
              <a:ext cx="553320" cy="37512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92240" y="4631040"/>
              <a:ext cx="565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 Mbit/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0000"/>
                  </a:solidFill>
                  <a:latin typeface="Arial"/>
                </a:rPr>
                <a:t>2 Mbit/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80320" y="5100120"/>
              <a:ext cx="1823400" cy="214200"/>
            </a:xfrm>
            <a:prstGeom prst="rect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Legend: </a:t>
              </a:r>
              <a:r>
                <a:rPr b="1" i="1" lang="en-US" sz="800" spc="-1" strike="noStrike">
                  <a:solidFill>
                    <a:srgbClr val="000000"/>
                  </a:solidFill>
                  <a:latin typeface="Arial"/>
                </a:rPr>
                <a:t>italic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(and </a:t>
              </a:r>
              <a:r>
                <a:rPr b="1" lang="en-US" sz="800" spc="-1" strike="noStrike">
                  <a:solidFill>
                    <a:srgbClr val="ff0000"/>
                  </a:solidFill>
                  <a:latin typeface="Arial"/>
                </a:rPr>
                <a:t>red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) = optio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56840" y="3337560"/>
              <a:ext cx="0" cy="18576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774320" y="3337560"/>
              <a:ext cx="0" cy="15696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548520" y="3525480"/>
              <a:ext cx="777600" cy="104904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395240" y="3525480"/>
              <a:ext cx="824040" cy="104904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626280" y="4633200"/>
              <a:ext cx="639360" cy="39996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19440" y="4633200"/>
              <a:ext cx="598680" cy="58248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89120" y="3521880"/>
              <a:ext cx="853560" cy="77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igher data rate extension in 2.4 GHz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802.11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403880" y="3521880"/>
              <a:ext cx="853920" cy="77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igher data rate extension in 5 GHz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802.11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79480" y="4622400"/>
              <a:ext cx="619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1 &amp; 5.5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bit/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539600" y="4635720"/>
              <a:ext cx="59400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6-12-18...54 Mbit/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54960" y="2514600"/>
              <a:ext cx="3434760" cy="69048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</a:rPr>
                <a:t>M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486400" y="1828800"/>
            <a:ext cx="1752480" cy="441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88080" y="3736800"/>
            <a:ext cx="1098360" cy="139860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99240" y="5213520"/>
            <a:ext cx="1066680" cy="776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99240" y="3733920"/>
            <a:ext cx="11379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 GHz 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.15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75200" y="5216400"/>
            <a:ext cx="990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1Mbit/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86400" y="2438280"/>
            <a:ext cx="3429000" cy="71460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6321600" y="3124080"/>
            <a:ext cx="2880" cy="606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996480" y="5105520"/>
            <a:ext cx="7995240" cy="1143000"/>
            <a:chOff x="996480" y="5105520"/>
            <a:chExt cx="7995240" cy="1143000"/>
          </a:xfrm>
        </p:grpSpPr>
        <p:sp>
          <p:nvSpPr>
            <p:cNvPr id="266" name=""/>
            <p:cNvSpPr/>
            <p:nvPr/>
          </p:nvSpPr>
          <p:spPr>
            <a:xfrm>
              <a:off x="5334120" y="5105520"/>
              <a:ext cx="3657600" cy="1143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96480" y="5867280"/>
              <a:ext cx="33476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802.15 Coexistence Study Gro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4343400" y="5714640"/>
              <a:ext cx="10666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76320" y="4572000"/>
            <a:ext cx="2971800" cy="1294920"/>
            <a:chOff x="76320" y="4572000"/>
            <a:chExt cx="2971800" cy="1294920"/>
          </a:xfrm>
        </p:grpSpPr>
        <p:sp>
          <p:nvSpPr>
            <p:cNvPr id="270" name=""/>
            <p:cNvSpPr/>
            <p:nvPr/>
          </p:nvSpPr>
          <p:spPr>
            <a:xfrm>
              <a:off x="76320" y="4572000"/>
              <a:ext cx="297180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600200" y="4800240"/>
              <a:ext cx="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9ED8-A263-461F-9A64-0476C0245F5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AN Timeline Overview &amp; De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Negoti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Observ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81C7-1406-471D-9E68-E6A72221C4A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e the IEEE as a Valu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e the IEEE 802 as a leader in Wireless Standards-Mak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e P802.15 as an expert in WP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ceive Draft Standard Submissions from External and Internal (IEEE) from our Liaison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B997-39AF-48C3-BF9C-02EB8758B4F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PAN Timeline -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5867280"/>
            <a:ext cx="8381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6360" y="61102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20960" y="61102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560" y="60958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97880" y="60958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09480" y="1676160"/>
            <a:ext cx="0" cy="419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24080" y="167616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638680" y="167616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8001000" y="167616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2438280"/>
            <a:ext cx="22860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EE P802.11 Study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WP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048120"/>
            <a:ext cx="2438280" cy="60948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EE P802.15 Wor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oup for WP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74920" y="590400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/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676520" y="2362320"/>
            <a:ext cx="0" cy="35049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60920" y="590400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/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962520" y="297144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73920" y="590400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/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248520" y="3200400"/>
            <a:ext cx="0" cy="2666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1828800"/>
            <a:ext cx="22860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EE Ad Hoc “Wearable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ndards Committ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321080" y="3733920"/>
            <a:ext cx="1927440" cy="2448000"/>
            <a:chOff x="4321080" y="3733920"/>
            <a:chExt cx="1927440" cy="2448000"/>
          </a:xfrm>
        </p:grpSpPr>
        <p:sp>
          <p:nvSpPr>
            <p:cNvPr id="72" name=""/>
            <p:cNvSpPr/>
            <p:nvPr/>
          </p:nvSpPr>
          <p:spPr>
            <a:xfrm>
              <a:off x="4533840" y="3962520"/>
              <a:ext cx="0" cy="19047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27720" y="3733920"/>
              <a:ext cx="17208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FP #1 5/6/98 to 3/12/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21080" y="5905440"/>
              <a:ext cx="4521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/9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608720" y="4038480"/>
            <a:ext cx="1639800" cy="2145240"/>
            <a:chOff x="4608720" y="4038480"/>
            <a:chExt cx="1639800" cy="2145240"/>
          </a:xfrm>
        </p:grpSpPr>
        <p:sp>
          <p:nvSpPr>
            <p:cNvPr id="76" name=""/>
            <p:cNvSpPr/>
            <p:nvPr/>
          </p:nvSpPr>
          <p:spPr>
            <a:xfrm>
              <a:off x="4800600" y="403848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08720" y="5907240"/>
              <a:ext cx="45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7/9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00600" y="4038480"/>
              <a:ext cx="14479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FA #1 7/24/98 to 3/12/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6089040" y="4495680"/>
            <a:ext cx="691200" cy="1906920"/>
            <a:chOff x="6089040" y="4495680"/>
            <a:chExt cx="691200" cy="1906920"/>
          </a:xfrm>
        </p:grpSpPr>
        <p:sp>
          <p:nvSpPr>
            <p:cNvPr id="80" name=""/>
            <p:cNvSpPr/>
            <p:nvPr/>
          </p:nvSpPr>
          <p:spPr>
            <a:xfrm>
              <a:off x="6118200" y="6126120"/>
              <a:ext cx="646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/18/9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6438960" y="49528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6089040" y="4495680"/>
              <a:ext cx="691200" cy="650520"/>
              <a:chOff x="6089040" y="4495680"/>
              <a:chExt cx="691200" cy="650520"/>
            </a:xfrm>
          </p:grpSpPr>
          <p:sp>
            <p:nvSpPr>
              <p:cNvPr id="83" name=""/>
              <p:cNvSpPr/>
              <p:nvPr/>
            </p:nvSpPr>
            <p:spPr>
              <a:xfrm flipV="1">
                <a:off x="6091200" y="4536360"/>
                <a:ext cx="685800" cy="609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089040" y="4495680"/>
                <a:ext cx="691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Approve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PA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" name=""/>
          <p:cNvGrpSpPr/>
          <p:nvPr/>
        </p:nvGrpSpPr>
        <p:grpSpPr>
          <a:xfrm>
            <a:off x="6708960" y="4343400"/>
            <a:ext cx="682560" cy="1838520"/>
            <a:chOff x="6708960" y="4343400"/>
            <a:chExt cx="682560" cy="1838520"/>
          </a:xfrm>
        </p:grpSpPr>
        <p:sp>
          <p:nvSpPr>
            <p:cNvPr id="86" name=""/>
            <p:cNvSpPr/>
            <p:nvPr/>
          </p:nvSpPr>
          <p:spPr>
            <a:xfrm>
              <a:off x="6708960" y="5905440"/>
              <a:ext cx="4521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/9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89680" y="4343400"/>
              <a:ext cx="50184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FP #2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6/14/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- 7/1/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96160" y="472428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7469280" y="4343400"/>
            <a:ext cx="682560" cy="1838520"/>
            <a:chOff x="7469280" y="4343400"/>
            <a:chExt cx="682560" cy="1838520"/>
          </a:xfrm>
        </p:grpSpPr>
        <p:sp>
          <p:nvSpPr>
            <p:cNvPr id="90" name=""/>
            <p:cNvSpPr/>
            <p:nvPr/>
          </p:nvSpPr>
          <p:spPr>
            <a:xfrm>
              <a:off x="7469280" y="5905440"/>
              <a:ext cx="4521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7/9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50000" y="4343400"/>
              <a:ext cx="50184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FI #1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9/13/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- 9/17/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56480" y="472428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7581240" y="1447920"/>
            <a:ext cx="569520" cy="4495320"/>
            <a:chOff x="7581240" y="1447920"/>
            <a:chExt cx="569520" cy="4495320"/>
          </a:xfrm>
        </p:grpSpPr>
        <p:sp>
          <p:nvSpPr>
            <p:cNvPr id="94" name=""/>
            <p:cNvSpPr/>
            <p:nvPr/>
          </p:nvSpPr>
          <p:spPr>
            <a:xfrm flipV="1">
              <a:off x="7883280" y="1676160"/>
              <a:ext cx="0" cy="426708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81240" y="1447920"/>
              <a:ext cx="56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</a:rPr>
                <a:t>Tod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DEB8-FB3A-4ED3-9D09-0411015EC7B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339840" y="3833640"/>
            <a:ext cx="8559000" cy="801720"/>
            <a:chOff x="339840" y="3833640"/>
            <a:chExt cx="8559000" cy="801720"/>
          </a:xfrm>
        </p:grpSpPr>
        <p:sp>
          <p:nvSpPr>
            <p:cNvPr id="97" name=""/>
            <p:cNvSpPr/>
            <p:nvPr/>
          </p:nvSpPr>
          <p:spPr>
            <a:xfrm>
              <a:off x="492120" y="410220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EEE 802.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82840" y="410220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omeRF L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473200" y="410220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454640" y="410220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erm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840" y="41022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68280" y="3833640"/>
              <a:ext cx="223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3. November 13, 1998 or soo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 flipV="1">
            <a:off x="228600" y="685800"/>
            <a:ext cx="0" cy="5549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39840" y="5410080"/>
            <a:ext cx="8229600" cy="801720"/>
            <a:chOff x="339840" y="5410080"/>
            <a:chExt cx="8229600" cy="801720"/>
          </a:xfrm>
        </p:grpSpPr>
        <p:sp>
          <p:nvSpPr>
            <p:cNvPr id="105" name=""/>
            <p:cNvSpPr/>
            <p:nvPr/>
          </p:nvSpPr>
          <p:spPr>
            <a:xfrm>
              <a:off x="492120" y="567864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EEE 802.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99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73200" y="567864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5/20/9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63920" y="567864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/22/9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67240" y="567864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erm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/22/9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48320" y="567864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/A-C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/22/9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39840" y="567864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67200" y="5410080"/>
              <a:ext cx="1851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. May 22, 1998 or soo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82840" y="567864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omeR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3/4/9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39840" y="3071880"/>
            <a:ext cx="8424360" cy="801720"/>
            <a:chOff x="339840" y="3071880"/>
            <a:chExt cx="8424360" cy="801720"/>
          </a:xfrm>
        </p:grpSpPr>
        <p:sp>
          <p:nvSpPr>
            <p:cNvPr id="114" name=""/>
            <p:cNvSpPr/>
            <p:nvPr/>
          </p:nvSpPr>
          <p:spPr>
            <a:xfrm>
              <a:off x="492120" y="334008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EEE 802.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82840" y="334008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omeRF L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73200" y="334008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54640" y="334008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erm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9840" y="334008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66120" y="3071880"/>
              <a:ext cx="209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4. January 15, 1999 or soo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26440" y="334008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Koda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39840" y="4572000"/>
            <a:ext cx="8229600" cy="801720"/>
            <a:chOff x="339840" y="4572000"/>
            <a:chExt cx="8229600" cy="801720"/>
          </a:xfrm>
        </p:grpSpPr>
        <p:sp>
          <p:nvSpPr>
            <p:cNvPr id="122" name=""/>
            <p:cNvSpPr/>
            <p:nvPr/>
          </p:nvSpPr>
          <p:spPr>
            <a:xfrm>
              <a:off x="492120" y="484020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EEE 802.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82840" y="484020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omeRF L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73200" y="484020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63920" y="484020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454640" y="484020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erm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45000" y="484020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otorol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9840" y="48402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66480" y="4572000"/>
              <a:ext cx="183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. July 10, 1998 or soo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35720" y="484020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/A-C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 flipV="1">
            <a:off x="3123720" y="4559040"/>
            <a:ext cx="2778120" cy="70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276360" y="4483080"/>
            <a:ext cx="373356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2895480" y="4559400"/>
            <a:ext cx="990720" cy="73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39840" y="2297160"/>
            <a:ext cx="8246160" cy="801720"/>
            <a:chOff x="339840" y="2297160"/>
            <a:chExt cx="8246160" cy="801720"/>
          </a:xfrm>
        </p:grpSpPr>
        <p:sp>
          <p:nvSpPr>
            <p:cNvPr id="135" name=""/>
            <p:cNvSpPr/>
            <p:nvPr/>
          </p:nvSpPr>
          <p:spPr>
            <a:xfrm>
              <a:off x="492120" y="256536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EEE 802.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82840" y="256536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omeRF L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73200" y="256536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54640" y="256536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erm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840" y="256536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67920" y="2297160"/>
              <a:ext cx="191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5. March 8, 1999 or soo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426440" y="256392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Koda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33720" y="76320"/>
            <a:ext cx="4876560" cy="22860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ireless Personal Area Networ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70080" y="6418440"/>
            <a:ext cx="1400040" cy="27648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Call For Propos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21840" y="6323040"/>
            <a:ext cx="66528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ai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662292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5240" y="635472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gence Achie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15080" y="6348240"/>
            <a:ext cx="168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gence Hap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42080" y="6348240"/>
            <a:ext cx="152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Converg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43080" y="1676520"/>
            <a:ext cx="8229600" cy="801720"/>
            <a:chOff x="343080" y="1676520"/>
            <a:chExt cx="8229600" cy="801720"/>
          </a:xfrm>
        </p:grpSpPr>
        <p:sp>
          <p:nvSpPr>
            <p:cNvPr id="150" name=""/>
            <p:cNvSpPr/>
            <p:nvPr/>
          </p:nvSpPr>
          <p:spPr>
            <a:xfrm>
              <a:off x="2476440" y="1944720"/>
              <a:ext cx="914400" cy="5335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3080" y="194472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69360" y="1676520"/>
              <a:ext cx="1759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6. July 1, 1999 or soo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2286000" y="662940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38480" y="662940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43080" y="1015920"/>
            <a:ext cx="8584560" cy="801720"/>
            <a:chOff x="343080" y="1015920"/>
            <a:chExt cx="8584560" cy="801720"/>
          </a:xfrm>
        </p:grpSpPr>
        <p:sp>
          <p:nvSpPr>
            <p:cNvPr id="156" name=""/>
            <p:cNvSpPr/>
            <p:nvPr/>
          </p:nvSpPr>
          <p:spPr>
            <a:xfrm>
              <a:off x="2476440" y="1284120"/>
              <a:ext cx="914400" cy="5335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3080" y="128412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71160" y="101592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7. September 13, 1999 or soo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43080" y="254160"/>
            <a:ext cx="8482680" cy="801000"/>
            <a:chOff x="343080" y="254160"/>
            <a:chExt cx="8482680" cy="801000"/>
          </a:xfrm>
        </p:grpSpPr>
        <p:grpSp>
          <p:nvGrpSpPr>
            <p:cNvPr id="160" name=""/>
            <p:cNvGrpSpPr/>
            <p:nvPr/>
          </p:nvGrpSpPr>
          <p:grpSpPr>
            <a:xfrm>
              <a:off x="343080" y="254160"/>
              <a:ext cx="8482680" cy="801000"/>
              <a:chOff x="343080" y="254160"/>
              <a:chExt cx="8482680" cy="801000"/>
            </a:xfrm>
          </p:grpSpPr>
          <p:sp>
            <p:nvSpPr>
              <p:cNvPr id="161" name=""/>
              <p:cNvSpPr/>
              <p:nvPr/>
            </p:nvSpPr>
            <p:spPr>
              <a:xfrm>
                <a:off x="2476440" y="522000"/>
                <a:ext cx="914400" cy="5331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Bluetoo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43080" y="522000"/>
                <a:ext cx="8229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671520" y="254160"/>
                <a:ext cx="2154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8. November 8, 1999 or soon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7429680" y="520560"/>
              <a:ext cx="914400" cy="533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Koda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540560" y="6008760"/>
            <a:ext cx="1299960" cy="30600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Call For Inte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03560" y="163440"/>
            <a:ext cx="6221160" cy="143856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IEEE P802.15.1 Draft v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Letter Ballot Issued to W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DCC6-41B8-4994-AC8C-D3C6A1FBA161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ergent WPAN Usage Models Are Starting to app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 PAR W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1 = W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 PAR W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1 = W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x = WPAN-HR (High R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y = WPAN-LR (Low R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852680" y="3581280"/>
            <a:ext cx="9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P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95800" y="2514600"/>
            <a:ext cx="13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PAN-H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18480" y="464832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WPAN-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50480" y="362124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P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258880" y="2362320"/>
            <a:ext cx="691200" cy="1906560"/>
            <a:chOff x="5258880" y="2362320"/>
            <a:chExt cx="691200" cy="1906560"/>
          </a:xfrm>
        </p:grpSpPr>
        <p:sp>
          <p:nvSpPr>
            <p:cNvPr id="174" name=""/>
            <p:cNvSpPr/>
            <p:nvPr/>
          </p:nvSpPr>
          <p:spPr>
            <a:xfrm>
              <a:off x="5288040" y="3992400"/>
              <a:ext cx="646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/18/9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608800" y="281880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5258880" y="2362320"/>
              <a:ext cx="691200" cy="650160"/>
              <a:chOff x="5258880" y="2362320"/>
              <a:chExt cx="691200" cy="650160"/>
            </a:xfrm>
          </p:grpSpPr>
          <p:sp>
            <p:nvSpPr>
              <p:cNvPr id="177" name=""/>
              <p:cNvSpPr/>
              <p:nvPr/>
            </p:nvSpPr>
            <p:spPr>
              <a:xfrm flipV="1">
                <a:off x="5261040" y="2403360"/>
                <a:ext cx="685800" cy="609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58880" y="2362320"/>
                <a:ext cx="691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Approve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PA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"/>
          <p:cNvSpPr/>
          <p:nvPr/>
        </p:nvSpPr>
        <p:spPr>
          <a:xfrm>
            <a:off x="216000" y="5715000"/>
            <a:ext cx="87120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WPAN Draft v0.6 was received 4Nov99.  WPAN-HR Call For Interest submission -99/115r0 w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eived 2Nov99.  The WPAN-LR Usage Model has not yet been addressed via IE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38680" y="38098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545800" y="3137040"/>
            <a:ext cx="2302920" cy="1358640"/>
            <a:chOff x="5545800" y="3137040"/>
            <a:chExt cx="2302920" cy="1358640"/>
          </a:xfrm>
        </p:grpSpPr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5618160" y="3137040"/>
              <a:ext cx="223056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5545800" y="363384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P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285C-E4EB-43AA-9135-12652F9B3F1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ive Liaison List Re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tooth Special Interest Group (Kardach/Bisdiki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EE 802.11 (Hayes/Kerry/Murr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SI BRAN Project (Khun-Jush/Delavers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M Forum WATM (Delavers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PAN-High Rate (Allen/Heberl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active Liaison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EE 802.1 (Lindinsky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EE 802.2 (Carls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meRF Working Group (Mann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 MobileIP (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SRC (Kurihar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P Forum (Parris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rDA (McK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Liaiso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new" descr=""/>
          <p:cNvPicPr/>
          <p:nvPr/>
        </p:nvPicPr>
        <p:blipFill>
          <a:blip r:embed="rId1"/>
          <a:stretch/>
        </p:blipFill>
        <p:spPr>
          <a:xfrm>
            <a:off x="698400" y="2997360"/>
            <a:ext cx="520920" cy="201600"/>
          </a:xfrm>
          <a:prstGeom prst="rect">
            <a:avLst/>
          </a:prstGeom>
          <a:ln w="0">
            <a:noFill/>
          </a:ln>
        </p:spPr>
      </p:pic>
      <p:pic>
        <p:nvPicPr>
          <p:cNvPr id="187" name="new" descr=""/>
          <p:cNvPicPr/>
          <p:nvPr/>
        </p:nvPicPr>
        <p:blipFill>
          <a:blip r:embed="rId2"/>
          <a:stretch/>
        </p:blipFill>
        <p:spPr>
          <a:xfrm>
            <a:off x="698400" y="3290760"/>
            <a:ext cx="520920" cy="201600"/>
          </a:xfrm>
          <a:prstGeom prst="rect">
            <a:avLst/>
          </a:prstGeom>
          <a:ln w="0">
            <a:noFill/>
          </a:ln>
        </p:spPr>
      </p:pic>
      <p:pic>
        <p:nvPicPr>
          <p:cNvPr id="188" name="new" descr=""/>
          <p:cNvPicPr/>
          <p:nvPr/>
        </p:nvPicPr>
        <p:blipFill>
          <a:blip r:embed="rId3"/>
          <a:stretch/>
        </p:blipFill>
        <p:spPr>
          <a:xfrm>
            <a:off x="698400" y="3557520"/>
            <a:ext cx="520920" cy="20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0B38-857A-49CB-84DC-0F49408BBC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EEE 802.15 Working Group for Wireless Personal Area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nal Liaison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41AB-7B27-4835-A58F-0EC66161A23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uetooth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con &amp;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Mail’s to Bluetooth S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Mail’s from Bluetooth S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Nov99 Jim Kardach to Ian Gifford -99/028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mit new TG1 Operating Rules to WG &amp; BSIG for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vise on LB #1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going Telecon’s &amp; Mee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B7E8-4BF2-4A4F-B693-F0B52B070D5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Ian Gifford</dc:creator>
  <dc:description>Ian Gifford, M/A-COM</dc:description>
  <cp:keywords>November 1999</cp:keywords>
  <dc:language>en-US</dc:language>
  <cp:lastModifiedBy>Ian C. Gifford</cp:lastModifiedBy>
  <cp:lastPrinted>1998-02-10T13:28:06Z</cp:lastPrinted>
  <dcterms:modified xsi:type="dcterms:W3CDTF">1999-11-08T23:08:33Z</dcterms:modified>
  <cp:revision>153</cp:revision>
  <dc:subject>#4</dc:subject>
  <dc:title>Liaison Report</dc:title>
</cp:coreProperties>
</file>