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7AE4-EF10-446E-A418-003197708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2443-6136-4F63-A917-5AD9A6290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FBF8-E4E2-4510-A534-A67963E15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66A7-25E0-4215-8011-898B9E8B11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B6DD-818C-42D7-8604-DB1AC1A31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F6B5-B8C8-401B-B084-A8C3E78E5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0506-159B-48EE-ABEA-46B2AD83F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D311-B17D-4D15-9D8F-F64947CDE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0107-7243-445F-9467-0CC6ADA86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8ADD-808C-40EF-B56D-80E178248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AD5B-DA7D-424B-81A6-08EC42FF3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3AE7-F3FE-4670-8872-2B0D868BC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7A94F72-3881-4A00-8545-7E1366423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 99037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81520" y="6438960"/>
            <a:ext cx="25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Harris Semi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8840" y="1847880"/>
            <a:ext cx="6055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Spectrum Management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FH + DS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wave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C05D-FBA7-482E-BB3F-DB78D0C245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A8A4-1C5D-425E-B975-76029BBC6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494C-DE5A-4036-A28D-F389D4A546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ua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5080" y="6094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CD66-20D8-443B-A5D6-49AE440DCF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593640"/>
            <a:ext cx="861048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C Invites Com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9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does not believe new rules will result in any significant increase in interference to direct sequence spread spectrum syste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on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SS can compensate by improving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to Amateur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0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believes that WBFH systems will achieve data rates substantially greater than 1 MHz sys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s of multipath interference and subsequent retrans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jamming margin test is based on use of a CW signal as an interference source but propose to use a Guassian interfe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of using a Guassian interferer in the current jamming margin test set-up and detailed measurement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5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proposes that results of jamming margin test be submitted along with a mathematical calculation of processing gain, if the DS system uses fewer than 10 chips per symb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to submit the results of the jamming margin test as well as a calculation of processing gain to verify complianc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81EE-F370-4F62-94B8-C267F0BD43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7640" y="1371600"/>
            <a:ext cx="865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WBFH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interference impact on legacy 802.11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DS Processing Gain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understand rul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Gaussian nois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6417-E23B-4BE2-9DE0-24D72DDFC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1266840"/>
          <a:ext cx="8318520" cy="80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66840"/>
                    <a:ext cx="8318520" cy="80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974960" y="60948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 Evening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DB29-D649-4919-84F8-781DF16EF2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2001-8B0D-446F-88F7-C0F4566B0F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ly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61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80" y="1854360"/>
            <a:ext cx="103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7640" y="2895480"/>
            <a:ext cx="94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8880" y="3963960"/>
            <a:ext cx="488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25960" y="4513320"/>
            <a:ext cx="582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7160" y="530532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4AEC-585D-4ED1-B099-8F8280324D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Bruce Kraemer</dc:creator>
  <dc:description/>
  <dc:language>en-US</dc:language>
  <cp:lastModifiedBy>Bruce Kraemer</cp:lastModifiedBy>
  <dcterms:modified xsi:type="dcterms:W3CDTF">1999-07-07T13:14:22Z</dcterms:modified>
  <cp:revision>26</cp:revision>
  <dc:subject/>
  <dc:title>No Slide Title</dc:title>
</cp:coreProperties>
</file>