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98DC31-C659-4D6F-B68F-40F3D2C0B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0F7-2B37-413C-BFA9-6D068E81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257-3363-40E5-A038-E570C840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3C8-F1D8-4329-80DB-E644ED16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EB7-530E-4F7C-B3A9-DD261F7E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770-FE43-4A4D-B93D-3F9F87A8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B15-C025-4A9F-AA1D-4F49CB5C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9D6-D7F9-43D5-93B9-8B4BE3BF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4AD-1863-444D-9995-3B943941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286-8358-4739-A342-D6152E9A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E20-02C6-46E7-8A30-05FF421A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86F-67DD-4238-87F8-AEECE048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CED-93AA-4BB1-810A-5E44A4C0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65B438-8A57-41CA-BB8A-AFA1F2B6A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4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ednesday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0B7-971B-48D3-99AA-9CD1B8C2AF5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77D-6C12-4ED0-9B4F-8A6889E3C8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8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9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11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942-E568-4210-A420-8A9BB588A8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EA3-094D-489F-AD5D-21AB363BA0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A46-CBD0-4624-93C9-D8C915A534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CC5-D86C-4C79-BCC7-290120A4B3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3:15pm and processed all of our Agenda Items and adjourned at 3:55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KERMANI TO BISDIKIAN VC REPLACEMENT -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TG1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DRAFT SUBMI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177-B89F-4801-99D6-EF81F8B44C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9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10:00am and processed all of our Agenda Items and adjourned at 11:55am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2 TO SUBMIT DRAFT TO WG LB 10NOV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3 TO EMPOWER INTERIM 10-14JAN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WG LETTER BALLOT #1 DISTRIBUTIO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P802.15.1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WEDNESDAY DRAFT TG1 REPORT TO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B66-7112-4A34-90A3-7EC553A04B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ursday,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1:00pm and processed all of our Agenda Items and adjourned at xx:yy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URSDAY DRAFT TG1 REPORT TO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3EC-9A1F-44CF-AAE2-A11B318C69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[LB1.zip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WG Letter Ballots of P802.15 in Adobe PDF, -99/112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Standard IEEE v0.6, P802-15/D0.6 in Adobe PDFs, Zip arch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Ballot #1 of P802.15 in MS Word, -99/113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Ballot #1 of P802.15 Comment Form in MS Word, -99/116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TG1 Editors, -99/060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m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5562720"/>
            <a:ext cx="86104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point your Browser and download your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1C8-FD8D-4A3F-8826-81343C0B89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47r0</dc:description>
  <dc:language>en-US</dc:language>
  <cp:lastModifiedBy>Ian C. Gifford</cp:lastModifiedBy>
  <cp:lastPrinted>1998-02-10T13:28:06Z</cp:lastPrinted>
  <dcterms:modified xsi:type="dcterms:W3CDTF">1999-11-11T23:06:12Z</dcterms:modified>
  <cp:revision>54</cp:revision>
  <dc:subject>IEEE 802.15 TG1 Report #3</dc:subject>
  <dc:title>IEEE P802.15 Working Group for Wireless Personal Area Networks</dc:title>
</cp:coreProperties>
</file>