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054F087-DA3A-4D46-8387-98BBF5EB0F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57400" y="700200"/>
            <a:ext cx="4624200" cy="3468600"/>
          </a:xfrm>
          <a:prstGeom prst="rect">
            <a:avLst/>
          </a:prstGeom>
          <a:ln w="0">
            <a:noFill/>
          </a:ln>
        </p:spPr>
      </p:sp>
      <p:sp>
        <p:nvSpPr>
          <p:cNvPr id="73" name="PlaceHolder 2"/>
          <p:cNvSpPr>
            <a:spLocks noGrp="1"/>
          </p:cNvSpPr>
          <p:nvPr>
            <p:ph type="body"/>
          </p:nvPr>
        </p:nvSpPr>
        <p:spPr>
          <a:xfrm>
            <a:off x="922320" y="4408560"/>
            <a:ext cx="508968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802.15 becomes one of the MAC/PHYs nestled under 802.1 and 802.2.  We will have to comprehend this infrastructure in our standard.  We do not have to be limited to </a:t>
            </a:r>
            <a:r>
              <a:rPr b="0" lang="en-US" sz="1200" spc="-1" strike="noStrike" u="sng">
                <a:solidFill>
                  <a:srgbClr val="000000"/>
                </a:solidFill>
                <a:uFillTx/>
                <a:latin typeface="Times New Roman"/>
              </a:rPr>
              <a:t>only</a:t>
            </a:r>
            <a:r>
              <a:rPr b="0" lang="en-US" sz="1200" spc="-1" strike="noStrike">
                <a:solidFill>
                  <a:srgbClr val="000000"/>
                </a:solidFill>
                <a:latin typeface="Times New Roman"/>
              </a:rPr>
              <a:t> these interfaces, howev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addition, we may find it necessary to include the LLC within our realm, rather than depending on coordination with another Working Group in 802.  (more about that la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51D5E3-CA93-4A31-B5E7-9D337691D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10DF9-F0C9-4140-868F-39B54E731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AC8728-B406-4DD0-86F0-D54D7685E2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0B0CCE-C870-4E47-9A2E-9CA1BBC37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F1BB8-BDB5-4C2C-9C00-510182B07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AF918-5BC7-4F84-B98B-A069B3A01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A2FC5-39AC-4BFE-BD1B-D4F6BF364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F3978-C9AD-4D1A-9130-77D4FC769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46F08-2E64-413C-B534-4623267F4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F9EF6-CB25-440B-87D1-2AA5F0DD9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350AC-16DC-4F77-8641-71535FD5F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AEC34-A078-448A-8C1F-A129C85BD6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1024781-93D7-474D-84FC-072BEF56C3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3716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78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2 Coordination Plann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C75FE93-8C86-4F08-8F42-0D81A493869D}"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nsor Functional Overvi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Draft Iss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Organizational Issu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9D60D8D-10D0-400F-9B27-85A0AAAE6FCB}" type="slidenum">
              <a:t>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802 Rules - 3.1 Functions</a:t>
            </a:r>
            <a:endParaRPr b="0" lang="en-US" sz="36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unction of the Executive Committee is to oversee the operation of the LAN MAN Standards Committee in the following ways:</a:t>
            </a:r>
            <a:endParaRPr b="0" lang="en-US" sz="24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harter the Study Groups, Working Groups and Technical Advisory Groups.</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Appoint the initial Chairs of the Working Groups and Technical Advisory Groups. (The Chairs of Working Groups and Technical Advisory Groups are confirmed or elected by the Working Group and Technical Advisory Group members themselves.)</a:t>
            </a:r>
            <a:endParaRPr b="0" lang="en-US" sz="2000" spc="-1" strike="noStrike">
              <a:solidFill>
                <a:srgbClr val="000000"/>
              </a:solidFill>
              <a:latin typeface="Arial"/>
            </a:endParaRPr>
          </a:p>
          <a:p>
            <a:pPr lvl="1" marL="698400" indent="-268560">
              <a:spcBef>
                <a:spcPts val="4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 Provide procedural and, if necessary, technical guidance to the Working Groups and Technical Advisory Groups as it relates to their charter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BB9FCA1-BBAB-4516-8D55-BB71B0EDDA2B}" type="slidenum">
              <a:t>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802 Rules - 3.1 Functions (cont.)</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d</a:t>
            </a:r>
            <a:endParaRPr b="0" lang="en-US" sz="1800" spc="-1" strike="noStrike">
              <a:solidFill>
                <a:srgbClr val="000000"/>
              </a:solidFill>
              <a:latin typeface="Arial"/>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Oversee Working Group and Technical Advisory Group operation to see that it is within the scope of Project 802, and the charter of the Working Groups and Technical Advisory Groups.</a:t>
            </a:r>
            <a:endParaRPr b="0" lang="en-US" sz="1600" spc="-1" strike="noStrike">
              <a:solidFill>
                <a:srgbClr val="000000"/>
              </a:solidFill>
              <a:latin typeface="Arial"/>
            </a:endParaRPr>
          </a:p>
          <a:p>
            <a:pPr lvl="1" marL="720720" indent="-277200">
              <a:spcBef>
                <a:spcPts val="4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e) Examine and approve Working Group draft standards for proper submission to sponsor ballot group (see Section 4); not for technical content.</a:t>
            </a:r>
            <a:endParaRPr b="0" lang="en-US" sz="1600" spc="-1" strike="noStrike">
              <a:solidFill>
                <a:srgbClr val="000000"/>
              </a:solidFill>
              <a:latin typeface="Arial"/>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 Consider complaints of Working Group and Technical Advisory Group members and the resolutions of the Plenary, Working Groups and Technical Advisory Groups.</a:t>
            </a:r>
            <a:endParaRPr b="0" lang="en-US" sz="1600" spc="-1" strike="noStrike">
              <a:solidFill>
                <a:srgbClr val="000000"/>
              </a:solidFill>
              <a:latin typeface="Arial"/>
            </a:endParaRPr>
          </a:p>
          <a:p>
            <a:pPr lvl="1" marL="720720" indent="-277200">
              <a:spcBef>
                <a:spcPts val="4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g) Manage the Functional Requirements and other global Project 802 issues.</a:t>
            </a:r>
            <a:endParaRPr b="0" lang="en-US" sz="1600" spc="-1" strike="noStrike">
              <a:solidFill>
                <a:srgbClr val="000000"/>
              </a:solidFill>
              <a:latin typeface="Arial"/>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 Handle press releases and other external organization matters.</a:t>
            </a:r>
            <a:endParaRPr b="0" lang="en-US" sz="1600" spc="-1" strike="noStrike">
              <a:solidFill>
                <a:srgbClr val="000000"/>
              </a:solidFill>
              <a:latin typeface="Arial"/>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Manage Project 802 logistics, i.e., concurrent Working Group and Technical Advisory Group meetings, finances, etc.</a:t>
            </a:r>
            <a:endParaRPr b="0" lang="en-US" sz="1600" spc="-1" strike="noStrike">
              <a:solidFill>
                <a:srgbClr val="000000"/>
              </a:solidFill>
              <a:latin typeface="Arial"/>
            </a:endParaRPr>
          </a:p>
          <a:p>
            <a:pPr lvl="1" marL="720720" indent="-277200">
              <a:spcBef>
                <a:spcPts val="4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j) Oversee formation of sponsor ballot groups and sponsor ballot process.</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C3E9CC5-F7FF-4A50-AE11-155E5CAA4A05}" type="slidenum">
              <a:t>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bout the 802 Functional Requirements?</a:t>
            </a:r>
            <a:endParaRPr b="0" lang="en-US" sz="32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ocument defines the functional requirements and guidelines for the IEEE 802 family of Local Area Networks and Metropolitan Area Networks. The functional requirements include the use, environment, functions, and recommended performance of such networks. It also defines the functional requirements for interfaces and protocols. The guidelines are those items which, while not mandatory, give direction to standards developers in development of those standards. The material that is defined as requirements is shown in bold text, while the guidance material is shown in italics.</a:t>
            </a:r>
            <a:endParaRPr b="0" lang="en-US" sz="2000" spc="-1" strike="noStrike">
              <a:solidFill>
                <a:srgbClr val="000000"/>
              </a:solidFill>
              <a:latin typeface="Arial"/>
            </a:endParaRPr>
          </a:p>
        </p:txBody>
      </p:sp>
      <p:sp>
        <p:nvSpPr>
          <p:cNvPr id="65" name=""/>
          <p:cNvSpPr/>
          <p:nvPr/>
        </p:nvSpPr>
        <p:spPr>
          <a:xfrm>
            <a:off x="583200" y="5527800"/>
            <a:ext cx="754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 http://grouper.ieee.org/groups/802/11/fureq6-8.htm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EA21EF7-1832-487E-B6DB-2B99D4A7022A}" type="slidenum">
              <a:t>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 a Family of Standards</a:t>
            </a:r>
            <a:endParaRPr b="0" lang="en-US" sz="3600" spc="-1" strike="noStrike">
              <a:solidFill>
                <a:srgbClr val="000000"/>
              </a:solidFill>
              <a:latin typeface="Times New Roman"/>
            </a:endParaRPr>
          </a:p>
        </p:txBody>
      </p:sp>
      <p:pic>
        <p:nvPicPr>
          <p:cNvPr id="67" name="" descr=""/>
          <p:cNvPicPr/>
          <p:nvPr/>
        </p:nvPicPr>
        <p:blipFill>
          <a:blip r:embed="rId1"/>
          <a:stretch/>
        </p:blipFill>
        <p:spPr>
          <a:xfrm>
            <a:off x="279360" y="1828800"/>
            <a:ext cx="8583480" cy="3719520"/>
          </a:xfrm>
          <a:prstGeom prst="rect">
            <a:avLst/>
          </a:prstGeom>
          <a:ln w="0">
            <a:noFill/>
          </a:ln>
        </p:spPr>
      </p:pic>
      <p:sp>
        <p:nvSpPr>
          <p:cNvPr id="68" name=""/>
          <p:cNvSpPr/>
          <p:nvPr/>
        </p:nvSpPr>
        <p:spPr>
          <a:xfrm>
            <a:off x="8001000" y="3809880"/>
            <a:ext cx="762120" cy="1371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CCB21452-643B-458A-896C-1838BB465536}" type="slidenum">
              <a:t>6</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re to follow...</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78E4228A-61C3-4375-BA3F-E3DB8E7B7438}" type="slidenum">
              <a:t>7</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ey URLs</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grouper.ieee.org/groups/80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802 Operating Rules and Other Docum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grouper.ieee.org/groups/802/devdocs.htm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DB903A4-E353-4606-9096-22837B7BACC4}" type="slidenum">
              <a:t>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5T14:06:10Z</dcterms:created>
  <dc:creator>Ian C. Gifford</dc:creator>
  <dc:description>078r0</dc:description>
  <dc:language>en-US</dc:language>
  <cp:lastModifiedBy>Ian C. Gifford</cp:lastModifiedBy>
  <cp:lastPrinted>1998-02-10T13:28:06Z</cp:lastPrinted>
  <dcterms:modified xsi:type="dcterms:W3CDTF">1999-09-15T14:38:25Z</dcterms:modified>
  <cp:revision>5</cp:revision>
  <dc:subject>IEEE 802.15 Planning</dc:subject>
  <dc:title>802 Coordination Planning</dc:title>
</cp:coreProperties>
</file>