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FFF-D727-48CA-A8AF-88478720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4AA-1FD3-4F99-BFBD-33C405C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6FD-CC13-4BFC-B27B-3BF4B6B7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3E5-E732-4AB8-9B3D-5FDDC744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C54-2272-413B-B5D7-DAF3594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DD2-1E64-47B8-9035-EF12D563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746-8336-40D1-845C-4068D35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C23-B950-49A2-9C63-2996007B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6F4-17AD-4B03-B085-91B7650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8D9-4A20-42DB-AC76-D9D8F34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2EF-4426-4DED-8CE0-57332AA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473-0600-400C-856C-02F54412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DD3943-5724-466E-8B74-8969F23BA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of Meeting Available on 802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 Attendance 467 vs 488 plan but with a $5600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voted to increase munchies budget by $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802.16 PAR on Coexistence of Broadband Wireless Access Systems with a project number of 802.1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f 802.16 to 802.16.1 was tab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E95-0CF5-4D39-8C53-67AD4C9B54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letter to FCC regarding RF 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Comments to FCC on Wideband FH proposal subject to approval  by US Activities 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encouraged to work with HomeRF at Sept Meeting to resolve a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802.11 a&amp;b to RevCom subject to compliance with conditional approval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F1D-EE1E-4D87-AF32-DF2C51B808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letters to ETSI requesting consideration of 802.11a as a member of the HIPERLAN family of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1 SG on isochronous service and other enhancements--John Fakatselis, c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rmed Officers of 802.15 through March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550-F818-4A0F-A4D5-0DD32C3443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5 SG on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did not see need for separate SG, covered by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thought it important, but scope beyond dot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le promised strong liaisons, especially with do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 did not understand need for includ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rried to strik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would like to see specific recommendations, by November, why this activity should stay within dot15 rather than being elevated to 802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C22-37C2-445C-A729-7833ED6821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art Kerry appointed chair of SEC subcommittee to prepare a recommendation on Network Access and Services by Sept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Multiple MACs and Multiple Standards per WG was socialized.  No Action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802 Plenary Meeting moved to 11-12 timeslot allowing WGs to begin work at 1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adjourned at mid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20-97B3-4CCA-A63B-59EC4209B4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Bridget Labrode</dc:creator>
  <dc:description/>
  <dc:language>en-US</dc:language>
  <cp:lastModifiedBy>Bridget Labrode</cp:lastModifiedBy>
  <dcterms:modified xsi:type="dcterms:W3CDTF">1999-09-13T13:24:29Z</dcterms:modified>
  <cp:revision>5</cp:revision>
  <dc:subject/>
  <dc:title>No Slide Title</dc:title>
</cp:coreProperties>
</file>