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54.wmf" ContentType="image/x-wmf"/>
  <Override PartName="/ppt/media/image1.wmf" ContentType="image/x-wmf"/>
  <Override PartName="/ppt/media/image31.wmf" ContentType="image/x-wmf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13.png" ContentType="image/png"/>
  <Override PartName="/ppt/media/image53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6.wmf" ContentType="image/x-wmf"/>
  <Override PartName="/ppt/media/image47.wmf" ContentType="image/x-wmf"/>
  <Override PartName="/ppt/media/image50.png" ContentType="image/png"/>
  <Override PartName="/ppt/media/image33.wmf" ContentType="image/x-wmf"/>
  <Override PartName="/ppt/media/image52.png" ContentType="image/png"/>
  <Override PartName="/ppt/media/image5.wmf" ContentType="image/x-wmf"/>
  <Override PartName="/ppt/media/image35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32.wmf" ContentType="image/x-wmf"/>
  <Override PartName="/ppt/media/image49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42.wmf" ContentType="image/x-wmf"/>
  <Override PartName="/ppt/media/image9.png" ContentType="image/png"/>
  <Override PartName="/ppt/media/image56.png" ContentType="image/png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AEC-09B4-4F1C-9A32-E89D1B62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E6A-CE48-4947-873D-2B8F185B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5DD-D652-4DB4-9882-7353E797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03B-73A9-436D-9C38-69848D1B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FDD-F20A-4E04-BCA5-0DF8E42D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CC0-0BC1-4693-849E-61EC454E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489B-F1B0-4FAC-BBB9-72E7D277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9D5D-6268-4057-AF2B-FCAAD06A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692-EC58-4114-A354-6506E8E6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006-831D-4128-82D7-FD8E9BA8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4F4-4B36-4EFC-8D21-BAEEBD9C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495-3D2E-404F-9E63-55B6C30B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1F0874B-B7F7-4D44-A3D5-43B896B28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4.png"/><Relationship Id="rId6" Type="http://schemas.openxmlformats.org/officeDocument/2006/relationships/image" Target="../media/image20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9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9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0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7.wmf"/><Relationship Id="rId6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uetooth Architecture Overvie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. Chatschik Bisdikia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M Researc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J. Watson Research Cen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wthorne, NY 10532, US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sdik@us.ib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0CC-5A3D-484E-8306-3AA4673D8AA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62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4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6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7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9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1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3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4192200"/>
            <a:ext cx="7772400" cy="12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maintaine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inform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C60-BC64-4242-B8D2-5DE17BEA7C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324160" y="574524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83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5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7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8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0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9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2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</p:pic>
      <p:grpSp>
        <p:nvGrpSpPr>
          <p:cNvPr id="493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94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device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dless phon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’s fre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01D-FAAF-4A4C-9373-21A58A5F74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</p:pic>
      <p:pic>
        <p:nvPicPr>
          <p:cNvPr id="499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3940200" y="2441520"/>
            <a:ext cx="4460760" cy="1521000"/>
            <a:chOff x="3940200" y="2441520"/>
            <a:chExt cx="4460760" cy="1521000"/>
          </a:xfrm>
        </p:grpSpPr>
        <p:pic>
          <p:nvPicPr>
            <p:cNvPr id="501" name="" descr=""/>
            <p:cNvPicPr/>
            <p:nvPr/>
          </p:nvPicPr>
          <p:blipFill>
            <a:blip r:embed="rId3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2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3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8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3940200" y="2671920"/>
              <a:ext cx="860400" cy="1054080"/>
              <a:chOff x="3940200" y="2671920"/>
              <a:chExt cx="860400" cy="1054080"/>
            </a:xfrm>
          </p:grpSpPr>
          <p:sp>
            <p:nvSpPr>
              <p:cNvPr id="513" name=""/>
              <p:cNvSpPr/>
              <p:nvPr/>
            </p:nvSpPr>
            <p:spPr>
              <a:xfrm rot="20846400">
                <a:off x="4006080" y="2741760"/>
                <a:ext cx="529200" cy="491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4" name="tosh500" descr=""/>
              <p:cNvPicPr/>
              <p:nvPr/>
            </p:nvPicPr>
            <p:blipFill>
              <a:blip r:embed="rId4"/>
              <a:stretch/>
            </p:blipFill>
            <p:spPr>
              <a:xfrm>
                <a:off x="3940200" y="2671920"/>
                <a:ext cx="860400" cy="105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5" name="globe3" descr=""/>
            <p:cNvPicPr/>
            <p:nvPr/>
          </p:nvPicPr>
          <p:blipFill>
            <a:blip r:embed="rId5"/>
            <a:srcRect l="13639" t="0" r="12661" b="0"/>
            <a:stretch/>
          </p:blipFill>
          <p:spPr>
            <a:xfrm>
              <a:off x="6994440" y="2441520"/>
              <a:ext cx="1406520" cy="15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6" name="" descr=""/>
          <p:cNvPicPr/>
          <p:nvPr/>
        </p:nvPicPr>
        <p:blipFill>
          <a:blip r:embed="rId6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17" name=""/>
          <p:cNvGrpSpPr/>
          <p:nvPr/>
        </p:nvGrpSpPr>
        <p:grpSpPr>
          <a:xfrm>
            <a:off x="4338000" y="1036800"/>
            <a:ext cx="2643120" cy="988560"/>
            <a:chOff x="4338000" y="1036800"/>
            <a:chExt cx="2643120" cy="988560"/>
          </a:xfrm>
        </p:grpSpPr>
        <p:pic>
          <p:nvPicPr>
            <p:cNvPr id="518" name="" descr=""/>
            <p:cNvPicPr/>
            <p:nvPr/>
          </p:nvPicPr>
          <p:blipFill>
            <a:blip r:embed="rId7"/>
            <a:stretch/>
          </p:blipFill>
          <p:spPr>
            <a:xfrm>
              <a:off x="5351400" y="1547640"/>
              <a:ext cx="973080" cy="41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9" name=""/>
            <p:cNvGrpSpPr/>
            <p:nvPr/>
          </p:nvGrpSpPr>
          <p:grpSpPr>
            <a:xfrm>
              <a:off x="4338000" y="1547640"/>
              <a:ext cx="919080" cy="477720"/>
              <a:chOff x="4338000" y="1547640"/>
              <a:chExt cx="919080" cy="477720"/>
            </a:xfrm>
          </p:grpSpPr>
          <p:sp>
            <p:nvSpPr>
              <p:cNvPr id="520" name=""/>
              <p:cNvSpPr/>
              <p:nvPr/>
            </p:nvSpPr>
            <p:spPr>
              <a:xfrm>
                <a:off x="433800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48956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4220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80924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4964040" y="1036800"/>
              <a:ext cx="1633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PSTN, ISDN,</a:t>
              </a:r>
              <a:br>
                <a:rPr sz="1200"/>
              </a:b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LAN, WAN, x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6062040" y="1547640"/>
              <a:ext cx="919080" cy="477720"/>
              <a:chOff x="6062040" y="1547640"/>
              <a:chExt cx="919080" cy="477720"/>
            </a:xfrm>
          </p:grpSpPr>
          <p:sp>
            <p:nvSpPr>
              <p:cNvPr id="526" name=""/>
              <p:cNvSpPr/>
              <p:nvPr/>
            </p:nvSpPr>
            <p:spPr>
              <a:xfrm>
                <a:off x="606204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1360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36624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3328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0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access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4008240"/>
            <a:ext cx="7772400" cy="16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ore conne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y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connection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7FC-53F5-42CB-A992-33399F8556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133720" y="551988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4998960"/>
            <a:ext cx="2898720" cy="4557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33720" y="4021200"/>
            <a:ext cx="709560" cy="9126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01960" y="451008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01960" y="4021200"/>
            <a:ext cx="1360440" cy="423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33720" y="271944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33720" y="219708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06720" y="219708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13320" y="219708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40240" y="219708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167652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18840" y="31100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7809800">
            <a:off x="4582440" y="3129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86400" y="3886200"/>
            <a:ext cx="426960" cy="1828800"/>
          </a:xfrm>
          <a:custGeom>
            <a:avLst/>
            <a:gdLst>
              <a:gd name="textAreaLeft" fmla="*/ 0 w 426960"/>
              <a:gd name="textAreaRight" fmla="*/ 154080 w 426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444960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mostly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92DD-B337-447A-8676-11464B6BF94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synthesis: frequency h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bits into symbols: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B39-2983-439E-9992-CC01B441A8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52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network top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ed radios can be master or  sl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s are symmetric (same radio can be master or sl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 can connect to 7 simultaneous or 200+ active slaves per pico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iconet has maximum capacity (1 MS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que hopping pattern/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capac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al impact with up to 10 piconets within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s can share piconet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84D-2CA7-4126-B28F-F03C9C9C291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ico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7640640" y="4191120"/>
          <a:ext cx="4366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0640" y="4191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7658280" y="4457880"/>
          <a:ext cx="399960" cy="37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58280" y="4457880"/>
                    <a:ext cx="39996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7661160" y="5791320"/>
          <a:ext cx="39528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61160" y="57913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0" name=""/>
          <p:cNvGrpSpPr/>
          <p:nvPr/>
        </p:nvGrpSpPr>
        <p:grpSpPr>
          <a:xfrm>
            <a:off x="7300800" y="5486400"/>
            <a:ext cx="1157400" cy="395280"/>
            <a:chOff x="7300800" y="5486400"/>
            <a:chExt cx="1157400" cy="395280"/>
          </a:xfrm>
        </p:grpSpPr>
        <p:graphicFrame>
          <p:nvGraphicFramePr>
            <p:cNvPr id="591" name=""/>
            <p:cNvGraphicFramePr/>
            <p:nvPr/>
          </p:nvGraphicFramePr>
          <p:xfrm>
            <a:off x="7300800" y="5486400"/>
            <a:ext cx="395280" cy="3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0080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" name=""/>
            <p:cNvGraphicFramePr/>
            <p:nvPr/>
          </p:nvGraphicFramePr>
          <p:xfrm>
            <a:off x="8062920" y="5486400"/>
            <a:ext cx="395280" cy="395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6292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5" name=""/>
            <p:cNvSpPr/>
            <p:nvPr/>
          </p:nvSpPr>
          <p:spPr>
            <a:xfrm>
              <a:off x="7682040" y="5486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6" name=""/>
          <p:cNvGraphicFramePr/>
          <p:nvPr/>
        </p:nvGraphicFramePr>
        <p:xfrm>
          <a:off x="7661160" y="4822920"/>
          <a:ext cx="395280" cy="3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61160" y="48229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457200" y="457200"/>
            <a:ext cx="291312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087560" y="1352520"/>
            <a:ext cx="320400" cy="29844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6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6"/>
                </a:lnTo>
                <a:lnTo>
                  <a:pt x="403" y="188"/>
                </a:lnTo>
                <a:lnTo>
                  <a:pt x="400" y="221"/>
                </a:lnTo>
                <a:lnTo>
                  <a:pt x="391" y="253"/>
                </a:lnTo>
                <a:lnTo>
                  <a:pt x="376" y="282"/>
                </a:lnTo>
                <a:lnTo>
                  <a:pt x="357" y="309"/>
                </a:lnTo>
                <a:lnTo>
                  <a:pt x="331" y="333"/>
                </a:lnTo>
                <a:lnTo>
                  <a:pt x="302" y="352"/>
                </a:lnTo>
                <a:lnTo>
                  <a:pt x="271" y="365"/>
                </a:lnTo>
                <a:lnTo>
                  <a:pt x="237" y="375"/>
                </a:lnTo>
                <a:lnTo>
                  <a:pt x="201" y="376"/>
                </a:lnTo>
                <a:lnTo>
                  <a:pt x="167" y="375"/>
                </a:lnTo>
                <a:lnTo>
                  <a:pt x="133" y="365"/>
                </a:lnTo>
                <a:lnTo>
                  <a:pt x="100" y="352"/>
                </a:lnTo>
                <a:lnTo>
                  <a:pt x="71" y="333"/>
                </a:lnTo>
                <a:lnTo>
                  <a:pt x="47" y="309"/>
                </a:lnTo>
                <a:lnTo>
                  <a:pt x="27" y="282"/>
                </a:lnTo>
                <a:lnTo>
                  <a:pt x="11" y="253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34800" y="14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70240" y="105408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3"/>
                </a:lnTo>
                <a:lnTo>
                  <a:pt x="202" y="377"/>
                </a:lnTo>
                <a:lnTo>
                  <a:pt x="166" y="373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4240" y="1127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370240" y="254952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5"/>
                </a:lnTo>
                <a:lnTo>
                  <a:pt x="202" y="377"/>
                </a:lnTo>
                <a:lnTo>
                  <a:pt x="166" y="375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14240" y="26226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87560" y="2249640"/>
            <a:ext cx="320400" cy="29988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4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4"/>
                </a:lnTo>
                <a:lnTo>
                  <a:pt x="403" y="188"/>
                </a:lnTo>
                <a:lnTo>
                  <a:pt x="400" y="221"/>
                </a:lnTo>
                <a:lnTo>
                  <a:pt x="391" y="252"/>
                </a:lnTo>
                <a:lnTo>
                  <a:pt x="376" y="282"/>
                </a:lnTo>
                <a:lnTo>
                  <a:pt x="357" y="309"/>
                </a:lnTo>
                <a:lnTo>
                  <a:pt x="331" y="331"/>
                </a:lnTo>
                <a:lnTo>
                  <a:pt x="302" y="351"/>
                </a:lnTo>
                <a:lnTo>
                  <a:pt x="271" y="365"/>
                </a:lnTo>
                <a:lnTo>
                  <a:pt x="237" y="373"/>
                </a:lnTo>
                <a:lnTo>
                  <a:pt x="201" y="376"/>
                </a:lnTo>
                <a:lnTo>
                  <a:pt x="167" y="373"/>
                </a:lnTo>
                <a:lnTo>
                  <a:pt x="133" y="365"/>
                </a:lnTo>
                <a:lnTo>
                  <a:pt x="100" y="351"/>
                </a:lnTo>
                <a:lnTo>
                  <a:pt x="71" y="331"/>
                </a:lnTo>
                <a:lnTo>
                  <a:pt x="47" y="309"/>
                </a:lnTo>
                <a:lnTo>
                  <a:pt x="27" y="282"/>
                </a:lnTo>
                <a:lnTo>
                  <a:pt x="11" y="252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34800" y="2322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74840" y="1817640"/>
            <a:ext cx="318960" cy="298440"/>
          </a:xfrm>
          <a:custGeom>
            <a:avLst/>
            <a:gdLst/>
            <a:ahLst/>
            <a:rect l="l" t="t" r="r" b="b"/>
            <a:pathLst>
              <a:path w="404" h="377">
                <a:moveTo>
                  <a:pt x="0" y="188"/>
                </a:moveTo>
                <a:lnTo>
                  <a:pt x="4" y="155"/>
                </a:lnTo>
                <a:lnTo>
                  <a:pt x="12" y="123"/>
                </a:lnTo>
                <a:lnTo>
                  <a:pt x="28" y="94"/>
                </a:lnTo>
                <a:lnTo>
                  <a:pt x="46" y="67"/>
                </a:lnTo>
                <a:lnTo>
                  <a:pt x="72" y="43"/>
                </a:lnTo>
                <a:lnTo>
                  <a:pt x="101" y="24"/>
                </a:lnTo>
                <a:lnTo>
                  <a:pt x="134" y="11"/>
                </a:lnTo>
                <a:lnTo>
                  <a:pt x="166" y="2"/>
                </a:lnTo>
                <a:lnTo>
                  <a:pt x="202" y="0"/>
                </a:lnTo>
                <a:lnTo>
                  <a:pt x="236" y="2"/>
                </a:lnTo>
                <a:lnTo>
                  <a:pt x="271" y="11"/>
                </a:lnTo>
                <a:lnTo>
                  <a:pt x="303" y="24"/>
                </a:lnTo>
                <a:lnTo>
                  <a:pt x="332" y="43"/>
                </a:lnTo>
                <a:lnTo>
                  <a:pt x="356" y="67"/>
                </a:lnTo>
                <a:lnTo>
                  <a:pt x="377" y="94"/>
                </a:lnTo>
                <a:lnTo>
                  <a:pt x="392" y="123"/>
                </a:lnTo>
                <a:lnTo>
                  <a:pt x="400" y="155"/>
                </a:lnTo>
                <a:lnTo>
                  <a:pt x="404" y="188"/>
                </a:lnTo>
                <a:lnTo>
                  <a:pt x="400" y="220"/>
                </a:lnTo>
                <a:lnTo>
                  <a:pt x="392" y="252"/>
                </a:lnTo>
                <a:lnTo>
                  <a:pt x="377" y="282"/>
                </a:lnTo>
                <a:lnTo>
                  <a:pt x="356" y="310"/>
                </a:lnTo>
                <a:lnTo>
                  <a:pt x="332" y="332"/>
                </a:lnTo>
                <a:lnTo>
                  <a:pt x="303" y="351"/>
                </a:lnTo>
                <a:lnTo>
                  <a:pt x="271" y="365"/>
                </a:lnTo>
                <a:lnTo>
                  <a:pt x="236" y="373"/>
                </a:lnTo>
                <a:lnTo>
                  <a:pt x="202" y="377"/>
                </a:lnTo>
                <a:lnTo>
                  <a:pt x="166" y="373"/>
                </a:lnTo>
                <a:lnTo>
                  <a:pt x="134" y="365"/>
                </a:lnTo>
                <a:lnTo>
                  <a:pt x="101" y="351"/>
                </a:lnTo>
                <a:lnTo>
                  <a:pt x="72" y="332"/>
                </a:lnTo>
                <a:lnTo>
                  <a:pt x="46" y="310"/>
                </a:lnTo>
                <a:lnTo>
                  <a:pt x="28" y="282"/>
                </a:lnTo>
                <a:lnTo>
                  <a:pt x="12" y="252"/>
                </a:lnTo>
                <a:lnTo>
                  <a:pt x="4" y="220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20640" y="18907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2779560" y="1106640"/>
          <a:ext cx="339840" cy="33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9560" y="1106640"/>
                    <a:ext cx="33984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2779560" y="2471760"/>
          <a:ext cx="339840" cy="34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79560" y="2471760"/>
                    <a:ext cx="339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1071720" y="2608200"/>
          <a:ext cx="341280" cy="345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71720" y="2608200"/>
                    <a:ext cx="34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662040" y="1311120"/>
          <a:ext cx="358560" cy="33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040" y="1311120"/>
                    <a:ext cx="358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593640" y="2266920"/>
          <a:ext cx="392040" cy="238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3640" y="2266920"/>
                    <a:ext cx="3920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934920" y="1038240"/>
          <a:ext cx="392400" cy="236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34920" y="1038240"/>
                    <a:ext cx="3924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1892160" y="2540160"/>
          <a:ext cx="390600" cy="237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892160" y="2540160"/>
                    <a:ext cx="390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2301840" y="696960"/>
          <a:ext cx="390600" cy="236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01840" y="69696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2711520" y="1754280"/>
          <a:ext cx="339480" cy="341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11520" y="1754280"/>
                    <a:ext cx="339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1824120" y="1685880"/>
          <a:ext cx="390600" cy="238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824120" y="1685880"/>
                    <a:ext cx="39060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"/>
          <p:cNvSpPr/>
          <p:nvPr/>
        </p:nvSpPr>
        <p:spPr>
          <a:xfrm>
            <a:off x="5899320" y="492120"/>
            <a:ext cx="291276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6513480" y="1071720"/>
          <a:ext cx="1639800" cy="1820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13480" y="1071720"/>
                    <a:ext cx="163980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6103800" y="1344600"/>
          <a:ext cx="358920" cy="341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03800" y="1344600"/>
                    <a:ext cx="3589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6377040" y="1071720"/>
          <a:ext cx="392040" cy="237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377040" y="107172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7334280" y="2575080"/>
          <a:ext cx="390600" cy="236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34280" y="257508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7743960" y="730080"/>
          <a:ext cx="390240" cy="238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743960" y="730080"/>
                    <a:ext cx="390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6035760" y="2028960"/>
          <a:ext cx="392040" cy="237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035760" y="202896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6513480" y="2643120"/>
          <a:ext cx="358920" cy="339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513480" y="264312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7334280" y="2301840"/>
          <a:ext cx="390600" cy="236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33428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8221680" y="2438280"/>
          <a:ext cx="358920" cy="33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221680" y="243828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7743960" y="457200"/>
          <a:ext cx="390240" cy="23796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743960" y="457200"/>
                    <a:ext cx="390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8221680" y="1071720"/>
          <a:ext cx="358920" cy="3394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221680" y="1071720"/>
                    <a:ext cx="35892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8016840" y="1754280"/>
          <a:ext cx="339840" cy="341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8016840" y="1754280"/>
                    <a:ext cx="339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7196040" y="1617840"/>
          <a:ext cx="392040" cy="23796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196040" y="161784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6035760" y="2301840"/>
          <a:ext cx="390600" cy="236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03576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3276720" y="1676520"/>
            <a:ext cx="2743200" cy="457200"/>
          </a:xfrm>
          <a:prstGeom prst="rightArrow">
            <a:avLst>
              <a:gd name="adj1" fmla="val 33333"/>
              <a:gd name="adj2" fmla="val 12713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evices in a piconet hop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 a piconet: master gives slaves 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vice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ping pattern determin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vice I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8-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n hopping pattern determin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piconet devices are in stand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onet 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Member Address (AMA, 3-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ed Member Address (PMA, 8-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E84-2750-4E7A-9523-261315451F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 to join a pico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q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k about radios to connect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 to a specific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ly on a piconet (master or sl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/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-power connected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99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709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712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715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A8B-62F5-4D86-AFE8-681FEFB8D9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wer conscious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by current &lt; 0.3 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months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 mode 8-30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5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de average 5 m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.3-30mA, 20 kbps, 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-power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data length (else radio slee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 and Park modes: 60 µ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s connected but not particip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 retains AMA address, Park releases AMA, gets PMA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 can participate within 2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imates calculated with 600 mAh battery and internal amplifier, power will vary with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DCD-27D5-45DA-A1E0-0BF6F0DCA3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link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ing-based packet 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slot: 0.625msec (max 1600 slots/s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/slave slots (even-/odd-numbered sl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ling: master always “polls” sl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connection-oriented (SCO)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uit-switch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single-slot packet ass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metric 64Kbps full-du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connection-less (ACL)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swit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ymmetric bandwid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packet size (1-5 sl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x. 721 kbps (57.6 kbps return chann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.8 - 432.6 kbps (symmetr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723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745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759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763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777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781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FED-B9AB-49C9-B3EA-19A9424884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knowledgement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would like to acknowledge J. Haartsen, J. Inouye, J. Kardach, T. Muller and J. Webb for assisting me in the preparation of this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EE7-1A1A-4A6F-8508-A01CA105877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-error correction (F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s are protected with 1/3 rate FEC and H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s may be FEC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3 rate: simple bit repetition (SCO packet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/3 rate: (10,15) shortened Hamming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/3 rate: no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Q (ACL packets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-bit CRC (CRC-CCITT) &amp; 1-bit ACK/N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bit sequ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886200" y="2154240"/>
            <a:ext cx="4483080" cy="57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00040" y="2154240"/>
            <a:ext cx="1009800" cy="577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97200" y="2154240"/>
            <a:ext cx="804960" cy="5778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43000" y="2790720"/>
            <a:ext cx="152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ess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43920" y="279072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610960" y="278928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2800" y="1854360"/>
            <a:ext cx="58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882880" y="1854360"/>
            <a:ext cx="63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53960" y="183024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C18-76B8-4295-8DD8-ED9952524F4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security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frequency hopping (79 chann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transmit power (range &lt;= 10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remot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link key (128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performed in both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of payloa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 cipher algorithm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28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all traffic on 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 entry by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EEA-E7DC-4F76-90DA-C88CC16FEA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"/>
          <p:cNvGrpSpPr/>
          <p:nvPr/>
        </p:nvGrpSpPr>
        <p:grpSpPr>
          <a:xfrm>
            <a:off x="4267080" y="1143000"/>
            <a:ext cx="4289400" cy="4419360"/>
            <a:chOff x="4267080" y="1143000"/>
            <a:chExt cx="4289400" cy="4419360"/>
          </a:xfrm>
        </p:grpSpPr>
        <p:sp>
          <p:nvSpPr>
            <p:cNvPr id="798" name=""/>
            <p:cNvSpPr/>
            <p:nvPr/>
          </p:nvSpPr>
          <p:spPr>
            <a:xfrm>
              <a:off x="4267080" y="1143000"/>
              <a:ext cx="4289400" cy="44193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898880" y="1523880"/>
              <a:ext cx="3027240" cy="1212840"/>
            </a:xfrm>
            <a:prstGeom prst="ellipse">
              <a:avLst/>
            </a:prstGeom>
            <a:solidFill>
              <a:srgbClr val="ffffcc"/>
            </a:solidFill>
            <a:ln w="57240">
              <a:solidFill>
                <a:srgbClr val="33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35400" y="3619440"/>
              <a:ext cx="422280" cy="458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73680" y="434952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146560" y="190008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92880" y="1942920"/>
              <a:ext cx="420480" cy="46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349600" y="4865400"/>
              <a:ext cx="351000" cy="3891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5" name=""/>
            <p:cNvCxnSpPr>
              <a:stCxn id="802" idx="5"/>
              <a:endCxn id="800" idx="1"/>
            </p:cNvCxnSpPr>
            <p:nvPr/>
          </p:nvCxnSpPr>
          <p:spPr>
            <a:xfrm>
              <a:off x="5446440" y="2218680"/>
              <a:ext cx="651600" cy="1467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6" name=""/>
            <p:cNvCxnSpPr>
              <a:stCxn id="803" idx="3"/>
              <a:endCxn id="800" idx="7"/>
            </p:cNvCxnSpPr>
            <p:nvPr/>
          </p:nvCxnSpPr>
          <p:spPr>
            <a:xfrm flipH="1">
              <a:off x="6395400" y="2336760"/>
              <a:ext cx="959760" cy="1350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7" name=""/>
            <p:cNvCxnSpPr>
              <a:stCxn id="802" idx="6"/>
              <a:endCxn id="803" idx="2"/>
            </p:cNvCxnSpPr>
            <p:nvPr/>
          </p:nvCxnSpPr>
          <p:spPr>
            <a:xfrm>
              <a:off x="5497200" y="2086920"/>
              <a:ext cx="1796040" cy="87840"/>
            </a:xfrm>
            <a:prstGeom prst="straightConnector1">
              <a:avLst/>
            </a:prstGeom>
            <a:ln w="57240">
              <a:solidFill>
                <a:srgbClr val="3399ff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808" name=""/>
            <p:cNvCxnSpPr>
              <a:stCxn id="800" idx="5"/>
              <a:endCxn id="801" idx="2"/>
            </p:cNvCxnSpPr>
            <p:nvPr/>
          </p:nvCxnSpPr>
          <p:spPr>
            <a:xfrm>
              <a:off x="6395760" y="4011480"/>
              <a:ext cx="1178640" cy="526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9" name=""/>
            <p:cNvCxnSpPr>
              <a:stCxn id="804" idx="7"/>
              <a:endCxn id="800" idx="3"/>
            </p:cNvCxnSpPr>
            <p:nvPr/>
          </p:nvCxnSpPr>
          <p:spPr>
            <a:xfrm flipV="1">
              <a:off x="5649480" y="4010760"/>
              <a:ext cx="448200" cy="911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10" name=""/>
            <p:cNvSpPr/>
            <p:nvPr/>
          </p:nvSpPr>
          <p:spPr>
            <a:xfrm>
              <a:off x="6262200" y="1600200"/>
              <a:ext cx="70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cc99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cc99"/>
                  </a:solidFill>
                  <a:latin typeface="Arial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309080" y="1914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74040" y="4267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23320" y="4800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20280" y="1828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26760" y="35877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40800" y="411480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040520" y="278604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2080" y="297468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897960" y="374796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k keys in a pico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keys are generated via a PIN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ferent link key for each pair of devices i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-Respons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storage of link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F20-A25C-4CDF-A634-67309DDEAC7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generation and u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060560" y="1441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81200" y="2362320"/>
            <a:ext cx="11952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03480" y="1814400"/>
            <a:ext cx="350640" cy="547920"/>
          </a:xfrm>
          <a:prstGeom prst="downArrow">
            <a:avLst>
              <a:gd name="adj1" fmla="val 50000"/>
              <a:gd name="adj2" fmla="val 3906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69880" y="33512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7440" y="55483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81200" y="4446720"/>
            <a:ext cx="11952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01680" y="39052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201680" y="28479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01680" y="49323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274840" y="3444840"/>
            <a:ext cx="2743200" cy="304920"/>
          </a:xfrm>
          <a:prstGeom prst="leftRightArrow">
            <a:avLst>
              <a:gd name="adj1" fmla="val 50000"/>
              <a:gd name="adj2" fmla="val 179096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679840" y="57243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51480" y="5349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39800" y="31050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560920" y="142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80120" y="2349360"/>
            <a:ext cx="11970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703840" y="18018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070600" y="333864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718160" y="55450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280120" y="4433760"/>
            <a:ext cx="11970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02400" y="38926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02400" y="28353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702400" y="49197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370920" y="14778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285320" y="31860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437600" y="5472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5C4-A52F-4F73-A574-21C706DF45C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 level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s on-top of link-level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trusted devic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levels f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or higher security requirements could be ad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secur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B1E-231F-4605-AB5D-761CD880ED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1676520" y="1828800"/>
            <a:ext cx="6324480" cy="4266720"/>
            <a:chOff x="1676520" y="1828800"/>
            <a:chExt cx="6324480" cy="4266720"/>
          </a:xfrm>
        </p:grpSpPr>
        <p:sp>
          <p:nvSpPr>
            <p:cNvPr id="852" name=""/>
            <p:cNvSpPr/>
            <p:nvPr/>
          </p:nvSpPr>
          <p:spPr>
            <a:xfrm>
              <a:off x="1676520" y="396216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752840" y="567180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752840" y="515124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52840" y="417312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430720" y="466236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430720" y="417312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52840" y="287172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52840" y="234936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522520" y="234936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56040" y="234936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86480" y="234936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752840" y="182880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98280" y="32619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17809800">
              <a:off x="3866760" y="32929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639040" y="198108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48520" y="31161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517640" y="449568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94400" y="41907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FE74-2FF6-4ADA-BE77-D501F3E109F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 architecture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the target usage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a variety of hardwar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out of box user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legacy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existing protocols whe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6D30-38A4-4258-8C36-E56EC476FE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"/>
          <p:cNvGrpSpPr/>
          <p:nvPr/>
        </p:nvGrpSpPr>
        <p:grpSpPr>
          <a:xfrm>
            <a:off x="380880" y="1828800"/>
            <a:ext cx="8404200" cy="4495680"/>
            <a:chOff x="380880" y="1828800"/>
            <a:chExt cx="8404200" cy="4495680"/>
          </a:xfrm>
        </p:grpSpPr>
        <p:sp>
          <p:nvSpPr>
            <p:cNvPr id="873" name=""/>
            <p:cNvSpPr/>
            <p:nvPr/>
          </p:nvSpPr>
          <p:spPr>
            <a:xfrm>
              <a:off x="2614680" y="500400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604960" y="499284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908520" y="251460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08520" y="25146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55680" y="25146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55680" y="25146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765520" y="3886200"/>
              <a:ext cx="360" cy="6858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2765520" y="4571280"/>
              <a:ext cx="60948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661000" y="236232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rin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12880" y="586728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ost Controll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70280" y="5477040"/>
              <a:ext cx="360" cy="314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08520" y="182880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vCard/v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5126760" y="297180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94320" y="29718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75000" y="3200400"/>
              <a:ext cx="9907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65720" y="32004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99080" y="5619600"/>
              <a:ext cx="360" cy="17172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70480" y="45720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05560" y="5626080"/>
              <a:ext cx="16002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 flipV="1">
              <a:off x="8098560" y="2285280"/>
              <a:ext cx="360" cy="33526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55680" y="18288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5000" y="297180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375000" y="45720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60800" y="4495680"/>
              <a:ext cx="360" cy="4572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813280" y="3873600"/>
              <a:ext cx="360" cy="1079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70280" y="2286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917800" y="2286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908520" y="18288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155680" y="18288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03200" y="236232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ill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03200" y="236232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661000" y="236232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413480" y="1828800"/>
              <a:ext cx="137160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413480" y="182880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65560" y="3435480"/>
              <a:ext cx="15811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P/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255840" y="3429000"/>
              <a:ext cx="15811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76720" y="3406680"/>
              <a:ext cx="16272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78520" y="3390840"/>
              <a:ext cx="1623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64120" y="4108320"/>
              <a:ext cx="163836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954760" y="4091040"/>
              <a:ext cx="1650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12880" y="586728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27480" y="3200400"/>
              <a:ext cx="5335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661000" y="32004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65320" y="4724280"/>
              <a:ext cx="18288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994120" y="472428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165320" y="4572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444680" y="3441600"/>
              <a:ext cx="150480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444680" y="3441600"/>
              <a:ext cx="150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228840" y="4057560"/>
              <a:ext cx="1663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228840" y="4057560"/>
              <a:ext cx="1663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0880" y="4091040"/>
              <a:ext cx="220824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ervice Disco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F20F-EDA7-42EB-A019-590B5369527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Controller Interface (H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Layer Control &amp; Adaptation (L2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21F-2B60-46FA-80BD-B9B3E4EAD4C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iscovery Protocol (S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98B-519A-44FD-B226-4880CC89FDD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Bluetoo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Bluetooth and what does it do for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usage scenarios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&amp;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802.15 and Bluetooth spec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4EE-C9AE-4B37-9C2A-23143AB22E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OMM (based on GSM TS07.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y Control Protocol Spec (T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protocol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57F-2F8F-4317-9871-7C814321D2A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 &amp; Pro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4653000" y="1662120"/>
            <a:ext cx="3857760" cy="3672720"/>
            <a:chOff x="4653000" y="1662120"/>
            <a:chExt cx="3857760" cy="3672720"/>
          </a:xfrm>
        </p:grpSpPr>
        <p:sp>
          <p:nvSpPr>
            <p:cNvPr id="934" name=""/>
            <p:cNvSpPr/>
            <p:nvPr/>
          </p:nvSpPr>
          <p:spPr>
            <a:xfrm>
              <a:off x="5072040" y="25956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72040" y="37414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072040" y="31683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3146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45160" y="17352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218280" y="17352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91400" y="17352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64520" y="30366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35840" y="17352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532560" y="50464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560640" y="50450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653000" y="28828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16200000">
              <a:off x="4330080" y="331056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072040" y="16621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24600" y="18144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91400" y="41716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91400" y="30258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935840" y="41716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default solution for a us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slice through the protoco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s for interoperability and logo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luetooth device supports one or more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1D5-8684-4C0B-BA0D-98CDA6FCE6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3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5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9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1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5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4192560"/>
            <a:ext cx="777240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maintaine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inform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4CC-F750-4F67-9FE3-D43DFFDC437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"/>
          <p:cNvGrpSpPr/>
          <p:nvPr/>
        </p:nvGrpSpPr>
        <p:grpSpPr>
          <a:xfrm>
            <a:off x="609480" y="1635120"/>
            <a:ext cx="8020080" cy="4613400"/>
            <a:chOff x="609480" y="1635120"/>
            <a:chExt cx="8020080" cy="4613400"/>
          </a:xfrm>
        </p:grpSpPr>
        <p:sp>
          <p:nvSpPr>
            <p:cNvPr id="972" name=""/>
            <p:cNvSpPr/>
            <p:nvPr/>
          </p:nvSpPr>
          <p:spPr>
            <a:xfrm>
              <a:off x="5543280" y="317340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43280" y="317340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4" name=""/>
            <p:cNvGraphicFramePr/>
            <p:nvPr/>
          </p:nvGraphicFramePr>
          <p:xfrm>
            <a:off x="3903480" y="2098440"/>
            <a:ext cx="855720" cy="78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2098440"/>
                      <a:ext cx="855720" cy="7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6" name=""/>
            <p:cNvGraphicFramePr/>
            <p:nvPr/>
          </p:nvGraphicFramePr>
          <p:xfrm>
            <a:off x="609480" y="2673360"/>
            <a:ext cx="1414440" cy="13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673360"/>
                      <a:ext cx="1414440" cy="13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8" name=""/>
            <p:cNvGraphicFramePr/>
            <p:nvPr/>
          </p:nvGraphicFramePr>
          <p:xfrm>
            <a:off x="2266920" y="2576520"/>
            <a:ext cx="1315800" cy="36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2576520"/>
                      <a:ext cx="131580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0" name=""/>
            <p:cNvGraphicFramePr/>
            <p:nvPr/>
          </p:nvGraphicFramePr>
          <p:xfrm>
            <a:off x="2371680" y="3622680"/>
            <a:ext cx="1271520" cy="407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622680"/>
                      <a:ext cx="12715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2" name=""/>
            <p:cNvSpPr/>
            <p:nvPr/>
          </p:nvSpPr>
          <p:spPr>
            <a:xfrm>
              <a:off x="5564160" y="5676840"/>
              <a:ext cx="306540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564160" y="5676840"/>
              <a:ext cx="306540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71320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13200" y="59626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683568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58040" y="59626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35804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48016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713200" y="55335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64040" y="55339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835680" y="55335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7358040" y="55335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8480160" y="55335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508520" y="55339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311880" y="539100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21320" y="4624200"/>
              <a:ext cx="297972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21320" y="4624200"/>
              <a:ext cx="29797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521320" y="3909960"/>
              <a:ext cx="297972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21320" y="3909960"/>
              <a:ext cx="29797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078320" y="433872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078320" y="3608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18000" y="5384880"/>
              <a:ext cx="801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05320" y="506088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518080" y="2387520"/>
              <a:ext cx="2977920" cy="4287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518080" y="2387520"/>
              <a:ext cx="29779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092720" y="2814480"/>
              <a:ext cx="0" cy="29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65840" y="1635120"/>
              <a:ext cx="17017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65840" y="1635120"/>
              <a:ext cx="1701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7692480" y="2071800"/>
              <a:ext cx="324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1" name="" descr=""/>
            <p:cNvPicPr/>
            <p:nvPr/>
          </p:nvPicPr>
          <p:blipFill>
            <a:blip r:embed="rId9"/>
            <a:stretch/>
          </p:blipFill>
          <p:spPr>
            <a:xfrm>
              <a:off x="4047840" y="4014720"/>
              <a:ext cx="658800" cy="40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5E2-6D45-42F4-A9F3-033F6762562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"/>
          <p:cNvGrpSpPr/>
          <p:nvPr/>
        </p:nvGrpSpPr>
        <p:grpSpPr>
          <a:xfrm>
            <a:off x="609480" y="1625760"/>
            <a:ext cx="7910280" cy="4012560"/>
            <a:chOff x="609480" y="1625760"/>
            <a:chExt cx="7910280" cy="4012560"/>
          </a:xfrm>
        </p:grpSpPr>
        <p:sp>
          <p:nvSpPr>
            <p:cNvPr id="1014" name=""/>
            <p:cNvSpPr/>
            <p:nvPr/>
          </p:nvSpPr>
          <p:spPr>
            <a:xfrm>
              <a:off x="5445000" y="238104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45000" y="238104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6" name=""/>
            <p:cNvGraphicFramePr/>
            <p:nvPr/>
          </p:nvGraphicFramePr>
          <p:xfrm>
            <a:off x="609480" y="4647960"/>
            <a:ext cx="1143000" cy="990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647960"/>
                      <a:ext cx="114300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8" name=""/>
            <p:cNvGraphicFramePr/>
            <p:nvPr/>
          </p:nvGraphicFramePr>
          <p:xfrm>
            <a:off x="2750760" y="1625760"/>
            <a:ext cx="1166760" cy="129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625760"/>
                      <a:ext cx="1166760" cy="12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0" name=""/>
            <p:cNvSpPr/>
            <p:nvPr/>
          </p:nvSpPr>
          <p:spPr>
            <a:xfrm>
              <a:off x="5454360" y="4678200"/>
              <a:ext cx="3065400" cy="5709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54360" y="3963960"/>
              <a:ext cx="149544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454360" y="3963960"/>
              <a:ext cx="149544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454360" y="4678200"/>
              <a:ext cx="3065400" cy="57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0376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03760" y="49640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6725880" y="46778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48240" y="49640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24824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37072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5603760" y="45352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54240" y="45352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6725880" y="45352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7248240" y="45352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8370720" y="45352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399080" y="45352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02080" y="4392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454360" y="324936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454360" y="324936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02080" y="367812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48240" y="3249360"/>
              <a:ext cx="1271520" cy="114264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248240" y="3249360"/>
              <a:ext cx="1271520" cy="114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6560" y="4392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187680" y="2820960"/>
              <a:ext cx="6480" cy="34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192720" y="2106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370120" y="182052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6" name="" descr=""/>
            <p:cNvPicPr/>
            <p:nvPr/>
          </p:nvPicPr>
          <p:blipFill>
            <a:blip r:embed="rId5"/>
            <a:stretch/>
          </p:blipFill>
          <p:spPr>
            <a:xfrm>
              <a:off x="1333080" y="3063600"/>
              <a:ext cx="1744920" cy="15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set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A6DB-E3EC-41E3-8F8A-8DDD21FD977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"/>
          <p:cNvGrpSpPr/>
          <p:nvPr/>
        </p:nvGrpSpPr>
        <p:grpSpPr>
          <a:xfrm>
            <a:off x="685800" y="1658880"/>
            <a:ext cx="7994160" cy="4284720"/>
            <a:chOff x="685800" y="1658880"/>
            <a:chExt cx="7994160" cy="4284720"/>
          </a:xfrm>
        </p:grpSpPr>
        <p:sp>
          <p:nvSpPr>
            <p:cNvPr id="1049" name=""/>
            <p:cNvSpPr/>
            <p:nvPr/>
          </p:nvSpPr>
          <p:spPr>
            <a:xfrm>
              <a:off x="6403680" y="271764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03680" y="271764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1" name=""/>
            <p:cNvGraphicFramePr/>
            <p:nvPr/>
          </p:nvGraphicFramePr>
          <p:xfrm>
            <a:off x="4343040" y="282708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82708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3" name=""/>
            <p:cNvGraphicFramePr/>
            <p:nvPr/>
          </p:nvGraphicFramePr>
          <p:xfrm>
            <a:off x="2590560" y="305568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305568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5" name=""/>
            <p:cNvGraphicFramePr/>
            <p:nvPr/>
          </p:nvGraphicFramePr>
          <p:xfrm>
            <a:off x="685800" y="267480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67480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7" name=""/>
            <p:cNvSpPr/>
            <p:nvPr/>
          </p:nvSpPr>
          <p:spPr>
            <a:xfrm>
              <a:off x="5614920" y="537192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614920" y="537192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76396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763960" y="565776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688644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408800" y="565776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40880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53092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5763960" y="522864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914800" y="522900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6886440" y="522864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7408800" y="522864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8530920" y="522864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559280" y="522900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87840" y="43192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387840" y="43192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387840" y="360504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387840" y="360504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35560" y="40338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129080" y="315576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62640" y="508608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368760" y="507996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56080" y="475596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21400" y="523224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397560" y="165888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397560" y="165888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930720" y="208404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N access point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E8F3-087D-4EA3-A92E-7DBD29086FE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progra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685800" y="1600200"/>
            <a:ext cx="7772400" cy="914400"/>
            <a:chOff x="685800" y="1600200"/>
            <a:chExt cx="7772400" cy="914400"/>
          </a:xfrm>
        </p:grpSpPr>
        <p:sp>
          <p:nvSpPr>
            <p:cNvPr id="1087" name=""/>
            <p:cNvSpPr/>
            <p:nvPr/>
          </p:nvSpPr>
          <p:spPr>
            <a:xfrm>
              <a:off x="685800" y="160020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19520" y="16002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685800" y="2514600"/>
            <a:ext cx="7772400" cy="914400"/>
            <a:chOff x="685800" y="2514600"/>
            <a:chExt cx="7772400" cy="914400"/>
          </a:xfrm>
        </p:grpSpPr>
        <p:sp>
          <p:nvSpPr>
            <p:cNvPr id="1090" name=""/>
            <p:cNvSpPr/>
            <p:nvPr/>
          </p:nvSpPr>
          <p:spPr>
            <a:xfrm>
              <a:off x="685800" y="251460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819520" y="25146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685800" y="3429000"/>
            <a:ext cx="7772400" cy="914400"/>
            <a:chOff x="685800" y="3429000"/>
            <a:chExt cx="7772400" cy="914400"/>
          </a:xfrm>
        </p:grpSpPr>
        <p:sp>
          <p:nvSpPr>
            <p:cNvPr id="1093" name=""/>
            <p:cNvSpPr/>
            <p:nvPr/>
          </p:nvSpPr>
          <p:spPr>
            <a:xfrm>
              <a:off x="685800" y="342900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819520" y="34290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685800" y="4343400"/>
            <a:ext cx="7772400" cy="914400"/>
            <a:chOff x="685800" y="4343400"/>
            <a:chExt cx="7772400" cy="914400"/>
          </a:xfrm>
        </p:grpSpPr>
        <p:sp>
          <p:nvSpPr>
            <p:cNvPr id="1096" name=""/>
            <p:cNvSpPr/>
            <p:nvPr/>
          </p:nvSpPr>
          <p:spPr>
            <a:xfrm>
              <a:off x="685800" y="434340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19520" y="43434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685800" y="5257800"/>
            <a:ext cx="7772400" cy="914400"/>
            <a:chOff x="685800" y="5257800"/>
            <a:chExt cx="7772400" cy="914400"/>
          </a:xfrm>
        </p:grpSpPr>
        <p:sp>
          <p:nvSpPr>
            <p:cNvPr id="1099" name=""/>
            <p:cNvSpPr/>
            <p:nvPr/>
          </p:nvSpPr>
          <p:spPr>
            <a:xfrm>
              <a:off x="685800" y="525780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819520" y="52578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9B4-50D5-4E89-83E5-51EE842066C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is a global, RF-based (ISM band: 2.4GHz), short-range, connectivity technology &amp; solution for portable, personal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uetooth spec com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9 Discover Magazine Awards fi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earn mor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ttp://www.bluetoot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7F3-7714-4D98-BE6C-6515F1FCA9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spec and IEEE802.15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is not only a link (connectivity) solution but an end-to-end (e2e)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uetooth e2e solution is built on-top of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low lev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uetooth “brand-name” is highly dependent on the presence of the core protocols in all devices claiming to be Bluetooth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The draft standard must contain: RF, BB, LM, &amp; L2CAP Bluetooth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level services (including LLC) can/shall be built on top of L2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AP (Generic Access Profile) can serve as a guideline for establishing Bluetooth links between host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A2C-19A6-4EC6-885E-001D93787B9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5563440" y="4129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10800000">
            <a:off x="5257440" y="4343040"/>
            <a:ext cx="1143000" cy="304920"/>
          </a:xfrm>
          <a:custGeom>
            <a:avLst/>
            <a:gdLst>
              <a:gd name="textAreaLeft" fmla="*/ 178560 w 1143000"/>
              <a:gd name="textAreaRight" fmla="*/ 1087560 w 1143000"/>
              <a:gd name="textAreaTop" fmla="*/ 115920 h 304920"/>
              <a:gd name="textAreaBottom" fmla="*/ 1890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8212"/>
                </a:moveTo>
                <a:lnTo>
                  <a:pt x="17220" y="8212"/>
                </a:ln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17220" y="13388"/>
                </a:lnTo>
                <a:lnTo>
                  <a:pt x="3375" y="13388"/>
                </a:lnTo>
                <a:close/>
              </a:path>
              <a:path w="21600" h="21600">
                <a:moveTo>
                  <a:pt x="0" y="8212"/>
                </a:moveTo>
                <a:lnTo>
                  <a:pt x="675" y="8212"/>
                </a:lnTo>
                <a:lnTo>
                  <a:pt x="675" y="13388"/>
                </a:lnTo>
                <a:lnTo>
                  <a:pt x="0" y="13388"/>
                </a:lnTo>
                <a:close/>
              </a:path>
              <a:path w="21600" h="21600">
                <a:moveTo>
                  <a:pt x="1350" y="8212"/>
                </a:moveTo>
                <a:lnTo>
                  <a:pt x="2700" y="8212"/>
                </a:lnTo>
                <a:lnTo>
                  <a:pt x="2700" y="13388"/>
                </a:lnTo>
                <a:lnTo>
                  <a:pt x="1350" y="13388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440240" y="234936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rot="17809800">
            <a:off x="4582440" y="32821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33720" y="287172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spec and IEEE802.15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318840" y="32623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1905120" y="3733920"/>
            <a:ext cx="6324480" cy="2590560"/>
            <a:chOff x="1905120" y="3733920"/>
            <a:chExt cx="6324480" cy="2590560"/>
          </a:xfrm>
        </p:grpSpPr>
        <p:sp>
          <p:nvSpPr>
            <p:cNvPr id="1113" name=""/>
            <p:cNvSpPr/>
            <p:nvPr/>
          </p:nvSpPr>
          <p:spPr>
            <a:xfrm>
              <a:off x="1905120" y="3733920"/>
              <a:ext cx="3581280" cy="259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62720" y="4114800"/>
              <a:ext cx="426960" cy="182880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95880" y="4830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2133720" y="417348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234936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006720" y="234936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613320" y="234936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33720" y="182880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567216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515160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901960" y="4662360"/>
            <a:ext cx="2130480" cy="42408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901960" y="417348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A3F-8364-457C-8A08-9EDD2365DDE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9744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ald Blaatand “Bluetooth”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of Denmark 940-981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one of two Runic stones erected in his capital city of J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one’s inscription (“runes”) s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christianized the D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controlled the D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believes that devices shall seamlessly communicate [wirelessl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4D0C-3F1A-4E26-A622-DEF68BD3C9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ocol lay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898720" y="2189160"/>
            <a:ext cx="2251080" cy="33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898720" y="2922480"/>
            <a:ext cx="22510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671920" y="2922480"/>
            <a:ext cx="22068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671920" y="3656160"/>
            <a:ext cx="3902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478400" y="3656160"/>
            <a:ext cx="89676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75160" y="3656160"/>
            <a:ext cx="4460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340320" y="3656160"/>
            <a:ext cx="27648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664000" y="3255840"/>
            <a:ext cx="93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64000" y="333072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6400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66400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664000" y="355608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664000" y="3630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57480" y="3197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057480" y="32734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057480" y="334980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057480" y="34243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57480" y="3500280"/>
            <a:ext cx="111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057480" y="357516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057480" y="2854440"/>
            <a:ext cx="11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062160" y="3254400"/>
            <a:ext cx="41400" cy="3636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137040" y="3313080"/>
            <a:ext cx="410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213000" y="3370320"/>
            <a:ext cx="41400" cy="38160"/>
          </a:xfrm>
          <a:custGeom>
            <a:avLst/>
            <a:gdLst/>
            <a:ahLst/>
            <a:rect l="l" t="t" r="r" b="b"/>
            <a:pathLst>
              <a:path w="47" h="40">
                <a:moveTo>
                  <a:pt x="5" y="0"/>
                </a:moveTo>
                <a:lnTo>
                  <a:pt x="0" y="8"/>
                </a:lnTo>
                <a:lnTo>
                  <a:pt x="42" y="40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286080" y="3429000"/>
            <a:ext cx="42840" cy="3636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362400" y="3487680"/>
            <a:ext cx="42840" cy="3672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36920" y="3546360"/>
            <a:ext cx="42840" cy="36720"/>
          </a:xfrm>
          <a:custGeom>
            <a:avLst/>
            <a:gdLst/>
            <a:ahLst/>
            <a:rect l="l" t="t" r="r" b="b"/>
            <a:pathLst>
              <a:path w="47" h="40">
                <a:moveTo>
                  <a:pt x="6" y="0"/>
                </a:moveTo>
                <a:lnTo>
                  <a:pt x="0" y="9"/>
                </a:lnTo>
                <a:lnTo>
                  <a:pt x="42" y="40"/>
                </a:lnTo>
                <a:lnTo>
                  <a:pt x="47" y="3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513240" y="3605040"/>
            <a:ext cx="428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457440" y="3254400"/>
            <a:ext cx="4140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530520" y="33051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606840" y="33591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8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681360" y="3411360"/>
            <a:ext cx="42840" cy="352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7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757680" y="3463920"/>
            <a:ext cx="428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832200" y="3516480"/>
            <a:ext cx="428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908520" y="3570120"/>
            <a:ext cx="410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83040" y="3622680"/>
            <a:ext cx="41400" cy="33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8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457440" y="325440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1" y="26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532320" y="32828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608280" y="3313080"/>
            <a:ext cx="39960" cy="20520"/>
          </a:xfrm>
          <a:custGeom>
            <a:avLst/>
            <a:gdLst/>
            <a:ahLst/>
            <a:rect l="l" t="t" r="r" b="b"/>
            <a:pathLst>
              <a:path w="44" h="25">
                <a:moveTo>
                  <a:pt x="3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683160" y="334008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759120" y="33703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33640" y="3398760"/>
            <a:ext cx="3996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1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08520" y="3427560"/>
            <a:ext cx="4104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983040" y="345924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059360" y="34876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35320" y="3516480"/>
            <a:ext cx="381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210200" y="354636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286160" y="3575160"/>
            <a:ext cx="396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2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61040" y="360360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437000" y="3632040"/>
            <a:ext cx="39600" cy="24120"/>
          </a:xfrm>
          <a:custGeom>
            <a:avLst/>
            <a:gdLst/>
            <a:ahLst/>
            <a:rect l="l" t="t" r="r" b="b"/>
            <a:pathLst>
              <a:path w="45" h="27">
                <a:moveTo>
                  <a:pt x="3" y="0"/>
                </a:moveTo>
                <a:lnTo>
                  <a:pt x="0" y="11"/>
                </a:lnTo>
                <a:lnTo>
                  <a:pt x="42" y="27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338800" y="3632040"/>
            <a:ext cx="39600" cy="24120"/>
          </a:xfrm>
          <a:custGeom>
            <a:avLst/>
            <a:gdLst/>
            <a:ahLst/>
            <a:rect l="l" t="t" r="r" b="b"/>
            <a:pathLst>
              <a:path w="45" h="27">
                <a:moveTo>
                  <a:pt x="42" y="27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264280" y="3603600"/>
            <a:ext cx="378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187960" y="3575160"/>
            <a:ext cx="414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41" y="25"/>
                </a:moveTo>
                <a:lnTo>
                  <a:pt x="44" y="16"/>
                </a:lnTo>
                <a:lnTo>
                  <a:pt x="2" y="0"/>
                </a:lnTo>
                <a:lnTo>
                  <a:pt x="0" y="10"/>
                </a:lnTo>
                <a:lnTo>
                  <a:pt x="41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111640" y="3546360"/>
            <a:ext cx="414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038560" y="3516480"/>
            <a:ext cx="399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962600" y="34876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888080" y="3459240"/>
            <a:ext cx="396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1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811760" y="3427560"/>
            <a:ext cx="3960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737240" y="339876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660920" y="33703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586400" y="3340080"/>
            <a:ext cx="4104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510080" y="3313080"/>
            <a:ext cx="41400" cy="20520"/>
          </a:xfrm>
          <a:custGeom>
            <a:avLst/>
            <a:gdLst/>
            <a:ahLst/>
            <a:rect l="l" t="t" r="r" b="b"/>
            <a:pathLst>
              <a:path w="44" h="25">
                <a:moveTo>
                  <a:pt x="42" y="25"/>
                </a:moveTo>
                <a:lnTo>
                  <a:pt x="44" y="16"/>
                </a:lnTo>
                <a:lnTo>
                  <a:pt x="3" y="0"/>
                </a:lnTo>
                <a:lnTo>
                  <a:pt x="0" y="10"/>
                </a:lnTo>
                <a:lnTo>
                  <a:pt x="42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437000" y="32828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5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361040" y="325440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149800" y="3254400"/>
            <a:ext cx="41400" cy="1728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226120" y="3273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00640" y="3292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76960" y="33130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451480" y="3333600"/>
            <a:ext cx="39600" cy="2088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527800" y="33544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3" y="0"/>
                </a:moveTo>
                <a:lnTo>
                  <a:pt x="0" y="10"/>
                </a:lnTo>
                <a:lnTo>
                  <a:pt x="42" y="20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603760" y="3373560"/>
            <a:ext cx="381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676840" y="33940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53160" y="3414600"/>
            <a:ext cx="4104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827680" y="3435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904000" y="3454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978520" y="34765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54840" y="34956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2" y="0"/>
                </a:moveTo>
                <a:lnTo>
                  <a:pt x="0" y="11"/>
                </a:lnTo>
                <a:lnTo>
                  <a:pt x="41" y="23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129360" y="3516480"/>
            <a:ext cx="39600" cy="187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205680" y="3537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278400" y="355752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1"/>
                </a:lnTo>
                <a:lnTo>
                  <a:pt x="42" y="21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354720" y="357660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0"/>
                </a:lnTo>
                <a:lnTo>
                  <a:pt x="41" y="22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29240" y="3598920"/>
            <a:ext cx="399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505560" y="3618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580080" y="3638520"/>
            <a:ext cx="3996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0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299280" y="3638520"/>
            <a:ext cx="396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222960" y="3618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148440" y="3598920"/>
            <a:ext cx="381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72120" y="357660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996160" y="3557520"/>
            <a:ext cx="4284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923080" y="3537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48200" y="3516480"/>
            <a:ext cx="38160" cy="187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72240" y="34956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41" y="23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695920" y="34765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621400" y="3454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545080" y="3435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470560" y="34146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394240" y="33940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321160" y="3373560"/>
            <a:ext cx="399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245200" y="33544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42" y="20"/>
                </a:moveTo>
                <a:lnTo>
                  <a:pt x="45" y="10"/>
                </a:lnTo>
                <a:lnTo>
                  <a:pt x="3" y="0"/>
                </a:lnTo>
                <a:lnTo>
                  <a:pt x="0" y="10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170320" y="3333600"/>
            <a:ext cx="39960" cy="2088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94360" y="33130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1"/>
                </a:lnTo>
                <a:lnTo>
                  <a:pt x="3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019840" y="3292560"/>
            <a:ext cx="378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43520" y="3273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867200" y="3254400"/>
            <a:ext cx="41400" cy="1728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0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889360" y="2882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889360" y="28083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889360" y="2732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889360" y="2657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89360" y="258300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889360" y="25225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146560" y="2522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146560" y="25956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46560" y="2671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146560" y="27464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146560" y="28224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46560" y="2898720"/>
            <a:ext cx="111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671920" y="4389480"/>
            <a:ext cx="3902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57480" y="434988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057480" y="4273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057480" y="41990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057480" y="4124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057480" y="4049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057480" y="3987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64000" y="434988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4000" y="42735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4000" y="41990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664000" y="41241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664000" y="40496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64000" y="398772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02000" y="4389480"/>
            <a:ext cx="16488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75160" y="4389480"/>
            <a:ext cx="4460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502000" y="5121360"/>
            <a:ext cx="56016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49408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49408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9408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9408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49408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49408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05748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05748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05748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5748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05748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05748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33352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478400" y="4389480"/>
            <a:ext cx="89676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340320" y="4389480"/>
            <a:ext cx="27648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67240" y="434988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67240" y="42735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567240" y="41990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567240" y="41241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567240" y="40496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567240" y="398772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017960" y="434988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017960" y="4273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17960" y="41990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17960" y="4124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017960" y="4049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017960" y="3987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47048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7048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47048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7048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47048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7048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37372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7372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37372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37372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7372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37372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332400" y="434988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332400" y="42735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332400" y="41990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332400" y="41241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32400" y="40496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332400" y="398772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615000" y="434988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15000" y="42735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15000" y="41990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615000" y="41241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615000" y="40496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615000" y="398772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397320" y="50817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397320" y="50068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97320" y="49309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397320" y="4857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97320" y="47815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397320" y="47214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406680" y="5121360"/>
            <a:ext cx="61452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406680" y="4389480"/>
            <a:ext cx="16200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308480" y="43894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70760" y="43894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23532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1796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01796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01796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01796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01796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01796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30056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30056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30056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30056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30056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30056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7372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37372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7372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37372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37372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37372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164280" y="50817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164280" y="50068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164280" y="49309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64280" y="4857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64280" y="47815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164280" y="47214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615000" y="508176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615000" y="50068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615000" y="49309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615000" y="4857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615000" y="47815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615000" y="472140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08480" y="5121360"/>
            <a:ext cx="10666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14036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00228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370160" y="3483000"/>
            <a:ext cx="62118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370160" y="4892760"/>
            <a:ext cx="621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90720" y="5670720"/>
            <a:ext cx="6591240" cy="14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1484280" y="2854080"/>
            <a:ext cx="1800" cy="52380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438200" y="33400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438200" y="27496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484280" y="3587400"/>
            <a:ext cx="1800" cy="11984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438200" y="4748040"/>
            <a:ext cx="90720" cy="1447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38200" y="348300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1484280" y="4997160"/>
            <a:ext cx="1800" cy="5792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38200" y="5538960"/>
            <a:ext cx="90720" cy="14256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38200" y="48927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99" y="159"/>
                </a:moveTo>
                <a:lnTo>
                  <a:pt x="50" y="139"/>
                </a:lnTo>
                <a:lnTo>
                  <a:pt x="0" y="159"/>
                </a:lnTo>
                <a:lnTo>
                  <a:pt x="50" y="0"/>
                </a:lnTo>
                <a:lnTo>
                  <a:pt x="99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1484280" y="206640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438200" y="196056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484280" y="5681520"/>
            <a:ext cx="1800" cy="401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438200" y="604512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21720" y="1876320"/>
            <a:ext cx="149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per” la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641960" y="32320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555560" y="399420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616400" y="54324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MA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98040" y="5827680"/>
            <a:ext cx="138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PHY)+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283720" y="2273400"/>
            <a:ext cx="64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L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246640" y="300528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2CAP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39200" y="37386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S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39200" y="44719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711240" y="2766960"/>
            <a:ext cx="68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2CAP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361040" y="2827440"/>
            <a:ext cx="7412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081760" y="27972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0" y="68"/>
                </a:moveTo>
                <a:lnTo>
                  <a:pt x="11" y="34"/>
                </a:lnTo>
                <a:lnTo>
                  <a:pt x="0" y="0"/>
                </a:lnTo>
                <a:lnTo>
                  <a:pt x="78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2946240" y="2827440"/>
            <a:ext cx="7416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94040" y="27972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39200" y="5203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B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57480" y="32497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057480" y="32130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05748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5748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057480" y="30988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57480" y="30607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57480" y="302436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057480" y="29876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057480" y="29494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4527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527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4527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527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4527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527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4527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4527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4527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357800" y="32497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357800" y="32130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357800" y="23814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357800" y="234324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357800" y="309888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7800" y="306072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57800" y="3024360"/>
            <a:ext cx="93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357800" y="29876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357800" y="2949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863960" y="32497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863960" y="32130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8639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8639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863960" y="30988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63960" y="30607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863960" y="302436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863960" y="29876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863960" y="29494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488200" y="37591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221160" y="49658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B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5998680" y="5025960"/>
            <a:ext cx="11772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097680" y="4995720"/>
            <a:ext cx="69840" cy="61920"/>
          </a:xfrm>
          <a:custGeom>
            <a:avLst/>
            <a:gdLst/>
            <a:ahLst/>
            <a:rect l="l" t="t" r="r" b="b"/>
            <a:pathLst>
              <a:path w="79" h="68">
                <a:moveTo>
                  <a:pt x="0" y="68"/>
                </a:moveTo>
                <a:lnTo>
                  <a:pt x="12" y="34"/>
                </a:lnTo>
                <a:lnTo>
                  <a:pt x="0" y="0"/>
                </a:lnTo>
                <a:lnTo>
                  <a:pt x="79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6671880" y="5025960"/>
            <a:ext cx="1191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618240" y="4995720"/>
            <a:ext cx="7308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160720" y="2579760"/>
            <a:ext cx="468360" cy="417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595600" y="2962440"/>
            <a:ext cx="73080" cy="68040"/>
          </a:xfrm>
          <a:custGeom>
            <a:avLst/>
            <a:gdLst/>
            <a:ahLst/>
            <a:rect l="l" t="t" r="r" b="b"/>
            <a:pathLst>
              <a:path w="82" h="77">
                <a:moveTo>
                  <a:pt x="0" y="51"/>
                </a:moveTo>
                <a:lnTo>
                  <a:pt x="32" y="32"/>
                </a:lnTo>
                <a:lnTo>
                  <a:pt x="45" y="0"/>
                </a:lnTo>
                <a:lnTo>
                  <a:pt x="82" y="77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160720" y="2579760"/>
            <a:ext cx="436320" cy="175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565360" y="4308480"/>
            <a:ext cx="58680" cy="76320"/>
          </a:xfrm>
          <a:custGeom>
            <a:avLst/>
            <a:gdLst/>
            <a:ahLst/>
            <a:rect l="l" t="t" r="r" b="b"/>
            <a:pathLst>
              <a:path w="67" h="86">
                <a:moveTo>
                  <a:pt x="0" y="17"/>
                </a:moveTo>
                <a:lnTo>
                  <a:pt x="37" y="21"/>
                </a:lnTo>
                <a:lnTo>
                  <a:pt x="67" y="0"/>
                </a:lnTo>
                <a:lnTo>
                  <a:pt x="53" y="86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160720" y="2579760"/>
            <a:ext cx="276120" cy="2484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03360" y="5045040"/>
            <a:ext cx="61920" cy="7308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8"/>
                </a:moveTo>
                <a:lnTo>
                  <a:pt x="35" y="16"/>
                </a:lnTo>
                <a:lnTo>
                  <a:pt x="68" y="0"/>
                </a:lnTo>
                <a:lnTo>
                  <a:pt x="43" y="83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915120" y="2389320"/>
            <a:ext cx="149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protoco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441800" y="25002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269680" y="600696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D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597640" y="6006960"/>
            <a:ext cx="202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tocol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256720" y="618660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DU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713560" y="6188040"/>
            <a:ext cx="181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rvice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170760" y="5121360"/>
            <a:ext cx="44604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430960" y="44910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472720" y="522432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1219320" y="2774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990720" y="2774880"/>
            <a:ext cx="659124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rot="16200000">
            <a:off x="503280" y="4038120"/>
            <a:ext cx="106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02.15 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787-6E31-4B35-BC43-FD81E817247C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838080" y="292572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2CAP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735200" y="177480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643760" y="21240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 (or 6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657600" y="177480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832920" y="212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64K-1 (or -3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800" y="2384280"/>
            <a:ext cx="7772400" cy="32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2CAP header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nne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‘0x0001’ the L2CAP payload is generated and interpreted by the L2CAP layer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, the payload is passed to the appropriate higher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0" name=""/>
          <p:cNvGraphicFramePr/>
          <p:nvPr/>
        </p:nvGraphicFramePr>
        <p:xfrm>
          <a:off x="1371600" y="3078000"/>
          <a:ext cx="7162920" cy="16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78000"/>
                    <a:ext cx="716292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2" name=""/>
          <p:cNvSpPr/>
          <p:nvPr/>
        </p:nvSpPr>
        <p:spPr>
          <a:xfrm>
            <a:off x="753120" y="4456080"/>
            <a:ext cx="71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for connectionless traffic (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`0x0001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1221480" y="1523880"/>
            <a:ext cx="6520320" cy="337320"/>
            <a:chOff x="1221480" y="1523880"/>
            <a:chExt cx="6520320" cy="337320"/>
          </a:xfrm>
        </p:grpSpPr>
        <p:sp>
          <p:nvSpPr>
            <p:cNvPr id="1454" name=""/>
            <p:cNvSpPr/>
            <p:nvPr/>
          </p:nvSpPr>
          <p:spPr>
            <a:xfrm>
              <a:off x="1221480" y="1523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95320" y="1523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00360" y="169200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6C9-77D8-4959-9C77-0F7EE95758B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/>
          <p:nvPr/>
        </p:nvSpPr>
        <p:spPr>
          <a:xfrm>
            <a:off x="838080" y="2681280"/>
            <a:ext cx="7467840" cy="228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L PDU (ACLP)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735200" y="160020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643760" y="19494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(or 2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657600" y="160020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42760" y="19494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L_CH=‘b11’ the ACLP payload is generated and interpreted by the ACLP layer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Manager (LM) PD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, the payload is passed to the appropriate higher layer (L2CA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4" name=""/>
          <p:cNvGraphicFramePr/>
          <p:nvPr/>
        </p:nvGraphicFramePr>
        <p:xfrm>
          <a:off x="1295280" y="2757600"/>
          <a:ext cx="7162920" cy="190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57600"/>
                    <a:ext cx="71629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6" name=""/>
          <p:cNvSpPr/>
          <p:nvPr/>
        </p:nvSpPr>
        <p:spPr>
          <a:xfrm>
            <a:off x="757080" y="4357800"/>
            <a:ext cx="449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or multislot baseband packets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when length is 9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1221480" y="1371600"/>
            <a:ext cx="6520320" cy="337320"/>
            <a:chOff x="1221480" y="1371600"/>
            <a:chExt cx="6520320" cy="337320"/>
          </a:xfrm>
        </p:grpSpPr>
        <p:sp>
          <p:nvSpPr>
            <p:cNvPr id="1468" name=""/>
            <p:cNvSpPr/>
            <p:nvPr/>
          </p:nvSpPr>
          <p:spPr>
            <a:xfrm>
              <a:off x="1221480" y="1371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195320" y="1371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800360" y="15397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123-4A4D-4C47-89FF-15D050684B3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838080" y="266688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735200" y="1523880"/>
            <a:ext cx="1828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131560" y="18730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8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657600" y="15238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42760" y="187308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2290680"/>
            <a:ext cx="777240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 (encoded with 1/3-rate FEC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+CRC encoded with {1,2,3}/3-rate F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DU_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Dxy, HVx, DV, AUX1 the BB payload is passed to the appropriate higher layer (LM for ACL packets, an application for SCO packets, AUX1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, header information or in the FHS payload is used to facilitate &amp; manage baseb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C: present only in non-AUX, ACL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1295280" y="274320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0" name=""/>
          <p:cNvGrpSpPr/>
          <p:nvPr/>
        </p:nvGrpSpPr>
        <p:grpSpPr>
          <a:xfrm>
            <a:off x="1221480" y="1289160"/>
            <a:ext cx="6520320" cy="337320"/>
            <a:chOff x="1221480" y="1289160"/>
            <a:chExt cx="6520320" cy="337320"/>
          </a:xfrm>
        </p:grpSpPr>
        <p:sp>
          <p:nvSpPr>
            <p:cNvPr id="1481" name=""/>
            <p:cNvSpPr/>
            <p:nvPr/>
          </p:nvSpPr>
          <p:spPr>
            <a:xfrm>
              <a:off x="1221480" y="128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195320" y="128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800360" y="145728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4" name=""/>
          <p:cNvSpPr/>
          <p:nvPr/>
        </p:nvSpPr>
        <p:spPr>
          <a:xfrm>
            <a:off x="7324560" y="1523880"/>
            <a:ext cx="99072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241760" y="18730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CCB-0D6F-456C-B1FC-1428E94428D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type alter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724040" y="4267080"/>
            <a:ext cx="11430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994120" y="42670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390920" y="4267080"/>
            <a:ext cx="3657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or 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083320" y="4616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942280" y="46162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009400" y="461628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uniform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738440" y="3397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390920" y="339732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S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83320" y="2101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185440" y="373392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40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/3 FEC(*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33520" y="21178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bit-cou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752480" y="17524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738440" y="25909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063960" y="25909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97360" y="29084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851560" y="29401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(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249920" y="1797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95280" y="26352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LL/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097360" y="3733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127520" y="3429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56640" y="43117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L/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752480" y="5181480"/>
            <a:ext cx="11430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024360" y="51814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419720" y="51814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111760" y="5530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972520" y="553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62120" y="5791320"/>
            <a:ext cx="76197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it-counts with FEC references are for bit-counts after FEC has been appli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When 2/3 FEC encoding is used, the original payload may b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ppended (trailed) with 0’s until a multiple of 10-bits is achie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202440" y="5181480"/>
            <a:ext cx="19047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045400" y="5530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157440" y="553068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2-15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2/3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249920" y="5226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1221480" y="1492200"/>
            <a:ext cx="6520320" cy="337320"/>
            <a:chOff x="1221480" y="1492200"/>
            <a:chExt cx="6520320" cy="337320"/>
          </a:xfrm>
        </p:grpSpPr>
        <p:sp>
          <p:nvSpPr>
            <p:cNvPr id="1519" name=""/>
            <p:cNvSpPr/>
            <p:nvPr/>
          </p:nvSpPr>
          <p:spPr>
            <a:xfrm>
              <a:off x="1221480" y="149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195320" y="149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800360" y="16603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024360" y="33973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972520" y="3733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93D-49C8-479F-827C-BE5C0E27474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066680" y="19051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425960" y="2254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124080" y="19051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191120" y="19051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019920" y="1905120"/>
            <a:ext cx="990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286000" y="20955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468960" y="2254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863960" y="2254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363000" y="2254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096920" y="26668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991440" y="301608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12408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_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91120" y="2666880"/>
            <a:ext cx="9903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U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25780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32448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46896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53420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60268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66756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438280" y="2857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092240" y="35575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49640" y="35575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743200" y="3747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043080" y="3886200"/>
            <a:ext cx="46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{1,2}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092240" y="4648320"/>
            <a:ext cx="15746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124080" y="4648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191120" y="46483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019920" y="4648320"/>
            <a:ext cx="99036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043800" y="5029200"/>
            <a:ext cx="42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2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743200" y="4838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A36B-26EA-45B0-B21F-46F750DF7AF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62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05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048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54380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477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410080" y="2089080"/>
            <a:ext cx="83844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191120" y="216540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3" name=""/>
          <p:cNvCxnSpPr>
            <a:stCxn id="1556" idx="3"/>
            <a:endCxn id="1557" idx="1"/>
          </p:cNvCxnSpPr>
          <p:nvPr/>
        </p:nvCxnSpPr>
        <p:spPr>
          <a:xfrm>
            <a:off x="1599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4" name=""/>
          <p:cNvCxnSpPr>
            <a:stCxn id="1557" idx="3"/>
            <a:endCxn id="1558" idx="1"/>
          </p:cNvCxnSpPr>
          <p:nvPr/>
        </p:nvCxnSpPr>
        <p:spPr>
          <a:xfrm>
            <a:off x="2742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5" name=""/>
          <p:cNvCxnSpPr>
            <a:stCxn id="1561" idx="3"/>
            <a:endCxn id="1560" idx="1"/>
          </p:cNvCxnSpPr>
          <p:nvPr/>
        </p:nvCxnSpPr>
        <p:spPr>
          <a:xfrm>
            <a:off x="624816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6" name=""/>
          <p:cNvCxnSpPr>
            <a:stCxn id="1560" idx="3"/>
            <a:endCxn id="1559" idx="1"/>
          </p:cNvCxnSpPr>
          <p:nvPr/>
        </p:nvCxnSpPr>
        <p:spPr>
          <a:xfrm>
            <a:off x="731484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7" name=""/>
          <p:cNvSpPr/>
          <p:nvPr/>
        </p:nvSpPr>
        <p:spPr>
          <a:xfrm>
            <a:off x="614520" y="182880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header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131800" y="182880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header (de-apply/remo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62120" y="4114800"/>
            <a:ext cx="8380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905120" y="4114800"/>
            <a:ext cx="8380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905120" y="320040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2" name=""/>
          <p:cNvCxnSpPr>
            <a:stCxn id="1569" idx="3"/>
            <a:endCxn id="1570" idx="1"/>
          </p:cNvCxnSpPr>
          <p:nvPr/>
        </p:nvCxnSpPr>
        <p:spPr>
          <a:xfrm>
            <a:off x="1599840" y="4308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3" name=""/>
          <p:cNvCxnSpPr>
            <a:stCxn id="1570" idx="0"/>
            <a:endCxn id="1571" idx="2"/>
          </p:cNvCxnSpPr>
          <p:nvPr/>
        </p:nvCxnSpPr>
        <p:spPr>
          <a:xfrm flipV="1">
            <a:off x="2323800" y="3587400"/>
            <a:ext cx="1080" cy="52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4" name=""/>
          <p:cNvSpPr/>
          <p:nvPr/>
        </p:nvSpPr>
        <p:spPr>
          <a:xfrm>
            <a:off x="3048120" y="3193920"/>
            <a:ext cx="838080" cy="387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477120" y="319392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410080" y="3193920"/>
            <a:ext cx="838440" cy="387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191120" y="327024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8" name=""/>
          <p:cNvCxnSpPr>
            <a:stCxn id="1576" idx="3"/>
            <a:endCxn id="1575" idx="1"/>
          </p:cNvCxnSpPr>
          <p:nvPr/>
        </p:nvCxnSpPr>
        <p:spPr>
          <a:xfrm>
            <a:off x="6248160" y="33872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9" name=""/>
          <p:cNvSpPr/>
          <p:nvPr/>
        </p:nvSpPr>
        <p:spPr>
          <a:xfrm>
            <a:off x="6477120" y="4114800"/>
            <a:ext cx="838080" cy="387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543800" y="4114800"/>
            <a:ext cx="838080" cy="387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1" name=""/>
          <p:cNvCxnSpPr>
            <a:stCxn id="1579" idx="3"/>
            <a:endCxn id="1580" idx="1"/>
          </p:cNvCxnSpPr>
          <p:nvPr/>
        </p:nvCxnSpPr>
        <p:spPr>
          <a:xfrm>
            <a:off x="7314840" y="4308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2" name=""/>
          <p:cNvCxnSpPr>
            <a:stCxn id="1575" idx="2"/>
            <a:endCxn id="1579" idx="0"/>
          </p:cNvCxnSpPr>
          <p:nvPr/>
        </p:nvCxnSpPr>
        <p:spPr>
          <a:xfrm>
            <a:off x="6895800" y="35812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3" name=""/>
          <p:cNvCxnSpPr>
            <a:stCxn id="1571" idx="3"/>
            <a:endCxn id="1574" idx="1"/>
          </p:cNvCxnSpPr>
          <p:nvPr/>
        </p:nvCxnSpPr>
        <p:spPr>
          <a:xfrm flipV="1">
            <a:off x="2742840" y="3387240"/>
            <a:ext cx="305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4" name=""/>
          <p:cNvSpPr/>
          <p:nvPr/>
        </p:nvSpPr>
        <p:spPr>
          <a:xfrm>
            <a:off x="727920" y="446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payload (apply/add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742360" y="446400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payload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03848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25780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813480" y="40384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F-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88" idx="0"/>
            <a:endCxn id="1586" idx="0"/>
          </p:cNvCxnSpPr>
          <p:nvPr/>
        </p:nvCxnSpPr>
        <p:spPr>
          <a:xfrm flipH="1" flipV="1">
            <a:off x="4038120" y="3580920"/>
            <a:ext cx="597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0" name=""/>
          <p:cNvCxnSpPr>
            <a:stCxn id="1588" idx="0"/>
            <a:endCxn id="1587" idx="0"/>
          </p:cNvCxnSpPr>
          <p:nvPr/>
        </p:nvCxnSpPr>
        <p:spPr>
          <a:xfrm flipV="1">
            <a:off x="4635000" y="3580920"/>
            <a:ext cx="623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1" name=""/>
          <p:cNvSpPr/>
          <p:nvPr/>
        </p:nvSpPr>
        <p:spPr>
          <a:xfrm>
            <a:off x="762120" y="5562720"/>
            <a:ext cx="7696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mission of the “payload” bits follow immediately behind the transmission of the corresponding header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2849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ert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7581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move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905280" y="269244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EA7-8EE5-4720-9075-22083A05BC2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does Bluetooth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6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0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71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3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82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4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5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6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9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3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4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5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6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8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8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3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84C7-7E6B-46ED-86F0-6FBDBB47BAC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little bit of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(Special Interest Group) was formed in February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ver 1036 adopter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went “public” in May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work (the spec: &gt;1,500 pages) became public on July 26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E5F-B7E0-4270-9064-3CB83F713E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progra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85800" y="1600200"/>
            <a:ext cx="7772400" cy="914400"/>
            <a:chOff x="685800" y="1600200"/>
            <a:chExt cx="7772400" cy="914400"/>
          </a:xfrm>
        </p:grpSpPr>
        <p:sp>
          <p:nvSpPr>
            <p:cNvPr id="421" name=""/>
            <p:cNvSpPr/>
            <p:nvPr/>
          </p:nvSpPr>
          <p:spPr>
            <a:xfrm>
              <a:off x="685800" y="160020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19520" y="16002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85800" y="2514600"/>
            <a:ext cx="7772400" cy="914400"/>
            <a:chOff x="685800" y="2514600"/>
            <a:chExt cx="7772400" cy="914400"/>
          </a:xfrm>
        </p:grpSpPr>
        <p:sp>
          <p:nvSpPr>
            <p:cNvPr id="424" name=""/>
            <p:cNvSpPr/>
            <p:nvPr/>
          </p:nvSpPr>
          <p:spPr>
            <a:xfrm>
              <a:off x="685800" y="251460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19520" y="25146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85800" y="3429000"/>
            <a:ext cx="7772400" cy="914400"/>
            <a:chOff x="685800" y="3429000"/>
            <a:chExt cx="7772400" cy="914400"/>
          </a:xfrm>
        </p:grpSpPr>
        <p:sp>
          <p:nvSpPr>
            <p:cNvPr id="427" name=""/>
            <p:cNvSpPr/>
            <p:nvPr/>
          </p:nvSpPr>
          <p:spPr>
            <a:xfrm>
              <a:off x="685800" y="342900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19520" y="34290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" y="4343400"/>
            <a:ext cx="7772400" cy="914400"/>
            <a:chOff x="685800" y="4343400"/>
            <a:chExt cx="7772400" cy="914400"/>
          </a:xfrm>
        </p:grpSpPr>
        <p:sp>
          <p:nvSpPr>
            <p:cNvPr id="430" name=""/>
            <p:cNvSpPr/>
            <p:nvPr/>
          </p:nvSpPr>
          <p:spPr>
            <a:xfrm>
              <a:off x="685800" y="434340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19520" y="43434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85800" y="5257800"/>
            <a:ext cx="7772400" cy="914400"/>
            <a:chOff x="685800" y="5257800"/>
            <a:chExt cx="7772400" cy="914400"/>
          </a:xfrm>
        </p:grpSpPr>
        <p:sp>
          <p:nvSpPr>
            <p:cNvPr id="433" name=""/>
            <p:cNvSpPr/>
            <p:nvPr/>
          </p:nvSpPr>
          <p:spPr>
            <a:xfrm>
              <a:off x="685800" y="525780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19520" y="52578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3D7-787D-4EA3-91CE-D964DE1746A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484200" y="1447920"/>
            <a:ext cx="8278560" cy="4267080"/>
            <a:chOff x="484200" y="1447920"/>
            <a:chExt cx="8278560" cy="4267080"/>
          </a:xfrm>
        </p:grpSpPr>
        <p:sp>
          <p:nvSpPr>
            <p:cNvPr id="436" name=""/>
            <p:cNvSpPr/>
            <p:nvPr/>
          </p:nvSpPr>
          <p:spPr>
            <a:xfrm>
              <a:off x="5262480" y="20120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22680" y="15238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4120" y="38408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36880" y="38098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24120" y="49370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36880" y="47242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75160" y="30009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531600" y="34290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4200" y="52912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4200" y="47703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4200" y="37926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52440" y="42814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52440" y="37926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4200" y="24908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4200" y="19684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57200" y="19684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63800" y="19684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90720" y="19684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4200" y="14479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69320" y="28814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7809800">
              <a:off x="2932920" y="29012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5715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ardware/software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pplic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271-9A9D-4B40-BFDD-4475C4A7D7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ge scenarios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cces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den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dless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rd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 Post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-in-one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Speaker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A7A7-6B9E-48DA-9845-9CE215746D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9T17:09:06Z</dcterms:created>
  <dc:creator>Dr. Chatschik Bisdikian</dc:creator>
  <dc:description>69</dc:description>
  <dc:language>en-US</dc:language>
  <cp:lastModifiedBy>Ian C. Gifford</cp:lastModifiedBy>
  <cp:lastPrinted>1998-02-10T13:28:06Z</cp:lastPrinted>
  <dcterms:modified xsi:type="dcterms:W3CDTF">1999-09-09T18:35:42Z</dcterms:modified>
  <cp:revision>2</cp:revision>
  <dc:subject>Bluetooth Architecture Overview</dc:subject>
  <dc:title>Overview of the Bluetooth System</dc:title>
</cp:coreProperties>
</file>