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4.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10.wmf" ContentType="image/x-wmf"/>
  <Override PartName="/ppt/media/image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A57E561F-4800-4801-B0BD-66642B32C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807EE45D-CD50-4A20-BC63-768987F94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1"/>
          <p:cNvSpPr>
            <a:spLocks noGrp="1"/>
          </p:cNvSpPr>
          <p:nvPr>
            <p:ph type="sldImg"/>
          </p:nvPr>
        </p:nvSpPr>
        <p:spPr>
          <a:xfrm>
            <a:off x="1131840" y="689040"/>
            <a:ext cx="4594320" cy="3446280"/>
          </a:xfrm>
          <a:prstGeom prst="rect">
            <a:avLst/>
          </a:prstGeom>
          <a:ln w="0">
            <a:noFill/>
          </a:ln>
        </p:spPr>
      </p:sp>
      <p:sp>
        <p:nvSpPr>
          <p:cNvPr id="44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9760" y="695160"/>
            <a:ext cx="4578480" cy="3434040"/>
          </a:xfrm>
          <a:prstGeom prst="rect">
            <a:avLst/>
          </a:prstGeom>
          <a:ln w="0">
            <a:noFill/>
          </a:ln>
        </p:spPr>
      </p:sp>
      <p:sp>
        <p:nvSpPr>
          <p:cNvPr id="451"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EB05F-04B0-4450-8393-2B0DF8721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4B73-733C-4A83-8B8D-D0A8612A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397EF-EF67-48F5-9955-02DC7AED9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9BA52-9D7A-4A64-BCFA-6972D9C60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EEAA-406F-411A-9290-3E3FB297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C2565-B2C8-4CED-A598-CC5ED8AA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4C12-33A7-4EDA-BA7F-EFB2F17F0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F1BB-4D89-4870-85B4-A510AF7A0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8A089-1F22-4317-B2F4-0E40D585E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2169-3743-4383-A16D-BA86F6EA9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9E8BA-30AE-4BBC-843B-37F026DA3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E297A-5521-41BC-BA0A-7DB28CBEA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92C3DD-0F18-4DE8-89D9-427DDF7FF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179720" y="4800600"/>
            <a:ext cx="692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MobileIP Work Group at IETF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6,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1662FD2-952D-4115-AAC5-CAEBDE78B381}"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C29DDF0-6643-4DF1-B45A-78ED0D18D556}"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8"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9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466879A-01C2-4C71-9FBB-679255C4D251}"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1"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F04483E-F011-44BC-B9A3-8082F0AD75B9}"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05"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7"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9"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11"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18"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20"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22"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23"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30"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31"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32"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33"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34"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37"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8"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39"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54A1B16-FCBB-4868-902F-899BF8572021}" type="slidenum">
              <a:t>1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41"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143"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44"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45"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46"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47"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48"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49"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50"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5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666880" y="3505320"/>
            <a:ext cx="1432080" cy="1157040"/>
          </a:xfrm>
          <a:prstGeom prst="rect">
            <a:avLst/>
          </a:prstGeom>
          <a:ln w="0">
            <a:noFill/>
          </a:ln>
        </p:spPr>
      </p:pic>
      <p:sp>
        <p:nvSpPr>
          <p:cNvPr id="15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5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5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58" name=""/>
          <p:cNvGraphicFramePr/>
          <p:nvPr/>
        </p:nvGraphicFramePr>
        <p:xfrm>
          <a:off x="4343400" y="3809880"/>
          <a:ext cx="2362320" cy="584280"/>
        </p:xfrm>
        <a:graphic>
          <a:graphicData uri="http://schemas.openxmlformats.org/presentationml/2006/ole">
            <p:oleObj r:id="rId3" spid="">
              <p:embed/>
              <p:pic>
                <p:nvPicPr>
                  <p:cNvPr id="159"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03F08B9-4FB2-4D1D-91B8-D2DB09FB30FF}" type="slidenum">
              <a:t>1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pic>
        <p:nvPicPr>
          <p:cNvPr id="161"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49971BA-FFDA-47FA-B3EA-589B1DCB72F2}"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163" name=""/>
          <p:cNvGraphicFramePr/>
          <p:nvPr/>
        </p:nvGraphicFramePr>
        <p:xfrm>
          <a:off x="152280" y="1905120"/>
          <a:ext cx="8724960" cy="4659120"/>
        </p:xfrm>
        <a:graphic>
          <a:graphicData uri="http://schemas.openxmlformats.org/presentationml/2006/ole">
            <p:oleObj r:id="rId1" spid="">
              <p:embed/>
              <p:pic>
                <p:nvPicPr>
                  <p:cNvPr id="164"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165" name=""/>
          <p:cNvGraphicFramePr/>
          <p:nvPr/>
        </p:nvGraphicFramePr>
        <p:xfrm>
          <a:off x="3124080" y="4267080"/>
          <a:ext cx="2538360" cy="1152720"/>
        </p:xfrm>
        <a:graphic>
          <a:graphicData uri="http://schemas.openxmlformats.org/presentationml/2006/ole">
            <p:oleObj r:id="rId3" spid="">
              <p:embed/>
              <p:pic>
                <p:nvPicPr>
                  <p:cNvPr id="166"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67" name=""/>
          <p:cNvGraphicFramePr/>
          <p:nvPr/>
        </p:nvGraphicFramePr>
        <p:xfrm>
          <a:off x="2743200" y="2895480"/>
          <a:ext cx="3224160" cy="1592280"/>
        </p:xfrm>
        <a:graphic>
          <a:graphicData uri="http://schemas.openxmlformats.org/presentationml/2006/ole">
            <p:oleObj r:id="rId5" spid="">
              <p:embed/>
              <p:pic>
                <p:nvPicPr>
                  <p:cNvPr id="168"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69" name=""/>
          <p:cNvGraphicFramePr/>
          <p:nvPr/>
        </p:nvGraphicFramePr>
        <p:xfrm>
          <a:off x="3200400" y="1371600"/>
          <a:ext cx="4952880" cy="1380960"/>
        </p:xfrm>
        <a:graphic>
          <a:graphicData uri="http://schemas.openxmlformats.org/presentationml/2006/ole">
            <p:oleObj r:id="rId7" spid="">
              <p:embed/>
              <p:pic>
                <p:nvPicPr>
                  <p:cNvPr id="170"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71" name=""/>
          <p:cNvGraphicFramePr/>
          <p:nvPr/>
        </p:nvGraphicFramePr>
        <p:xfrm>
          <a:off x="380880" y="685800"/>
          <a:ext cx="5513400" cy="2895480"/>
        </p:xfrm>
        <a:graphic>
          <a:graphicData uri="http://schemas.openxmlformats.org/presentationml/2006/ole">
            <p:oleObj r:id="rId9" spid="">
              <p:embed/>
              <p:pic>
                <p:nvPicPr>
                  <p:cNvPr id="172"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73" name=""/>
          <p:cNvGraphicFramePr/>
          <p:nvPr/>
        </p:nvGraphicFramePr>
        <p:xfrm>
          <a:off x="2514600" y="1981080"/>
          <a:ext cx="5738760" cy="2163960"/>
        </p:xfrm>
        <a:graphic>
          <a:graphicData uri="http://schemas.openxmlformats.org/presentationml/2006/ole">
            <p:oleObj r:id="rId11" spid="">
              <p:embed/>
              <p:pic>
                <p:nvPicPr>
                  <p:cNvPr id="174"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55AD0F8-3CD8-48E1-AE15-8F19937CDD5C}"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17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EA7B337-943A-42F4-B0A2-CC923EB1782A}" type="slidenum">
              <a:t>1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17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18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8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6404040" y="2090880"/>
            <a:ext cx="1444680" cy="1170000"/>
          </a:xfrm>
          <a:prstGeom prst="rect">
            <a:avLst/>
          </a:prstGeom>
          <a:ln w="0">
            <a:noFill/>
          </a:ln>
        </p:spPr>
      </p:pic>
      <p:sp>
        <p:nvSpPr>
          <p:cNvPr id="22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22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6"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8"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229"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1"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234"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237"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239"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42"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2136600" y="2133720"/>
            <a:ext cx="1444680" cy="1170000"/>
          </a:xfrm>
          <a:prstGeom prst="rect">
            <a:avLst/>
          </a:prstGeom>
          <a:ln w="0">
            <a:noFill/>
          </a:ln>
        </p:spPr>
      </p:pic>
      <p:sp>
        <p:nvSpPr>
          <p:cNvPr id="244"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245"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8001000" y="2133720"/>
            <a:ext cx="947520" cy="1018440"/>
            <a:chOff x="8001000" y="2133720"/>
            <a:chExt cx="947520" cy="1018440"/>
          </a:xfrm>
        </p:grpSpPr>
        <p:pic>
          <p:nvPicPr>
            <p:cNvPr id="249" name="802" descr=""/>
            <p:cNvPicPr/>
            <p:nvPr/>
          </p:nvPicPr>
          <p:blipFill>
            <a:blip r:embed="rId3"/>
            <a:stretch/>
          </p:blipFill>
          <p:spPr>
            <a:xfrm>
              <a:off x="8001000" y="2133720"/>
              <a:ext cx="947520" cy="978120"/>
            </a:xfrm>
            <a:prstGeom prst="rect">
              <a:avLst/>
            </a:prstGeom>
            <a:ln w="0">
              <a:noFill/>
            </a:ln>
          </p:spPr>
        </p:pic>
        <p:sp>
          <p:nvSpPr>
            <p:cNvPr id="250"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251" name=""/>
          <p:cNvGraphicFramePr/>
          <p:nvPr/>
        </p:nvGraphicFramePr>
        <p:xfrm>
          <a:off x="3886200" y="2514600"/>
          <a:ext cx="2362320" cy="584280"/>
        </p:xfrm>
        <a:graphic>
          <a:graphicData uri="http://schemas.openxmlformats.org/presentationml/2006/ole">
            <p:oleObj r:id="rId4" spid="">
              <p:embed/>
              <p:pic>
                <p:nvPicPr>
                  <p:cNvPr id="252" name="" descr=""/>
                  <p:cNvPicPr/>
                  <p:nvPr/>
                </p:nvPicPr>
                <p:blipFill>
                  <a:blip r:embed="rId5"/>
                  <a:stretch/>
                </p:blipFill>
                <p:spPr>
                  <a:xfrm>
                    <a:off x="3886200" y="2514600"/>
                    <a:ext cx="2362320" cy="584280"/>
                  </a:xfrm>
                  <a:prstGeom prst="rect">
                    <a:avLst/>
                  </a:prstGeom>
                  <a:ln w="0">
                    <a:noFill/>
                  </a:ln>
                </p:spPr>
              </p:pic>
            </p:oleObj>
          </a:graphicData>
        </a:graphic>
      </p:graphicFrame>
      <p:sp>
        <p:nvSpPr>
          <p:cNvPr id="253"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256"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257"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259"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D998739-E217-4B2F-A48F-B9900BA0338A}"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26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6AC8A9A-EE9B-4F69-8EB9-66DAC6510A7F}"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F98B04F-10C7-4665-B906-FD5FFB764CCC}"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262B183-A034-4A66-8037-38329164AF15}"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266" name=""/>
          <p:cNvGraphicFramePr/>
          <p:nvPr/>
        </p:nvGraphicFramePr>
        <p:xfrm>
          <a:off x="1530360" y="1944720"/>
          <a:ext cx="6089760" cy="3768840"/>
        </p:xfrm>
        <a:graphic>
          <a:graphicData uri="http://schemas.openxmlformats.org/presentationml/2006/ole">
            <p:oleObj r:id="rId1" spid="">
              <p:embed/>
              <p:pic>
                <p:nvPicPr>
                  <p:cNvPr id="267" name="" descr=""/>
                  <p:cNvPicPr/>
                  <p:nvPr/>
                </p:nvPicPr>
                <p:blipFill>
                  <a:blip r:embed="rId2"/>
                  <a:stretch/>
                </p:blipFill>
                <p:spPr>
                  <a:xfrm>
                    <a:off x="1530360" y="1944720"/>
                    <a:ext cx="6089760" cy="37688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0A3254F-EE13-4A39-9E11-60BE6E758F2B}" type="slidenum">
              <a:t>2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802.15 WPAN - Proposed Liaisons</a:t>
            </a:r>
            <a:endParaRPr b="0" lang="en-US" sz="4000" spc="-1" strike="noStrike">
              <a:solidFill>
                <a:srgbClr val="000000"/>
              </a:solidFill>
              <a:latin typeface="Times New Roman"/>
            </a:endParaRPr>
          </a:p>
        </p:txBody>
      </p:sp>
      <p:sp>
        <p:nvSpPr>
          <p:cNvPr id="269"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A793C73-0164-45BF-86A0-5204F54F14B7}"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27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A30F73D-26CF-491D-A1EF-72FCC600733C}"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273"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74"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78"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79"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81"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82"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84"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85"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87"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89"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91"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93"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95"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97"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99"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300"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01"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02"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3"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4"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5"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307"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308"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309"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310"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11"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312"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317"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318"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319"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F267439-395C-43D9-82F2-2DAF7F933298}" type="slidenum">
              <a:t>2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326"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6D74386-1DEC-4D72-95F2-941947C1A760}"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2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30"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31"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2EF3D78F-96D2-4E62-BDFB-A8719B067E98}" type="slidenum">
              <a:t>2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333"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9C78C0D-3DAC-4EFF-AEE3-C05EADD25453}" type="slidenum">
              <a:t>2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1625822-373B-4A03-8C33-7AC4D7EF4EDA}"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33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A052580-5873-4326-BD96-CDF908713498}"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7282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EEE 802 </a:t>
            </a:r>
            <a:br>
              <a:rPr sz="3600"/>
            </a:br>
            <a:r>
              <a:rPr b="1" lang="en-US" sz="3600" spc="-1" strike="noStrike" u="sng">
                <a:solidFill>
                  <a:srgbClr val="000000"/>
                </a:solidFill>
                <a:uFillTx/>
                <a:latin typeface="Times New Roman"/>
              </a:rPr>
              <a:t>Wireless Vision Statement</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181296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65" name=""/>
          <p:cNvSpPr/>
          <p:nvPr/>
        </p:nvSpPr>
        <p:spPr>
          <a:xfrm>
            <a:off x="228600" y="568008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6"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E0835E9-42F1-4427-9568-AFEEFAEDB9B5}"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3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B7B2DCE-065C-49D0-B5F6-632E2AD47AC1}"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4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0EFA712-D1FD-48D3-A820-8B10BBF6CA95}"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PAN Interoperability Classes</a:t>
            </a:r>
            <a:endParaRPr b="0" lang="en-US" sz="4400" spc="-1" strike="noStrike">
              <a:solidFill>
                <a:srgbClr val="000000"/>
              </a:solidFill>
              <a:latin typeface="Times New Roman"/>
            </a:endParaRPr>
          </a:p>
        </p:txBody>
      </p:sp>
      <p:sp>
        <p:nvSpPr>
          <p:cNvPr id="342"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816BA0F-1DB1-42CB-B1C5-332AA9C11482}" type="slidenum">
              <a:t>3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existence/Interoperability Continuu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44" name=""/>
          <p:cNvGrpSpPr/>
          <p:nvPr/>
        </p:nvGrpSpPr>
        <p:grpSpPr>
          <a:xfrm>
            <a:off x="76320" y="1733400"/>
            <a:ext cx="8684640" cy="4743720"/>
            <a:chOff x="76320" y="1733400"/>
            <a:chExt cx="8684640" cy="4743720"/>
          </a:xfrm>
        </p:grpSpPr>
        <p:sp>
          <p:nvSpPr>
            <p:cNvPr id="345"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347"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48" name=""/>
            <p:cNvGrpSpPr/>
            <p:nvPr/>
          </p:nvGrpSpPr>
          <p:grpSpPr>
            <a:xfrm>
              <a:off x="3427560" y="1733400"/>
              <a:ext cx="3187440" cy="458280"/>
              <a:chOff x="3427560" y="1733400"/>
              <a:chExt cx="3187440" cy="458280"/>
            </a:xfrm>
          </p:grpSpPr>
          <p:sp>
            <p:nvSpPr>
              <p:cNvPr id="349"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350"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352"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355"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357"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359"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362"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365" name=""/>
            <p:cNvGrpSpPr/>
            <p:nvPr/>
          </p:nvGrpSpPr>
          <p:grpSpPr>
            <a:xfrm>
              <a:off x="1523160" y="3809880"/>
              <a:ext cx="1456200" cy="1371600"/>
              <a:chOff x="1523160" y="3809880"/>
              <a:chExt cx="1456200" cy="1371600"/>
            </a:xfrm>
          </p:grpSpPr>
          <p:sp>
            <p:nvSpPr>
              <p:cNvPr id="366"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368" name=""/>
            <p:cNvGrpSpPr/>
            <p:nvPr/>
          </p:nvGrpSpPr>
          <p:grpSpPr>
            <a:xfrm>
              <a:off x="352440" y="3022560"/>
              <a:ext cx="6254640" cy="652680"/>
              <a:chOff x="352440" y="3022560"/>
              <a:chExt cx="6254640" cy="652680"/>
            </a:xfrm>
          </p:grpSpPr>
          <p:sp>
            <p:nvSpPr>
              <p:cNvPr id="369"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372"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373"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374"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75"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377"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9B86190-B8D1-4C7B-ADA2-F3B024A5BDAA}" type="slidenum">
              <a:t>3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380"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E011B1B-09CE-44FF-A176-6543F791FFF8}"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383"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BCA177F-8882-4C33-882C-BDE2C29F1273}"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385" name=""/>
          <p:cNvGrpSpPr/>
          <p:nvPr/>
        </p:nvGrpSpPr>
        <p:grpSpPr>
          <a:xfrm>
            <a:off x="339840" y="4075200"/>
            <a:ext cx="8559000" cy="801720"/>
            <a:chOff x="339840" y="4075200"/>
            <a:chExt cx="8559000" cy="801720"/>
          </a:xfrm>
        </p:grpSpPr>
        <p:sp>
          <p:nvSpPr>
            <p:cNvPr id="386"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387"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388"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389"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390"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392"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9840" y="5651640"/>
            <a:ext cx="8229600" cy="801720"/>
            <a:chOff x="339840" y="5651640"/>
            <a:chExt cx="8229600" cy="801720"/>
          </a:xfrm>
        </p:grpSpPr>
        <p:sp>
          <p:nvSpPr>
            <p:cNvPr id="394"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395"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396"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7"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8"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9"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401"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402" name=""/>
          <p:cNvGrpSpPr/>
          <p:nvPr/>
        </p:nvGrpSpPr>
        <p:grpSpPr>
          <a:xfrm>
            <a:off x="339840" y="3262320"/>
            <a:ext cx="8424360" cy="801720"/>
            <a:chOff x="339840" y="3262320"/>
            <a:chExt cx="8424360" cy="801720"/>
          </a:xfrm>
        </p:grpSpPr>
        <p:sp>
          <p:nvSpPr>
            <p:cNvPr id="403"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04"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05"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06"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07"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409"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410" name=""/>
          <p:cNvGrpSpPr/>
          <p:nvPr/>
        </p:nvGrpSpPr>
        <p:grpSpPr>
          <a:xfrm>
            <a:off x="339840" y="4813200"/>
            <a:ext cx="8229600" cy="801720"/>
            <a:chOff x="339840" y="4813200"/>
            <a:chExt cx="8229600" cy="801720"/>
          </a:xfrm>
        </p:grpSpPr>
        <p:sp>
          <p:nvSpPr>
            <p:cNvPr id="411"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12"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13"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14"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415"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16"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417"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419"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420"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39840" y="2463840"/>
            <a:ext cx="8246160" cy="801720"/>
            <a:chOff x="339840" y="2463840"/>
            <a:chExt cx="8246160" cy="801720"/>
          </a:xfrm>
        </p:grpSpPr>
        <p:sp>
          <p:nvSpPr>
            <p:cNvPr id="424"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25"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26"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27"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28"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430"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431"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432"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433"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434"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436"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437"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439"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43080" y="1662120"/>
            <a:ext cx="8229600" cy="801720"/>
            <a:chOff x="343080" y="1662120"/>
            <a:chExt cx="8229600" cy="801720"/>
          </a:xfrm>
        </p:grpSpPr>
        <p:sp>
          <p:nvSpPr>
            <p:cNvPr id="441"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42"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0EAEB16-A7F5-461B-B43A-E74E4C64CEA6}"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PAN Project History</a:t>
            </a:r>
            <a:endParaRPr b="0" lang="en-US" sz="3600" spc="-1" strike="noStrike">
              <a:solidFill>
                <a:srgbClr val="000000"/>
              </a:solidFill>
              <a:latin typeface="Times New Roman"/>
            </a:endParaRPr>
          </a:p>
        </p:txBody>
      </p:sp>
      <p:sp>
        <p:nvSpPr>
          <p:cNvPr id="68"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EDB4940-E657-4862-B087-89DDE4B244FA}"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70"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1"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6"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7"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8"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077840" y="1219320"/>
          <a:ext cx="6745320" cy="3579840"/>
        </p:xfrm>
        <a:graphic>
          <a:graphicData uri="http://schemas.openxmlformats.org/presentationml/2006/ole">
            <p:oleObj progId="Word.Document.12" r:id="rId1" spid="">
              <p:embed/>
              <p:pic>
                <p:nvPicPr>
                  <p:cNvPr id="80"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1"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2"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E533E5E-D5F6-4212-A1FE-4F797C74D370}"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72997D1-F902-427A-A41C-B2F183B5DA38}"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86"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50BEE7F-784D-4F42-8137-8DBFADEB6944}" type="slidenum">
              <a:t>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89"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9E937C7-AEE3-4115-B18D-4EBEEB47817F}"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52608A8-31AD-4566-B160-6872F429FE22}"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6T08:30:38Z</dcterms:modified>
  <cp:revision>78</cp:revision>
  <dc:subject>doc.: IEEE 802.15-99/027r0</dc:subject>
  <dc:title>WPAN Background</dc:title>
</cp:coreProperties>
</file>