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E35414-A6DD-45AE-8CB3-FF21A5B4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1A4FB4-D7B8-4B2E-85C6-D144CE357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37C69E-0C19-41C0-9C7F-3B62B7BE9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0EA822-F421-473C-BADE-7B2ECB81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51F2AB-7F6F-4D6A-82F6-B7539473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412A3F-5AF2-48BA-B444-39991D80C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297-8DAB-42DC-B089-7212657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40F-27F9-479E-95FE-494F889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F96-F42E-4B06-918E-C1AB920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829-F087-4AB7-8C08-48362E91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963-C5CA-4228-9379-75AAA39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D57-8280-4504-87C2-0FBFC9E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C83-305C-470F-81D1-6D53F69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467-31C8-4439-9FE1-B517FA02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D36-F245-43BC-8EBD-96262CA7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157-436C-4B95-89D1-54B8D2E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DD6-F31B-45E7-8619-B4A407B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EE2-11C9-47FE-A993-3402CBB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64E378-F7BD-4A8F-9E2D-B88D0E00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-IEEE Editorial Working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EB4-09E2-4030-BA18-E456F59529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3434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80988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g4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523880" cy="493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53040" y="37339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40086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400-6606-40BD-9DA9-A43141079D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4440" y="55926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704-4CBB-4DAE-A864-64543B8B00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life for BT Editorial W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T Editorial Group plans to finish its IEEE Editorial lower layer  (OSI 1&amp;2) work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is interested in the upper layer (OSI 3-7) this work may require this same or another WG inside of B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4120" y="2513160"/>
          <a:ext cx="33638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3160"/>
                    <a:ext cx="33638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6E6-9C75-4B2C-B395-0108893398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pr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of pre Draft Standard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pre Draft Standard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ed approved Standard, available as early as Apr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736-3984-4AD7-B258-0F209C7BEE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20720" y="1995480"/>
          <a:ext cx="5923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5480"/>
                    <a:ext cx="5923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FE4-C30C-4AD8-835E-5BDCB6F755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74720" y="1503360"/>
          <a:ext cx="7650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03360"/>
                    <a:ext cx="7650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7EA-7829-4C9D-8104-9BB30CE25E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124080" y="198108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132-3271-4146-81D3-36DCEC15DA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80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938-B133-401E-A800-44474B1C91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32200" y="2514600"/>
          <a:ext cx="4259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2200" y="2514600"/>
                    <a:ext cx="4259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9720" y="2513160"/>
          <a:ext cx="336420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2513160"/>
                    <a:ext cx="3364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D0B-9340-47BD-99B7-DFE47E73D6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1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655-A086-4F75-BBD7-B48D3D01C1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8620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200664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53040" y="14018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3280" y="1676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86C-0BF0-4A49-87B4-888CE8D3CC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6:10:17Z</dcterms:created>
  <dc:creator>Ian C. Gifford</dc:creator>
  <dc:description>068r0</dc:description>
  <dc:language>en-US</dc:language>
  <cp:lastModifiedBy>Ian C. Gifford</cp:lastModifiedBy>
  <cp:lastPrinted>1998-02-10T13:28:06Z</cp:lastPrinted>
  <dcterms:modified xsi:type="dcterms:W3CDTF">1999-09-13T05:49:26Z</dcterms:modified>
  <cp:revision>24</cp:revision>
  <dc:subject>IEEE 802.15 Liaison</dc:subject>
  <dc:title>Bluetooth-IEEE Editorial Working Group Report #1</dc:title>
</cp:coreProperties>
</file>