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C99-4A16-4FB3-AE76-30BAD036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21B-5AD8-4CC7-8966-17060B51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722-77CD-4442-9A40-B04DEE4A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25B-9396-4052-952B-0CE8184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313-3666-424B-AE39-1610216B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A44-FEFD-426C-A951-F16D402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E1C-99F7-45D9-9EFB-D61F0BD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74B-805E-4A14-92B1-5E2A4D7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D32-FCBB-4B8A-A70B-21207F9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DFB-DF5B-4151-9A48-375833E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C7E-258C-4050-AB1F-7DDF47D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025-A7A5-468D-A1B3-04441C4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06083F-C50A-4D70-9BCF-1CD1318E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and IEEE 8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4600" y="1981080"/>
          <a:ext cx="5738760" cy="216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981080"/>
                    <a:ext cx="57387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C17-4E56-4220-9A41-D3627F1E6D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676520"/>
          <a:ext cx="58798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79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32E-2862-489A-BD83-FCFF6CAFB9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D2-5B02-44F9-95A5-E02B4A5697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42:20Z</dcterms:modified>
  <cp:revision>5</cp:revision>
  <dc:subject>IEEE 802.15 &lt;subject&gt;</dc:subject>
  <dc:title>IEEE P802.15 Operating Rules</dc:title>
</cp:coreProperties>
</file>