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1F5B5-E9C2-48E5-9021-E233D09FF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CDBA4-8118-4F09-9F9D-26EBA30C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89DA0-D23E-4C48-83AE-DF14DF97F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C6E68-9EC1-4B5A-8E67-C383797F9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38FE-4A09-4C0F-90F2-D87666D6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042B6-3848-4531-BF09-306DC7D48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4EE51-9694-4168-94AC-855AF614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D104-9934-46B6-A759-54DC52FA8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C5E39-12B3-495C-A1E5-D0828487C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79CB-796B-4CC6-8D36-CDEAC39E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6D894-CA42-4ABE-92C4-D63F502ED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C3675-1C44-4B19-ADEB-F082EAC1F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FAF7BF-D26A-4292-BF45-933B00DBE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3 Overview</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fication v1.0A, a Basis For Standards-Makin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Nov99 to 12Nov99</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att Regency Kaua'i, 1571 Poipu Road Koloa, HI USA</a:t>
            </a:r>
            <a:endParaRPr b="0" lang="en-US" sz="1800" spc="-1" strike="noStrike">
              <a:solidFill>
                <a:srgbClr val="000000"/>
              </a:solidFill>
              <a:latin typeface="Arial"/>
            </a:endParaRPr>
          </a:p>
        </p:txBody>
      </p:sp>
      <p:pic>
        <p:nvPicPr>
          <p:cNvPr id="47"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1FE17F-5D0F-404C-B15A-2C37D5C87B8A}"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he P802.15.1 v0.6 Draft Standard - Gifford</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Architecture Overview -99/069r0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e Bluetooth Specification to P802.15.1 -99/071r3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5.1 V1.0 Draft Standard Overview -99/125r0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mp; Answers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Remarks - Giffo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C28728-13CC-4583-B997-88E14CFF4155}"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orking Group for Wireless Personal Area Networks will initiate their first Working Group Electronic Letter Ballot during the IEEE 802 November 1999 Plenary. This Conference Tutorial has been prepared to assist the Working Group as well as the potential WPAN Sponsor Ballot Pool attendees on the content of the draft standard submission, and the source of the technology. Additionally, we will describe how the IEEE P802.15 WPAN technology complements the 802 Family.</a:t>
            </a:r>
            <a:endParaRPr b="0" lang="en-US" sz="2000" spc="-1" strike="noStrike">
              <a:solidFill>
                <a:srgbClr val="000000"/>
              </a:solidFill>
              <a:latin typeface="Arial"/>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fast track nature of this standards making process the November Conference Tutorial will provide the necessary baseline for the up and coming Working Group and Sponsor Ballot v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36FA76-83B6-4114-B2AB-98D55640FA7B}"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away or Careabou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v0.6 will enter the first Working Group Letter Ballot (LB #1) 11Nov99 to Friday 10Dec99 (30 days)</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B #1 Comment Resolution 10-14Jan99</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ready for Sponsor Ballot Mar99</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4E916CA-0C9B-4511-A5E4-AEAF1FCBFF02}"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IEEE Proposed Timelin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nitial Discussion on Proposal submiss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EEE initial vote of support to draft 802.15 based on Bluetooth specific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 1999 - Overview the draft 802.15.1 based on the current  Bluetooth specification to the time 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 Initial draft ready for WG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0 - First Ballot complete, second ballot kicked off.</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 Draft ready for IEEE sponsor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0 - Approval by IEEE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297F83B-F10D-4C5E-96FF-3C16D0BCC80F}"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Key IEEE802 Dat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99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802.15 Working Group for Wireless Personal Area Networks (WPAN)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99</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5 Task Group 1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999 Kaua'i, HI</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submitted to WG from TG1</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 2000 Albuquerqu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0438C3-B998-4837-B16E-40B324518C14}"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For Tutorial</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ouper.ieee.org/groups/802/15/pub/Tutorials.htm</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 in 4 hours or less</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IEEE Registration Office or see Ian Gifford, IEEE P802.15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B45FDC-616D-436D-9E9C-1FA0A5D77CC9}"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3 Speak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Gifford - IEEE 802.15.1 Chai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fordi@amp.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8 442 4650</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schik Bisdikian - IEEE 802.15.1 VC</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dik@us.ibm.com </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14 784 7439 </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 IEEE 802.15.1 TechEdito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p@ti.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2 480 678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8D3226F-F03A-4DA5-BD0D-206405DEB43D}"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lt;doc#&gt;</dc:description>
  <dc:language>en-US</dc:language>
  <cp:lastModifiedBy>Ian C. Gifford</cp:lastModifiedBy>
  <cp:lastPrinted>1998-02-10T13:28:06Z</cp:lastPrinted>
  <dcterms:modified xsi:type="dcterms:W3CDTF">1999-11-10T06:07:59Z</dcterms:modified>
  <cp:revision>9</cp:revision>
  <dc:subject>IEEE 802.15 &lt;subject&gt;</dc:subject>
  <dc:title>IEEE P802.15 Working Group for Wireless Personal Area Networks</dc:title>
</cp:coreProperties>
</file>