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E3E3A-05DB-4827-BE28-9C0DE96E8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DBE9-1110-499D-9782-B47F3DB63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9A4DB-7949-458C-B868-F4073240A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A2B7E-CA4C-45A1-B99C-791F6CAB7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F048E-A9BB-40CB-9C50-0106DB26B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F955-8B15-447B-91C9-A01B6CC7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41F2F-2ACE-4471-B9DB-117723170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69FBD-4C88-4D60-8AEA-21CCDD88C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F2A91-D5BF-4428-AC46-FC3DCEAED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6D7D-2B14-4D97-8154-697D7684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04917-0742-435E-8F5E-715B5771E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F6D1E-364D-4B44-B83F-0E5E32329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DDF1E7-1FDB-4124-8EA5-818E2E844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Report to the Excom on Coexistence S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F. Heile] Company [GTE Technology Organ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SG on Coexistenc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G Status and Proposal for Operat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solicit  Excom approval on the formation of a Task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29BB4DF2-7989-44F4-8A7A-D96AB4A6E870}"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existence Study Group would become a Task Group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aisons from 802.11 would be able to vote in the Task Group since they have voting rights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the group would be reported at the regularly scheduled 802.11/802.15 joint session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011BC517-0211-4D5C-810C-5A9399D954E4}"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draft Recommended Practice was ready for letter ballot it would be submitted to both the 802.15 and the 802.11 Working Groups for separate letter ballo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for the Recommended Practice to be forwarded to the Executive Committee for Sponsor ballot, the letter ballot must pass in both Working Group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B9DEF524-FD6D-4CA3-BCD3-74A46D67AF53}"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866DF29D-828C-4EBF-8159-FCCA49851283}"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1E39BFB1-3E0B-404B-8A97-CD56A02C2F6E}"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 of Coexistence</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wireless devices are said to “coexist” if they can be collocated without significantly impacting the performance of any of these de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5CA5599A-64F1-4B90-91DB-87F3DAAB1A74}"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currently defines three levels of interoperabili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ly exchanging two interoperable devices causes no damage to the devic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our definition of coexistenc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devices can exchange data</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allow but not require interoperability as a coexistence mechanism.</a:t>
            </a:r>
            <a:endParaRPr b="0" lang="en-US" sz="32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F890A7F-E73F-478D-ACAD-DC06B13DCAFB}"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7EB555F2-7DF3-4589-8546-98AE175168D0}"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ffic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data traffic flow based upon different application scenarios for both the WLAN and WPAN network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traffic</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transfe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ata collect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mp; Others</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356263DE-8195-4660-A367-6AEB55465183}"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Layer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WLAN and WPAN MAC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that with the Data Traffic models to determine when each of the networks are transmitting da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A4757DAE-9782-47E8-A92D-038C16C2CDE3}"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 Propagation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RF signal power levels at the different WPAN and WLAN nodes based on an RF propagation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ifferent application scenarios and physical distribution of device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E1DDB295-F2EA-4556-8303-F040A2BB067E}"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7880AFD9-516D-401B-B66A-F1D9F719E274}"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49"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9D5C9BE9-5707-4D4E-8B05-93A9DF615263}"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oexistence Model for the 2.4 band, that we can all agree to, which will help us assess the issues of Coexistence in a more quantitative way</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option selections from the existing 2.4 band standards that would further coexistence (much like writing a profile)</a:t>
            </a:r>
            <a:endParaRPr b="0" lang="en-US" sz="28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B5810EA1-AAF6-426B-A1D0-5BC6864E662F}"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guidebook on band etiquette so that as new standards are developed or existing standards are enhanced, there is an organized way to improve the coexistence environmen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 how multi-mode radios in the 2.4 band should go about the task of deciding what mode to be in and how to exchange information and data between environm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6978728B-14B5-41D4-88A8-F7AE923A0DE5}"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proposed Task Group would be a set of Recommended Practice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D561E7C1-6D97-4493-A089-2A5276119D63}"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E6B29C0D-72F4-4125-AFC0-1124074C78E6}"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9"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1"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2"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3"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4"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FD1D0D71-CBAC-4D96-AA24-858432484FA8}" type="slidenum">
              <a:t>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together the four parts of the model to predict the impact on the WPAN and WLAN 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rough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lat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F83E8DB4-12A7-40C8-9AD1-6B8F1C7E8CB1}"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13:23:06Z</dcterms:created>
  <dc:creator>Rober F. Heile</dc:creator>
  <dc:description>&lt;doc#&gt;</dc:description>
  <dc:language>en-US</dc:language>
  <cp:lastModifiedBy>Rober F. Heile</cp:lastModifiedBy>
  <cp:lastPrinted>1999-09-14T16:44:21Z</cp:lastPrinted>
  <dcterms:modified xsi:type="dcterms:W3CDTF">1999-11-08T19:13:17Z</dcterms:modified>
  <cp:revision>6</cp:revision>
  <dc:subject>IEEE 802.15 &lt;subject&gt;</dc:subject>
  <dc:title>No Slide Title</dc:title>
</cp:coreProperties>
</file>