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91019-38EC-44F3-B6E9-D7264693F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BB6CF-7675-4A1E-A8E0-50AE9AD68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8122F-0D0E-4110-8FF9-3A3BBBAB0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0F9ED-D425-4F26-96EF-30A8A808D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AF214-BD28-4CF4-BEA9-19ECF590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AEA8D-A8AE-4C29-95FE-F2D36595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89E3-8477-4D11-8D03-C972231C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97CCB-003A-4EA1-8273-B4C833E9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68B4-2426-4AD1-92DB-66F54EE40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D7EF-C5E6-48BD-A3DD-601683365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38B86-DB71-4AF4-A928-ECF5A6F8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E08E-666D-4762-883B-155BAF94C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3457A3-1FFC-4944-8342-FDC41849A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999 Montreal</a:t>
            </a:r>
            <a:endParaRPr b="0" lang="en-US" sz="3200" spc="-1" strike="noStrike">
              <a:solidFill>
                <a:srgbClr val="000000"/>
              </a:solidFill>
              <a:latin typeface="Times New Roman"/>
            </a:endParaRPr>
          </a:p>
        </p:txBody>
      </p:sp>
      <p:sp>
        <p:nvSpPr>
          <p:cNvPr id="47" name=""/>
          <p:cNvSpPr/>
          <p:nvPr/>
        </p:nvSpPr>
        <p:spPr>
          <a:xfrm>
            <a:off x="713520" y="5562720"/>
            <a:ext cx="7749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1 -99/005 </a:t>
            </a:r>
            <a:r>
              <a:rPr b="0" lang="en-US" sz="2400" spc="-1" strike="noStrike">
                <a:solidFill>
                  <a:srgbClr val="000000"/>
                </a:solidFill>
                <a:latin typeface="Times New Roman"/>
              </a:rPr>
              <a:t>99005P802-15_Liaison-Report.pp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rver &amp; Flash C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202CAE0-24CB-47EF-A1B0-52A6948D34B7}"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1, 1999 Jim Carlo, Don Loughry &amp; Simon Ellis, Meeting in Santa Clar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7, 1999 Mahmoud Naghshineh WPAN Liaison Meeting in Lond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4, 1999 Second Call For Propos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 1999 Letter Of Inten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C77FBA-A14A-459B-AF47-598B95AAE240}"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Pla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rking group will make a request (~Jun 1999) for technologies that meet usage models established by IEE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anticipates these usage models to be similar to what Bluetooth has overviewed during IEEE Liaison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uld like Bluetooth SIG to submit (~Jul 1999) the finalized specifications (Vol. 1 &amp; 2) to the 802.15 group for consideration [MS Word '97]</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pecification will be voted on by the group, no guarantees that the specification will move forward, however there is a desire to not fragment the market, achieve some level of coexistence, and possibly a 2.4GHz spectrum etiquet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A642D3-9396-4CA6-BAC8-DC71D026F287}"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nitial Discussion on Proposal submissions </a:t>
            </a:r>
            <a:endParaRPr b="0" lang="en-US" sz="16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Specification from Bluetooth introduced into the committee. The committee should do a review of this specification and clarify, understand what problems it will create with other 802 standards, etc. ARE THERE OTHER PROPOSALS?</a:t>
            </a:r>
            <a:endParaRPr b="0" lang="en-US" sz="14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2: If the submission date slips to Aug 1999 or Sep 1999 there is a potential to slip the end date.</a:t>
            </a:r>
            <a:endParaRPr b="0" lang="en-US" sz="14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EEE initial vote of support to draft 802.15 based on Bluetooth specification</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1999 - The draft 802.15 based on the current  Bluetooth specification to the time line</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1999 - Initial draft ready for WG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0 - First Ballot complete, second ballot kicked off.</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 2000 - Draft ready for IEEE sponsor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000 - Approval by IEEE Standards Boar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CFE889D-1C28-4152-9305-4DB75F8BAEE3}"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pecial Interest Group Formed May 20, 19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1 July 7, 1998 -98/25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2 September 15, 1998 -98/3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3 October 26, 1998 -98/350 (Minutes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4 December 14, 1998 J. Carlo 802 Overview to Bluetooth SI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5 March 9, 1999 -99/053 Tutor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6 July 1, 1999 -99/028 Letter Of I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42AEB35-0B64-419B-AA14-C9D04FD2FE9F}"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2, 1999 Tim Blaney, no minute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5, 1999 Dallas, TX USA</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 Denver, CO USA RAWCON ‘99 Workshop, confirm attenda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DB8860-36CE-48DB-8095-D5B18D4EFB14}"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96D95D-2714-4725-AD5F-971A0ADD4182}"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EE7AE4-38C3-4175-B785-0F7A290F1FCD}"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27C5611-B386-4F47-B638-C50698379822}"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BCF0AAD-C12F-47DD-BB45-A17FA8760190}"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Composition Mar99</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2 Full Members from 35 European countrie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76% Manufacturers (265)</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6% Network Operators (93)</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8% Administrations (47)</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91% Users (20)</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99% Service Providers &amp; Others (87)</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Observers from 18 countri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Associate Members from 15 count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333D6E-1758-4B59-AFD1-229323242C6B}"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Conta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225DD8D-87E8-4C88-ACB3-52B746CEFABA}"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Mission</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e a REGIONAL STANDARDS BODY SENSITIVE TO MARKET NEEDS with an INNOVATIVE and EFFICIENT approach to producing QUALITY STANDARDS in a TIMELY mann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96FA8A-B8DF-4229-8BC2-3AFDACF7E8DC}"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BT 2CFP ETSI</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Times New Roman"/>
              </a:rPr>
              <a:t> JimK 1Jul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D9D27D-86EA-488F-ABFC-E717332A16D1}"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49"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53"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54"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56"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57"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59"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60"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62"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64"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66"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68"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70"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72"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74"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75"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76"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77"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78"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9"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282"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283"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284"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285"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286"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287"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292"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293"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294"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8F4BB6A-1C25-4EF6-90E4-791DD5E56D1C}"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98A569B-E468-40B7-A47C-E1950CFFA4DF}"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Liaison with</a:t>
            </a:r>
            <a:br>
              <a:rPr sz="4400"/>
            </a:br>
            <a:r>
              <a:rPr b="0" lang="en-US" sz="4400" spc="-1" strike="noStrike">
                <a:solidFill>
                  <a:srgbClr val="000000"/>
                </a:solidFill>
                <a:latin typeface="Times New Roman"/>
              </a:rPr>
              <a:t>P802.1 and P802.2</a:t>
            </a:r>
            <a:endParaRPr b="0" lang="en-US" sz="4400" spc="-1" strike="noStrike">
              <a:solidFill>
                <a:srgbClr val="000000"/>
              </a:solidFill>
              <a:latin typeface="Times New Roman"/>
            </a:endParaRPr>
          </a:p>
        </p:txBody>
      </p:sp>
      <p:sp>
        <p:nvSpPr>
          <p:cNvPr id="303"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asons for Liaiso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uetooth (at least) will have LLC and bridging work neede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o will be able to help with experti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ere work will be done</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5 Task Group</a:t>
            </a:r>
            <a:br>
              <a:rPr sz="1600"/>
            </a:br>
            <a:r>
              <a:rPr b="1" lang="en-US" sz="1600" spc="-1" strike="noStrike">
                <a:solidFill>
                  <a:srgbClr val="000000"/>
                </a:solidFill>
                <a:latin typeface="Arial Narrow"/>
              </a:rPr>
              <a:t>OR</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 and 802.2</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approval proces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802</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riginating Organiz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E310F19-694D-49D9-8A16-3B05AFD71920}"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856954-CCB5-40E0-98AF-53D6311E0B1E}"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634F12A-ECCD-47C4-9529-99FACBBDACBF}"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 (w/ FCC NPRM 99-149)</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3-17, 1999 Santa Rosa, CA USA, Collocated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F6A30C8-1249-4F01-92CF-7A18100F12B8}"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ing Copyright &amp; IP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 mutual timeline, circulate to SIG for approval</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Summer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 HRF-Lit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Liaison Lette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5A3BFE7-BBFC-4241-93DD-5938D76D6C0E}"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13"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 descr=""/>
          <p:cNvPicPr/>
          <p:nvPr/>
        </p:nvPicPr>
        <p:blipFill>
          <a:blip r:embed="rId1"/>
          <a:stretch/>
        </p:blipFill>
        <p:spPr>
          <a:xfrm>
            <a:off x="1996920" y="4633920"/>
            <a:ext cx="1432080" cy="1157400"/>
          </a:xfrm>
          <a:prstGeom prst="rect">
            <a:avLst/>
          </a:prstGeom>
          <a:ln w="0">
            <a:noFill/>
          </a:ln>
        </p:spPr>
      </p:pic>
      <p:pic>
        <p:nvPicPr>
          <p:cNvPr id="317" name="" descr=""/>
          <p:cNvPicPr/>
          <p:nvPr/>
        </p:nvPicPr>
        <p:blipFill>
          <a:blip r:embed="rId2"/>
          <a:stretch/>
        </p:blipFill>
        <p:spPr>
          <a:xfrm>
            <a:off x="6248520" y="4419720"/>
            <a:ext cx="1307880" cy="1404720"/>
          </a:xfrm>
          <a:prstGeom prst="rect">
            <a:avLst/>
          </a:prstGeom>
          <a:ln w="0">
            <a:noFill/>
          </a:ln>
        </p:spPr>
      </p:pic>
      <p:sp>
        <p:nvSpPr>
          <p:cNvPr id="318"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319" name=""/>
          <p:cNvSpPr/>
          <p:nvPr/>
        </p:nvSpPr>
        <p:spPr>
          <a:xfrm>
            <a:off x="6168960" y="3657600"/>
            <a:ext cx="28994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20"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321"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22" name="smllieee" descr=""/>
          <p:cNvPicPr/>
          <p:nvPr/>
        </p:nvPicPr>
        <p:blipFill>
          <a:blip r:embed="rId3"/>
          <a:stretch/>
        </p:blipFill>
        <p:spPr>
          <a:xfrm>
            <a:off x="4267080" y="2743200"/>
            <a:ext cx="951120" cy="1081080"/>
          </a:xfrm>
          <a:prstGeom prst="rect">
            <a:avLst/>
          </a:prstGeom>
          <a:ln w="9360">
            <a:solidFill>
              <a:srgbClr val="000000"/>
            </a:solidFill>
            <a:miter/>
          </a:ln>
        </p:spPr>
      </p:pic>
      <p:pic>
        <p:nvPicPr>
          <p:cNvPr id="323" name="Kodak" descr=""/>
          <p:cNvPicPr/>
          <p:nvPr/>
        </p:nvPicPr>
        <p:blipFill>
          <a:blip r:embed="rId4"/>
          <a:stretch/>
        </p:blipFill>
        <p:spPr>
          <a:xfrm>
            <a:off x="304920" y="1968480"/>
            <a:ext cx="952560" cy="857160"/>
          </a:xfrm>
          <a:prstGeom prst="rect">
            <a:avLst/>
          </a:prstGeom>
          <a:ln w="0">
            <a:noFill/>
          </a:ln>
        </p:spPr>
      </p:pic>
      <p:pic>
        <p:nvPicPr>
          <p:cNvPr id="324" name="Intermec" descr=""/>
          <p:cNvPicPr/>
          <p:nvPr/>
        </p:nvPicPr>
        <p:blipFill>
          <a:blip r:embed="rId5"/>
          <a:stretch/>
        </p:blipFill>
        <p:spPr>
          <a:xfrm>
            <a:off x="1523880" y="1523880"/>
            <a:ext cx="1724040" cy="685800"/>
          </a:xfrm>
          <a:prstGeom prst="rect">
            <a:avLst/>
          </a:prstGeom>
          <a:ln w="0">
            <a:noFill/>
          </a:ln>
        </p:spPr>
      </p:pic>
      <p:sp>
        <p:nvSpPr>
          <p:cNvPr id="325" name=""/>
          <p:cNvSpPr/>
          <p:nvPr/>
        </p:nvSpPr>
        <p:spPr>
          <a:xfrm>
            <a:off x="2061000" y="220968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26" name=""/>
          <p:cNvSpPr/>
          <p:nvPr/>
        </p:nvSpPr>
        <p:spPr>
          <a:xfrm>
            <a:off x="486000" y="281952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DB487BD-5E1A-4206-949F-B7E97E7211F7}" type="slidenum">
              <a:t>2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87C2C52-8726-4427-A951-CCD9196F3B8E}"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46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191120" y="3962520"/>
            <a:ext cx="685800" cy="2219400"/>
            <a:chOff x="4191120" y="3962520"/>
            <a:chExt cx="685800" cy="22194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9112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74" name=""/>
            <p:cNvSpPr/>
            <p:nvPr/>
          </p:nvSpPr>
          <p:spPr>
            <a:xfrm>
              <a:off x="434520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4952880" y="3962520"/>
            <a:ext cx="685800" cy="2219400"/>
            <a:chOff x="4952880" y="3962520"/>
            <a:chExt cx="685800" cy="2219400"/>
          </a:xfrm>
        </p:grpSpPr>
        <p:sp>
          <p:nvSpPr>
            <p:cNvPr id="76" name=""/>
            <p:cNvSpPr/>
            <p:nvPr/>
          </p:nvSpPr>
          <p:spPr>
            <a:xfrm>
              <a:off x="52974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8760" y="5905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8</a:t>
              </a:r>
              <a:endParaRPr b="0" lang="en-US" sz="1200" spc="-1" strike="noStrike">
                <a:solidFill>
                  <a:srgbClr val="000000"/>
                </a:solidFill>
                <a:latin typeface="Times New Roman"/>
              </a:endParaRPr>
            </a:p>
          </p:txBody>
        </p:sp>
        <p:sp>
          <p:nvSpPr>
            <p:cNvPr id="78" name=""/>
            <p:cNvSpPr/>
            <p:nvPr/>
          </p:nvSpPr>
          <p:spPr>
            <a:xfrm>
              <a:off x="49528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grpSp>
      <p:grpSp>
        <p:nvGrpSpPr>
          <p:cNvPr id="79" name=""/>
          <p:cNvGrpSpPr/>
          <p:nvPr/>
        </p:nvGrpSpPr>
        <p:grpSpPr>
          <a:xfrm>
            <a:off x="6553080" y="3962520"/>
            <a:ext cx="685800" cy="2219400"/>
            <a:chOff x="6553080" y="3962520"/>
            <a:chExt cx="685800" cy="2219400"/>
          </a:xfrm>
        </p:grpSpPr>
        <p:sp>
          <p:nvSpPr>
            <p:cNvPr id="80" name=""/>
            <p:cNvSpPr/>
            <p:nvPr/>
          </p:nvSpPr>
          <p:spPr>
            <a:xfrm>
              <a:off x="68976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82" name=""/>
            <p:cNvSpPr/>
            <p:nvPr/>
          </p:nvSpPr>
          <p:spPr>
            <a:xfrm>
              <a:off x="65530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4B82BED-3B5B-45BA-B648-4B665E57706A}"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84" name=""/>
          <p:cNvSpPr/>
          <p:nvPr/>
        </p:nvSpPr>
        <p:spPr>
          <a:xfrm>
            <a:off x="380880" y="4572000"/>
            <a:ext cx="8382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86"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87"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7"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8"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0"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1"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2"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13"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5"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6"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7"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8"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0"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1"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22"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23"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4"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6"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6404040" y="2090880"/>
            <a:ext cx="1444680" cy="1170000"/>
          </a:xfrm>
          <a:prstGeom prst="rect">
            <a:avLst/>
          </a:prstGeom>
          <a:ln w="0">
            <a:noFill/>
          </a:ln>
        </p:spPr>
      </p:pic>
      <p:sp>
        <p:nvSpPr>
          <p:cNvPr id="128" name=""/>
          <p:cNvSpPr/>
          <p:nvPr/>
        </p:nvSpPr>
        <p:spPr>
          <a:xfrm>
            <a:off x="7696080" y="313200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2720" y="32083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31"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2" name=""/>
          <p:cNvSpPr/>
          <p:nvPr/>
        </p:nvSpPr>
        <p:spPr>
          <a:xfrm>
            <a:off x="5486400" y="3201840"/>
            <a:ext cx="0" cy="912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4875120" y="1905120"/>
            <a:ext cx="1320840" cy="1417680"/>
          </a:xfrm>
          <a:prstGeom prst="rect">
            <a:avLst/>
          </a:prstGeom>
          <a:ln w="0">
            <a:noFill/>
          </a:ln>
        </p:spPr>
      </p:pic>
      <p:sp>
        <p:nvSpPr>
          <p:cNvPr id="134"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5"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136"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40"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141"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142" name=""/>
          <p:cNvSpPr/>
          <p:nvPr/>
        </p:nvSpPr>
        <p:spPr>
          <a:xfrm>
            <a:off x="3429000" y="31669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145"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147"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50"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4"/>
          <a:stretch/>
        </p:blipFill>
        <p:spPr>
          <a:xfrm>
            <a:off x="2136600" y="2133720"/>
            <a:ext cx="1444680" cy="1170000"/>
          </a:xfrm>
          <a:prstGeom prst="rect">
            <a:avLst/>
          </a:prstGeom>
          <a:ln w="0">
            <a:noFill/>
          </a:ln>
        </p:spPr>
      </p:pic>
      <p:sp>
        <p:nvSpPr>
          <p:cNvPr id="152"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153"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AE85271-BB82-4AC4-B328-2158EF6913EE}"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Detail</a:t>
            </a:r>
            <a:endParaRPr b="0" lang="en-US" sz="4400" spc="-1" strike="noStrike">
              <a:solidFill>
                <a:srgbClr val="000000"/>
              </a:solidFill>
              <a:latin typeface="Times New Roman"/>
            </a:endParaRPr>
          </a:p>
        </p:txBody>
      </p:sp>
      <p:graphicFrame>
        <p:nvGraphicFramePr>
          <p:cNvPr id="157" name=""/>
          <p:cNvGraphicFramePr/>
          <p:nvPr/>
        </p:nvGraphicFramePr>
        <p:xfrm>
          <a:off x="127080" y="2036880"/>
          <a:ext cx="8940600" cy="4081320"/>
        </p:xfrm>
        <a:graphic>
          <a:graphicData uri="http://schemas.openxmlformats.org/presentationml/2006/ole">
            <p:oleObj r:id="rId1" spid="">
              <p:embed/>
              <p:pic>
                <p:nvPicPr>
                  <p:cNvPr id="158" name="" descr=""/>
                  <p:cNvPicPr/>
                  <p:nvPr/>
                </p:nvPicPr>
                <p:blipFill>
                  <a:blip r:embed="rId2"/>
                  <a:stretch/>
                </p:blipFill>
                <p:spPr>
                  <a:xfrm>
                    <a:off x="127080" y="2036880"/>
                    <a:ext cx="8940600" cy="4081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70C827F-3631-41B7-A1AD-0F6D87EA9A59}"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160" name=""/>
          <p:cNvGrpSpPr/>
          <p:nvPr/>
        </p:nvGrpSpPr>
        <p:grpSpPr>
          <a:xfrm>
            <a:off x="339840" y="4075200"/>
            <a:ext cx="8559000" cy="801720"/>
            <a:chOff x="339840" y="4075200"/>
            <a:chExt cx="8559000" cy="801720"/>
          </a:xfrm>
        </p:grpSpPr>
        <p:sp>
          <p:nvSpPr>
            <p:cNvPr id="161"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2"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3"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64"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65"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67"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339840" y="5651640"/>
            <a:ext cx="8229600" cy="801720"/>
            <a:chOff x="339840" y="5651640"/>
            <a:chExt cx="8229600" cy="801720"/>
          </a:xfrm>
        </p:grpSpPr>
        <p:sp>
          <p:nvSpPr>
            <p:cNvPr id="169"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0"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1"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2"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3"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4"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76"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77" name=""/>
          <p:cNvGrpSpPr/>
          <p:nvPr/>
        </p:nvGrpSpPr>
        <p:grpSpPr>
          <a:xfrm>
            <a:off x="339840" y="3262320"/>
            <a:ext cx="8424360" cy="801720"/>
            <a:chOff x="339840" y="3262320"/>
            <a:chExt cx="8424360" cy="801720"/>
          </a:xfrm>
        </p:grpSpPr>
        <p:sp>
          <p:nvSpPr>
            <p:cNvPr id="178"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79"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0"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1"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2"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84"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85" name=""/>
          <p:cNvGrpSpPr/>
          <p:nvPr/>
        </p:nvGrpSpPr>
        <p:grpSpPr>
          <a:xfrm>
            <a:off x="339840" y="4813200"/>
            <a:ext cx="8229600" cy="801720"/>
            <a:chOff x="339840" y="4813200"/>
            <a:chExt cx="8229600" cy="801720"/>
          </a:xfrm>
        </p:grpSpPr>
        <p:sp>
          <p:nvSpPr>
            <p:cNvPr id="186"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7"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8"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9"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0"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1"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2"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94"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95"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39840" y="2463840"/>
            <a:ext cx="8246160" cy="801720"/>
            <a:chOff x="339840" y="2463840"/>
            <a:chExt cx="8246160" cy="801720"/>
          </a:xfrm>
        </p:grpSpPr>
        <p:sp>
          <p:nvSpPr>
            <p:cNvPr id="199"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0"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1"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2"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3"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05"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06"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07"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08"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09"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1"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2"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14"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43080" y="1662120"/>
            <a:ext cx="8229600" cy="801720"/>
            <a:chOff x="343080" y="1662120"/>
            <a:chExt cx="8229600" cy="801720"/>
          </a:xfrm>
        </p:grpSpPr>
        <p:sp>
          <p:nvSpPr>
            <p:cNvPr id="216"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7"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3600148-D37D-46EF-8795-FE263A638477}"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D8AC3E-7A38-43FE-B411-BC792C801339}"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DC311CA-4F20-4276-958D-D4A2CD944BAE}"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July 1999</cp:keywords>
  <dc:language>en-US</dc:language>
  <cp:lastModifiedBy>Ian C. Gifford</cp:lastModifiedBy>
  <cp:lastPrinted>1998-02-10T13:28:06Z</cp:lastPrinted>
  <dcterms:modified xsi:type="dcterms:W3CDTF">1999-07-06T13:54:51Z</dcterms:modified>
  <cp:revision>101</cp:revision>
  <dc:subject/>
  <dc:title>Liaison Report</dc:title>
</cp:coreProperties>
</file>