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265-5B4F-456B-B10E-F83AE468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4ED-425B-419E-9347-92C43FCB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2DF-0B5A-4436-B3E7-D95F195C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A6F-4317-4DAD-A489-71C15E9D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463-9367-476A-9F6D-E19CDDB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13B-9A2E-4E56-A9E6-E4D571A3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D82-0643-45CB-B9ED-600B6BF2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547-1A24-4485-9077-1ABF5ADB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C73-B3AE-4683-AB14-9AF8772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0A7-0966-4141-945D-202FB384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955-E3A9-468E-B18E-D00A8DE2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8BA-2798-4DBF-8613-0482544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5405CEE4-D68A-4FC0-BF35-93FA9BD54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0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9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1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A3B-8F78-41C1-9EB5-AF5E064690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1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3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6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0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91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2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ABC-5413-4311-9EE2-B6D38E06D2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7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1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6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1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2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3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6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18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4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1CF-BF65-41ED-B540-AC511D64F7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373392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42973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69A-9280-4AC5-B5D2-634F4D4A7B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D1E-3C97-4C6E-B1EB-84EFA42917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0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9E1-660D-4FE4-8852-FD1C25B072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89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1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3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4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devices in a piconet hop toget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form a piconet: master gives slaves it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48-bit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in 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-piconet devices are in 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onet Address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 Member Address (AMA, 3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ked Member Address (PMA, 8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396-FEAD-4CF4-904A-2ED461B3FE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36D-88F6-4DD0-890B-5EBAFDEB19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wer consciousnes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 current &lt; 0.3 m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months(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ce mode 8-30 m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5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mode average 5 mA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3-30mA, 20 kbps, 25%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0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-power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mable data length (else radio slee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and Park modes: 60 µ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s connected but not participa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retains AMA address, Park releases AMA, gets PMA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 can participate within 2 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timates calculated with 600 mAh battery and internal amplifier, power will vary with implement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C52-FBBE-4A5C-B913-880C26BC5A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1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3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7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1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5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79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EC4-432F-4F37-8549-BD06CF45F4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Acknowledgement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71A-1EBB-4201-9EE5-8126726DBB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rror handl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ward-error correction (FEC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ers are protected with 1/3 rate FEC and HE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yloads may be FEC protecte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/3 rate: simple bit repetition (SCO packets onl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/3 rate: (10,15) shortened Hamming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/3 rate: no FE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Q (ACL packets 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-bit CRC (CRC-CCITT) &amp; 1-bit ACK/N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-bit sequence numb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108576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00040" y="108576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97200" y="108576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3000" y="172260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920" y="1722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10960" y="172080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12800" y="78588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882880" y="78588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853960" y="76212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CD0-DA00-4B2C-902C-F7E39D637A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96A-D4BE-4026-8875-0662A4D271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6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3" name=""/>
            <p:cNvCxnSpPr>
              <a:stCxn id="800" idx="5"/>
              <a:endCxn id="798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4" name=""/>
            <p:cNvCxnSpPr>
              <a:stCxn id="801" idx="3"/>
              <a:endCxn id="798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5" name=""/>
            <p:cNvCxnSpPr>
              <a:stCxn id="800" idx="6"/>
              <a:endCxn id="801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798" idx="5"/>
              <a:endCxn id="799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7"/>
              <a:endCxn id="798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08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ink keys in a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keys are generated via a PIN entr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fferent link key for each pair of devices is allow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manent storage of link key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4D0-EBDE-4583-A13E-A4F2315330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8C3-FB03-47BC-AA0C-EE0D906A7A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pplication level securit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ilds on-top of link-level secur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s trusted device group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urity levels for ser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oriz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entic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cryp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erent or higher security requirements could be added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sonal authent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gher security leve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ke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636-486A-4573-9C75-B03F97D4CA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85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0B1-9056-48A3-9CB8-0AC5D575DC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3FB-9C54-495F-A134-E441D8E354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380880" y="1295280"/>
            <a:ext cx="8404200" cy="4495680"/>
            <a:chOff x="380880" y="1295280"/>
            <a:chExt cx="8404200" cy="4495680"/>
          </a:xfrm>
        </p:grpSpPr>
        <p:sp>
          <p:nvSpPr>
            <p:cNvPr id="871" name=""/>
            <p:cNvSpPr/>
            <p:nvPr/>
          </p:nvSpPr>
          <p:spPr>
            <a:xfrm>
              <a:off x="2614680" y="44704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04960" y="445932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765520" y="335268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765520" y="403776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70280" y="494352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512676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94320" y="24382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000" y="266688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6572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99080" y="508608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7048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05560" y="509256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8098560" y="175176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7500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7500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60800" y="396216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13280" y="334008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7028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1780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65560" y="290196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55840" y="289548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76720" y="287316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78520" y="285732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64120" y="357480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54760" y="355752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27480" y="266688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6100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65320" y="419076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94120" y="419076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038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880" y="355752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BC4-3CB6-439D-B491-5BDA1573C1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A28-53FA-44F9-8489-25B0FC7651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4C4-6C75-4792-9D70-6A4A29834F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A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B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EEE802.15 and Bluetooth spec mapp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954-B968-41A8-9C08-D79E90B3BB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B76-2B21-494E-984B-C27BD70A75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932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94C-6765-4518-9A3E-DADC7117CB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3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6D0-CA87-419D-AC43-AB5185DFBD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97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2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4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7B4-6F28-465E-ACE6-4271F3B7491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101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4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6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8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4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6A7-D3A8-4A9A-8231-5A0989C7A65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104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9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1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BBF-9576-4464-9325-B8AB8D4EB58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1085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1088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1091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1094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1097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931-D774-47AA-A3D5-96CF539B4DA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6BF-B8EB-435B-84FD-77A59D171D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is not only a link (connectivity) solution but an end-to-end (e2e)solu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e2e solution is built on-top of a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f low leve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rans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“brand-name” is highly dependent on the presence of the core protocols in all devices claiming to be Bluetooth devic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Courier New"/>
              </a:rPr>
              <a:t>The draft standard must contain: RF, BB, LM, &amp; L2CAP Bluetooth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er level services (including LLC) can/shall be built on top of L2CA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AP (Generic Access Profile) can serve as a guideline for establishing Bluetooth links between host devi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091-B014-4BA4-8F95-E872FE7C51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5563440" y="367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0800000">
            <a:off x="5257440" y="38858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40240" y="18921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7809800">
            <a:off x="4582440" y="2824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24145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2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3318840" y="2805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905120" y="3276720"/>
            <a:ext cx="6324480" cy="2590560"/>
            <a:chOff x="1905120" y="3276720"/>
            <a:chExt cx="6324480" cy="2590560"/>
          </a:xfrm>
        </p:grpSpPr>
        <p:sp>
          <p:nvSpPr>
            <p:cNvPr id="1111" name=""/>
            <p:cNvSpPr/>
            <p:nvPr/>
          </p:nvSpPr>
          <p:spPr>
            <a:xfrm>
              <a:off x="1905120" y="32767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62720" y="36576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95880" y="43736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33720" y="37162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33720" y="18921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06720" y="18921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13320" y="18921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3716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33720" y="52149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46944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901960" y="42051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01960" y="37162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0C0-F5D2-4F69-B817-AEDFF93502E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283-E4E8-44EA-94D6-591FE4FD07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2898720" y="13953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98720" y="21286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71920" y="21286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71920" y="28623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78400" y="28623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75160" y="28623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0320" y="28623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64000" y="24620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664000" y="25369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26114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26859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27622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28368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57480" y="2403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57480" y="24796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25560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2630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27068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27813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62160" y="24606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37040" y="25192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13000" y="25765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286080" y="263520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362400" y="26938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436920" y="27525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13240" y="28116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57440" y="24606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30520" y="2511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06840" y="2565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681360" y="2617920"/>
            <a:ext cx="42840" cy="3492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57680" y="26701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832200" y="27226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08520" y="2776680"/>
            <a:ext cx="410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83040" y="28288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57440" y="24606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53232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08280" y="2519280"/>
            <a:ext cx="3996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83160" y="25462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591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33640" y="2604960"/>
            <a:ext cx="3996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08520" y="26337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983040" y="26654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05936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35320" y="27226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10200" y="2752560"/>
            <a:ext cx="396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86160" y="27813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61040" y="28098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370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388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264280" y="28098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87960" y="27813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111640" y="2752560"/>
            <a:ext cx="414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38560" y="27226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6260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888080" y="26654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11760" y="26337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37240" y="2604960"/>
            <a:ext cx="3960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609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86400" y="25462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510080" y="2519280"/>
            <a:ext cx="4140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700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61040" y="24606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498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2261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300640" y="2498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769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451480" y="2540160"/>
            <a:ext cx="3960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278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603760" y="25797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768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53160" y="26208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276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9040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9785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548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29360" y="2722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056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78400" y="27637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547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29240" y="28051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5055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580080" y="28447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299280" y="28447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2229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48440" y="28051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721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996160" y="27637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9230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848200" y="2722680"/>
            <a:ext cx="3816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7722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6959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214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5450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70560" y="2620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3942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21160" y="25797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2452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70320" y="2540160"/>
            <a:ext cx="3996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943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019840" y="24987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435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672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89360" y="2089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360" y="2014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19382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1863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17892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1728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46560" y="1728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46560" y="18018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1878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1952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028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1049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71920" y="35956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5748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5748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6400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02000" y="35956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575160" y="35956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275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940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940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574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574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335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78400" y="35956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340320" y="35956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6724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6724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1796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01796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3324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3324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6150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150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39732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9732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06680" y="43275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06680" y="35956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30848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076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353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01796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01796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6428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16428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15000" y="42879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15000" y="4213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41371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40640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39877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39276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308480" y="43275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4036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0228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370160" y="26892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370160" y="40989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990720" y="48769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484280" y="20602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438200" y="25462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38200" y="19558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1484280" y="27936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3954600"/>
            <a:ext cx="90720" cy="14436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438200" y="26892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484280" y="42033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47451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40989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484280" y="12729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11667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4887720"/>
            <a:ext cx="1800" cy="40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52513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1720" y="10825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41960" y="24382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55560" y="32004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16400" y="46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98040" y="50338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283720" y="14796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46640" y="22114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39200" y="2944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39200" y="3678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1240" y="19731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361040" y="20336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8176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946240" y="20336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9404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39200" y="4410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5748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5748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57800" y="2455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57800" y="24192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050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2669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22305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21938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2155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639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8639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488200" y="29653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221160" y="4172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5998680" y="42321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97680" y="420228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6671880" y="42321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618240" y="420228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160720" y="17859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595600" y="21686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17859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65360" y="35146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17859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03360" y="42512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5120" y="15955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441800" y="1706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69680" y="52135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597640" y="521352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56720" y="53928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3560" y="53942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0760" y="43275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30960" y="3697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472720" y="44308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12193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990720" y="19810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503280" y="32443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CB1-7210-4D85-A836-49B12CE40D7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838080" y="214164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2CAP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832920" y="13399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1371600" y="229392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9392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753120" y="367200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52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C41-5B32-45F9-AC07-89C9AD6CB9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838080" y="207180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L PDU (ACLP)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L_CH=‘b11’ the ACLP payload is generated and interpreted by the ACL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k Manager (LM) PDU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 (L2CA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295280" y="214776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776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4" name=""/>
          <p:cNvSpPr/>
          <p:nvPr/>
        </p:nvSpPr>
        <p:spPr>
          <a:xfrm>
            <a:off x="757080" y="374796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66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100-0110-4998-AC01-724504DF2C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838080" y="2133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131560" y="13399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header (encoded with 1/3-rate FEC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paylo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+CRC encoded with {1,2,3}/3-rate FE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DU_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Dxy, HVx, DV, AUX1 the BB payload is passed to the appropriate higher layer (LM for ACL packets, an application for SCO packets, AUX1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header information or in the FHS payload is used to facilitate &amp; manage baseband 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C: present only in non-AUX, ACL 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1295280" y="220968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8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79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7324560" y="990720"/>
            <a:ext cx="99072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241760" y="13399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697-A039-4C96-8C7A-16A438C794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type alternativ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1724040" y="3733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994120" y="3733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390920" y="37339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083320" y="4083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942280" y="4083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009400" y="408312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38440" y="28638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390920" y="286380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08332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85440" y="3200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1584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7524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38440" y="2057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63960" y="20574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97360" y="2374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51560" y="24066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249920" y="1263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5280" y="2101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9736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27520" y="289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56640" y="377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75248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024360" y="4648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419720" y="46483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11176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972520" y="4997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62120" y="5257800"/>
            <a:ext cx="761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202440" y="4648320"/>
            <a:ext cx="19047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04540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57440" y="49975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249920" y="469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517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3024360" y="28638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972520" y="3200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B9C-4C5F-4D67-B4F6-24A2D9072E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1066680" y="1219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42596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91120" y="1219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019920" y="12193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286000" y="1409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46896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63960" y="156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6300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96920" y="1981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991440" y="2330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191120" y="19810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25780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3244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4689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3420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60268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675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438280" y="2171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0922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496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743200" y="306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043080" y="32004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092240" y="39625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124080" y="39625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91120" y="39625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019920" y="39625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043800" y="43434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743200" y="4152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598-9BD4-4326-9DE4-6661E30D6D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process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1" name=""/>
          <p:cNvCxnSpPr>
            <a:stCxn id="1554" idx="3"/>
            <a:endCxn id="1555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2" name=""/>
          <p:cNvCxnSpPr>
            <a:stCxn id="1555" idx="3"/>
            <a:endCxn id="1556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3" name=""/>
          <p:cNvCxnSpPr>
            <a:stCxn id="1559" idx="3"/>
            <a:endCxn id="1558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8" idx="3"/>
            <a:endCxn id="1557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5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0" name=""/>
          <p:cNvCxnSpPr>
            <a:stCxn id="1567" idx="3"/>
            <a:endCxn id="1568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568" idx="0"/>
            <a:endCxn id="1569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6" name=""/>
          <p:cNvCxnSpPr>
            <a:stCxn id="1574" idx="3"/>
            <a:endCxn id="1573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7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9" name=""/>
          <p:cNvCxnSpPr>
            <a:stCxn id="1577" idx="3"/>
            <a:endCxn id="1578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0" name=""/>
          <p:cNvCxnSpPr>
            <a:stCxn id="1573" idx="2"/>
            <a:endCxn id="1577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1" name=""/>
          <p:cNvCxnSpPr>
            <a:stCxn id="1569" idx="3"/>
            <a:endCxn id="1572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7" name=""/>
          <p:cNvCxnSpPr>
            <a:stCxn id="1586" idx="0"/>
            <a:endCxn id="1584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8" name=""/>
          <p:cNvCxnSpPr>
            <a:stCxn id="1586" idx="0"/>
            <a:endCxn id="1585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9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866-0F3B-4B16-84C2-AAD05CB0598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4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9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1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0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2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4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7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3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4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1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D74-19AB-48C1-B750-F19D4296B6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over 1036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1D7-C9A8-43CC-A28D-D3D95AA142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9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2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5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8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1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CF0-03AD-4267-91A0-5CC20F4C0E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4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B96-DAAD-4FDB-BE74-D0281F1A8F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 examp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Trans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Access Poin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nchron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ads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dden Comput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ference Tab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rdless Comput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siness Card Exchang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ant Postcar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e-in-one 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r Speaker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549-251F-4E8C-B01C-467EC3F18E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Ian C. Gifford</cp:lastModifiedBy>
  <cp:lastPrinted>1999-07-23T14:05:54Z</cp:lastPrinted>
  <dcterms:modified xsi:type="dcterms:W3CDTF">1999-09-09T17:57:01Z</dcterms:modified>
  <cp:revision>185</cp:revision>
  <dc:subject/>
  <dc:title>No Slide Title</dc:title>
</cp:coreProperties>
</file>