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986-6803-4F85-AE7C-9913190A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892-17B4-433B-9B05-24A67DAA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067-9BC4-4E16-B580-4037FA67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A0F-518A-4AD7-84AC-286EFDF6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1BD-D45F-42D4-9251-7FEF6AB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86F-A94F-4284-9F35-F29459C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F49-2EF4-4055-8C1D-7C80C0B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F72-CF02-4BAE-84F0-D294611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316-5921-4DA0-8D88-2DF3108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681-0B75-4F37-BCB0-CCC6994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1B7-CCF1-4237-A56B-828D552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D12-2C75-4D17-890E-873A294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1236D9-285E-48F9-982F-967DD18AF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5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 Plenar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9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6E6-C177-4692-8585-548D5F126F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3643200"/>
            <a:ext cx="207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C0E-B9BB-4069-BBC6-81DF9CFB9E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81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120" y="3643200"/>
            <a:ext cx="212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7520" y="28195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889-23A2-4711-ABFA-BD85596709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B26-59A7-4029-8B0A-1838B6FE2BF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768-A797-41FF-876D-BACFB297A9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59A-6F40-4675-9FA0-DABE579F39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44C-E22D-44C7-BD6E-05A7D96518F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5B8-FA05-40F9-9A57-3498E588C7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E20-AFD5-4488-9088-F5F00CF6D31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, rules, etc.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E75-8E05-4BED-A470-969D584310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Voter Coun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B58-8DB9-4A77-BAF6-E5A9B0EFE3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We Vot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Slate of Officers-Term is through 802 Plenary Meeting, March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1 Inter-meeting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e a position relative to NPRM on WBFH and RF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C33-25E1-48FC-8D1A-65ECFDB315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E1D-0C04-41CF-9191-17B345096B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3FF-120E-4186-B0E4-A846553F439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4E6-E719-47CC-A6BA-A9D0D39A6E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962520"/>
            <a:ext cx="185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17E-5D27-457A-8A28-E53DC18828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Intermeeting Regulatory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8760" y="3962520"/>
            <a:ext cx="205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EE1-9ED9-4EE9-AAE6-88D617A2DE6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/>
  <dc:language>en-US</dc:language>
  <cp:lastModifiedBy>Bridget Labrode</cp:lastModifiedBy>
  <cp:lastPrinted>1998-02-10T13:28:06Z</cp:lastPrinted>
  <dcterms:modified xsi:type="dcterms:W3CDTF">1999-07-13T12:35:29Z</dcterms:modified>
  <cp:revision>24</cp:revision>
  <dc:subject/>
  <dc:title>No Slide Title</dc:title>
</cp:coreProperties>
</file>