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2360-A735-415D-95E7-4B82B5FC9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A2E1-0AEA-407E-8FC9-3633AED06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0BE6-9928-479F-BB73-D697D2CFC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01E5-236E-4760-B951-67A29DA6E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9C61-650F-4BBE-99B7-C5468E6B1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A0BC-3DEA-477E-B1A3-5249F37D8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5371-88A7-4F57-AB2F-1BB647297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6CCE-BDD9-440F-BEA4-0198D4CE9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F2B2-09BA-495F-B623-5E2FC80C4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DA7B-A0C8-467C-883A-D18B95266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DBC3-8CC2-40A1-970E-C1E028B23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9219-E53F-466B-ADF9-EB4FF7086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6D25C105-8F19-4578-BB1F-71A6C20C24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09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2000 Seattle Hotel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Joint 802.11 and 802.15 Interim Meeting</a:t>
            </a:r>
            <a:br>
              <a:rPr sz="24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May 8-12, 2000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58080" y="2362320"/>
            <a:ext cx="786168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                     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--------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Madison Renaissance Hotel - Seatt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room rate quote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$148.00 per nigh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meeting space required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$500.00 per d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(the room rate is firm and they will work w/me on cost reduction of the meeting spac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--------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avanaughs - Seatt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room rate quote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$129.00 per night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meeting space required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                 $3000.00 per da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(the room rate is firm and they will work w/me on cost reduction of the meeting spac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--------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W Seattle Hotel - Seatt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room rate quote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$185.00 per nigh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meeting space required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                 $1175.00 per d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--------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ke McInnis, The Boeing Compan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28CB-8E8C-4660-9A76-49283366D502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Madison Renaissance Hotel - Seatt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240" y="2590920"/>
            <a:ext cx="9138960" cy="29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dison Renaissance Hot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15 Madison Stre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attle, WA 98104, U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renaissancehotels.com/seasm/fastfact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 the heart of downtown, The Madison Hotel is ideally located minutes from Seattle's major financial, medical, retail an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business districts, just three blocks from the Washington State Convention and Trade Center and 20 minutes from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Sea - Tac International Airport. A recipient of the AAA 4 Diamond award, The Madison treats guests to delux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accommodations and exquisite personal servic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Sea-Tac International Airport -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17 miles/25 minutes South Taxi @ $3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Airport Express: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Airport Shuttle Service $7.50 one way of $13 roundtrip runs every 20 minutes 5am - 11:30 p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257800" y="1676520"/>
            <a:ext cx="3705120" cy="20001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429000" y="1676520"/>
            <a:ext cx="1609560" cy="1190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ke McInnis, The Boeing Compan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EAD9-DB9F-4222-A012-746BC069ED9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avanaughs - Seattle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09880"/>
            <a:ext cx="9144000" cy="22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vanaughs on Fifth Aven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15 Fifth Av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ttle, WA 98101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cavanaughs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vanaughs on the corner of Fifth and Pike Avenues is located in the heart of downtown Seattle and offers 297 delux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uest accommodations with spectacular views of Puget Sound  and convention facilities in the city's most vibr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owntown neighborhood. Cavanaughs 12,000 square feet of meeting space has state-of-the-art presentation systems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pansive views  that complement rich decor. Our professional catering staff ensures a rewarding experience for meet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d special events from 10 person board meetings to banquets for 600 in our Emerald Ballro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943600" y="1828800"/>
            <a:ext cx="2400480" cy="29336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981080" y="1828800"/>
            <a:ext cx="3772080" cy="2095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ke McInnis, The Boeing Compan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6774-7374-4330-BF0C-405866E0F53E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W Seattle Hotel - Seattle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3520" y="2438280"/>
            <a:ext cx="7980120" cy="42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 Seattle Hot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12 Fourth Av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ttle, WA 981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whotels.com/cities/seattl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whotels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nding as a beacon in the thriving heart of Seattle, W SEATTLE will rise as a premier destination for the savvy traveler. Reminiscent of some of Seattle's classic towers, W SEATTLE combines elements of the city's architectural history in a modern interpretation of the Northwestern Regional Style. Crowned with a steel and mesh pyramid, its magical glow 26 stories above the street will make you feel the energy of this city on the cutting ed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 SEATTLE was conceived by Starwood Hotels and Resorts Worldwide with one purpose in mind. To inspire the business traveler and provide solace and refuge in a hectic world. Throughout our 419 large, modern rooms and 16 suites, pillow top beds and luxurious linens, down-cushioned banquettes, a great desk, and custom furnishings await you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 SEATTLE is all about service and amenities. Whatever you want, whenever you want i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otel is located in the center of Seattle's burgeoning downtown, close to all the a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ck out the famous Space Needle. Savor a cup of coffee or catch a fresh fish at the 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ce Market. Lose yourself in a sublime performance at the new Benaroya Symphony H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867280" y="1371600"/>
            <a:ext cx="1428840" cy="188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ke McInnis, The Boeing Compan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540B-EB13-48F5-AA0E-21C2AE003B7A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4T15:32:38Z</dcterms:created>
  <dc:creator>Mike McInnis</dc:creator>
  <dc:description/>
  <dc:language>en-US</dc:language>
  <cp:lastModifiedBy>Standard Software Service</cp:lastModifiedBy>
  <dcterms:modified xsi:type="dcterms:W3CDTF">1999-09-15T15:22:11Z</dcterms:modified>
  <cp:revision>10</cp:revision>
  <dc:subject/>
  <dc:title>May 2000  Seattle Hotels</dc:title>
</cp:coreProperties>
</file>