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8AE6F-A9DA-492A-8888-9138459D6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E7AFF-9C11-4B10-8508-FAD4BEE68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18814-18B4-4C43-892D-DFA8A5735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8B100-3BDF-4F74-90D5-DC01F51FC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49B71-7249-4395-8D99-7B933E0E3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67990-5B7E-46BF-BB7E-C33E86ED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0DBA1-40C5-43E4-84CF-3F4ED3795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926EC-D225-4DA3-97F2-5A50A9A0D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35395-AD36-4349-880C-D6DFFF4F5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0FDC-91E5-493A-89DB-9F530475D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AD301-3AE1-4537-BD1D-3872CFC6F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3B78-CABD-411F-A4AC-834743EE4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9B0F6D-399B-4400-95BC-DEC3F7A3D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Report to the Excom on Coexistence S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F. Heile] Company [GTE Technology Organiz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Sylvan Road, Waltham, MA  024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81-466-2057], FAX: [781-466-2575], E-Mail:[bheile@bb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SG on Coexistenc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G Status and Proposal for Operat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solicit  Excom approval on the formation of a Task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2077D95B-04D5-4332-B8AD-5EAF74B6F3D5}"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existence Study Group would become a Task Group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aisons from 802.11 would be able to vote in the Task Group since they have voting rights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the group would be reported at the regularly scheduled 802.11/802.15 joint session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6E72005D-1C22-473B-AB68-55869CADAFC3}"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 draft Recommended Practice was ready for letter ballot it would be submitted to both the 802.15 and the 802.11 Working Groups for separate letter ballo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for the Recommended Practice to be forwarded to the Executive Committee for Sponsor ballot, the letter ballot must pass in both Working Group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FC8A7C24-2DEE-4BAB-AFAC-8D5A3BC298D3}"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52E7C37A-CAE3-4657-9E16-C2C75C8D2FAB}"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85FEE521-9874-4CEC-B98A-A5B846DE3B35}"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 of Coexistence</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wireless devices are said to “coexist” if they can be collocated without significantly impacting the performance of any of these de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FF32A321-D594-4D82-A8C8-78B6EA841B55}"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currently defines three levels of interoperabilit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ly exchanging two interoperable devices causes no damage to the devic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our definition of coexistenc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devices can exchange data</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allow but not require interoperability as a coexistence mechanism.</a:t>
            </a:r>
            <a:endParaRPr b="0" lang="en-US" sz="32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CC2EBC32-5B48-4D42-BBB8-946D53681AF0}"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7C9E3152-875B-4B16-B519-238C2CFC2E8C}"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ffic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data traffic flow based upon different application scenarios for both the WLAN and WPAN network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traffic</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transfe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ata collectio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mp; Others</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616A5909-F8D8-4CB8-BD5D-3AC77AD3F0CE}" type="slidenum">
              <a:t>1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Layer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WLAN and WPAN MAC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that with the Data Traffic models to determine when each of the networks are transmitting da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FB69936-3A4F-4A3F-AA5E-3087659F1114}"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 Propagation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RF signal power levels at the different WPAN and WLAN nodes based on an RF propagation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ifferent application scenarios and physical distribution of device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755C3653-37D3-49F0-9002-F564561FA413}"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DF04716-1F12-4F59-B357-6F84AC77BD56}"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49"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43A4E191-DEE4-4F56-A181-DF46B9DC1CAE}"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oexistence Model for the 2.4 band, that we can all agree to, which will help us assess the issues of Coexistence in a more quantitative way</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option selections from the existing 2.4 band standards that would further coexistence (much like writing a profile)</a:t>
            </a:r>
            <a:endParaRPr b="0" lang="en-US" sz="28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B7635661-FF34-4FC4-8321-6459BDE2F455}"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guidebook on band etiquette so that as new standards are developed or existing standards are enhanced, there is an organized way to improve the coexistence environmen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 how multi-mode radios in the 2.4 band should go about the task of deciding what mode to be in and how to exchange information and data between environm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B2B1E8B6-452C-42FB-9433-C8055CC3ADDD}"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proposed Task Group would be a set of Recommended Practice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B7729D2E-E85B-461A-9387-CB5F3ADF7FEE}"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77E55804-A55C-4FEC-8DA7-E0C13D9F4B4F}"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9"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1"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2"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3"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4"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2DED2BDF-26F1-4EBC-9AED-5DE62CFB7608}" type="slidenum">
              <a:t>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together the four parts of the model to predict the impact on the WPAN and WLAN networ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rough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lat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BEA473BF-19C3-4AD3-AD4F-073375196635}"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4T13:23:06Z</dcterms:created>
  <dc:creator>Rober F. Heile</dc:creator>
  <dc:description>&lt;doc#&gt;</dc:description>
  <dc:language>en-US</dc:language>
  <cp:lastModifiedBy>Rober F. Heile</cp:lastModifiedBy>
  <cp:lastPrinted>1999-09-14T16:44:21Z</cp:lastPrinted>
  <dcterms:modified xsi:type="dcterms:W3CDTF">1999-11-08T19:13:17Z</dcterms:modified>
  <cp:revision>6</cp:revision>
  <dc:subject>IEEE 802.15 &lt;subject&gt;</dc:subject>
  <dc:title>No Slide Title</dc:title>
</cp:coreProperties>
</file>