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A9E-22EF-425D-98CB-05A84BA8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69D-0FB3-48FE-BD24-DEAB6EE9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491-CDA5-4289-AB88-7B24C316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F38-397D-4AD2-8649-6E782AB4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5F5-1006-47E0-B3C5-BA0A04E7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19E-2AE6-449D-946D-AE3856C0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8CC-5558-4B30-8AA4-6253F67C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554-9FD0-4C58-A225-A6B8AFEF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A79-AD36-43B9-BF0B-520DB774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B2D-65D1-4A03-AFEB-D391046B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A14-C23A-4BB0-B6DB-41131C1C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D9A-F563-46E5-8A99-ABA6EEE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841D6E-D4CA-4C84-8A3B-52EF8A28F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Liaison wi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 and P802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sons for Lia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luetooth (at least) will have LLC and bridging work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who will be able to help with 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where work will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02.15 Task Grou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02.1 and 80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approv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8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riginating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783-5D2A-45F1-BA73-51477B782B6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P802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74B-EE90-4787-AB4F-ADCDCA3B51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P802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738-154F-4179-BF3D-5D8DB0EB40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31:08Z</dcterms:modified>
  <cp:revision>7</cp:revision>
  <dc:subject>IEEE 802.15 &lt;subject&gt;</dc:subject>
  <dc:title>IEEE P802.15 Operating Rules</dc:title>
</cp:coreProperties>
</file>