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D7A-9F4C-4AC3-8B92-B95D8805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287-F4A8-4B8F-9763-61FCAA4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866-108F-43F2-A0E9-3CB20160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74D-8EC4-4DB9-8F68-4DF2ED58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A31-8B9B-4137-B69A-F931589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CD0-4026-45C8-A2C1-3CA910B1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A2C-BD54-4E0D-8454-792C888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1F5-18F7-4E73-A837-65749BA4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B69-82D3-4F82-96C9-4AD65270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B40-B02E-4819-B6C0-222B4CF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E74-CA08-4E51-A2CD-B6087FB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E15-7499-4BE5-AF4A-9D8A41B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3F79C1-418B-46F8-BEFE-A76DEA65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C49-F064-4012-95A2-7C0BF6E297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F81-A2B1-4CB9-BCEF-589372508E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ridget Labrode</dc:creator>
  <dc:description/>
  <dc:language>en-US</dc:language>
  <cp:lastModifiedBy>Bridget Labrode</cp:lastModifiedBy>
  <dcterms:modified xsi:type="dcterms:W3CDTF">1999-09-13T13:38:08Z</dcterms:modified>
  <cp:revision>2</cp:revision>
  <dc:subject/>
  <dc:title>No Slide Title</dc:title>
</cp:coreProperties>
</file>