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0C9A-3AC4-4AE2-A8B2-CA990BEF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19C8-5571-4B5C-B369-94CB8FAA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448-85D3-49B6-8887-328F525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B91-D2BA-45D9-995B-0326ECB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090-B171-491A-AE68-ADEA698B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B02-7904-44E3-A5CC-0A8CAFE5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46E-1160-455C-9F37-F6D1411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C06-40DD-4283-832A-2F523460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9FD-99B9-4B18-8D31-D0E3564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E61-5503-453B-940A-A52BC351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908-0330-4D6B-A5B1-EE696766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A42-6F93-45F2-8787-4258B5C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D80-9030-4D7D-9B66-513CD3D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F63-D0ED-4BFE-9D0B-7C6770F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B51C3F-8EF9-4564-A445-D988B700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53920" y="219240"/>
            <a:ext cx="773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pression for Probability of Error for Binary-FS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D.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, 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214-7137-448C-B7EE-D6F25D9481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1447920"/>
                <a:ext cx="7925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llision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3640" y="357012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3951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29000" y="4381560"/>
                <a:ext cx="21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30400" y="51814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29000" y="5638680"/>
                <a:ext cx="21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2438280"/>
                <a:ext cx="246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82000" y="2465280"/>
            <a:ext cx="4367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ortion of interferring energy in desired signal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600" y="3075120"/>
            <a:ext cx="241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Brick Wall Fil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89D-C6C2-4FC7-8600-A8EEE24380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9320" y="231300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6938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14680" y="3124080"/>
                <a:ext cx="21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6080" y="3924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28800" y="4419720"/>
                <a:ext cx="56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47360" y="1893960"/>
            <a:ext cx="407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3 MHz Wide Impact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148-7B65-454C-A2C3-4C016B6AD2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280" y="155088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193212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236232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82680" y="316224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3160" y="3733920"/>
                <a:ext cx="6602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F15-D2F9-41F6-903B-34EEF0285D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62276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800520" cy="236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726000" cy="229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13716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09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9528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7150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92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600" y="342900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066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8E3-E306-4433-A776-88C64A3D52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5:53:13Z</dcterms:created>
  <dc:creator>Bridget Labrode</dc:creator>
  <dc:description/>
  <dc:language>en-US</dc:language>
  <cp:lastModifiedBy>Bridget Labrode</cp:lastModifiedBy>
  <dcterms:modified xsi:type="dcterms:W3CDTF">1999-07-18T16:12:34Z</dcterms:modified>
  <cp:revision>1</cp:revision>
  <dc:subject/>
  <dc:title>No Slide Title</dc:title>
</cp:coreProperties>
</file>