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9FD-8F6F-4D67-9A5B-D359EBD4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7A1-0E2D-48BB-B0E8-EACE5ADB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CED-64A7-4183-B1B3-9BA7D3CF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E4E-470A-4678-9540-2784A53F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717-751C-4436-BA6D-C1E72C5A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DD6-10A9-4EFB-96F4-C1E894A3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0AA-833B-487E-B582-3E4FAF65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D92-C4F5-48E2-B781-FA6496F0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520-F7B7-4D30-8533-E5D0A2A8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AA2-0224-41B2-BF55-8AA7B840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5DD-3838-4A2D-8C7B-B36240BF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E39-1F85-446B-90D7-F8A0FC1E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1E5221-FC18-4CDB-9486-E099D2A48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Ballo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749-C3F5-495F-BE86-7D3B32AD88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Considers Draft Comments In The Following Mann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fig5" descr=""/>
          <p:cNvPicPr/>
          <p:nvPr/>
        </p:nvPicPr>
        <p:blipFill>
          <a:blip r:embed="rId1"/>
          <a:stretch/>
        </p:blipFill>
        <p:spPr>
          <a:xfrm>
            <a:off x="1220760" y="1936800"/>
            <a:ext cx="6856560" cy="4083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95480" y="5791320"/>
            <a:ext cx="3429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1360" y="6019920"/>
            <a:ext cx="55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IEEE Companion, http://standards.ieee.org/guides/companion/part5.html#bal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854-879E-4608-983F-915C193490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urrent P802.15 Working Group is comprised of 40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A58-D4CB-4011-8E89-0A61D6D533E4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802 Reporting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1895400"/>
            <a:ext cx="503712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3A5-F7C4-4D08-A720-AA15DA77B7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265720" y="1981080"/>
            <a:ext cx="3344760" cy="308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364 Indivi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Corp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Organiz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resen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G and Sponsor Ballot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64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Corp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ty of .1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Organizational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83440" y="3774960"/>
            <a:ext cx="1066680" cy="990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791320"/>
            <a:ext cx="8382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802.15 WG needs to understand How To become an IEEE-SA Member an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P802.15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2EA-3D0A-4D27-A43F-CADA66356B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th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ine/Mile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lectronic Letter Ballot - 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Group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432-9EB3-44A4-AFE0-E23FF79A19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114800"/>
            <a:ext cx="64767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0CB-18EC-402E-84EF-62C76FC453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line/Milest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15Ka" descr=""/>
          <p:cNvPicPr/>
          <p:nvPr/>
        </p:nvPicPr>
        <p:blipFill>
          <a:blip r:embed="rId1"/>
          <a:stretch/>
        </p:blipFill>
        <p:spPr>
          <a:xfrm>
            <a:off x="63360" y="2117880"/>
            <a:ext cx="9004320" cy="28350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990720" y="4191120"/>
            <a:ext cx="7048440" cy="1411200"/>
            <a:chOff x="990720" y="4191120"/>
            <a:chExt cx="7048440" cy="1411200"/>
          </a:xfrm>
        </p:grpSpPr>
        <p:sp>
          <p:nvSpPr>
            <p:cNvPr id="55" name=""/>
            <p:cNvSpPr/>
            <p:nvPr/>
          </p:nvSpPr>
          <p:spPr>
            <a:xfrm>
              <a:off x="990720" y="5257800"/>
              <a:ext cx="76176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12600" y="523404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Ballo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67560" y="4191120"/>
              <a:ext cx="137160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2A7-3E68-405F-89C3-6BE59644727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Electronic Letter Ballot - I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a PDF of the Draft P802.1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Letter Ballot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LB and Comment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Letter Ballot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, Compile, and distribute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07C-2D45-4785-A18B-1E677E0B62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Finish P802.15.1 Draft on or before 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Nov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827-3FE9-4EA9-A076-770A357D7E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or before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8Nov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e LB#1 and release the sam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847-17A2-44E0-A894-4CFDAAEAF6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3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3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sam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077-589C-4344-9D4B-52E0DFDBF14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4: Issue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Recirculation Letter Ballot? If yes, Pre Tel-Aviv or Post Tel-Avi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-Aviv Interim Meeting Quo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Tel-Aviv Interim Meeting Balloting vs. Letter Ball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onsor Ballot submission is 18Feb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360" y="5257800"/>
            <a:ext cx="81532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sk Group 1 suggest that we identify the Post LB #1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after the Comments are receiv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B45-B2EC-4466-9DF3-4B5C12291C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0:42:59Z</dcterms:created>
  <dc:creator>Ian C. Gifford</dc:creator>
  <dc:description>076r0</dc:description>
  <dc:language>en-US</dc:language>
  <cp:lastModifiedBy>Ian C. Gifford</cp:lastModifiedBy>
  <cp:lastPrinted>1998-02-10T13:28:06Z</cp:lastPrinted>
  <dcterms:modified xsi:type="dcterms:W3CDTF">1999-09-14T22:03:41Z</dcterms:modified>
  <cp:revision>15</cp:revision>
  <dc:subject>IEEE 802.15 WG Balloting Planning</dc:subject>
  <dc:title>IEEE 802.15 Working Group for Wireless Personal Area Networks</dc:title>
</cp:coreProperties>
</file>