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png" ContentType="image/png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9336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3467160" y="97200"/>
            <a:ext cx="281448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654120" y="97200"/>
            <a:ext cx="273672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1152000" y="701280"/>
            <a:ext cx="4629240" cy="346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3771720" y="8984880"/>
            <a:ext cx="250956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lvl="4" marL="457200" indent="0" algn="r">
              <a:lnSpc>
                <a:spcPct val="100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lvl="4" marL="457200" indent="0" algn="r">
              <a:lnSpc>
                <a:spcPct val="100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2933280" y="8984880"/>
            <a:ext cx="8017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FEF72F78-735F-47B3-B2DA-B82535D765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23960" y="8985240"/>
            <a:ext cx="711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23960" y="8983800"/>
            <a:ext cx="5486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640" y="29700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54160" y="701640"/>
            <a:ext cx="4626000" cy="34686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nks for pitching this report -99/64r0 on Monday at 9:19am to the P802.15 Full W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itch is specifically for the following agenda -99/54r2  item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3.3 II REPORT ON TG1 ACTIVITIES AND PLANS - GIFFORD 10 09:19 A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will update this report to r1 and r2 for Wednesday &amp; Friday Full WG Updates.  I will need help on the Friday Report to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st Regards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F3125-F9A9-4B73-B09B-FD46FE9D4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BD85D-282E-4DB3-8A71-1A1460E37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83B51-1B44-42D7-81F3-C6D7C0D05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FB307-5471-40FB-AC0F-21AB23096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27247-E266-4DA9-A058-48C2A54B2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1FA4F-B9F8-413B-90B7-4000FD6F1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F26C7-C403-4BE8-9A28-9E1864D04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580FD-4D99-4E04-9610-C3FE63891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97AC9-049D-42B4-A4E2-699A021BA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4CACC-0837-4425-9B96-187A366EE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EA129-5EB4-48BC-A4F9-E07DF9DA3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9382F-CF4C-4319-A76D-3393318F0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379800"/>
            <a:ext cx="160020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474960"/>
            <a:ext cx="3124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9892C66F-017A-425E-AB32-3317D55B99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396000"/>
            <a:ext cx="3962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5-99/123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.wmf"/><Relationship Id="rId13" Type="http://schemas.openxmlformats.org/officeDocument/2006/relationships/image" Target="../media/image7.wmf"/><Relationship Id="rId1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EEE P802.15 Working Group for Wireless Personal Area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G1 Report #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att Regency Kaua'i, 1571 Poipu Road Koloa, HI U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3721D-248B-4C15-A068-3F9D20B60D8D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Kaua'i - Overview of the TG1 Tas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luetooth SIG Letter of Intent (JK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ing #1 July 5-9, 1999 Montreal, PQ, Cana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802.15 Finalize the Copyright License Agreement (I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ing #2 September 13-17, 1999 Santa Rosa, CA USA Hilton 802.15 Interim Meeting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T-IEEE WG Finalize Draft Standard (T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T-IEEE WG Submit Draft Standard to BSIG Program Management (C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SIG Review Derivative Draft Standard Submission (BSI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SIG Disposition Draft Standard/Submit to IEEE P802.15, if ok (JK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802.15 Compose P802.15 WG Electronic Letter #1 Ballot (BH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802.15 Upload Draft Standard to the private Web Site (I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ing #3 November 8-12, 1999 Kauai, Hawaii Hyatt Regency, 802 Plenary Meetin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802.15 Authorize P802.15 WG LB #1 between the 11Nov99 - 10Dec99 (BH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802.15 WG Letter Ballot #1 Package Distribution (BH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802.15 Letter Balloting 11Nov99 - 10Dec99 (W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802.15 Process, Consolidate, and Distribute Draft Comments 13-16Dec99 (T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802.15 Electronic WG LB #1 Comment Resolution (W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ing #4 January 10-14, 2000 Tel-Aviv, IL InterContinental, 802.15 Interim Meeting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ing #5 March 6-10, 2000 Albuquerque, NM Hyatt Regency, 802 Plenary Meetin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80880" y="4572000"/>
            <a:ext cx="71629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FCB8F-6EFF-4349-91E9-67C255354FC4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Kaua'i - Overview of the TG1 Timeli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135800" y="5043600"/>
            <a:ext cx="7399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current plan is to have TG1 make a motion to the P802.15 Full W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uring the November Plenary on Wednesday, 10Nov99 to authorize the LB #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start on Thursday, 11Nov99 with the Bluetooth Draft 0.6 Standar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8Nov99" descr=""/>
          <p:cNvPicPr/>
          <p:nvPr/>
        </p:nvPicPr>
        <p:blipFill>
          <a:blip r:embed="rId1"/>
          <a:stretch/>
        </p:blipFill>
        <p:spPr>
          <a:xfrm>
            <a:off x="282600" y="1528920"/>
            <a:ext cx="8556480" cy="32320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6781680" y="3200400"/>
            <a:ext cx="762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6248520" y="3428640"/>
            <a:ext cx="91440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31440" y="6208560"/>
            <a:ext cx="1873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urce: doc.: Project6.MP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89D45-00F6-47A4-B4EE-636CD227769E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Kaua’i Objectiv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PROVIDE A MOTION TO SUBMIT THE DRAFT TO WG LETTER BALLOT #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PROVIDE A MOTION TO REVIEW THE COMMENTS FROM WG LB #1 ON OR BEFORE 10-14JAN00 INTERI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 PROVIDE AN UPDATE ON TG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 PROVIDE AN OVERVIEW OF THE IEEE DRAFT DERIVED FROM THE BLUETOOTH SPECIFICATION(S) &lt;TUTORIAL #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. PROVIDE A MOTION TO WG TO INVOKE "OR" STATUS FOR BSIG, IF APPROVED FWD TO SEC AS A MO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. DRAFT TG1 OPERATING RULES AND PROVIDE A MOTION RESULT TO WG, WG APPROV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. PROVIDE A MOTION TO REPLACE PARVIZ KERMANI WITH CHATSCHIK BISDIKI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9E380-1B29-47B8-8E14-28682632F92D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Kaua'i - Submiss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y Submis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luetooth Draft Submission v0.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2200" indent="-2192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EEE P802-15/D0.6 [...P802-15-1_D0-6…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ide a “how to” review the P802.15.1 Draft v0.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2200" indent="-2192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99/xxxr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sting Plenary Conference Tutorial #3 on Tuesday 9Nov99 from 6:30 to 8:00p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2200" indent="-2192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VERVIEW OF THE P802.15 v0.6 DRAFT STANDARD -99/xxxr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42200" indent="-2192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LUETOOTH ARCHITECTURE OVERVIEW -99/069r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42200" indent="-2192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PPING THE BLUETOOTH SPEC. TO IEEE 802.15.1 -99/xxxr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42200" indent="-2192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802.15.1 V0.6 DRAFT STANDARD OVERVIEW -99/xxxr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E3917-9462-4091-ABC5-81D3C10D187D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5740560" y="3200400"/>
            <a:ext cx="1498320" cy="7621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577960" y="4648320"/>
            <a:ext cx="1460520" cy="99036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51040" y="3962520"/>
            <a:ext cx="1701720" cy="68580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540160" y="2514600"/>
            <a:ext cx="1498320" cy="68580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Kaua'i - WG vs. TG1 Sess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28600" y="762120"/>
            <a:ext cx="228600" cy="22860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59720" y="762120"/>
            <a:ext cx="177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Task Group 1 in se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7120" y="1295280"/>
            <a:ext cx="8963280" cy="52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----|-------------|-----------|-------------|------------|------------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   |   Monday    |  Tuesday  |Wednesday    |   Thursday |   Friday  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----|-------------|-----------|-------------|------------|------------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   |    ExCom    |    HR     |     MC      |    MC      |           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AM |             |...........|.............|............|    802    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   |.............|           |             |            |  Closing  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   |     802     |    TG1    |     SG      |    SG      |  Plenary  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----|-------------|-----------|-------------|------------|------------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   | Full 802.15 |    SG     | Joint.11/.15|    TG1     |           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   |             |           |             |            |           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PM |.............|           |.............|. . . . . . |           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   |     TG1     |           | Full 802.15 |Full 802.15 |           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   |             |           |             |            |           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----|-------------|-----------|-------------|------------|------------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Eve-|             |  BT-IEEE  |   Social    | Doc Editing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ning|             |  Tutorial |             |............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   |             |6:30p-8:00p|             |    ExCom  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----|-------------|-----------|-------------|------------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egend:   ......... = flexible adjournment/Sta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G1 = Bluetooth Submission, SG = Coexistence, MC = Marke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72E9D-2EEF-4DFA-B468-41218B62C16D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G1 Motion Schedul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G1 Mo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on #1 - Vice Cha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G Mo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on #2 - LB #1 Commenc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on #3 - Electronic or empower Tel-Aviv for Comment Re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on #4 - OR Status for Bluetoo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D5A76-4EEF-48EE-BE9F-71E9FCD26073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ep 1: Posted P802.15.1 Draft 4Nov99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152280" y="2106720"/>
          <a:ext cx="7848720" cy="429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2106720"/>
                    <a:ext cx="7848720" cy="429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1" name=""/>
          <p:cNvSpPr/>
          <p:nvPr/>
        </p:nvSpPr>
        <p:spPr>
          <a:xfrm>
            <a:off x="2743200" y="2743200"/>
            <a:ext cx="6019920" cy="1523880"/>
          </a:xfrm>
          <a:prstGeom prst="leftArrow">
            <a:avLst>
              <a:gd name="adj1" fmla="val 50000"/>
              <a:gd name="adj2" fmla="val 98760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are here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ted to the P802.15 Private Web S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56651-9DC5-496B-B866-4D44E062D21F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ep 2: Our plan is to start the Letter Ballot #1 Process on 11Nov99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743200" y="2971800"/>
            <a:ext cx="6019920" cy="1523880"/>
          </a:xfrm>
          <a:prstGeom prst="leftArrow">
            <a:avLst>
              <a:gd name="adj1" fmla="val 50000"/>
              <a:gd name="adj2" fmla="val 98760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r plan is to make a motion 10Nov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oting to  release LB#1 on 11Nov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152280" y="2106720"/>
          <a:ext cx="7848720" cy="429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2106720"/>
                    <a:ext cx="7848720" cy="429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D5FA9-E30A-408E-87EC-E4C1C05D9F8E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ep 3: Our plan is to stop the Letter Ballot #1 Process on 10Dec99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152280" y="2106720"/>
          <a:ext cx="7848720" cy="429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2106720"/>
                    <a:ext cx="7848720" cy="429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9" name=""/>
          <p:cNvSpPr/>
          <p:nvPr/>
        </p:nvSpPr>
        <p:spPr>
          <a:xfrm>
            <a:off x="2743200" y="3784680"/>
            <a:ext cx="6019920" cy="1523880"/>
          </a:xfrm>
          <a:prstGeom prst="leftArrow">
            <a:avLst>
              <a:gd name="adj1" fmla="val 50000"/>
              <a:gd name="adj2" fmla="val 98760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r plan is to be here 10Dec99 and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ease LB Comments the following w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4E6A3-FC63-4511-BE77-725085F25507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0Nov99 the P802.15 Working Group will be comprised of 42 voting member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761760" y="17524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5000"/>
          </a:bodyPr>
          <a:p>
            <a:pPr marL="2916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Houman Alborz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Dimitri Alexandrou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Simon Baatz (Simon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Edul Batliwala (Edul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Alan Bien (Alan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r. Chatschik Bisdikia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Dave Carlson (Dave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Harshal Chhaya (Harshal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Wm. Caldwell Crossw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William Cruz (Bill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Richard Ditch (Rich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Richard Eckard (Dick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Kurt Fischer (Kurt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4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Matthias Frank (Matthias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Ian Gifford (Ian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s. Nada Golmie (Nada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7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Allen Heberling (Allen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8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Robert Heile (Bob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9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John Paul Jones (John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r. Srinivas Kandal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r. Parviz Kermani (Parviz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Stuart Kerry (Stuart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724280" y="17524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Patrick Kinney (Pat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4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Bruce P. Kraemer (Bruce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r. Yunxin Li (Yunxin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6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Daniel R. McGlyn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7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Michael D. McInnis (Mike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8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r. Akira Miura (Akira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9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r.Thomas Müller (Thomas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Peter Murray (Peter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Erwin R. Noble (Erwin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Mike Paczonay (Mike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Arto Palin (Arto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4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r. Davis Pan (Davis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5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Ivan Reede (Ivan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6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Carlos A. Rios (Carlos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7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Brian E. Roan (Brian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8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Karlheinz Schwarz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9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r. Stephen J. Shellhamme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Thomas Siep (Tom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Nick Stapleton (Nick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Steve Torp (Steve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r. Fujio Watanabe (Fujio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33520" y="3784680"/>
            <a:ext cx="40384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28600" y="228600"/>
            <a:ext cx="6858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919080" y="112680"/>
            <a:ext cx="2497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Resignation prior to the LB #1 St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B21BB-F0AE-482B-B4E1-939FE70BCC77}" type="slidenum">
              <a:t>19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view of Santa Ro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G1 Overvi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view of Kaua’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mis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tion Schedu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B#1 Motion Detail &amp; WG Ballot Po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T-IEEE Editorial Working Group Drafting His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39007-1A33-4E1C-A1D9-0ADB5D7197EE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T-IEEE Editorial Working Group Drafting Histo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aft 0.0 - Tom Siep 10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aft 0.1 - Tom Siep 10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aft 0.2 - Tom Siep 10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aft 0.3 - Tom Siep 10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3 P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aft 0.4 - Tom Siep 10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aft 0.5 - BT-IEEE Editorial Working 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1 P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Chief Editor/6 Technical Edi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 Bluetooth Promoter Company Reviewers w/ internal 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~300 Com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aft 0.6 - BT-IEEE Editorial Working 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8 P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ADB96-79D9-4277-89B4-C447D7B28D19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anta Rosa - Overview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D AN OVERVIEW OF THE BLUETOOTH SPECIFICATION(S), VIA TUTORI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D A PLAN FOR AN INITIAL DRAFT STAND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X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TE TO SUBMIT THE DRAFT TO WG LETTER BALLOT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X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TE TO REVIEW THE COMMENTS FROM WG LB #1 IN NOV99 PLEN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VOTE TO EMPOWER THE TG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CDED9-D2FF-48D6-96FF-6563D482F2D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974880" y="1619280"/>
            <a:ext cx="7951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tion: To empower the TG1 Chair and Vice Chair to release the Bluetooth submission on behalf of TG1 to the 802.15 WG and to make a motion to the 802.15 WG to submit the Draft to Letter Ball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130040" y="3643200"/>
            <a:ext cx="24804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oved:Tom Sie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cond:Chatschik Bisdiki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ll in Favor:1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ll Opposed: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bstaining: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nta Rosa - Vote on TG1 Draft Process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201680" y="3138480"/>
            <a:ext cx="1617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quires 75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165320" y="5478480"/>
            <a:ext cx="348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FE2B2-43CB-41DB-9E37-F567827CB361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nta Rosa - Mapping Over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1371600" y="2057400"/>
            <a:ext cx="6426360" cy="3809880"/>
            <a:chOff x="1371600" y="2057400"/>
            <a:chExt cx="6426360" cy="3809880"/>
          </a:xfrm>
        </p:grpSpPr>
        <p:graphicFrame>
          <p:nvGraphicFramePr>
            <p:cNvPr id="68" name=""/>
            <p:cNvGraphicFramePr/>
            <p:nvPr/>
          </p:nvGraphicFramePr>
          <p:xfrm>
            <a:off x="1371600" y="2057400"/>
            <a:ext cx="6426360" cy="38098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371600" y="2057400"/>
                      <a:ext cx="6426360" cy="3809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3733920" y="5029200"/>
            <a:ext cx="2197080" cy="5475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733920" y="5029200"/>
                      <a:ext cx="2197080" cy="547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3809880" y="3505320"/>
            <a:ext cx="2370240" cy="1469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809880" y="3505320"/>
                      <a:ext cx="2370240" cy="1469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3809880" y="3048120"/>
            <a:ext cx="3054600" cy="14810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809880" y="3048120"/>
                      <a:ext cx="3054600" cy="1481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3048120" y="2743200"/>
            <a:ext cx="4255920" cy="131760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3048120" y="2743200"/>
                      <a:ext cx="4255920" cy="1317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2057400" y="2743200"/>
            <a:ext cx="3970440" cy="150804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2057400" y="2743200"/>
                      <a:ext cx="3970440" cy="1508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80" name=""/>
          <p:cNvSpPr/>
          <p:nvPr/>
        </p:nvSpPr>
        <p:spPr>
          <a:xfrm>
            <a:off x="639720" y="6208560"/>
            <a:ext cx="685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urce: doc.: IEEE 802.15-99/071r0, "Mapping the Bluetooth Specification to IEEE 802.15.1", Tom Siep, T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3"/>
          <a:stretch/>
        </p:blipFill>
        <p:spPr>
          <a:xfrm>
            <a:off x="3827520" y="2685960"/>
            <a:ext cx="1488960" cy="148428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1298520" y="3505320"/>
            <a:ext cx="1713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uetooth Protocol Sta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644080" y="1828800"/>
            <a:ext cx="2640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EEE 802.15.1 Abstract Network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2A349-3FCB-4F8F-9E77-D14EEFD0218F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TG1 Issues are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think that our efforts would really be wasted if we develop an 802.15.1 standard tha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too late to be relevant to the mark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allels (but not leveraged by) the original Bluetooth spe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confusing to the people that are already familiar with the Bluetooth spe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ntentionally deviates from the original spe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fore the v0.6 standard is 1:1 Bluetoo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280E8-BBF7-4B98-A316-EB64093EED8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Kaua'i - Main Outline Overview (D0.6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auses 1 through 4: IEEE-required reference materia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ause 5: Over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ause 6: PHY (Direct copy of Part A, Radio Specification [1.0a]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ause 7: MAC Short introduction, followed b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34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3333cc"/>
                </a:solidFill>
                <a:latin typeface="Arial"/>
              </a:rPr>
              <a:t>Section 7.1 (Direct copy of Part B, Baseband Specification [1.0a]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34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3333cc"/>
                </a:solidFill>
                <a:latin typeface="Arial"/>
              </a:rPr>
              <a:t>Section 7.2 (Direct copy of Part C, Link Manager Protocol [1.0a]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00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3333cc"/>
                </a:solidFill>
                <a:latin typeface="Arial"/>
              </a:rPr>
              <a:t>Section 7.3 (Direct copy of Part D, Logical Link Control and Adaptation Protocol [1.0a]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ause 8: Service Access Points (General Material and one example of how SAPs will be documented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nex A: Placeholder for Protocol Implementation Conformance Statement (PICS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nex B: Placeholder for MAC Formal Defini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nex C: Placeholder for PHY Formal Defini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3333cc"/>
                </a:solidFill>
                <a:latin typeface="Arial"/>
              </a:rPr>
              <a:t>Annex D: Generic Access Profile (Direct copy [1.0a]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nex E: Bibliography (incomplete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2880" y="6208560"/>
            <a:ext cx="224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urce: doc.: IEEE P802-15/D0.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65908-3577-4459-85D6-46FF90402F8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Kaua'i - OSI RF to Bluetoot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1006560" y="1981080"/>
            <a:ext cx="7121160" cy="4149360"/>
            <a:chOff x="1006560" y="1981080"/>
            <a:chExt cx="7121160" cy="4149360"/>
          </a:xfrm>
        </p:grpSpPr>
        <p:sp>
          <p:nvSpPr>
            <p:cNvPr id="91" name=""/>
            <p:cNvSpPr/>
            <p:nvPr/>
          </p:nvSpPr>
          <p:spPr>
            <a:xfrm>
              <a:off x="1200600" y="4574520"/>
              <a:ext cx="2201040" cy="259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LL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200600" y="4834080"/>
              <a:ext cx="2201040" cy="2588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A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200600" y="5093280"/>
              <a:ext cx="1488960" cy="51876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hysic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200600" y="4574520"/>
              <a:ext cx="1488960" cy="518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ata Li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200600" y="4056120"/>
              <a:ext cx="1488960" cy="518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wor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200600" y="3537000"/>
              <a:ext cx="1488960" cy="518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ranspor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200600" y="3018600"/>
              <a:ext cx="1488960" cy="518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ess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200600" y="2499840"/>
              <a:ext cx="1488960" cy="518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resent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200600" y="1981080"/>
              <a:ext cx="1488960" cy="518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ppl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006560" y="5612040"/>
              <a:ext cx="1877400" cy="518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ediu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 flipV="1">
              <a:off x="3401640" y="3990600"/>
              <a:ext cx="1424160" cy="842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689560" y="5612040"/>
              <a:ext cx="2136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3" name=""/>
            <p:cNvGrpSpPr/>
            <p:nvPr/>
          </p:nvGrpSpPr>
          <p:grpSpPr>
            <a:xfrm>
              <a:off x="4911120" y="1981080"/>
              <a:ext cx="3216600" cy="3630600"/>
              <a:chOff x="4911120" y="1981080"/>
              <a:chExt cx="3216600" cy="3630600"/>
            </a:xfrm>
          </p:grpSpPr>
          <p:sp>
            <p:nvSpPr>
              <p:cNvPr id="104" name=""/>
              <p:cNvSpPr/>
              <p:nvPr/>
            </p:nvSpPr>
            <p:spPr>
              <a:xfrm>
                <a:off x="4911120" y="5250960"/>
                <a:ext cx="2462400" cy="360720"/>
              </a:xfrm>
              <a:prstGeom prst="rect">
                <a:avLst/>
              </a:prstGeom>
              <a:solidFill>
                <a:srgbClr val="b2b2b2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000" spc="-1" strike="noStrike">
                    <a:solidFill>
                      <a:srgbClr val="000000"/>
                    </a:solidFill>
                    <a:latin typeface="Arial"/>
                  </a:rPr>
                  <a:t>RF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4911120" y="4808160"/>
                <a:ext cx="2462400" cy="387360"/>
              </a:xfrm>
              <a:prstGeom prst="rect">
                <a:avLst/>
              </a:prstGeom>
              <a:solidFill>
                <a:srgbClr val="66ff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000" spc="-1" strike="noStrike">
                    <a:solidFill>
                      <a:srgbClr val="000000"/>
                    </a:solidFill>
                    <a:latin typeface="Arial"/>
                  </a:rPr>
                  <a:t>Baseband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4911120" y="3975840"/>
                <a:ext cx="602640" cy="77652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00"/>
                    </a:solidFill>
                    <a:latin typeface="Arial"/>
                  </a:rPr>
                  <a:t>Audio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5563800" y="4392360"/>
                <a:ext cx="1809720" cy="360360"/>
              </a:xfrm>
              <a:prstGeom prst="rect">
                <a:avLst/>
              </a:prstGeom>
              <a:solidFill>
                <a:srgbClr val="063de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ffffff"/>
                    </a:solidFill>
                    <a:latin typeface="Arial"/>
                  </a:rPr>
                  <a:t>Link Manager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563800" y="3975840"/>
                <a:ext cx="1155600" cy="36072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ffff00"/>
                    </a:solidFill>
                    <a:latin typeface="Arial"/>
                  </a:rPr>
                  <a:t>L2CAP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911120" y="2868480"/>
                <a:ext cx="2311560" cy="1051920"/>
              </a:xfrm>
              <a:custGeom>
                <a:avLst/>
                <a:gdLst/>
                <a:ahLst/>
                <a:rect l="l" t="t" r="r" b="b"/>
                <a:pathLst>
                  <a:path w="2208" h="912">
                    <a:moveTo>
                      <a:pt x="624" y="912"/>
                    </a:moveTo>
                    <a:lnTo>
                      <a:pt x="0" y="0"/>
                    </a:lnTo>
                    <a:lnTo>
                      <a:pt x="2208" y="0"/>
                    </a:lnTo>
                    <a:lnTo>
                      <a:pt x="1728" y="912"/>
                    </a:lnTo>
                    <a:lnTo>
                      <a:pt x="624" y="912"/>
                    </a:lnTo>
                    <a:close/>
                  </a:path>
                </a:pathLst>
              </a:custGeom>
              <a:solidFill>
                <a:srgbClr val="0033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4911120" y="2424240"/>
                <a:ext cx="674280" cy="388800"/>
              </a:xfrm>
              <a:prstGeom prst="rect">
                <a:avLst/>
              </a:prstGeom>
              <a:solidFill>
                <a:srgbClr val="66ff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Arial"/>
                  </a:rPr>
                  <a:t>TCP/IP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5652720" y="2424240"/>
                <a:ext cx="463680" cy="388800"/>
              </a:xfrm>
              <a:prstGeom prst="rect">
                <a:avLst/>
              </a:prstGeom>
              <a:solidFill>
                <a:srgbClr val="66ff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Arial"/>
                  </a:rPr>
                  <a:t>HID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167880" y="2424240"/>
                <a:ext cx="1078560" cy="388800"/>
              </a:xfrm>
              <a:prstGeom prst="rect">
                <a:avLst/>
              </a:prstGeom>
              <a:solidFill>
                <a:srgbClr val="66ff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Arial"/>
                  </a:rPr>
                  <a:t>RFCOMM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870600" y="2424240"/>
                <a:ext cx="1256760" cy="1922040"/>
              </a:xfrm>
              <a:custGeom>
                <a:avLst/>
                <a:gdLst/>
                <a:ahLst/>
                <a:rect l="l" t="t" r="r" b="b"/>
                <a:pathLst>
                  <a:path w="1296" h="1632">
                    <a:moveTo>
                      <a:pt x="0" y="1632"/>
                    </a:moveTo>
                    <a:lnTo>
                      <a:pt x="0" y="1296"/>
                    </a:lnTo>
                    <a:lnTo>
                      <a:pt x="528" y="336"/>
                    </a:lnTo>
                    <a:lnTo>
                      <a:pt x="528" y="0"/>
                    </a:lnTo>
                    <a:lnTo>
                      <a:pt x="1296" y="0"/>
                    </a:lnTo>
                    <a:lnTo>
                      <a:pt x="1296" y="288"/>
                    </a:lnTo>
                    <a:lnTo>
                      <a:pt x="576" y="1632"/>
                    </a:lnTo>
                    <a:lnTo>
                      <a:pt x="0" y="1632"/>
                    </a:lnTo>
                    <a:close/>
                  </a:path>
                </a:pathLst>
              </a:custGeom>
              <a:solidFill>
                <a:srgbClr val="0033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4911120" y="1981080"/>
                <a:ext cx="3216600" cy="36072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000" spc="-1" strike="noStrike">
                    <a:solidFill>
                      <a:srgbClr val="ffff00"/>
                    </a:solidFill>
                    <a:latin typeface="Arial"/>
                  </a:rPr>
                  <a:t>Application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916960" y="3248280"/>
                <a:ext cx="718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Dat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17809800">
                <a:off x="7033680" y="3229200"/>
                <a:ext cx="1002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ontrol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7" name=""/>
          <p:cNvSpPr/>
          <p:nvPr/>
        </p:nvSpPr>
        <p:spPr>
          <a:xfrm>
            <a:off x="632880" y="6208560"/>
            <a:ext cx="224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urce: doc.: IEEE P802-15/D0.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56120" y="1600200"/>
            <a:ext cx="1713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uetooth Protocol Sta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147320" y="1752480"/>
            <a:ext cx="180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O/OSI Reference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016FD-BE6E-4C75-9F65-980F143134E8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Kaua'i - Bluetooth to IEEE P802.15.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762120" y="1905120"/>
            <a:ext cx="7520040" cy="4266720"/>
            <a:chOff x="762120" y="1905120"/>
            <a:chExt cx="7520040" cy="4266720"/>
          </a:xfrm>
        </p:grpSpPr>
        <p:grpSp>
          <p:nvGrpSpPr>
            <p:cNvPr id="122" name=""/>
            <p:cNvGrpSpPr/>
            <p:nvPr/>
          </p:nvGrpSpPr>
          <p:grpSpPr>
            <a:xfrm>
              <a:off x="762120" y="1905120"/>
              <a:ext cx="3786120" cy="4266720"/>
              <a:chOff x="762120" y="1905120"/>
              <a:chExt cx="3786120" cy="4266720"/>
            </a:xfrm>
          </p:grpSpPr>
          <p:sp>
            <p:nvSpPr>
              <p:cNvPr id="123" name=""/>
              <p:cNvSpPr/>
              <p:nvPr/>
            </p:nvSpPr>
            <p:spPr>
              <a:xfrm>
                <a:off x="762120" y="5748120"/>
                <a:ext cx="2898720" cy="423720"/>
              </a:xfrm>
              <a:prstGeom prst="rect">
                <a:avLst/>
              </a:prstGeom>
              <a:solidFill>
                <a:srgbClr val="b2b2b2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00"/>
                    </a:solidFill>
                    <a:latin typeface="Arial"/>
                  </a:rPr>
                  <a:t>RF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762120" y="5227560"/>
                <a:ext cx="2898720" cy="455040"/>
              </a:xfrm>
              <a:prstGeom prst="rect">
                <a:avLst/>
              </a:prstGeom>
              <a:solidFill>
                <a:srgbClr val="66ff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00"/>
                    </a:solidFill>
                    <a:latin typeface="Arial"/>
                  </a:rPr>
                  <a:t>Baseban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762120" y="4249440"/>
                <a:ext cx="709560" cy="91260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00"/>
                    </a:solidFill>
                    <a:latin typeface="Arial"/>
                  </a:rPr>
                  <a:t>Audi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1530360" y="4738680"/>
                <a:ext cx="2130480" cy="423360"/>
              </a:xfrm>
              <a:prstGeom prst="rect">
                <a:avLst/>
              </a:prstGeom>
              <a:solidFill>
                <a:srgbClr val="063de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200" spc="-1" strike="noStrike">
                    <a:solidFill>
                      <a:srgbClr val="ffffff"/>
                    </a:solidFill>
                    <a:latin typeface="Arial"/>
                  </a:rPr>
                  <a:t>Link Manag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530360" y="4249440"/>
                <a:ext cx="1360440" cy="42372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200" spc="-1" strike="noStrike">
                    <a:solidFill>
                      <a:srgbClr val="ffff00"/>
                    </a:solidFill>
                    <a:latin typeface="Arial"/>
                  </a:rPr>
                  <a:t>L2CA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762120" y="2948040"/>
                <a:ext cx="2720880" cy="1236240"/>
              </a:xfrm>
              <a:custGeom>
                <a:avLst/>
                <a:gdLst/>
                <a:ahLst/>
                <a:rect l="l" t="t" r="r" b="b"/>
                <a:pathLst>
                  <a:path w="2208" h="912">
                    <a:moveTo>
                      <a:pt x="624" y="912"/>
                    </a:moveTo>
                    <a:lnTo>
                      <a:pt x="0" y="0"/>
                    </a:lnTo>
                    <a:lnTo>
                      <a:pt x="2208" y="0"/>
                    </a:lnTo>
                    <a:lnTo>
                      <a:pt x="1728" y="912"/>
                    </a:lnTo>
                    <a:lnTo>
                      <a:pt x="624" y="912"/>
                    </a:lnTo>
                    <a:close/>
                  </a:path>
                </a:pathLst>
              </a:custGeom>
              <a:solidFill>
                <a:srgbClr val="0033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762120" y="2425680"/>
                <a:ext cx="793800" cy="456840"/>
              </a:xfrm>
              <a:prstGeom prst="rect">
                <a:avLst/>
              </a:prstGeom>
              <a:solidFill>
                <a:srgbClr val="66ff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000" spc="-1" strike="noStrike">
                    <a:solidFill>
                      <a:srgbClr val="000000"/>
                    </a:solidFill>
                    <a:latin typeface="Arial"/>
                  </a:rPr>
                  <a:t>TCP/IP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1635120" y="2425680"/>
                <a:ext cx="546120" cy="456840"/>
              </a:xfrm>
              <a:prstGeom prst="rect">
                <a:avLst/>
              </a:prstGeom>
              <a:solidFill>
                <a:srgbClr val="66ff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000" spc="-1" strike="noStrike">
                    <a:solidFill>
                      <a:srgbClr val="000000"/>
                    </a:solidFill>
                    <a:latin typeface="Arial"/>
                  </a:rPr>
                  <a:t>HID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2241720" y="2425680"/>
                <a:ext cx="1269720" cy="456840"/>
              </a:xfrm>
              <a:prstGeom prst="rect">
                <a:avLst/>
              </a:prstGeom>
              <a:solidFill>
                <a:srgbClr val="66ff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000" spc="-1" strike="noStrike">
                    <a:solidFill>
                      <a:srgbClr val="000000"/>
                    </a:solidFill>
                    <a:latin typeface="Arial"/>
                  </a:rPr>
                  <a:t>RFCOMM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068640" y="2425680"/>
                <a:ext cx="1479600" cy="2258640"/>
              </a:xfrm>
              <a:custGeom>
                <a:avLst/>
                <a:gdLst/>
                <a:ahLst/>
                <a:rect l="l" t="t" r="r" b="b"/>
                <a:pathLst>
                  <a:path w="1296" h="1632">
                    <a:moveTo>
                      <a:pt x="0" y="1632"/>
                    </a:moveTo>
                    <a:lnTo>
                      <a:pt x="0" y="1296"/>
                    </a:lnTo>
                    <a:lnTo>
                      <a:pt x="528" y="336"/>
                    </a:lnTo>
                    <a:lnTo>
                      <a:pt x="528" y="0"/>
                    </a:lnTo>
                    <a:lnTo>
                      <a:pt x="1296" y="0"/>
                    </a:lnTo>
                    <a:lnTo>
                      <a:pt x="1296" y="288"/>
                    </a:lnTo>
                    <a:lnTo>
                      <a:pt x="576" y="1632"/>
                    </a:lnTo>
                    <a:lnTo>
                      <a:pt x="0" y="1632"/>
                    </a:lnTo>
                    <a:close/>
                  </a:path>
                </a:pathLst>
              </a:custGeom>
              <a:solidFill>
                <a:srgbClr val="0033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762120" y="1905120"/>
                <a:ext cx="3786120" cy="42372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ffff00"/>
                    </a:solidFill>
                    <a:latin typeface="Arial"/>
                  </a:rPr>
                  <a:t>Application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1945440" y="3462120"/>
                <a:ext cx="557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Dat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7809800">
                <a:off x="3363480" y="3637440"/>
                <a:ext cx="755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Control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6" name=""/>
            <p:cNvSpPr/>
            <p:nvPr/>
          </p:nvSpPr>
          <p:spPr>
            <a:xfrm>
              <a:off x="5462640" y="2361960"/>
              <a:ext cx="2819520" cy="4568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lause 6 (RF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462640" y="2819160"/>
              <a:ext cx="2819520" cy="15238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lause 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(Baseband, Link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Manager, L2CAP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462640" y="1905120"/>
              <a:ext cx="2819520" cy="456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lause 1-5 (Intro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462640" y="4343400"/>
              <a:ext cx="2819520" cy="456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lause 8 (SAP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462640" y="4800600"/>
              <a:ext cx="2819520" cy="129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nnex A: Placeholder for PIC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nnex B: Placeholder for MAC Def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nnex C: Placeholder for PHY Def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nnex D: Generic Access Profil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nnex E: Bibliography (incomplete)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 flipH="1">
              <a:off x="4807080" y="2438280"/>
              <a:ext cx="426960" cy="1828440"/>
            </a:xfrm>
            <a:custGeom>
              <a:avLst/>
              <a:gdLst>
                <a:gd name="textAreaLeft" fmla="*/ 0 w 426960"/>
                <a:gd name="textAreaRight" fmla="*/ 154080 w 426960"/>
                <a:gd name="textAreaTop" fmla="*/ 47520 h 1828440"/>
                <a:gd name="textAreaBottom" fmla="*/ 1780920 h 1828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2" name=""/>
          <p:cNvSpPr/>
          <p:nvPr/>
        </p:nvSpPr>
        <p:spPr>
          <a:xfrm>
            <a:off x="632880" y="6208560"/>
            <a:ext cx="224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urce: doc.: IEEE P802-15/D0.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841320" y="1523880"/>
            <a:ext cx="1713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uetooth Protocol Sta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415480" y="1676520"/>
            <a:ext cx="256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EEE 802.15.1 Draft 0.6 Abstract TO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BF62E-B349-437F-B7A9-96CA76940672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2T05:58:24Z</dcterms:created>
  <dc:creator>Ian C. Gifford</dc:creator>
  <dc:description>-99/123</dc:description>
  <dc:language>en-US</dc:language>
  <cp:lastModifiedBy>Ian C. Gifford</cp:lastModifiedBy>
  <cp:lastPrinted>1998-02-10T13:28:06Z</cp:lastPrinted>
  <dcterms:modified xsi:type="dcterms:W3CDTF">1999-11-10T23:22:45Z</dcterms:modified>
  <cp:revision>46</cp:revision>
  <dc:subject>IEEE 802.15 TG1 Report #2</dc:subject>
  <dc:title>IEEE P802.15 Working Group for Wireless Personal Area Networks</dc:title>
</cp:coreProperties>
</file>