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76E5-B7F6-43BF-ADB5-1D8C5091D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BF9A-F296-40B2-B0BF-28B2C5AE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3CB1-C980-4CB3-A1DB-2AAADF9B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7090-54DE-4366-9096-E8E966481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5C65-99E2-4189-86E8-CAF9E14F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23AF-2FC4-43A9-BAC8-BD11B1C7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A02E-28A4-4A2F-B1E1-2F178FCE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55EF-C2D4-45A4-8165-F9AFF87A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6E3D-55B1-4867-9A56-1BDE235F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58E6-8A76-42D8-ADF8-E10378D7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BA74-5CEE-44CC-8466-0BCE97D9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9A5F-7EA9-4721-9B40-6DFFD977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909F955-D079-4442-9A41-7427D5569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7712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 Performance Evaluation Process in a Coexistenc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da Gol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5B6F-F210-4AED-8F25-9072B3B110F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ffic Generation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ffic models that describe the distribution of the message size and interarrival time are derived from the application set consid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raffic models exist in the literature for voice, data (FTP, HTTP), video traff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267080" y="3581280"/>
          <a:ext cx="4876920" cy="29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3581280"/>
                    <a:ext cx="4876920" cy="29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228600" y="4343400"/>
          <a:ext cx="434340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343400"/>
                    <a:ext cx="43434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80880" y="624852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ions from IEEE 802.14/96-083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621B-92A3-44DB-A44D-F99880DF9AC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twork Top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devices in a pico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among devices in a pico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picon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14BD-B00F-4DAA-867C-963C320CDE7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ysical Layer Parameters and Assum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ho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er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lev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ping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aga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322B-ED84-4882-882D-AB340E0E8E2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Layer Paramete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ion slot al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t scheduling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rs: Flush, 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 size/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off algorith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ion window size (max, m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320F-7A2C-4F4E-BA52-CFDF0418632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formance metr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delay (mean, variance, PDF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to transmit a mess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isions per s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number of collisions per s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ered 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traffic presented to the network for transmission in bits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in bits/s of the successful traffic transmitted excluding MAC and PHY overhea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B6F9-EC49-442B-B339-36F242B12D0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 a methodology for MAC coexistence model eval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major components and provide examples for parameters, user situations, and performance metr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within each components are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C488-C5A5-40EF-8AD3-A6CBA39E0BB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xt St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start the deb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ment on this evalua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cit input 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ge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73640" y="487692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30322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1320" y="3429000"/>
            <a:ext cx="1218960" cy="685800"/>
          </a:xfrm>
          <a:prstGeom prst="triangle">
            <a:avLst>
              <a:gd name="adj" fmla="val 50000"/>
            </a:avLst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5791320" y="4389480"/>
            <a:ext cx="1295280" cy="533520"/>
          </a:xfrm>
          <a:prstGeom prst="triangle">
            <a:avLst>
              <a:gd name="adj" fmla="val 50000"/>
            </a:avLst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20640" y="3733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10080" y="3017880"/>
            <a:ext cx="1981440" cy="121932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4313160"/>
            <a:ext cx="1981440" cy="1067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4419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E187-5FF9-47CA-BD53-99BC7289011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performance levels will lead to different levels of coexist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existence could mean an “acceptable” performance level to be quantifi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MAC layer coexistence translates into a performance meas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impact of interfering devices all sharing the 2.45 GHz ISM band on the MAC performanc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How to evaluate and quantify WPAN MAC perform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4AD1-C786-4015-B6AE-D02EE8F4E12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in goal of this contribution is to propose a methodology for conducting a performance evaluation of the WPAN MAC in presence of other wireless devices sharing the same air spa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tivation is to agree on an evaluation process so that simulation/ experimental/ analysis results can be conducted independently by different parties and presented to the IEEE 802.15 S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4C79-EEB8-4E6A-80DA-E114805A03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Performance Evaluation Set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4724280"/>
            <a:ext cx="1447560" cy="457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5181480"/>
            <a:ext cx="14475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4191120"/>
            <a:ext cx="144756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286000"/>
            <a:ext cx="3352680" cy="2362320"/>
          </a:xfrm>
          <a:prstGeom prst="cloudCallout">
            <a:avLst>
              <a:gd name="adj1" fmla="val 23199"/>
              <a:gd name="adj2" fmla="val 3205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4267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ffic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5257800"/>
            <a:ext cx="1752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4800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T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4935600"/>
            <a:ext cx="1447920" cy="4572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5392800"/>
            <a:ext cx="14479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4402080"/>
            <a:ext cx="14479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44784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ffic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501156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02.11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5468760"/>
            <a:ext cx="1752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1922400"/>
            <a:ext cx="1447920" cy="457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2379600"/>
            <a:ext cx="144792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1389240"/>
            <a:ext cx="144792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14652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ffic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1998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T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905120"/>
            <a:ext cx="1447920" cy="4572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2362320"/>
            <a:ext cx="14479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371600"/>
            <a:ext cx="14479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465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ffic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1981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02.11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438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 Layer Assum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2438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 Layer Assum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2514600"/>
            <a:ext cx="4473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Network Top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in a Coexistence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2209680"/>
            <a:ext cx="3581280" cy="3030480"/>
          </a:xfrm>
          <a:custGeom>
            <a:avLst/>
            <a:gdLst/>
            <a:ahLst/>
            <a:rect l="l" t="t" r="r" b="b"/>
            <a:pathLst>
              <a:path w="2496" h="1888">
                <a:moveTo>
                  <a:pt x="0" y="0"/>
                </a:moveTo>
                <a:cubicBezTo>
                  <a:pt x="276" y="172"/>
                  <a:pt x="552" y="344"/>
                  <a:pt x="816" y="624"/>
                </a:cubicBezTo>
                <a:cubicBezTo>
                  <a:pt x="1080" y="904"/>
                  <a:pt x="1304" y="1472"/>
                  <a:pt x="1584" y="1680"/>
                </a:cubicBezTo>
                <a:cubicBezTo>
                  <a:pt x="1864" y="1888"/>
                  <a:pt x="2180" y="1880"/>
                  <a:pt x="2496" y="18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1676520"/>
            <a:ext cx="3962520" cy="3670200"/>
          </a:xfrm>
          <a:custGeom>
            <a:avLst/>
            <a:gdLst/>
            <a:ahLst/>
            <a:rect l="l" t="t" r="r" b="b"/>
            <a:pathLst>
              <a:path w="2496" h="2312">
                <a:moveTo>
                  <a:pt x="0" y="2064"/>
                </a:moveTo>
                <a:cubicBezTo>
                  <a:pt x="228" y="2188"/>
                  <a:pt x="456" y="2312"/>
                  <a:pt x="720" y="2016"/>
                </a:cubicBezTo>
                <a:cubicBezTo>
                  <a:pt x="984" y="1720"/>
                  <a:pt x="1288" y="576"/>
                  <a:pt x="1584" y="288"/>
                </a:cubicBezTo>
                <a:cubicBezTo>
                  <a:pt x="1880" y="0"/>
                  <a:pt x="2188" y="144"/>
                  <a:pt x="2496" y="28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2578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easure performance at the MAC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15238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dentify  MAC Specif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67480" y="2514600"/>
            <a:ext cx="1676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ake assumptions on the PHY layer (interference/ propagation models) and traffic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5255-9695-4A80-B18E-FC14FAC7EEC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Coexistence Evaluation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valuation process of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iv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C layer protocol in a shared environment consists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age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generatio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 layer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layer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18C3-F010-41CD-AD6F-C121F1549A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User Situations 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dless Desk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set/Portable speaker 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case Tr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bidden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c Synchro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nt Post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www.bluetooth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nteract" descr=""/>
          <p:cNvPicPr/>
          <p:nvPr/>
        </p:nvPicPr>
        <p:blipFill>
          <a:blip r:embed="rId1"/>
          <a:stretch/>
        </p:blipFill>
        <p:spPr>
          <a:xfrm>
            <a:off x="6248520" y="3886200"/>
            <a:ext cx="2527200" cy="1905120"/>
          </a:xfrm>
          <a:prstGeom prst="rect">
            <a:avLst/>
          </a:prstGeom>
          <a:ln w="0">
            <a:noFill/>
          </a:ln>
        </p:spPr>
      </p:pic>
      <p:pic>
        <p:nvPicPr>
          <p:cNvPr id="88" name="automati" descr=""/>
          <p:cNvPicPr/>
          <p:nvPr/>
        </p:nvPicPr>
        <p:blipFill>
          <a:blip r:embed="rId2"/>
          <a:stretch/>
        </p:blipFill>
        <p:spPr>
          <a:xfrm>
            <a:off x="6477120" y="129528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695E-CB03-4F02-A771-089B3EAF84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11 User Situ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sic Service Set (BSS) consists of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Points (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less Stations (S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consider *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s density pe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density per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STAs per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refer to IEEE 802.15-99/073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6619-AF7E-4C9E-A654-96F395A5E6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User Situ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e space sit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ktop, interactive conferenc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synchronizer, head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situations (anywhere el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nt post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bidden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5A35-8ED7-4552-B989-675DC666790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ph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Brow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 Confere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2834-31BF-4905-80A0-F0029811773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31T23:47:08Z</dcterms:created>
  <dc:creator>Nada Golmie</dc:creator>
  <dc:description>&lt;doc#&gt;</dc:description>
  <dc:language>en-US</dc:language>
  <cp:lastModifiedBy>Nada Golmie</cp:lastModifiedBy>
  <cp:lastPrinted>1999-11-04T14:50:30Z</cp:lastPrinted>
  <dcterms:modified xsi:type="dcterms:W3CDTF">1999-11-04T15:04:05Z</dcterms:modified>
  <cp:revision>15</cp:revision>
  <dc:subject>IEEE 802.15 &lt;subject&gt;</dc:subject>
  <dc:title>IEEE P802.15 Working Group for Wireless Personal Area Networks</dc:title>
</cp:coreProperties>
</file>