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75E-A04F-4E78-A76F-AD263822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936-04A0-48BB-A67F-2BD6FBFE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6B8-14C9-4C0F-8164-A6455C45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FA1-E215-4A19-A4F8-7CF825E5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F3E-EDE5-458C-A0E7-3825BE2E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78C-CAC2-4937-BAEA-91D81DF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8D3-A670-45AB-952B-72D4E33F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A45-65E4-4DC6-97AC-50D51ECE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AAA-C6FE-4D4F-84A2-80D46710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49D-68F0-40C9-BAC2-B77138D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BB5-2EB5-4A1A-BC16-07B4103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6A4-74AF-40C3-A8B7-33F1623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Cypher,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A57770-0CEB-4C79-A706-DF82752F9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ference 802.15-99/114.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, Interoperability and 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clarifications of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006-D52C-4FDD-B7D0-8DC0368E6F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mal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65760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048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657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495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2514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0"/>
            <a:ext cx="2362320" cy="30481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2362320" cy="3048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286000"/>
            <a:ext cx="2361960" cy="30481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DA7-C395-470A-B57D-B00430C681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existence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905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5181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0988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209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657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286000"/>
            <a:ext cx="6858000" cy="3505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00200"/>
            <a:ext cx="3962520" cy="37339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981080"/>
            <a:ext cx="5791320" cy="4191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915-5485-4D0D-9312-32BB431ED6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to finer definitions on coexistence and interoper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erformance criteria to evaluate the protocols/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“level of performance” where systems are defined to co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FC4-8385-459D-A412-A82B6CC4C7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ireless devices are said to “coexist” if they can be collocated without significantly impacting the performance of any of thes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F2F-8F01-4367-A2FA-0AE2D02747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- The ability for two or more systems to exchange information and to mutually use the information that has been ex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- The ability for two systems to perform a given task using a single set of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3A8-5EF3-49B8-B0E4-3D08CFE1A7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rmance/Conformance Testing/Co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/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Performanc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T, SUT, repeatability,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41E-C58C-42BD-AACF-19267A5FEC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2743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280" y="4495680"/>
            <a:ext cx="449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nformance Testing (User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nformance Testing (Network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onformance Testing of NNI (symmet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a 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b Interworking (UNI to N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Interoperability of TE and Switc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Interoperability of Switch 1 and Switc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24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432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136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74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718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32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2744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6576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516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712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19051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412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098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1680" y="144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91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184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92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6DE-F80D-4335-88BB-F04392A04F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3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7432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136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748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9718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004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15200" y="29718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0440" y="32004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724280"/>
            <a:ext cx="1067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562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9436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1600" y="5562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F71-636C-4A56-9D25-E4BBCC6C03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y (Speech via a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11560" y="276228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3581280"/>
            <a:ext cx="381240" cy="3812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362320"/>
            <a:ext cx="2895480" cy="28191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276720"/>
            <a:ext cx="990360" cy="99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4114800" cy="4038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447920"/>
            <a:ext cx="4724280" cy="46479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05740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97180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2286000" cy="2210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5410440" cy="5181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6D4-A6B5-4AEC-A221-0A0D03256F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presence of 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828800"/>
            <a:ext cx="4114800" cy="4038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523880"/>
            <a:ext cx="4724280" cy="4648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295280"/>
            <a:ext cx="5410440" cy="5181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66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B0B-4776-4FE9-9F46-0E61F81393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79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24280" y="2743200"/>
            <a:ext cx="2286000" cy="2209680"/>
            <a:chOff x="4724280" y="2743200"/>
            <a:chExt cx="2286000" cy="2209680"/>
          </a:xfrm>
        </p:grpSpPr>
        <p:sp>
          <p:nvSpPr>
            <p:cNvPr id="184" name=""/>
            <p:cNvSpPr/>
            <p:nvPr/>
          </p:nvSpPr>
          <p:spPr>
            <a:xfrm>
              <a:off x="5715000" y="3657240"/>
              <a:ext cx="380880" cy="3808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3352680"/>
              <a:ext cx="990720" cy="99000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04776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274320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376-9D95-4C12-B270-E472171E95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David Cypher</cp:lastModifiedBy>
  <cp:lastPrinted>1999-11-03T18:52:39Z</cp:lastPrinted>
  <dcterms:modified xsi:type="dcterms:W3CDTF">1999-11-09T20:56:45Z</dcterms:modified>
  <cp:revision>10</cp:revision>
  <dc:subject/>
  <dc:title>No Slide Title</dc:title>
</cp:coreProperties>
</file>