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D58-882B-4410-BF86-587A424E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2D9-9E70-43EC-BFF7-01A10C07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71E-0601-4890-9248-6A2ECE8D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D2A-9FC5-4912-88BE-33366903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BBF-CE93-4F21-B3CA-0C67865A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888-A774-445B-A599-B31D3813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6B8-5982-4A2D-95E5-96133F94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FA2-AB00-4665-9F66-C2775BDD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469-CA50-4ABF-B935-25F7E25E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354-97C2-4289-BC31-021EE188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529-CB48-4C5C-A81F-9368CF54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B65-99E9-46EC-821E-1A82B5C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06CEC7-4F31-44E3-943B-C001C4A59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10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8-11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D0C-5E28-46C4-B537-B04859D6910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4560" y="685800"/>
            <a:ext cx="57632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enda –Tuesday, November 9, 1999       Defer to new High Rate Gro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enda-Wednesday, November 10, 1999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8:30 - 10:30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Meeting to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endance check- introdu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ew of Marketing committee charter/objectiv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nts and progress since July/September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osed tasks for the week in Kaua’i, Hawa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Discuss Submission -99/13xr0, An update on the  “ TG1 requests to MC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Discuss Submission -99/13xr0, An update on “P802.15.1 MARCO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g., SIG, Collateral, "Handbook to P802.15.1 Project", Un-plugfest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reement on tasks and individual/group assignments for Thur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sub-committee meeting arrangements as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enda-Thursday, November 11, 1999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8:30 - 10:30 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Meeting to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inuation of above i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mmendation on MC cha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ew preparations for Thursday .15 ful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F2B-434A-4FBD-8347-18762074C3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WPAN Marketing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maintain the application and usage scenarios generated by the CF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formulation of documentation that clearly &amp; distinctly differentiates the purposes and services of the various IEEE WP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issemination of information about IEEE 802.15 Working Group activities internally (among 802 working groups) and externally (among the electronics indus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802.15 task groups in reaching convergence and consensus on technical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how best to promote the public demonstration of interoperability between products built using 802.15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aintain liaisons with other selected industry marketing groups (e.g. Bluetooth, HomeRF) and standards bodies (e.g ET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two-way communications between suppliers and consumers of WPAN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nd foster creation of value-added industry marketing groups as appropriate (e.g. Gigabit Ethernet Alliance, http://www.gigabit-Ethernet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DEB-1A82-4934-A8F4-5DF93BA332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Ian C. Gifford</cp:lastModifiedBy>
  <cp:lastPrinted>1998-02-10T13:28:06Z</cp:lastPrinted>
  <dcterms:modified xsi:type="dcterms:W3CDTF">1999-11-08T23:08:28Z</dcterms:modified>
  <cp:revision>46</cp:revision>
  <dc:subject>IEEE 802.15 Marketing</dc:subject>
  <dc:title>IEEE P802.15 Working Group for Wireless Personal Area Networks</dc:title>
</cp:coreProperties>
</file>