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4B4-B92D-4F9A-8821-AF864AFC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8B1-DCD3-46C6-99F9-3016A23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128-C382-4DB2-A7B8-464EE5DE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B56-D80C-4B63-AC4A-890483A1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DDF-3A4A-47FC-8B05-7E92D51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2DF-4470-40EF-B57B-D58A1D7E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0C8-9FFC-4B79-B39F-559A88CB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DE9-D73C-46CB-BA8B-EE061541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944-BFEB-45CB-A7B6-30C1221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2D0-6CD1-489E-BB79-47E2FE2C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7A1-CB43-4357-9A2A-399A434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952-9005-4341-A00C-E59F427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vid Cypher,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688CC7-604B-4C89-A09C-4DF95C8B2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reference 802.15-99/114.d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, Interoperability and 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clarifications of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3EF-F94F-451E-8DBE-27BD2FB0AF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rmal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9625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65760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048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657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495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895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2514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86000"/>
            <a:ext cx="2362320" cy="30481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286000"/>
            <a:ext cx="2362320" cy="3048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286000"/>
            <a:ext cx="2361960" cy="30481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678-2493-4C50-BB83-A96DDC660D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existence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905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5181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809880"/>
            <a:ext cx="53316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2209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3657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286000"/>
            <a:ext cx="6858000" cy="3505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600200"/>
            <a:ext cx="3962520" cy="37339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1981080"/>
            <a:ext cx="5791320" cy="4191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0C0-3E38-4DDB-9975-57237D7DBE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to finer definitions on coexistence and interoper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performance criteria to evaluate the protocols/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“level of performance” where systems are defined to co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8E5-9C43-43ED-A6FF-F108F0C00E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ireless devices are said to “coexist” if they can be collocated without significantly impacting the performance of any of thes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one system to perform a task in a given (shared) environment where other systems may or may not be using the same set of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21F-474E-4D07-81DC-9332188F3A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te - The ability for two or more systems to exchange information and to mutually use the information that has been ex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- The ability for two systems to perform a given task using a single set of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3C3-9F88-4926-A8B6-1C590DB861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rmance/Conformance Testing/Con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ork/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/Performanc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T, SUT, repeatability,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001-A297-4D04-AE35-E121900C38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2743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280" y="4495680"/>
            <a:ext cx="4493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Conformance Testing (User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nformance Testing (Network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Conformance Testing of NNI (symmetr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a 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b Interworking (UNI to N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Interoperability of TE and Switc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Interoperability of Switch 1 and Switch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324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7432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136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09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474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718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32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2744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6576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516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712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19051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412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098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05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1680" y="1447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80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568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91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184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992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313-BC27-4638-956F-FC46962F5C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324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7432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136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748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9718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20040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15200" y="29718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0440" y="32004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724280"/>
            <a:ext cx="106704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5627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9436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1600" y="5562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EFD-7EB4-4DD2-BD37-A79D8D340E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y (Speech via a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11560" y="276228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24080" y="3581280"/>
            <a:ext cx="381240" cy="3812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362320"/>
            <a:ext cx="2895480" cy="28191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276720"/>
            <a:ext cx="990360" cy="9903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752480"/>
            <a:ext cx="4114800" cy="4038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447920"/>
            <a:ext cx="4724280" cy="46479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05740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97180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2286000" cy="22100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19320"/>
            <a:ext cx="5410440" cy="5181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62D-776B-430D-8A4F-C74CCE45A8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presence of 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828800"/>
            <a:ext cx="4114800" cy="4038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523880"/>
            <a:ext cx="4724280" cy="4648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295280"/>
            <a:ext cx="5410440" cy="5181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66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CFA-E5E7-4C32-B546-8D0CB99B4D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79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24280" y="2743200"/>
            <a:ext cx="2286000" cy="2209680"/>
            <a:chOff x="4724280" y="2743200"/>
            <a:chExt cx="2286000" cy="2209680"/>
          </a:xfrm>
        </p:grpSpPr>
        <p:sp>
          <p:nvSpPr>
            <p:cNvPr id="184" name=""/>
            <p:cNvSpPr/>
            <p:nvPr/>
          </p:nvSpPr>
          <p:spPr>
            <a:xfrm>
              <a:off x="5715000" y="3657240"/>
              <a:ext cx="380880" cy="3808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0080" y="3352680"/>
              <a:ext cx="990720" cy="99000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304776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274320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963-9162-4B3F-A94D-ECA7463F81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David Cypher</cp:lastModifiedBy>
  <cp:lastPrinted>1999-11-03T18:52:39Z</cp:lastPrinted>
  <dcterms:modified xsi:type="dcterms:W3CDTF">1999-11-09T20:56:45Z</dcterms:modified>
  <cp:revision>10</cp:revision>
  <dc:subject/>
  <dc:title>No Slide Title</dc:title>
</cp:coreProperties>
</file>