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28CDF7D-59F9-4313-B419-B1C2A8C80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5D32-9FBD-4355-A434-1B87D6C9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B7F9-A897-4244-9B34-C5694163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B809-AE7E-4A78-9BCE-61769182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EF2A-E8CC-48C4-BD20-727BAE16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7AFD-306A-4077-8A41-7DE8142B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42AE-09FC-4EA0-B6E6-3C277F51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1811-8A4C-4586-AFFC-1E8A4422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5BD9-B51F-469F-85F4-E95AA4CC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E7BC-AA88-4085-A617-AE4D4765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7E25-A060-4F6A-8BA7-D9A8F4BE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8FE3-E568-4900-BCA6-E64669AB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CC2F-FB37-416E-A24E-A50C7CA9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8FEB1B3-1DC8-4EF1-8ABA-654003419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4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ednesday Full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att Regency Kaua'i, 1571 Poipu Road Koloa, HI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6F53-A69A-49AE-B714-2BF85614757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Nov99 the P802.15 Working Group will be comprised of 42 voting memb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ouman Alborz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imitri Alexandro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imon Baatz (Simo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dul Batliwala (Edu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an Bien (Al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Chatschik Bisdiki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ve Carlson (Da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arshal Chhaya (Harsha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m. Caldwell Crossw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illiam Cruz (Bil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Ditch (Rich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Eckard (D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urt Fischer (Kur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atthias Frank (Matthia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an Gifford (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. Nada Golmie (Nad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len Heberling (Alle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obert Heile (Bob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John Paul Jones (Joh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rinivas Kandal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Parviz Kermani (Parviz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tuart Kerry (Stuar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2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Patrick Kinney (Pa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uce P. Kraemer (Bruc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Yunxin Li (Yunx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niel R. McGlyn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chael D. McInnis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kira Miura (Akir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Thomas Müller (Thoma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Peter Murray (Peter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rwin R. Noble (Erw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ke Paczonay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rto Palin (Art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Davis Pan (Davi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van Reede (Iv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Carlos A. Rios (Carlo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ian E. Roan (Br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arlheinz Schwar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tephen J. Shellhamm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Thomas Siep (Tom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Nick Stapleton (N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teve Torp (Ste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Fujio Watanabe (Fuji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3784680"/>
            <a:ext cx="4038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28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9080" y="112680"/>
            <a:ext cx="24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Resignation prior to the LB #1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4B48-B094-4977-B476-3ADB42343FF2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74880" y="1619280"/>
            <a:ext cx="79516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: I move to submit the contents of document IEEE P802-15/D0.6 to Sponsor Ballot [default recirculation ballot]; Draft_0-6.zip, available v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grouper.ieee.org/groups/802/15/private/LB1/LB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31840" y="3643200"/>
            <a:ext cx="1730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an Giff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Tom 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B #1, -99/113r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97360" y="3138480"/>
            <a:ext cx="29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50% (Procedu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2226-B12C-43B5-86A3-F9190E3E818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B #1 Distribution Package [LB1.zip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for WG Letter Ballots of P802.15 in Adobe PDF, -99/112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Standard IEEE v0.6, P802-15/D0.6 in Adobe PDFs, Zip arch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 Ballot #1 of P802.15 in MS Word, -99/113r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for TG1 Editors, -99/060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me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5562720"/>
            <a:ext cx="861048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you can point your Browser and download your f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grouper.ieee.org/groups/802/15/private/LB1/LB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0517-02DA-4F4E-8267-3DE07CC5791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B #1 Distribution Package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 - WG Chair to send LB#1 e-mail announcement w/ LB to .15 Reflector on 11Nov99: stds-802-15@iee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 - TG1 Chair to post LB1.zip and individual files to WG Web site (priv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 - Voters need to vote and comment, if applicable before 10Dec99 11pm 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 - Send Ballot &amp; Comments to WG Chair and Technical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2EBE-6F8A-4F88-AA92-E493720D81E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740560" y="3200400"/>
            <a:ext cx="1498320" cy="762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7796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1040" y="3962520"/>
            <a:ext cx="17017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40160" y="2514600"/>
            <a:ext cx="14983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WG vs. TG1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120" y="129528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ExCom    |    HR     |     MC      |    MC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             |...........|.............|............|    802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      |             |            |  Closing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802     |    TG1    |     SG      |    SG      |  Plenar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SG   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.............|           |.............|. . . . . .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      | Full 802.15 |Full 802.15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 BT-IEEE  |   Social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   ExCom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51CE-1874-4857-B667-069F9FE91C5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Kaua’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8Nov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esday, 9Nov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rsday, 11Nov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737A-6A2D-4CF5-AED1-BA3DF5D10C8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’i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VIDE A MOTION TO SUBMIT THE DRAFT TO WG LETTER BALLO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PROVIDE A MOTION TO REVIEW THE COMMENTS FROM WG LB #1 ON OR BEFORE 10-14JAN00 INTE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ROVIDE AN OVERVIEW OF THE IEEE DRAFT DERIVED FROM THE BLUETOOTH SPECIFICATION(S) &lt;TUTORIAL 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PROVIDE A MOTION TO WG TO INVOKE "OR" STATUS FOR BSIG, IF APPROVED FWD TO SEC AS A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DRAFT TG1 OPERATING RULES AND PROVIDE A MOTION RESULT TO WG, WG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PROVIDE A MOTION TO REPLACE PARVIZ KERMANI WITH CHATSCHIK BISDIK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DA11-FF87-4BC9-96F3-8E59E62186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as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Letter of Intent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1 July 5-9, 1999 Montreal, PQ,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Finalize the Copyright License Agreement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2 September 13-17, 1999 Santa Rosa, CA USA Hilton 802.15 Interim Meet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3 November 8-12, 1999 Kauai, Hawaii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Authorize P802.15 WG LB #1 between the 11Nov99 - 10Dec99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Letter Balloting 11Nov99 - 10Dec99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Process, Consolidate, and Distribute Draft Comments 13-16Dec99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Electronic WG LB #1 Comment Resolution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4 January 10-14, 2000 Tel-Aviv, IL InterContinental, 802.15 Interim Mee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5 March 6-10, 2000 Albuquerque, NM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572000"/>
            <a:ext cx="71629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1E6-AB35-4897-BDD4-86EA88647E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5800" y="5043600"/>
            <a:ext cx="739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rent plan is to have TG1 make a motion to the P802.15 Full W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ing the November Plenary on Wednesday, 10Nov99 to authorize the LB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tart on Thursday, 11Nov99 with the Bluetooth Draft 0.6 Stand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8Nov99" descr=""/>
          <p:cNvPicPr/>
          <p:nvPr/>
        </p:nvPicPr>
        <p:blipFill>
          <a:blip r:embed="rId1"/>
          <a:stretch/>
        </p:blipFill>
        <p:spPr>
          <a:xfrm>
            <a:off x="282600" y="1528920"/>
            <a:ext cx="8556480" cy="3232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81680" y="3200400"/>
            <a:ext cx="762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342864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1440" y="6208560"/>
            <a:ext cx="187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Project6.M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73D6-8FBC-40C7-A315-FDF6C675A91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Monday, 8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3:15pm and processed all of our Agenda Items and adjourned at 3:55pm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ON KERMANI TO BISDIKIAN VC REPLACEMENT - 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FROM TG1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FROM BT-IEEE EDITORIAL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THE DRAFT SUBMISS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A24E-38F8-430F-9FBF-9F014F0AD5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74880" y="1619280"/>
            <a:ext cx="795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 1: I move to replace Parviz Kermani with Chatschik Bisdikian as IEEE P802.15 TG1 Vice Chair.  Forward to W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31480" y="3643200"/>
            <a:ext cx="1991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Tom 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Mike McInn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Vice Ch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97360" y="3138480"/>
            <a:ext cx="29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50% (Procedu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6072-49BC-4AD5-AEB4-3A9C7E96787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uesday, 9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pened our meeting at 10:00am and processed all of our Agenda Items and adjourned at 11:55am.  The key items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D WG MOTION #2 TO SUBMIT DRAFT TO WG LB 10NOV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D WG MOTION #3 TO EMPOWER INTERIM 10-14JAN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D WG LETTER BALLOT #1 DISTRIBUTION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D P802.15.1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WEDNESDAY DRAFT TG1 REPORT TO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F956-457E-4D08-B6B2-40EA07290F7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Motion Schedu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G1 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1 - Vice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G 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2 - LB #1 Comme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3 - Electronic or empower Tel-Aviv for Comment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4 - OR Status for Blue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09480" y="4786200"/>
            <a:ext cx="7925040" cy="471600"/>
            <a:chOff x="609480" y="4786200"/>
            <a:chExt cx="7925040" cy="471600"/>
          </a:xfrm>
        </p:grpSpPr>
        <p:sp>
          <p:nvSpPr>
            <p:cNvPr id="82" name=""/>
            <p:cNvSpPr/>
            <p:nvPr/>
          </p:nvSpPr>
          <p:spPr>
            <a:xfrm>
              <a:off x="609480" y="4786200"/>
              <a:ext cx="7925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9480" y="5257800"/>
              <a:ext cx="7925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09480" y="5862600"/>
            <a:ext cx="7925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438280" y="2286000"/>
            <a:ext cx="5590440" cy="2286000"/>
            <a:chOff x="2438280" y="2286000"/>
            <a:chExt cx="5590440" cy="2286000"/>
          </a:xfrm>
        </p:grpSpPr>
        <p:sp>
          <p:nvSpPr>
            <p:cNvPr id="86" name=""/>
            <p:cNvSpPr/>
            <p:nvPr/>
          </p:nvSpPr>
          <p:spPr>
            <a:xfrm flipH="1">
              <a:off x="2438280" y="3047760"/>
              <a:ext cx="3733920" cy="152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96720" y="2286000"/>
              <a:ext cx="2232000" cy="82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eferral to W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mpower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514240" y="3200400"/>
            <a:ext cx="6369840" cy="2438280"/>
            <a:chOff x="2514240" y="3200400"/>
            <a:chExt cx="6369840" cy="2438280"/>
          </a:xfrm>
        </p:grpSpPr>
        <p:sp>
          <p:nvSpPr>
            <p:cNvPr id="89" name=""/>
            <p:cNvSpPr/>
            <p:nvPr/>
          </p:nvSpPr>
          <p:spPr>
            <a:xfrm flipH="1">
              <a:off x="2514240" y="3429000"/>
              <a:ext cx="5334120" cy="22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52800" y="3200400"/>
              <a:ext cx="13312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rop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8AA5-487B-4F2B-82B7-EE544B22BB0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-99/123</dc:description>
  <dc:language>en-US</dc:language>
  <cp:lastModifiedBy>Ian C. Gifford</cp:lastModifiedBy>
  <cp:lastPrinted>1998-02-10T13:28:06Z</cp:lastPrinted>
  <dcterms:modified xsi:type="dcterms:W3CDTF">1999-11-11T02:39:34Z</dcterms:modified>
  <cp:revision>52</cp:revision>
  <dc:subject>IEEE 802.15 TG1 Report #2</dc:subject>
  <dc:title>IEEE P802.15 Working Group for Wireless Personal Area Networks</dc:title>
</cp:coreProperties>
</file>