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1A0-0CCA-4FF5-A31E-DC062635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06D-709A-4FD3-8DBE-2404D523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821-81E4-421A-8CDA-ED976CA9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682-CDAE-4411-A694-B752DEA9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A55-6EF8-4377-B38A-1216BE50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9FC-45C7-499B-82E4-6938288C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52F-3E4A-4DBB-B115-2DDDC785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C9D-D1EB-4A7B-927A-C733B740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9AD-5BDE-4B44-88BD-6BE6F806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E2B-9A85-4477-91D2-E35B472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FD1-9AAC-4ED9-8C86-365ACCEB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831-E390-49AD-B41E-8891BA3C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DA8D66-6BC2-4870-81BE-21ABD8725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Functional Organization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F7B-8ECF-41EF-9282-CA838476CE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TG1 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be FrameMaker v5.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 in Technical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2200" y="2116080"/>
          <a:ext cx="8491680" cy="16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116080"/>
                    <a:ext cx="849168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553080" y="1600200"/>
            <a:ext cx="1981440" cy="990720"/>
          </a:xfrm>
          <a:prstGeom prst="wedgeRectCallout">
            <a:avLst>
              <a:gd name="adj1" fmla="val -62259"/>
              <a:gd name="adj2" fmla="val 13669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help in wr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MAC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629400" y="4191120"/>
            <a:ext cx="2133720" cy="1218960"/>
          </a:xfrm>
          <a:prstGeom prst="wedgeRectCallout">
            <a:avLst>
              <a:gd name="adj1" fmla="val -48662"/>
              <a:gd name="adj2" fmla="val 10064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HY Lay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ll be  folded into 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yer Editor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67280"/>
            <a:ext cx="8229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want to help please talk to Tom Siep &lt;siep@ti.co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388-AED4-4FC6-838E-4F1E79EE70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802.15 Functional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Functional Organization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-IEEE Editorial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059-C690-48A6-9D1A-C6D562BC1A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720" y="1857240"/>
            <a:ext cx="823608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EAD-6984-4614-9977-98504FB392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16120" y="1522440"/>
          <a:ext cx="756432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522440"/>
                    <a:ext cx="75643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AF3-B09A-497C-BC1C-696A4040C9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480" y="2738520"/>
          <a:ext cx="889308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738520"/>
                    <a:ext cx="88930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098-F81A-4F64-AA85-C9F4BD266D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EA9-C5BF-4513-A666-D5799F7EC4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40120" y="2517840"/>
          <a:ext cx="424368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517840"/>
                    <a:ext cx="424368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72960" y="2516040"/>
          <a:ext cx="3357720" cy="19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960" y="2516040"/>
                    <a:ext cx="3357720" cy="19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9B9-B066-46B5-BE8A-8BEE5DAEB8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51000" y="2066760"/>
          <a:ext cx="663876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2066760"/>
                    <a:ext cx="663876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181480" y="3925800"/>
            <a:ext cx="1051200" cy="2551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38040" y="59245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040" y="552600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049720"/>
            <a:ext cx="80496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64976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24980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5128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4513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295280" y="5029200"/>
            <a:ext cx="1905120" cy="9144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324480" y="3581280"/>
            <a:ext cx="2175120" cy="1719360"/>
            <a:chOff x="6324480" y="3581280"/>
            <a:chExt cx="2175120" cy="1719360"/>
          </a:xfrm>
        </p:grpSpPr>
        <p:sp>
          <p:nvSpPr>
            <p:cNvPr id="81" name=""/>
            <p:cNvSpPr/>
            <p:nvPr/>
          </p:nvSpPr>
          <p:spPr>
            <a:xfrm>
              <a:off x="6324480" y="3581280"/>
              <a:ext cx="2175120" cy="1719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24800" y="3868920"/>
              <a:ext cx="16174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A Radio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B Baseband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C Link Manager Proto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D L2CA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Bluetooth%20logo%20(tm)" descr=""/>
          <p:cNvPicPr/>
          <p:nvPr/>
        </p:nvPicPr>
        <p:blipFill>
          <a:blip r:embed="rId4"/>
          <a:stretch/>
        </p:blipFill>
        <p:spPr>
          <a:xfrm>
            <a:off x="5959440" y="5791320"/>
            <a:ext cx="265104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B0A-C419-4D57-945E-8909E9C274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Thoughts on Tim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743200"/>
          <a:ext cx="849780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849780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7F1-A540-4173-A681-397C8209D9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3:26:07Z</dcterms:created>
  <dc:creator>Tom Siep</dc:creator>
  <dc:description>075r0</dc:description>
  <dc:language>en-US</dc:language>
  <cp:lastModifiedBy>Tom Siep</cp:lastModifiedBy>
  <cp:lastPrinted>1998-02-10T13:28:06Z</cp:lastPrinted>
  <dcterms:modified xsi:type="dcterms:W3CDTF">1999-09-14T20:09:30Z</dcterms:modified>
  <cp:revision>11</cp:revision>
  <dc:subject>IEEE 802.15 Functional Organization/Recruitment</dc:subject>
  <dc:title>IEEE P802.15 Working Group for Wireless Personal Area Networks</dc:title>
</cp:coreProperties>
</file>