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052-F71E-4BBE-94D7-87DDBB8A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66E-B6FB-42A1-B9C2-F2241319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190-3D78-45A2-B28C-67006876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844-FBA6-4DC2-91B2-79653A44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3FC-DC43-4DB6-A40F-4B03207B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535-529D-488B-AABA-6B6E30BF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313-AB39-49BA-9F3A-B3603A19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E54-2668-4DDD-9082-98D7503C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647-F015-43FF-B2AB-91BB4DD7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07D-4679-4FA6-8F91-98B054B3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363-0D12-40F2-9032-42DE624E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C6A-D513-4FF1-92A9-339975AD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E3DBC0-0F9A-4B9A-9382-EFE2B1724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gs to Vot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 Slate of Officers-Term is through 802 Plenary Meeting, March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802.11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to develop recommended Marketing Activities for the W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a position relative to NPRM on WB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090-763F-417A-9F4C-B3C3C03BE6F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9960" y="23814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9920" y="41148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52B-3AF1-4A4A-BB46-A0EE38B5161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A9C-B93E-4FDB-B415-635AF3B555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5920" y="6132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99/031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389-4A91-4791-BE02-8BBCBEF5FD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BA4-A974-4DC8-A023-9FCC895239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051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Marketing Committee to implement recommendations in Doc #99/031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124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f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1FE-5570-4154-B911-F29B99AB79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47000" y="1843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238-3067-4DFD-BCE8-F4F5B48AD2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D3C-26A6-4AA9-BDAE-CF592DF9F7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2F8-CD6B-4D9B-8661-B5427B8752C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572-52AD-44B3-8C07-E7FC7A4873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egulatory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6B0-DA23-4841-84EF-C494A6C17DA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1480" y="3643200"/>
            <a:ext cx="149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A80-1EA5-4FCC-BE00-F250691A00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2C0-F860-43D7-AD20-7327E13CAD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133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 of Grou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8195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existence/Interoperabil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PAR defining work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720-34B1-4042-B0A7-1A11C9092C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81080"/>
            <a:ext cx="763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800" y="4038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600" y="46483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ED0-C6C8-4878-BD0A-438D53677AD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13T13:00:44Z</dcterms:modified>
  <cp:revision>54</cp:revision>
  <dc:subject>IEEE 802.15 Marketing</dc:subject>
  <dc:title>IEEE P802.15 Working Group for Wireless Personal Area Networks</dc:title>
</cp:coreProperties>
</file>