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7C5D37-239D-49B8-A717-6E147B8D8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1E1-04F3-42B9-84D0-B26E7843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8AA-81C8-424A-9D9A-21520BF2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337-178C-47F5-86F7-7EBF7060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45C-8414-4191-AD0C-96B618BC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86E-6E53-4933-8698-89F7E569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57C-85F4-4DB8-B51F-FF944D1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5E9-47C5-4F6C-89ED-B5715AD8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008-7971-4A55-AC1E-FD00B9D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68F-AB04-40B3-A6C0-CCFDE395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097-4FB1-49E6-A6E6-45635BC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24E-D9E2-4B9D-AD4D-943BA5BE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A75-0C40-4E54-A4AA-8270F05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DC4094-602C-4D44-BAD9-5D935344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C3E-9244-447C-93F2-8A22C8AB901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2B1-A3A5-4400-A213-90F9E83859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1D0-D363-4979-B7D8-CA5D17EE5D5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277-39C3-4267-B3ED-E6C93615C8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C8E-7DF8-4CDB-919C-9511E4D0CD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DDB-A658-4838-AC04-4273E34944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48D-236A-4FBE-A04B-48B19B827C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093-97FF-42C5-996D-3CAD49CAC9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326-503D-4993-8F26-BCD2601F7A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9D1-7515-410F-AACF-9AF61AB45F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393-89C7-4E8F-9B4C-B0228CD09DFA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89E-859E-43F7-9190-58B77867F6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2FB-373F-4FA4-9F19-A5A149A84D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844-634C-42ED-8347-A5963F4286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FED-B87A-48C5-8AEA-310A1150B7E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73A-D54F-4834-9D83-9478E14760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F16-7102-4BE5-AB50-2E4FEF6BF8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648-2428-492D-83F2-98278258AA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1AD-24A9-444F-9E2F-3C0FB90C9A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AC1-92B9-4DB4-952D-ED9184E2BB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08T23:08:38Z</dcterms:modified>
  <cp:revision>44</cp:revision>
  <dc:subject>IEEE 802.15 TG1 Report #2</dc:subject>
  <dc:title>IEEE P802.15 Working Group for Wireless Personal Area Networks</dc:title>
</cp:coreProperties>
</file>