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058-EF9D-427E-BC8C-6E0CD050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10B-ADC5-4B8E-B7A7-9BC5EAD2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220-1916-42D2-A412-B9FBB0A5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A5B-C22A-45F8-BD1D-A600E230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4F1-8426-42F7-BE4C-D33E40D0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A55-FEDD-49CE-98CB-227979CD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155-A979-424B-879E-252561E9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E9C-A91A-4C13-9932-CAD6303B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39E-BB1C-430D-B022-5DF826A1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E1C-8046-420C-837C-4CB4203A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07D-BAF7-4EE1-ADE8-D3F2799D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004-91CC-434E-92C8-063AA767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04EAA35-7A3A-41CD-81D9-C4874A011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3716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Coordinatio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681-1701-4D82-A142-04387379848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SIG Functiona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Draf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447-DE50-4B4A-9FDC-E95CB1615D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20720" y="1996920"/>
          <a:ext cx="59230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6920"/>
                    <a:ext cx="5923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C45-D20D-45FF-852A-3DF681C039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Bluetooth SIG is set 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5680" y="2529000"/>
            <a:ext cx="8456040" cy="3174840"/>
            <a:chOff x="535680" y="2529000"/>
            <a:chExt cx="8456040" cy="3174840"/>
          </a:xfrm>
        </p:grpSpPr>
        <p:sp>
          <p:nvSpPr>
            <p:cNvPr id="54" name=""/>
            <p:cNvSpPr/>
            <p:nvPr/>
          </p:nvSpPr>
          <p:spPr>
            <a:xfrm>
              <a:off x="838080" y="3124080"/>
              <a:ext cx="2895840" cy="167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locking IPR’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ross Licens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1520" y="252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36080" y="49528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59760" y="252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5680" y="4952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24280" y="3124080"/>
              <a:ext cx="2286000" cy="15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6640" y="457200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QR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Bluetooth%20logo%20(tm)" descr=""/>
            <p:cNvPicPr/>
            <p:nvPr/>
          </p:nvPicPr>
          <p:blipFill>
            <a:blip r:embed="rId1"/>
            <a:stretch/>
          </p:blipFill>
          <p:spPr>
            <a:xfrm>
              <a:off x="7227720" y="3583080"/>
              <a:ext cx="176400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09880" y="38862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6480" y="5335560"/>
              <a:ext cx="23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ricted to Bluetoo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523880" y="4495680"/>
              <a:ext cx="4572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81480" y="35719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99/0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063-531E-4064-ACAC-0C5D0BB6D0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BSIG should perceive the IEEE Process of Sub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Program Management will review their derived Draft; this takes two (2)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pproved the Draft will be submitted to the TG1 for thei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3124080"/>
            <a:ext cx="5715000" cy="2921040"/>
            <a:chOff x="3352680" y="3124080"/>
            <a:chExt cx="5715000" cy="2921040"/>
          </a:xfrm>
        </p:grpSpPr>
        <p:sp>
          <p:nvSpPr>
            <p:cNvPr id="69" name=""/>
            <p:cNvSpPr/>
            <p:nvPr/>
          </p:nvSpPr>
          <p:spPr>
            <a:xfrm flipV="1">
              <a:off x="6667200" y="433008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08600" y="335268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876560" y="449568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0760" y="373356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360" y="426708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6560" y="554976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1880" y="539712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509256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43240" y="373356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360" y="472428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45240" y="539712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680" y="358128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4360" y="342864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9080" y="6045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8508600" y="403812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Bluetooth%20logo%20(tm)" descr=""/>
            <p:cNvPicPr/>
            <p:nvPr/>
          </p:nvPicPr>
          <p:blipFill>
            <a:blip r:embed="rId1"/>
            <a:stretch/>
          </p:blipFill>
          <p:spPr>
            <a:xfrm>
              <a:off x="5410080" y="316044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24680" y="312408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417-D111-4ED9-9130-FEE7815299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92120" y="2514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1520" y="1803240"/>
            <a:ext cx="3733920" cy="4572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 Process w/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686480"/>
            <a:ext cx="4648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4660920"/>
            <a:ext cx="152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21193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33720" y="290844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6365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eee-ntw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762120" cy="657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276720" y="1765440"/>
            <a:ext cx="5715000" cy="2921040"/>
            <a:chOff x="3276720" y="1765440"/>
            <a:chExt cx="5715000" cy="2921040"/>
          </a:xfrm>
        </p:grpSpPr>
        <p:sp>
          <p:nvSpPr>
            <p:cNvPr id="97" name=""/>
            <p:cNvSpPr/>
            <p:nvPr/>
          </p:nvSpPr>
          <p:spPr>
            <a:xfrm flipV="1">
              <a:off x="6591240" y="297144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2640" y="199404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800600" y="313704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237492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290844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0600" y="419112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920" y="403848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9920" y="373392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237492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336564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9280" y="403848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222264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8400" y="207000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3120" y="468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432640" y="267948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Bluetooth%20logo%20(tm)" descr=""/>
            <p:cNvPicPr/>
            <p:nvPr/>
          </p:nvPicPr>
          <p:blipFill>
            <a:blip r:embed="rId4"/>
            <a:stretch/>
          </p:blipFill>
          <p:spPr>
            <a:xfrm>
              <a:off x="5334120" y="180180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848720" y="176544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C29-2C93-4559-B586-A6461AA659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to follow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E61-C79C-4FA2-BFB5-4DD54DC99F9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663-94F8-4582-8DBF-6E07FA89A5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4:06:10Z</dcterms:created>
  <dc:creator>Ian C. Gifford</dc:creator>
  <dc:description>079r0</dc:description>
  <dc:language>en-US</dc:language>
  <cp:lastModifiedBy>Ian C. Gifford</cp:lastModifiedBy>
  <cp:lastPrinted>1998-02-10T13:28:06Z</cp:lastPrinted>
  <dcterms:modified xsi:type="dcterms:W3CDTF">1999-09-15T14:53:31Z</dcterms:modified>
  <cp:revision>8</cp:revision>
  <dc:subject>IEEE 802.15 Planning</dc:subject>
  <dc:title>Bluetooth Coordination Planning</dc:title>
</cp:coreProperties>
</file>