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2AE5AF-12E2-4371-A7B8-B8199E80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2D0-A29F-4487-938A-FE3A4D6F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608-AAAB-4D43-80D3-0A308E7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D1A-6604-4C2F-A2E4-CFD2DCA0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476-6AED-45AD-9CC2-FDA284E5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765-C229-4343-8594-AAE4CD5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87A-8DD3-4248-9106-09ACD598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6B3-EA43-4C86-8D27-BB585AE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C88-BAF7-4192-A53E-76D900F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8F6-B78E-4372-B64F-3DA1AFCC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040-44CB-433B-B09B-A670B8D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D73-5B84-4488-8CE6-828BFE6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5F6-1477-48B9-8735-4C824DE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271372-0D07-486E-B49A-9E60CA3A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921-8321-410A-942F-BBF1559321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C3A-778B-423E-837D-4E0FE1E90B9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4880" y="1619280"/>
            <a:ext cx="7951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I move to submit the contents of document IEEE P802-15/D0.6 to Sponsor Ballot [default recirculation ballot]; Draft_0-6.zip, available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840" y="3643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, -99/113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11D-29E0-4852-8559-391FEBCE28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4DD-DF0F-4FDD-8C04-809D17C7FE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WG Chair to send LB#1 e-mail announcement w/ LB to .15 Reflector on 11Nov99: stds-802-15@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TG1 Chair to post LB1.zip and individual files to WG Web site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Voters need to vote and comment, if applicable before 10Dec99 11pm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- Send Ballot &amp; Comments to WG Chair and Techn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88A-1D23-406E-AC8B-C64F9CCF28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B99-4B5B-4298-A4C1-5884761E34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E40-2800-48AD-8ED1-45BBB9723F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81E-D890-4416-B141-7EDDDBD618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4A5-2508-497C-91B2-6C1762BFD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765-9833-4387-ACEF-2ED0516C12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003-4174-4993-9B46-8C34DEBDF5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1: I move to replace Parviz Kermani with Chatschik Bisdikian as IEEE P802.15 TG1 Vice Chair.  Forward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1480" y="3643200"/>
            <a:ext cx="199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Mike McIn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Vice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885-EF8C-41D1-B441-14374BA4F99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C8E-C241-45E6-9494-2DC848CC2C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4786200"/>
            <a:ext cx="7925040" cy="471600"/>
            <a:chOff x="609480" y="4786200"/>
            <a:chExt cx="7925040" cy="471600"/>
          </a:xfrm>
        </p:grpSpPr>
        <p:sp>
          <p:nvSpPr>
            <p:cNvPr id="82" name=""/>
            <p:cNvSpPr/>
            <p:nvPr/>
          </p:nvSpPr>
          <p:spPr>
            <a:xfrm>
              <a:off x="609480" y="47862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52578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862600"/>
            <a:ext cx="792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38280" y="2286000"/>
            <a:ext cx="5590440" cy="2286000"/>
            <a:chOff x="2438280" y="2286000"/>
            <a:chExt cx="5590440" cy="2286000"/>
          </a:xfrm>
        </p:grpSpPr>
        <p:sp>
          <p:nvSpPr>
            <p:cNvPr id="86" name=""/>
            <p:cNvSpPr/>
            <p:nvPr/>
          </p:nvSpPr>
          <p:spPr>
            <a:xfrm flipH="1">
              <a:off x="2438280" y="3047760"/>
              <a:ext cx="37339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6720" y="2286000"/>
              <a:ext cx="22320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ferral to W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14240" y="3200400"/>
            <a:ext cx="6369840" cy="2438280"/>
            <a:chOff x="2514240" y="3200400"/>
            <a:chExt cx="6369840" cy="2438280"/>
          </a:xfrm>
        </p:grpSpPr>
        <p:sp>
          <p:nvSpPr>
            <p:cNvPr id="89" name=""/>
            <p:cNvSpPr/>
            <p:nvPr/>
          </p:nvSpPr>
          <p:spPr>
            <a:xfrm flipH="1">
              <a:off x="2514240" y="3429000"/>
              <a:ext cx="533412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52800" y="3200400"/>
              <a:ext cx="1331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A7C-F601-44B3-8FF8-1FC4AC6398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1T02:39:34Z</dcterms:modified>
  <cp:revision>52</cp:revision>
  <dc:subject>IEEE 802.15 TG1 Report #2</dc:subject>
  <dc:title>IEEE P802.15 Working Group for Wireless Personal Area Networks</dc:title>
</cp:coreProperties>
</file>