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86FF-E30F-44BD-836E-45D8B3B17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6C2F-CCA3-4388-8518-C4B0E35C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5F94-A23B-4F64-94D8-5A426839C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4631-BCFB-4834-A56B-2FC3A9561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E02A-F305-42CF-8553-0DB39F99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76B8-169D-4ABC-A898-3050D4C8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B709-4A24-4F25-A396-073FB911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4203-3356-462B-8FF5-50FFB335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8F0E-95D9-4C51-A209-40A60E29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AA9A-AEA8-4DE5-B47E-856FBC8A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808C-A01F-4A27-A451-F73D9F28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5E45-2EDC-4597-A89D-85B9F505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F5155D1-0A71-4776-AC33-16D1A3E21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142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 Committe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ua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 11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310B-978B-4C42-B058-76542EFC927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87880" y="563400"/>
            <a:ext cx="7675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genda-Thursday, November 11, 1999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8:30 - 10:00 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Meeting to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 upon action items for Ad-hoc Membership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membership into sub-committ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discussion leader/secre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to main room for reports from sub-committ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Busines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 and Ian Gifford, M/A-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1C1F-0A1F-41C7-99AC-FA626DC308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ursday Marketing Work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123920"/>
            <a:ext cx="8610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Topics will be discussed in Grand 5 meeting room from 8:45 to 9: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Provide a Position Paper to the IEEE on the TG1 perceived Publishing Procedure for a Joint Standard,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raft by Janu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List of suggested “Marketing Material” to support the IEEE Draft e.g., Handbook, Companion, Pocket Guides, etc. ,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efinitions, audience, content, format, commercial pubs; draft by Janu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) Determine if there are other SDO’s that might also be interested in paralleling the TG1 work, if ETSI remains undecided.;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rainst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) Trademark “WPAN” , protect URL;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enerate l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)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 website;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Suggest website ed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opic will be discussed in Garden Isle Lounge from 8:45 to 9: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Support High Rate effort ;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rainsto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s reconvene in Grand 5 from 9:45 to 10:00 to consolidate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 and Ian Gifford, M/A-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89A2-B422-47A0-88C3-473593BFE0FF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838080"/>
            <a:ext cx="8686800" cy="56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Provide a Position Paper to the IEEE on the TG1 perceived Publishing Procedure for a Joint Standar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an Gifford will prepare the initial draft and distribute via the reflector. Further discussion will be scheduled for the January interim mee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) List of suggested “Marketing Material” to support the IEEE Draft e.g., Handbook, Companion, Pocket Guides, et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ia liaison letter through WG to BT SIG, request starting material from BT SIG that could be used in an introductory document to complement the standa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search commercial companion publications that might be avail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egin preparing tutorial material for the Exco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) Determine if there are other SDO’s that might also be interested in paralleling the TG1 work, if ETSI remains undecid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1. Pursue resoution within ETSI as best altern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2. Explore completion of standard within IE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3. As a back up, consider using IETF but don’t pursue immediately, wait to see how previous two options evol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) Trademark “WPAN” 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dd other key terms and  UR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)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ain web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se website more extensively to post status and solicit feed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opic will be discussed in Garden Isle Lounge from 8:45 to 9: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) Support High Rate effor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dd to reflector; Generate press release; Details Contained in doc:IEEE802.15-99145r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82560" y="533520"/>
            <a:ext cx="32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of Discu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 and Ian Gifford, M/A-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8F1E-5533-43A2-A260-9FB2739AFBC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16:56:24Z</dcterms:created>
  <dc:creator>Ian Gifford, M/A-COM &amp; Bruce Kraemer, Harris</dc:creator>
  <dc:description>031r1</dc:description>
  <dc:language>en-US</dc:language>
  <cp:lastModifiedBy>Bruce Kraemer</cp:lastModifiedBy>
  <cp:lastPrinted>1998-02-10T13:28:06Z</cp:lastPrinted>
  <dcterms:modified xsi:type="dcterms:W3CDTF">1999-11-11T23:08:33Z</dcterms:modified>
  <cp:revision>81</cp:revision>
  <dc:subject>IEEE 802.15 Marketing</dc:subject>
  <dc:title>IEEE P802.15 Working Group for Wireless Personal Area Networks</dc:title>
</cp:coreProperties>
</file>