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A6F4-EF2F-4981-92B7-A7D49978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B894-37A3-462F-A4B4-60225A85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586D-C1ED-4EE3-8260-6CD44091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017D-89A0-4CCE-861E-7FDD2319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7C43-3A5E-4E54-95FE-11270A63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F75B-C546-428C-B21D-F139BF3D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A955-86E8-42D5-8F73-AFA4F730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B6B0-C08D-4560-89D0-C5B80429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2AAA-C574-4B1B-97C9-F378891C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D6D-1169-4A3A-B252-3DBEDB91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3435-8E15-4187-B73E-AACE3AAA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77E4-866E-48B2-ADFF-04FC10F3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932B-EF45-4316-9E3C-B7973532D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371520"/>
            <a:ext cx="7696080" cy="61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2948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585720"/>
            <a:ext cx="822960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617400"/>
            <a:ext cx="822960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19:14:15Z</dcterms:created>
  <dc:creator>Ivan Reede</dc:creator>
  <dc:description/>
  <dc:language>en-US</dc:language>
  <cp:lastModifiedBy>Ivan Reede</cp:lastModifiedBy>
  <dcterms:modified xsi:type="dcterms:W3CDTF">1999-07-07T19:47:33Z</dcterms:modified>
  <cp:revision>1</cp:revision>
  <dc:subject/>
  <dc:title>No Slide Title</dc:title>
</cp:coreProperties>
</file>