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759892D-D935-4D25-949C-392B58E58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053-CFF4-4B3F-A3AD-4AAFF982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136-576F-4DE3-898D-610AB71D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EFD-993A-4963-BA34-8D30F4C6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016-143C-4AFA-921E-B1661CA4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D61-3E00-416B-8A51-3C936D60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B34-FC79-4381-8C03-9D384A53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FDF-FAAC-4315-BC1B-1DE22963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A65-AAD1-4066-B43B-F91FD4CC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052-42C7-4CA9-8C5B-C5FD8F09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282-838C-47B4-BA47-B0063791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9781-3AA2-4999-9D0B-E86749F3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55A2-C8D7-47E7-A752-5C842B61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A85E3BB-2276-47C4-A4ED-68A00B4F5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64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008-9361-4C3C-9A53-E4A639D8A87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1 Timeline - Plan A &amp;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Mont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TG1 activities from 9Jul99 to 13Sep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Santa R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498-B6B7-4A3A-B038-4DEF4E2AE2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Timeline - Plan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60Ka" descr=""/>
          <p:cNvPicPr/>
          <p:nvPr/>
        </p:nvPicPr>
        <p:blipFill>
          <a:blip r:embed="rId1"/>
          <a:stretch/>
        </p:blipFill>
        <p:spPr>
          <a:xfrm>
            <a:off x="77760" y="2076480"/>
            <a:ext cx="8977320" cy="2643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4114800"/>
            <a:ext cx="6858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52480" y="419112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3320" y="5133960"/>
            <a:ext cx="828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1.4.2.2 Voting by Letter Ballots... The [WG] letter ballot response time must be at least forty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the time of “sending” postmark to the postmark of the returned bal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CC13-0678-4FC9-89CE-7A8A0401A6B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Timeline - Plan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30Kb" descr=""/>
          <p:cNvPicPr/>
          <p:nvPr/>
        </p:nvPicPr>
        <p:blipFill>
          <a:blip r:embed="rId1"/>
          <a:stretch/>
        </p:blipFill>
        <p:spPr>
          <a:xfrm>
            <a:off x="101520" y="2076480"/>
            <a:ext cx="8931240" cy="270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48040" y="4165560"/>
            <a:ext cx="6858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895480" y="426708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2360" y="5130720"/>
            <a:ext cx="721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would like to consider a rapid turn around on the Letter Ballot e.g., 14 vs. 40 d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FDE-FF62-4F79-A5E6-9B6A3A21F6A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tre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anks to your spirited involvement, it was quite a successful kick-off meeting. Over 60 people attended the meeting.  39 achieved voting status...and we formed a Task Group, headed by Ian Gifford, to begin the work of rapidly developing our first draft standard.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b H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3CC-ABD6-40DF-A7C2-16A27DD40A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TG1 activities from 9Jul99 to 13Sep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effort driven work in TG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d contact w/ Bluetooth-IEEE Editorial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d in IEEE/ETSI/Bluetooth Liaison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d submissions for Santa R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AC during weekly tele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A0FE-9A90-4C35-8228-4E837942DF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KICK OFF WORK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OTE ON REMAINING TG1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VIDE AN OVERVIEW OF THE BLUETOOTH SPECIFIC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LAN FOR or OVERVIEW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343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D97-A69F-486D-A53C-AF1CC8ABFC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nty-four (24)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(6) Bluetooth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ing an Interim Conference Tutorial on Tuesday 14Sep99 from 6:30 to 9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 detailed overview of the “Mapping the Bluetooth Specification to IEEE 802.15.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9313-277E-422D-80DB-FEB2E40B49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5428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16120" y="1968480"/>
            <a:ext cx="2463840" cy="1219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16520" y="2514600"/>
            <a:ext cx="1575000" cy="214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41680" y="3200400"/>
            <a:ext cx="71100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27000" y="4216320"/>
            <a:ext cx="170208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560" y="131436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TG1   ! SG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       !     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!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 !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TG1 ! SG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!     |.............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!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34B-842B-47D5-8334-43509EA2896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064r1</dc:description>
  <dc:language>en-US</dc:language>
  <cp:lastModifiedBy>Ian C. Gifford</cp:lastModifiedBy>
  <cp:lastPrinted>1998-02-10T13:28:06Z</cp:lastPrinted>
  <dcterms:modified xsi:type="dcterms:W3CDTF">1999-09-13T02:40:44Z</dcterms:modified>
  <cp:revision>12</cp:revision>
  <dc:subject>IEEE 802.15 TG1 Report #1</dc:subject>
  <dc:title>IEEE P802.15 Working Group for Wireless Personal Area Networks</dc:title>
</cp:coreProperties>
</file>