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2FF4C-F82C-430C-9552-1D54ED1CB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6E6A-14E0-4F71-A3FD-EC42B6329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9474B-FB13-44D5-B0D1-848850B1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C67F4-D658-4601-B790-54F8C5A6B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D703C-A613-409D-9E2E-0E43DEF0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1605-0EBC-444E-9F2E-E218A38D7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03557-4DFE-41EB-978E-F7AA49D56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21C3-8536-4AFB-AEAF-466E72E9D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416AC-E28C-4318-9E21-074D74CB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C34E-D217-479C-AB3F-57EA2835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BCFE-B9EC-4784-990A-AED6A2BB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791C-B6F2-4630-8C21-8E00CBA19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A9A702-01AD-4A32-B45E-C8449F487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a:t>
            </a: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802.15 WPAN High Rate Study Group ad hoc marketing meet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00 Dewey Avenue, M.C. 01829, Rochester, New York 14650-182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588-6322], E-Mail:[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f this is a proposed revision, cite the original documen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ed 802.15 WPAN High Rate Study Group ad hoc marketing meeting summ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his document is intended to provide a summary of the ad hoc marketing committee meeting which took place November, 11, 1999 coincident with the morning session of the 802.15 MC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93D62C7-126F-49BB-B02A-223E89493BF7}"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rketing audience targets</a:t>
            </a:r>
            <a:endParaRPr b="0" lang="en-US" sz="32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pplications</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and academic institu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C0EE9FD-B08F-47BC-9767-5148FCEF8A5E}"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ing strategy/message for each target audien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message</a:t>
            </a:r>
            <a:endParaRPr b="0" lang="en-US" sz="24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EEE</a:t>
            </a:r>
            <a:endParaRPr b="0" lang="en-US" sz="24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aisons into marketing audience targets</a:t>
            </a:r>
            <a:endParaRPr b="0" lang="en-US" sz="28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fferential value-added application spa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 from marketing targets</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0659158-E417-4A0E-999C-ADF3D084498E}"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arketing requirement specification document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velop press releases with 802.15</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brand identity for High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2AB6A3F-0446-4D5E-B30B-81F938789C1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00:30:20Z</dcterms:created>
  <dc:creator>Rick Alfvin</dc:creator>
  <dc:description>&lt;doc#&gt;</dc:description>
  <dc:language>en-US</dc:language>
  <cp:lastModifiedBy>Rick Alfvin</cp:lastModifiedBy>
  <cp:lastPrinted>1998-02-10T13:28:06Z</cp:lastPrinted>
  <dcterms:modified xsi:type="dcterms:W3CDTF">1999-11-12T00:55:32Z</dcterms:modified>
  <cp:revision>2</cp:revision>
  <dc:subject>IEEE 802.15 &lt;subject&gt;</dc:subject>
  <dc:title>No Slide Title</dc:title>
</cp:coreProperties>
</file>