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004-4288-4D09-AA44-3D2A5126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5D5-14C6-4647-B470-16BCBDB2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E47-C192-4825-929D-19DB8CBF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22E-4E3D-46BB-B5E8-6279A030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19A-DBD6-441E-B8AC-31935EE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EF1-D298-4CD6-9CB3-EBE1D6EC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554-26AC-43B7-A143-1F9BFB28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D0B-D7D7-4A74-8EB9-50B5945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6CA-5214-4275-9821-DD8A2A31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1CD-761D-414C-8BC7-87041E8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C76-0949-4042-9097-A86E58B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92A-3A4E-4287-A908-2EF2EA6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4EB251-B327-49C5-BB60-5B9B57519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0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500-2C5E-4D6D-86CE-8DCB8A0467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Market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MC Purpose, Objectives and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Plans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Marcom campa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 marketing of 802.15 with Bluetooth 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Position paper to the IEEE on the proposed Publishing procedure for a TG1 Join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 “Marketing Material” to support the IEEE Draft, e.g., Handbook, Companion, Pocket Guid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liaison with ETSI but also determine if there are alternate SDO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relevant “WPAN” terms and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joint 802 and BT Press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High R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400" y="5791320"/>
            <a:ext cx="63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quested membership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6D5-755B-4D75-AFB4-EFC537C2D6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2920" y="990720"/>
            <a:ext cx="877248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charter of the 802.15 Marketing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xtended to the March’00 Plen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281952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802.15 request the IEEE  to immediately proceed with tradem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 of WPAN and WP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469584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802.15 Executive Committee be empowered to  proceed with additional trademark and URL registration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AD6-2A49-4FB6-9067-E0580FA4296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0T22:59:31Z</dcterms:modified>
  <cp:revision>82</cp:revision>
  <dc:subject>IEEE 802.15 Marketing</dc:subject>
  <dc:title>IEEE P802.15 Working Group for Wireless Personal Area Networks</dc:title>
</cp:coreProperties>
</file>