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054AF8-94A0-4830-A432-190D7EBD3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C22-19FE-4F12-92AB-8056D61C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100-2258-4099-9B7D-D1BC82C6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7C8-9CBA-4BB7-8C06-4BDB0BDF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24C-7A65-4494-869F-99062514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C17-B165-4E1D-B7DC-2A0C2A96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2DA-AB57-4951-8EA9-CF3A8190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38A-3A05-4F7B-AB60-60AEE836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00E-F47F-4B71-BE97-5141B41A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A3B-E52C-4102-A086-9DB7E79C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187-BABD-460F-9F90-A8F93696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EAE-3937-4B14-8989-1D0C8524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00C-FB8A-469E-AC35-01A4F70C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C932C2-29C4-4DA6-80F5-3CB14EE3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D4C-EA0A-4723-9268-6783826936F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137-41E4-4A20-96DE-58FDDEB76E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7184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34080" y="2514600"/>
            <a:ext cx="157464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8880" y="3200400"/>
            <a:ext cx="7113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56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2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B20-C560-4FB0-B5C3-3B774068A03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740560" y="2514600"/>
            <a:ext cx="157464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1981080"/>
            <a:ext cx="1676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104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0160" y="1981080"/>
            <a:ext cx="1498320" cy="175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...........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C55-A14B-46AC-9807-9D4908AE58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B #1 Comment Resolution (W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4160" y="247644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DFE-E9F6-4A66-AA86-A6E4553F1F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TG1 Tasks (Mon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4160" y="175248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CE2-977B-4551-9837-BDC26E2B4B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13Sep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14Sep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for Santa R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F42-3B91-466C-BEBD-1EF88C13C4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asks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429264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056-8CAE-4536-A2D0-AD0C2116AD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imeline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5Ka" descr=""/>
          <p:cNvPicPr/>
          <p:nvPr/>
        </p:nvPicPr>
        <p:blipFill>
          <a:blip r:embed="rId1"/>
          <a:stretch/>
        </p:blipFill>
        <p:spPr>
          <a:xfrm>
            <a:off x="63360" y="1819440"/>
            <a:ext cx="9004320" cy="28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64240" y="3314880"/>
            <a:ext cx="762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7960" y="50436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had an offline discussion with Vic Hayes Tuesday, 14Sep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elp us understand the WG LB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CE3-0361-4E8F-BA94-3F6785DEAA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13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4:15pm and processed all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WG &amp; SPONSOR BALLOT R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A89-9E55-4920-B857-FF0B0E1F6D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8:32am and processed most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BLUETOOTH SYSTEM (Morning &amp; Ev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LUETOOTH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1 MILESTONE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WG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AD4-A5CD-46EF-9315-13C90FB652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edn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8:33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FUNCTION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RESOURCE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FOR SPONSOR BALLOT -99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802 COORDINATION -99/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BLUETOOTH COORDINATION -99/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ETSI COORDINATION -99/[8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INITIAL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NEXT STEP WIT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AND APPROVED WEDNES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257800"/>
            <a:ext cx="22100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120" y="26114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 siep@ti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1D0-9DA6-41D9-9CC9-0F060B0246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Draft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EA0-68E4-47D6-B29E-9C7F5D348BD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9D7-BDB2-4BC3-A13E-249CFBB423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81r0</dc:description>
  <dc:language>en-US</dc:language>
  <cp:lastModifiedBy>Bridget Labrode</cp:lastModifiedBy>
  <cp:lastPrinted>1998-02-10T13:28:06Z</cp:lastPrinted>
  <dcterms:modified xsi:type="dcterms:W3CDTF">1999-09-15T23:04:25Z</dcterms:modified>
  <cp:revision>20</cp:revision>
  <dc:subject>IEEE 802.15 TG1 Report #2</dc:subject>
  <dc:title>IEEE P802.15 Working Group for Wireless Personal Area Networks</dc:title>
</cp:coreProperties>
</file>