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6C2D9-8073-4363-882F-84C50CC2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6D099-C5EB-43A8-9DC9-BAF0841F7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C49A8-C24A-4103-8597-6BA755D4E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5BBA-6672-4B37-B3DA-9BD443FE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0BB25-4290-4704-8F6E-4D058103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E16E-9801-4A4D-9CDA-49240369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35E5-E3A8-46BA-B53B-99690A45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4C35-88CF-48FB-9929-CF198C072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19977-AFF0-4F58-B32F-933358E8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DCD9-629B-4B38-AD43-EC37E667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4DE7-ABB0-4DE1-B3A6-6A4E5E16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5B3E-7971-4DD0-9034-0627DA364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B72EBD-8AEB-4115-97FD-9794F3F87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999 Montreal</a:t>
            </a:r>
            <a:endParaRPr b="0" lang="en-US" sz="3200" spc="-1" strike="noStrike">
              <a:solidFill>
                <a:srgbClr val="000000"/>
              </a:solidFill>
              <a:latin typeface="Times New Roman"/>
            </a:endParaRPr>
          </a:p>
        </p:txBody>
      </p:sp>
      <p:sp>
        <p:nvSpPr>
          <p:cNvPr id="47" name=""/>
          <p:cNvSpPr/>
          <p:nvPr/>
        </p:nvSpPr>
        <p:spPr>
          <a:xfrm>
            <a:off x="713520" y="5562720"/>
            <a:ext cx="7749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P802-15_Liaison-Report.p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rver &amp; Flash C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8A0D97-85E4-4537-B2DD-11D0B41266BF}"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1, 1999 Jim Carlo, Don Loughry &amp; Simon Ellis, Meeting in Santa Clar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7, 1999 Mahmoud Naghshineh WPAN Liaison Meeting in Lond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4, 1999 Second Call For Propos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 1999 Letter Of Inten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6A9FBDE-A89E-43DB-AC96-E6DBB664EF3F}"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Pla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rking group will make a request (~Jun 1999) for technologies that meet usage models established by IEE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anticipates these usage models to be similar to what Bluetooth has overviewed during IEEE Liaison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uld like Bluetooth SIG to submit (~Jul 1999) the finalized specifications (Vol. 1 &amp; 2) to the 802.15 group for consideration [MS Word '97]</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pecification will be voted on by the group, no guarantees that the specification will move forward, however there is a desire to not fragment the market, achieve some level of coexistence, and possibly a 2.4GHz spectrum etiquet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E1F5FF-85DF-4ABA-AFD2-6E72E05E18BB}"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nitial Discussion on Proposal submissions </a:t>
            </a:r>
            <a:endParaRPr b="0" lang="en-US" sz="16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Specification from Bluetooth introduced into the committee. The committee should do a review of this specification and clarify, understand what problems it will create with other 802 standards, etc. ARE THERE OTHER PROPOSALS?</a:t>
            </a:r>
            <a:endParaRPr b="0" lang="en-US" sz="14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2: If the submission date slips to Aug 1999 or Sep 1999 there is a potential to slip the end date.</a:t>
            </a:r>
            <a:endParaRPr b="0" lang="en-US" sz="14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EEE initial vote of support to draft 802.15 based on Bluetooth specification</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1999 - The draft 802.15 based on the current  Bluetooth specification to the time line</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1999 - Initial draft ready for WG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0 - First Ballot complete, second ballot kicked off.</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0 - Draft ready for IEEE sponsor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000 - Approval by IEEE Standards Bo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9DB9923-24FC-4208-A296-386FBD023DB1}"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pecial Interest Group Formed May 20, 19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1 July 7, 1998 -98/25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2 September 15, 1998 -98/3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3 October 26, 1998 -98/350 (Minutes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4 December 14, 1998 J. Carlo 802 Overview to Bluetooth 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5 March 9, 1999 -99/053 Tutor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6 July 1, 1999 -99/028 Letter Of I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0AF9FE4-2B1E-46BB-8977-605B56B53CFA}"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2, 1999 Tim Blaney, no minute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5, 1999 Dallas, TX USA</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 Denver, CO USA RAWCON ‘99 Workshop, confirm attenda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66A2D4B-04C9-4830-98FA-2D0269E01A8F}"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B07967E-3B27-422D-8B97-3AF041E4F398}"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2CEE2D0-FEEB-46D7-894C-C19182F02660}"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C2B5B6-F2E2-4A26-A481-D55813EF1A13}"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C827E2-983D-40CE-BEC5-47259F098010}"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Composition Mar99</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2 Full Members from 35 European countrie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76% Manufacturers (265)</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6% Network Operators (93)</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8% Administrations (47)</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91% Users (20)</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99% Service Providers &amp; Others (87)</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Observers from 18 countri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Associate Members from 15 count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28408D-752C-4359-BE97-DAB64100758E}"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Cont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050A49-1A1C-44B9-B612-732A9A313005}"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Mission</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e a REGIONAL STANDARDS BODY SENSITIVE TO MARKET NEEDS with an INNOVATIVE and EFFICIENT approach to producing QUALITY STANDARDS in a TIMELY mann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C997B8-B30C-4977-B3D5-823E3FB693B7}"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BT 2CFP ETSI</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Times New Roman"/>
              </a:rPr>
              <a:t> JimK 1Jul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EE4BF9-EE87-4EC8-BECE-E2B33F02A04C}"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49"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53"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54"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56"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57"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59"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60"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62"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64"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66"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68"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70"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72"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74"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5"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76"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77"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8"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9"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282"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283"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284"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285"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286"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287"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292"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293"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294"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40A1DF-8FF6-49E3-A0C3-9723382E5264}"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04D831-3DA7-4BA6-9689-50AE88CD9A87}"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Liaison with</a:t>
            </a:r>
            <a:br>
              <a:rPr sz="4400"/>
            </a:br>
            <a:r>
              <a:rPr b="0" lang="en-US" sz="4400" spc="-1" strike="noStrike">
                <a:solidFill>
                  <a:srgbClr val="000000"/>
                </a:solidFill>
                <a:latin typeface="Times New Roman"/>
              </a:rPr>
              <a:t>P802.1 and P802.2</a:t>
            </a:r>
            <a:endParaRPr b="0" lang="en-US" sz="4400" spc="-1" strike="noStrike">
              <a:solidFill>
                <a:srgbClr val="000000"/>
              </a:solidFill>
              <a:latin typeface="Times New Roman"/>
            </a:endParaRPr>
          </a:p>
        </p:txBody>
      </p:sp>
      <p:sp>
        <p:nvSpPr>
          <p:cNvPr id="303"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asons for Liaiso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uetooth (at least) will have LLC and bridging work nee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o will be able to help with expert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ere work will be done</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5 Task Group</a:t>
            </a:r>
            <a:br>
              <a:rPr sz="1600"/>
            </a:br>
            <a:r>
              <a:rPr b="1" lang="en-US" sz="1600" spc="-1" strike="noStrike">
                <a:solidFill>
                  <a:srgbClr val="000000"/>
                </a:solidFill>
                <a:latin typeface="Arial Narrow"/>
              </a:rPr>
              <a:t>OR</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 and 802.2</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approval proces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80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riginating Organiz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8B70248-1C9B-491B-B317-AC96218AC8CD}"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F067D75-62FE-438F-BE69-8F58BB6F8654}"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3D77336-808D-448F-AA9A-5CC05A386AC0}"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 (w/ FCC NPRM 99-149)</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3-17, 1999 Santa Rosa, CA USA, Collocated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901A8D-0F70-4D59-9926-167F6240825A}"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ing Copyright &amp; IP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 mutual timeline, circulate to SIG for approval</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Summer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 HRF-Lit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Liaison Lette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0188B0C-6439-48F9-9B6D-3FC25EA30E38}"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13"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 descr=""/>
          <p:cNvPicPr/>
          <p:nvPr/>
        </p:nvPicPr>
        <p:blipFill>
          <a:blip r:embed="rId1"/>
          <a:stretch/>
        </p:blipFill>
        <p:spPr>
          <a:xfrm>
            <a:off x="1996920" y="4633920"/>
            <a:ext cx="1432080" cy="1157400"/>
          </a:xfrm>
          <a:prstGeom prst="rect">
            <a:avLst/>
          </a:prstGeom>
          <a:ln w="0">
            <a:noFill/>
          </a:ln>
        </p:spPr>
      </p:pic>
      <p:pic>
        <p:nvPicPr>
          <p:cNvPr id="317" name="" descr=""/>
          <p:cNvPicPr/>
          <p:nvPr/>
        </p:nvPicPr>
        <p:blipFill>
          <a:blip r:embed="rId2"/>
          <a:stretch/>
        </p:blipFill>
        <p:spPr>
          <a:xfrm>
            <a:off x="6248520" y="4419720"/>
            <a:ext cx="1307880" cy="1404720"/>
          </a:xfrm>
          <a:prstGeom prst="rect">
            <a:avLst/>
          </a:prstGeom>
          <a:ln w="0">
            <a:noFill/>
          </a:ln>
        </p:spPr>
      </p:pic>
      <p:sp>
        <p:nvSpPr>
          <p:cNvPr id="318"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319" name=""/>
          <p:cNvSpPr/>
          <p:nvPr/>
        </p:nvSpPr>
        <p:spPr>
          <a:xfrm>
            <a:off x="6168960" y="3657600"/>
            <a:ext cx="28994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20"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321"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22" name="smllieee" descr=""/>
          <p:cNvPicPr/>
          <p:nvPr/>
        </p:nvPicPr>
        <p:blipFill>
          <a:blip r:embed="rId3"/>
          <a:stretch/>
        </p:blipFill>
        <p:spPr>
          <a:xfrm>
            <a:off x="4267080" y="2743200"/>
            <a:ext cx="951120" cy="1081080"/>
          </a:xfrm>
          <a:prstGeom prst="rect">
            <a:avLst/>
          </a:prstGeom>
          <a:ln w="9360">
            <a:solidFill>
              <a:srgbClr val="000000"/>
            </a:solidFill>
            <a:miter/>
          </a:ln>
        </p:spPr>
      </p:pic>
      <p:pic>
        <p:nvPicPr>
          <p:cNvPr id="323" name="Kodak" descr=""/>
          <p:cNvPicPr/>
          <p:nvPr/>
        </p:nvPicPr>
        <p:blipFill>
          <a:blip r:embed="rId4"/>
          <a:stretch/>
        </p:blipFill>
        <p:spPr>
          <a:xfrm>
            <a:off x="304920" y="1968480"/>
            <a:ext cx="952560" cy="857160"/>
          </a:xfrm>
          <a:prstGeom prst="rect">
            <a:avLst/>
          </a:prstGeom>
          <a:ln w="0">
            <a:noFill/>
          </a:ln>
        </p:spPr>
      </p:pic>
      <p:pic>
        <p:nvPicPr>
          <p:cNvPr id="324" name="Intermec" descr=""/>
          <p:cNvPicPr/>
          <p:nvPr/>
        </p:nvPicPr>
        <p:blipFill>
          <a:blip r:embed="rId5"/>
          <a:stretch/>
        </p:blipFill>
        <p:spPr>
          <a:xfrm>
            <a:off x="1523880" y="1523880"/>
            <a:ext cx="1724040" cy="685800"/>
          </a:xfrm>
          <a:prstGeom prst="rect">
            <a:avLst/>
          </a:prstGeom>
          <a:ln w="0">
            <a:noFill/>
          </a:ln>
        </p:spPr>
      </p:pic>
      <p:sp>
        <p:nvSpPr>
          <p:cNvPr id="325" name=""/>
          <p:cNvSpPr/>
          <p:nvPr/>
        </p:nvSpPr>
        <p:spPr>
          <a:xfrm>
            <a:off x="2061000" y="220968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26" name=""/>
          <p:cNvSpPr/>
          <p:nvPr/>
        </p:nvSpPr>
        <p:spPr>
          <a:xfrm>
            <a:off x="486000" y="281952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C326B2A-7B35-4C16-A069-B748E7FBAD0D}" type="slidenum">
              <a:t>2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0E900E8-DE9A-4BE1-BB07-9EE8DF625490}"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46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191120" y="3962520"/>
            <a:ext cx="685800" cy="2219400"/>
            <a:chOff x="4191120" y="3962520"/>
            <a:chExt cx="685800" cy="22194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9112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74" name=""/>
            <p:cNvSpPr/>
            <p:nvPr/>
          </p:nvSpPr>
          <p:spPr>
            <a:xfrm>
              <a:off x="43452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4952880" y="3962520"/>
            <a:ext cx="685800" cy="2219400"/>
            <a:chOff x="4952880" y="3962520"/>
            <a:chExt cx="685800" cy="2219400"/>
          </a:xfrm>
        </p:grpSpPr>
        <p:sp>
          <p:nvSpPr>
            <p:cNvPr id="76" name=""/>
            <p:cNvSpPr/>
            <p:nvPr/>
          </p:nvSpPr>
          <p:spPr>
            <a:xfrm>
              <a:off x="52974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8760" y="5905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a:t>
              </a:r>
              <a:endParaRPr b="0" lang="en-US" sz="1200" spc="-1" strike="noStrike">
                <a:solidFill>
                  <a:srgbClr val="000000"/>
                </a:solidFill>
                <a:latin typeface="Times New Roman"/>
              </a:endParaRPr>
            </a:p>
          </p:txBody>
        </p:sp>
        <p:sp>
          <p:nvSpPr>
            <p:cNvPr id="78" name=""/>
            <p:cNvSpPr/>
            <p:nvPr/>
          </p:nvSpPr>
          <p:spPr>
            <a:xfrm>
              <a:off x="49528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grpSp>
      <p:grpSp>
        <p:nvGrpSpPr>
          <p:cNvPr id="79" name=""/>
          <p:cNvGrpSpPr/>
          <p:nvPr/>
        </p:nvGrpSpPr>
        <p:grpSpPr>
          <a:xfrm>
            <a:off x="6553080" y="3962520"/>
            <a:ext cx="685800" cy="2219400"/>
            <a:chOff x="6553080" y="3962520"/>
            <a:chExt cx="685800" cy="2219400"/>
          </a:xfrm>
        </p:grpSpPr>
        <p:sp>
          <p:nvSpPr>
            <p:cNvPr id="80" name=""/>
            <p:cNvSpPr/>
            <p:nvPr/>
          </p:nvSpPr>
          <p:spPr>
            <a:xfrm>
              <a:off x="68976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2" name=""/>
            <p:cNvSpPr/>
            <p:nvPr/>
          </p:nvSpPr>
          <p:spPr>
            <a:xfrm>
              <a:off x="65530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B470F5E-90CB-48E1-864D-B5750A854B58}"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84" name=""/>
          <p:cNvSpPr/>
          <p:nvPr/>
        </p:nvSpPr>
        <p:spPr>
          <a:xfrm>
            <a:off x="380880" y="4572000"/>
            <a:ext cx="8382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86"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87"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0"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1"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2"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3"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5"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6"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8"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6"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6404040" y="2090880"/>
            <a:ext cx="1444680" cy="1170000"/>
          </a:xfrm>
          <a:prstGeom prst="rect">
            <a:avLst/>
          </a:prstGeom>
          <a:ln w="0">
            <a:noFill/>
          </a:ln>
        </p:spPr>
      </p:pic>
      <p:sp>
        <p:nvSpPr>
          <p:cNvPr id="128" name=""/>
          <p:cNvSpPr/>
          <p:nvPr/>
        </p:nvSpPr>
        <p:spPr>
          <a:xfrm>
            <a:off x="7696080" y="313200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2720" y="32083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31"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2" name=""/>
          <p:cNvSpPr/>
          <p:nvPr/>
        </p:nvSpPr>
        <p:spPr>
          <a:xfrm>
            <a:off x="5486400" y="3201840"/>
            <a:ext cx="0" cy="912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4875120" y="1905120"/>
            <a:ext cx="1320840" cy="1417680"/>
          </a:xfrm>
          <a:prstGeom prst="rect">
            <a:avLst/>
          </a:prstGeom>
          <a:ln w="0">
            <a:noFill/>
          </a:ln>
        </p:spPr>
      </p:pic>
      <p:sp>
        <p:nvSpPr>
          <p:cNvPr id="134"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5"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136"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40"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141"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142" name=""/>
          <p:cNvSpPr/>
          <p:nvPr/>
        </p:nvSpPr>
        <p:spPr>
          <a:xfrm>
            <a:off x="3429000" y="31669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145"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147"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50"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4"/>
          <a:stretch/>
        </p:blipFill>
        <p:spPr>
          <a:xfrm>
            <a:off x="2136600" y="2133720"/>
            <a:ext cx="1444680" cy="1170000"/>
          </a:xfrm>
          <a:prstGeom prst="rect">
            <a:avLst/>
          </a:prstGeom>
          <a:ln w="0">
            <a:noFill/>
          </a:ln>
        </p:spPr>
      </p:pic>
      <p:sp>
        <p:nvSpPr>
          <p:cNvPr id="152"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153"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7EFCAF0-6DA0-430B-976F-4483CBFEDE4F}"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Detail</a:t>
            </a:r>
            <a:endParaRPr b="0" lang="en-US" sz="4400" spc="-1" strike="noStrike">
              <a:solidFill>
                <a:srgbClr val="000000"/>
              </a:solidFill>
              <a:latin typeface="Times New Roman"/>
            </a:endParaRPr>
          </a:p>
        </p:txBody>
      </p:sp>
      <p:graphicFrame>
        <p:nvGraphicFramePr>
          <p:cNvPr id="157" name=""/>
          <p:cNvGraphicFramePr/>
          <p:nvPr/>
        </p:nvGraphicFramePr>
        <p:xfrm>
          <a:off x="127080" y="2036880"/>
          <a:ext cx="8940600" cy="4081320"/>
        </p:xfrm>
        <a:graphic>
          <a:graphicData uri="http://schemas.openxmlformats.org/presentationml/2006/ole">
            <p:oleObj r:id="rId1" spid="">
              <p:embed/>
              <p:pic>
                <p:nvPicPr>
                  <p:cNvPr id="158" name="" descr=""/>
                  <p:cNvPicPr/>
                  <p:nvPr/>
                </p:nvPicPr>
                <p:blipFill>
                  <a:blip r:embed="rId2"/>
                  <a:stretch/>
                </p:blipFill>
                <p:spPr>
                  <a:xfrm>
                    <a:off x="127080" y="2036880"/>
                    <a:ext cx="8940600" cy="4081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DCD7B3E-7D4C-4BFB-96A2-9FC518718D1E}"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160" name=""/>
          <p:cNvGrpSpPr/>
          <p:nvPr/>
        </p:nvGrpSpPr>
        <p:grpSpPr>
          <a:xfrm>
            <a:off x="339840" y="4075200"/>
            <a:ext cx="8559000" cy="801720"/>
            <a:chOff x="339840" y="4075200"/>
            <a:chExt cx="8559000" cy="801720"/>
          </a:xfrm>
        </p:grpSpPr>
        <p:sp>
          <p:nvSpPr>
            <p:cNvPr id="161"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2"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3"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64"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65"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67"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339840" y="5651640"/>
            <a:ext cx="8229600" cy="801720"/>
            <a:chOff x="339840" y="5651640"/>
            <a:chExt cx="8229600" cy="801720"/>
          </a:xfrm>
        </p:grpSpPr>
        <p:sp>
          <p:nvSpPr>
            <p:cNvPr id="169"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0"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1"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2"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3"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4"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76"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77" name=""/>
          <p:cNvGrpSpPr/>
          <p:nvPr/>
        </p:nvGrpSpPr>
        <p:grpSpPr>
          <a:xfrm>
            <a:off x="339840" y="3262320"/>
            <a:ext cx="8424360" cy="801720"/>
            <a:chOff x="339840" y="3262320"/>
            <a:chExt cx="8424360" cy="801720"/>
          </a:xfrm>
        </p:grpSpPr>
        <p:sp>
          <p:nvSpPr>
            <p:cNvPr id="178"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79"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0"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1"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2"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84"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85" name=""/>
          <p:cNvGrpSpPr/>
          <p:nvPr/>
        </p:nvGrpSpPr>
        <p:grpSpPr>
          <a:xfrm>
            <a:off x="339840" y="4813200"/>
            <a:ext cx="8229600" cy="801720"/>
            <a:chOff x="339840" y="4813200"/>
            <a:chExt cx="8229600" cy="801720"/>
          </a:xfrm>
        </p:grpSpPr>
        <p:sp>
          <p:nvSpPr>
            <p:cNvPr id="186"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7"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8"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9"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0"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1"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2"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94"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95"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39840" y="2463840"/>
            <a:ext cx="8246160" cy="801720"/>
            <a:chOff x="339840" y="2463840"/>
            <a:chExt cx="8246160" cy="801720"/>
          </a:xfrm>
        </p:grpSpPr>
        <p:sp>
          <p:nvSpPr>
            <p:cNvPr id="199"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0"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1"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2"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3"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05"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06"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07"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08"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09"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1"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2"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14"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43080" y="1662120"/>
            <a:ext cx="8229600" cy="801720"/>
            <a:chOff x="343080" y="1662120"/>
            <a:chExt cx="8229600" cy="801720"/>
          </a:xfrm>
        </p:grpSpPr>
        <p:sp>
          <p:nvSpPr>
            <p:cNvPr id="216"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7"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0EC059F-2E2B-444D-B130-15BACFE56C99}"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D7DD4C-0CAD-45A9-8087-23D67CC6207E}"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785FC8-E96B-4506-B29A-9E501FD9D855}"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uly 1999</cp:keywords>
  <dc:language>en-US</dc:language>
  <cp:lastModifiedBy>Ian C. Gifford</cp:lastModifiedBy>
  <cp:lastPrinted>1998-02-10T13:28:06Z</cp:lastPrinted>
  <dcterms:modified xsi:type="dcterms:W3CDTF">1999-07-06T13:54:51Z</dcterms:modified>
  <cp:revision>101</cp:revision>
  <dc:subject/>
  <dc:title>Liaison Report</dc:title>
</cp:coreProperties>
</file>