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37E4-F16C-436D-BEB4-E39D77EAE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8C72-AC60-41B3-A3BC-A02B056E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6874-B64A-44A9-8635-F3C8EF215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99B6-CD14-4498-BE7C-2912BB665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B7CA-7DCA-47AB-81BB-4D54B046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F19E-F5B3-4C89-8952-5F787253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5F57-C70B-4A25-B14F-F5008AD1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029F-6E89-4381-B0F0-F3FB3DB8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A350-20E1-429A-B7F6-2F5DA99B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FBE6-30EA-48A9-8FE1-3F25E672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5603-C8EB-4864-8E1C-0D7BC363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CF55-39A3-4CA2-B2A9-F48A8021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11F9E88-184D-455B-8D7A-2A013AEAE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26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93720" y="609480"/>
            <a:ext cx="776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93720" y="6477120"/>
            <a:ext cx="784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3581280"/>
            <a:ext cx="6993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b Heile,  Chair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1680" y="762120"/>
            <a:ext cx="85424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P802.15 Working Group Status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resentation to IEEE 802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andards Executive Committee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July 5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93CD-A928-4CE4-BA8A-601A170C1E7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 for July Ple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day- set the stage, review the gameplan for the week, point attendees to the web or flash card for copies of draft rules and other documents for review ahead of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esday- detailed presentations on WG objectives, proposed operating rules and liaison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dnesday- Review project action plan and call for proposals, joint meeting with .11, review draft standard outline, organize committees for first draft, review BT sp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rsday-  Begin formal voting on Officers and rules, hear submissions, if any, in response to the CF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CE13-81F0-463F-9FBF-F86245C9DC19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802.15 Proposed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 is common with revised 802.11, which is based on 802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amlined a few procedures to make meetings go more smooth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recommended procedures as guide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5971-16BE-44B0-B13F-43B8EEC98E2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ick-off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obtain voting rights at the Thursday morning session of this meeting, you must attend at least 5 of the six sessions Monday, Tuesday, and Wednesday and the session on Thursday mo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are planning on attending at least 75% of the sessions and becoming a voting member, please declare it during sign-in on Monday or Tuesday morning. You will be eligible to receive the Standards CD on Wednesday after 2p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 voting will begin on Thursday morning. At sign-in you will receive a voting tok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98D1-CBC2-47F6-839C-D5D3E31B811C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802.15 Working Group 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ty Since March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ting the word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et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s/Missions/Time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s for July Ple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D694-95EB-4B23-BC71-0456924A60D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tting the Word 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8483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 Release-March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c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 Perspectives Column-July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Edition of Personal Communications Magazine-Dec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aison L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aking Engag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MAC/PC   ---Chiba, Japan May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tooth99 Developers Conference  ---London, June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TF45, MobileIP WG ---Oslo, Norway, July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WCON  ---Denver, August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WC  ---San Francisco, October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Ref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AD3D-38AF-4D45-BD21-C75B41CEF94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WG Meet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0000"/>
          </a:bodyPr>
          <a:p>
            <a:pPr marL="137160" indent="-137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ekly Telecons for the Advisory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7160" indent="-137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Hoc WGAC Meeting in Chiba, Japan ( with 802.11), May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7000" indent="-1141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lized draft of 802.15 rules and document structure, reviewed Marcom activities, set liaison agenda,  established meeting schedule and proposed project time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7160" indent="-137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Hoc WGAC Meeting in London,UK,  June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7000" indent="-1141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ed gameplan for July plenary, established meeting objectives for joint session with Bluetooth, finalized Call for Pro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7160" indent="-137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t Meeting with Bluetooth in London, UK, June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7000" indent="-1141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standards process and agree on a proposed working relationship/time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2F77-CF24-403F-BF2B-2055D26E4C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3808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e the IEEE P802.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e the IEEE as a Valu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1F8F-12CE-4D2E-8407-B61C9404EF7D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aison Sta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Bluetooth Special Interest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Home Radio Frequency Working Group (HRFW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Internet Engineering Task Force (IET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Wireless Access Protocol (WAP) Fo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Wireless Data Fo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ATM Forum Wireless ATM (WATM) Working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ETSI Broadband Radio Access Networks (BRAN)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Infrared Data Association (Ir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Wireless LAN Alliance (WL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Department of Transportation, Federal Highway Agency and Intelligent Transport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Dedicated Short Range Communications Task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600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ters were sent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F506-0315-4EA5-9A30-61693BBF245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Negot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1905120"/>
            <a:ext cx="7467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tooth S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 ongoing lia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 IPR and Copy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 a mutual timeline, circulate to SIG for appro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plan to recast version1.0 L2CAP and below into a draft standard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RF HRF-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 ongoing lia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Meeting Date July,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8909-0FBF-45D9-A21E-04723BA9CC1C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ghts on Objectives/Missions/Time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120" y="236232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ess mea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3048120"/>
            <a:ext cx="7026120" cy="28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Aft>
                <a:spcPts val="125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 recognized by companies as the place to go for WPAN functionality in their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have users demand P802.15 compliance as a minimum requirement of product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FB8D-CB5C-487F-80D6-5D5F7B2BD7A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762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ghts on Objectives/Missions/Time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90512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a sponsor ballot approved standard sooner than later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should be Nov 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s to be recognized by Bluetooth, HomeRF and 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enough(meets market need for functionality) vs perfect is an acceptable trade-off for speed in delivery of a stand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lutely need coex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more flexibility on interoperability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PARs are likely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RF/Koda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ltra low power/low cost/low data rate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d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6C4B-013C-4B9D-9A32-2738F4DCB857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Bob Heile</dc:creator>
  <dc:description>Robert F. Heile, GTE</dc:description>
  <dc:language>en-US</dc:language>
  <cp:lastModifiedBy>Bridget Labrode</cp:lastModifiedBy>
  <cp:lastPrinted>1998-11-06T19:39:09Z</cp:lastPrinted>
  <dcterms:modified xsi:type="dcterms:W3CDTF">1999-07-05T01:16:31Z</dcterms:modified>
  <cp:revision>34</cp:revision>
  <dc:subject>doc.: IEEE 802.11-99/026r0</dc:subject>
  <dc:title>P802.15-ExCom Report</dc:title>
</cp:coreProperties>
</file>