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F1487C-63E5-4A23-91DE-059C31E5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A12-5BEC-412F-9579-81FD5235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CD9-EB1D-4A8B-AA7A-61124F7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0DB-F61C-4171-9B9A-976D5F51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C25-BDEE-4CD7-9C34-A37C9C89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310-4422-437B-8407-5B2676F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FCA-0DEC-4A82-AFBA-7592F301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F60-C6BB-49E5-A7CF-9177129F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AD8-0F4D-4095-BA51-B7337255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5C3-2014-4098-8DD8-9705C5A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86C-794C-45FD-8F88-83E53F0C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374-E91C-46E9-B86E-E947B6C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D85-F30C-47B5-9A50-074BC73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759616-A210-4534-9816-46F21642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0F0-F91A-4FD3-B42E-4B2E0E0457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B89-9FB0-4D31-92A8-C4CE0CC2E5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366-9704-419C-8034-DEFFFA4CD3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4EA-3635-435F-BF5B-7968BB85BA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D5B-AABF-4B15-8B69-BF07D40088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9F8-FC9B-40B6-8D6D-604B4D98C2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D21-7487-4E2B-89E7-B11256B2B3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EF4-D4FD-44A2-A32A-1A383FAE0E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424-0E9E-4052-A1D7-CEA80482CC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615-3B44-4352-87EC-F3E1B73471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FAE-BEF2-44C1-AB58-3321201A95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DBB-B9A5-4771-9256-C74DD4E812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A7C-0698-4307-A4BB-ECD083AC285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F63-2097-41C8-849D-BCC2169633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1r0</dc:description>
  <dc:language>en-US</dc:language>
  <cp:lastModifiedBy>Bridget Labrode</cp:lastModifiedBy>
  <cp:lastPrinted>1998-02-10T13:28:06Z</cp:lastPrinted>
  <dcterms:modified xsi:type="dcterms:W3CDTF">1999-09-15T23:04:25Z</dcterms:modified>
  <cp:revision>20</cp:revision>
  <dc:subject>IEEE 802.15 TG1 Report #2</dc:subject>
  <dc:title>IEEE P802.15 Working Group for Wireless Personal Area Networks</dc:title>
</cp:coreProperties>
</file>