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6C1-B787-4F07-BC73-AF237E3F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498-FB3B-477D-A68A-927BC9B8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8B5-D784-437C-A05F-CEED5283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7B6-E80B-4697-A2F9-39027A34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3D5-B53A-422C-880A-38C2571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6AE-BCA4-4FE6-AC02-C186AFA6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BAA-567A-47D1-A89C-DC674BC0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A17-102F-4CB0-8E8C-C7F3EA2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A42-CF40-4D6C-BF35-AF2D5C08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1E3-C0E0-4D2F-8370-C6846EB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A12-70EF-44D1-95E1-C452A57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7F9-688D-48B9-B5F7-24A299F8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5B4CAF-0954-43E1-A9F4-3B78AD582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1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Task Group 1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 - 17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ton Hotel, Sonoma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55 Round Barn Bl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Rosa, CA  95403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DA0-4E28-4D83-A0FF-2DF0145C53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Schedule -99/56r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1600200"/>
            <a:ext cx="89632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 Wednesday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! SG1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! 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MC  ! SG1  |      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!      |           |      ! 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Joint.11/.15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DL Mode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.............|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...........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SG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luetoo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utoria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 |      &amp;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6:30-9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          |Doc.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1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FE7-AA79-4156-ADD1-94BBEFDB1C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1055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94360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486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3244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67C-8893-449D-AF06-FBAE4E7DD3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 was Liai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13C-7889-424D-92C2-430D92F73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to Consider Draft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g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36080" cy="49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2E5-B787-4057-B90E-532189C416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 be add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C6F-67C2-4CF6-85A3-CE02938F4D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 3.11 Review Bluetooth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282-EAC0-49E5-872E-183B882129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on &amp;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Aug99 Örjan Johansson, Chatschik Bisdikian, ETSI &amp; IEEE-SA Liaison Meeting in Washington DC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Jim Kardach &amp; Ian Gifford discussed Bluetooth and the FCC NP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Ian Gifford forwarded Jim Kardach the IEEE Letter to F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from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5, 1999 Letter of Intent #2, Copyright License Agreement, CD-ROM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31, 1999 Bluetooth Proposal to IEEE and ETSI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3, 1999 CD-ROM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1999 Signed &amp; Initialed Copyright License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to submit the approved Draft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going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39A-AC35-4D32-93CF-F6F28E0A22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been reviewing the Bluetooth Specification, via Liaison &amp; Public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Special Interest Group Formed May 20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 07Jul98 -98/2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2 15Sep98 -98/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3 26Oct98 -98/350 (Minut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4 14Dec98 J. Carlo 802 Overview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5 09Mar99 -99/053 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6 01Jul99 -99/028 Letter Of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7 15Jul99 -99/028r1 LOI #2, License, CD-ROM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8 26Jul99 Bluetooth v1.0A Foundation Specification Available vi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9 31Aug99 -99/085 IEEE/ETSI/Bluetooth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0 31Aug99 -99/085 Proposal to IEEE &amp; ET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1 3Sep99 CD-ROM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2 9Sep99 Signed &amp; Initialed Copyright License Agre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3 13Sep99 -99/068 BT-IEEE Editorial WG Report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4 14Sep99 -99/069 to 073 Overview of the Bluetoot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CDA-BA22-42A9-9C39-5DA864FCB7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7:33:09Z</dcterms:created>
  <dc:creator>Ian C. Gifford</dc:creator>
  <dc:description>061r1</dc:description>
  <dc:language>en-US</dc:language>
  <cp:lastModifiedBy>Ian C. Gifford</cp:lastModifiedBy>
  <cp:lastPrinted>1998-02-10T13:28:06Z</cp:lastPrinted>
  <dcterms:modified xsi:type="dcterms:W3CDTF">1999-09-14T22:04:16Z</dcterms:modified>
  <cp:revision>21</cp:revision>
  <dc:subject>IEEE 802.15 &lt;subject&gt;</dc:subject>
  <dc:title>1st Session of meetings of the IEEE P802.15 Task Group 1 for Wireless Personal Area Networks</dc:title>
</cp:coreProperties>
</file>