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0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3581280"/>
            <a:ext cx="69930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 Braley,  Chai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680" y="762120"/>
            <a:ext cx="85424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tudy Group Status</a:t>
            </a:r>
            <a:br>
              <a:rPr sz="1800"/>
            </a:br>
            <a:br>
              <a:rPr sz="18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8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tudy Group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8108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 Bral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Group Status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Giff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“Wearables”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, 1997. Cleveland, OH, Request to PA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6, 1997. Nashua, NH IEEE PASC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2, 1997. Cleveland, OH Ad Hoc Wearables Committe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4-15, 1998. Memphis, TN, Ad Hoc Wearables Committe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9-23, 1998 Lynnwood, WA IEEE 802.11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9-13, 1998 Irvine, CA IEEE 802 Plenary Meeting (SG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 8-9, 1998 Cambridge, MA IEEE 802.11 WPAN S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4-8, 1998 Utrecht, NL IEEE 802.11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-21, 1998 Irving, TX IEEE 802.11 WPAN S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6-10, 1998 LaJolla, CA 802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4-18,1998 Westford, MA 802.11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26, 1998 Atlanta, GA Ad Hoc WPAN S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-13, 1998 Albuquerque, NM 802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1-15, 1999 Orlando, FL 802.11 Interim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8-12, 1999 Austin, TX 802 Plenary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Formed March 4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1 May 5, 1998 -98/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2 July 7, 1998 -98/251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3 September 15, 1998 -98/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4 November 26, 1998 -98/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5 January 12, 1999 -99/004r1 (Minutes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6 March 9, 1999 -99/054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Formed May 20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1 July 7, 1998 -98/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2 September 15, 1998 -98/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3 October 26, 1998 -98/350 (Minutes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4 December 14, 1998 J. Carlo 802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5 March 9, 1999 -99/053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s by v1.0 Release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200" y="4267080"/>
            <a:ext cx="8602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1800" y="35812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91120" y="35812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4880" y="391968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8760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4004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248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4492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736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6240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224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5468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3556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044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520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972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2096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340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584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960" y="420228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0280" y="3908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1160" y="3908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16080" y="39085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6960" y="39085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78200" y="3908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359080" y="39085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739960" y="39085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121200" y="3908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25760" y="3908520"/>
            <a:ext cx="307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7000" y="3908520"/>
            <a:ext cx="35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87880" y="39085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92800" y="3908520"/>
            <a:ext cx="35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73680" y="3908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178600" y="39085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559480" y="3886200"/>
            <a:ext cx="27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864400" y="39085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45280" y="39085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626160" y="39085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2280" y="3908520"/>
            <a:ext cx="35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934320" y="39085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389412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11720" y="178596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15200" y="2827440"/>
            <a:ext cx="0" cy="982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729560" y="1557360"/>
            <a:ext cx="12636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490840" y="5029200"/>
            <a:ext cx="4151160" cy="88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58200" y="29034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001000" y="388620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52880" y="2879640"/>
            <a:ext cx="118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89728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00600" y="1600200"/>
            <a:ext cx="1320840" cy="1417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172200" y="2879640"/>
            <a:ext cx="117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90920" y="182880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57560" y="2897280"/>
            <a:ext cx="0" cy="982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14600" y="2879640"/>
            <a:ext cx="1328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WPAN Study Group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Group timeframe was extended from 11/98 to 3/99 [Albuquerque to Austi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participation from 802.11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lando WPAN Study Group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PAR submit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PAR Decision on WPAN Task/Working Group to be made at this meeting by 802 ExCo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discussions with Bluetooth and Home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 guidance from our Sponsor &amp; ExCom on Bluetooth &amp; HomeRF Liais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lando WPAN Study Group 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220968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PAN Study Group recommends that it become a Task Group of 802.11 with the understanding that this will likely require a change in the 802.11 charter and a rule change within 802 to allow multiple MAC Layers within a Working Group.  The motivation for becoming a Task Group within 802.11 is to ensure the best use of a shared medium.  If this is not feasible the SG recommends the formation of a separate Working Group under 802 which would include all PAN-related activity including Bluetooth, HomeRF, etc. should they also submit PAR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tudy Group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 Braley - Withdrawing due to FedEx Commi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Activities Require Leadership that will Champion WPAN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Leader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Gif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H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ck Braley</dc:creator>
  <dc:description>Dick Braley, FedEx</dc:description>
  <dc:language>en-US</dc:language>
  <cp:lastModifiedBy>Ian C. Gifford</cp:lastModifiedBy>
  <cp:revision>0</cp:revision>
  <dc:subject>doc.: IEEE 802.11-99/050</dc:subject>
  <dc:title>WPAN SG ExCom Report</dc:title>
</cp:coreProperties>
</file>