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ADD-E1D4-4221-98E5-1B90550F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A53-9305-473C-98E6-520478DE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ECF-0AA0-4557-94A7-C803F0BF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526-0D3D-499E-826D-5BEB9937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8481-2A56-4235-A975-F558812B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589E-F80E-46DD-8994-308CF28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9682-CAE9-493F-9AC3-75E1D63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1C7C-736B-4157-A6F5-EF29698A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0BA3-0CD6-4915-AACE-E6A389AC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4A72-7911-412C-BBA0-651D2DCE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CDA2-F927-4D06-946A-4F8D4D61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282-958A-4A63-B684-285D8C91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800C-6FDC-4E13-A7A7-B468DD5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7731-13EC-4998-A8AC-E5068306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077-130C-40C8-9BCD-106669EA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724D-AFFD-4823-995D-DA757919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BE41-559F-4F8F-B0B7-41705D4B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716-FF7E-4BB1-AB35-6552B02E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D54-8F4A-4897-84AA-45396F95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C18-3761-463F-A9EF-A28018A7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D80-6027-448E-8178-A629F25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3A7-D832-414E-8E01-E48C323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46F-95B8-42F2-90EC-49EA087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CD3-511C-40E0-9AB8-1366B116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haled A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rch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EEE 802 Study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n QoS/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CB09-EA7F-4B96-94C0-F6CE35883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914256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057400"/>
            <a:ext cx="8152920" cy="1599840"/>
            <a:chOff x="457200" y="2057400"/>
            <a:chExt cx="8152920" cy="1599840"/>
          </a:xfrm>
        </p:grpSpPr>
        <p:sp>
          <p:nvSpPr>
            <p:cNvPr id="45" name=""/>
            <p:cNvSpPr/>
            <p:nvPr/>
          </p:nvSpPr>
          <p:spPr>
            <a:xfrm>
              <a:off x="2886480" y="20574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1960" y="222264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1280" y="244332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277344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CC1B-B758-43A0-852A-DF18154C7BED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5ECF-5E85-4652-BB27-3BC4E058D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EE 802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QoS/FC Study Group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General Information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9440" y="377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05320"/>
            <a:ext cx="5105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haled 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hair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EEE 8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ecutive Committee Study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QoS/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Analysis Work Needed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 work will be needed to sim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network environments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enhancements or new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traffic st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proposed layer 2 solutions with layer 4 flow control (especially 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LAN/WAN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time-sensitive streams and traditional data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48D-6E36-4C1A-916E-8521A6BE00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21E8D-BAFE-49D4-A5DA-8FD75F0D82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Meetings Held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 1999 - Albuque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im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 1999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 1999 - Austin, 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enciline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96252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bus17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362320" cy="1716120"/>
          </a:xfrm>
          <a:prstGeom prst="rect">
            <a:avLst/>
          </a:prstGeom>
          <a:ln w="0">
            <a:noFill/>
          </a:ln>
        </p:spPr>
      </p:pic>
      <p:pic>
        <p:nvPicPr>
          <p:cNvPr id="120" name="penciline" descr=""/>
          <p:cNvPicPr/>
          <p:nvPr/>
        </p:nvPicPr>
        <p:blipFill>
          <a:blip r:embed="rId3"/>
          <a:stretch/>
        </p:blipFill>
        <p:spPr>
          <a:xfrm>
            <a:off x="2438280" y="4495680"/>
            <a:ext cx="3962520" cy="3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709-AE88-4C2C-8DE1-0E12ECD762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B506A-73D4-4AD0-882C-3B0AE3C81D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ample of Presentation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 and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resentations about 802.3x limitations and suggested extensions (as well as other mechanis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s on MPEG, QoS, LAN/WAN interoperability and other relat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s on draft PAR and 5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390-0720-4BEE-A304-E7C76FFCC7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3E737-817B-40E3-A43C-361E4BBA05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ome Proposal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ing LANs to wide-area flow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im Mollenauer - Technical Strategy Associ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EG Tutorial and QoS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n Pannell – I-Cu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Enhancements to 802.3x Flow 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n Macleod – Vertex Netwo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Control Issues for Gb Ethe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ff Lynch/Clark Jeffries/Metin Aydemir - I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Issues for Enhanced Flow 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n Macleod – Vertex Network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D93-4D14-4337-B93D-318EFA3B8B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93533-E611-4179-AA19-6E57348A13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nteraction with the IETF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formal letter to Scott Bradner after discussing it on th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volunteers participated in the IETF meeting of Dec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 and established working relationship with chairs of relevant IETF working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ted Scott Bradner to an IEEE 802 meeting (March 99 - Aust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835-F44A-43F9-B438-78EC05B836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9A320-E141-4AD4-A758-82DE32B740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TF Position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ed in the QoS work going on in the IEEE 802 stud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about the interaction of L2 flow control with L4 flow control of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if it would help or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work done in tha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Conclusion: Not enough info in this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857-9576-4B6B-A77B-C846042CDF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BA1E7-0B0B-4741-BE26-13C51EDD63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cerns raised in the IEEE 802 Committee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hension on interaction of L2 flow control with that of L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 about TCP operation if packet discard were avo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hare work of the study group with the IET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8EA-D8F1-45A1-83F5-215366B62B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F94B6-0E59-4FDC-9837-9A32F7D164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Other Concerns raised in the IEEE 802 Committee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l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 and flow control still need a lot of analysis and research before establishing 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not a research organization for doing such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9B5-9C3E-49F1-B262-40371C1CDF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9FC94-7E30-49A5-A4F3-C16DEBF537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E-Mail Reflector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: stds-802-qos-fc@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150 sub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be added to the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e-mail containing the 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cribe stds-802-qos-fc &lt;your e-mail addres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domo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38880" y="2209680"/>
            <a:ext cx="15382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BBB-51EA-404D-B5A8-6F4913CC05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D284F-F9A8-4DFF-93B6-A3E3C3D4AC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2514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Web Site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rouper.ieee.org/groups/802/QOS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the IEEE 802 WG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group Presentations po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1257480" cy="11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113-5E9F-4BAE-92C8-520260216E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9D942-5C0C-4316-B37F-2C436A10C8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Formation of the 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QoS/FC ECSG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chartered an Executive Committee Study Group (ECSG) to look into establishing an IEEE 802 standard for Quality of Service and 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aled Amer appointed as the Chair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March 99 there were 150 members representing more than 5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hndshake2" descr=""/>
          <p:cNvPicPr/>
          <p:nvPr/>
        </p:nvPicPr>
        <p:blipFill>
          <a:blip r:embed="rId1"/>
          <a:stretch/>
        </p:blipFill>
        <p:spPr>
          <a:xfrm>
            <a:off x="6905520" y="4267080"/>
            <a:ext cx="223848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B29-044B-4C6A-94EE-466E0B1B00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2BFBC-65E6-4206-8356-055E911E5B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For more Information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Khaled A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Numbe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9) 552-1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aledamer@usa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hone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6040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961920" cy="84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F98-4B03-447B-9744-E670006138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05DC8-D2B6-4B90-8172-D957B1B691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Backup Slides with more info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Times New Roman"/>
              </a:rPr>
              <a:t>Defining the problem</a:t>
            </a:r>
            <a:endParaRPr b="1" i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2361960"/>
            <a:ext cx="9067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lume, mix and # of sources of network traffic are ris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usion of long, high speed connections without slow start mechanisms and long round trip times will bring new LAN management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asing volume of LAN traffic, coupled with uncontrolled external sources will result in an increase in the variability of LAN demand/uti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6A3-C0AB-498C-BA6E-6C1561CD9D3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D82D8-D677-4273-BA01-8F9B1DAB3D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</a:rPr>
              <a:t>Refining the problem</a:t>
            </a:r>
            <a:endParaRPr b="1" i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represent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es it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es it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options for managing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trade-offs in selection a management op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e management approach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D44-F8F4-45C2-9081-6F0ACA2B58B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C195D-CEDE-4956-8356-63F58D06DA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tudy Group Focu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of conges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to current FC (Flow control)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 of QoS (Quality of Servic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time-sensitive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of low priority data against loss and undue d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/WAN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Request for Contributions in thes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D62-3EC8-4B9A-BB43-BD3F5348C5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7BCC6-F1E6-4E40-8077-4F7AACF933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gestion Managemen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802.3x doesn’t go far enoug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framework for extens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low Control can be improved to 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ad of line bloc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e flow is currently able to impede another fl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ed to differentiate flow control on a per flow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orit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ulti-media will encounter unpredictable del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low control needs to be able to differentiate priori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37B-4B8E-4A71-84D4-2A8B55B7D1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488E5-722A-4025-B6F5-3B8B674408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eservation of Qo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s interact with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DSL increases ATM to the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 of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n’t lose QoS just because we came into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a motivation for ATM to penetrate LAN strong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s interact with time sensitive 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echanism to communicate QoS needs to lower LAN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5E7-C3D8-4565-B378-3D42F682C2D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1D022-57B8-4576-9932-9AAD66F4BD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otection of traditional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(low priority) data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increase of time sensitive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deployment of Cable modem and xDSL creating appetite for time sensitiv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 of these apps into the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ed UDP applications will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low start (instant ramp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congestion effecting tradi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overflow, data loss, re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115-94B9-4163-9852-6822799039E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80E57-357A-400E-B285-82EF727422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LAN/WAN Interoperability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 has its own QoS and Flow Contro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LAN/WAN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 interoperability issu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ervices should be ubiquit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455-55BB-4BD9-BBBD-A7572BFA71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81F3C-9D7F-4D69-96ED-DE00C68910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Why do we care?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issues impact 802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802 atten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where the work should be done in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develop solutions for these issues before they develop into network cri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EB1-5731-4D58-B4A7-7B724D766E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41508-4614-4B93-856C-3D28C1F976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Trends in Network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s deployment of High speed WAN links injecting traffic into 802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le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P high speed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matic increase in time-sensitive traff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S guarantee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not follow the slow start mechanism of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disrupt data traffic on LANs causing buffer overflows, packet loss, retransmissions and severe performance 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4C8-B407-4A1C-95A7-1C96F65EE7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4BB31-24B1-49A7-B6AB-4353FD81FD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hallenge Statemen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129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905120"/>
            <a:ext cx="784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challenge is loss and unacceptable delay/delay jitter of frames which is due to congestion caus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Mis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ubscri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with high bandwidth                                      fast start data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0120" y="3124080"/>
            <a:ext cx="113004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959-590D-408B-9259-6D4EF691AF6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46B60-32B0-4843-8627-F8ED9CAFB9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Objective Statemen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udy the potential of developing             an IEEE 802 standard in order to facilitate   the addition of new kinds of traffic over 802 networks, including real-time voice and video, while maintaining classic datagram service.This standard is intended to work with relevant IETF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0120" y="1828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3D1-3669-4FA3-90E0-68D8D864E6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CD688-5B56-439B-99A4-7B2639F827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Basic Approach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effective method of meeting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the LAN with ample     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enhanced Layer 2 flow control, including means of differentiating service for various classes of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45080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448-C9DA-49D2-B422-2286E1E953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9408B-9EAE-4B1D-B2B4-2CEE04463D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cope of Work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ed scope is to be limited to link-by-link QoS and flow control, since it is anticipated that end-to-end mechanisms would be inappropriate for IEEE 802 to def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ed scope is to be further limited to packet-by-packet mechanisms, since control of specification of ‘Flows’ or ‘Virtual Connections’ or ‘Sessions’ would be outside the scope of IEEE 802’s Layer 2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5BD-8152-4472-A7F4-E9DDF41D15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B3F65-C5B6-4ED6-8793-DC5C8440CC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ope of Work ...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s for Layer 3 QoS (such as the IETF’s efforts) should be reviewed for possible interactions with IEEE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Layer 3 QoS efforts might benefit from Layer 2 QoS services and interface, coordinated efforts may be warr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998-633B-44A1-A626-C8E367B39D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AC83C-1390-4CFB-8253-678E9C7A37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Example of Challenge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streams that do not follow the TCP slow start mechanism, which are being used in numerous multimedia and video conferencing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AA4-0160-4A72-97B5-12475216FA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16D77-A862-41F8-BC0A-3C3BE24CBF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8T20:31:52Z</dcterms:created>
  <dc:creator>Khaled Amer</dc:creator>
  <dc:description/>
  <dc:language>en-US</dc:language>
  <cp:lastModifiedBy>khaled amer</cp:lastModifiedBy>
  <cp:lastPrinted>1999-03-07T05:17:58Z</cp:lastPrinted>
  <dcterms:modified xsi:type="dcterms:W3CDTF">2000-07-07T17:17:20Z</dcterms:modified>
  <cp:revision>214</cp:revision>
  <dc:subject/>
  <dc:title>General Info on Qos-FC Study Group</dc:title>
</cp:coreProperties>
</file>