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5048A-66BF-4E64-8E8B-D8D0698A4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CDAF5-8E6E-49E3-BC69-BE2EC81E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5E7AD-C606-4524-BA38-873CC2D9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0799C-2A1D-4F22-BC51-6F53D557A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CAF1-D09A-4CE6-8BB6-18ADAE3F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5144-4825-4B0A-9C32-2267E424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5F244-E87E-4975-968D-F6CBF899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9460-AC95-458A-B59F-95E947A4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6D894-31DE-4321-A233-2231722BF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5BF9-CCB1-4768-ABB2-B80006FB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2A1E-D12C-4008-8D0E-B1A3CEF0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2139-F713-4A9E-9260-F09AA7E30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83CE-CBDF-4796-8529-1C7891889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Month-Day-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rmative expression of the fairness algorithm shall be C code.  The C code shall be accompanied by an informative overview of the algorithm and may be accompanied by informative state tab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Sult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econder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Month-Day-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rm ‘multi-choke fairness control message (MC-FCM) shall be changed to ‘rate reporting message (RRM)’ to more accurately reflect that it does not participate in the fairness algorithm.  The term ‘single-choke fairness control message (SC-FCM) shall be changed to ‘fairness control message (FCM)’ to reflect that this is the only type of control message participating in the fairness algorith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Sult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econder Na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Month-Day-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 related to the generation and processing of the MC-FCM (or RRM if it is so renamed), shall be placed in a distinct clause of the standard titled, ‘Reporting rates and congestion to clients’ (or ‘rate reporting’).  This simplifies the specification of both fairness and rate reporting, and avoids the confusion of placing distinct functions within the same claus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Sult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econder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001-Month-Day-Numb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HH:MM</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ause 9 editor shall be granted license to modify, clarify, and otherwise explain the use of aggressive and conservative modes based on input from the FAH and individual contribu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ob Sult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Seconder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Bob Sultan</cp:lastModifiedBy>
  <dcterms:modified xsi:type="dcterms:W3CDTF">2002-11-05T18:17:00Z</dcterms:modified>
  <cp:revision>9</cp:revision>
  <dc:subject/>
  <dc:title>Motions for Harmen</dc:title>
</cp:coreProperties>
</file>