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816-26D4-4199-B801-B1314B8F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338-19B0-4029-BAAA-5D9AA891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741-58DC-4B08-8ED3-CA30590B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4C4-A457-4923-876F-709D90DE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C08-FF4F-4E93-B8DC-53359F02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F19-4B96-4A82-833C-BCA54C33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84F-78CE-42FB-9DBC-44C3B1F8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A1E-66B9-4121-9583-CB33BC95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F72-67E9-443E-B90B-2E0DD37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7E8-7A02-4DAD-AC33-E0BF1877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60C-FC2D-45B1-90FD-2440718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832-3E8C-45A0-BA38-F703D840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25DF-8EAB-4453-88D1-016CA6D33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GBASE-CX4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use 10GBASE-X PCS with minimal changes to 10GBASE-X P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finiband 4X type cable and 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distances up to 15m with a BER better than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transmit voltage levels no higher than XA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ompatibility with 130nm and 90nm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ompatibility of XAUI and –CX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le to meet or exceed FCC/CISPR Class A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 Bradshaw/K. Dal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: 30, N: 0, A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0:04:28Z</dcterms:created>
  <dc:creator>Bob Grow</dc:creator>
  <dc:description/>
  <dc:language>en-US</dc:language>
  <cp:lastModifiedBy>daniel_dove</cp:lastModifiedBy>
  <dcterms:modified xsi:type="dcterms:W3CDTF">2002-12-17T23:29:57Z</dcterms:modified>
  <cp:revision>1</cp:revision>
  <dc:subject/>
  <dc:title>10GBASE-CX4 Objectives</dc:title>
</cp:coreProperties>
</file>