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8C4-19EC-4E4A-9213-01A641EA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A92-45BB-4522-B8A6-724EDE92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E03-215C-4EF4-BC99-71217C0E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8A2-0ABB-4D9E-8BFB-DABD5EDB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111-7E83-4E6E-ABD1-8DED1E6F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287-4D93-4E75-9EFB-9DBB833D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A3F-A168-4CDC-9D13-BFB8F89A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4DE-D3E7-4BE4-AD72-D8F2840E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2D1-9AC3-43F9-93A6-332FD985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4EB-A03C-4BB7-9C3A-EF242578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CF4-A9B3-4569-9AC7-BBAC5B77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E0A-B060-4C69-8EE5-EA3BC1E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A030-A205-4B62-B246-61BA6F82B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 communication statement to Q12/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Hugh Bar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ed: Richard B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3: Y: 71    N: 0              A: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2:02:43Z</dcterms:created>
  <dc:creator>Cisco User</dc:creator>
  <dc:description/>
  <dc:language>en-US</dc:language>
  <cp:lastModifiedBy>Hugh Barrass (hbarrass)</cp:lastModifiedBy>
  <dcterms:modified xsi:type="dcterms:W3CDTF">2003-07-24T23:54:35Z</dcterms:modified>
  <cp:revision>71</cp:revision>
  <dc:subject/>
  <dc:title>Editorial Report Vancouver Interim – January ‘03</dc:title>
</cp:coreProperties>
</file>