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224920" cy="2030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76200"/>
            <a:ext cx="8224920" cy="2030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4013640" cy="2030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1720" y="1752120"/>
            <a:ext cx="4013640" cy="2030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76200"/>
            <a:ext cx="4013640" cy="2030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1720" y="3976200"/>
            <a:ext cx="4013640" cy="2030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648160" cy="2030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7840" y="1752120"/>
            <a:ext cx="2648160" cy="2030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8840" y="1752120"/>
            <a:ext cx="2648160" cy="2030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76200"/>
            <a:ext cx="2648160" cy="2030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7840" y="3976200"/>
            <a:ext cx="2648160" cy="2030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8840" y="3976200"/>
            <a:ext cx="2648160" cy="2030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8224920" cy="42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62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224920" cy="4257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4013640" cy="4257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1720" y="1752120"/>
            <a:ext cx="4013640" cy="4257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66440" y="75960"/>
            <a:ext cx="7623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62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4013640" cy="2030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1720" y="1752120"/>
            <a:ext cx="4013640" cy="4257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976200"/>
            <a:ext cx="4013640" cy="2030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8224920" cy="42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62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4013640" cy="4257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1720" y="1752120"/>
            <a:ext cx="4013640" cy="2030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1720" y="3976200"/>
            <a:ext cx="4013640" cy="2030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4013640" cy="2030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1720" y="1752120"/>
            <a:ext cx="4013640" cy="2030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976200"/>
            <a:ext cx="8224920" cy="2030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224920" cy="2030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976200"/>
            <a:ext cx="8224920" cy="2030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4013640" cy="2030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1720" y="1752120"/>
            <a:ext cx="4013640" cy="2030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976200"/>
            <a:ext cx="4013640" cy="2030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1720" y="3976200"/>
            <a:ext cx="4013640" cy="2030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648160" cy="2030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7840" y="1752120"/>
            <a:ext cx="2648160" cy="2030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18840" y="1752120"/>
            <a:ext cx="2648160" cy="2030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976200"/>
            <a:ext cx="2648160" cy="2030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7840" y="3976200"/>
            <a:ext cx="2648160" cy="2030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18840" y="3976200"/>
            <a:ext cx="2648160" cy="2030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224920" cy="4257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4013640" cy="4257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1720" y="1752120"/>
            <a:ext cx="4013640" cy="4257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6440" y="75960"/>
            <a:ext cx="7623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62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4013640" cy="2030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1720" y="1752120"/>
            <a:ext cx="4013640" cy="4257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76200"/>
            <a:ext cx="4013640" cy="2030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4013640" cy="4257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1720" y="1752120"/>
            <a:ext cx="4013640" cy="2030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1720" y="3976200"/>
            <a:ext cx="4013640" cy="2030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4013640" cy="2030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1720" y="1752120"/>
            <a:ext cx="4013640" cy="2030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76200"/>
            <a:ext cx="8224920" cy="2030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8224920" cy="4257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95000"/>
              </a:lnSpc>
              <a:spcBef>
                <a:spcPts val="1250"/>
              </a:spcBef>
              <a:buClr>
                <a:srgbClr val="35c5ff"/>
              </a:buClr>
              <a:buSzPct val="15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5200">
              <a:lnSpc>
                <a:spcPct val="95000"/>
              </a:lnSpc>
              <a:spcBef>
                <a:spcPts val="1250"/>
              </a:spcBef>
              <a:buClr>
                <a:srgbClr val="3333ff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5720">
              <a:lnSpc>
                <a:spcPct val="95000"/>
              </a:lnSpc>
              <a:spcBef>
                <a:spcPts val="1250"/>
              </a:spcBef>
              <a:buClr>
                <a:srgbClr val="990033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31840">
              <a:lnSpc>
                <a:spcPct val="95000"/>
              </a:lnSpc>
              <a:spcBef>
                <a:spcPts val="1250"/>
              </a:spcBef>
              <a:buClr>
                <a:srgbClr val="990099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20920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20920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20920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68620F3F-D664-435D-8D1A-B8FDA5CBD821}" type="slidenum">
              <a:rPr b="0" lang="ja-JP" sz="9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3680" y="6603840"/>
            <a:ext cx="164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04920" y="1066680"/>
            <a:ext cx="8153280" cy="152640"/>
          </a:xfrm>
          <a:prstGeom prst="rect">
            <a:avLst/>
          </a:prstGeom>
          <a:gradFill rotWithShape="0">
            <a:gsLst>
              <a:gs pos="0">
                <a:srgbClr val="cbdffe"/>
              </a:gs>
              <a:gs pos="100000">
                <a:srgbClr val="00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6248520"/>
            <a:ext cx="8153280" cy="457200"/>
          </a:xfrm>
          <a:prstGeom prst="rect">
            <a:avLst/>
          </a:prstGeom>
          <a:gradFill rotWithShape="0">
            <a:gsLst>
              <a:gs pos="0">
                <a:srgbClr val="cbdffe"/>
              </a:gs>
              <a:gs pos="100000">
                <a:srgbClr val="00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2895480" y="6248520"/>
            <a:ext cx="335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EEE802.3ah EFM Task For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ost September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6440" y="2657520"/>
            <a:ext cx="7799400" cy="1114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45302120-FF76-4EA1-9608-B24AD1D30E04}" type="slidenum">
              <a:rPr b="0" lang="ja-JP" sz="9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6248520"/>
            <a:ext cx="8153280" cy="457200"/>
          </a:xfrm>
          <a:prstGeom prst="rect">
            <a:avLst/>
          </a:prstGeom>
          <a:gradFill rotWithShape="0">
            <a:gsLst>
              <a:gs pos="0">
                <a:srgbClr val="cbdffe"/>
              </a:gs>
              <a:gs pos="100000">
                <a:srgbClr val="00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2"/>
          </p:nvPr>
        </p:nvSpPr>
        <p:spPr>
          <a:xfrm>
            <a:off x="2895480" y="6248520"/>
            <a:ext cx="335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EEE802.3ah EFM Task For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ost September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162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3333ff"/>
              </a:solidFill>
              <a:latin typeface="Arial"/>
            </a:endParaRPr>
          </a:p>
          <a:p>
            <a:pPr lvl="2" marL="855720" algn="ctr">
              <a:lnSpc>
                <a:spcPct val="95000"/>
              </a:lnSpc>
              <a:spcBef>
                <a:spcPts val="1125"/>
              </a:spcBef>
              <a:buClr>
                <a:srgbClr val="990033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990033"/>
              </a:solidFill>
              <a:latin typeface="Arial"/>
            </a:endParaRPr>
          </a:p>
          <a:p>
            <a:pPr lvl="3" marL="1131840" algn="ctr">
              <a:lnSpc>
                <a:spcPct val="95000"/>
              </a:lnSpc>
              <a:spcBef>
                <a:spcPts val="1125"/>
              </a:spcBef>
              <a:buClr>
                <a:srgbClr val="990099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990099"/>
              </a:solidFill>
              <a:latin typeface="Arial"/>
            </a:endParaRPr>
          </a:p>
          <a:p>
            <a:pPr lvl="4" marL="1420920" algn="ctr">
              <a:lnSpc>
                <a:spcPct val="9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4209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4209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2666880"/>
            <a:ext cx="8991720" cy="1114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FM OAM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ding Violation Counters </a:t>
            </a:r>
            <a:br>
              <a:rPr sz="4800"/>
            </a:br>
            <a:br>
              <a:rPr sz="2000"/>
            </a:b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Ben Brown – AMC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ding Violation Count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224920" cy="4257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95000"/>
              </a:lnSpc>
              <a:spcBef>
                <a:spcPts val="1250"/>
              </a:spcBef>
              <a:buClr>
                <a:srgbClr val="35c5ff"/>
              </a:buClr>
              <a:buSzPct val="15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0BASE-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Define a new 8B/10B coding violation counter that increments for all INVALID code-groups based on the running disparity rules and Tables 36-1 &amp; 36-2</a:t>
            </a:r>
            <a:endParaRPr b="1" lang="en-US" sz="1800" spc="-1" strike="noStrike">
              <a:solidFill>
                <a:srgbClr val="3333ff"/>
              </a:solidFill>
              <a:latin typeface="Arial"/>
            </a:endParaRPr>
          </a:p>
          <a:p>
            <a:pPr lvl="1" marL="56520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16-bit counter supports a BER of 5x10</a:t>
            </a:r>
            <a:r>
              <a:rPr b="1" lang="en-US" sz="1800" spc="-1" strike="noStrike" baseline="30000">
                <a:solidFill>
                  <a:srgbClr val="3333ff"/>
                </a:solidFill>
                <a:latin typeface="Arial"/>
              </a:rPr>
              <a:t>-4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 without reaching a max value in 1 sec – 65535 / (125x10</a:t>
            </a:r>
            <a:r>
              <a:rPr b="1" lang="en-US" sz="1800" spc="-1" strike="noStrike" baseline="30000">
                <a:solidFill>
                  <a:srgbClr val="3333ff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) = 5.24x10</a:t>
            </a:r>
            <a:r>
              <a:rPr b="1" lang="en-US" sz="1800" spc="-1" strike="noStrike" baseline="30000">
                <a:solidFill>
                  <a:srgbClr val="3333ff"/>
                </a:solidFill>
                <a:latin typeface="Arial"/>
              </a:rPr>
              <a:t>-4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 – granularity is 10 bits</a:t>
            </a:r>
            <a:endParaRPr b="1" lang="en-US" sz="1800" spc="-1" strike="noStrike">
              <a:solidFill>
                <a:srgbClr val="3333ff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250"/>
              </a:spcBef>
              <a:buClr>
                <a:srgbClr val="35c5ff"/>
              </a:buClr>
              <a:buSzPct val="15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BASE-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Define a new 4B/5B coding violation counter that increments for all INVALID code-groups, other than /H/, as defined in Table 24-1</a:t>
            </a:r>
            <a:endParaRPr b="1" lang="en-US" sz="1800" spc="-1" strike="noStrike">
              <a:solidFill>
                <a:srgbClr val="3333ff"/>
              </a:solidFill>
              <a:latin typeface="Arial"/>
            </a:endParaRPr>
          </a:p>
          <a:p>
            <a:pPr lvl="1" marL="56520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16-bit counter supports a BER of 2.6x10</a:t>
            </a:r>
            <a:r>
              <a:rPr b="1" lang="en-US" sz="1800" spc="-1" strike="noStrike" baseline="30000">
                <a:solidFill>
                  <a:srgbClr val="3333ff"/>
                </a:solidFill>
                <a:latin typeface="Arial"/>
              </a:rPr>
              <a:t>-3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 without reaching a max value in 1 sec – 65535 / (25x10</a:t>
            </a:r>
            <a:r>
              <a:rPr b="1" lang="en-US" sz="1800" spc="-1" strike="noStrike" baseline="30000">
                <a:solidFill>
                  <a:srgbClr val="3333ff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) = 2.62x10</a:t>
            </a:r>
            <a:r>
              <a:rPr b="1" lang="en-US" sz="1800" spc="-1" strike="noStrike" baseline="30000">
                <a:solidFill>
                  <a:srgbClr val="3333ff"/>
                </a:solidFill>
                <a:latin typeface="Arial"/>
              </a:rPr>
              <a:t>-3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 – granularity is 5 bits</a:t>
            </a:r>
            <a:endParaRPr b="1" lang="en-US" sz="18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224920" cy="4257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 fontScale="94000"/>
          </a:bodyPr>
          <a:p>
            <a:pPr marL="271440" indent="-271440">
              <a:lnSpc>
                <a:spcPct val="95000"/>
              </a:lnSpc>
              <a:spcBef>
                <a:spcPts val="1250"/>
              </a:spcBef>
              <a:buClr>
                <a:srgbClr val="35c5ff"/>
              </a:buClr>
              <a:buSzPct val="15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ss counters direct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100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Used by upper layer applications and directed tests</a:t>
            </a:r>
            <a:endParaRPr b="1" lang="en-US" sz="1800" spc="-1" strike="noStrike">
              <a:solidFill>
                <a:srgbClr val="3333ff"/>
              </a:solidFill>
              <a:latin typeface="Arial"/>
            </a:endParaRPr>
          </a:p>
          <a:p>
            <a:pPr lvl="1" marL="53100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X BER for Y time requires Z counter bits (see previous slide)</a:t>
            </a:r>
            <a:endParaRPr b="1" lang="en-US" sz="1800" spc="-1" strike="noStrike">
              <a:solidFill>
                <a:srgbClr val="3333ff"/>
              </a:solidFill>
              <a:latin typeface="Arial"/>
            </a:endParaRPr>
          </a:p>
          <a:p>
            <a:pPr marL="271440" indent="-271440">
              <a:lnSpc>
                <a:spcPct val="95000"/>
              </a:lnSpc>
              <a:spcBef>
                <a:spcPts val="1250"/>
              </a:spcBef>
              <a:buClr>
                <a:srgbClr val="35c5ff"/>
              </a:buClr>
              <a:buSzPct val="15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 thresholds &amp; ala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100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Eliminates polling by upper layer applications</a:t>
            </a:r>
            <a:endParaRPr b="1" lang="en-US" sz="1800" spc="-1" strike="noStrike">
              <a:solidFill>
                <a:srgbClr val="3333ff"/>
              </a:solidFill>
              <a:latin typeface="Arial"/>
            </a:endParaRPr>
          </a:p>
          <a:p>
            <a:pPr lvl="1" marL="53100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Ideal to detect</a:t>
            </a:r>
            <a:endParaRPr b="1" lang="en-US" sz="1800" spc="-1" strike="noStrike">
              <a:solidFill>
                <a:srgbClr val="3333ff"/>
              </a:solidFill>
              <a:latin typeface="Arial"/>
            </a:endParaRPr>
          </a:p>
          <a:p>
            <a:pPr lvl="2" marL="80424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Errored Seconds (ES – a second with &gt;= 1 violation)</a:t>
            </a:r>
            <a:endParaRPr b="1" lang="en-US" sz="1800" spc="-1" strike="noStrike">
              <a:solidFill>
                <a:srgbClr val="990033"/>
              </a:solidFill>
              <a:latin typeface="Arial"/>
            </a:endParaRPr>
          </a:p>
          <a:p>
            <a:pPr lvl="2" marL="80424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Severely Errored Seconds (SES – a second with &gt;= X violations)</a:t>
            </a:r>
            <a:endParaRPr b="1" lang="en-US" sz="1800" spc="-1" strike="noStrike">
              <a:solidFill>
                <a:srgbClr val="990033"/>
              </a:solidFill>
              <a:latin typeface="Arial"/>
            </a:endParaRPr>
          </a:p>
          <a:p>
            <a:pPr lvl="1" marL="53100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Even better to track these over many seconds</a:t>
            </a:r>
            <a:endParaRPr b="1" lang="en-US" sz="1800" spc="-1" strike="noStrike">
              <a:solidFill>
                <a:srgbClr val="3333ff"/>
              </a:solidFill>
              <a:latin typeface="Arial"/>
            </a:endParaRPr>
          </a:p>
          <a:p>
            <a:pPr lvl="2" marL="80424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larm after Y Errored Seconds or Z Severely Errored Seconds</a:t>
            </a:r>
            <a:endParaRPr b="1" lang="en-US" sz="18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gets spec’ed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224920" cy="4257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95000"/>
              </a:lnSpc>
              <a:spcBef>
                <a:spcPts val="1250"/>
              </a:spcBef>
              <a:buClr>
                <a:srgbClr val="35c5ff"/>
              </a:buClr>
              <a:buSzPct val="15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ilemma is how much to standard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250"/>
              </a:spcBef>
              <a:buClr>
                <a:srgbClr val="35c5ff"/>
              </a:buClr>
              <a:buSzPct val="15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to add the 2 counters but how wid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250"/>
              </a:spcBef>
              <a:buClr>
                <a:srgbClr val="35c5ff"/>
              </a:buClr>
              <a:buSzPct val="15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a threshold to look for SE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250"/>
              </a:spcBef>
              <a:buClr>
                <a:srgbClr val="35c5ff"/>
              </a:buClr>
              <a:buSzPct val="15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an ES &amp; SES alarm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250"/>
              </a:spcBef>
              <a:buClr>
                <a:srgbClr val="35c5ff"/>
              </a:buClr>
              <a:buSzPct val="15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counters to count ES &amp; SE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250"/>
              </a:spcBef>
              <a:buClr>
                <a:srgbClr val="35c5ff"/>
              </a:buClr>
              <a:buSzPct val="15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ES &amp; SES counter thresholds to generate alarm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224920" cy="4257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95000"/>
              </a:lnSpc>
              <a:spcBef>
                <a:spcPts val="1250"/>
              </a:spcBef>
              <a:buClr>
                <a:srgbClr val="35c5ff"/>
              </a:buClr>
              <a:buSzPct val="15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D1.1, only add Coding Violation Coun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250"/>
              </a:spcBef>
              <a:buClr>
                <a:srgbClr val="35c5ff"/>
              </a:buClr>
              <a:buSzPct val="15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quest comments and associated presentations to add supporting log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3T02:09:06Z</dcterms:created>
  <dc:creator>Ben Brown</dc:creator>
  <dc:description/>
  <dc:language>en-US</dc:language>
  <cp:lastModifiedBy>mattsquire</cp:lastModifiedBy>
  <cp:lastPrinted>2002-07-30T20:07:13Z</cp:lastPrinted>
  <dcterms:modified xsi:type="dcterms:W3CDTF">2002-10-07T14:09:08Z</dcterms:modified>
  <cp:revision>1198</cp:revision>
  <dc:subject>EFM OAM</dc:subject>
  <dc:title>Periodic Reporting of BER</dc:title>
</cp:coreProperties>
</file>