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8BD6-DA7B-4D65-B57A-EB1F4265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F43C-0A51-4CD0-8B8D-0FE4F253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8450-5537-4441-BC3B-DC5560A0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4B2-AA74-4D5A-86E5-3F00FB02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9505-83C6-4B0B-9BCC-FA6DA78C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B18D-CC3D-4C68-B0B4-1E941138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43ED-21E4-454F-AC82-4D7EF7ED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B442-A6D9-48A8-B104-63422A98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C837-228D-4888-8138-65882A50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EFCA-121A-48B2-BBD4-01666BA9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5A06-2D08-442C-8375-54BFF9F3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7AD4-B4F4-43D3-A8C9-04D94063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1904-E481-4C08-9C9A-BCD4484E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1E09-AC99-47BE-84E4-9798C31F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7782-8B8E-4233-82EB-0F0AAFA2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B2A9-EA45-4B7E-B900-0BBF480B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5B76-F87D-492C-B44D-B1FDE6CE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FE09-E3CB-4C43-9E9A-194CA0E1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FAA-F3D2-49C4-A32F-141F6BFB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F4C-AA2D-4DE5-A5BD-E2D2E4A0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5B8C-9C46-43C9-831F-A472DA68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1FF8-7761-423F-A13C-BCD31B9D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219-6DAD-4727-AEEB-43418E88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0FA-CEC4-4977-BE2B-83B9DBE0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Khaled A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arch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EEE 802 Study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on QoS/F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B9D6-60B1-492E-BF33-6CDBDF42B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2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18960" cy="1174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63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324480"/>
            <a:ext cx="914256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457200" y="2057400"/>
            <a:ext cx="8152920" cy="1599840"/>
            <a:chOff x="457200" y="2057400"/>
            <a:chExt cx="8152920" cy="1599840"/>
          </a:xfrm>
        </p:grpSpPr>
        <p:sp>
          <p:nvSpPr>
            <p:cNvPr id="45" name=""/>
            <p:cNvSpPr/>
            <p:nvPr/>
          </p:nvSpPr>
          <p:spPr>
            <a:xfrm>
              <a:off x="2886480" y="205740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11960" y="222264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71280" y="244332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277344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2D34-A016-4CEB-99A6-65725BBF4A2A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1BF7-CF7C-4FEC-96DD-E9396318C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IEEE 802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QoS/FC Study Group 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General Information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79440" y="377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3505320"/>
            <a:ext cx="5105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Khaled A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hairm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EEE 80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ecutive Committee Study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QoS/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arch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Analysis Work Needed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ng work will be needed to simu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network environments and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enhancements or new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us traffic strea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of proposed layer 2 solutions with layer 4 flow control (especially T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of LAN/WAN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of time-sensitive streams and traditional data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A3F2-7CE5-4EB1-85E5-D9213BB8742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AC1CE-1D6F-4276-89BA-58BC6E9F1D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Meetings Held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EEE 802 Plenary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 1999 - Albuque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im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 1999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rn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EEE 802 Plenary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 1999 - Austin, T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enciline" descr=""/>
          <p:cNvPicPr/>
          <p:nvPr/>
        </p:nvPicPr>
        <p:blipFill>
          <a:blip r:embed="rId1"/>
          <a:stretch/>
        </p:blipFill>
        <p:spPr>
          <a:xfrm>
            <a:off x="2438280" y="2971800"/>
            <a:ext cx="3962520" cy="357120"/>
          </a:xfrm>
          <a:prstGeom prst="rect">
            <a:avLst/>
          </a:prstGeom>
          <a:ln w="0">
            <a:noFill/>
          </a:ln>
        </p:spPr>
      </p:pic>
      <p:pic>
        <p:nvPicPr>
          <p:cNvPr id="119" name="bus17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362320" cy="1716120"/>
          </a:xfrm>
          <a:prstGeom prst="rect">
            <a:avLst/>
          </a:prstGeom>
          <a:ln w="0">
            <a:noFill/>
          </a:ln>
        </p:spPr>
      </p:pic>
      <p:pic>
        <p:nvPicPr>
          <p:cNvPr id="120" name="penciline" descr=""/>
          <p:cNvPicPr/>
          <p:nvPr/>
        </p:nvPicPr>
        <p:blipFill>
          <a:blip r:embed="rId3"/>
          <a:stretch/>
        </p:blipFill>
        <p:spPr>
          <a:xfrm>
            <a:off x="2438280" y="4495680"/>
            <a:ext cx="3962520" cy="3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B683-BD92-4920-A130-0B7516D5233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0A817-7152-4A56-9854-FF95E538B9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ample of Presentation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ology and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presentations about 802.3x limitations and suggested extensions (as well as other mechanis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s on MPEG, QoS, LAN/WAN interoperability and other related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s on draft PAR and 5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DEE-1ACB-4A69-A050-9177179E01F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198BE-E3C6-4684-BDED-BDFAFBF30F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ome Proposal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ching LANs to wide-area flow contr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im Mollenauer - Technical Strategy Associ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EG Tutorial and QoS requi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on Pannell – I-Cub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Enhancements to 802.3x Flow Contro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n Macleod – Vertex Networ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w Control Issues for Gb Ether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eff Lynch/Clark Jeffries/Metin Aydemir - IB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 Issues for Enhanced Flow Contro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n Macleod – Vertex Network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D289-D36D-4B26-ABB1-BB85F262B82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2320D-E0EA-4A15-B30C-3A8811A5D5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Interaction with the IETF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 formal letter to Scott Bradner after discussing it on th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volunteers participated in the IETF meeting of Dec 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 and established working relationship with chairs of relevant IETF working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ited Scott Bradner to an IEEE 802 meeting (March 99 - Aust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2ED9-AE0D-4AB2-85F2-B43F23832EB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F8D64-0FA0-4763-A988-E4BD8E66E1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IETF Position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ested in the QoS work going on in the IEEE 802 study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ed about the interaction of L2 flow control with L4 flow control of T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know if it would help or h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uch work done in that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Conclusion: Not enough info in this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A8F1-E96C-41B1-8301-E96F3E29212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5AC47-FDE1-4D48-97F2-64EF08DA6E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oncerns raised in the IEEE 802 Committee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hension on interaction of L2 flow control with that of L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rn about TCP operation if packet discard were avo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share work of the study group with the IET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8DD-C304-424F-B109-97C31B836E3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AB4CA-C061-4366-8CD6-0D310ACBEE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Other Concerns raised in the IEEE 802 Committee ...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l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oS and flow control still need a lot of analysis and research before establishing a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 not a research organization for doing such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8053-64D7-48CF-8E9F-34C3DEAF72A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13D05-139F-412D-82B2-BEDC975BA3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E-Mail Reflector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: stds-802-qos-fc@iee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150 subscri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 be added to the ref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an e-mail containing the l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cribe stds-802-qos-fc &lt;your e-mail addres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domo@majordomo.iee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238880" y="2209680"/>
            <a:ext cx="153828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C85A-FEFF-4A64-A7CA-4CEBA66F991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74E4B-7C9A-4C39-A7C3-F43BF8709F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2514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Web Site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grouper.ieee.org/groups/802/QOSF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the IEEE 802 WG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group Presentations po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238880" y="3809880"/>
            <a:ext cx="1257480" cy="111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879C-5962-4E5E-8B74-84AFAE8DB3C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F5836-E4C7-4D57-881A-DED7D9AE76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Formation of the </a:t>
            </a:r>
            <a:br>
              <a:rPr sz="3600"/>
            </a:b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QoS/FC ECSG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chartered an Executive Committee Study Group (ECSG) to look into establishing an IEEE 802 standard for Quality of Service and flow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aled Amer appointed as the Chair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f March 99 there were 150 members representing more than 50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hndshake2" descr=""/>
          <p:cNvPicPr/>
          <p:nvPr/>
        </p:nvPicPr>
        <p:blipFill>
          <a:blip r:embed="rId1"/>
          <a:stretch/>
        </p:blipFill>
        <p:spPr>
          <a:xfrm>
            <a:off x="6905520" y="4267080"/>
            <a:ext cx="223848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C25E-2A3A-470F-B791-99349EF133F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D43BD-CF05-481E-8CA8-ED192CFC35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For more Information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45720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Khaled A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 Number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49) 552-11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aledamer@usa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hone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60400" cy="1219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961920" cy="84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B31B-5577-455C-869E-D331C81B150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7D081-7A4C-4CC1-9910-79F9023775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Backup Slides with more info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66"/>
                </a:solidFill>
                <a:latin typeface="Times New Roman"/>
              </a:rPr>
              <a:t>Defining the problem</a:t>
            </a:r>
            <a:endParaRPr b="1" i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20" y="2361960"/>
            <a:ext cx="90676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olume, mix and # of sources of network traffic are ris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fusion of long, high speed connections without slow start mechanisms and long round trip times will bring new LAN management proble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creasing volume of LAN traffic, coupled with uncontrolled external sources will result in an increase in the variability of LAN demand/util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0CA-F1B6-4002-B220-25466BFC0FB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52143-09D3-45BB-A858-D634EE103E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Times New Roman"/>
              </a:rPr>
              <a:t>Refining the problem</a:t>
            </a:r>
            <a:endParaRPr b="1" i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is represent a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does it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es it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options for managing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trade-offs in selection a management op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the management approach wor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5289-4E46-455E-8719-3CEE06EA479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737D5-5ADA-48EA-9B87-DF11970B4D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tudy Group Focu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ment of conges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ments to current FC (Flow control)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tion of QoS (Quality of Servic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for time-sensitive a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ion of low priority data against loss and undue de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/WAN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Times New Roman"/>
              </a:rPr>
              <a:t>Request for Contributions in these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B169-B26E-4AFE-BCBD-EB67E3E4B17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80A4A-81FD-4818-88B4-81675A6C46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ongestion Management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802.3x doesn’t go far enoug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ides framework for extension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low Control can be improved to 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ead of line bloc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ne flow is currently able to impede another flo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eed to differentiate flow control on a per flow bas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ioritiz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ulti-media will encounter unpredictable delay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low control needs to be able to differentiate priorit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E479-3D90-44B0-A203-0D74A25ED41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A5169-222B-4167-9514-AB2F2B8351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Preservation of Qo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s interact with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DSL increases ATM to the 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ation of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n’t lose QoS just because we came into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be a motivation for ATM to penetrate LAN strong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s interact with time sensitive a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mechanism to communicate QoS needs to lower LAN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BA39-251B-4C48-88A9-655AE70E971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0DDD0-FDA9-4FE5-8CE0-D62DF37D4A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Protection of traditional 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(low priority) data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g increase of time sensitive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deployment of Cable modem and xDSL creating appetite for time sensitive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iferation of these apps into the 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ed UDP applications will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low start (instant ramp 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congestion effecting tradition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overflow, data loss, retrans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97A-AD48-40D4-A446-886F86F205C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7623F-C7BC-41C9-8C00-3BC0DA05A1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LAN/WAN Interoperability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 has its own QoS and Flow Control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LAN/WAN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ential interoperability issu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ervices should be ubiquit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908-D172-4BF5-AF0E-A43DE805EBA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F390F-1E55-4253-AA3E-C0D62C1248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Why do we care?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issues impact 802 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802 atten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where the work should be done in 8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develop solutions for these issues before they develop into network cris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3F00-32EA-4BA9-9316-545E13DD458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37F94-9200-4F39-AA0A-A21720BA7D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Trends in Network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ss deployment of High speed WAN links injecting traffic into 802 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D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ble Mod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P high speed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matic increase in time-sensitive traff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oS guarantee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s not follow the slow start mechanism of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disrupt data traffic on LANs causing buffer overflows, packet loss, retransmissions and severe performance degra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E94-24C9-4F29-A1EE-F186DF993CF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BA76A-F7DB-4107-9B62-CB672C8F24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Challenge Statement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1296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905120"/>
            <a:ext cx="7848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y challenge is loss and unacceptable delay/delay jitter of frames which is due to congestion caus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Mismat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subscri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 with high bandwidth                                      fast start data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0120" y="3124080"/>
            <a:ext cx="113004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7028-A2FF-4AAC-BF5D-896E5D2B182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0D8F1-53D6-4B4C-92B9-19C0002095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Objective Statement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tudy the potential of developing             an IEEE 802 standard in order to facilitate   the addition of new kinds of traffic over 802 networks, including real-time voice and video, while maintaining classic datagram service.This standard is intended to work with relevant IETF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0120" y="1828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F63-99B4-48B0-9EDA-8BC5A83024D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4A3BB-6729-4E9C-8831-78B253B42B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Basic Approach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effective method of meeting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ing the LAN with ample     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enhanced Layer 2 flow control, including means of differentiating service for various classes of traff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162920" y="2666880"/>
            <a:ext cx="1450800" cy="15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DF4B-7288-4358-B000-2EE71BB420F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E8D68-18F8-4182-9B3A-7971B91FD8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Scope of Work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sed scope is to be limited to link-by-link QoS and flow control, since it is anticipated that end-to-end mechanisms would be inappropriate for IEEE 802 to defi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sed scope is to be further limited to packet-by-packet mechanisms, since control of specification of ‘Flows’ or ‘Virtual Connections’ or ‘Sessions’ would be outside the scope of IEEE 802’s Layer 2 activ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6FAB-8DEB-4232-93F8-573A51163E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3240A-3FEF-46D4-8EA2-ACB988CCC8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Scope of Work ...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s for Layer 3 QoS (such as the IETF’s efforts) should be reviewed for possible interactions with IEEE 8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Layer 3 QoS efforts might benefit from Layer 2 QoS services and interface, coordinated efforts may be warra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173E-47BF-46BD-8BF9-B44717A7EE4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1A565-0983-479B-B178-6B4B89F983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Example of Challenge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P streams that do not follow the TCP slow start mechanism, which are being used in numerous multimedia and video conferencing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7E4-5DB1-45F6-A763-5297E93F9D0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731F6-A93A-4DCF-81F3-058F04C346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8T20:31:52Z</dcterms:created>
  <dc:creator>Khaled Amer</dc:creator>
  <dc:description/>
  <dc:language>en-US</dc:language>
  <cp:lastModifiedBy>khaled amer</cp:lastModifiedBy>
  <cp:lastPrinted>1999-03-07T05:17:58Z</cp:lastPrinted>
  <dcterms:modified xsi:type="dcterms:W3CDTF">2000-07-07T17:17:20Z</dcterms:modified>
  <cp:revision>214</cp:revision>
  <dc:subject/>
  <dc:title>General Info on Qos-FC Study Group</dc:title>
</cp:coreProperties>
</file>