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CF1-DE5C-43AD-94BB-C73F36B5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B35-147B-4363-8AAA-813C3712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AF4-1E7B-4E4E-BA02-0C0B7F11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6CE-577A-4357-B349-001F451A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388-6480-472A-A919-782940E7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B52-ABD0-42DE-8590-BF336838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E75-6FF6-4578-8BB5-CE8EA7A7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C63-CF6B-439B-AF42-4B9396CF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DF4-8129-43EA-80BC-0BDE9C02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271-EE0C-4A90-82E7-C040903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64C-BB40-4558-91F5-A97507D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50B-1285-45D0-BCA9-8E5B733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4665-A601-4CCD-B925-804B8474D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aboba-ieee802-rel-02.tx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/IEEE 802 Coordination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January 1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rizzle.com/~aboba/IEEE/coord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B Samp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IB development with IETF MIB Doctor rev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guidelines often for IETF process, not mib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we have different guidelines for reviewing IEEE mib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esign review by assigned MIB Advisor? Default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/quality review (balloting) by another MIB Doc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 OIDs - assigned under ieee802 or by IA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D assignments cannot change once "releas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SMI change rules to maintain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extension rules for enumerations, rang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recated and obsolete MIB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SCII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ib compilers; difficult to extract from PDF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or commenting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publish as IETF RFC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A Samp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ttribute id requests for IETF,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by IANA; reviewed by RADIUS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 also use IANA/RADIUS WG revi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ssign and tell IANA about assign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on AAA attribute extensions to ensure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EEE willing to recognize and enforce constra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eter compatibil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-IETF-ITU coord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M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successful work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etf.org/internet-drafts/draft-aboba-ieee802-rel-02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bree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! (more documents, WG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number of potential liaiso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cross-review of new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comprehensive list of issues for further discu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up meetings with 802.1 and 802.11 scheduled this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meetings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default liais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progress on outstanding issu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i/EA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aa/EAP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/HUBMIB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/BRIDGEMIB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/L2VPN WG/PWE3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/RAD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/CAP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21/IE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7/IPORPR,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n/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,15,16,20 mesh networking, roaming, fast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 backplane/Entity MI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20 too early? But joint memb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ven Division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New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IEEE 802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ed Access via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 of understanding from 802 to I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scheduling to prevent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ietf-secretary, hara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ssues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B-specif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A-specif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even Division of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of work has been un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Bs done in the IEEE WGs, other in the IETF based on IEEE management clauses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AA work done in IEEE WGs, other in the IETF based on RADIUS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AA specifications published as RFCs, so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nd Qua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EEE MIBs &amp; AAA attributes went through the IETF quality review, some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in maintaining Diameter/RADIUS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B syntax that won’t compile i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 fo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ke this happen in a more consistent and smooth man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ing New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ETF has a New Work list, and a process for commenting on proposed new WG chart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ork published to SEC; comments to ietf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w PARs to IE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level is the response? To w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t/Tony work thi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 recently asked for IETF comment on the proposed Handoff ECSG charte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ordinate review/discussion of new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ordinate review/discussion of existing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Li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communication and interaction is direct participation at the WG level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as worked well, but sometimes it'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to communicate before a WG is chartered yet (example: CAPWAP, Handoff ECSG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IEEE 802 Liaison requests that have not received a respo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points of contact within IEEE 802 and IETF when no more specific contact is available would be helpful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ing IETF WGs Access to IEEE 802 Arch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te, access has been granted on a case by case basi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way to make this less of a "o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"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king Depend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ate, tracking occurs at the WG level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worked well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s might occur prior to WG 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endencies seem to becoming more complex l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eep track of which documents IEEE 802 needs from IE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eep track of whi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s IETF is depending on from IEEE 80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master list kept somewhere?No. Should we use a webpage for posting commun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dependencies up to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breaks, who do they conta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ies – tracked by WG ch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IBs circulated as I-Ds before sponsor ba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o mib 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as IEEE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5:02:46Z</dcterms:created>
  <dc:creator>james</dc:creator>
  <dc:description/>
  <dc:language>en-US</dc:language>
  <cp:lastModifiedBy>djohnst1</cp:lastModifiedBy>
  <dcterms:modified xsi:type="dcterms:W3CDTF">2004-01-14T00:57:13Z</dcterms:modified>
  <cp:revision>24</cp:revision>
  <dc:subject/>
  <dc:title>Tracking Dependencies</dc:title>
</cp:coreProperties>
</file>