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9320" y="8984880"/>
            <a:ext cx="9223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479707-56A8-4B3A-A983-75A950F40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concern of membership loss taking effect before November force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 Limit document breaks out one paragraph from the original change to accommodate Bob Grow’s concern that it be voted separate (in case the entire f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 wr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additional comments on 7.2 have not been addressed.  This clause now reads that the EC might hold some "veto" power after approval of a PAR by IEEE-SA SB.  Delete "When determined appropriate by the EC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changes from SA based on comments deferred to later time on last bal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chair and VC - What about everyone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ll officers have to belong to S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G Char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G/TAG rather than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banding a WG/TAG that never produced 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A.  Announce teleconferences same a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AC3-57CB-4E17-875D-7C6DB6D8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E12-A588-431F-9B27-6EE7C6ED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597-93B1-4882-87DE-62329753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161-81DC-4922-916A-C2CFF0CC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646-7016-419D-812D-9BC95DC5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09E-80B5-4FF1-87E5-B2B95153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9AC-7AB1-4E36-9119-AD86F9B8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4D2-949B-4A15-AE74-39A0382B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B25-4D15-4726-B2DD-B728B2FD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838-32E9-439D-8D84-47B735D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D00-E7A9-4A2C-B01A-652A9DB7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DD4-CEDD-4E4B-B188-7DB61DC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741-0E5D-467F-826E-918148980E97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474960"/>
            <a:ext cx="3581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BAE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7040" y="6476760"/>
            <a:ext cx="528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A6A448-AC41-40A8-B6DF-BC41FA8DD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61480" y="396000"/>
            <a:ext cx="400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VC1_10032006_Closing_EC_Motions_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s Intern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MSC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Vice Ch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nd supporting slide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E73-84DC-4D8D-A08F-D4025AE658F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80DB3-9A39-49AC-BDAC-536391B9B9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01E-CEF3-4D49-B4F8-C25AD89B7A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7341E-2C39-4DEE-8B7D-0ACA6F94F9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roposed P&amp;P revision titled “WG Plenary” as described in the document titl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0-WG_Plenary_-_LMSC_P&amp;P_Revision_Propose Resolution_060305_r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9808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9772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9772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1080" y="48769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33600" y="579132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FB8-8BFB-493C-AD5B-09D79F3A1B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D83F1-44C0-4AC0-B0EA-AA8E72DC4E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torial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d to re-ballot more ‘extensive’ changes due to confusion in original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additions based on recent comment re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eeking approval of text changes in original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known controversy with that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text as in January b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BBC-D0D4-4BDC-A1D5-865FBB4608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6C9E4-3C41-44BD-9667-F4EE31BF7D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roposed P&amp;P revision titled “Editorial” as described in the document titl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0-Editorial_-_LMSC_P&amp;P_Revision_Ballot_060102_r0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9808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9772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9772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1080" y="48769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33600" y="579132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3AC-66EB-4163-BFA0-ECB3D600F38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46C63-E14A-4A3E-80BF-061E686A4D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Balloting of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584-9AEE-4388-AEEE-C722A5770A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130BF-DB9A-4550-82BB-9D7D844931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rove for distribution and executive committee ballot the P&amp;P Revision titled “Document Numbers” as described in the document tit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0-Document_Numbers_-_Proposed_LMSC_P&amp;P_Revision_Ballot_060305_r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9400" y="48006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9040" y="52578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9040" y="57150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4240" y="472428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66760" y="525780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CD5-46A6-4518-9B55-99A0D0383F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5D3DC-A5B7-4064-8591-73F378F41B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torial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motion is to formally ballot Matthew Sherman’s more ‘extensive’ changes submitted as comments on the original ballot titled ‘Editorial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additions based on recent comment re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B43-EE07-4800-9414-6230C8EBA0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99635-B841-48EB-90D2-F0B753E14C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rove for distribution and executive committee ballot the P&amp;P Revision titled “Editorial 2” as described in the document tit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0-Editorial_2_-_Proposed_LMSC_P&amp;P_Revision_Ballot_060310_r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9400" y="48006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9040" y="52578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9040" y="57150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68920" y="525780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79132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76B-712A-4AA6-8F73-0EFCB2E3AA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A2DB4-06CB-4D3B-B7CE-537AF753F9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Version 2</cp:lastModifiedBy>
  <cp:lastPrinted>1998-02-10T13:28:06Z</cp:lastPrinted>
  <dcterms:modified xsi:type="dcterms:W3CDTF">2006-03-10T06:24:31Z</dcterms:modified>
  <cp:revision>132</cp:revision>
  <dc:subject/>
  <dc:title>PowerPoint Presentation</dc:title>
</cp:coreProperties>
</file>