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C4518E-8001-47F1-836B-B29D732D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F93-8A94-499B-B4B2-1B3EA02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7E9-E0E6-4CA1-88CF-5B17CD1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E12-AE1E-4191-8D2D-45B995DE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B4E-C962-47E6-B8B0-19494ECA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E7-D805-4469-8661-E2FDA77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1C3-58D8-491C-BEFE-5BB839D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530-03E9-4174-A464-FDF7998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C89-2E34-4D1F-AEEE-C346667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D70-BD96-486A-82BD-63EB4CF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AB6-D8FC-4A36-94F2-1D75A3B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1BC-D928-4292-A0A3-9E9302C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A3D-D49D-42FB-BF0A-568137E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C321-9F19-40B3-AF3D-AC53285CA9CD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E43372-5C14-443D-A849-A1EC0268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7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E0A-46AE-4CF5-B85D-E36B33AF4D3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7F8F-CAFF-4FF2-8B02-B21F12BC15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12D-B28A-4696-B09B-AD3710E0FE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033F7-7AD7-4A74-AAF7-5518F2DB4C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WG Plenary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0-Editorial_2_-_LMSC_P&amp;P_Revision_Ballot_proposed_resolution_060628_r0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337-13E9-443D-B9CD-F7AE2F60A8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540C6-E22E-40A1-83D5-6B126B9442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Document Numbers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Document_Numbers_-_LMSC_P&amp;P_Revision_Ballot_060430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E74-12CE-4D41-9F54-C5FC5825E3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0C6D5-902E-44D4-8015-458CEEC3AD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50D-4100-4C79-A77C-550E1B1A4B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5E2A6-BF3C-4158-8436-26375C8FD3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WG Voting Procedure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-0-WG_Voting_Procedures-Proposed_P&amp;P_ballot_resolutions_r4_060720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4B4-2135-41A5-9065-813B07CB98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285B7-0C36-4F55-AD43-B61B3C208E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Matthew Sherman</cp:lastModifiedBy>
  <cp:lastPrinted>1998-02-10T13:28:06Z</cp:lastPrinted>
  <dcterms:modified xsi:type="dcterms:W3CDTF">2006-07-21T02:35:12Z</dcterms:modified>
  <cp:revision>135</cp:revision>
  <dc:subject/>
  <dc:title>PowerPoint Presentation</dc:title>
</cp:coreProperties>
</file>